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9E7-D1AA-4640-BE59-495F83EB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073-43D3-420F-B6D3-ED12E556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570-D4E5-4C2F-ADE8-A0525196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F1F-9827-4D68-9DA6-6E303654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825-E481-4A9A-AACF-6CF6B70C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8A0-E663-433B-90FF-CCDE3762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7AC-94BE-4E9F-AB3E-D763DA26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9B4-29FF-4A2F-8742-7C756DE2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502920"/>
            <a:ext cx="77724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A74-8DFA-482B-8C40-C1FB5BDF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6FB-B1F1-47FB-8396-2A0CE73D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4A1-4847-4161-9326-FF53BA5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069-DE56-4EE7-9B0B-84FCF92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768E-A8B0-4231-9D59-C368E8FD0013}" type="slidenum">
              <a:rPr b="0" lang="en-US" sz="1400" spc="-1" strike="noStrike">
                <a:solidFill>
                  <a:srgbClr val="ffff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378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rtamento (sismico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 edifici esistenti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 struttura in c.a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511280" y="4497480"/>
            <a:ext cx="6118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tania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8 maggio, 22 maggio, 5 giugn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ndo siamo chiamati ad occuparci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 edifici esistenti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primere un giudizio sull’agibilità per dissesti (reali o presunti) indipendenti da eventi sismici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4943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rogettare interventi per il miglioramento o adeguamento sismico dell’edificio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57880"/>
            <a:ext cx="77724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Valutare il grado di sicurezza dell’edificio nei confronti delle azioni sismich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43400"/>
            <a:ext cx="77724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primere un giudizio sull’agibilità dopo un evento sismic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lematiche da discuter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gli incon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7820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Quando siamo chiamati ad occuparci di edifici esistenti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625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rimo problema: la conoscenza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625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Giudizio sul comportamento per soli carichi verticali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78200"/>
            <a:ext cx="7773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rimo incontro - martedì 8 maggio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lematiche da discuter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gli incon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7820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mportamento sismico: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625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sistono diversi livelli di sicurezza nei confronti del sisma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625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l comportamento sismico di edifici esistenti ha caratteristiche particolari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78200"/>
            <a:ext cx="7773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ltri incontri – 22 maggio, 5 giugn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lematiche da discuter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gli incon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87784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Valutazione del comportamento sismico: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nalisi elastica lineare con q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nalisi elastica lineare con forze ridotte e calcolo dei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nalisi statica non lineare (pushover)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nalisi dinamica non lineare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78200"/>
            <a:ext cx="7773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ltri incontri – 22 maggio, 5 giugn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560" y="502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lematiche da discuter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gli incontri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87820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ntervento su edifici esistenti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roblematiche generali):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625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deguamento o miglioramento sismico?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625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Rinforzo dei singoli elementi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spcBef>
                <a:spcPts val="2625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nterventi globali</a:t>
            </a: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78200"/>
            <a:ext cx="7773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ltri incontri – 22 maggio, 5 giugno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urelio Ghersi</dc:creator>
  <dc:description/>
  <dc:language>en-US</dc:language>
  <cp:lastModifiedBy>Aurelio Ghersi</cp:lastModifiedBy>
  <dcterms:modified xsi:type="dcterms:W3CDTF">2007-05-07T10:34:04Z</dcterms:modified>
  <cp:revision>128</cp:revision>
  <dc:subject>Lezione LabPro 8/3/06</dc:subject>
  <dc:title>Obiettivi della progettazione in zona sismica</dc:title>
</cp:coreProperties>
</file>