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EE5-439C-4F70-A169-D6F2EBEC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DB1-9BFF-4406-9954-273B88C8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216-EC69-4638-BCDB-2DD4857E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F0F-4C68-4F79-B51D-35491D5F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3C0-B5DC-4A4A-A5E4-9B2EF193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5BA-F984-4633-A345-B39FCC96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BE0-CAC4-4990-B56A-3EA7B49C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CCC-9BFE-4E62-8D62-9113546D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502920"/>
            <a:ext cx="77724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A6C-8FAC-4921-8935-CFF476DF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365-3C8F-40AC-B17F-DEB37B81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68C-BA42-4AFE-9388-AB2FC3C2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CEE-042C-4B1C-B6FE-B9FE90EC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492D-6ADF-4B01-BD01-8994292CA0AA}" type="slidenum">
              <a:rPr b="0" lang="en-US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378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rtamento (sismico)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i edifici esistenti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 struttura in c.a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511280" y="4497480"/>
            <a:ext cx="6118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atania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8 maggio, 22 maggio, 5 giugno 2007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ivelli di prestazion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790560" y="2158920"/>
            <a:ext cx="75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Mantenere l’operatività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Stato Limite di Operatività (SLO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La costruzione nel suo complesso, includendo impianti ed elementi non strutturali, non subisce danni e interruzioni d’uso significativ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2440" y="5945040"/>
            <a:ext cx="49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orme Tecniche per le Costruzioni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bozza aprile 2007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ivelli di intensità sismic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73160" y="1989000"/>
          <a:ext cx="7223040" cy="3843360"/>
        </p:xfrm>
        <a:graphic>
          <a:graphicData uri="http://schemas.openxmlformats.org/drawingml/2006/table">
            <a:tbl>
              <a:tblPr/>
              <a:tblGrid>
                <a:gridCol w="2508120"/>
                <a:gridCol w="2548080"/>
                <a:gridCol w="21668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Livell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Probabilità di superamento *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Periodo di ritorn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Frequente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81%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30 anni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ccasionale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63%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50 anni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Rar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475 anni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Estremamente rar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975 anni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095480" y="5946840"/>
            <a:ext cx="72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* nel periodo di riferimento V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(50 anni per edifici ordinari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eriodo di ritorno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 probabilità di superament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2158920"/>
            <a:ext cx="77738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Periodo di ritorno T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r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 = tempo medio che intercorre tra due eventi sismici di assegnata intensità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238560"/>
            <a:ext cx="7773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Relazione tra probabilità p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1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 di superamento nel tempo T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1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 e periodo di ritorno T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r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35120" y="4116240"/>
                <a:ext cx="2540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≃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biettivi prestazionali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uovi edific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1149480" y="21128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33800" y="228456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SLO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52360" y="2763720"/>
            <a:ext cx="1571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7080" y="2824200"/>
            <a:ext cx="13777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7440" y="2830680"/>
            <a:ext cx="98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Frequente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97160" y="28306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06600" y="3087720"/>
            <a:ext cx="957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06240" y="30924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79680" y="3092400"/>
            <a:ext cx="78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30 anni)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73480" y="30924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52360" y="3457440"/>
            <a:ext cx="1571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3516480"/>
            <a:ext cx="13777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6360" y="3519360"/>
            <a:ext cx="1192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Occasionale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6680" y="35193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3778200"/>
            <a:ext cx="957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06240" y="378144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79680" y="3781440"/>
            <a:ext cx="78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50 anni)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73480" y="37814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52360" y="4129200"/>
            <a:ext cx="15703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7080" y="4191120"/>
            <a:ext cx="13777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6360" y="4194000"/>
            <a:ext cx="47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Raro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71560" y="4194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2880" y="4452840"/>
            <a:ext cx="1078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2520" y="445608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15960" y="4456080"/>
            <a:ext cx="902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475 anni)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0360" y="44560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52360" y="4842000"/>
            <a:ext cx="15703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7080" y="4902120"/>
            <a:ext cx="1377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7080" y="4908600"/>
            <a:ext cx="973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Molto raro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79520" y="49086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5165640"/>
            <a:ext cx="1078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2880" y="5172120"/>
            <a:ext cx="974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(970 anni)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0360" y="51721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25840" y="2716200"/>
            <a:ext cx="1374840" cy="692280"/>
          </a:xfrm>
          <a:prstGeom prst="rect">
            <a:avLst/>
          </a:prstGeom>
          <a:solidFill>
            <a:srgbClr val="ff993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2716200"/>
            <a:ext cx="1374840" cy="692280"/>
          </a:xfrm>
          <a:prstGeom prst="rect">
            <a:avLst/>
          </a:prstGeom>
          <a:solidFill>
            <a:srgbClr val="fa211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35600" y="2716200"/>
            <a:ext cx="1374840" cy="692280"/>
          </a:xfrm>
          <a:prstGeom prst="rect">
            <a:avLst/>
          </a:prstGeom>
          <a:solidFill>
            <a:srgbClr val="fa211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7240" y="2716200"/>
            <a:ext cx="1374840" cy="692280"/>
          </a:xfrm>
          <a:prstGeom prst="rect">
            <a:avLst/>
          </a:prstGeom>
          <a:solidFill>
            <a:srgbClr val="fa211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25840" y="3405240"/>
            <a:ext cx="1374840" cy="69192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405240"/>
            <a:ext cx="1374840" cy="691920"/>
          </a:xfrm>
          <a:prstGeom prst="rect">
            <a:avLst/>
          </a:prstGeom>
          <a:solidFill>
            <a:srgbClr val="ff993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35600" y="3405240"/>
            <a:ext cx="1374840" cy="691920"/>
          </a:xfrm>
          <a:prstGeom prst="rect">
            <a:avLst/>
          </a:prstGeom>
          <a:solidFill>
            <a:srgbClr val="fa211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67240" y="3405240"/>
            <a:ext cx="1374840" cy="691920"/>
          </a:xfrm>
          <a:prstGeom prst="rect">
            <a:avLst/>
          </a:prstGeom>
          <a:solidFill>
            <a:srgbClr val="fa211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25840" y="4780080"/>
            <a:ext cx="1374840" cy="69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5640" y="4780080"/>
            <a:ext cx="1374840" cy="691920"/>
          </a:xfrm>
          <a:prstGeom prst="rect">
            <a:avLst/>
          </a:prstGeom>
          <a:solidFill>
            <a:srgbClr val="ffff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35600" y="4780080"/>
            <a:ext cx="1374840" cy="691920"/>
          </a:xfrm>
          <a:prstGeom prst="rect">
            <a:avLst/>
          </a:prstGeom>
          <a:solidFill>
            <a:srgbClr val="ff993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67240" y="4780080"/>
            <a:ext cx="1374840" cy="69192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5840" y="4094280"/>
            <a:ext cx="1374840" cy="691920"/>
          </a:xfrm>
          <a:prstGeom prst="rect">
            <a:avLst/>
          </a:prstGeom>
          <a:solidFill>
            <a:srgbClr val="ffff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4094280"/>
            <a:ext cx="1374840" cy="69192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5600" y="4094280"/>
            <a:ext cx="1374840" cy="691920"/>
          </a:xfrm>
          <a:prstGeom prst="rect">
            <a:avLst/>
          </a:prstGeom>
          <a:solidFill>
            <a:srgbClr val="fa211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67240" y="4094280"/>
            <a:ext cx="1374840" cy="691920"/>
          </a:xfrm>
          <a:prstGeom prst="rect">
            <a:avLst/>
          </a:prstGeom>
          <a:solidFill>
            <a:srgbClr val="ff993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07080" y="3081240"/>
            <a:ext cx="20606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2160" y="228456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SLD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29840" y="228456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SLU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85600" y="228456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SLC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8440" y="3321000"/>
            <a:ext cx="4551480" cy="2979000"/>
            <a:chOff x="3808440" y="3321000"/>
            <a:chExt cx="4551480" cy="2979000"/>
          </a:xfrm>
        </p:grpSpPr>
        <p:sp>
          <p:nvSpPr>
            <p:cNvPr id="146" name=""/>
            <p:cNvSpPr/>
            <p:nvPr/>
          </p:nvSpPr>
          <p:spPr>
            <a:xfrm>
              <a:off x="3808440" y="3321000"/>
              <a:ext cx="1698480" cy="8222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33960" y="4011480"/>
              <a:ext cx="1698480" cy="82260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80000" y="5840280"/>
              <a:ext cx="277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Comic Sans MS"/>
                </a:rPr>
                <a:t>Ordinanza 3431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biettivi prestazionali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difici esistent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1149480" y="21128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228456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SLO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52360" y="2763720"/>
            <a:ext cx="1571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7080" y="2824200"/>
            <a:ext cx="13777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7440" y="2830680"/>
            <a:ext cx="98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Frequente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97160" y="28306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06600" y="3087720"/>
            <a:ext cx="957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06240" y="30924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79680" y="3092400"/>
            <a:ext cx="78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30 anni)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73480" y="30924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2360" y="3457440"/>
            <a:ext cx="1571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7080" y="3516480"/>
            <a:ext cx="13777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6360" y="3519360"/>
            <a:ext cx="1192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Occasionale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6680" y="35193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06600" y="3778200"/>
            <a:ext cx="957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06240" y="378144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79680" y="3781440"/>
            <a:ext cx="78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50 anni)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73480" y="37814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52360" y="4129200"/>
            <a:ext cx="15703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7080" y="4191120"/>
            <a:ext cx="13777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6360" y="4194000"/>
            <a:ext cx="47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Raro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71560" y="4194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2880" y="4452840"/>
            <a:ext cx="1078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2520" y="445608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5960" y="4456080"/>
            <a:ext cx="902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475 anni)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0360" y="44560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52360" y="4842000"/>
            <a:ext cx="15703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7080" y="4902120"/>
            <a:ext cx="1377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7080" y="4908600"/>
            <a:ext cx="973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Molto raro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79520" y="49086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2880" y="5165640"/>
            <a:ext cx="1078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2880" y="5172120"/>
            <a:ext cx="974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(970 anni)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0360" y="51721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25840" y="2716200"/>
            <a:ext cx="1374840" cy="692280"/>
          </a:xfrm>
          <a:prstGeom prst="rect">
            <a:avLst/>
          </a:prstGeom>
          <a:solidFill>
            <a:srgbClr val="ff993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95640" y="2716200"/>
            <a:ext cx="1374840" cy="692280"/>
          </a:xfrm>
          <a:prstGeom prst="rect">
            <a:avLst/>
          </a:prstGeom>
          <a:solidFill>
            <a:srgbClr val="fa211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35600" y="2716200"/>
            <a:ext cx="1374840" cy="692280"/>
          </a:xfrm>
          <a:prstGeom prst="rect">
            <a:avLst/>
          </a:prstGeom>
          <a:solidFill>
            <a:srgbClr val="fa211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67240" y="2716200"/>
            <a:ext cx="1374840" cy="692280"/>
          </a:xfrm>
          <a:prstGeom prst="rect">
            <a:avLst/>
          </a:prstGeom>
          <a:solidFill>
            <a:srgbClr val="fa211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5840" y="3405240"/>
            <a:ext cx="1374840" cy="69192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95640" y="3405240"/>
            <a:ext cx="1374840" cy="691920"/>
          </a:xfrm>
          <a:prstGeom prst="rect">
            <a:avLst/>
          </a:prstGeom>
          <a:solidFill>
            <a:srgbClr val="ff993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35600" y="3405240"/>
            <a:ext cx="1374840" cy="691920"/>
          </a:xfrm>
          <a:prstGeom prst="rect">
            <a:avLst/>
          </a:prstGeom>
          <a:solidFill>
            <a:srgbClr val="fa211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67240" y="3405240"/>
            <a:ext cx="1374840" cy="691920"/>
          </a:xfrm>
          <a:prstGeom prst="rect">
            <a:avLst/>
          </a:prstGeom>
          <a:solidFill>
            <a:srgbClr val="fa211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25840" y="4780080"/>
            <a:ext cx="1374840" cy="69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4780080"/>
            <a:ext cx="1374840" cy="691920"/>
          </a:xfrm>
          <a:prstGeom prst="rect">
            <a:avLst/>
          </a:prstGeom>
          <a:solidFill>
            <a:srgbClr val="ffff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5600" y="4780080"/>
            <a:ext cx="1374840" cy="691920"/>
          </a:xfrm>
          <a:prstGeom prst="rect">
            <a:avLst/>
          </a:prstGeom>
          <a:solidFill>
            <a:srgbClr val="ff993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7240" y="4780080"/>
            <a:ext cx="1374840" cy="69192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5840" y="4094280"/>
            <a:ext cx="1374840" cy="691920"/>
          </a:xfrm>
          <a:prstGeom prst="rect">
            <a:avLst/>
          </a:prstGeom>
          <a:solidFill>
            <a:srgbClr val="ffff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4094280"/>
            <a:ext cx="1374840" cy="69192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35600" y="4094280"/>
            <a:ext cx="1374840" cy="691920"/>
          </a:xfrm>
          <a:prstGeom prst="rect">
            <a:avLst/>
          </a:prstGeom>
          <a:solidFill>
            <a:srgbClr val="fa211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67240" y="4094280"/>
            <a:ext cx="1374840" cy="691920"/>
          </a:xfrm>
          <a:prstGeom prst="rect">
            <a:avLst/>
          </a:prstGeom>
          <a:solidFill>
            <a:srgbClr val="ff993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07080" y="3081240"/>
            <a:ext cx="20606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2160" y="228456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SLD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29840" y="228456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SLU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85600" y="228456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SLC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440" y="3321000"/>
            <a:ext cx="1698480" cy="82224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33960" y="4011480"/>
            <a:ext cx="1698480" cy="822600"/>
          </a:xfrm>
          <a:prstGeom prst="ellipse">
            <a:avLst/>
          </a:prstGeom>
          <a:noFill/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0" y="5840280"/>
            <a:ext cx="27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Ordinanza 343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81880" y="4713120"/>
            <a:ext cx="1698480" cy="822600"/>
          </a:xfrm>
          <a:prstGeom prst="ellipse">
            <a:avLst/>
          </a:prstGeom>
          <a:noFill/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2520" y="1871640"/>
            <a:ext cx="27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00"/>
                </a:solidFill>
                <a:latin typeface="Arial"/>
              </a:rPr>
              <a:t>DL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9840" y="1871640"/>
            <a:ext cx="3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00"/>
                </a:solidFill>
                <a:latin typeface="Arial"/>
              </a:rPr>
              <a:t>DS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85960" y="187164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00"/>
                </a:solidFill>
                <a:latin typeface="Arial"/>
              </a:rPr>
              <a:t>CO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343040" y="2282400"/>
            <a:ext cx="3345120" cy="260280"/>
            <a:chOff x="4343040" y="2282400"/>
            <a:chExt cx="3345120" cy="260280"/>
          </a:xfrm>
        </p:grpSpPr>
        <p:grpSp>
          <p:nvGrpSpPr>
            <p:cNvPr id="211" name=""/>
            <p:cNvGrpSpPr/>
            <p:nvPr/>
          </p:nvGrpSpPr>
          <p:grpSpPr>
            <a:xfrm>
              <a:off x="4343040" y="2282400"/>
              <a:ext cx="563760" cy="260280"/>
              <a:chOff x="4343040" y="2282400"/>
              <a:chExt cx="563760" cy="260280"/>
            </a:xfrm>
          </p:grpSpPr>
          <p:sp>
            <p:nvSpPr>
              <p:cNvPr id="212" name=""/>
              <p:cNvSpPr/>
              <p:nvPr/>
            </p:nvSpPr>
            <p:spPr>
              <a:xfrm flipV="1">
                <a:off x="4343400" y="2282400"/>
                <a:ext cx="563400" cy="260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flipV="1">
                <a:off x="4343040" y="2282400"/>
                <a:ext cx="563400" cy="260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5752800" y="2282400"/>
              <a:ext cx="563760" cy="260280"/>
              <a:chOff x="5752800" y="2282400"/>
              <a:chExt cx="563760" cy="26028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5753160" y="2282400"/>
                <a:ext cx="563400" cy="260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5752800" y="2282400"/>
                <a:ext cx="563400" cy="260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24400" y="2282400"/>
              <a:ext cx="563760" cy="260280"/>
              <a:chOff x="7124400" y="2282400"/>
              <a:chExt cx="563760" cy="26028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7124760" y="2282400"/>
                <a:ext cx="563400" cy="260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7124400" y="2282400"/>
                <a:ext cx="563400" cy="260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1609560" y="5394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00"/>
                </a:solidFill>
                <a:latin typeface="Arial"/>
              </a:rPr>
              <a:t>?</a:t>
            </a:r>
            <a:endParaRPr b="0" lang="en-US" sz="17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57960" y="4240080"/>
            <a:ext cx="11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quest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53160" y="49258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o quest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 e D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98200"/>
            <a:ext cx="77724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Verifica a stato limite di Collasso:</a:t>
            </a:r>
            <a:br>
              <a:rPr sz="2800"/>
            </a:b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non ammesso uso di q;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apacità definita in termini di: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eformazioni ultime per gli elementi duttili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resistenze ultime per gli elementi fragili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Verifica a stato limite di Danno Severo:</a:t>
            </a:r>
            <a:br>
              <a:rPr sz="2800"/>
            </a:b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mmesso uso di q;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apacità definita in termini di: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eformazioni di danno per gli elementi duttili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eformazioni ultime e resistenze prudenzialmente ridotte per gli elementi fragili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Livelli di conoscenza</a:t>
            </a:r>
            <a:br>
              <a:rPr sz="3200"/>
            </a:b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 fattori di confidenz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difici esistent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79856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Grado di incertezza diverso da quello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di edifici di nuova progettazione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382920"/>
            <a:ext cx="7916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ecessità di valutare il grado di conoscenz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43200" y="2835360"/>
            <a:ext cx="655920" cy="442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3994200"/>
            <a:ext cx="791676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ossibilità di usare i valori medi delle proprietà dei materiali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037120"/>
            <a:ext cx="791676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66400" indent="-2664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ecessità di usare fattori di sicurezza per tener conto del livello di conoscenza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fattori di confidenza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erifica di elementi duttil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Usare valore medio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diviso per il fattore di confidenza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276720"/>
            <a:ext cx="7772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r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sempio: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nel caso miglior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4102200"/>
            <a:ext cx="7772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Calcestruzzo R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ck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 25 MP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si usa f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cm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/ 1 = 28.7 MPa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anziché f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cd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= 13.0 MP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181480"/>
            <a:ext cx="77724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Acciaio FeB44k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si usa f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ym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/ 1 = 450 MPa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anziché f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yd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= 374 MP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erifica di elementi duttil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Usare valore medio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diviso per il fattore di confidenza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3276720"/>
            <a:ext cx="7772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r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sempio: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nel caso peggior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102200"/>
            <a:ext cx="7772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Calcestruzzo R</a:t>
            </a:r>
            <a:r>
              <a:rPr b="0" lang="it-IT" sz="2400" spc="-1" strike="noStrike" baseline="-25000">
                <a:solidFill>
                  <a:srgbClr val="ffff66"/>
                </a:solidFill>
                <a:latin typeface="Comic Sans MS"/>
              </a:rPr>
              <a:t>ck</a:t>
            </a: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 25 MP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si usa f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cm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/ 1.35 = 21.3 MPa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anziché f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cd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= 13.0 MP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5181480"/>
            <a:ext cx="77724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Acciaio FeB44k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si usa f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ym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/ 1.35 = 333 MPa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anziché f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yd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= 374 MP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2° incontro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2 maggio 2007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Interventi: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A. Ghersi – Normativa: stati limite da prendere in considerazione; livelli di conoscenza.</a:t>
            </a:r>
            <a:br>
              <a:rPr sz="2400"/>
            </a:b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Giudizio di agibilità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A. Perretti – Collasso fragile (rottura dei nodi, sfilamento barre, scorrimento e tranciamento barre alle riprese di getto).</a:t>
            </a:r>
            <a:br>
              <a:rPr sz="2400"/>
            </a:b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Verifica mediante analisi lineare e fattore q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E. Marino – Verifica mediante analisi lineare con forze non ridotte e calcolo di </a:t>
            </a:r>
            <a:r>
              <a:rPr b="0" lang="it-IT" sz="2400" spc="-1" strike="noStrike">
                <a:solidFill>
                  <a:srgbClr val="ffff66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erifica di elementi fragil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Usare valore medio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diviso per il coefficiente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M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diviso per il fattore di confidenza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ivelli di conoscenza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 fattori di confidenz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9123" t="19196" r="7853" b="24180"/>
          <a:stretch/>
        </p:blipFill>
        <p:spPr>
          <a:xfrm>
            <a:off x="250920" y="1805040"/>
            <a:ext cx="8713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ivelli di conoscenza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Reperimento documentazione, sopralluoghi, ecc. non sono un reale problema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I veri problemi sono: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quante prove fare?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me programmarle?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he convinzione trarre dai risultati ottenuti?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Quante prove?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8267" t="53527" r="11396" b="18458"/>
          <a:stretch/>
        </p:blipFill>
        <p:spPr>
          <a:xfrm>
            <a:off x="0" y="2230560"/>
            <a:ext cx="9145440" cy="2552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85800" y="1619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Ordinanza 3431: indicazioni “precise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05520" y="4987800"/>
            <a:ext cx="2452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hanno senso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Quante prove?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619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EM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41720" y="4576680"/>
            <a:ext cx="6216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è possibile il “supplemento”?</a:t>
            </a:r>
            <a:br>
              <a:rPr sz="2800"/>
            </a:b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e se i risultati non si stabilizzano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2593800"/>
            <a:ext cx="77724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indagini minim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198720" indent="-1987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upplemento di indagini, in base ai risultati trovati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Giudizio di agibilità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Quando siamo chiamati ad esprimer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n giudizio di agibilità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sprimere un giudizio sull’agibilità per dissesti (reali o presunti) indipendenti da eventi sismici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3443400"/>
            <a:ext cx="77724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sprimere un giudizio sull’agibilità dopo un evento sismic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sa vuol dire “agibilità”?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9820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siste una chiara definizione “legale” di “giudizio di agibilità”?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3057480"/>
            <a:ext cx="77724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on mi risult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e abbiamo discusso e i pareri non concordano al 100%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4857840"/>
            <a:ext cx="77724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88360" indent="-2883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Una certa concordanza è sul fatto che l’agibilità riguarda (solo? principalmente?) la capacità di portare carichi verticali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gibilità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a mia opinion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9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L’edificio è agibile se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da un’analisi attenta (ma non estrema)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la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capacità di portare carichi verticali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risulta non significativamente alterata rispetto a quella che si ritiene abbia previsto il progettista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716040" y="4862520"/>
            <a:ext cx="777240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ttenzione a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variazioni d’uso che incrementano i carich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anni mascherati da interventi non struttural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gibilità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a mia opinion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 oltre ai carichi verticali?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2698920"/>
            <a:ext cx="77724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recisare sempre che il giudizio non riguarda la capacità di resistere ad azioni sismich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4010040"/>
            <a:ext cx="77724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 si nota una vulnerabilità sismica particolarmente elevata, sarebbe opportuno segnalarlo (pur dando un giudizio positivo sull’agibilità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tati limite</a:t>
            </a:r>
            <a:br>
              <a:rPr sz="3200"/>
            </a:b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da prendere in considerazion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gibilità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a mia opinion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 oltre ai carichi verticali?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2698920"/>
            <a:ext cx="77724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recisare sempre che il giudizio non riguarda la capacità di resistere ad azioni sismich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4816440"/>
            <a:ext cx="7916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Ritengo opportuno valutare se i danni subiti per effetto del terremoto hanno ridotto in maniera significativa la capacità originaria di portare azioni orizzontali (qualunque fosse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4222800"/>
            <a:ext cx="7772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E in condizioni post-sismiche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voluzione del concetto di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tezione sismic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90560" y="3608280"/>
            <a:ext cx="7666200" cy="660240"/>
            <a:chOff x="790560" y="3608280"/>
            <a:chExt cx="7666200" cy="660240"/>
          </a:xfrm>
        </p:grpSpPr>
        <p:sp>
          <p:nvSpPr>
            <p:cNvPr id="48" name=""/>
            <p:cNvSpPr/>
            <p:nvPr/>
          </p:nvSpPr>
          <p:spPr>
            <a:xfrm>
              <a:off x="790560" y="3608280"/>
              <a:ext cx="7558200" cy="360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72960" indent="-372960">
                <a:lnSpc>
                  <a:spcPct val="90000"/>
                </a:lnSpc>
                <a:spcBef>
                  <a:spcPts val="1500"/>
                </a:spcBef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</a:rPr>
                <a:t>Evitare perdite </a:t>
              </a:r>
              <a:br>
                <a:rPr sz="2400"/>
              </a:b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</a:rPr>
                <a:t>di vite umane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38560" y="3608280"/>
              <a:ext cx="4318200" cy="660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nel caso di terremoto </a:t>
              </a:r>
              <a:br>
                <a:rPr sz="2000"/>
              </a:b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con periodo di ritorno molto alto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790560" y="2349360"/>
            <a:ext cx="75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rime normative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70200" y="2924280"/>
            <a:ext cx="539892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Unico obiettiv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voluzione del concetto di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tezione sismic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90560" y="4437000"/>
            <a:ext cx="7666200" cy="716040"/>
            <a:chOff x="790560" y="4437000"/>
            <a:chExt cx="7666200" cy="716040"/>
          </a:xfrm>
        </p:grpSpPr>
        <p:sp>
          <p:nvSpPr>
            <p:cNvPr id="54" name=""/>
            <p:cNvSpPr/>
            <p:nvPr/>
          </p:nvSpPr>
          <p:spPr>
            <a:xfrm>
              <a:off x="790560" y="4437000"/>
              <a:ext cx="7558200" cy="360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72960" indent="-372960">
                <a:lnSpc>
                  <a:spcPct val="90000"/>
                </a:lnSpc>
                <a:spcBef>
                  <a:spcPts val="1500"/>
                </a:spcBef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</a:rPr>
                <a:t>Limitare i danni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38560" y="4437000"/>
              <a:ext cx="4318200" cy="7160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nel caso di terremoto </a:t>
              </a:r>
              <a:br>
                <a:rPr sz="2000"/>
              </a:b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con periodo di ritorno più basso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90560" y="3608280"/>
            <a:ext cx="7666200" cy="660240"/>
            <a:chOff x="790560" y="3608280"/>
            <a:chExt cx="7666200" cy="660240"/>
          </a:xfrm>
        </p:grpSpPr>
        <p:sp>
          <p:nvSpPr>
            <p:cNvPr id="57" name=""/>
            <p:cNvSpPr/>
            <p:nvPr/>
          </p:nvSpPr>
          <p:spPr>
            <a:xfrm>
              <a:off x="790560" y="3608280"/>
              <a:ext cx="7558200" cy="360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72960" indent="-372960">
                <a:lnSpc>
                  <a:spcPct val="90000"/>
                </a:lnSpc>
                <a:spcBef>
                  <a:spcPts val="1500"/>
                </a:spcBef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</a:rPr>
                <a:t>Evitare perdite </a:t>
              </a:r>
              <a:br>
                <a:rPr sz="2400"/>
              </a:b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</a:rPr>
                <a:t>di vite umane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38560" y="3608280"/>
              <a:ext cx="4318200" cy="660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nel caso di terremoto </a:t>
              </a:r>
              <a:br>
                <a:rPr sz="2000"/>
              </a:b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con periodo di ritorno molto alto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90560" y="2349360"/>
            <a:ext cx="75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Normative attuali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70200" y="2924280"/>
            <a:ext cx="539892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oppio livello di protezion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62440" y="5757840"/>
            <a:ext cx="496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ormativa italiana, a partire dal 1996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ormativa europea (Eurocodice 8)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voluzione del concetto di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tezione sismic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790560" y="4400640"/>
            <a:ext cx="7558200" cy="360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nsentire un rapido ripristino dell’operatività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0560" y="3608280"/>
            <a:ext cx="7558200" cy="360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vitare il croll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0560" y="2349360"/>
            <a:ext cx="75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endenza della normativa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0200" y="2924280"/>
            <a:ext cx="539892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Più livelli di prestazion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62440" y="5504040"/>
            <a:ext cx="49640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ormativa americana FEMA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Capitolo 11 dell’Ordinanza 3274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orme Tecniche per le Costruzioni, 2007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50920" y="5294160"/>
            <a:ext cx="4262400" cy="716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associati a diversi livelli di intensità sismic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0560" y="4005360"/>
            <a:ext cx="7558200" cy="360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vitare perdite di vite uman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0560" y="4795920"/>
            <a:ext cx="7558200" cy="360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Mantenere l’operatività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70200" y="1762200"/>
            <a:ext cx="539892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Performance based desig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ivelli di prestazion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790560" y="2158920"/>
            <a:ext cx="766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Evitare il croll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Stato Limite di prevenzione del Collasso (SLC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Danni molto gravi dei componenti strutturali. </a:t>
            </a:r>
            <a:br>
              <a:rPr sz="2400"/>
            </a:b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Perdita sostanziale di rigidezza e contenuta perdita di resistenza nei confronti delle azioni orizzontali. La costruzione conserva una significativa parte di rigidezza e resistenza per azioni verticali ed un esiguo margine di sicurezza nei confronti del collasso per azioni orizzontal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62440" y="5945040"/>
            <a:ext cx="49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orme Tecniche per le Costruzioni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bozza aprile 2007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ivelli di prestazion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790560" y="2158920"/>
            <a:ext cx="766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vitare perdite di vite uman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tato limite di salvaguardia della vita o Ultimo (SLU)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ignificativi danni degli elementi strutturali.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erdita significativa di rigidezza nei confronti delle azioni orizzontali. Rimane una significativa parte della resistenza per azioni orizzontali. Rigidezza e resistenza per azioni verticali quasi immutate. Significativo margine di sicurezza nei confronti del collasso per azioni orizzontal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62440" y="5945040"/>
            <a:ext cx="49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orme Tecniche per le Costruzioni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bozza aprile 2007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ivelli di prestazion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790560" y="2158920"/>
            <a:ext cx="766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Consentire un rapido ripristino dell’operatività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Stato limite di immediato utilizzo o di Danno (SLD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Danni tali da non compromettere significativamente la capacità di resistenza e di rigidezza nei confronti delle azioni verticali ed orizzontali. </a:t>
            </a:r>
            <a:br>
              <a:rPr sz="2400"/>
            </a:b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Immediatamente utilizzabile pur nell’interruzione d’uso di parte delle apparecchiature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62440" y="5945040"/>
            <a:ext cx="49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orme Tecniche per le Costruzioni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bozza aprile 2007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7:18:09Z</dcterms:created>
  <dc:creator>Aurelio Ghersi</dc:creator>
  <dc:description/>
  <dc:language>en-US</dc:language>
  <cp:lastModifiedBy>Aurelio Ghersi</cp:lastModifiedBy>
  <dcterms:modified xsi:type="dcterms:W3CDTF">2007-05-21T10:48:16Z</dcterms:modified>
  <cp:revision>134</cp:revision>
  <dc:subject>Lezione LabPro 8/3/06</dc:subject>
  <dc:title>Obiettivi della progettazione in zona sismica</dc:title>
</cp:coreProperties>
</file>