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ABD2-8363-4DE6-B773-4F0DA3C47DE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e indagini assumono una importanza maggiore</a:t>
            </a:r>
            <a:r>
              <a:rPr b="0" lang="it-IT" sz="1200" spc="-1" strike="noStrike">
                <a:solidFill>
                  <a:srgbClr val="000000"/>
                </a:solidFill>
                <a:latin typeface="Times New Roman"/>
              </a:rPr>
              <a:t> ma non potendosi effettuare indagini su tutti gli elementi strutturali si deve procedere ad una riprogettazione della strutur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resente  lavoro vuole mettere in evidenza, il ruolo centrale che ricopre la conoscenza dell’ogget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i fini di una corret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mprensione del comportamento stat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ia a livello qualit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mediante una corretta modellazione dell’oggetto – comprensione sta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 livello quantit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EGRADO O VETUSTA’:  I materiali da costruzione possono mantenere inalterate le proprie caratteristiche fisico-meccaniche nel tempo (per il cls addirittura si ha un incremento di resistenza con il tempo). In condizioni ambientali non ottimali si possono verificare dei fenomeni che possono comportare una riduzione delle caratteristiche geometriche, meccaniche o fisiche (RESISTENZA) dei materia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MPRENSIONE: farsi una idea del comportamento e del livello di sicurezza. In assenza di una modellazione questo può avvenire solo a livello qualitativ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La costruzione della chiesa ebbe inizio il 10 maggio 1875. I lavori si protrassero  fino al 1888 anno in cui furono completate la facciata e le tre navate. Per l'apertura al culto ( che avvenne il 29 giugno 1888) si realizzò una alta parete muraria allineata ai pilastri della futura cupol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Nel 1899 iniziarono i lavori per la costruzione del transetto absidato, del coro maggiore,  dei due cori minori, dell'abside maggiore e della cupola. La cupola, progettata dall'ing.Giovanni Privitera, fu realizzata utilizzando elementi di pomic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Le lesioni tra la facciata e la fabbrica retrostante, provocate dal terremoto del 1914, si ampliarono; apparvero lesioni nel transetto e nella cupola e il campanile subì effetti tali da dover essere demolito. Gli interventi realizzati a seguito del danneggiamento furono la collocazione di cerchiature nel tamburo e nelle colonne del secondo ordine della facciata. Il campanile smontato fino al cordolo in c.a. realizzato nel 1914, fu ricostruito con forma simile all'originale ma con struttura in c.a.rivestita in materiale lapideo.</a:t>
            </a:r>
            <a:endParaRPr b="0" lang="en-US" sz="1000" spc="-1" strike="noStrike">
              <a:solidFill>
                <a:srgbClr val="000000"/>
              </a:solidFill>
              <a:latin typeface="Times New Roman"/>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1986 un nuovo terremoto arrecò danni alla chiesa. Si formarono lesioni ai primi due archi delle navate laterali e alle cupolette della navata destra che fu dichiarata inagibile, all'esterno si ispessì ulteriormente la linea di separazione tra facciata e navata centrale. </a:t>
            </a:r>
            <a:endParaRPr b="0" lang="en-US" sz="1000" spc="-1" strike="noStrike">
              <a:solidFill>
                <a:srgbClr val="000000"/>
              </a:solidFill>
              <a:latin typeface="Times New Roman"/>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L'8 maggio del 1914, dopo appena diaci anni dal suo completamento, una violenta scossa sismica apportò gravi danni alla chiesa. Le relazioni sul danneggiamento riportano la formazione di separazione tra la facciata e il corpo di fabbrica e cedimenti alla base del campanile. Per riparare quest'ultimo effetto si realizzò tempestivamente l'inserimento di un cordolo in c.a.. Tale intervento comportò l'eliminazione della balaustra presente in corrispondenza dell'arco centra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18A09-30C6-4274-9987-089B41FA7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7BD30-6755-4617-B48B-08039EDAE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6DF12-548B-4A01-977A-CE0D8C13E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DDEAA-575D-4401-819C-C3C32FB0F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2F91F-D07A-4FF9-9CDE-490B929D7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6959C-9B7B-4A56-B4EA-4F7735AB6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E359-CDDA-4DBE-B679-EE70FB99E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C445-D330-4687-B353-B5DD1EAD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17D0-A45B-4526-855A-9802ABE6C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DC45-EB75-4AB3-BE08-EC21B808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8A8C-816F-4906-B150-D329E6D3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96CAC-6AE8-43E6-A1C8-49F72481B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F60A-4DC9-48A7-BDDF-EBCA9E746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N1-%20quadro%20fessurativo.ppt"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p:nvPr/>
        </p:nvSpPr>
        <p:spPr>
          <a:xfrm>
            <a:off x="539640" y="2492280"/>
            <a:ext cx="8136000" cy="309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CCIO METODOLOGICO ALLA CONOSCENZA DEL SINGOLO EDIFI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E DI CONOSCEN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OSCENZA STORICA DELLA NORMATIVA E PROGETTO SIMULATO</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9" name=""/>
          <p:cNvSpPr/>
          <p:nvPr/>
        </p:nvSpPr>
        <p:spPr>
          <a:xfrm>
            <a:off x="468360" y="747720"/>
            <a:ext cx="82803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ORTAMENTO (SISMICO) DI EDIFICI ESISTENTI CON STRUTTURA IN 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755640" y="1268280"/>
            <a:ext cx="6624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I:  IDENTIFICAZIONE </a:t>
            </a:r>
            <a:r>
              <a:rPr b="1" lang="en-US" sz="2000" spc="-1" strike="noStrike">
                <a:solidFill>
                  <a:srgbClr val="000000"/>
                </a:solidFill>
                <a:latin typeface="Arial"/>
              </a:rPr>
              <a:t>dove si trova, che destinazione d’uso ha, quando è stato edificato, se si trova in zona sism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I: DOCUMENTI A DISPOSIZIONE </a:t>
            </a:r>
            <a:r>
              <a:rPr b="1" lang="en-US" sz="2000" spc="-1" strike="noStrike">
                <a:solidFill>
                  <a:srgbClr val="000000"/>
                </a:solidFill>
                <a:latin typeface="Arial"/>
              </a:rPr>
              <a:t>che materiale si ha a disposizione, disegni originali o rilievi successivi, architettonici, strutturali, materiali utilizzat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II: ASPETTO GENERALE </a:t>
            </a:r>
            <a:r>
              <a:rPr b="1" lang="en-US" sz="2000" spc="-1" strike="noStrike">
                <a:solidFill>
                  <a:srgbClr val="000000"/>
                </a:solidFill>
                <a:latin typeface="Arial"/>
              </a:rPr>
              <a:t>come si presenta a prima vista, allo stato del sopralluogo: è isolato o aggregato ad altri corpi, qual è la sua planimetria ed altimet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endParaRPr b="0" lang="en-US" sz="2000" spc="-1" strike="noStrike">
              <a:solidFill>
                <a:srgbClr val="000000"/>
              </a:solidFill>
              <a:latin typeface="Times New Roman"/>
            </a:endParaRPr>
          </a:p>
        </p:txBody>
      </p:sp>
      <p:sp>
        <p:nvSpPr>
          <p:cNvPr id="124" name=""/>
          <p:cNvSpPr/>
          <p:nvPr/>
        </p:nvSpPr>
        <p:spPr>
          <a:xfrm>
            <a:off x="8028000" y="141300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301"/>
                </a:moveTo>
                <a:lnTo>
                  <a:pt x="4715" y="7301"/>
                </a:lnTo>
                <a:lnTo>
                  <a:pt x="5098" y="7667"/>
                </a:lnTo>
                <a:lnTo>
                  <a:pt x="14306" y="7667"/>
                </a:lnTo>
                <a:lnTo>
                  <a:pt x="14863" y="8224"/>
                </a:lnTo>
                <a:lnTo>
                  <a:pt x="14863" y="8772"/>
                </a:lnTo>
                <a:lnTo>
                  <a:pt x="16708" y="8772"/>
                </a:lnTo>
                <a:lnTo>
                  <a:pt x="17074" y="8224"/>
                </a:lnTo>
                <a:lnTo>
                  <a:pt x="17814" y="8224"/>
                </a:lnTo>
                <a:lnTo>
                  <a:pt x="17814" y="13376"/>
                </a:lnTo>
                <a:lnTo>
                  <a:pt x="17074" y="13376"/>
                </a:lnTo>
                <a:lnTo>
                  <a:pt x="16708" y="12828"/>
                </a:lnTo>
                <a:lnTo>
                  <a:pt x="14863" y="12828"/>
                </a:lnTo>
                <a:lnTo>
                  <a:pt x="14863" y="14107"/>
                </a:lnTo>
                <a:lnTo>
                  <a:pt x="5280" y="14107"/>
                </a:lnTo>
                <a:lnTo>
                  <a:pt x="5280" y="9877"/>
                </a:lnTo>
                <a:lnTo>
                  <a:pt x="5098" y="9877"/>
                </a:lnTo>
                <a:lnTo>
                  <a:pt x="4715" y="10243"/>
                </a:lnTo>
                <a:lnTo>
                  <a:pt x="3801" y="10243"/>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028000" y="278136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028000" y="43657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301"/>
                </a:moveTo>
                <a:lnTo>
                  <a:pt x="4715" y="7301"/>
                </a:lnTo>
                <a:lnTo>
                  <a:pt x="5098" y="7667"/>
                </a:lnTo>
                <a:lnTo>
                  <a:pt x="14306" y="7667"/>
                </a:lnTo>
                <a:lnTo>
                  <a:pt x="14863" y="8224"/>
                </a:lnTo>
                <a:lnTo>
                  <a:pt x="14863" y="8772"/>
                </a:lnTo>
                <a:lnTo>
                  <a:pt x="16708" y="8772"/>
                </a:lnTo>
                <a:lnTo>
                  <a:pt x="17074" y="8224"/>
                </a:lnTo>
                <a:lnTo>
                  <a:pt x="17814" y="8224"/>
                </a:lnTo>
                <a:lnTo>
                  <a:pt x="17814" y="13376"/>
                </a:lnTo>
                <a:lnTo>
                  <a:pt x="17074" y="13376"/>
                </a:lnTo>
                <a:lnTo>
                  <a:pt x="16708" y="12828"/>
                </a:lnTo>
                <a:lnTo>
                  <a:pt x="14863" y="12828"/>
                </a:lnTo>
                <a:lnTo>
                  <a:pt x="14863" y="14107"/>
                </a:lnTo>
                <a:lnTo>
                  <a:pt x="5280" y="14107"/>
                </a:lnTo>
                <a:lnTo>
                  <a:pt x="5280" y="9877"/>
                </a:lnTo>
                <a:lnTo>
                  <a:pt x="5098" y="9877"/>
                </a:lnTo>
                <a:lnTo>
                  <a:pt x="4715" y="10243"/>
                </a:lnTo>
                <a:lnTo>
                  <a:pt x="3801" y="10243"/>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684360" y="692280"/>
            <a:ext cx="72723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IV:  </a:t>
            </a:r>
            <a:r>
              <a:rPr b="1" lang="it-IT" sz="2000" spc="-1" strike="noStrike">
                <a:solidFill>
                  <a:srgbClr val="ff3300"/>
                </a:solidFill>
                <a:latin typeface="Arial"/>
              </a:rPr>
              <a:t>	</a:t>
            </a:r>
            <a:r>
              <a:rPr b="1" lang="it-IT" sz="2000" spc="-1" strike="noStrike">
                <a:solidFill>
                  <a:srgbClr val="ff3300"/>
                </a:solidFill>
                <a:latin typeface="Arial"/>
              </a:rPr>
              <a:t>STORIA DELL’EDIFICIO </a:t>
            </a:r>
            <a:r>
              <a:rPr b="1" lang="it-IT" sz="2000" spc="-1" strike="noStrike">
                <a:solidFill>
                  <a:srgbClr val="000000"/>
                </a:solidFill>
                <a:latin typeface="Arial"/>
              </a:rPr>
              <a:t>da chi è stato edificato, se è stato realizzato in un’unica fase o in diverse ed in tal caso perché, se ha subito degli interventi successivi alla costruzione (ampliamenti, sopraelevazioni), se è stato soggetto ad eventi sismici, dissesti, cedimenti, se ha subito danni, se sono state effettuate delle riparazioni, se ci sono stati dei cambiamenti di destinazione d’u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  </a:t>
            </a:r>
            <a:r>
              <a:rPr b="1" lang="it-IT" sz="2000" spc="-1" strike="noStrike">
                <a:solidFill>
                  <a:srgbClr val="ff3300"/>
                </a:solidFill>
                <a:latin typeface="Arial"/>
              </a:rPr>
              <a:t>V:  </a:t>
            </a:r>
            <a:r>
              <a:rPr b="1" lang="it-IT" sz="2000" spc="-1" strike="noStrike">
                <a:solidFill>
                  <a:srgbClr val="ff3300"/>
                </a:solidFill>
                <a:latin typeface="Arial"/>
              </a:rPr>
              <a:t>	</a:t>
            </a:r>
            <a:r>
              <a:rPr b="1" lang="it-IT" sz="2000" spc="-1" strike="noStrike">
                <a:solidFill>
                  <a:srgbClr val="ff3300"/>
                </a:solidFill>
                <a:latin typeface="Arial"/>
              </a:rPr>
              <a:t>ESAME DELLA STRUTTURA </a:t>
            </a:r>
            <a:r>
              <a:rPr b="1" lang="it-IT" sz="2000" spc="-1" strike="noStrike">
                <a:solidFill>
                  <a:srgbClr val="000000"/>
                </a:solidFill>
                <a:latin typeface="Arial"/>
              </a:rPr>
              <a:t>quali sono la tipologia strutturale, i materiali, gli elementi strutturali e non, la loro geometria, dimensioni, rispetto dei criteri di regolarità, riscontro visivo con il materiale a disposizione</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  </a:t>
            </a:r>
            <a:r>
              <a:rPr b="1" lang="it-IT" sz="2000" spc="-1" strike="noStrike">
                <a:solidFill>
                  <a:srgbClr val="ff3300"/>
                </a:solidFill>
                <a:latin typeface="Arial"/>
              </a:rPr>
              <a:t>VI:  </a:t>
            </a:r>
            <a:r>
              <a:rPr b="1" lang="it-IT" sz="2000" spc="-1" strike="noStrike">
                <a:solidFill>
                  <a:srgbClr val="ff3300"/>
                </a:solidFill>
                <a:latin typeface="Arial"/>
              </a:rPr>
              <a:t>	</a:t>
            </a:r>
            <a:r>
              <a:rPr b="1" lang="it-IT" sz="2000" spc="-1" strike="noStrike">
                <a:solidFill>
                  <a:srgbClr val="ff3300"/>
                </a:solidFill>
                <a:latin typeface="Arial"/>
              </a:rPr>
              <a:t>DEGRADI E DISSESTI </a:t>
            </a:r>
            <a:r>
              <a:rPr b="1" lang="it-IT" sz="2000" spc="-1" strike="noStrike">
                <a:solidFill>
                  <a:srgbClr val="000000"/>
                </a:solidFill>
                <a:latin typeface="Arial"/>
              </a:rPr>
              <a:t>quali sono gli eventuali degradi materici presenti, il quadro fessurativo e deformativo, fuori ass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
          <p:cNvSpPr/>
          <p:nvPr/>
        </p:nvSpPr>
        <p:spPr>
          <a:xfrm>
            <a:off x="8028000" y="141300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301"/>
                </a:moveTo>
                <a:lnTo>
                  <a:pt x="4715" y="7301"/>
                </a:lnTo>
                <a:lnTo>
                  <a:pt x="5098" y="7667"/>
                </a:lnTo>
                <a:lnTo>
                  <a:pt x="14306" y="7667"/>
                </a:lnTo>
                <a:lnTo>
                  <a:pt x="14863" y="8224"/>
                </a:lnTo>
                <a:lnTo>
                  <a:pt x="14863" y="8772"/>
                </a:lnTo>
                <a:lnTo>
                  <a:pt x="16708" y="8772"/>
                </a:lnTo>
                <a:lnTo>
                  <a:pt x="17074" y="8224"/>
                </a:lnTo>
                <a:lnTo>
                  <a:pt x="17814" y="8224"/>
                </a:lnTo>
                <a:lnTo>
                  <a:pt x="17814" y="13376"/>
                </a:lnTo>
                <a:lnTo>
                  <a:pt x="17074" y="13376"/>
                </a:lnTo>
                <a:lnTo>
                  <a:pt x="16708" y="12828"/>
                </a:lnTo>
                <a:lnTo>
                  <a:pt x="14863" y="12828"/>
                </a:lnTo>
                <a:lnTo>
                  <a:pt x="14863" y="14107"/>
                </a:lnTo>
                <a:lnTo>
                  <a:pt x="5280" y="14107"/>
                </a:lnTo>
                <a:lnTo>
                  <a:pt x="5280" y="9877"/>
                </a:lnTo>
                <a:lnTo>
                  <a:pt x="5098" y="9877"/>
                </a:lnTo>
                <a:lnTo>
                  <a:pt x="4715" y="10243"/>
                </a:lnTo>
                <a:lnTo>
                  <a:pt x="3801" y="10243"/>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028000" y="35002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28000" y="486900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301"/>
                </a:moveTo>
                <a:lnTo>
                  <a:pt x="4715" y="7301"/>
                </a:lnTo>
                <a:lnTo>
                  <a:pt x="5098" y="7667"/>
                </a:lnTo>
                <a:lnTo>
                  <a:pt x="14306" y="7667"/>
                </a:lnTo>
                <a:lnTo>
                  <a:pt x="14863" y="8224"/>
                </a:lnTo>
                <a:lnTo>
                  <a:pt x="14863" y="8772"/>
                </a:lnTo>
                <a:lnTo>
                  <a:pt x="16708" y="8772"/>
                </a:lnTo>
                <a:lnTo>
                  <a:pt x="17074" y="8224"/>
                </a:lnTo>
                <a:lnTo>
                  <a:pt x="17814" y="8224"/>
                </a:lnTo>
                <a:lnTo>
                  <a:pt x="17814" y="13376"/>
                </a:lnTo>
                <a:lnTo>
                  <a:pt x="17074" y="13376"/>
                </a:lnTo>
                <a:lnTo>
                  <a:pt x="16708" y="12828"/>
                </a:lnTo>
                <a:lnTo>
                  <a:pt x="14863" y="12828"/>
                </a:lnTo>
                <a:lnTo>
                  <a:pt x="14863" y="14107"/>
                </a:lnTo>
                <a:lnTo>
                  <a:pt x="5280" y="14107"/>
                </a:lnTo>
                <a:lnTo>
                  <a:pt x="5280" y="9877"/>
                </a:lnTo>
                <a:lnTo>
                  <a:pt x="5098" y="9877"/>
                </a:lnTo>
                <a:lnTo>
                  <a:pt x="4715" y="10243"/>
                </a:lnTo>
                <a:lnTo>
                  <a:pt x="3801" y="10243"/>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
          <p:cNvSpPr/>
          <p:nvPr/>
        </p:nvSpPr>
        <p:spPr>
          <a:xfrm>
            <a:off x="611280" y="333360"/>
            <a:ext cx="792144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SSENZA DI INFORMAZIONI ORIGINAL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indagini assumono una importanza maggio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nno confrontate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OGETTO SIMUL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riferimento a quale normati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tiva dell’epo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OSCENZA STORICA DELLA NORMATI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può risalire alla normativ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ccio progettuale ???)</a:t>
            </a:r>
            <a:r>
              <a:rPr b="1"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132" name=""/>
          <p:cNvSpPr/>
          <p:nvPr/>
        </p:nvSpPr>
        <p:spPr>
          <a:xfrm>
            <a:off x="4284720" y="1700280"/>
            <a:ext cx="503280" cy="792000"/>
          </a:xfrm>
          <a:prstGeom prst="downArrow">
            <a:avLst>
              <a:gd name="adj1" fmla="val 50000"/>
              <a:gd name="adj2" fmla="val 3934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284720" y="3860640"/>
            <a:ext cx="574560" cy="935280"/>
          </a:xfrm>
          <a:prstGeom prst="downArrow">
            <a:avLst>
              <a:gd name="adj1" fmla="val 50000"/>
              <a:gd name="adj2" fmla="val 406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457200" y="260280"/>
            <a:ext cx="8147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OSCENZA</a:t>
            </a:r>
            <a:endParaRPr b="0" lang="en-US" sz="2400" spc="-1" strike="noStrike">
              <a:solidFill>
                <a:srgbClr val="000000"/>
              </a:solidFill>
              <a:latin typeface="Times New Roman"/>
            </a:endParaRPr>
          </a:p>
        </p:txBody>
      </p:sp>
      <p:sp>
        <p:nvSpPr>
          <p:cNvPr id="51" name=""/>
          <p:cNvSpPr/>
          <p:nvPr/>
        </p:nvSpPr>
        <p:spPr>
          <a:xfrm>
            <a:off x="457200" y="1084320"/>
            <a:ext cx="4043520" cy="178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icissitudini costruttive </a:t>
            </a:r>
            <a:endParaRPr b="0" lang="en-US" sz="2000" spc="-1" strike="noStrike">
              <a:solidFill>
                <a:srgbClr val="000000"/>
              </a:solidFill>
              <a:latin typeface="Times New Roman"/>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icissitudini evolutive</a:t>
            </a:r>
            <a:endParaRPr b="0" lang="en-US" sz="2000" spc="-1" strike="noStrike">
              <a:solidFill>
                <a:srgbClr val="000000"/>
              </a:solidFill>
              <a:latin typeface="Times New Roman"/>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Geometrica </a:t>
            </a:r>
            <a:endParaRPr b="0" lang="en-US" sz="2000" spc="-1" strike="noStrike">
              <a:solidFill>
                <a:srgbClr val="000000"/>
              </a:solidFill>
              <a:latin typeface="Times New Roman"/>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ecnica costruttiva</a:t>
            </a:r>
            <a:endParaRPr b="0" lang="en-US" sz="2000" spc="-1" strike="noStrike">
              <a:solidFill>
                <a:srgbClr val="000000"/>
              </a:solidFill>
              <a:latin typeface="Times New Roman"/>
            </a:endParaRPr>
          </a:p>
        </p:txBody>
      </p:sp>
      <p:sp>
        <p:nvSpPr>
          <p:cNvPr id="52" name=""/>
          <p:cNvSpPr/>
          <p:nvPr/>
        </p:nvSpPr>
        <p:spPr>
          <a:xfrm>
            <a:off x="4356000" y="1084320"/>
            <a:ext cx="4392720" cy="225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 </a:t>
            </a:r>
            <a:r>
              <a:rPr b="1" lang="it-IT" sz="2000" spc="-1" strike="noStrike">
                <a:solidFill>
                  <a:srgbClr val="000000"/>
                </a:solidFill>
                <a:latin typeface="Arial"/>
                <a:ea typeface="Arial"/>
              </a:rPr>
              <a:t>P. meccaniche-chimiche-fisiche</a:t>
            </a:r>
            <a:endParaRPr b="0" lang="en-US" sz="2000" spc="-1" strike="noStrike">
              <a:solidFill>
                <a:srgbClr val="000000"/>
              </a:solidFill>
              <a:latin typeface="Times New Roman"/>
            </a:endParaRPr>
          </a:p>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1" lang="it-IT" sz="2000" spc="-1" strike="noStrike">
                <a:solidFill>
                  <a:srgbClr val="3333cc"/>
                </a:solidFill>
                <a:latin typeface="Arial"/>
                <a:ea typeface="Arial"/>
              </a:rPr>
              <a:t>Carenze progettuali o esecutive</a:t>
            </a:r>
            <a:endParaRPr b="0" lang="en-US" sz="2000" spc="-1" strike="noStrike">
              <a:solidFill>
                <a:srgbClr val="000000"/>
              </a:solidFill>
              <a:latin typeface="Times New Roman"/>
            </a:endParaRPr>
          </a:p>
          <a:p>
            <a:pPr algn="just">
              <a:lnSpc>
                <a:spcPct val="10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ea typeface="Arial"/>
              </a:rPr>
              <a:t> </a:t>
            </a:r>
            <a:r>
              <a:rPr b="1" lang="it-IT" sz="2000" spc="-1" strike="noStrike">
                <a:solidFill>
                  <a:srgbClr val="3333cc"/>
                </a:solidFill>
                <a:latin typeface="Arial"/>
                <a:ea typeface="Arial"/>
              </a:rPr>
              <a:t>Degrado</a:t>
            </a:r>
            <a:endParaRPr b="0" lang="en-US" sz="2000" spc="-1" strike="noStrike">
              <a:solidFill>
                <a:srgbClr val="000000"/>
              </a:solidFill>
              <a:latin typeface="Times New Roman"/>
            </a:endParaRPr>
          </a:p>
          <a:p>
            <a:pPr algn="just">
              <a:lnSpc>
                <a:spcPct val="10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ea typeface="Arial"/>
              </a:rPr>
              <a:t> </a:t>
            </a:r>
            <a:r>
              <a:rPr b="1" lang="it-IT" sz="2000" spc="-1" strike="noStrike">
                <a:solidFill>
                  <a:srgbClr val="3333cc"/>
                </a:solidFill>
                <a:latin typeface="Arial"/>
                <a:ea typeface="Arial"/>
              </a:rPr>
              <a:t>Danneggiamento</a:t>
            </a:r>
            <a:endParaRPr b="0" lang="en-US" sz="2000" spc="-1" strike="noStrike">
              <a:solidFill>
                <a:srgbClr val="000000"/>
              </a:solidFill>
              <a:latin typeface="Times New Roman"/>
            </a:endParaRPr>
          </a:p>
          <a:p>
            <a:pPr lvl="3" marL="1371600" algn="just">
              <a:lnSpc>
                <a:spcPct val="100000"/>
              </a:lnSpc>
              <a:spcBef>
                <a:spcPts val="125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4464000" y="3029040"/>
            <a:ext cx="503280" cy="576000"/>
          </a:xfrm>
          <a:prstGeom prst="downArrow">
            <a:avLst>
              <a:gd name="adj1" fmla="val 50000"/>
              <a:gd name="adj2" fmla="val 28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50920" y="3736800"/>
            <a:ext cx="864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OMPRENDERE                     MODELLARE                   QUANTIFICARE</a:t>
            </a:r>
            <a:endParaRPr b="0" lang="en-US" sz="2000" spc="-1" strike="noStrike">
              <a:solidFill>
                <a:srgbClr val="000000"/>
              </a:solidFill>
              <a:latin typeface="Times New Roman"/>
            </a:endParaRPr>
          </a:p>
        </p:txBody>
      </p:sp>
      <p:sp>
        <p:nvSpPr>
          <p:cNvPr id="55" name=""/>
          <p:cNvSpPr/>
          <p:nvPr/>
        </p:nvSpPr>
        <p:spPr>
          <a:xfrm>
            <a:off x="5867280" y="3676680"/>
            <a:ext cx="792360" cy="576360"/>
          </a:xfrm>
          <a:prstGeom prst="rightArrow">
            <a:avLst>
              <a:gd name="adj1" fmla="val 50000"/>
              <a:gd name="adj2" fmla="val 343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771640" y="3678120"/>
            <a:ext cx="792360" cy="576360"/>
          </a:xfrm>
          <a:prstGeom prst="rightArrow">
            <a:avLst>
              <a:gd name="adj1" fmla="val 50000"/>
              <a:gd name="adj2" fmla="val 343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464000" y="4181400"/>
            <a:ext cx="503280" cy="576360"/>
          </a:xfrm>
          <a:prstGeom prst="downArrow">
            <a:avLst>
              <a:gd name="adj1" fmla="val 50000"/>
              <a:gd name="adj2" fmla="val 286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187280" y="4181400"/>
            <a:ext cx="503280" cy="576360"/>
          </a:xfrm>
          <a:prstGeom prst="downArrow">
            <a:avLst>
              <a:gd name="adj1" fmla="val 50000"/>
              <a:gd name="adj2" fmla="val 286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451640" y="4253040"/>
            <a:ext cx="503280" cy="576000"/>
          </a:xfrm>
          <a:prstGeom prst="downArrow">
            <a:avLst>
              <a:gd name="adj1" fmla="val 50000"/>
              <a:gd name="adj2" fmla="val 28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1280" y="4900680"/>
            <a:ext cx="835344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FFIDABILITÀ STRUTTURAL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DIVIDUAZIONE INTERVENTI</a:t>
            </a:r>
            <a:endParaRPr b="0" lang="en-US" sz="2000" spc="-1" strike="noStrike">
              <a:solidFill>
                <a:srgbClr val="000000"/>
              </a:solidFill>
              <a:latin typeface="Times New Roman"/>
            </a:endParaRPr>
          </a:p>
        </p:txBody>
      </p:sp>
      <p:sp>
        <p:nvSpPr>
          <p:cNvPr id="61" name=""/>
          <p:cNvSpPr/>
          <p:nvPr/>
        </p:nvSpPr>
        <p:spPr>
          <a:xfrm>
            <a:off x="4464000" y="5502240"/>
            <a:ext cx="503280" cy="576360"/>
          </a:xfrm>
          <a:prstGeom prst="downArrow">
            <a:avLst>
              <a:gd name="adj1" fmla="val 50000"/>
              <a:gd name="adj2" fmla="val 286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62" name=""/>
          <p:cNvGrpSpPr/>
          <p:nvPr/>
        </p:nvGrpSpPr>
        <p:grpSpPr>
          <a:xfrm>
            <a:off x="468360" y="260280"/>
            <a:ext cx="8353440" cy="2086560"/>
            <a:chOff x="468360" y="260280"/>
            <a:chExt cx="8353440" cy="2086560"/>
          </a:xfrm>
        </p:grpSpPr>
        <mc:AlternateContent>
          <mc:Choice xmlns:a14="http://schemas.microsoft.com/office/drawing/2010/main" Requires="a14">
            <p:sp>
              <p:nvSpPr>
                <p:cNvPr id="63" name=""/>
                <p:cNvSpPr txBox="1"/>
                <p:nvPr/>
              </p:nvSpPr>
              <p:spPr>
                <a:xfrm>
                  <a:off x="3851280" y="907920"/>
                  <a:ext cx="1593720" cy="557280"/>
                </a:xfrm>
                <a:prstGeom prst="rect">
                  <a:avLst/>
                </a:prstGeom>
              </p:spPr>
              <p:txBody>
                <a:bodyPr/>
                <a:p>
                  <a14:m>
                    <m:oMath xmlns:m="http://schemas.openxmlformats.org/officeDocument/2006/math">
                      <m:sSub>
                        <m:e>
                          <m:r>
                            <m:t xml:space="preserve">S</m:t>
                          </m:r>
                        </m:e>
                        <m:sub>
                          <m:r>
                            <m:rPr>
                              <m:lit/>
                              <m:nor/>
                            </m:rPr>
                            <m:t xml:space="preserve">Sd</m:t>
                          </m:r>
                        </m:sub>
                      </m:sSub>
                      <m:r>
                        <m:t xml:space="preserve">≤</m:t>
                      </m:r>
                      <m:sSub>
                        <m:e>
                          <m:r>
                            <m:t xml:space="preserve">S</m:t>
                          </m:r>
                        </m:e>
                        <m:sub>
                          <m:r>
                            <m:rPr>
                              <m:lit/>
                              <m:nor/>
                            </m:rPr>
                            <m:t xml:space="preserve">Rd</m:t>
                          </m:r>
                        </m:sub>
                      </m:sSub>
                    </m:oMath>
                  </a14:m>
                </a:p>
              </p:txBody>
            </p:sp>
          </mc:Choice>
          <mc:Fallback/>
        </mc:AlternateContent>
        <p:sp>
          <p:nvSpPr>
            <p:cNvPr id="64" name=""/>
            <p:cNvSpPr/>
            <p:nvPr/>
          </p:nvSpPr>
          <p:spPr>
            <a:xfrm>
              <a:off x="468360" y="2602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FFIDABILITÀ STRUTTURALE   </a:t>
              </a:r>
              <a:endParaRPr b="0" lang="en-US" sz="2400" spc="-1" strike="noStrike">
                <a:solidFill>
                  <a:srgbClr val="000000"/>
                </a:solidFill>
                <a:latin typeface="Times New Roman"/>
              </a:endParaRPr>
            </a:p>
          </p:txBody>
        </p:sp>
        <p:sp>
          <p:nvSpPr>
            <p:cNvPr id="65" name=""/>
            <p:cNvSpPr/>
            <p:nvPr/>
          </p:nvSpPr>
          <p:spPr>
            <a:xfrm>
              <a:off x="826920" y="1484280"/>
              <a:ext cx="72741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a:t>
              </a:r>
              <a:r>
                <a:rPr b="1" lang="it-IT" sz="1200" spc="-1" strike="noStrike">
                  <a:solidFill>
                    <a:srgbClr val="000000"/>
                  </a:solidFill>
                  <a:latin typeface="Arial"/>
                </a:rPr>
                <a:t>Sd</a:t>
              </a:r>
              <a:r>
                <a:rPr b="1" lang="it-IT" sz="2000" spc="-1" strike="noStrike">
                  <a:solidFill>
                    <a:srgbClr val="000000"/>
                  </a:solidFill>
                  <a:latin typeface="Arial"/>
                </a:rPr>
                <a:t> Sollecitazioni di progett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a:t>
              </a:r>
              <a:r>
                <a:rPr b="1" lang="it-IT" sz="1200" spc="-1" strike="noStrike">
                  <a:solidFill>
                    <a:srgbClr val="000000"/>
                  </a:solidFill>
                  <a:latin typeface="Arial"/>
                </a:rPr>
                <a:t>Rd</a:t>
              </a:r>
              <a:r>
                <a:rPr b="1" lang="it-IT" sz="2000" spc="-1" strike="noStrike">
                  <a:solidFill>
                    <a:srgbClr val="000000"/>
                  </a:solidFill>
                  <a:latin typeface="Arial"/>
                </a:rPr>
                <a:t> Sollecitazioni resistenti  </a:t>
              </a:r>
              <a:endParaRPr b="0" lang="en-US" sz="2000" spc="-1" strike="noStrike">
                <a:solidFill>
                  <a:srgbClr val="000000"/>
                </a:solidFill>
                <a:latin typeface="Times New Roman"/>
              </a:endParaRPr>
            </a:p>
          </p:txBody>
        </p:sp>
      </p:grpSp>
      <p:grpSp>
        <p:nvGrpSpPr>
          <p:cNvPr id="66" name=""/>
          <p:cNvGrpSpPr/>
          <p:nvPr/>
        </p:nvGrpSpPr>
        <p:grpSpPr>
          <a:xfrm>
            <a:off x="2265480" y="3357720"/>
            <a:ext cx="6870600" cy="3240000"/>
            <a:chOff x="2265480" y="3357720"/>
            <a:chExt cx="6870600" cy="3240000"/>
          </a:xfrm>
        </p:grpSpPr>
        <p:sp>
          <p:nvSpPr>
            <p:cNvPr id="67" name=""/>
            <p:cNvSpPr/>
            <p:nvPr/>
          </p:nvSpPr>
          <p:spPr>
            <a:xfrm>
              <a:off x="2481120" y="3860640"/>
              <a:ext cx="216000" cy="144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8" name=""/>
            <p:cNvSpPr/>
            <p:nvPr/>
          </p:nvSpPr>
          <p:spPr>
            <a:xfrm>
              <a:off x="6661080" y="3854520"/>
              <a:ext cx="21600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9" name=""/>
            <p:cNvSpPr/>
            <p:nvPr/>
          </p:nvSpPr>
          <p:spPr>
            <a:xfrm>
              <a:off x="2590920" y="3860640"/>
              <a:ext cx="417672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552760" y="4437000"/>
              <a:ext cx="417672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52760" y="5732640"/>
              <a:ext cx="417672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552760" y="5299200"/>
              <a:ext cx="2087640" cy="4316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0800000">
              <a:off x="4638240" y="5732280"/>
              <a:ext cx="2087640" cy="4330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0800000">
              <a:off x="2553120" y="3718080"/>
              <a:ext cx="4463640" cy="1440720"/>
            </a:xfrm>
            <a:custGeom>
              <a:avLst/>
              <a:gdLst/>
              <a:ahLst/>
              <a:rect l="l" t="t" r="r" b="b"/>
              <a:pathLst>
                <a:path stroke="0" w="21600" h="21600">
                  <a:moveTo>
                    <a:pt x="11796" y="46"/>
                  </a:moveTo>
                  <a:arcTo wR="10800" hR="10800" stAng="-5082405" swAng="5082405"/>
                  <a:lnTo>
                    <a:pt x="10800" y="10800"/>
                  </a:lnTo>
                  <a:close/>
                </a:path>
                <a:path fill="none" w="21600" h="21600">
                  <a:moveTo>
                    <a:pt x="11796" y="46"/>
                  </a:moveTo>
                  <a:arcTo wR="10800" hR="10800" stAng="-5082405" swAng="508240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10800000">
              <a:off x="2265120" y="3719520"/>
              <a:ext cx="4463640" cy="1441800"/>
            </a:xfrm>
            <a:custGeom>
              <a:avLst/>
              <a:gdLst/>
              <a:ahLst/>
              <a:rect l="l" t="t" r="r" b="b"/>
              <a:pathLst>
                <a:path stroke="0" w="21600" h="21600">
                  <a:moveTo>
                    <a:pt x="11165" y="6"/>
                  </a:moveTo>
                  <a:arcTo wR="10800" hR="10800" stAng="-5283728" swAng="5283728"/>
                  <a:lnTo>
                    <a:pt x="10800" y="10800"/>
                  </a:lnTo>
                  <a:close/>
                </a:path>
                <a:path fill="none" w="21600" h="21600">
                  <a:moveTo>
                    <a:pt x="11165" y="6"/>
                  </a:moveTo>
                  <a:arcTo wR="10800" hR="10800" stAng="-5283728" swAng="528372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84440" y="3357720"/>
              <a:ext cx="41752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4568760" y="4149720"/>
              <a:ext cx="4567320" cy="1295280"/>
              <a:chOff x="4568760" y="4149720"/>
              <a:chExt cx="4567320" cy="1295280"/>
            </a:xfrm>
          </p:grpSpPr>
          <p:sp>
            <p:nvSpPr>
              <p:cNvPr id="78" name=""/>
              <p:cNvSpPr/>
              <p:nvPr/>
            </p:nvSpPr>
            <p:spPr>
              <a:xfrm>
                <a:off x="4568760" y="41497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7211880" y="4437000"/>
                    <a:ext cx="1924200" cy="557280"/>
                  </a:xfrm>
                  <a:prstGeom prst="rect">
                    <a:avLst/>
                  </a:prstGeom>
                </p:spPr>
                <p:txBody>
                  <a:bodyPr/>
                  <a:p>
                    <a14:m>
                      <m:oMath xmlns:m="http://schemas.openxmlformats.org/officeDocument/2006/math">
                        <m:sSub>
                          <m:e>
                            <m:r>
                              <m:t xml:space="preserve">M</m:t>
                            </m:r>
                          </m:e>
                          <m:sub>
                            <m:r>
                              <m:rPr>
                                <m:lit/>
                                <m:nor/>
                              </m:rPr>
                              <m:t xml:space="preserve">Sd</m:t>
                            </m:r>
                          </m:sub>
                        </m:sSub>
                        <m:r>
                          <m:t xml:space="preserve">≤</m:t>
                        </m:r>
                        <m:sSub>
                          <m:e>
                            <m:r>
                              <m:t xml:space="preserve">M</m:t>
                            </m:r>
                          </m:e>
                          <m:sub>
                            <m:r>
                              <m:rPr>
                                <m:lit/>
                                <m:nor/>
                              </m:rPr>
                              <m:t xml:space="preserve">Rd</m:t>
                            </m:r>
                          </m:sub>
                        </m:sSub>
                      </m:oMath>
                    </a14:m>
                  </a:p>
                </p:txBody>
              </p:sp>
            </mc:Choice>
            <mc:Fallback/>
          </mc:AlternateContent>
        </p:grpSp>
        <p:grpSp>
          <p:nvGrpSpPr>
            <p:cNvPr id="80" name=""/>
            <p:cNvGrpSpPr/>
            <p:nvPr/>
          </p:nvGrpSpPr>
          <p:grpSpPr>
            <a:xfrm>
              <a:off x="6513480" y="5229360"/>
              <a:ext cx="2340000" cy="1368360"/>
              <a:chOff x="6513480" y="5229360"/>
              <a:chExt cx="2340000" cy="1368360"/>
            </a:xfrm>
          </p:grpSpPr>
          <p:sp>
            <p:nvSpPr>
              <p:cNvPr id="81" name=""/>
              <p:cNvSpPr/>
              <p:nvPr/>
            </p:nvSpPr>
            <p:spPr>
              <a:xfrm>
                <a:off x="6513480" y="522936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7308720" y="5661000"/>
                    <a:ext cx="1544760" cy="557280"/>
                  </a:xfrm>
                  <a:prstGeom prst="rect">
                    <a:avLst/>
                  </a:prstGeom>
                </p:spPr>
                <p:txBody>
                  <a:bodyPr/>
                  <a:p>
                    <a14:m>
                      <m:oMath xmlns:m="http://schemas.openxmlformats.org/officeDocument/2006/math">
                        <m:sSub>
                          <m:e>
                            <m:r>
                              <m:t xml:space="preserve">V</m:t>
                            </m:r>
                          </m:e>
                          <m:sub>
                            <m:r>
                              <m:rPr>
                                <m:lit/>
                                <m:nor/>
                              </m:rPr>
                              <m:t xml:space="preserve">Sd</m:t>
                            </m:r>
                          </m:sub>
                        </m:sSub>
                        <m:r>
                          <m:t xml:space="preserve">≤</m:t>
                        </m:r>
                        <m:sSub>
                          <m:e>
                            <m:r>
                              <m:t xml:space="preserve">V</m:t>
                            </m:r>
                          </m:e>
                          <m:sub>
                            <m:r>
                              <m:rPr>
                                <m:lit/>
                                <m:nor/>
                              </m:rPr>
                              <m:t xml:space="preserve">Rd</m:t>
                            </m:r>
                          </m:sub>
                        </m:sSub>
                      </m:oMath>
                    </a14:m>
                  </a:p>
                </p:txBody>
              </p:sp>
            </mc:Choice>
            <mc:Fallback/>
          </mc:AlternateContent>
        </p:grpSp>
      </p:grpSp>
      <p:grpSp>
        <p:nvGrpSpPr>
          <p:cNvPr id="83" name=""/>
          <p:cNvGrpSpPr/>
          <p:nvPr/>
        </p:nvGrpSpPr>
        <p:grpSpPr>
          <a:xfrm>
            <a:off x="250920" y="1916280"/>
            <a:ext cx="2170080" cy="3078000"/>
            <a:chOff x="250920" y="1916280"/>
            <a:chExt cx="2170080" cy="3078000"/>
          </a:xfrm>
        </p:grpSpPr>
        <p:sp>
          <p:nvSpPr>
            <p:cNvPr id="84" name=""/>
            <p:cNvSpPr/>
            <p:nvPr/>
          </p:nvSpPr>
          <p:spPr>
            <a:xfrm>
              <a:off x="324000" y="285264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4000" y="2838600"/>
              <a:ext cx="8632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187280" y="3481560"/>
              <a:ext cx="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332000" y="213372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195640" y="277164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333360" y="2112840"/>
              <a:ext cx="1008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1187280" y="2762280"/>
              <a:ext cx="1008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341360" y="2114640"/>
              <a:ext cx="863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250920" y="1989000"/>
              <a:ext cx="10080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557360" y="1951200"/>
              <a:ext cx="86364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22200" y="2044800"/>
              <a:ext cx="43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5" name=""/>
            <p:cNvSpPr/>
            <p:nvPr/>
          </p:nvSpPr>
          <p:spPr>
            <a:xfrm>
              <a:off x="1835280" y="1916280"/>
              <a:ext cx="43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000" spc="-1" strike="noStrike">
                  <a:solidFill>
                    <a:srgbClr val="000000"/>
                  </a:solidFill>
                  <a:latin typeface="Arial"/>
                </a:rPr>
                <a:t>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96" name=""/>
              <p:cNvSpPr txBox="1"/>
              <p:nvPr/>
            </p:nvSpPr>
            <p:spPr>
              <a:xfrm>
                <a:off x="3851280" y="404640"/>
                <a:ext cx="1924200" cy="557280"/>
              </a:xfrm>
              <a:prstGeom prst="rect">
                <a:avLst/>
              </a:prstGeom>
            </p:spPr>
            <p:txBody>
              <a:bodyPr/>
              <a:p>
                <a14:m>
                  <m:oMath xmlns:m="http://schemas.openxmlformats.org/officeDocument/2006/math">
                    <m:sSub>
                      <m:e>
                        <m:r>
                          <m:t xml:space="preserve">M</m:t>
                        </m:r>
                      </m:e>
                      <m:sub>
                        <m:r>
                          <m:rPr>
                            <m:lit/>
                            <m:nor/>
                          </m:rPr>
                          <m:t xml:space="preserve">Sd</m:t>
                        </m:r>
                      </m:sub>
                    </m:sSub>
                    <m:r>
                      <m:t xml:space="preserve">≤</m:t>
                    </m:r>
                    <m:sSub>
                      <m:e>
                        <m:r>
                          <m:t xml:space="preserve">M</m:t>
                        </m:r>
                      </m:e>
                      <m:sub>
                        <m:r>
                          <m:rPr>
                            <m:lit/>
                            <m:nor/>
                          </m:rPr>
                          <m:t xml:space="preserve">Rd</m:t>
                        </m:r>
                      </m:sub>
                    </m:sSub>
                  </m:oMath>
                </a14:m>
              </a:p>
            </p:txBody>
          </p:sp>
        </mc:Choice>
        <mc:Fallback/>
      </mc:AlternateContent>
      <mc:AlternateContent>
        <mc:Choice xmlns:a14="http://schemas.microsoft.com/office/drawing/2010/main" Requires="a14">
          <p:sp>
            <p:nvSpPr>
              <p:cNvPr id="97" name=""/>
              <p:cNvSpPr txBox="1"/>
              <p:nvPr/>
            </p:nvSpPr>
            <p:spPr>
              <a:xfrm>
                <a:off x="4788000" y="2421000"/>
                <a:ext cx="4113000" cy="561960"/>
              </a:xfrm>
              <a:prstGeom prst="rect">
                <a:avLst/>
              </a:prstGeom>
            </p:spPr>
            <p:txBody>
              <a:bodyPr/>
              <a:p>
                <a14:m>
                  <m:oMath xmlns:m="http://schemas.openxmlformats.org/officeDocument/2006/math">
                    <m:sSub>
                      <m:e>
                        <m:r>
                          <m:t xml:space="preserve">M</m:t>
                        </m:r>
                      </m:e>
                      <m:sub>
                        <m:r>
                          <m:rPr>
                            <m:lit/>
                            <m:nor/>
                          </m:rPr>
                          <m:t xml:space="preserve">Rd</m:t>
                        </m:r>
                      </m:sub>
                    </m:sSub>
                    <m:r>
                      <m:t xml:space="preserve">=</m:t>
                    </m:r>
                    <m:r>
                      <m:t xml:space="preserve">f</m:t>
                    </m:r>
                    <m:d>
                      <m:dPr>
                        <m:begChr m:val="("/>
                        <m:endChr m:val=")"/>
                      </m:dPr>
                      <m:e>
                        <m:r>
                          <m:t xml:space="preserve">b</m:t>
                        </m:r>
                        <m:r>
                          <m:t xml:space="preserve">,</m:t>
                        </m:r>
                        <m:r>
                          <m:t xml:space="preserve">d</m:t>
                        </m:r>
                        <m:r>
                          <m:t xml:space="preserve">,</m:t>
                        </m:r>
                        <m:sSub>
                          <m:e>
                            <m:r>
                              <m:t xml:space="preserve">A</m:t>
                            </m:r>
                          </m:e>
                          <m:sub>
                            <m:r>
                              <m:t xml:space="preserve">s</m:t>
                            </m:r>
                          </m:sub>
                        </m:sSub>
                        <m:r>
                          <m:t xml:space="preserve">,</m:t>
                        </m:r>
                        <m:sSub>
                          <m:e>
                            <m:r>
                              <m:t xml:space="preserve">R</m:t>
                            </m:r>
                          </m:e>
                          <m:sub>
                            <m:r>
                              <m:t xml:space="preserve">c</m:t>
                            </m:r>
                          </m:sub>
                        </m:sSub>
                        <m:r>
                          <m:t xml:space="preserve">,</m:t>
                        </m:r>
                        <m:sSub>
                          <m:e>
                            <m:r>
                              <m:t xml:space="preserve">f</m:t>
                            </m:r>
                          </m:e>
                          <m:sub>
                            <m:r>
                              <m:t xml:space="preserve">s</m:t>
                            </m:r>
                          </m:sub>
                        </m:sSub>
                      </m:e>
                    </m:d>
                  </m:oMath>
                </a14:m>
              </a:p>
            </p:txBody>
          </p:sp>
        </mc:Choice>
        <mc:Fallback/>
      </mc:AlternateContent>
      <mc:AlternateContent>
        <mc:Choice xmlns:a14="http://schemas.microsoft.com/office/drawing/2010/main" Requires="a14">
          <p:sp>
            <p:nvSpPr>
              <p:cNvPr id="98" name=""/>
              <p:cNvSpPr txBox="1"/>
              <p:nvPr/>
            </p:nvSpPr>
            <p:spPr>
              <a:xfrm>
                <a:off x="250920" y="1341360"/>
                <a:ext cx="5319720" cy="1112760"/>
              </a:xfrm>
              <a:prstGeom prst="rect">
                <a:avLst/>
              </a:prstGeom>
            </p:spPr>
            <p:txBody>
              <a:bodyPr/>
              <a:p>
                <a14:m>
                  <m:oMath xmlns:m="http://schemas.openxmlformats.org/officeDocument/2006/math">
                    <m:sSub>
                      <m:e>
                        <m:r>
                          <m:t xml:space="preserve">M</m:t>
                        </m:r>
                      </m:e>
                      <m:sub>
                        <m:r>
                          <m:rPr>
                            <m:lit/>
                            <m:nor/>
                          </m:rPr>
                          <m:t xml:space="preserve">Sd</m:t>
                        </m:r>
                      </m:sub>
                    </m:sSub>
                    <m:r>
                      <m:t xml:space="preserve">=</m:t>
                    </m:r>
                    <m:f>
                      <m:num>
                        <m:sSup>
                          <m:e>
                            <m:r>
                              <m:rPr>
                                <m:lit/>
                                <m:nor/>
                              </m:rPr>
                              <m:t xml:space="preserve">qL</m:t>
                            </m:r>
                          </m:e>
                          <m:sup>
                            <m:r>
                              <m:t xml:space="preserve">2</m:t>
                            </m:r>
                          </m:sup>
                        </m:sSup>
                      </m:num>
                      <m:den>
                        <m:r>
                          <m:t xml:space="preserve">8</m:t>
                        </m:r>
                      </m:den>
                    </m:f>
                    <m:r>
                      <m:t xml:space="preserve">=</m:t>
                    </m:r>
                    <m:f>
                      <m:num>
                        <m:d>
                          <m:dPr>
                            <m:begChr m:val="("/>
                            <m:endChr m:val=")"/>
                          </m:dPr>
                          <m:e>
                            <m:sSub>
                              <m:e>
                                <m:r>
                                  <m:t xml:space="preserve">G</m:t>
                                </m:r>
                              </m:e>
                              <m:sub>
                                <m:r>
                                  <m:rPr>
                                    <m:lit/>
                                    <m:nor/>
                                  </m:rPr>
                                  <m:t xml:space="preserve">pp</m:t>
                                </m:r>
                              </m:sub>
                            </m:sSub>
                            <m:r>
                              <m:t xml:space="preserve">+</m:t>
                            </m:r>
                            <m:sSub>
                              <m:e>
                                <m:r>
                                  <m:t xml:space="preserve">G</m:t>
                                </m:r>
                              </m:e>
                              <m:sub>
                                <m:r>
                                  <m:rPr>
                                    <m:lit/>
                                    <m:nor/>
                                  </m:rPr>
                                  <m:t xml:space="preserve">cp</m:t>
                                </m:r>
                              </m:sub>
                            </m:sSub>
                            <m:r>
                              <m:t xml:space="preserve">+</m:t>
                            </m:r>
                            <m:r>
                              <m:t xml:space="preserve">Q</m:t>
                            </m:r>
                          </m:e>
                        </m:d>
                        <m:r>
                          <m:t xml:space="preserve">⋅</m:t>
                        </m:r>
                        <m:sSup>
                          <m:e>
                            <m:r>
                              <m:t xml:space="preserve">L</m:t>
                            </m:r>
                          </m:e>
                          <m:sup>
                            <m:r>
                              <m:t xml:space="preserve">2</m:t>
                            </m:r>
                          </m:sup>
                        </m:sSup>
                      </m:num>
                      <m:den>
                        <m:r>
                          <m:t xml:space="preserve">8</m:t>
                        </m:r>
                      </m:den>
                    </m:f>
                  </m:oMath>
                </a14:m>
              </a:p>
            </p:txBody>
          </p:sp>
        </mc:Choice>
        <mc:Fallback/>
      </mc:AlternateContent>
      <p:sp>
        <p:nvSpPr>
          <p:cNvPr id="99" name=""/>
          <p:cNvSpPr/>
          <p:nvPr/>
        </p:nvSpPr>
        <p:spPr>
          <a:xfrm>
            <a:off x="179280" y="2766960"/>
            <a:ext cx="864252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arpenteria:</a:t>
            </a:r>
            <a:r>
              <a:rPr b="1" lang="en-US" sz="2000" spc="-1" strike="noStrike">
                <a:solidFill>
                  <a:srgbClr val="000000"/>
                </a:solidFill>
                <a:latin typeface="Arial"/>
              </a:rPr>
              <a:t> (luci - orditu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ipologia costruttiva:</a:t>
            </a:r>
            <a:r>
              <a:rPr b="1" lang="en-US" sz="2000" spc="-1" strike="noStrike">
                <a:solidFill>
                  <a:srgbClr val="000000"/>
                </a:solidFill>
                <a:latin typeface="Arial"/>
              </a:rPr>
              <a:t> (elementi strutturali – elementi non struttural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aratteristiche dimensionali:</a:t>
            </a:r>
            <a:r>
              <a:rPr b="1" lang="en-US" sz="2000" spc="-1" strike="noStrike">
                <a:solidFill>
                  <a:srgbClr val="000000"/>
                </a:solidFill>
                <a:latin typeface="Arial"/>
              </a:rPr>
              <a:t> (elementi strutturali – elementi non struttural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ettagli strutturali:</a:t>
            </a:r>
            <a:r>
              <a:rPr b="1" lang="en-US" sz="2000" spc="-1" strike="noStrike">
                <a:solidFill>
                  <a:srgbClr val="000000"/>
                </a:solidFill>
                <a:latin typeface="Arial"/>
              </a:rPr>
              <a:t> necessità di conoscere armature longitudinali e staffe (appoggi - mezzeria – superiori - inferiori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ateriali</a:t>
            </a:r>
            <a:r>
              <a:rPr b="1" lang="en-US" sz="2000" spc="-1" strike="noStrike">
                <a:solidFill>
                  <a:srgbClr val="000000"/>
                </a:solidFill>
                <a:latin typeface="Arial"/>
              </a:rPr>
              <a:t>: informazioni sulle caratteristiche di resistenza dei materiali (progetto – esecuzione – variazioni nel tempo – attuali – variabilità tra i diversi elementi)</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0" name=""/>
          <p:cNvGraphicFramePr/>
          <p:nvPr/>
        </p:nvGraphicFramePr>
        <p:xfrm>
          <a:off x="5076720" y="836640"/>
          <a:ext cx="3397320" cy="1085760"/>
        </p:xfrm>
        <a:graphic>
          <a:graphicData uri="http://schemas.openxmlformats.org/presentationml/2006/ole">
            <p:oleObj r:id="rId1" spid="">
              <p:embed/>
              <p:pic>
                <p:nvPicPr>
                  <p:cNvPr id="101" name="" descr=""/>
                  <p:cNvPicPr/>
                  <p:nvPr/>
                </p:nvPicPr>
                <p:blipFill>
                  <a:blip r:embed="rId2"/>
                  <a:stretch/>
                </p:blipFill>
                <p:spPr>
                  <a:xfrm>
                    <a:off x="5076720" y="836640"/>
                    <a:ext cx="3397320" cy="1085760"/>
                  </a:xfrm>
                  <a:prstGeom prst="rect">
                    <a:avLst/>
                  </a:prstGeom>
                  <a:ln w="0">
                    <a:noFill/>
                  </a:ln>
                </p:spPr>
              </p:pic>
            </p:oleObj>
          </a:graphicData>
        </a:graphic>
      </p:graphicFrame>
      <p:graphicFrame>
        <p:nvGraphicFramePr>
          <p:cNvPr id="102" name=""/>
          <p:cNvGraphicFramePr/>
          <p:nvPr/>
        </p:nvGraphicFramePr>
        <p:xfrm>
          <a:off x="5003640" y="1916280"/>
          <a:ext cx="3530880" cy="1493640"/>
        </p:xfrm>
        <a:graphic>
          <a:graphicData uri="http://schemas.openxmlformats.org/presentationml/2006/ole">
            <p:oleObj r:id="rId3" spid="">
              <p:embed/>
              <p:pic>
                <p:nvPicPr>
                  <p:cNvPr id="103" name="" descr=""/>
                  <p:cNvPicPr/>
                  <p:nvPr/>
                </p:nvPicPr>
                <p:blipFill>
                  <a:blip r:embed="rId4"/>
                  <a:stretch/>
                </p:blipFill>
                <p:spPr>
                  <a:xfrm>
                    <a:off x="5003640" y="1916280"/>
                    <a:ext cx="3530880" cy="1493640"/>
                  </a:xfrm>
                  <a:prstGeom prst="rect">
                    <a:avLst/>
                  </a:prstGeom>
                  <a:ln w="0">
                    <a:noFill/>
                  </a:ln>
                </p:spPr>
              </p:pic>
            </p:oleObj>
          </a:graphicData>
        </a:graphic>
      </p:graphicFrame>
      <p:sp>
        <p:nvSpPr>
          <p:cNvPr id="104" name=""/>
          <p:cNvSpPr/>
          <p:nvPr/>
        </p:nvSpPr>
        <p:spPr>
          <a:xfrm>
            <a:off x="468360" y="134136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ipologia costruttiva:</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atteristiche dimensionali:</a:t>
            </a:r>
            <a:endParaRPr b="0" lang="en-US" sz="2400" spc="-1" strike="noStrike">
              <a:solidFill>
                <a:srgbClr val="000000"/>
              </a:solidFill>
              <a:latin typeface="Times New Roman"/>
            </a:endParaRPr>
          </a:p>
        </p:txBody>
      </p:sp>
      <p:graphicFrame>
        <p:nvGraphicFramePr>
          <p:cNvPr id="105" name=""/>
          <p:cNvGraphicFramePr/>
          <p:nvPr/>
        </p:nvGraphicFramePr>
        <p:xfrm>
          <a:off x="4427640" y="3500280"/>
          <a:ext cx="4348080" cy="3121200"/>
        </p:xfrm>
        <a:graphic>
          <a:graphicData uri="http://schemas.openxmlformats.org/presentationml/2006/ole">
            <p:oleObj r:id="rId5" spid="">
              <p:embed/>
              <p:pic>
                <p:nvPicPr>
                  <p:cNvPr id="106" name="" descr=""/>
                  <p:cNvPicPr/>
                  <p:nvPr/>
                </p:nvPicPr>
                <p:blipFill>
                  <a:blip r:embed="rId6"/>
                  <a:stretch/>
                </p:blipFill>
                <p:spPr>
                  <a:xfrm>
                    <a:off x="4427640" y="3500280"/>
                    <a:ext cx="4348080" cy="3121200"/>
                  </a:xfrm>
                  <a:prstGeom prst="rect">
                    <a:avLst/>
                  </a:prstGeom>
                  <a:ln w="0">
                    <a:noFill/>
                  </a:ln>
                </p:spPr>
              </p:pic>
            </p:oleObj>
          </a:graphicData>
        </a:graphic>
      </p:graphicFrame>
      <p:graphicFrame>
        <p:nvGraphicFramePr>
          <p:cNvPr id="107" name=""/>
          <p:cNvGraphicFramePr/>
          <p:nvPr/>
        </p:nvGraphicFramePr>
        <p:xfrm>
          <a:off x="1332000" y="3789360"/>
          <a:ext cx="2442960" cy="2443320"/>
        </p:xfrm>
        <a:graphic>
          <a:graphicData uri="http://schemas.openxmlformats.org/presentationml/2006/ole">
            <p:oleObj r:id="rId7" spid="">
              <p:embed/>
              <p:pic>
                <p:nvPicPr>
                  <p:cNvPr id="108" name="" descr=""/>
                  <p:cNvPicPr/>
                  <p:nvPr/>
                </p:nvPicPr>
                <p:blipFill>
                  <a:blip r:embed="rId8"/>
                  <a:stretch/>
                </p:blipFill>
                <p:spPr>
                  <a:xfrm>
                    <a:off x="1332000" y="3789360"/>
                    <a:ext cx="2442960" cy="24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228600" y="228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ISSITUDINI COSTRUTTIVE ED EFFETTI DEI TERREMOTI SULLA CHIESA</a:t>
            </a:r>
            <a:endParaRPr b="0" lang="en-US" sz="1600" spc="-1" strike="noStrike">
              <a:solidFill>
                <a:srgbClr val="000000"/>
              </a:solidFill>
              <a:latin typeface="Times New Roman"/>
            </a:endParaRPr>
          </a:p>
        </p:txBody>
      </p:sp>
      <p:graphicFrame>
        <p:nvGraphicFramePr>
          <p:cNvPr id="110" name=""/>
          <p:cNvGraphicFramePr/>
          <p:nvPr/>
        </p:nvGraphicFramePr>
        <p:xfrm>
          <a:off x="1332000" y="1268280"/>
          <a:ext cx="6458040" cy="4029120"/>
        </p:xfrm>
        <a:graphic>
          <a:graphicData uri="http://schemas.openxmlformats.org/presentationml/2006/ole">
            <p:oleObj progId="Excel.Sheet.12" r:id="rId1" spid="">
              <p:embed/>
              <p:pic>
                <p:nvPicPr>
                  <p:cNvPr id="111" name="" descr=""/>
                  <p:cNvPicPr/>
                  <p:nvPr/>
                </p:nvPicPr>
                <p:blipFill>
                  <a:blip r:embed="rId2"/>
                  <a:stretch/>
                </p:blipFill>
                <p:spPr>
                  <a:xfrm>
                    <a:off x="1332000" y="1268280"/>
                    <a:ext cx="6458040" cy="40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
          <p:cNvSpPr/>
          <p:nvPr/>
        </p:nvSpPr>
        <p:spPr>
          <a:xfrm>
            <a:off x="2916360" y="189000"/>
            <a:ext cx="345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NDAGINI CONOSCITIVE</a:t>
            </a:r>
            <a:endParaRPr b="0" lang="en-US" sz="2000" spc="-1" strike="noStrike">
              <a:solidFill>
                <a:srgbClr val="000000"/>
              </a:solidFill>
              <a:latin typeface="Times New Roman"/>
            </a:endParaRPr>
          </a:p>
        </p:txBody>
      </p:sp>
      <p:sp>
        <p:nvSpPr>
          <p:cNvPr id="113" name=""/>
          <p:cNvSpPr/>
          <p:nvPr/>
        </p:nvSpPr>
        <p:spPr>
          <a:xfrm>
            <a:off x="4284720" y="1093680"/>
            <a:ext cx="2592360" cy="42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CL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a Progett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Certificati di collaudo</a:t>
            </a:r>
            <a:r>
              <a:rPr b="1" lang="it-IT"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lievo campioni Schiacciament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clerometr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ull – Ou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ltrasonich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Carbonatazione</a:t>
            </a:r>
            <a:endParaRPr b="0" lang="en-US" sz="2000" spc="-1" strike="noStrike">
              <a:solidFill>
                <a:srgbClr val="000000"/>
              </a:solidFill>
              <a:latin typeface="Times New Roman"/>
            </a:endParaRPr>
          </a:p>
        </p:txBody>
      </p:sp>
      <p:sp>
        <p:nvSpPr>
          <p:cNvPr id="114" name=""/>
          <p:cNvSpPr/>
          <p:nvPr/>
        </p:nvSpPr>
        <p:spPr>
          <a:xfrm>
            <a:off x="6734160" y="1093680"/>
            <a:ext cx="2374920" cy="31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ACCIAI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a progett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Certificati di collau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lievi campini P. Trazion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Ossidazione - Corrosione</a:t>
            </a:r>
            <a:endParaRPr b="0" lang="en-US" sz="2000" spc="-1" strike="noStrike">
              <a:solidFill>
                <a:srgbClr val="000000"/>
              </a:solidFill>
              <a:latin typeface="Times New Roman"/>
            </a:endParaRPr>
          </a:p>
        </p:txBody>
      </p:sp>
      <p:sp>
        <p:nvSpPr>
          <p:cNvPr id="115" name=""/>
          <p:cNvSpPr/>
          <p:nvPr/>
        </p:nvSpPr>
        <p:spPr>
          <a:xfrm>
            <a:off x="2268360" y="1093680"/>
            <a:ext cx="237492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DETTAGLI C.</a:t>
            </a:r>
            <a:r>
              <a:rPr b="1" lang="it-IT"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a Progetto originari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camiciatur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acometrie</a:t>
            </a:r>
            <a:endParaRPr b="0" lang="en-US" sz="2000" spc="-1" strike="noStrike">
              <a:solidFill>
                <a:srgbClr val="000000"/>
              </a:solidFill>
              <a:latin typeface="Times New Roman"/>
            </a:endParaRPr>
          </a:p>
        </p:txBody>
      </p:sp>
      <p:sp>
        <p:nvSpPr>
          <p:cNvPr id="116" name=""/>
          <p:cNvSpPr/>
          <p:nvPr/>
        </p:nvSpPr>
        <p:spPr>
          <a:xfrm>
            <a:off x="108000" y="1093680"/>
            <a:ext cx="2374920" cy="379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CARPENTERI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EL. N. STRUTT.</a:t>
            </a:r>
            <a:r>
              <a:rPr b="1" lang="it-IT"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c99"/>
                </a:solidFill>
                <a:latin typeface="Arial"/>
              </a:rPr>
              <a:t>Da Progetto originari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ondaggi esplorativi</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ozzetti in fond.</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acometri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ermograf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1187280" y="620640"/>
            <a:ext cx="6480360" cy="38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SISTEMI STRUTTURALI</a:t>
            </a:r>
            <a:r>
              <a:rPr b="1" lang="it-IT"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ve di carico (capacità portante complessiv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Quadri fessurativi  </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Rilievo quadro fessur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Variazione nel tempo (fessurimetri)</a:t>
            </a:r>
            <a:endParaRPr b="0" lang="en-US" sz="1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Quadri Deformativi </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livellazioni orizz. – vert.)</a:t>
            </a:r>
            <a:endParaRPr b="0" lang="en-US" sz="1600" spc="-1" strike="noStrike">
              <a:solidFill>
                <a:srgbClr val="000000"/>
              </a:solidFill>
              <a:latin typeface="Times New Roman"/>
            </a:endParaRPr>
          </a:p>
        </p:txBody>
      </p:sp>
      <p:sp>
        <p:nvSpPr>
          <p:cNvPr id="118" name=""/>
          <p:cNvSpPr/>
          <p:nvPr/>
        </p:nvSpPr>
        <p:spPr>
          <a:xfrm>
            <a:off x="1258920" y="5167440"/>
            <a:ext cx="648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PROBLEMA DIAGNOSTIC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sione  </a:t>
            </a:r>
            <a:r>
              <a:rPr b="1" lang="en-US" sz="2000" spc="-1" strike="noStrike">
                <a:solidFill>
                  <a:srgbClr val="000000"/>
                </a:solidFill>
                <a:latin typeface="Arial"/>
                <a:ea typeface="Arial"/>
              </a:rPr>
              <a:t>&gt;  Dissesto &gt; Cause Pertubatrici &gt; Rimedio</a:t>
            </a:r>
            <a:endParaRPr b="0" lang="en-US" sz="2000" spc="-1" strike="noStrike">
              <a:solidFill>
                <a:srgbClr val="000000"/>
              </a:solidFill>
              <a:latin typeface="Times New Roman"/>
            </a:endParaRPr>
          </a:p>
        </p:txBody>
      </p:sp>
      <p:sp>
        <p:nvSpPr>
          <p:cNvPr id="119" name=""/>
          <p:cNvSpPr/>
          <p:nvPr/>
        </p:nvSpPr>
        <p:spPr>
          <a:xfrm>
            <a:off x="7596360" y="37893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7308"/>
                </a:moveTo>
                <a:lnTo>
                  <a:pt x="4707" y="7308"/>
                </a:lnTo>
                <a:lnTo>
                  <a:pt x="5090" y="7674"/>
                </a:lnTo>
                <a:lnTo>
                  <a:pt x="14299" y="7674"/>
                </a:lnTo>
                <a:lnTo>
                  <a:pt x="14856" y="8231"/>
                </a:lnTo>
                <a:lnTo>
                  <a:pt x="14856" y="8779"/>
                </a:lnTo>
                <a:lnTo>
                  <a:pt x="16701" y="8779"/>
                </a:lnTo>
                <a:lnTo>
                  <a:pt x="17067" y="8231"/>
                </a:lnTo>
                <a:lnTo>
                  <a:pt x="17806" y="8231"/>
                </a:lnTo>
                <a:lnTo>
                  <a:pt x="17806" y="13384"/>
                </a:lnTo>
                <a:lnTo>
                  <a:pt x="17067" y="13384"/>
                </a:lnTo>
                <a:lnTo>
                  <a:pt x="16701" y="12835"/>
                </a:lnTo>
                <a:lnTo>
                  <a:pt x="14856" y="12835"/>
                </a:lnTo>
                <a:lnTo>
                  <a:pt x="14856" y="14115"/>
                </a:lnTo>
                <a:lnTo>
                  <a:pt x="5273" y="14115"/>
                </a:lnTo>
                <a:lnTo>
                  <a:pt x="5273" y="9885"/>
                </a:lnTo>
                <a:lnTo>
                  <a:pt x="5090" y="9885"/>
                </a:lnTo>
                <a:lnTo>
                  <a:pt x="4707" y="10250"/>
                </a:lnTo>
                <a:lnTo>
                  <a:pt x="3794" y="1025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1"/>
          </p:cNvPr>
          <p:cNvSpPr/>
          <p:nvPr/>
        </p:nvSpPr>
        <p:spPr>
          <a:xfrm>
            <a:off x="7596360" y="22050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7308"/>
                </a:moveTo>
                <a:lnTo>
                  <a:pt x="4707" y="7308"/>
                </a:lnTo>
                <a:lnTo>
                  <a:pt x="5090" y="7674"/>
                </a:lnTo>
                <a:lnTo>
                  <a:pt x="14299" y="7674"/>
                </a:lnTo>
                <a:lnTo>
                  <a:pt x="14856" y="8231"/>
                </a:lnTo>
                <a:lnTo>
                  <a:pt x="14856" y="8779"/>
                </a:lnTo>
                <a:lnTo>
                  <a:pt x="16701" y="8779"/>
                </a:lnTo>
                <a:lnTo>
                  <a:pt x="17067" y="8231"/>
                </a:lnTo>
                <a:lnTo>
                  <a:pt x="17806" y="8231"/>
                </a:lnTo>
                <a:lnTo>
                  <a:pt x="17806" y="13384"/>
                </a:lnTo>
                <a:lnTo>
                  <a:pt x="17067" y="13384"/>
                </a:lnTo>
                <a:lnTo>
                  <a:pt x="16701" y="12835"/>
                </a:lnTo>
                <a:lnTo>
                  <a:pt x="14856" y="12835"/>
                </a:lnTo>
                <a:lnTo>
                  <a:pt x="14856" y="14115"/>
                </a:lnTo>
                <a:lnTo>
                  <a:pt x="5273" y="14115"/>
                </a:lnTo>
                <a:lnTo>
                  <a:pt x="5273" y="9885"/>
                </a:lnTo>
                <a:lnTo>
                  <a:pt x="5090" y="9885"/>
                </a:lnTo>
                <a:lnTo>
                  <a:pt x="4707" y="10250"/>
                </a:lnTo>
                <a:lnTo>
                  <a:pt x="3794" y="1025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684360" y="620640"/>
            <a:ext cx="763272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CHEDA DI RILIEVO</a:t>
            </a: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ativo di esplicitare e codificare il procedimento logico che guida i progettisti verso la conoscenza di un edificio e che porta alla formulazione di un parere sui livelli di sicurezza nei confronti di azioni statiche o dinamich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A – CHECK LIST</a:t>
            </a:r>
            <a:endParaRPr b="0" lang="en-US" sz="2000" spc="-1" strike="noStrike">
              <a:solidFill>
                <a:srgbClr val="000000"/>
              </a:solidFill>
              <a:latin typeface="Times New Roman"/>
            </a:endParaRPr>
          </a:p>
        </p:txBody>
      </p:sp>
      <p:sp>
        <p:nvSpPr>
          <p:cNvPr id="122" name=""/>
          <p:cNvSpPr/>
          <p:nvPr/>
        </p:nvSpPr>
        <p:spPr>
          <a:xfrm>
            <a:off x="826920" y="3273480"/>
            <a:ext cx="7632720" cy="28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scheda è costituita da </a:t>
            </a:r>
            <a:r>
              <a:rPr b="1" lang="en-US" sz="2000" spc="-1" strike="noStrike">
                <a:solidFill>
                  <a:srgbClr val="ff3300"/>
                </a:solidFill>
                <a:latin typeface="Arial"/>
              </a:rPr>
              <a:t>6 sezion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IDENTIFIC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a:solidFill>
                  <a:srgbClr val="000000"/>
                </a:solidFill>
                <a:latin typeface="Arial"/>
              </a:rPr>
              <a:t>	</a:t>
            </a:r>
            <a:r>
              <a:rPr b="1" lang="en-US" sz="2400" spc="-1" strike="noStrike">
                <a:solidFill>
                  <a:srgbClr val="000000"/>
                </a:solidFill>
                <a:latin typeface="Arial"/>
              </a:rPr>
              <a:t>DOCUMENTI A DISPOSI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t>
            </a:r>
            <a:r>
              <a:rPr b="1" lang="en-US" sz="2400" spc="-1" strike="noStrike">
                <a:solidFill>
                  <a:srgbClr val="000000"/>
                </a:solidFill>
                <a:latin typeface="Arial"/>
              </a:rPr>
              <a:t>	</a:t>
            </a:r>
            <a:r>
              <a:rPr b="1" lang="en-US" sz="2400" spc="-1" strike="noStrike">
                <a:solidFill>
                  <a:srgbClr val="000000"/>
                </a:solidFill>
                <a:latin typeface="Arial"/>
              </a:rPr>
              <a:t>ASPETTO GENER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a:t>
            </a:r>
            <a:r>
              <a:rPr b="1" lang="en-US" sz="2400" spc="-1" strike="noStrike">
                <a:solidFill>
                  <a:srgbClr val="000000"/>
                </a:solidFill>
                <a:latin typeface="Arial"/>
              </a:rPr>
              <a:t>	</a:t>
            </a:r>
            <a:r>
              <a:rPr b="1" lang="en-US" sz="2400" spc="-1" strike="noStrike">
                <a:solidFill>
                  <a:srgbClr val="000000"/>
                </a:solidFill>
                <a:latin typeface="Arial"/>
              </a:rPr>
              <a:t>STORIA DELL’EDIFI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a:solidFill>
                  <a:srgbClr val="000000"/>
                </a:solidFill>
                <a:latin typeface="Arial"/>
              </a:rPr>
              <a:t>	</a:t>
            </a:r>
            <a:r>
              <a:rPr b="1" lang="en-US" sz="2400" spc="-1" strike="noStrike">
                <a:solidFill>
                  <a:srgbClr val="000000"/>
                </a:solidFill>
                <a:latin typeface="Arial"/>
              </a:rPr>
              <a:t>ESAME DELLA STRUT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  </a:t>
            </a:r>
            <a:r>
              <a:rPr b="1" lang="en-US" sz="2400" spc="-1" strike="noStrike">
                <a:solidFill>
                  <a:srgbClr val="000000"/>
                </a:solidFill>
                <a:latin typeface="Arial"/>
              </a:rPr>
              <a:t>	</a:t>
            </a:r>
            <a:r>
              <a:rPr b="1" lang="en-US" sz="2400" spc="-1" strike="noStrike">
                <a:solidFill>
                  <a:srgbClr val="000000"/>
                </a:solidFill>
                <a:latin typeface="Arial"/>
              </a:rPr>
              <a:t>DEGRADI E DISSES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8T16:48:56Z</dcterms:created>
  <dc:creator>Fabbrizio</dc:creator>
  <dc:description/>
  <dc:language>en-US</dc:language>
  <cp:lastModifiedBy>Aurelio Ghersi</cp:lastModifiedBy>
  <dcterms:modified xsi:type="dcterms:W3CDTF">2007-05-15T07:11:36Z</dcterms:modified>
  <cp:revision>59</cp:revision>
  <dc:subject/>
  <dc:title>Presentazione di PowerPoint</dc:title>
</cp:coreProperties>
</file>