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92C-5D40-4B2A-A673-583F1E56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AED-3F2C-4AAB-AE82-E8E192C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FC7-DEA6-49B4-934E-F5544D0C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21E-B321-4D7B-B838-2AA6DFF1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8A4-B4B3-436C-8D2A-24403775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D4E-9086-458C-8400-0793E30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21B-E762-4222-B8D9-DAE9320E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F1A-372E-464D-9985-B8151819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02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27D-765C-4013-8C8B-1714F98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0C0-DABD-44F1-BBE2-4D4D2420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5C6-C842-4C7A-92BD-C431EBC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25F-E39B-4E79-9DBD-F90EFFC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7BB-3A66-4FF5-B60A-0378AF84CA8E}" type="slidenum"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ALISI DI EDIFICI ESISTENT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-225360" y="933480"/>
            <a:ext cx="9648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Comportamento (sismico) di edifici con struttura in c.a.: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VENTI SUGLI EDIFICI ESISTENT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5080" y="5253120"/>
            <a:ext cx="61182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tania, 5 giugn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ntonio perrett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0" y="249984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414288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0160" y="2085840"/>
            <a:ext cx="5423040" cy="36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43B-6355-4B8E-B8D8-7FE846FE5B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0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ifica della risposta locale – incamiciatura in c.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19280" y="906480"/>
            <a:ext cx="6032520" cy="57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9E9-6B0A-42BB-81DA-8FF7965F2A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0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ifica della risposta locale – incamiciatura in F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35120" y="812880"/>
            <a:ext cx="6000840" cy="56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938-5DF8-4370-B36E-492696B82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48000" y="1057320"/>
            <a:ext cx="4232160" cy="5800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65240" y="0"/>
            <a:ext cx="930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ifica della risposta locale – incamiciatura i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RP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iber reinforced plastics)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26F-903C-437F-BAE3-A1091043C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Incremento resistenza elementi infless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90600" y="1112760"/>
            <a:ext cx="8270280" cy="2702160"/>
            <a:chOff x="390600" y="1112760"/>
            <a:chExt cx="8270280" cy="27021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rcRect l="0" t="0" r="15335" b="0"/>
            <a:stretch/>
          </p:blipFill>
          <p:spPr>
            <a:xfrm>
              <a:off x="390600" y="1112760"/>
              <a:ext cx="3634920" cy="26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rcRect l="0" t="0" r="17583" b="0"/>
            <a:stretch/>
          </p:blipFill>
          <p:spPr>
            <a:xfrm>
              <a:off x="5225760" y="1171440"/>
              <a:ext cx="3435120" cy="264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770200" y="4167360"/>
            <a:ext cx="3705120" cy="22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BA5-9B4E-4FC5-8FC7-9D01E38AB2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rvento (rigoroso) sulle aste – intervento (?) sul nod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96880" y="1739880"/>
            <a:ext cx="3245040" cy="488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4724280" cy="314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B94-E3B1-4CDA-988D-9707C8D8E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6000" y="1701720"/>
            <a:ext cx="2538360" cy="382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21040" y="1714680"/>
            <a:ext cx="2492280" cy="3749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448240" y="2409840"/>
            <a:ext cx="3695760" cy="2454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rvento (rigoroso) sulle aste – intervento (?) sul nod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397-B989-42C2-A571-527319C819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ifica della risposta glob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763560" y="706320"/>
            <a:ext cx="80643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Riparazione nodo (molto teorica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78200" y="1890720"/>
            <a:ext cx="531468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A38-A94D-490A-A43C-80E58BAA8B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Modifica del comportamento globale (setti reticolari o in c.a.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84280" y="0"/>
          <a:ext cx="12642840" cy="72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0"/>
                    <a:ext cx="12642840" cy="72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03040" y="2147760"/>
            <a:ext cx="2703600" cy="34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7DE-1DED-4D79-ADBA-9896FF02D4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ifica della risposta glob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668680" y="947880"/>
            <a:ext cx="393696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Isolamento alla ba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6800" y="2470320"/>
            <a:ext cx="7533720" cy="2271600"/>
            <a:chOff x="766800" y="2470320"/>
            <a:chExt cx="7533720" cy="22716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766800" y="2506680"/>
              <a:ext cx="3825720" cy="22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871880" y="2470320"/>
              <a:ext cx="3428640" cy="22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87F-31D1-4ACA-9ECD-C06D3F8CA0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cremento resistenza e rigidezz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7040" y="1398600"/>
            <a:ext cx="7321320" cy="395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10C-BF9E-4AE5-A670-D85FD79B7F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VENTI SUGLI EDIFICI ESISTENT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0680" y="758880"/>
            <a:ext cx="811044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5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Adeguamento sismico o miglioramento?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5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Modalità di rinforzo di singoli elementi: cerchiatura in c.a. o in acciaio; uso di fibre e materiali composit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5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Interventi globali sugli edifici: diffusi (cerchiature, ecc., su molti elementi); concentrati (pareti in c.a., controventi in acciaio); isolamento alla ba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5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Problemi su impalcati e fondazion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Bef>
                <a:spcPts val="15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segue da 1) è accettabile che qualche elemento rimanga fuori norm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6F6-492C-4D0A-956A-5918FBB31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210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24360" y="4520880"/>
            <a:ext cx="473688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0">
              <a:spcBef>
                <a:spcPts val="400"/>
              </a:spcBef>
              <a:buNone/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Per questa presentazione: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coordinamento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A. Ghersi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realizzazione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A. Perretti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ultimo aggiornamento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04/06/2007</a:t>
            </a:r>
            <a:endParaRPr b="0" lang="en-US" sz="1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4DE-82B6-403C-BC07-2F9DC653F3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ALISI DI EDIFICI ESISTENT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3080" y="9176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È fatto obbligo eseguire valutazioni di sicurezza sismica e, qualora ne sia verificata la necessità, di effettuare interventi di adeguamento, in accordo con le presenti norme, a chiunque intenda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320" y="2120760"/>
            <a:ext cx="78040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praelevare o ampliare l’edifici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crementi dei carichi originar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terventi strutturali volti a trasformare l’edifici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terventi che implichino sostanziali alterazioni del comportamento glob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on è obbligatorio l’intervento di adeguamento sismico, sempre che non ricorra nessuna delle altre tre condizioni elencate ai punti B), C) e D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8FF-2F14-4B7C-B7AE-1C1F9FD49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ALISI DI EDIFICI ESISTENT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73000"/>
            <a:ext cx="89661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Comic Sans MS"/>
              </a:rPr>
              <a:t>Qualora si intenda effettuare interventi di tipo strutturale su singoli elementi di fabbrica, se non sussistono le condizioni che impongono l'adeguamento sismico, è consentito procedere senza dar luogo alle analisi e verifiche di cui al presente capitolo, a condizione che si dimostri che l'insieme delle opere previste è comunque tale da far conseguire all'edificio un maggior grado di sicurezza nei confronti delle azioni sismiche. Tali interventi sono definiti di miglioramento sismico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Comic Sans MS"/>
              </a:rPr>
              <a:t>Le Regioni possono, tenuto conto della specificità delle tipologie costruttive del proprio territorio, consentire, per gli interventi di adeguamento, un miglioramento controllato della vulnerabilità, riducendo i livelli di protezione sismica fino al 65% del livello previsto per le nuove costruzioni e quindi l’entità delle azioni sismiche da considerare per i diversi stati limite, nonché il numero degli stati limite da considerare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AFD-4679-47A7-B488-70AC83BE5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ALISI DI EDIFICI ESISTENT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150920"/>
            <a:ext cx="777240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quisiti: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SISTENZA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RIGIDEZZA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DUTTILITA’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767040"/>
            <a:ext cx="77724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RIFICA: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unto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sezion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global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200" y="1079640"/>
            <a:ext cx="7315200" cy="2450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200" y="3772080"/>
            <a:ext cx="7315200" cy="2450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C8A-CCBD-492F-AE99-1CDE64194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3960" y="1317600"/>
            <a:ext cx="783900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ffff66"/>
                </a:solidFill>
                <a:uFillTx/>
                <a:latin typeface="TimesNewRoman"/>
              </a:rPr>
              <a:t>OPCM 3431</a:t>
            </a:r>
            <a:r>
              <a:rPr b="0" i="1" lang="it-IT" sz="2600" spc="-1" strike="noStrike">
                <a:solidFill>
                  <a:srgbClr val="ffff66"/>
                </a:solidFill>
                <a:latin typeface="Times New Roman"/>
              </a:rPr>
              <a:t> -  11.3.3 Modelli di capacità per il rinforzo</a:t>
            </a:r>
            <a:endParaRPr b="0" lang="en-US" sz="2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NewRoman"/>
              </a:rPr>
              <a:t>11.3.3.1 </a:t>
            </a:r>
            <a:r>
              <a:rPr b="1" lang="it-IT" sz="2400" spc="-1" strike="noStrike" u="sng">
                <a:solidFill>
                  <a:srgbClr val="ff9900"/>
                </a:solidFill>
                <a:uFillTx/>
                <a:latin typeface="TimesNewRoman"/>
              </a:rPr>
              <a:t>Incamiciatura in c.a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NewRoman"/>
              </a:rPr>
              <a:t>Camicie in c.a. possono essere applicate a pilastri o pareti per conseguire tutti o alcuni dei seguenti obiettivi: aumento della capacità portante verticale;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NewRoman"/>
              </a:rPr>
              <a:t>aumento della resistenza a flessione e/o taglio;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NewRoman"/>
              </a:rPr>
              <a:t>aumento della capacità deformativa;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NewRoman"/>
              </a:rPr>
              <a:t>miglioramento dell’efficienza delle giunzioni per sovrapposizion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1400" y="401760"/>
            <a:ext cx="7772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VENTI SUGLI EDIFICI ESISTENT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834-447C-4F25-9586-0FF1A24C99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9040" y="555480"/>
            <a:ext cx="82044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NewRoman"/>
              </a:rPr>
              <a:t>11.3.3.2 </a:t>
            </a:r>
            <a:r>
              <a:rPr b="1" lang="it-IT" sz="2000" spc="-1" strike="noStrike" u="sng">
                <a:solidFill>
                  <a:srgbClr val="ff9900"/>
                </a:solidFill>
                <a:uFillTx/>
                <a:latin typeface="TimesNewRoman"/>
              </a:rPr>
              <a:t>Incamiciatura in accia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NewRoman"/>
              </a:rPr>
              <a:t>Camicie in acciaio possono essere applicate principalmente a pilastri o pareti per conseguire tutti o alcuni dei seguenti obiettivi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NewRoman"/>
              </a:rPr>
              <a:t>aumento della resistenza a taglio;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NewRoman"/>
              </a:rPr>
              <a:t>aumento della capacità deformativa;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NewRoman"/>
              </a:rPr>
              <a:t>miglioramento dell’efficienza delle giunzioni per sovrapposizione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NewRoman"/>
              </a:rPr>
              <a:t>aumento della capacità portante verticale (effetto del confinamento, espressione (11.9))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NewRoman"/>
              </a:rPr>
              <a:t>Le camicie in acciaio applicate a pilastri rettangolari sono generalmente costituite da quattro profili angolari sui quali vengono saldate piastre continue in acciaio o bande di dimensioni ed interasse adeguati, oppure vengono avvolti nastri in acciaio opportunamente dimensionati. I profili angolari possono essere fissati con resine epossidiche o semplicemente resi aderenti al calcestruzzo esistente. Le bande possono essere preriscaldate prima della saldatura e i nastri presollecitati, in modo da fornire successivamente una pressione di confinamento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7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ALISI DI EDIFICI ESISTENT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101-B7F9-4B49-923E-36344C8D2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1857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ALISI DI EDIFICI ESISTENT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444600" y="1015920"/>
            <a:ext cx="8191440" cy="72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NewRoman"/>
              </a:rPr>
              <a:t>11.3.3.3 -  </a:t>
            </a:r>
            <a:r>
              <a:rPr b="1" lang="en-US" sz="2400" spc="-1" strike="noStrike">
                <a:solidFill>
                  <a:srgbClr val="ff9900"/>
                </a:solidFill>
                <a:latin typeface="TimesNewRoman"/>
              </a:rPr>
              <a:t>Placcatura e fasciatura in materiali fibrorinforzati (FRP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NewRoman"/>
              </a:rPr>
              <a:t>L’uso del FRP nel rinforzo sismico di elementi in c.a. è finalizzato agli obiettivi seguent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NewRoman"/>
              </a:rPr>
              <a:t>aumento della resistenza a taglio di pilastri e pareti mediante applicazione di fasce di FRP con le fibre disposte secondo la direzione delle staffe;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NewRoman"/>
              </a:rPr>
              <a:t>aumento della duttilità e/o della resistenza nelle parti terminali di travi e pilastri mediante fasciatura con FRP con fibre continue disposte lungo il perimetro;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NewRoman"/>
              </a:rPr>
              <a:t>miglioramento dell’efficienza delle giunzioni per sovrapposizione, sempre mediante fasciatura con FRP con fibre continue disposte lungo il perimetro. CNR-DT 200/04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02E-CFCE-430A-9960-134A43C395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0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ifica della risposta locale – incamiciatura in c.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0400" y="907920"/>
            <a:ext cx="7581960" cy="5621400"/>
            <a:chOff x="590400" y="907920"/>
            <a:chExt cx="7581960" cy="56214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90400" y="907920"/>
              <a:ext cx="5484960" cy="21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3406680" y="3365640"/>
              <a:ext cx="4765680" cy="31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E14-255E-4D82-B4CE-F37CA1179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perretti.a</dc:creator>
  <dc:description/>
  <dc:language>en-US</dc:language>
  <cp:lastModifiedBy>Aurelio Ghersi</cp:lastModifiedBy>
  <dcterms:modified xsi:type="dcterms:W3CDTF">2007-06-05T11:53:41Z</dcterms:modified>
  <cp:revision>462</cp:revision>
  <dc:subject/>
  <dc:title>Corso d’aggiornamento sulle tecniche per il progetto e l’adeguamento sismico</dc:title>
</cp:coreProperties>
</file>