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093-FB25-45F4-AE24-7F307630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CAC-B312-45A0-AF81-6B1E82B5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3BB-0154-4846-934D-58F360C8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DB5-4C44-41A1-8A23-22B5E69A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33C-4AD8-4666-A9BB-D1A20AC7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6A7-04B7-4763-A28C-5F262E20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97A-D30A-4DA7-AACA-7601C2E5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E34-CF20-4E02-96A6-18D24D04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4FE-111F-42BD-B521-83FCC36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5F1-ED26-4096-A675-3256E310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2D6-1C15-4FFB-93B6-617BAAF0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191-1D17-4D81-8FB9-E22B73F1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EF5B-261E-4922-8036-475C76FD0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DENT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-1293" b="0"/>
          <a:stretch/>
        </p:blipFill>
        <p:spPr>
          <a:xfrm>
            <a:off x="1403280" y="1484280"/>
            <a:ext cx="62038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-585" b="0"/>
          <a:stretch/>
        </p:blipFill>
        <p:spPr>
          <a:xfrm>
            <a:off x="179280" y="831960"/>
            <a:ext cx="4300560" cy="6026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-585" b="0"/>
          <a:stretch/>
        </p:blipFill>
        <p:spPr>
          <a:xfrm>
            <a:off x="4572000" y="706320"/>
            <a:ext cx="4300560" cy="601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I: DOCUMENTI A DISPOSIZIONE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I: DOCUMENTI A DISPOSIZIONE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0" r="-585" b="0"/>
          <a:stretch/>
        </p:blipFill>
        <p:spPr>
          <a:xfrm>
            <a:off x="100080" y="716040"/>
            <a:ext cx="4300560" cy="5999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-2206" r="-568" b="0"/>
          <a:stretch/>
        </p:blipFill>
        <p:spPr>
          <a:xfrm>
            <a:off x="4500720" y="701640"/>
            <a:ext cx="440532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II: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PETTO GENE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-585" b="0"/>
          <a:stretch/>
        </p:blipFill>
        <p:spPr>
          <a:xfrm>
            <a:off x="179280" y="843120"/>
            <a:ext cx="4314960" cy="6014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-568" b="0"/>
          <a:stretch/>
        </p:blipFill>
        <p:spPr>
          <a:xfrm>
            <a:off x="4572000" y="720720"/>
            <a:ext cx="44053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V: DOCUMENTI A DISPOSIZIONE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-585" b="0"/>
          <a:stretch/>
        </p:blipFill>
        <p:spPr>
          <a:xfrm>
            <a:off x="250920" y="836640"/>
            <a:ext cx="4314600" cy="563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-584" b="-2099"/>
          <a:stretch/>
        </p:blipFill>
        <p:spPr>
          <a:xfrm>
            <a:off x="4643280" y="765000"/>
            <a:ext cx="431496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-584" b="0"/>
          <a:stretch/>
        </p:blipFill>
        <p:spPr>
          <a:xfrm>
            <a:off x="236520" y="692280"/>
            <a:ext cx="4314960" cy="5987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-584" b="0"/>
          <a:stretch/>
        </p:blipFill>
        <p:spPr>
          <a:xfrm>
            <a:off x="4657680" y="679320"/>
            <a:ext cx="4314960" cy="5753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V: DOCUMENTI A DISPOSIZIONE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744480"/>
            <a:ext cx="4289400" cy="6027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-585" b="0"/>
          <a:stretch/>
        </p:blipFill>
        <p:spPr>
          <a:xfrm>
            <a:off x="4672080" y="787320"/>
            <a:ext cx="4300560" cy="601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1904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V: ESAME DELLA STRUTTURA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-585" b="0"/>
          <a:stretch/>
        </p:blipFill>
        <p:spPr>
          <a:xfrm>
            <a:off x="250920" y="922320"/>
            <a:ext cx="4289400" cy="538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-585" b="0"/>
          <a:stretch/>
        </p:blipFill>
        <p:spPr>
          <a:xfrm>
            <a:off x="4586400" y="907920"/>
            <a:ext cx="4300560" cy="5529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1904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V: ESAME DELLA STRUTTURA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-583" b="0"/>
          <a:stretch/>
        </p:blipFill>
        <p:spPr>
          <a:xfrm>
            <a:off x="250920" y="792000"/>
            <a:ext cx="4289400" cy="5950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-583" b="0"/>
          <a:stretch/>
        </p:blipFill>
        <p:spPr>
          <a:xfrm>
            <a:off x="4643280" y="784080"/>
            <a:ext cx="4297680" cy="5972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1904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I: DEGRADO E DISSE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6:48:56Z</dcterms:created>
  <dc:creator>Fabbrizio</dc:creator>
  <dc:description/>
  <dc:language>en-US</dc:language>
  <cp:lastModifiedBy>Administrator</cp:lastModifiedBy>
  <dcterms:modified xsi:type="dcterms:W3CDTF">2007-05-08T13:04:55Z</dcterms:modified>
  <cp:revision>58</cp:revision>
  <dc:subject/>
  <dc:title>Presentazione di PowerPoint</dc:title>
</cp:coreProperties>
</file>