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1D3D-EB33-4239-91DC-B027DEE05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2560" y="50292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E788-6609-4488-80C0-7A2F91392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50292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5D4C-C921-4493-97FF-E793ABF9B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2560" y="50292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B8C9-B25E-4B23-BD0B-CB06F7A64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2560" y="50292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5BB2-3171-4F55-8BFB-819051F09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2560" y="50292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859C-5D9A-49A8-9FE0-9FD00CFD1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2560" y="50292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3869-07EF-4240-A337-8D3B39028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50292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EC56-E8B0-4985-88E1-242B0BDD8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2560" y="502920"/>
            <a:ext cx="7772400" cy="53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3035-3CE6-4B42-B6DC-035B25B61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2560" y="50292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AA83-6922-4896-9789-36EE080F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2560" y="50292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E0DF-12A9-4AF7-9E1E-02645AC3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2560" y="50292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8CA9-C1EE-40DD-8B15-DF06FAFE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2560" y="50292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ffff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ffff66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ffff66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ffff66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66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66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66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66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66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D0673-4928-4A87-BE78-6E3CFA01D7BF}" type="slidenum">
              <a:rPr b="0" lang="it-IT" sz="1400" spc="-1" strike="noStrike">
                <a:solidFill>
                  <a:srgbClr val="ffff66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1080" y="1437840"/>
            <a:ext cx="8040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Verifica di edifici esistenti mediante il metodo statico non lineare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2" name=""/>
          <p:cNvSpPr/>
          <p:nvPr/>
        </p:nvSpPr>
        <p:spPr>
          <a:xfrm>
            <a:off x="1511280" y="4857840"/>
            <a:ext cx="61182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Catania, 5 giugno 2007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Edoardo M. Marino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2560" y="-36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METODO N2: analisi del sistema MDOF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3" name=""/>
          <p:cNvSpPr/>
          <p:nvPr/>
        </p:nvSpPr>
        <p:spPr>
          <a:xfrm>
            <a:off x="95400" y="1430280"/>
            <a:ext cx="2541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99"/>
                </a:solidFill>
                <a:latin typeface="Comic Sans MS"/>
              </a:rPr>
              <a:t>Sistema MDOF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465120" y="1911240"/>
            <a:ext cx="1766880" cy="2013120"/>
            <a:chOff x="465120" y="1911240"/>
            <a:chExt cx="1766880" cy="2013120"/>
          </a:xfrm>
        </p:grpSpPr>
        <p:sp>
          <p:nvSpPr>
            <p:cNvPr id="395" name=""/>
            <p:cNvSpPr/>
            <p:nvPr/>
          </p:nvSpPr>
          <p:spPr>
            <a:xfrm flipH="1">
              <a:off x="1128600" y="3389400"/>
              <a:ext cx="698400" cy="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96320" y="2374920"/>
              <a:ext cx="192600" cy="582480"/>
              <a:chOff x="796320" y="2374920"/>
              <a:chExt cx="192600" cy="582480"/>
            </a:xfrm>
          </p:grpSpPr>
          <p:grpSp>
            <p:nvGrpSpPr>
              <p:cNvPr id="397" name=""/>
              <p:cNvGrpSpPr/>
              <p:nvPr/>
            </p:nvGrpSpPr>
            <p:grpSpPr>
              <a:xfrm>
                <a:off x="796320" y="2374920"/>
                <a:ext cx="192600" cy="66600"/>
                <a:chOff x="796320" y="2374920"/>
                <a:chExt cx="192600" cy="66600"/>
              </a:xfrm>
            </p:grpSpPr>
            <p:sp>
              <p:nvSpPr>
                <p:cNvPr id="398" name=""/>
                <p:cNvSpPr/>
                <p:nvPr/>
              </p:nvSpPr>
              <p:spPr>
                <a:xfrm flipH="1">
                  <a:off x="796320" y="2406960"/>
                  <a:ext cx="150840" cy="720"/>
                </a:xfrm>
                <a:prstGeom prst="line">
                  <a:avLst/>
                </a:prstGeom>
                <a:ln w="90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924480" y="2374920"/>
                  <a:ext cx="64440" cy="66600"/>
                </a:xfrm>
                <a:custGeom>
                  <a:avLst/>
                  <a:gdLst/>
                  <a:ahLst/>
                  <a:rect l="l" t="t" r="r" b="b"/>
                  <a:pathLst>
                    <a:path w="100" h="101">
                      <a:moveTo>
                        <a:pt x="0" y="101"/>
                      </a:moveTo>
                      <a:lnTo>
                        <a:pt x="100" y="49"/>
                      </a:lnTo>
                      <a:lnTo>
                        <a:pt x="0" y="0"/>
                      </a:lnTo>
                      <a:lnTo>
                        <a:pt x="31" y="49"/>
                      </a:lnTo>
                      <a:lnTo>
                        <a:pt x="0" y="101"/>
                      </a:lnTo>
                      <a:close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ffff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855360" y="2647800"/>
                <a:ext cx="133560" cy="65160"/>
                <a:chOff x="855360" y="2647800"/>
                <a:chExt cx="133560" cy="65160"/>
              </a:xfrm>
            </p:grpSpPr>
            <p:sp>
              <p:nvSpPr>
                <p:cNvPr id="401" name=""/>
                <p:cNvSpPr/>
                <p:nvPr/>
              </p:nvSpPr>
              <p:spPr>
                <a:xfrm flipH="1">
                  <a:off x="855360" y="2679480"/>
                  <a:ext cx="92160" cy="360"/>
                </a:xfrm>
                <a:prstGeom prst="line">
                  <a:avLst/>
                </a:prstGeom>
                <a:ln w="90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924120" y="2647800"/>
                  <a:ext cx="64800" cy="65160"/>
                </a:xfrm>
                <a:custGeom>
                  <a:avLst/>
                  <a:gdLst/>
                  <a:ahLst/>
                  <a:rect l="l" t="t" r="r" b="b"/>
                  <a:pathLst>
                    <a:path w="100" h="101">
                      <a:moveTo>
                        <a:pt x="0" y="101"/>
                      </a:moveTo>
                      <a:lnTo>
                        <a:pt x="100" y="49"/>
                      </a:lnTo>
                      <a:lnTo>
                        <a:pt x="0" y="0"/>
                      </a:lnTo>
                      <a:lnTo>
                        <a:pt x="31" y="49"/>
                      </a:lnTo>
                      <a:lnTo>
                        <a:pt x="0" y="101"/>
                      </a:lnTo>
                      <a:close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ffff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" name=""/>
              <p:cNvGrpSpPr/>
              <p:nvPr/>
            </p:nvGrpSpPr>
            <p:grpSpPr>
              <a:xfrm>
                <a:off x="920160" y="2894040"/>
                <a:ext cx="68760" cy="63360"/>
                <a:chOff x="920160" y="2894040"/>
                <a:chExt cx="68760" cy="63360"/>
              </a:xfrm>
            </p:grpSpPr>
            <p:sp>
              <p:nvSpPr>
                <p:cNvPr id="404" name=""/>
                <p:cNvSpPr/>
                <p:nvPr/>
              </p:nvSpPr>
              <p:spPr>
                <a:xfrm flipH="1">
                  <a:off x="920160" y="2924640"/>
                  <a:ext cx="26280" cy="360"/>
                </a:xfrm>
                <a:prstGeom prst="line">
                  <a:avLst/>
                </a:prstGeom>
                <a:ln w="90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923040" y="2894040"/>
                  <a:ext cx="65880" cy="63360"/>
                </a:xfrm>
                <a:custGeom>
                  <a:avLst/>
                  <a:gdLst/>
                  <a:ahLst/>
                  <a:rect l="l" t="t" r="r" b="b"/>
                  <a:pathLst>
                    <a:path w="100" h="101">
                      <a:moveTo>
                        <a:pt x="0" y="101"/>
                      </a:moveTo>
                      <a:lnTo>
                        <a:pt x="100" y="49"/>
                      </a:lnTo>
                      <a:lnTo>
                        <a:pt x="0" y="0"/>
                      </a:lnTo>
                      <a:lnTo>
                        <a:pt x="31" y="49"/>
                      </a:lnTo>
                      <a:lnTo>
                        <a:pt x="0" y="101"/>
                      </a:lnTo>
                      <a:close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ffff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06" name=""/>
            <p:cNvSpPr/>
            <p:nvPr/>
          </p:nvSpPr>
          <p:spPr>
            <a:xfrm>
              <a:off x="877680" y="3224160"/>
              <a:ext cx="1300320" cy="172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1027080" y="2406240"/>
              <a:ext cx="0" cy="817560"/>
            </a:xfrm>
            <a:prstGeom prst="line">
              <a:avLst/>
            </a:prstGeom>
            <a:ln w="3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22400" y="2408040"/>
              <a:ext cx="963360" cy="0"/>
            </a:xfrm>
            <a:prstGeom prst="line">
              <a:avLst/>
            </a:prstGeom>
            <a:ln w="3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027080" y="2673360"/>
              <a:ext cx="933480" cy="0"/>
            </a:xfrm>
            <a:prstGeom prst="line">
              <a:avLst/>
            </a:prstGeom>
            <a:ln w="3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027080" y="2940120"/>
              <a:ext cx="954000" cy="0"/>
            </a:xfrm>
            <a:prstGeom prst="line">
              <a:avLst/>
            </a:prstGeom>
            <a:ln w="3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1501560" y="2423880"/>
              <a:ext cx="0" cy="79848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1976400" y="2398320"/>
              <a:ext cx="0" cy="839880"/>
            </a:xfrm>
            <a:prstGeom prst="line">
              <a:avLst/>
            </a:prstGeom>
            <a:ln w="3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1974600" y="2225160"/>
              <a:ext cx="0" cy="65160"/>
            </a:xfrm>
            <a:prstGeom prst="line">
              <a:avLst/>
            </a:prstGeom>
            <a:ln w="64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2103480" y="2225160"/>
              <a:ext cx="0" cy="65160"/>
            </a:xfrm>
            <a:prstGeom prst="line">
              <a:avLst/>
            </a:prstGeom>
            <a:ln w="64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928880" y="2259000"/>
              <a:ext cx="236520" cy="0"/>
            </a:xfrm>
            <a:prstGeom prst="line">
              <a:avLst/>
            </a:prstGeom>
            <a:ln w="64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420560" y="2352600"/>
              <a:ext cx="158760" cy="125280"/>
            </a:xfrm>
            <a:prstGeom prst="flowChartConnector">
              <a:avLst/>
            </a:prstGeom>
            <a:solidFill>
              <a:srgbClr val="ffff66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sp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420560" y="2600280"/>
              <a:ext cx="158760" cy="123840"/>
            </a:xfrm>
            <a:prstGeom prst="flowChartConnector">
              <a:avLst/>
            </a:prstGeom>
            <a:solidFill>
              <a:srgbClr val="ffff66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sp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420560" y="2882880"/>
              <a:ext cx="158760" cy="125280"/>
            </a:xfrm>
            <a:prstGeom prst="flowChartConnector">
              <a:avLst/>
            </a:prstGeom>
            <a:solidFill>
              <a:srgbClr val="ffff66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sp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9" name=""/>
                <p:cNvSpPr txBox="1"/>
                <p:nvPr/>
              </p:nvSpPr>
              <p:spPr>
                <a:xfrm>
                  <a:off x="465120" y="1979640"/>
                  <a:ext cx="842760" cy="38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≈</m:t>
                      </m:r>
                      <m:sSub>
                        <m:e>
                          <m:r>
                            <m:t xml:space="preserve">φ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0" name=""/>
                <p:cNvSpPr txBox="1"/>
                <p:nvPr/>
              </p:nvSpPr>
              <p:spPr>
                <a:xfrm>
                  <a:off x="815760" y="3468600"/>
                  <a:ext cx="1231920" cy="45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=</m:t>
                      </m:r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1" name=""/>
                <p:cNvSpPr txBox="1"/>
                <p:nvPr/>
              </p:nvSpPr>
              <p:spPr>
                <a:xfrm>
                  <a:off x="1912680" y="1911240"/>
                  <a:ext cx="319320" cy="409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22" name=""/>
          <p:cNvSpPr/>
          <p:nvPr/>
        </p:nvSpPr>
        <p:spPr>
          <a:xfrm rot="19080600">
            <a:off x="2638440" y="3757320"/>
            <a:ext cx="334800" cy="842760"/>
          </a:xfrm>
          <a:prstGeom prst="downArrow">
            <a:avLst>
              <a:gd name="adj1" fmla="val 50000"/>
              <a:gd name="adj2" fmla="val 62930"/>
            </a:avLst>
          </a:prstGeom>
          <a:solidFill>
            <a:srgbClr val="ffcc66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09760" y="4221000"/>
            <a:ext cx="217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Analisi statica incrementale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2643120" y="4667400"/>
            <a:ext cx="3122640" cy="2038320"/>
            <a:chOff x="2643120" y="4667400"/>
            <a:chExt cx="3122640" cy="2038320"/>
          </a:xfrm>
        </p:grpSpPr>
        <p:grpSp>
          <p:nvGrpSpPr>
            <p:cNvPr id="425" name=""/>
            <p:cNvGrpSpPr/>
            <p:nvPr/>
          </p:nvGrpSpPr>
          <p:grpSpPr>
            <a:xfrm>
              <a:off x="3552840" y="4827600"/>
              <a:ext cx="1438200" cy="1084320"/>
              <a:chOff x="3552840" y="4827600"/>
              <a:chExt cx="1438200" cy="1084320"/>
            </a:xfrm>
          </p:grpSpPr>
          <p:sp>
            <p:nvSpPr>
              <p:cNvPr id="426" name=""/>
              <p:cNvSpPr/>
              <p:nvPr/>
            </p:nvSpPr>
            <p:spPr>
              <a:xfrm flipV="1">
                <a:off x="3596760" y="4827600"/>
                <a:ext cx="0" cy="108432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552840" y="5832360"/>
                <a:ext cx="1438200" cy="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596760" y="5059440"/>
                <a:ext cx="1201680" cy="772920"/>
              </a:xfrm>
              <a:custGeom>
                <a:avLst/>
                <a:gdLst/>
                <a:ahLst/>
                <a:rect l="l" t="t" r="r" b="b"/>
                <a:pathLst>
                  <a:path w="2008" h="812">
                    <a:moveTo>
                      <a:pt x="0" y="812"/>
                    </a:moveTo>
                    <a:cubicBezTo>
                      <a:pt x="53" y="663"/>
                      <a:pt x="106" y="515"/>
                      <a:pt x="168" y="416"/>
                    </a:cubicBezTo>
                    <a:cubicBezTo>
                      <a:pt x="230" y="317"/>
                      <a:pt x="268" y="269"/>
                      <a:pt x="372" y="216"/>
                    </a:cubicBezTo>
                    <a:cubicBezTo>
                      <a:pt x="476" y="163"/>
                      <a:pt x="597" y="131"/>
                      <a:pt x="792" y="100"/>
                    </a:cubicBezTo>
                    <a:cubicBezTo>
                      <a:pt x="987" y="69"/>
                      <a:pt x="1337" y="45"/>
                      <a:pt x="1540" y="28"/>
                    </a:cubicBezTo>
                    <a:cubicBezTo>
                      <a:pt x="1743" y="11"/>
                      <a:pt x="1855" y="7"/>
                      <a:pt x="2008" y="0"/>
                    </a:cubicBezTo>
                  </a:path>
                </a:pathLst>
              </a:custGeom>
              <a:noFill/>
              <a:ln w="28440">
                <a:solidFill>
                  <a:srgbClr val="ffff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29" name=""/>
                <p:cNvSpPr txBox="1"/>
                <p:nvPr/>
              </p:nvSpPr>
              <p:spPr>
                <a:xfrm>
                  <a:off x="4595760" y="5856120"/>
                  <a:ext cx="319320" cy="409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0" name=""/>
                <p:cNvSpPr txBox="1"/>
                <p:nvPr/>
              </p:nvSpPr>
              <p:spPr>
                <a:xfrm>
                  <a:off x="3233880" y="4667400"/>
                  <a:ext cx="298440" cy="38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431" name=""/>
            <p:cNvSpPr/>
            <p:nvPr/>
          </p:nvSpPr>
          <p:spPr>
            <a:xfrm>
              <a:off x="2643120" y="6208560"/>
              <a:ext cx="312264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99"/>
                  </a:solidFill>
                  <a:latin typeface="Comic Sans MS"/>
                </a:rPr>
                <a:t>Curva di prestazione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432" name=""/>
          <p:cNvSpPr/>
          <p:nvPr/>
        </p:nvSpPr>
        <p:spPr>
          <a:xfrm rot="13680600">
            <a:off x="5525640" y="3787200"/>
            <a:ext cx="335160" cy="842760"/>
          </a:xfrm>
          <a:prstGeom prst="downArrow">
            <a:avLst>
              <a:gd name="adj1" fmla="val 50000"/>
              <a:gd name="adj2" fmla="val 62863"/>
            </a:avLst>
          </a:prstGeom>
          <a:solidFill>
            <a:srgbClr val="ffcc66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576760" y="4206960"/>
            <a:ext cx="217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Condizioni di equivalenza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5611680" y="1430280"/>
            <a:ext cx="3119400" cy="2233440"/>
            <a:chOff x="5611680" y="1430280"/>
            <a:chExt cx="3119400" cy="2233440"/>
          </a:xfrm>
        </p:grpSpPr>
        <p:grpSp>
          <p:nvGrpSpPr>
            <p:cNvPr id="435" name=""/>
            <p:cNvGrpSpPr/>
            <p:nvPr/>
          </p:nvGrpSpPr>
          <p:grpSpPr>
            <a:xfrm>
              <a:off x="6149880" y="2065320"/>
              <a:ext cx="1757520" cy="1598400"/>
              <a:chOff x="6149880" y="2065320"/>
              <a:chExt cx="1757520" cy="1598400"/>
            </a:xfrm>
          </p:grpSpPr>
          <p:sp>
            <p:nvSpPr>
              <p:cNvPr id="436" name=""/>
              <p:cNvSpPr/>
              <p:nvPr/>
            </p:nvSpPr>
            <p:spPr>
              <a:xfrm flipV="1">
                <a:off x="6513480" y="2225520"/>
                <a:ext cx="0" cy="108432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468840" y="3230280"/>
                <a:ext cx="1438560" cy="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513480" y="2457360"/>
                <a:ext cx="1201680" cy="772920"/>
              </a:xfrm>
              <a:custGeom>
                <a:avLst/>
                <a:gdLst/>
                <a:ahLst/>
                <a:rect l="l" t="t" r="r" b="b"/>
                <a:pathLst>
                  <a:path w="2008" h="812">
                    <a:moveTo>
                      <a:pt x="0" y="812"/>
                    </a:moveTo>
                    <a:cubicBezTo>
                      <a:pt x="53" y="663"/>
                      <a:pt x="106" y="515"/>
                      <a:pt x="168" y="416"/>
                    </a:cubicBezTo>
                    <a:cubicBezTo>
                      <a:pt x="230" y="317"/>
                      <a:pt x="268" y="269"/>
                      <a:pt x="372" y="216"/>
                    </a:cubicBezTo>
                    <a:cubicBezTo>
                      <a:pt x="476" y="163"/>
                      <a:pt x="597" y="131"/>
                      <a:pt x="792" y="100"/>
                    </a:cubicBezTo>
                    <a:cubicBezTo>
                      <a:pt x="987" y="69"/>
                      <a:pt x="1337" y="45"/>
                      <a:pt x="1540" y="28"/>
                    </a:cubicBezTo>
                    <a:cubicBezTo>
                      <a:pt x="1743" y="11"/>
                      <a:pt x="1855" y="7"/>
                      <a:pt x="2008" y="0"/>
                    </a:cubicBezTo>
                  </a:path>
                </a:pathLst>
              </a:custGeom>
              <a:noFill/>
              <a:ln w="28440">
                <a:solidFill>
                  <a:srgbClr val="ffff66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39" name=""/>
                  <p:cNvSpPr txBox="1"/>
                  <p:nvPr/>
                </p:nvSpPr>
                <p:spPr>
                  <a:xfrm>
                    <a:off x="7512120" y="3254400"/>
                    <a:ext cx="317520" cy="409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40" name=""/>
                  <p:cNvSpPr txBox="1"/>
                  <p:nvPr/>
                </p:nvSpPr>
                <p:spPr>
                  <a:xfrm>
                    <a:off x="6149880" y="2065320"/>
                    <a:ext cx="297000" cy="388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41" name=""/>
              <p:cNvSpPr/>
              <p:nvPr/>
            </p:nvSpPr>
            <p:spPr>
              <a:xfrm flipV="1">
                <a:off x="6516720" y="2499840"/>
                <a:ext cx="304560" cy="7254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821280" y="2500200"/>
                <a:ext cx="870120" cy="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sp>
          <p:nvSpPr>
            <p:cNvPr id="443" name=""/>
            <p:cNvSpPr/>
            <p:nvPr/>
          </p:nvSpPr>
          <p:spPr>
            <a:xfrm>
              <a:off x="5611680" y="1430280"/>
              <a:ext cx="3119400" cy="4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99"/>
                  </a:solidFill>
                  <a:latin typeface="Comic Sans MS"/>
                </a:rPr>
                <a:t>Legame bilineare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61800" y="-360"/>
            <a:ext cx="83901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Comic Sans MS"/>
              </a:rPr>
              <a:t>METODO N2: sistema SDOF equivalente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419040" y="825480"/>
            <a:ext cx="1684440" cy="2071440"/>
            <a:chOff x="419040" y="825480"/>
            <a:chExt cx="1684440" cy="2071440"/>
          </a:xfrm>
        </p:grpSpPr>
        <mc:AlternateContent>
          <mc:Choice xmlns:a14="http://schemas.microsoft.com/office/drawing/2010/main" Requires="a14">
            <p:sp>
              <p:nvSpPr>
                <p:cNvPr id="446" name=""/>
                <p:cNvSpPr txBox="1"/>
                <p:nvPr/>
              </p:nvSpPr>
              <p:spPr>
                <a:xfrm>
                  <a:off x="534960" y="1947600"/>
                  <a:ext cx="1359000" cy="94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m</m:t>
                          </m:r>
                        </m:e>
                        <m:sup/>
                      </m:sSup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φ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sSub>
                            <m:e>
                              <m:r>
                                <m:t xml:space="preserve">φ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47" name=""/>
            <p:cNvSpPr/>
            <p:nvPr/>
          </p:nvSpPr>
          <p:spPr>
            <a:xfrm>
              <a:off x="419040" y="825480"/>
              <a:ext cx="1684440" cy="4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99"/>
                  </a:solidFill>
                  <a:latin typeface="Comic Sans MS"/>
                </a:rPr>
                <a:t>Massa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311040" y="3859200"/>
            <a:ext cx="8550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99"/>
                </a:solidFill>
                <a:latin typeface="Comic Sans MS"/>
              </a:rPr>
              <a:t>Valutazione dello spostamento richiesto del SDOF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962000" y="5421240"/>
            <a:ext cx="0" cy="78588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130320" y="4443480"/>
            <a:ext cx="3590640" cy="2106720"/>
            <a:chOff x="130320" y="4443480"/>
            <a:chExt cx="3590640" cy="2106720"/>
          </a:xfrm>
        </p:grpSpPr>
        <p:sp>
          <p:nvSpPr>
            <p:cNvPr id="451" name=""/>
            <p:cNvSpPr/>
            <p:nvPr/>
          </p:nvSpPr>
          <p:spPr>
            <a:xfrm>
              <a:off x="614520" y="4716360"/>
              <a:ext cx="1440" cy="1498680"/>
            </a:xfrm>
            <a:prstGeom prst="line">
              <a:avLst/>
            </a:prstGeom>
            <a:ln w="14400">
              <a:solidFill>
                <a:srgbClr val="ffff66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14520" y="6215040"/>
              <a:ext cx="3000240" cy="0"/>
            </a:xfrm>
            <a:prstGeom prst="line">
              <a:avLst/>
            </a:prstGeom>
            <a:ln w="14400">
              <a:solidFill>
                <a:srgbClr val="ffff66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614520" y="5229000"/>
              <a:ext cx="10800" cy="422280"/>
            </a:xfrm>
            <a:prstGeom prst="line">
              <a:avLst/>
            </a:prstGeom>
            <a:ln w="64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625320" y="4811760"/>
              <a:ext cx="36720" cy="417600"/>
            </a:xfrm>
            <a:prstGeom prst="line">
              <a:avLst/>
            </a:prstGeom>
            <a:ln w="64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62040" y="4811760"/>
              <a:ext cx="144360" cy="0"/>
            </a:xfrm>
            <a:prstGeom prst="line">
              <a:avLst/>
            </a:prstGeom>
            <a:ln w="64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06400" y="4811760"/>
              <a:ext cx="243000" cy="0"/>
            </a:xfrm>
            <a:prstGeom prst="line">
              <a:avLst/>
            </a:prstGeom>
            <a:ln w="64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049400" y="4811760"/>
              <a:ext cx="331560" cy="0"/>
            </a:xfrm>
            <a:prstGeom prst="line">
              <a:avLst/>
            </a:prstGeom>
            <a:ln w="64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380960" y="4811760"/>
              <a:ext cx="96840" cy="154080"/>
            </a:xfrm>
            <a:prstGeom prst="line">
              <a:avLst/>
            </a:prstGeom>
            <a:ln w="64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477800" y="4965840"/>
              <a:ext cx="98640" cy="123840"/>
            </a:xfrm>
            <a:prstGeom prst="line">
              <a:avLst/>
            </a:prstGeom>
            <a:ln w="64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576440" y="5089680"/>
              <a:ext cx="287280" cy="261720"/>
            </a:xfrm>
            <a:prstGeom prst="line">
              <a:avLst/>
            </a:prstGeom>
            <a:ln w="64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863720" y="5351400"/>
              <a:ext cx="190440" cy="112680"/>
            </a:xfrm>
            <a:prstGeom prst="line">
              <a:avLst/>
            </a:prstGeom>
            <a:ln w="64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054160" y="5464080"/>
              <a:ext cx="287280" cy="127080"/>
            </a:xfrm>
            <a:prstGeom prst="line">
              <a:avLst/>
            </a:prstGeom>
            <a:ln w="64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341440" y="5591160"/>
              <a:ext cx="192240" cy="60480"/>
            </a:xfrm>
            <a:prstGeom prst="line">
              <a:avLst/>
            </a:prstGeom>
            <a:ln w="64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533680" y="5651640"/>
              <a:ext cx="287280" cy="75960"/>
            </a:xfrm>
            <a:prstGeom prst="line">
              <a:avLst/>
            </a:prstGeom>
            <a:ln w="64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820960" y="5727600"/>
              <a:ext cx="195120" cy="38160"/>
            </a:xfrm>
            <a:prstGeom prst="line">
              <a:avLst/>
            </a:prstGeom>
            <a:ln w="64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016080" y="5765760"/>
              <a:ext cx="284400" cy="49320"/>
            </a:xfrm>
            <a:prstGeom prst="line">
              <a:avLst/>
            </a:prstGeom>
            <a:ln w="64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300480" y="5815080"/>
              <a:ext cx="195120" cy="25200"/>
            </a:xfrm>
            <a:prstGeom prst="line">
              <a:avLst/>
            </a:prstGeom>
            <a:ln w="64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614520" y="5308200"/>
              <a:ext cx="14040" cy="34308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614520" y="5406840"/>
              <a:ext cx="17280" cy="244440"/>
            </a:xfrm>
            <a:prstGeom prst="line">
              <a:avLst/>
            </a:prstGeom>
            <a:ln w="0">
              <a:solidFill>
                <a:srgbClr val="ffff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0" name=""/>
                <p:cNvSpPr txBox="1"/>
                <p:nvPr/>
              </p:nvSpPr>
              <p:spPr>
                <a:xfrm>
                  <a:off x="130320" y="4645080"/>
                  <a:ext cx="433080" cy="38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e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1" name=""/>
                <p:cNvSpPr txBox="1"/>
                <p:nvPr/>
              </p:nvSpPr>
              <p:spPr>
                <a:xfrm>
                  <a:off x="3449520" y="6230880"/>
                  <a:ext cx="271440" cy="31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2" name=""/>
                <p:cNvSpPr txBox="1"/>
                <p:nvPr/>
              </p:nvSpPr>
              <p:spPr>
                <a:xfrm>
                  <a:off x="1352520" y="4443480"/>
                  <a:ext cx="273240" cy="409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1820880" y="6232680"/>
                <a:ext cx="3636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T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474" name=""/>
          <p:cNvGrpSpPr/>
          <p:nvPr/>
        </p:nvGrpSpPr>
        <p:grpSpPr>
          <a:xfrm>
            <a:off x="2200320" y="825480"/>
            <a:ext cx="4668840" cy="2966760"/>
            <a:chOff x="2200320" y="825480"/>
            <a:chExt cx="4668840" cy="2966760"/>
          </a:xfrm>
        </p:grpSpPr>
        <mc:AlternateContent>
          <mc:Choice xmlns:a14="http://schemas.microsoft.com/office/drawing/2010/main" Requires="a14">
            <p:sp>
              <p:nvSpPr>
                <p:cNvPr id="475" name=""/>
                <p:cNvSpPr txBox="1"/>
                <p:nvPr/>
              </p:nvSpPr>
              <p:spPr>
                <a:xfrm>
                  <a:off x="2976480" y="2574720"/>
                  <a:ext cx="1224000" cy="12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Γ</m:t>
                      </m:r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φ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sSubSup>
                                <m:e>
                                  <m:r>
                                    <m:t xml:space="preserve">φ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nary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6" name=""/>
                <p:cNvSpPr txBox="1"/>
                <p:nvPr/>
              </p:nvSpPr>
              <p:spPr>
                <a:xfrm>
                  <a:off x="3036960" y="1344600"/>
                  <a:ext cx="101268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F</m:t>
                          </m:r>
                        </m:e>
                        <m:sup/>
                      </m:sSup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Γφ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7" name=""/>
                <p:cNvSpPr txBox="1"/>
                <p:nvPr/>
              </p:nvSpPr>
              <p:spPr>
                <a:xfrm>
                  <a:off x="3075120" y="2028600"/>
                  <a:ext cx="99360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D</m:t>
                          </m:r>
                        </m:e>
                        <m:sup/>
                      </m:sSup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Γφ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78" name=""/>
            <p:cNvSpPr/>
            <p:nvPr/>
          </p:nvSpPr>
          <p:spPr>
            <a:xfrm flipV="1">
              <a:off x="4784760" y="1836360"/>
              <a:ext cx="0" cy="1083960"/>
            </a:xfrm>
            <a:prstGeom prst="line">
              <a:avLst/>
            </a:prstGeom>
            <a:ln w="9360">
              <a:solidFill>
                <a:srgbClr val="ffff66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761000" y="2841480"/>
              <a:ext cx="1444680" cy="14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0" name=""/>
                <p:cNvSpPr txBox="1"/>
                <p:nvPr/>
              </p:nvSpPr>
              <p:spPr>
                <a:xfrm>
                  <a:off x="5986440" y="2890800"/>
                  <a:ext cx="388800" cy="36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D</m:t>
                          </m:r>
                        </m:e>
                        <m:sup/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1" name=""/>
                <p:cNvSpPr txBox="1"/>
                <p:nvPr/>
              </p:nvSpPr>
              <p:spPr>
                <a:xfrm>
                  <a:off x="4411800" y="1652400"/>
                  <a:ext cx="409320" cy="36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F</m:t>
                          </m:r>
                        </m:e>
                        <m:sup/>
                      </m:sSup>
                    </m:oMath>
                  </a14:m>
                </a:p>
              </p:txBody>
            </p:sp>
          </mc:Choice>
          <mc:Fallback/>
        </mc:AlternateContent>
        <p:grpSp>
          <p:nvGrpSpPr>
            <p:cNvPr id="482" name=""/>
            <p:cNvGrpSpPr/>
            <p:nvPr/>
          </p:nvGrpSpPr>
          <p:grpSpPr>
            <a:xfrm>
              <a:off x="4430880" y="1960560"/>
              <a:ext cx="1598400" cy="1312200"/>
              <a:chOff x="4430880" y="1960560"/>
              <a:chExt cx="1598400" cy="1312200"/>
            </a:xfrm>
          </p:grpSpPr>
          <p:grpSp>
            <p:nvGrpSpPr>
              <p:cNvPr id="483" name=""/>
              <p:cNvGrpSpPr/>
              <p:nvPr/>
            </p:nvGrpSpPr>
            <p:grpSpPr>
              <a:xfrm>
                <a:off x="4806720" y="2140200"/>
                <a:ext cx="1221840" cy="695520"/>
                <a:chOff x="4806720" y="2140200"/>
                <a:chExt cx="1221840" cy="695520"/>
              </a:xfrm>
            </p:grpSpPr>
            <p:sp>
              <p:nvSpPr>
                <p:cNvPr id="484" name=""/>
                <p:cNvSpPr/>
                <p:nvPr/>
              </p:nvSpPr>
              <p:spPr>
                <a:xfrm flipV="1">
                  <a:off x="4806720" y="2140200"/>
                  <a:ext cx="265320" cy="695520"/>
                </a:xfrm>
                <a:prstGeom prst="line">
                  <a:avLst/>
                </a:prstGeom>
                <a:ln w="381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5041440" y="2158200"/>
                  <a:ext cx="987120" cy="0"/>
                </a:xfrm>
                <a:prstGeom prst="line">
                  <a:avLst/>
                </a:prstGeom>
                <a:ln w="381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6" name=""/>
              <p:cNvSpPr/>
              <p:nvPr/>
            </p:nvSpPr>
            <p:spPr>
              <a:xfrm>
                <a:off x="5051160" y="2152440"/>
                <a:ext cx="0" cy="682200"/>
              </a:xfrm>
              <a:prstGeom prst="line">
                <a:avLst/>
              </a:prstGeom>
              <a:ln w="9360">
                <a:solidFill>
                  <a:srgbClr val="ffff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029280" y="2160360"/>
                <a:ext cx="0" cy="682200"/>
              </a:xfrm>
              <a:prstGeom prst="line">
                <a:avLst/>
              </a:prstGeom>
              <a:ln w="9360">
                <a:solidFill>
                  <a:srgbClr val="ffff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H="1">
                <a:off x="4830480" y="2147400"/>
                <a:ext cx="257040" cy="0"/>
              </a:xfrm>
              <a:prstGeom prst="line">
                <a:avLst/>
              </a:prstGeom>
              <a:ln w="9360">
                <a:solidFill>
                  <a:srgbClr val="ffff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89" name=""/>
                  <p:cNvSpPr txBox="1"/>
                  <p:nvPr/>
                </p:nvSpPr>
                <p:spPr>
                  <a:xfrm>
                    <a:off x="4430880" y="1960560"/>
                    <a:ext cx="409320" cy="455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  <m:sup/>
                        </m:sSub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90" name=""/>
                  <p:cNvSpPr txBox="1"/>
                  <p:nvPr/>
                </p:nvSpPr>
                <p:spPr>
                  <a:xfrm>
                    <a:off x="4881240" y="2817360"/>
                    <a:ext cx="387000" cy="455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  <m:sup/>
                        </m:sSubSup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491" name=""/>
            <p:cNvSpPr/>
            <p:nvPr/>
          </p:nvSpPr>
          <p:spPr>
            <a:xfrm>
              <a:off x="2200320" y="825480"/>
              <a:ext cx="4668840" cy="4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99"/>
                  </a:solidFill>
                  <a:latin typeface="Comic Sans MS"/>
                </a:rPr>
                <a:t>Legame forza - spostamento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7008840" y="825480"/>
            <a:ext cx="2077920" cy="2130120"/>
            <a:chOff x="7008840" y="825480"/>
            <a:chExt cx="2077920" cy="2130120"/>
          </a:xfrm>
        </p:grpSpPr>
        <mc:AlternateContent>
          <mc:Choice xmlns:a14="http://schemas.microsoft.com/office/drawing/2010/main" Requires="a14">
            <p:sp>
              <p:nvSpPr>
                <p:cNvPr id="493" name=""/>
                <p:cNvSpPr txBox="1"/>
                <p:nvPr/>
              </p:nvSpPr>
              <p:spPr>
                <a:xfrm>
                  <a:off x="7286760" y="2136600"/>
                  <a:ext cx="1608120" cy="81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T</m:t>
                          </m:r>
                        </m:e>
                        <m:sup/>
                      </m:sSup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π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sSup>
                                <m:e>
                                  <m:r>
                                    <m:t xml:space="preserve">m</m:t>
                                  </m:r>
                                </m:e>
                                <m:sup/>
                              </m:sSup>
                              <m:sSubSup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  <m:sup/>
                              </m:sSubSup>
                            </m:num>
                            <m:den>
                              <m:sSubSup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  <m:sup/>
                              </m:sSubSup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494" name=""/>
            <p:cNvSpPr/>
            <p:nvPr/>
          </p:nvSpPr>
          <p:spPr>
            <a:xfrm>
              <a:off x="7008840" y="825480"/>
              <a:ext cx="2077920" cy="4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99"/>
                  </a:solidFill>
                  <a:latin typeface="Comic Sans MS"/>
                </a:rPr>
                <a:t>Periodo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 flipH="1">
            <a:off x="611280" y="5435640"/>
            <a:ext cx="1349280" cy="0"/>
          </a:xfrm>
          <a:prstGeom prst="line">
            <a:avLst/>
          </a:prstGeom>
          <a:ln w="9360">
            <a:solidFill>
              <a:srgbClr val="ffff66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3963960" y="4422600"/>
            <a:ext cx="4998960" cy="2468880"/>
            <a:chOff x="3963960" y="4422600"/>
            <a:chExt cx="4998960" cy="2468880"/>
          </a:xfrm>
        </p:grpSpPr>
        <mc:AlternateContent>
          <mc:Choice xmlns:a14="http://schemas.microsoft.com/office/drawing/2010/main" Requires="a14">
            <p:sp>
              <p:nvSpPr>
                <p:cNvPr id="497" name=""/>
                <p:cNvSpPr txBox="1"/>
                <p:nvPr/>
              </p:nvSpPr>
              <p:spPr>
                <a:xfrm>
                  <a:off x="4030560" y="4422600"/>
                  <a:ext cx="1589040" cy="75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D</m:t>
                          </m:r>
                        </m:e>
                        <m:sup/>
                      </m:sSup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T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4</m:t>
                          </m:r>
                          <m:sSup>
                            <m:e>
                              <m:r>
                                <m:t xml:space="preserve">π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e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8" name=""/>
                <p:cNvSpPr txBox="1"/>
                <p:nvPr/>
              </p:nvSpPr>
              <p:spPr>
                <a:xfrm>
                  <a:off x="3963960" y="5216400"/>
                  <a:ext cx="3770280" cy="84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D</m:t>
                          </m:r>
                        </m:e>
                        <m:sup/>
                      </m:sSup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T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4</m:t>
                          </m:r>
                          <m:sSup>
                            <m:e>
                              <m:r>
                                <m:t xml:space="preserve">π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e</m:t>
                          </m:r>
                        </m:sub>
                      </m:sSub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μ</m:t>
                              </m:r>
                            </m:sub>
                          </m:sSub>
                        </m:den>
                      </m:f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μ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d>
                          <m:f>
                            <m:num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</m:num>
                            <m:den>
                              <m:sSup>
                                <m:e>
                                  <m:r>
                                    <m:t xml:space="preserve">T</m:t>
                                  </m:r>
                                </m:e>
                                <m:sup/>
                              </m:sSup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9" name=""/>
                <p:cNvSpPr txBox="1"/>
                <p:nvPr/>
              </p:nvSpPr>
              <p:spPr>
                <a:xfrm>
                  <a:off x="8045280" y="5423040"/>
                  <a:ext cx="917640" cy="43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T</m:t>
                          </m:r>
                        </m:e>
                        <m:sup/>
                      </m:sSup>
                      <m:r>
                        <m:t xml:space="preserve">&lt;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0" name=""/>
                <p:cNvSpPr txBox="1"/>
                <p:nvPr/>
              </p:nvSpPr>
              <p:spPr>
                <a:xfrm>
                  <a:off x="8045280" y="4583160"/>
                  <a:ext cx="91764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T</m:t>
                          </m:r>
                        </m:e>
                        <m:sup/>
                      </m:sSup>
                      <m:r>
                        <m:t xml:space="preserve">≥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1" name=""/>
                <p:cNvSpPr txBox="1"/>
                <p:nvPr/>
              </p:nvSpPr>
              <p:spPr>
                <a:xfrm>
                  <a:off x="4076640" y="6022800"/>
                  <a:ext cx="1497240" cy="86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μ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m</m:t>
                              </m:r>
                            </m:e>
                            <m:sup/>
                          </m:sSup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e</m:t>
                              </m:r>
                            </m:sub>
                          </m:sSub>
                        </m:num>
                        <m:den>
                          <m:sSubSup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  <m:sup/>
                          </m:sSub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7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METODO N2: risposta del sistema MDOF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5075280" y="3371760"/>
            <a:ext cx="3759120" cy="2666880"/>
            <a:chOff x="5075280" y="3371760"/>
            <a:chExt cx="3759120" cy="2666880"/>
          </a:xfrm>
        </p:grpSpPr>
        <p:sp>
          <p:nvSpPr>
            <p:cNvPr id="504" name=""/>
            <p:cNvSpPr/>
            <p:nvPr/>
          </p:nvSpPr>
          <p:spPr>
            <a:xfrm>
              <a:off x="5075280" y="3371760"/>
              <a:ext cx="3673440" cy="4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99"/>
                  </a:solidFill>
                  <a:latin typeface="Comic Sans MS"/>
                </a:rPr>
                <a:t>Risposta sistema MDOF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505" name=""/>
            <p:cNvGrpSpPr/>
            <p:nvPr/>
          </p:nvGrpSpPr>
          <p:grpSpPr>
            <a:xfrm>
              <a:off x="5181840" y="4025520"/>
              <a:ext cx="1756800" cy="2013120"/>
              <a:chOff x="5181840" y="4025520"/>
              <a:chExt cx="1756800" cy="2013120"/>
            </a:xfrm>
          </p:grpSpPr>
          <p:sp>
            <p:nvSpPr>
              <p:cNvPr id="506" name=""/>
              <p:cNvSpPr/>
              <p:nvPr/>
            </p:nvSpPr>
            <p:spPr>
              <a:xfrm flipH="1">
                <a:off x="5835240" y="5503680"/>
                <a:ext cx="69804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grpSp>
            <p:nvGrpSpPr>
              <p:cNvPr id="507" name=""/>
              <p:cNvGrpSpPr/>
              <p:nvPr/>
            </p:nvGrpSpPr>
            <p:grpSpPr>
              <a:xfrm>
                <a:off x="5503320" y="4489200"/>
                <a:ext cx="192240" cy="582480"/>
                <a:chOff x="5503320" y="4489200"/>
                <a:chExt cx="192240" cy="582480"/>
              </a:xfrm>
            </p:grpSpPr>
            <p:grpSp>
              <p:nvGrpSpPr>
                <p:cNvPr id="508" name=""/>
                <p:cNvGrpSpPr/>
                <p:nvPr/>
              </p:nvGrpSpPr>
              <p:grpSpPr>
                <a:xfrm>
                  <a:off x="5503320" y="4489200"/>
                  <a:ext cx="192240" cy="66600"/>
                  <a:chOff x="5503320" y="4489200"/>
                  <a:chExt cx="192240" cy="66600"/>
                </a:xfrm>
              </p:grpSpPr>
              <p:sp>
                <p:nvSpPr>
                  <p:cNvPr id="509" name=""/>
                  <p:cNvSpPr/>
                  <p:nvPr/>
                </p:nvSpPr>
                <p:spPr>
                  <a:xfrm flipH="1">
                    <a:off x="5503320" y="4521240"/>
                    <a:ext cx="150840" cy="720"/>
                  </a:xfrm>
                  <a:prstGeom prst="line">
                    <a:avLst/>
                  </a:prstGeom>
                  <a:ln w="9000">
                    <a:solidFill>
                      <a:srgbClr val="ffff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ffff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>
                    <a:off x="5631120" y="4489200"/>
                    <a:ext cx="6444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" h="101">
                        <a:moveTo>
                          <a:pt x="0" y="101"/>
                        </a:moveTo>
                        <a:lnTo>
                          <a:pt x="100" y="49"/>
                        </a:lnTo>
                        <a:lnTo>
                          <a:pt x="0" y="0"/>
                        </a:lnTo>
                        <a:lnTo>
                          <a:pt x="31" y="49"/>
                        </a:lnTo>
                        <a:lnTo>
                          <a:pt x="0" y="101"/>
                        </a:lnTo>
                        <a:close/>
                      </a:path>
                    </a:pathLst>
                  </a:custGeom>
                  <a:solidFill>
                    <a:srgbClr val="ffff66"/>
                  </a:solidFill>
                  <a:ln w="9360">
                    <a:solidFill>
                      <a:srgbClr val="ffff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ffff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1" name=""/>
                <p:cNvGrpSpPr/>
                <p:nvPr/>
              </p:nvGrpSpPr>
              <p:grpSpPr>
                <a:xfrm>
                  <a:off x="5561640" y="4762080"/>
                  <a:ext cx="133200" cy="65160"/>
                  <a:chOff x="5561640" y="4762080"/>
                  <a:chExt cx="133200" cy="65160"/>
                </a:xfrm>
              </p:grpSpPr>
              <p:sp>
                <p:nvSpPr>
                  <p:cNvPr id="512" name=""/>
                  <p:cNvSpPr/>
                  <p:nvPr/>
                </p:nvSpPr>
                <p:spPr>
                  <a:xfrm flipH="1">
                    <a:off x="5561640" y="4793760"/>
                    <a:ext cx="91800" cy="360"/>
                  </a:xfrm>
                  <a:prstGeom prst="line">
                    <a:avLst/>
                  </a:prstGeom>
                  <a:ln w="9000">
                    <a:solidFill>
                      <a:srgbClr val="ffff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ffff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>
                    <a:off x="5630400" y="4762080"/>
                    <a:ext cx="6444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0" h="101">
                        <a:moveTo>
                          <a:pt x="0" y="101"/>
                        </a:moveTo>
                        <a:lnTo>
                          <a:pt x="100" y="49"/>
                        </a:lnTo>
                        <a:lnTo>
                          <a:pt x="0" y="0"/>
                        </a:lnTo>
                        <a:lnTo>
                          <a:pt x="31" y="49"/>
                        </a:lnTo>
                        <a:lnTo>
                          <a:pt x="0" y="101"/>
                        </a:lnTo>
                        <a:close/>
                      </a:path>
                    </a:pathLst>
                  </a:custGeom>
                  <a:solidFill>
                    <a:srgbClr val="ffff66"/>
                  </a:solidFill>
                  <a:ln w="9360">
                    <a:solidFill>
                      <a:srgbClr val="ffff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2400" spc="-1" strike="noStrike">
                      <a:solidFill>
                        <a:srgbClr val="ffff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4" name=""/>
                <p:cNvGrpSpPr/>
                <p:nvPr/>
              </p:nvGrpSpPr>
              <p:grpSpPr>
                <a:xfrm>
                  <a:off x="5626800" y="5008320"/>
                  <a:ext cx="68400" cy="63360"/>
                  <a:chOff x="5626800" y="5008320"/>
                  <a:chExt cx="68400" cy="63360"/>
                </a:xfrm>
              </p:grpSpPr>
              <p:sp>
                <p:nvSpPr>
                  <p:cNvPr id="515" name=""/>
                  <p:cNvSpPr/>
                  <p:nvPr/>
                </p:nvSpPr>
                <p:spPr>
                  <a:xfrm flipH="1">
                    <a:off x="5626800" y="5038920"/>
                    <a:ext cx="26280" cy="360"/>
                  </a:xfrm>
                  <a:prstGeom prst="line">
                    <a:avLst/>
                  </a:prstGeom>
                  <a:ln w="9000">
                    <a:solidFill>
                      <a:srgbClr val="ffff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ffff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>
                    <a:off x="5629680" y="5008320"/>
                    <a:ext cx="655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00" h="101">
                        <a:moveTo>
                          <a:pt x="0" y="101"/>
                        </a:moveTo>
                        <a:lnTo>
                          <a:pt x="100" y="49"/>
                        </a:lnTo>
                        <a:lnTo>
                          <a:pt x="0" y="0"/>
                        </a:lnTo>
                        <a:lnTo>
                          <a:pt x="31" y="49"/>
                        </a:lnTo>
                        <a:lnTo>
                          <a:pt x="0" y="101"/>
                        </a:lnTo>
                        <a:close/>
                      </a:path>
                    </a:pathLst>
                  </a:custGeom>
                  <a:solidFill>
                    <a:srgbClr val="ffff66"/>
                  </a:solidFill>
                  <a:ln w="9360">
                    <a:solidFill>
                      <a:srgbClr val="ffff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ffff66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17" name=""/>
              <p:cNvSpPr/>
              <p:nvPr/>
            </p:nvSpPr>
            <p:spPr>
              <a:xfrm>
                <a:off x="5584680" y="5338440"/>
                <a:ext cx="1299960" cy="1728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V="1">
                <a:off x="5734080" y="4520520"/>
                <a:ext cx="0" cy="817560"/>
              </a:xfrm>
              <a:prstGeom prst="line">
                <a:avLst/>
              </a:prstGeom>
              <a:ln w="32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729400" y="4522320"/>
                <a:ext cx="963000" cy="0"/>
              </a:xfrm>
              <a:prstGeom prst="line">
                <a:avLst/>
              </a:prstGeom>
              <a:ln w="32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734080" y="4787640"/>
                <a:ext cx="933120" cy="0"/>
              </a:xfrm>
              <a:prstGeom prst="line">
                <a:avLst/>
              </a:prstGeom>
              <a:ln w="32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734080" y="5054400"/>
                <a:ext cx="953640" cy="0"/>
              </a:xfrm>
              <a:prstGeom prst="line">
                <a:avLst/>
              </a:prstGeom>
              <a:ln w="32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V="1">
                <a:off x="6208560" y="4538160"/>
                <a:ext cx="0" cy="79848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V="1">
                <a:off x="6683400" y="4512600"/>
                <a:ext cx="0" cy="839880"/>
              </a:xfrm>
              <a:prstGeom prst="line">
                <a:avLst/>
              </a:prstGeom>
              <a:ln w="32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V="1">
                <a:off x="6681600" y="4339440"/>
                <a:ext cx="0" cy="65160"/>
              </a:xfrm>
              <a:prstGeom prst="line">
                <a:avLst/>
              </a:prstGeom>
              <a:ln w="64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V="1">
                <a:off x="6810480" y="4339440"/>
                <a:ext cx="0" cy="65160"/>
              </a:xfrm>
              <a:prstGeom prst="line">
                <a:avLst/>
              </a:prstGeom>
              <a:ln w="64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635880" y="4373280"/>
                <a:ext cx="236160" cy="0"/>
              </a:xfrm>
              <a:prstGeom prst="line">
                <a:avLst/>
              </a:prstGeom>
              <a:ln w="64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127560" y="4466880"/>
                <a:ext cx="158400" cy="125280"/>
              </a:xfrm>
              <a:prstGeom prst="flowChartConnector">
                <a:avLst/>
              </a:prstGeom>
              <a:solidFill>
                <a:srgbClr val="ffff66"/>
              </a:solidFill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sp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127560" y="4714560"/>
                <a:ext cx="158400" cy="123840"/>
              </a:xfrm>
              <a:prstGeom prst="flowChartConnector">
                <a:avLst/>
              </a:prstGeom>
              <a:solidFill>
                <a:srgbClr val="ffff66"/>
              </a:solidFill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sp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127560" y="4997160"/>
                <a:ext cx="158400" cy="125280"/>
              </a:xfrm>
              <a:prstGeom prst="flowChartConnector">
                <a:avLst/>
              </a:prstGeom>
              <a:solidFill>
                <a:srgbClr val="ffff66"/>
              </a:solidFill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sp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30" name=""/>
                  <p:cNvSpPr txBox="1"/>
                  <p:nvPr/>
                </p:nvSpPr>
                <p:spPr>
                  <a:xfrm>
                    <a:off x="5181840" y="4082760"/>
                    <a:ext cx="821880" cy="407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31" name=""/>
                  <p:cNvSpPr txBox="1"/>
                  <p:nvPr/>
                </p:nvSpPr>
                <p:spPr>
                  <a:xfrm>
                    <a:off x="5556240" y="5582880"/>
                    <a:ext cx="1163160" cy="455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32" name=""/>
                  <p:cNvSpPr txBox="1"/>
                  <p:nvPr/>
                </p:nvSpPr>
                <p:spPr>
                  <a:xfrm>
                    <a:off x="6619680" y="4025520"/>
                    <a:ext cx="318960" cy="409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533" name=""/>
            <p:cNvSpPr/>
            <p:nvPr/>
          </p:nvSpPr>
          <p:spPr>
            <a:xfrm flipV="1">
              <a:off x="7440840" y="4368600"/>
              <a:ext cx="0" cy="10843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396200" y="5373360"/>
              <a:ext cx="1438200" cy="0"/>
            </a:xfrm>
            <a:prstGeom prst="line">
              <a:avLst/>
            </a:prstGeom>
            <a:ln w="9360">
              <a:solidFill>
                <a:srgbClr val="ffff66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440840" y="4600440"/>
              <a:ext cx="1201680" cy="772920"/>
            </a:xfrm>
            <a:custGeom>
              <a:avLst/>
              <a:gdLst/>
              <a:ahLst/>
              <a:rect l="l" t="t" r="r" b="b"/>
              <a:pathLst>
                <a:path w="2008" h="812">
                  <a:moveTo>
                    <a:pt x="0" y="812"/>
                  </a:moveTo>
                  <a:cubicBezTo>
                    <a:pt x="53" y="663"/>
                    <a:pt x="106" y="515"/>
                    <a:pt x="168" y="416"/>
                  </a:cubicBezTo>
                  <a:cubicBezTo>
                    <a:pt x="230" y="317"/>
                    <a:pt x="268" y="269"/>
                    <a:pt x="372" y="216"/>
                  </a:cubicBezTo>
                  <a:cubicBezTo>
                    <a:pt x="476" y="163"/>
                    <a:pt x="597" y="131"/>
                    <a:pt x="792" y="100"/>
                  </a:cubicBezTo>
                  <a:cubicBezTo>
                    <a:pt x="987" y="69"/>
                    <a:pt x="1337" y="45"/>
                    <a:pt x="1540" y="28"/>
                  </a:cubicBezTo>
                  <a:cubicBezTo>
                    <a:pt x="1743" y="11"/>
                    <a:pt x="1855" y="7"/>
                    <a:pt x="2008" y="0"/>
                  </a:cubicBezTo>
                </a:path>
              </a:pathLst>
            </a:custGeom>
            <a:noFill/>
            <a:ln w="28440">
              <a:solidFill>
                <a:srgbClr val="ffff6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6" name=""/>
                <p:cNvSpPr txBox="1"/>
                <p:nvPr/>
              </p:nvSpPr>
              <p:spPr>
                <a:xfrm>
                  <a:off x="8439120" y="5397120"/>
                  <a:ext cx="319320" cy="409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37" name=""/>
                <p:cNvSpPr txBox="1"/>
                <p:nvPr/>
              </p:nvSpPr>
              <p:spPr>
                <a:xfrm>
                  <a:off x="7077240" y="4208040"/>
                  <a:ext cx="298440" cy="38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38" name=""/>
          <p:cNvSpPr/>
          <p:nvPr/>
        </p:nvSpPr>
        <p:spPr>
          <a:xfrm rot="17948400">
            <a:off x="3930120" y="3223800"/>
            <a:ext cx="335160" cy="459000"/>
          </a:xfrm>
          <a:prstGeom prst="downArrow">
            <a:avLst>
              <a:gd name="adj1" fmla="val 50000"/>
              <a:gd name="adj2" fmla="val 34237"/>
            </a:avLst>
          </a:prstGeom>
          <a:solidFill>
            <a:srgbClr val="ffcc66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25520" y="1566720"/>
            <a:ext cx="43736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99"/>
                </a:solidFill>
                <a:latin typeface="Comic Sans MS"/>
              </a:rPr>
              <a:t>Spostamento sistema MDOF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1454040" y="2336760"/>
                <a:ext cx="151632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Γ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D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p:sp>
        <p:nvSpPr>
          <p:cNvPr id="541" name=""/>
          <p:cNvSpPr/>
          <p:nvPr/>
        </p:nvSpPr>
        <p:spPr>
          <a:xfrm>
            <a:off x="7439040" y="4637160"/>
            <a:ext cx="789120" cy="736560"/>
          </a:xfrm>
          <a:custGeom>
            <a:avLst/>
            <a:gdLst/>
            <a:ahLst/>
            <a:rect l="l" t="t" r="r" b="b"/>
            <a:pathLst>
              <a:path w="497" h="464">
                <a:moveTo>
                  <a:pt x="0" y="464"/>
                </a:moveTo>
                <a:cubicBezTo>
                  <a:pt x="20" y="375"/>
                  <a:pt x="40" y="286"/>
                  <a:pt x="63" y="226"/>
                </a:cubicBezTo>
                <a:cubicBezTo>
                  <a:pt x="87" y="167"/>
                  <a:pt x="101" y="138"/>
                  <a:pt x="140" y="107"/>
                </a:cubicBezTo>
                <a:cubicBezTo>
                  <a:pt x="179" y="75"/>
                  <a:pt x="244" y="54"/>
                  <a:pt x="299" y="37"/>
                </a:cubicBezTo>
                <a:cubicBezTo>
                  <a:pt x="354" y="20"/>
                  <a:pt x="441" y="8"/>
                  <a:pt x="469" y="4"/>
                </a:cubicBezTo>
                <a:cubicBezTo>
                  <a:pt x="497" y="0"/>
                  <a:pt x="469" y="11"/>
                  <a:pt x="469" y="13"/>
                </a:cubicBezTo>
              </a:path>
            </a:pathLst>
          </a:custGeom>
          <a:noFill/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199360" y="4657680"/>
            <a:ext cx="0" cy="711360"/>
          </a:xfrm>
          <a:prstGeom prst="line">
            <a:avLst/>
          </a:prstGeom>
          <a:ln w="93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61800" y="-360"/>
            <a:ext cx="83901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Comic Sans MS"/>
              </a:rPr>
              <a:t>Il metodo dell’O.P.C.M. 3431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44" name=""/>
          <p:cNvSpPr/>
          <p:nvPr/>
        </p:nvSpPr>
        <p:spPr>
          <a:xfrm>
            <a:off x="190440" y="1106640"/>
            <a:ext cx="865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Recepisce integralmente il metodo N2 e specifica i criteri di equivalenza per definire la relazione V-D bilineare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266760" y="3486240"/>
            <a:ext cx="1801800" cy="2012400"/>
            <a:chOff x="266760" y="3486240"/>
            <a:chExt cx="1801800" cy="2012400"/>
          </a:xfrm>
        </p:grpSpPr>
        <p:sp>
          <p:nvSpPr>
            <p:cNvPr id="546" name=""/>
            <p:cNvSpPr/>
            <p:nvPr/>
          </p:nvSpPr>
          <p:spPr>
            <a:xfrm flipH="1">
              <a:off x="965160" y="4964040"/>
              <a:ext cx="698400" cy="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547" name=""/>
            <p:cNvGrpSpPr/>
            <p:nvPr/>
          </p:nvGrpSpPr>
          <p:grpSpPr>
            <a:xfrm>
              <a:off x="632880" y="3949560"/>
              <a:ext cx="192600" cy="581760"/>
              <a:chOff x="632880" y="3949560"/>
              <a:chExt cx="192600" cy="581760"/>
            </a:xfrm>
          </p:grpSpPr>
          <p:grpSp>
            <p:nvGrpSpPr>
              <p:cNvPr id="548" name=""/>
              <p:cNvGrpSpPr/>
              <p:nvPr/>
            </p:nvGrpSpPr>
            <p:grpSpPr>
              <a:xfrm>
                <a:off x="632880" y="3949560"/>
                <a:ext cx="192600" cy="66240"/>
                <a:chOff x="632880" y="3949560"/>
                <a:chExt cx="192600" cy="66240"/>
              </a:xfrm>
            </p:grpSpPr>
            <p:sp>
              <p:nvSpPr>
                <p:cNvPr id="549" name=""/>
                <p:cNvSpPr/>
                <p:nvPr/>
              </p:nvSpPr>
              <p:spPr>
                <a:xfrm flipH="1">
                  <a:off x="632880" y="3981600"/>
                  <a:ext cx="150840" cy="720"/>
                </a:xfrm>
                <a:prstGeom prst="line">
                  <a:avLst/>
                </a:prstGeom>
                <a:ln w="90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761040" y="3949560"/>
                  <a:ext cx="64440" cy="66240"/>
                </a:xfrm>
                <a:custGeom>
                  <a:avLst/>
                  <a:gdLst/>
                  <a:ahLst/>
                  <a:rect l="l" t="t" r="r" b="b"/>
                  <a:pathLst>
                    <a:path w="100" h="101">
                      <a:moveTo>
                        <a:pt x="0" y="101"/>
                      </a:moveTo>
                      <a:lnTo>
                        <a:pt x="100" y="49"/>
                      </a:lnTo>
                      <a:lnTo>
                        <a:pt x="0" y="0"/>
                      </a:lnTo>
                      <a:lnTo>
                        <a:pt x="31" y="49"/>
                      </a:lnTo>
                      <a:lnTo>
                        <a:pt x="0" y="101"/>
                      </a:lnTo>
                      <a:close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ffff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1" name=""/>
              <p:cNvGrpSpPr/>
              <p:nvPr/>
            </p:nvGrpSpPr>
            <p:grpSpPr>
              <a:xfrm>
                <a:off x="691920" y="4222080"/>
                <a:ext cx="133560" cy="64800"/>
                <a:chOff x="691920" y="4222080"/>
                <a:chExt cx="133560" cy="64800"/>
              </a:xfrm>
            </p:grpSpPr>
            <p:sp>
              <p:nvSpPr>
                <p:cNvPr id="552" name=""/>
                <p:cNvSpPr/>
                <p:nvPr/>
              </p:nvSpPr>
              <p:spPr>
                <a:xfrm flipH="1">
                  <a:off x="691920" y="4253400"/>
                  <a:ext cx="92160" cy="360"/>
                </a:xfrm>
                <a:prstGeom prst="line">
                  <a:avLst/>
                </a:prstGeom>
                <a:ln w="90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760680" y="4222080"/>
                  <a:ext cx="64800" cy="64800"/>
                </a:xfrm>
                <a:custGeom>
                  <a:avLst/>
                  <a:gdLst/>
                  <a:ahLst/>
                  <a:rect l="l" t="t" r="r" b="b"/>
                  <a:pathLst>
                    <a:path w="100" h="101">
                      <a:moveTo>
                        <a:pt x="0" y="101"/>
                      </a:moveTo>
                      <a:lnTo>
                        <a:pt x="100" y="49"/>
                      </a:lnTo>
                      <a:lnTo>
                        <a:pt x="0" y="0"/>
                      </a:lnTo>
                      <a:lnTo>
                        <a:pt x="31" y="49"/>
                      </a:lnTo>
                      <a:lnTo>
                        <a:pt x="0" y="101"/>
                      </a:lnTo>
                      <a:close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ffff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" name=""/>
              <p:cNvGrpSpPr/>
              <p:nvPr/>
            </p:nvGrpSpPr>
            <p:grpSpPr>
              <a:xfrm>
                <a:off x="756720" y="4468320"/>
                <a:ext cx="68760" cy="63000"/>
                <a:chOff x="756720" y="4468320"/>
                <a:chExt cx="68760" cy="63000"/>
              </a:xfrm>
            </p:grpSpPr>
            <p:sp>
              <p:nvSpPr>
                <p:cNvPr id="555" name=""/>
                <p:cNvSpPr/>
                <p:nvPr/>
              </p:nvSpPr>
              <p:spPr>
                <a:xfrm flipH="1">
                  <a:off x="756720" y="4498920"/>
                  <a:ext cx="26280" cy="360"/>
                </a:xfrm>
                <a:prstGeom prst="line">
                  <a:avLst/>
                </a:prstGeom>
                <a:ln w="90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759600" y="4468320"/>
                  <a:ext cx="65880" cy="63000"/>
                </a:xfrm>
                <a:custGeom>
                  <a:avLst/>
                  <a:gdLst/>
                  <a:ahLst/>
                  <a:rect l="l" t="t" r="r" b="b"/>
                  <a:pathLst>
                    <a:path w="100" h="101">
                      <a:moveTo>
                        <a:pt x="0" y="101"/>
                      </a:moveTo>
                      <a:lnTo>
                        <a:pt x="100" y="49"/>
                      </a:lnTo>
                      <a:lnTo>
                        <a:pt x="0" y="0"/>
                      </a:lnTo>
                      <a:lnTo>
                        <a:pt x="31" y="49"/>
                      </a:lnTo>
                      <a:lnTo>
                        <a:pt x="0" y="101"/>
                      </a:lnTo>
                      <a:close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ffff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7" name=""/>
            <p:cNvSpPr/>
            <p:nvPr/>
          </p:nvSpPr>
          <p:spPr>
            <a:xfrm>
              <a:off x="714240" y="4798800"/>
              <a:ext cx="1300320" cy="169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863640" y="3981240"/>
              <a:ext cx="0" cy="817200"/>
            </a:xfrm>
            <a:prstGeom prst="line">
              <a:avLst/>
            </a:prstGeom>
            <a:ln w="3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858960" y="3982680"/>
              <a:ext cx="963360" cy="0"/>
            </a:xfrm>
            <a:prstGeom prst="line">
              <a:avLst/>
            </a:prstGeom>
            <a:ln w="3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863640" y="4248000"/>
              <a:ext cx="933480" cy="0"/>
            </a:xfrm>
            <a:prstGeom prst="line">
              <a:avLst/>
            </a:prstGeom>
            <a:ln w="3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63640" y="4514760"/>
              <a:ext cx="954000" cy="0"/>
            </a:xfrm>
            <a:prstGeom prst="line">
              <a:avLst/>
            </a:prstGeom>
            <a:ln w="3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1338120" y="3998160"/>
              <a:ext cx="0" cy="7981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1812960" y="3973320"/>
              <a:ext cx="0" cy="839520"/>
            </a:xfrm>
            <a:prstGeom prst="line">
              <a:avLst/>
            </a:prstGeom>
            <a:ln w="3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1811160" y="3800160"/>
              <a:ext cx="0" cy="64800"/>
            </a:xfrm>
            <a:prstGeom prst="line">
              <a:avLst/>
            </a:prstGeom>
            <a:ln w="64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1940040" y="3800160"/>
              <a:ext cx="0" cy="64800"/>
            </a:xfrm>
            <a:prstGeom prst="line">
              <a:avLst/>
            </a:prstGeom>
            <a:ln w="64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765440" y="3833640"/>
              <a:ext cx="236520" cy="0"/>
            </a:xfrm>
            <a:prstGeom prst="line">
              <a:avLst/>
            </a:prstGeom>
            <a:ln w="64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257120" y="3927240"/>
              <a:ext cx="158760" cy="124920"/>
            </a:xfrm>
            <a:prstGeom prst="flowChartConnector">
              <a:avLst/>
            </a:prstGeom>
            <a:solidFill>
              <a:srgbClr val="ffff66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ctr">
              <a:sp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257120" y="4174920"/>
              <a:ext cx="158760" cy="123480"/>
            </a:xfrm>
            <a:prstGeom prst="flowChartConnector">
              <a:avLst/>
            </a:prstGeom>
            <a:solidFill>
              <a:srgbClr val="ffff66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sp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257120" y="4457520"/>
              <a:ext cx="158760" cy="124920"/>
            </a:xfrm>
            <a:prstGeom prst="flowChartConnector">
              <a:avLst/>
            </a:prstGeom>
            <a:solidFill>
              <a:srgbClr val="ffff66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ctr">
              <a:sp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0" name=""/>
                <p:cNvSpPr txBox="1"/>
                <p:nvPr/>
              </p:nvSpPr>
              <p:spPr>
                <a:xfrm>
                  <a:off x="266760" y="3554280"/>
                  <a:ext cx="912600" cy="387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≈</m:t>
                      </m:r>
                      <m:sSub>
                        <m:e>
                          <m:r>
                            <m:t xml:space="preserve">φ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71" name=""/>
                <p:cNvSpPr txBox="1"/>
                <p:nvPr/>
              </p:nvSpPr>
              <p:spPr>
                <a:xfrm>
                  <a:off x="654120" y="5043240"/>
                  <a:ext cx="1230120" cy="45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=</m:t>
                      </m:r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72" name=""/>
                <p:cNvSpPr txBox="1"/>
                <p:nvPr/>
              </p:nvSpPr>
              <p:spPr>
                <a:xfrm>
                  <a:off x="1749240" y="3486240"/>
                  <a:ext cx="31932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73" name=""/>
          <p:cNvSpPr/>
          <p:nvPr/>
        </p:nvSpPr>
        <p:spPr>
          <a:xfrm flipH="1">
            <a:off x="3459240" y="3362400"/>
            <a:ext cx="1193760" cy="0"/>
          </a:xfrm>
          <a:prstGeom prst="line">
            <a:avLst/>
          </a:prstGeom>
          <a:ln w="93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2871720" y="3130560"/>
                <a:ext cx="64152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75" name=""/>
          <p:cNvSpPr/>
          <p:nvPr/>
        </p:nvSpPr>
        <p:spPr>
          <a:xfrm flipH="1">
            <a:off x="3459240" y="5545080"/>
            <a:ext cx="371520" cy="0"/>
          </a:xfrm>
          <a:prstGeom prst="line">
            <a:avLst/>
          </a:prstGeom>
          <a:ln w="93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3105000" y="4971960"/>
            <a:ext cx="1757160" cy="1801440"/>
            <a:chOff x="3105000" y="4971960"/>
            <a:chExt cx="1757160" cy="1801440"/>
          </a:xfrm>
        </p:grpSpPr>
        <p:sp>
          <p:nvSpPr>
            <p:cNvPr id="577" name=""/>
            <p:cNvSpPr/>
            <p:nvPr/>
          </p:nvSpPr>
          <p:spPr>
            <a:xfrm>
              <a:off x="3819240" y="5557680"/>
              <a:ext cx="884160" cy="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423960" y="6340320"/>
              <a:ext cx="1438200" cy="0"/>
            </a:xfrm>
            <a:prstGeom prst="line">
              <a:avLst/>
            </a:prstGeom>
            <a:ln w="9360">
              <a:solidFill>
                <a:srgbClr val="ffff66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9" name=""/>
                <p:cNvSpPr txBox="1"/>
                <p:nvPr/>
              </p:nvSpPr>
              <p:spPr>
                <a:xfrm>
                  <a:off x="4466880" y="6364080"/>
                  <a:ext cx="31752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80" name=""/>
                <p:cNvSpPr txBox="1"/>
                <p:nvPr/>
              </p:nvSpPr>
              <p:spPr>
                <a:xfrm>
                  <a:off x="3105000" y="4971960"/>
                  <a:ext cx="296640" cy="38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81" name=""/>
                <p:cNvSpPr txBox="1"/>
                <p:nvPr/>
              </p:nvSpPr>
              <p:spPr>
                <a:xfrm>
                  <a:off x="3581280" y="6000480"/>
                  <a:ext cx="342720" cy="387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82" name=""/>
            <p:cNvSpPr/>
            <p:nvPr/>
          </p:nvSpPr>
          <p:spPr>
            <a:xfrm flipH="1">
              <a:off x="3473280" y="5552640"/>
              <a:ext cx="358560" cy="78084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3458880" y="5095080"/>
              <a:ext cx="0" cy="13237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3063960" y="5342040"/>
                <a:ext cx="38880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5" name=""/>
              <p:cNvSpPr txBox="1"/>
              <p:nvPr/>
            </p:nvSpPr>
            <p:spPr>
              <a:xfrm>
                <a:off x="3684600" y="3605040"/>
                <a:ext cx="96048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ea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6" name=""/>
              <p:cNvSpPr txBox="1"/>
              <p:nvPr/>
            </p:nvSpPr>
            <p:spPr>
              <a:xfrm>
                <a:off x="3755880" y="5727600"/>
                <a:ext cx="97488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ea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7" name=""/>
          <p:cNvSpPr/>
          <p:nvPr/>
        </p:nvSpPr>
        <p:spPr>
          <a:xfrm>
            <a:off x="4692600" y="5572080"/>
            <a:ext cx="0" cy="743040"/>
          </a:xfrm>
          <a:prstGeom prst="line">
            <a:avLst/>
          </a:prstGeom>
          <a:ln w="93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3095640" y="2590920"/>
            <a:ext cx="1757520" cy="1960560"/>
            <a:chOff x="3095640" y="2590920"/>
            <a:chExt cx="1757520" cy="1960560"/>
          </a:xfrm>
        </p:grpSpPr>
        <p:sp>
          <p:nvSpPr>
            <p:cNvPr id="589" name=""/>
            <p:cNvSpPr/>
            <p:nvPr/>
          </p:nvSpPr>
          <p:spPr>
            <a:xfrm flipV="1">
              <a:off x="3459240" y="2873520"/>
              <a:ext cx="0" cy="1324080"/>
            </a:xfrm>
            <a:prstGeom prst="line">
              <a:avLst/>
            </a:prstGeom>
            <a:ln w="9360">
              <a:solidFill>
                <a:srgbClr val="ffff66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414960" y="4118040"/>
              <a:ext cx="1438200" cy="0"/>
            </a:xfrm>
            <a:prstGeom prst="line">
              <a:avLst/>
            </a:prstGeom>
            <a:ln w="9360">
              <a:solidFill>
                <a:srgbClr val="ffff66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459240" y="3345120"/>
              <a:ext cx="1201680" cy="772920"/>
            </a:xfrm>
            <a:custGeom>
              <a:avLst/>
              <a:gdLst/>
              <a:ahLst/>
              <a:rect l="l" t="t" r="r" b="b"/>
              <a:pathLst>
                <a:path w="2008" h="812">
                  <a:moveTo>
                    <a:pt x="0" y="812"/>
                  </a:moveTo>
                  <a:cubicBezTo>
                    <a:pt x="53" y="663"/>
                    <a:pt x="106" y="515"/>
                    <a:pt x="168" y="416"/>
                  </a:cubicBezTo>
                  <a:cubicBezTo>
                    <a:pt x="230" y="317"/>
                    <a:pt x="268" y="269"/>
                    <a:pt x="372" y="216"/>
                  </a:cubicBezTo>
                  <a:cubicBezTo>
                    <a:pt x="476" y="163"/>
                    <a:pt x="597" y="131"/>
                    <a:pt x="792" y="100"/>
                  </a:cubicBezTo>
                  <a:cubicBezTo>
                    <a:pt x="987" y="69"/>
                    <a:pt x="1337" y="45"/>
                    <a:pt x="1540" y="28"/>
                  </a:cubicBezTo>
                  <a:cubicBezTo>
                    <a:pt x="1743" y="11"/>
                    <a:pt x="1855" y="7"/>
                    <a:pt x="2008" y="0"/>
                  </a:cubicBezTo>
                </a:path>
              </a:pathLst>
            </a:custGeom>
            <a:noFill/>
            <a:ln w="2844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2" name=""/>
                <p:cNvSpPr txBox="1"/>
                <p:nvPr/>
              </p:nvSpPr>
              <p:spPr>
                <a:xfrm>
                  <a:off x="4457880" y="4142160"/>
                  <a:ext cx="31752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93" name=""/>
                <p:cNvSpPr txBox="1"/>
                <p:nvPr/>
              </p:nvSpPr>
              <p:spPr>
                <a:xfrm>
                  <a:off x="3095640" y="2838600"/>
                  <a:ext cx="298440" cy="38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94" name=""/>
            <p:cNvSpPr/>
            <p:nvPr/>
          </p:nvSpPr>
          <p:spPr>
            <a:xfrm flipV="1">
              <a:off x="3473640" y="2627640"/>
              <a:ext cx="174600" cy="148104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5" name=""/>
                <p:cNvSpPr txBox="1"/>
                <p:nvPr/>
              </p:nvSpPr>
              <p:spPr>
                <a:xfrm>
                  <a:off x="3643560" y="2590920"/>
                  <a:ext cx="320400" cy="38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96" name=""/>
            <p:cNvSpPr/>
            <p:nvPr/>
          </p:nvSpPr>
          <p:spPr>
            <a:xfrm>
              <a:off x="3575160" y="2992680"/>
              <a:ext cx="209520" cy="14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597" name=""/>
          <p:cNvSpPr/>
          <p:nvPr/>
        </p:nvSpPr>
        <p:spPr>
          <a:xfrm>
            <a:off x="4659480" y="3349800"/>
            <a:ext cx="0" cy="742680"/>
          </a:xfrm>
          <a:prstGeom prst="line">
            <a:avLst/>
          </a:prstGeom>
          <a:ln w="93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6149880" y="3992400"/>
                <a:ext cx="128268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9" name=""/>
              <p:cNvSpPr txBox="1"/>
              <p:nvPr/>
            </p:nvSpPr>
            <p:spPr>
              <a:xfrm>
                <a:off x="6149880" y="4540320"/>
                <a:ext cx="240372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ea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ea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0" name=""/>
          <p:cNvSpPr/>
          <p:nvPr/>
        </p:nvSpPr>
        <p:spPr>
          <a:xfrm>
            <a:off x="131760" y="2790720"/>
            <a:ext cx="24512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99"/>
                </a:solidFill>
                <a:latin typeface="Comic Sans MS"/>
              </a:rPr>
              <a:t>Sistema MDOF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527200" y="2101680"/>
            <a:ext cx="315288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99"/>
                </a:solidFill>
                <a:latin typeface="Comic Sans MS"/>
              </a:rPr>
              <a:t>Curva di prestazione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571840" y="4473720"/>
            <a:ext cx="315252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99"/>
                </a:solidFill>
                <a:latin typeface="Comic Sans MS"/>
              </a:rPr>
              <a:t>Relazione bilineare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502240" y="3305160"/>
            <a:ext cx="35784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99"/>
                </a:solidFill>
                <a:latin typeface="Comic Sans MS"/>
              </a:rPr>
              <a:t>Relazioni di equivalenza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61800" y="-360"/>
            <a:ext cx="83901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METODO PROPOSTO: Metodo N1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5010120" y="1697040"/>
            <a:ext cx="3696840" cy="2013120"/>
            <a:chOff x="5010120" y="1697040"/>
            <a:chExt cx="3696840" cy="2013120"/>
          </a:xfrm>
        </p:grpSpPr>
        <p:grpSp>
          <p:nvGrpSpPr>
            <p:cNvPr id="606" name=""/>
            <p:cNvGrpSpPr/>
            <p:nvPr/>
          </p:nvGrpSpPr>
          <p:grpSpPr>
            <a:xfrm>
              <a:off x="5010120" y="1697040"/>
              <a:ext cx="1800000" cy="2013120"/>
              <a:chOff x="5010120" y="1697040"/>
              <a:chExt cx="1800000" cy="2013120"/>
            </a:xfrm>
          </p:grpSpPr>
          <p:sp>
            <p:nvSpPr>
              <p:cNvPr id="607" name=""/>
              <p:cNvSpPr/>
              <p:nvPr/>
            </p:nvSpPr>
            <p:spPr>
              <a:xfrm flipH="1">
                <a:off x="5708520" y="3175200"/>
                <a:ext cx="69840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grpSp>
            <p:nvGrpSpPr>
              <p:cNvPr id="608" name=""/>
              <p:cNvGrpSpPr/>
              <p:nvPr/>
            </p:nvGrpSpPr>
            <p:grpSpPr>
              <a:xfrm>
                <a:off x="5376240" y="2160720"/>
                <a:ext cx="192600" cy="582480"/>
                <a:chOff x="5376240" y="2160720"/>
                <a:chExt cx="192600" cy="582480"/>
              </a:xfrm>
            </p:grpSpPr>
            <p:grpSp>
              <p:nvGrpSpPr>
                <p:cNvPr id="609" name=""/>
                <p:cNvGrpSpPr/>
                <p:nvPr/>
              </p:nvGrpSpPr>
              <p:grpSpPr>
                <a:xfrm>
                  <a:off x="5376240" y="2160720"/>
                  <a:ext cx="192600" cy="66600"/>
                  <a:chOff x="5376240" y="2160720"/>
                  <a:chExt cx="192600" cy="66600"/>
                </a:xfrm>
              </p:grpSpPr>
              <p:sp>
                <p:nvSpPr>
                  <p:cNvPr id="610" name=""/>
                  <p:cNvSpPr/>
                  <p:nvPr/>
                </p:nvSpPr>
                <p:spPr>
                  <a:xfrm flipH="1">
                    <a:off x="5376240" y="2192760"/>
                    <a:ext cx="150840" cy="720"/>
                  </a:xfrm>
                  <a:prstGeom prst="line">
                    <a:avLst/>
                  </a:prstGeom>
                  <a:ln w="9000">
                    <a:solidFill>
                      <a:srgbClr val="ffff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ffff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>
                    <a:off x="5504400" y="2160720"/>
                    <a:ext cx="6444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" h="101">
                        <a:moveTo>
                          <a:pt x="0" y="101"/>
                        </a:moveTo>
                        <a:lnTo>
                          <a:pt x="100" y="49"/>
                        </a:lnTo>
                        <a:lnTo>
                          <a:pt x="0" y="0"/>
                        </a:lnTo>
                        <a:lnTo>
                          <a:pt x="31" y="49"/>
                        </a:lnTo>
                        <a:lnTo>
                          <a:pt x="0" y="101"/>
                        </a:lnTo>
                        <a:close/>
                      </a:path>
                    </a:pathLst>
                  </a:custGeom>
                  <a:solidFill>
                    <a:srgbClr val="ffff66"/>
                  </a:solidFill>
                  <a:ln w="9360">
                    <a:solidFill>
                      <a:srgbClr val="ffff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ffff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2" name=""/>
                <p:cNvGrpSpPr/>
                <p:nvPr/>
              </p:nvGrpSpPr>
              <p:grpSpPr>
                <a:xfrm>
                  <a:off x="5435280" y="2433600"/>
                  <a:ext cx="133560" cy="65160"/>
                  <a:chOff x="5435280" y="2433600"/>
                  <a:chExt cx="133560" cy="65160"/>
                </a:xfrm>
              </p:grpSpPr>
              <p:sp>
                <p:nvSpPr>
                  <p:cNvPr id="613" name=""/>
                  <p:cNvSpPr/>
                  <p:nvPr/>
                </p:nvSpPr>
                <p:spPr>
                  <a:xfrm flipH="1">
                    <a:off x="5435280" y="2465280"/>
                    <a:ext cx="92160" cy="360"/>
                  </a:xfrm>
                  <a:prstGeom prst="line">
                    <a:avLst/>
                  </a:prstGeom>
                  <a:ln w="9000">
                    <a:solidFill>
                      <a:srgbClr val="ffff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ffff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>
                    <a:off x="5504040" y="2433600"/>
                    <a:ext cx="6480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0" h="101">
                        <a:moveTo>
                          <a:pt x="0" y="101"/>
                        </a:moveTo>
                        <a:lnTo>
                          <a:pt x="100" y="49"/>
                        </a:lnTo>
                        <a:lnTo>
                          <a:pt x="0" y="0"/>
                        </a:lnTo>
                        <a:lnTo>
                          <a:pt x="31" y="49"/>
                        </a:lnTo>
                        <a:lnTo>
                          <a:pt x="0" y="101"/>
                        </a:lnTo>
                        <a:close/>
                      </a:path>
                    </a:pathLst>
                  </a:custGeom>
                  <a:solidFill>
                    <a:srgbClr val="ffff66"/>
                  </a:solidFill>
                  <a:ln w="9360">
                    <a:solidFill>
                      <a:srgbClr val="ffff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2400" spc="-1" strike="noStrike">
                      <a:solidFill>
                        <a:srgbClr val="ffff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5" name=""/>
                <p:cNvGrpSpPr/>
                <p:nvPr/>
              </p:nvGrpSpPr>
              <p:grpSpPr>
                <a:xfrm>
                  <a:off x="5500080" y="2679840"/>
                  <a:ext cx="68760" cy="63360"/>
                  <a:chOff x="5500080" y="2679840"/>
                  <a:chExt cx="68760" cy="63360"/>
                </a:xfrm>
              </p:grpSpPr>
              <p:sp>
                <p:nvSpPr>
                  <p:cNvPr id="616" name=""/>
                  <p:cNvSpPr/>
                  <p:nvPr/>
                </p:nvSpPr>
                <p:spPr>
                  <a:xfrm flipH="1">
                    <a:off x="5500080" y="2710440"/>
                    <a:ext cx="26280" cy="360"/>
                  </a:xfrm>
                  <a:prstGeom prst="line">
                    <a:avLst/>
                  </a:prstGeom>
                  <a:ln w="9000">
                    <a:solidFill>
                      <a:srgbClr val="ffff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ffff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>
                    <a:off x="5502960" y="2679840"/>
                    <a:ext cx="658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00" h="101">
                        <a:moveTo>
                          <a:pt x="0" y="101"/>
                        </a:moveTo>
                        <a:lnTo>
                          <a:pt x="100" y="49"/>
                        </a:lnTo>
                        <a:lnTo>
                          <a:pt x="0" y="0"/>
                        </a:lnTo>
                        <a:lnTo>
                          <a:pt x="31" y="49"/>
                        </a:lnTo>
                        <a:lnTo>
                          <a:pt x="0" y="101"/>
                        </a:lnTo>
                        <a:close/>
                      </a:path>
                    </a:pathLst>
                  </a:custGeom>
                  <a:solidFill>
                    <a:srgbClr val="ffff66"/>
                  </a:solidFill>
                  <a:ln w="9360">
                    <a:solidFill>
                      <a:srgbClr val="ffff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ffff66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18" name=""/>
              <p:cNvSpPr/>
              <p:nvPr/>
            </p:nvSpPr>
            <p:spPr>
              <a:xfrm>
                <a:off x="5457600" y="3009960"/>
                <a:ext cx="1300320" cy="1728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V="1">
                <a:off x="5607000" y="2192040"/>
                <a:ext cx="0" cy="817560"/>
              </a:xfrm>
              <a:prstGeom prst="line">
                <a:avLst/>
              </a:prstGeom>
              <a:ln w="32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602320" y="2193840"/>
                <a:ext cx="963360" cy="0"/>
              </a:xfrm>
              <a:prstGeom prst="line">
                <a:avLst/>
              </a:prstGeom>
              <a:ln w="32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607000" y="2459160"/>
                <a:ext cx="933480" cy="0"/>
              </a:xfrm>
              <a:prstGeom prst="line">
                <a:avLst/>
              </a:prstGeom>
              <a:ln w="32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607000" y="2725920"/>
                <a:ext cx="954000" cy="0"/>
              </a:xfrm>
              <a:prstGeom prst="line">
                <a:avLst/>
              </a:prstGeom>
              <a:ln w="32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V="1">
                <a:off x="6081480" y="2209680"/>
                <a:ext cx="0" cy="79848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V="1">
                <a:off x="6556320" y="2184120"/>
                <a:ext cx="0" cy="839880"/>
              </a:xfrm>
              <a:prstGeom prst="line">
                <a:avLst/>
              </a:prstGeom>
              <a:ln w="32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V="1">
                <a:off x="6554520" y="2010960"/>
                <a:ext cx="0" cy="65160"/>
              </a:xfrm>
              <a:prstGeom prst="line">
                <a:avLst/>
              </a:prstGeom>
              <a:ln w="64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V="1">
                <a:off x="6683400" y="2010960"/>
                <a:ext cx="0" cy="65160"/>
              </a:xfrm>
              <a:prstGeom prst="line">
                <a:avLst/>
              </a:prstGeom>
              <a:ln w="64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508800" y="2044800"/>
                <a:ext cx="236520" cy="0"/>
              </a:xfrm>
              <a:prstGeom prst="line">
                <a:avLst/>
              </a:prstGeom>
              <a:ln w="64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000480" y="2138400"/>
                <a:ext cx="158760" cy="125280"/>
              </a:xfrm>
              <a:prstGeom prst="flowChartConnector">
                <a:avLst/>
              </a:prstGeom>
              <a:solidFill>
                <a:srgbClr val="ffff66"/>
              </a:solidFill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sp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000480" y="2386080"/>
                <a:ext cx="158760" cy="123840"/>
              </a:xfrm>
              <a:prstGeom prst="flowChartConnector">
                <a:avLst/>
              </a:prstGeom>
              <a:solidFill>
                <a:srgbClr val="ffff66"/>
              </a:solidFill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sp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000480" y="2668680"/>
                <a:ext cx="158760" cy="125280"/>
              </a:xfrm>
              <a:prstGeom prst="flowChartConnector">
                <a:avLst/>
              </a:prstGeom>
              <a:solidFill>
                <a:srgbClr val="ffff66"/>
              </a:solidFill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sp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31" name=""/>
                  <p:cNvSpPr txBox="1"/>
                  <p:nvPr/>
                </p:nvSpPr>
                <p:spPr>
                  <a:xfrm>
                    <a:off x="5010120" y="1765440"/>
                    <a:ext cx="912600" cy="387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32" name=""/>
                  <p:cNvSpPr txBox="1"/>
                  <p:nvPr/>
                </p:nvSpPr>
                <p:spPr>
                  <a:xfrm>
                    <a:off x="5395680" y="3254400"/>
                    <a:ext cx="1231920" cy="455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33" name=""/>
                  <p:cNvSpPr txBox="1"/>
                  <p:nvPr/>
                </p:nvSpPr>
                <p:spPr>
                  <a:xfrm>
                    <a:off x="6492600" y="1697040"/>
                    <a:ext cx="317520" cy="409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634" name=""/>
            <p:cNvGrpSpPr/>
            <p:nvPr/>
          </p:nvGrpSpPr>
          <p:grpSpPr>
            <a:xfrm>
              <a:off x="6949800" y="1879560"/>
              <a:ext cx="1757160" cy="1598760"/>
              <a:chOff x="6949800" y="1879560"/>
              <a:chExt cx="1757160" cy="1598760"/>
            </a:xfrm>
          </p:grpSpPr>
          <p:grpSp>
            <p:nvGrpSpPr>
              <p:cNvPr id="635" name=""/>
              <p:cNvGrpSpPr/>
              <p:nvPr/>
            </p:nvGrpSpPr>
            <p:grpSpPr>
              <a:xfrm>
                <a:off x="7268760" y="2039760"/>
                <a:ext cx="1438200" cy="1083960"/>
                <a:chOff x="7268760" y="2039760"/>
                <a:chExt cx="1438200" cy="1083960"/>
              </a:xfrm>
            </p:grpSpPr>
            <p:sp>
              <p:nvSpPr>
                <p:cNvPr id="636" name=""/>
                <p:cNvSpPr/>
                <p:nvPr/>
              </p:nvSpPr>
              <p:spPr>
                <a:xfrm flipV="1">
                  <a:off x="7312680" y="2039760"/>
                  <a:ext cx="0" cy="1083960"/>
                </a:xfrm>
                <a:prstGeom prst="line">
                  <a:avLst/>
                </a:prstGeom>
                <a:ln w="9360">
                  <a:solidFill>
                    <a:srgbClr val="ffff66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7268760" y="3044520"/>
                  <a:ext cx="1438200" cy="0"/>
                </a:xfrm>
                <a:prstGeom prst="line">
                  <a:avLst/>
                </a:prstGeom>
                <a:ln w="9360">
                  <a:solidFill>
                    <a:srgbClr val="ffff66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7312680" y="2271600"/>
                  <a:ext cx="1201680" cy="772560"/>
                </a:xfrm>
                <a:custGeom>
                  <a:avLst/>
                  <a:gdLst/>
                  <a:ahLst/>
                  <a:rect l="l" t="t" r="r" b="b"/>
                  <a:pathLst>
                    <a:path w="2008" h="812">
                      <a:moveTo>
                        <a:pt x="0" y="812"/>
                      </a:moveTo>
                      <a:cubicBezTo>
                        <a:pt x="53" y="663"/>
                        <a:pt x="106" y="515"/>
                        <a:pt x="168" y="416"/>
                      </a:cubicBezTo>
                      <a:cubicBezTo>
                        <a:pt x="230" y="317"/>
                        <a:pt x="268" y="269"/>
                        <a:pt x="372" y="216"/>
                      </a:cubicBezTo>
                      <a:cubicBezTo>
                        <a:pt x="476" y="163"/>
                        <a:pt x="597" y="131"/>
                        <a:pt x="792" y="100"/>
                      </a:cubicBezTo>
                      <a:cubicBezTo>
                        <a:pt x="987" y="69"/>
                        <a:pt x="1337" y="45"/>
                        <a:pt x="1540" y="28"/>
                      </a:cubicBezTo>
                      <a:cubicBezTo>
                        <a:pt x="1743" y="11"/>
                        <a:pt x="1855" y="7"/>
                        <a:pt x="2008" y="0"/>
                      </a:cubicBezTo>
                    </a:path>
                  </a:pathLst>
                </a:custGeom>
                <a:noFill/>
                <a:ln w="28440">
                  <a:solidFill>
                    <a:srgbClr val="ffff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639" name=""/>
                  <p:cNvSpPr txBox="1"/>
                  <p:nvPr/>
                </p:nvSpPr>
                <p:spPr>
                  <a:xfrm>
                    <a:off x="8311680" y="3068640"/>
                    <a:ext cx="319320" cy="409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40" name=""/>
                  <p:cNvSpPr txBox="1"/>
                  <p:nvPr/>
                </p:nvSpPr>
                <p:spPr>
                  <a:xfrm>
                    <a:off x="6949800" y="1879560"/>
                    <a:ext cx="296640" cy="389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641" name=""/>
          <p:cNvSpPr/>
          <p:nvPr/>
        </p:nvSpPr>
        <p:spPr>
          <a:xfrm>
            <a:off x="5027760" y="9763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Curva di Prestazione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210280" y="42670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99"/>
                </a:solidFill>
                <a:latin typeface="Comic Sans MS"/>
              </a:rPr>
              <a:t>Bilinearizzazione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7775640" y="5445000"/>
                <a:ext cx="11476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644" name=""/>
          <p:cNvGrpSpPr/>
          <p:nvPr/>
        </p:nvGrpSpPr>
        <p:grpSpPr>
          <a:xfrm>
            <a:off x="6000840" y="4987440"/>
            <a:ext cx="1757160" cy="1645200"/>
            <a:chOff x="6000840" y="4987440"/>
            <a:chExt cx="1757160" cy="1645200"/>
          </a:xfrm>
        </p:grpSpPr>
        <p:grpSp>
          <p:nvGrpSpPr>
            <p:cNvPr id="645" name=""/>
            <p:cNvGrpSpPr/>
            <p:nvPr/>
          </p:nvGrpSpPr>
          <p:grpSpPr>
            <a:xfrm>
              <a:off x="6000840" y="5033880"/>
              <a:ext cx="1757160" cy="1598760"/>
              <a:chOff x="6000840" y="5033880"/>
              <a:chExt cx="1757160" cy="1598760"/>
            </a:xfrm>
          </p:grpSpPr>
          <p:grpSp>
            <p:nvGrpSpPr>
              <p:cNvPr id="646" name=""/>
              <p:cNvGrpSpPr/>
              <p:nvPr/>
            </p:nvGrpSpPr>
            <p:grpSpPr>
              <a:xfrm>
                <a:off x="6319800" y="5194080"/>
                <a:ext cx="1438200" cy="1083960"/>
                <a:chOff x="6319800" y="5194080"/>
                <a:chExt cx="1438200" cy="1083960"/>
              </a:xfrm>
            </p:grpSpPr>
            <p:sp>
              <p:nvSpPr>
                <p:cNvPr id="647" name=""/>
                <p:cNvSpPr/>
                <p:nvPr/>
              </p:nvSpPr>
              <p:spPr>
                <a:xfrm flipV="1">
                  <a:off x="6363720" y="5194080"/>
                  <a:ext cx="0" cy="1083960"/>
                </a:xfrm>
                <a:prstGeom prst="line">
                  <a:avLst/>
                </a:prstGeom>
                <a:ln w="9360">
                  <a:solidFill>
                    <a:srgbClr val="ffff66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6319800" y="6198840"/>
                  <a:ext cx="1438200" cy="0"/>
                </a:xfrm>
                <a:prstGeom prst="line">
                  <a:avLst/>
                </a:prstGeom>
                <a:ln w="9360">
                  <a:solidFill>
                    <a:srgbClr val="ffff66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6363720" y="5425920"/>
                  <a:ext cx="1201680" cy="772560"/>
                </a:xfrm>
                <a:custGeom>
                  <a:avLst/>
                  <a:gdLst/>
                  <a:ahLst/>
                  <a:rect l="l" t="t" r="r" b="b"/>
                  <a:pathLst>
                    <a:path w="2008" h="812">
                      <a:moveTo>
                        <a:pt x="0" y="812"/>
                      </a:moveTo>
                      <a:cubicBezTo>
                        <a:pt x="53" y="663"/>
                        <a:pt x="106" y="515"/>
                        <a:pt x="168" y="416"/>
                      </a:cubicBezTo>
                      <a:cubicBezTo>
                        <a:pt x="230" y="317"/>
                        <a:pt x="268" y="269"/>
                        <a:pt x="372" y="216"/>
                      </a:cubicBezTo>
                      <a:cubicBezTo>
                        <a:pt x="476" y="163"/>
                        <a:pt x="597" y="131"/>
                        <a:pt x="792" y="100"/>
                      </a:cubicBezTo>
                      <a:cubicBezTo>
                        <a:pt x="987" y="69"/>
                        <a:pt x="1337" y="45"/>
                        <a:pt x="1540" y="28"/>
                      </a:cubicBezTo>
                      <a:cubicBezTo>
                        <a:pt x="1743" y="11"/>
                        <a:pt x="1855" y="7"/>
                        <a:pt x="2008" y="0"/>
                      </a:cubicBezTo>
                    </a:path>
                  </a:pathLst>
                </a:custGeom>
                <a:noFill/>
                <a:ln w="28440">
                  <a:solidFill>
                    <a:srgbClr val="ffff66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650" name=""/>
                  <p:cNvSpPr txBox="1"/>
                  <p:nvPr/>
                </p:nvSpPr>
                <p:spPr>
                  <a:xfrm>
                    <a:off x="7362720" y="6222960"/>
                    <a:ext cx="319320" cy="409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51" name=""/>
                  <p:cNvSpPr txBox="1"/>
                  <p:nvPr/>
                </p:nvSpPr>
                <p:spPr>
                  <a:xfrm>
                    <a:off x="6000840" y="5033880"/>
                    <a:ext cx="296640" cy="387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652" name=""/>
            <p:cNvSpPr/>
            <p:nvPr/>
          </p:nvSpPr>
          <p:spPr>
            <a:xfrm flipV="1">
              <a:off x="6373440" y="5500800"/>
              <a:ext cx="265680" cy="69588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608880" y="5519880"/>
              <a:ext cx="987480" cy="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4" name=""/>
                <p:cNvSpPr txBox="1"/>
                <p:nvPr/>
              </p:nvSpPr>
              <p:spPr>
                <a:xfrm>
                  <a:off x="6451560" y="5873760"/>
                  <a:ext cx="343080" cy="38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55" name=""/>
            <p:cNvSpPr/>
            <p:nvPr/>
          </p:nvSpPr>
          <p:spPr>
            <a:xfrm flipV="1">
              <a:off x="6378480" y="4987440"/>
              <a:ext cx="147600" cy="120204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6" name=""/>
                <p:cNvSpPr txBox="1"/>
                <p:nvPr/>
              </p:nvSpPr>
              <p:spPr>
                <a:xfrm>
                  <a:off x="6481800" y="5030640"/>
                  <a:ext cx="320760" cy="38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57" name=""/>
            <p:cNvSpPr/>
            <p:nvPr/>
          </p:nvSpPr>
          <p:spPr>
            <a:xfrm>
              <a:off x="6440400" y="5337360"/>
              <a:ext cx="209520" cy="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1412640" y="1773360"/>
            <a:ext cx="1468800" cy="1329840"/>
            <a:chOff x="1412640" y="1773360"/>
            <a:chExt cx="1468800" cy="1329840"/>
          </a:xfrm>
        </p:grpSpPr>
        <p:grpSp>
          <p:nvGrpSpPr>
            <p:cNvPr id="659" name=""/>
            <p:cNvGrpSpPr/>
            <p:nvPr/>
          </p:nvGrpSpPr>
          <p:grpSpPr>
            <a:xfrm>
              <a:off x="1412640" y="2236680"/>
              <a:ext cx="192240" cy="581760"/>
              <a:chOff x="1412640" y="2236680"/>
              <a:chExt cx="192240" cy="581760"/>
            </a:xfrm>
          </p:grpSpPr>
          <p:grpSp>
            <p:nvGrpSpPr>
              <p:cNvPr id="660" name=""/>
              <p:cNvGrpSpPr/>
              <p:nvPr/>
            </p:nvGrpSpPr>
            <p:grpSpPr>
              <a:xfrm>
                <a:off x="1412640" y="2236680"/>
                <a:ext cx="192240" cy="66240"/>
                <a:chOff x="1412640" y="2236680"/>
                <a:chExt cx="192240" cy="66240"/>
              </a:xfrm>
            </p:grpSpPr>
            <p:sp>
              <p:nvSpPr>
                <p:cNvPr id="661" name=""/>
                <p:cNvSpPr/>
                <p:nvPr/>
              </p:nvSpPr>
              <p:spPr>
                <a:xfrm flipH="1">
                  <a:off x="1412640" y="2268720"/>
                  <a:ext cx="150840" cy="720"/>
                </a:xfrm>
                <a:prstGeom prst="line">
                  <a:avLst/>
                </a:prstGeom>
                <a:ln w="90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1540440" y="2236680"/>
                  <a:ext cx="64440" cy="66240"/>
                </a:xfrm>
                <a:custGeom>
                  <a:avLst/>
                  <a:gdLst/>
                  <a:ahLst/>
                  <a:rect l="l" t="t" r="r" b="b"/>
                  <a:pathLst>
                    <a:path w="100" h="101">
                      <a:moveTo>
                        <a:pt x="0" y="101"/>
                      </a:moveTo>
                      <a:lnTo>
                        <a:pt x="100" y="49"/>
                      </a:lnTo>
                      <a:lnTo>
                        <a:pt x="0" y="0"/>
                      </a:lnTo>
                      <a:lnTo>
                        <a:pt x="31" y="49"/>
                      </a:lnTo>
                      <a:lnTo>
                        <a:pt x="0" y="101"/>
                      </a:lnTo>
                      <a:close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ffff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3" name=""/>
              <p:cNvGrpSpPr/>
              <p:nvPr/>
            </p:nvGrpSpPr>
            <p:grpSpPr>
              <a:xfrm>
                <a:off x="1470960" y="2509200"/>
                <a:ext cx="133200" cy="64800"/>
                <a:chOff x="1470960" y="2509200"/>
                <a:chExt cx="133200" cy="64800"/>
              </a:xfrm>
            </p:grpSpPr>
            <p:sp>
              <p:nvSpPr>
                <p:cNvPr id="664" name=""/>
                <p:cNvSpPr/>
                <p:nvPr/>
              </p:nvSpPr>
              <p:spPr>
                <a:xfrm flipH="1">
                  <a:off x="1470960" y="2540520"/>
                  <a:ext cx="91800" cy="360"/>
                </a:xfrm>
                <a:prstGeom prst="line">
                  <a:avLst/>
                </a:prstGeom>
                <a:ln w="90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1539720" y="2509200"/>
                  <a:ext cx="64440" cy="64800"/>
                </a:xfrm>
                <a:custGeom>
                  <a:avLst/>
                  <a:gdLst/>
                  <a:ahLst/>
                  <a:rect l="l" t="t" r="r" b="b"/>
                  <a:pathLst>
                    <a:path w="100" h="101">
                      <a:moveTo>
                        <a:pt x="0" y="101"/>
                      </a:moveTo>
                      <a:lnTo>
                        <a:pt x="100" y="49"/>
                      </a:lnTo>
                      <a:lnTo>
                        <a:pt x="0" y="0"/>
                      </a:lnTo>
                      <a:lnTo>
                        <a:pt x="31" y="49"/>
                      </a:lnTo>
                      <a:lnTo>
                        <a:pt x="0" y="101"/>
                      </a:lnTo>
                      <a:close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ffff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6" name=""/>
              <p:cNvGrpSpPr/>
              <p:nvPr/>
            </p:nvGrpSpPr>
            <p:grpSpPr>
              <a:xfrm>
                <a:off x="1536120" y="2755440"/>
                <a:ext cx="68400" cy="63000"/>
                <a:chOff x="1536120" y="2755440"/>
                <a:chExt cx="68400" cy="63000"/>
              </a:xfrm>
            </p:grpSpPr>
            <p:sp>
              <p:nvSpPr>
                <p:cNvPr id="667" name=""/>
                <p:cNvSpPr/>
                <p:nvPr/>
              </p:nvSpPr>
              <p:spPr>
                <a:xfrm flipH="1">
                  <a:off x="1536120" y="2786040"/>
                  <a:ext cx="26280" cy="360"/>
                </a:xfrm>
                <a:prstGeom prst="line">
                  <a:avLst/>
                </a:prstGeom>
                <a:ln w="90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1539000" y="2755440"/>
                  <a:ext cx="65520" cy="63000"/>
                </a:xfrm>
                <a:custGeom>
                  <a:avLst/>
                  <a:gdLst/>
                  <a:ahLst/>
                  <a:rect l="l" t="t" r="r" b="b"/>
                  <a:pathLst>
                    <a:path w="100" h="101">
                      <a:moveTo>
                        <a:pt x="0" y="101"/>
                      </a:moveTo>
                      <a:lnTo>
                        <a:pt x="100" y="49"/>
                      </a:lnTo>
                      <a:lnTo>
                        <a:pt x="0" y="0"/>
                      </a:lnTo>
                      <a:lnTo>
                        <a:pt x="31" y="49"/>
                      </a:lnTo>
                      <a:lnTo>
                        <a:pt x="0" y="101"/>
                      </a:lnTo>
                      <a:close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ffff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69" name=""/>
            <p:cNvSpPr/>
            <p:nvPr/>
          </p:nvSpPr>
          <p:spPr>
            <a:xfrm>
              <a:off x="1494000" y="3085920"/>
              <a:ext cx="1299960" cy="172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V="1">
              <a:off x="1643040" y="2268360"/>
              <a:ext cx="0" cy="817200"/>
            </a:xfrm>
            <a:prstGeom prst="line">
              <a:avLst/>
            </a:prstGeom>
            <a:ln w="3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638360" y="2270160"/>
              <a:ext cx="963720" cy="0"/>
            </a:xfrm>
            <a:prstGeom prst="line">
              <a:avLst/>
            </a:prstGeom>
            <a:ln w="3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643040" y="2535120"/>
              <a:ext cx="933480" cy="0"/>
            </a:xfrm>
            <a:prstGeom prst="line">
              <a:avLst/>
            </a:prstGeom>
            <a:ln w="3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643040" y="2801880"/>
              <a:ext cx="954000" cy="0"/>
            </a:xfrm>
            <a:prstGeom prst="line">
              <a:avLst/>
            </a:prstGeom>
            <a:ln w="3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>
              <a:off x="2117880" y="2285640"/>
              <a:ext cx="0" cy="7981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V="1">
              <a:off x="2592360" y="2260440"/>
              <a:ext cx="0" cy="839520"/>
            </a:xfrm>
            <a:prstGeom prst="line">
              <a:avLst/>
            </a:prstGeom>
            <a:ln w="3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V="1">
              <a:off x="2590920" y="2087280"/>
              <a:ext cx="0" cy="64800"/>
            </a:xfrm>
            <a:prstGeom prst="line">
              <a:avLst/>
            </a:prstGeom>
            <a:ln w="64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V="1">
              <a:off x="2719440" y="2087280"/>
              <a:ext cx="0" cy="64800"/>
            </a:xfrm>
            <a:prstGeom prst="line">
              <a:avLst/>
            </a:prstGeom>
            <a:ln w="64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544840" y="2120760"/>
              <a:ext cx="236520" cy="0"/>
            </a:xfrm>
            <a:prstGeom prst="line">
              <a:avLst/>
            </a:prstGeom>
            <a:ln w="64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036880" y="2214360"/>
              <a:ext cx="158760" cy="125280"/>
            </a:xfrm>
            <a:prstGeom prst="flowChartConnector">
              <a:avLst/>
            </a:prstGeom>
            <a:solidFill>
              <a:srgbClr val="ffff66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sp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036880" y="2462040"/>
              <a:ext cx="158760" cy="123480"/>
            </a:xfrm>
            <a:prstGeom prst="flowChartConnector">
              <a:avLst/>
            </a:prstGeom>
            <a:solidFill>
              <a:srgbClr val="ffff66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sp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036880" y="2744640"/>
              <a:ext cx="158760" cy="124920"/>
            </a:xfrm>
            <a:prstGeom prst="flowChartConnector">
              <a:avLst/>
            </a:prstGeom>
            <a:solidFill>
              <a:srgbClr val="ffff66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ctr">
              <a:sp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2" name=""/>
                <p:cNvSpPr txBox="1"/>
                <p:nvPr/>
              </p:nvSpPr>
              <p:spPr>
                <a:xfrm>
                  <a:off x="2494080" y="1773360"/>
                  <a:ext cx="38736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83" name=""/>
          <p:cNvSpPr/>
          <p:nvPr/>
        </p:nvSpPr>
        <p:spPr>
          <a:xfrm>
            <a:off x="366840" y="976320"/>
            <a:ext cx="347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Spostamento elastico (analisi modale)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01600" y="4267080"/>
            <a:ext cx="450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Amplificazione spostamento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5" name=""/>
              <p:cNvSpPr txBox="1"/>
              <p:nvPr/>
            </p:nvSpPr>
            <p:spPr>
              <a:xfrm>
                <a:off x="127080" y="4951440"/>
                <a:ext cx="15904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l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e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e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6" name=""/>
              <p:cNvSpPr txBox="1"/>
              <p:nvPr/>
            </p:nvSpPr>
            <p:spPr>
              <a:xfrm>
                <a:off x="98280" y="5780160"/>
                <a:ext cx="33688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l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e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e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μ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μ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3757680" y="5065560"/>
                <a:ext cx="149544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≥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o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μ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8" name=""/>
              <p:cNvSpPr txBox="1"/>
              <p:nvPr/>
            </p:nvSpPr>
            <p:spPr>
              <a:xfrm>
                <a:off x="3747960" y="5942160"/>
                <a:ext cx="151308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μ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9" name=""/>
          <p:cNvSpPr/>
          <p:nvPr/>
        </p:nvSpPr>
        <p:spPr>
          <a:xfrm rot="16200000">
            <a:off x="4326120" y="2560680"/>
            <a:ext cx="334800" cy="458640"/>
          </a:xfrm>
          <a:prstGeom prst="downArrow">
            <a:avLst>
              <a:gd name="adj1" fmla="val 50000"/>
              <a:gd name="adj2" fmla="val 34247"/>
            </a:avLst>
          </a:prstGeom>
          <a:solidFill>
            <a:srgbClr val="ffcc66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980400" y="3733920"/>
            <a:ext cx="334800" cy="458640"/>
          </a:xfrm>
          <a:prstGeom prst="downArrow">
            <a:avLst>
              <a:gd name="adj1" fmla="val 50000"/>
              <a:gd name="adj2" fmla="val 34247"/>
            </a:avLst>
          </a:prstGeom>
          <a:solidFill>
            <a:srgbClr val="ffcc66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400000">
            <a:off x="5495040" y="5474880"/>
            <a:ext cx="335160" cy="459000"/>
          </a:xfrm>
          <a:prstGeom prst="downArrow">
            <a:avLst>
              <a:gd name="adj1" fmla="val 50000"/>
              <a:gd name="adj2" fmla="val 34237"/>
            </a:avLst>
          </a:prstGeom>
          <a:solidFill>
            <a:srgbClr val="ffcc66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4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61800" y="-360"/>
            <a:ext cx="83901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Comic Sans MS"/>
              </a:rPr>
              <a:t>Validazione del metodo N1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5273640" y="1171440"/>
            <a:ext cx="3573000" cy="5495760"/>
            <a:chOff x="5273640" y="1171440"/>
            <a:chExt cx="3573000" cy="5495760"/>
          </a:xfrm>
        </p:grpSpPr>
        <p:sp>
          <p:nvSpPr>
            <p:cNvPr id="694" name=""/>
            <p:cNvSpPr/>
            <p:nvPr/>
          </p:nvSpPr>
          <p:spPr>
            <a:xfrm>
              <a:off x="5460120" y="5165280"/>
              <a:ext cx="269280" cy="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598720" y="5165280"/>
              <a:ext cx="0" cy="40824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460120" y="5573880"/>
              <a:ext cx="269280" cy="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426280" y="6347880"/>
              <a:ext cx="374760" cy="112680"/>
            </a:xfrm>
            <a:prstGeom prst="rect">
              <a:avLst/>
            </a:prstGeom>
            <a:noFill/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402520" y="6496920"/>
              <a:ext cx="53280" cy="66960"/>
            </a:xfrm>
            <a:prstGeom prst="flowChartExtra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775480" y="6496920"/>
              <a:ext cx="53280" cy="63360"/>
            </a:xfrm>
            <a:prstGeom prst="flowChartExtra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608800" y="6347880"/>
              <a:ext cx="0" cy="112680"/>
            </a:xfrm>
            <a:prstGeom prst="line">
              <a:avLst/>
            </a:prstGeom>
            <a:ln w="9360">
              <a:solidFill>
                <a:srgbClr val="ffff66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26280" y="6347880"/>
              <a:ext cx="0" cy="112680"/>
            </a:xfrm>
            <a:prstGeom prst="line">
              <a:avLst/>
            </a:prstGeom>
            <a:ln w="9360">
              <a:solidFill>
                <a:srgbClr val="ffff66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801040" y="6347880"/>
              <a:ext cx="0" cy="112680"/>
            </a:xfrm>
            <a:prstGeom prst="line">
              <a:avLst/>
            </a:prstGeom>
            <a:ln w="9360">
              <a:solidFill>
                <a:srgbClr val="ffff66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426280" y="6496920"/>
              <a:ext cx="374760" cy="0"/>
            </a:xfrm>
            <a:prstGeom prst="line">
              <a:avLst/>
            </a:prstGeom>
            <a:ln w="3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549400" y="6069600"/>
              <a:ext cx="11268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ctr" pos="1486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200" spc="-1" strike="noStrike">
                  <a:solidFill>
                    <a:srgbClr val="ffff66"/>
                  </a:solidFill>
                  <a:latin typeface="Comic Sans MS"/>
                  <a:ea typeface="Times New Roman"/>
                </a:rPr>
                <a:t>q</a:t>
              </a:r>
              <a:endParaRPr b="0" lang="en-US" sz="12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124400" y="6476400"/>
              <a:ext cx="53280" cy="67320"/>
            </a:xfrm>
            <a:prstGeom prst="flowChartExtra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497360" y="6476400"/>
              <a:ext cx="53280" cy="61560"/>
            </a:xfrm>
            <a:prstGeom prst="flowChartExtra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150680" y="6476400"/>
              <a:ext cx="372960" cy="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140600" y="6325920"/>
              <a:ext cx="0" cy="73080"/>
            </a:xfrm>
            <a:prstGeom prst="line">
              <a:avLst/>
            </a:prstGeom>
            <a:ln w="3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124400" y="6361920"/>
              <a:ext cx="426240" cy="0"/>
            </a:xfrm>
            <a:prstGeom prst="line">
              <a:avLst/>
            </a:prstGeom>
            <a:ln w="3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515360" y="6325920"/>
              <a:ext cx="0" cy="73080"/>
            </a:xfrm>
            <a:prstGeom prst="line">
              <a:avLst/>
            </a:prstGeom>
            <a:ln w="3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231680" y="6125400"/>
              <a:ext cx="192240" cy="2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ctr" pos="1486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66"/>
                  </a:solidFill>
                  <a:latin typeface="Comic Sans MS"/>
                  <a:ea typeface="Century Schoolbook"/>
                </a:rPr>
                <a:t>L</a:t>
              </a:r>
              <a:endParaRPr b="0" lang="en-US" sz="12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8179920" y="6173280"/>
              <a:ext cx="59724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ctr" pos="1486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66"/>
                  </a:solidFill>
                  <a:latin typeface="Comic Sans MS"/>
                  <a:ea typeface="Century Schoolbook"/>
                </a:rPr>
                <a:t>5.5</a:t>
              </a:r>
              <a:endParaRPr b="0" lang="en-US" sz="1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536960" y="6173280"/>
              <a:ext cx="71424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ctr" pos="1486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66"/>
                  </a:solidFill>
                  <a:latin typeface="Comic Sans MS"/>
                  <a:ea typeface="Century Schoolbook"/>
                </a:rPr>
                <a:t>4.5</a:t>
              </a:r>
              <a:endParaRPr b="0" lang="en-US" sz="1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344640" y="6173280"/>
              <a:ext cx="69624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ctr" pos="1486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66"/>
                  </a:solidFill>
                  <a:latin typeface="Comic Sans MS"/>
                  <a:ea typeface="Century Schoolbook"/>
                </a:rPr>
                <a:t>basso</a:t>
              </a:r>
              <a:endParaRPr b="0" lang="en-US" sz="1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850720" y="6173280"/>
              <a:ext cx="56520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ctr" pos="1486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66"/>
                  </a:solidFill>
                  <a:latin typeface="Comic Sans MS"/>
                  <a:ea typeface="Century Schoolbook"/>
                </a:rPr>
                <a:t>alto</a:t>
              </a:r>
              <a:endParaRPr b="0" lang="en-US" sz="1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912000" y="5857920"/>
              <a:ext cx="193464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ctr" pos="1044720"/>
                  <a:tab algn="ctr" pos="1486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Comic Sans MS"/>
                  <a:ea typeface="Century Schoolbook"/>
                </a:rPr>
                <a:t>Luce campate  [m]</a:t>
              </a:r>
              <a:endParaRPr b="0" lang="en-US" sz="1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273640" y="5857920"/>
              <a:ext cx="1733760" cy="31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ctr" pos="1106640"/>
                  <a:tab algn="ctr" pos="1486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Comic Sans MS"/>
                  <a:ea typeface="Century Schoolbook"/>
                </a:rPr>
                <a:t>Carico verticale</a:t>
              </a:r>
              <a:endParaRPr b="0" lang="en-US" sz="1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8162280" y="5244480"/>
              <a:ext cx="578880" cy="6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ctr" pos="1486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66"/>
                  </a:solidFill>
                  <a:latin typeface="Comic Sans MS"/>
                  <a:ea typeface="Century Schoolbook"/>
                </a:rPr>
                <a:t>IPE 330</a:t>
              </a:r>
              <a:endParaRPr b="0" lang="en-US" sz="1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584840" y="5244480"/>
              <a:ext cx="577440" cy="6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ctr" pos="1486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66"/>
                  </a:solidFill>
                  <a:latin typeface="Comic Sans MS"/>
                  <a:ea typeface="Century Schoolbook"/>
                </a:rPr>
                <a:t>IPE 300</a:t>
              </a:r>
              <a:endParaRPr b="0" lang="en-US" sz="1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007400" y="5244480"/>
              <a:ext cx="577080" cy="6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ctr" pos="1486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66"/>
                  </a:solidFill>
                  <a:latin typeface="Comic Sans MS"/>
                  <a:ea typeface="Century Schoolbook"/>
                </a:rPr>
                <a:t>IPE 270</a:t>
              </a:r>
              <a:endParaRPr b="0" lang="en-US" sz="1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427800" y="5244480"/>
              <a:ext cx="579240" cy="6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ctr" pos="1486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66"/>
                  </a:solidFill>
                  <a:latin typeface="Comic Sans MS"/>
                  <a:ea typeface="Century Schoolbook"/>
                </a:rPr>
                <a:t>IPE 240</a:t>
              </a:r>
              <a:endParaRPr b="0" lang="en-US" sz="1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850720" y="5244480"/>
              <a:ext cx="577080" cy="6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ctr" pos="1486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66"/>
                  </a:solidFill>
                  <a:latin typeface="Comic Sans MS"/>
                  <a:ea typeface="Century Schoolbook"/>
                </a:rPr>
                <a:t>IPE 220</a:t>
              </a:r>
              <a:endParaRPr b="0" lang="en-US" sz="1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273640" y="4926960"/>
              <a:ext cx="34678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ctr" pos="1486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Comic Sans MS"/>
                  <a:ea typeface="Century Schoolbook"/>
                </a:rPr>
                <a:t>Profilati delle travi</a:t>
              </a:r>
              <a:endParaRPr b="0" lang="en-US" sz="1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273640" y="1171440"/>
              <a:ext cx="3467880" cy="37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25920"/>
                  <a:tab algn="l" pos="905184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Comic Sans MS"/>
                </a:rPr>
                <a:t>Schema geometrico</a:t>
              </a:r>
              <a:endParaRPr b="0" lang="en-US" sz="1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273640" y="1212480"/>
              <a:ext cx="3467880" cy="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273640" y="6667200"/>
              <a:ext cx="3467880" cy="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273640" y="1212480"/>
              <a:ext cx="0" cy="3714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8741520" y="1212480"/>
              <a:ext cx="0" cy="3714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273640" y="4926960"/>
              <a:ext cx="0" cy="317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8741520" y="4926960"/>
              <a:ext cx="0" cy="317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273640" y="5244480"/>
              <a:ext cx="0" cy="613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8741520" y="5244480"/>
              <a:ext cx="0" cy="613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273640" y="5857920"/>
              <a:ext cx="0" cy="315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8741520" y="5857920"/>
              <a:ext cx="0" cy="315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273640" y="6173280"/>
              <a:ext cx="0" cy="493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8741520" y="6173280"/>
              <a:ext cx="0" cy="493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273640" y="4926960"/>
              <a:ext cx="3467880" cy="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273640" y="5857920"/>
              <a:ext cx="3467880" cy="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007400" y="5857920"/>
              <a:ext cx="0" cy="80928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740" name=""/>
            <p:cNvGrpSpPr/>
            <p:nvPr/>
          </p:nvGrpSpPr>
          <p:grpSpPr>
            <a:xfrm>
              <a:off x="5449680" y="1582200"/>
              <a:ext cx="493560" cy="467640"/>
              <a:chOff x="5449680" y="1582200"/>
              <a:chExt cx="493560" cy="467640"/>
            </a:xfrm>
          </p:grpSpPr>
          <p:grpSp>
            <p:nvGrpSpPr>
              <p:cNvPr id="741" name=""/>
              <p:cNvGrpSpPr/>
              <p:nvPr/>
            </p:nvGrpSpPr>
            <p:grpSpPr>
              <a:xfrm>
                <a:off x="5449680" y="1582200"/>
                <a:ext cx="322920" cy="467640"/>
                <a:chOff x="5449680" y="1582200"/>
                <a:chExt cx="322920" cy="46764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5503320" y="1582200"/>
                  <a:ext cx="216360" cy="0"/>
                </a:xfrm>
                <a:prstGeom prst="line">
                  <a:avLst/>
                </a:prstGeom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 flipV="1">
                  <a:off x="5719680" y="1582200"/>
                  <a:ext cx="0" cy="467280"/>
                </a:xfrm>
                <a:prstGeom prst="line">
                  <a:avLst/>
                </a:prstGeom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5504040" y="1893600"/>
                  <a:ext cx="216360" cy="0"/>
                </a:xfrm>
                <a:prstGeom prst="line">
                  <a:avLst/>
                </a:prstGeom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5503320" y="1738080"/>
                  <a:ext cx="216360" cy="0"/>
                </a:xfrm>
                <a:prstGeom prst="line">
                  <a:avLst/>
                </a:prstGeom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5449680" y="2049840"/>
                  <a:ext cx="322920" cy="0"/>
                </a:xfrm>
                <a:prstGeom prst="line">
                  <a:avLst/>
                </a:prstGeom>
                <a:ln w="1908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 flipV="1">
                  <a:off x="5503320" y="1582200"/>
                  <a:ext cx="0" cy="467280"/>
                </a:xfrm>
                <a:prstGeom prst="line">
                  <a:avLst/>
                </a:prstGeom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8" name=""/>
              <p:cNvSpPr/>
              <p:nvPr/>
            </p:nvSpPr>
            <p:spPr>
              <a:xfrm>
                <a:off x="5781600" y="1854360"/>
                <a:ext cx="16164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ctr" pos="14860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66"/>
                    </a:solidFill>
                    <a:latin typeface="Comic Sans MS"/>
                    <a:ea typeface="Times New Roman"/>
                  </a:rPr>
                  <a:t>1</a:t>
                </a:r>
                <a:endParaRPr b="0" lang="en-US" sz="12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grpSp>
          <p:nvGrpSpPr>
            <p:cNvPr id="749" name=""/>
            <p:cNvGrpSpPr/>
            <p:nvPr/>
          </p:nvGrpSpPr>
          <p:grpSpPr>
            <a:xfrm>
              <a:off x="5449680" y="2197080"/>
              <a:ext cx="493560" cy="937800"/>
              <a:chOff x="5449680" y="2197080"/>
              <a:chExt cx="493560" cy="937800"/>
            </a:xfrm>
          </p:grpSpPr>
          <p:grpSp>
            <p:nvGrpSpPr>
              <p:cNvPr id="750" name=""/>
              <p:cNvGrpSpPr/>
              <p:nvPr/>
            </p:nvGrpSpPr>
            <p:grpSpPr>
              <a:xfrm>
                <a:off x="5449680" y="2197080"/>
                <a:ext cx="322920" cy="937800"/>
                <a:chOff x="5449680" y="2197080"/>
                <a:chExt cx="322920" cy="937800"/>
              </a:xfrm>
            </p:grpSpPr>
            <p:sp>
              <p:nvSpPr>
                <p:cNvPr id="751" name=""/>
                <p:cNvSpPr/>
                <p:nvPr/>
              </p:nvSpPr>
              <p:spPr>
                <a:xfrm flipV="1">
                  <a:off x="5501520" y="2197440"/>
                  <a:ext cx="0" cy="937440"/>
                </a:xfrm>
                <a:prstGeom prst="line">
                  <a:avLst/>
                </a:prstGeom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 flipV="1">
                  <a:off x="5717880" y="2197440"/>
                  <a:ext cx="0" cy="937440"/>
                </a:xfrm>
                <a:prstGeom prst="line">
                  <a:avLst/>
                </a:prstGeom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5449680" y="3134880"/>
                  <a:ext cx="322920" cy="0"/>
                </a:xfrm>
                <a:prstGeom prst="line">
                  <a:avLst/>
                </a:prstGeom>
                <a:ln w="1908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5501520" y="2197080"/>
                  <a:ext cx="216360" cy="0"/>
                </a:xfrm>
                <a:prstGeom prst="line">
                  <a:avLst/>
                </a:prstGeom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5501520" y="2509200"/>
                  <a:ext cx="216360" cy="0"/>
                </a:xfrm>
                <a:prstGeom prst="line">
                  <a:avLst/>
                </a:prstGeom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5501520" y="2353320"/>
                  <a:ext cx="216360" cy="0"/>
                </a:xfrm>
                <a:prstGeom prst="line">
                  <a:avLst/>
                </a:prstGeom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5501520" y="2667600"/>
                  <a:ext cx="216360" cy="0"/>
                </a:xfrm>
                <a:prstGeom prst="line">
                  <a:avLst/>
                </a:prstGeom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5501520" y="2980080"/>
                  <a:ext cx="216360" cy="0"/>
                </a:xfrm>
                <a:prstGeom prst="line">
                  <a:avLst/>
                </a:prstGeom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5501520" y="2824200"/>
                  <a:ext cx="216360" cy="0"/>
                </a:xfrm>
                <a:prstGeom prst="line">
                  <a:avLst/>
                </a:prstGeom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0" name=""/>
              <p:cNvSpPr/>
              <p:nvPr/>
            </p:nvSpPr>
            <p:spPr>
              <a:xfrm>
                <a:off x="5781600" y="2931120"/>
                <a:ext cx="161640" cy="17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ctr" pos="14860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66"/>
                    </a:solidFill>
                    <a:latin typeface="Comic Sans MS"/>
                    <a:ea typeface="Times New Roman"/>
                  </a:rPr>
                  <a:t>4</a:t>
                </a:r>
                <a:endParaRPr b="0" lang="en-US" sz="12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5449680" y="3309840"/>
              <a:ext cx="493560" cy="1404720"/>
              <a:chOff x="5449680" y="3309840"/>
              <a:chExt cx="493560" cy="1404720"/>
            </a:xfrm>
          </p:grpSpPr>
          <p:grpSp>
            <p:nvGrpSpPr>
              <p:cNvPr id="762" name=""/>
              <p:cNvGrpSpPr/>
              <p:nvPr/>
            </p:nvGrpSpPr>
            <p:grpSpPr>
              <a:xfrm>
                <a:off x="5449680" y="3309840"/>
                <a:ext cx="322920" cy="1404720"/>
                <a:chOff x="5449680" y="3309840"/>
                <a:chExt cx="322920" cy="1404720"/>
              </a:xfrm>
            </p:grpSpPr>
            <p:sp>
              <p:nvSpPr>
                <p:cNvPr id="763" name=""/>
                <p:cNvSpPr/>
                <p:nvPr/>
              </p:nvSpPr>
              <p:spPr>
                <a:xfrm flipV="1">
                  <a:off x="5503320" y="3309840"/>
                  <a:ext cx="0" cy="1404360"/>
                </a:xfrm>
                <a:prstGeom prst="line">
                  <a:avLst/>
                </a:prstGeom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 flipV="1">
                  <a:off x="5719680" y="3309840"/>
                  <a:ext cx="0" cy="1404360"/>
                </a:xfrm>
                <a:prstGeom prst="line">
                  <a:avLst/>
                </a:prstGeom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5449680" y="4714560"/>
                  <a:ext cx="322920" cy="0"/>
                </a:xfrm>
                <a:prstGeom prst="line">
                  <a:avLst/>
                </a:prstGeom>
                <a:ln w="1908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5503320" y="3310200"/>
                  <a:ext cx="216360" cy="0"/>
                </a:xfrm>
                <a:prstGeom prst="line">
                  <a:avLst/>
                </a:prstGeom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5503320" y="3622320"/>
                  <a:ext cx="216360" cy="0"/>
                </a:xfrm>
                <a:prstGeom prst="line">
                  <a:avLst/>
                </a:prstGeom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5503320" y="3466440"/>
                  <a:ext cx="216360" cy="0"/>
                </a:xfrm>
                <a:prstGeom prst="line">
                  <a:avLst/>
                </a:prstGeom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5503320" y="3780360"/>
                  <a:ext cx="216360" cy="0"/>
                </a:xfrm>
                <a:prstGeom prst="line">
                  <a:avLst/>
                </a:prstGeom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5503320" y="4092480"/>
                  <a:ext cx="216360" cy="0"/>
                </a:xfrm>
                <a:prstGeom prst="line">
                  <a:avLst/>
                </a:prstGeom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5503320" y="3936600"/>
                  <a:ext cx="216360" cy="0"/>
                </a:xfrm>
                <a:prstGeom prst="line">
                  <a:avLst/>
                </a:prstGeom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5503320" y="4241520"/>
                  <a:ext cx="216360" cy="0"/>
                </a:xfrm>
                <a:prstGeom prst="line">
                  <a:avLst/>
                </a:prstGeom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5503320" y="4553640"/>
                  <a:ext cx="216360" cy="0"/>
                </a:xfrm>
                <a:prstGeom prst="line">
                  <a:avLst/>
                </a:prstGeom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5503320" y="4398120"/>
                  <a:ext cx="216360" cy="0"/>
                </a:xfrm>
                <a:prstGeom prst="line">
                  <a:avLst/>
                </a:prstGeom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5" name=""/>
              <p:cNvSpPr/>
              <p:nvPr/>
            </p:nvSpPr>
            <p:spPr>
              <a:xfrm>
                <a:off x="5781600" y="4517280"/>
                <a:ext cx="161640" cy="17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ctr" pos="14860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66"/>
                    </a:solidFill>
                    <a:latin typeface="Comic Sans MS"/>
                    <a:ea typeface="Times New Roman"/>
                  </a:rPr>
                  <a:t>7</a:t>
                </a:r>
                <a:endParaRPr b="0" lang="en-US" sz="12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grpSp>
          <p:nvGrpSpPr>
            <p:cNvPr id="776" name=""/>
            <p:cNvGrpSpPr/>
            <p:nvPr/>
          </p:nvGrpSpPr>
          <p:grpSpPr>
            <a:xfrm>
              <a:off x="6178320" y="3310200"/>
              <a:ext cx="920160" cy="1404360"/>
              <a:chOff x="6178320" y="3310200"/>
              <a:chExt cx="920160" cy="1404360"/>
            </a:xfrm>
          </p:grpSpPr>
          <p:grpSp>
            <p:nvGrpSpPr>
              <p:cNvPr id="777" name=""/>
              <p:cNvGrpSpPr/>
              <p:nvPr/>
            </p:nvGrpSpPr>
            <p:grpSpPr>
              <a:xfrm>
                <a:off x="6178320" y="3310200"/>
                <a:ext cx="754920" cy="1404360"/>
                <a:chOff x="6178320" y="3310200"/>
                <a:chExt cx="754920" cy="1404360"/>
              </a:xfrm>
            </p:grpSpPr>
            <p:sp>
              <p:nvSpPr>
                <p:cNvPr id="778" name=""/>
                <p:cNvSpPr/>
                <p:nvPr/>
              </p:nvSpPr>
              <p:spPr>
                <a:xfrm flipV="1">
                  <a:off x="6230160" y="3311280"/>
                  <a:ext cx="0" cy="1403280"/>
                </a:xfrm>
                <a:prstGeom prst="line">
                  <a:avLst/>
                </a:prstGeom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6446880" y="3311280"/>
                  <a:ext cx="0" cy="1403280"/>
                </a:xfrm>
                <a:prstGeom prst="line">
                  <a:avLst/>
                </a:prstGeom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6663600" y="3310200"/>
                  <a:ext cx="0" cy="1403280"/>
                </a:xfrm>
                <a:prstGeom prst="line">
                  <a:avLst/>
                </a:prstGeom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6879960" y="3310200"/>
                  <a:ext cx="0" cy="1403280"/>
                </a:xfrm>
                <a:prstGeom prst="line">
                  <a:avLst/>
                </a:prstGeom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 flipV="1">
                  <a:off x="6178320" y="4713480"/>
                  <a:ext cx="754920" cy="360"/>
                </a:xfrm>
                <a:prstGeom prst="line">
                  <a:avLst/>
                </a:prstGeom>
                <a:ln w="1908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6231240" y="3311280"/>
                  <a:ext cx="649440" cy="0"/>
                </a:xfrm>
                <a:prstGeom prst="line">
                  <a:avLst/>
                </a:prstGeom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6231240" y="3466800"/>
                  <a:ext cx="649440" cy="0"/>
                </a:xfrm>
                <a:prstGeom prst="line">
                  <a:avLst/>
                </a:prstGeom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6231240" y="3622680"/>
                  <a:ext cx="649440" cy="0"/>
                </a:xfrm>
                <a:prstGeom prst="line">
                  <a:avLst/>
                </a:prstGeom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6231240" y="3781080"/>
                  <a:ext cx="649440" cy="0"/>
                </a:xfrm>
                <a:prstGeom prst="line">
                  <a:avLst/>
                </a:prstGeom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6231240" y="3936600"/>
                  <a:ext cx="649440" cy="0"/>
                </a:xfrm>
                <a:prstGeom prst="line">
                  <a:avLst/>
                </a:prstGeom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6231240" y="4092120"/>
                  <a:ext cx="649440" cy="0"/>
                </a:xfrm>
                <a:prstGeom prst="line">
                  <a:avLst/>
                </a:prstGeom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6230160" y="4242600"/>
                  <a:ext cx="649440" cy="0"/>
                </a:xfrm>
                <a:prstGeom prst="line">
                  <a:avLst/>
                </a:prstGeom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6230160" y="4398120"/>
                  <a:ext cx="649440" cy="0"/>
                </a:xfrm>
                <a:prstGeom prst="line">
                  <a:avLst/>
                </a:prstGeom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6230160" y="4554000"/>
                  <a:ext cx="649440" cy="0"/>
                </a:xfrm>
                <a:prstGeom prst="line">
                  <a:avLst/>
                </a:prstGeom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2" name=""/>
              <p:cNvSpPr/>
              <p:nvPr/>
            </p:nvSpPr>
            <p:spPr>
              <a:xfrm>
                <a:off x="6936480" y="4517640"/>
                <a:ext cx="16200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ctr" pos="14860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66"/>
                    </a:solidFill>
                    <a:latin typeface="Comic Sans MS"/>
                    <a:ea typeface="Times New Roman"/>
                  </a:rPr>
                  <a:t>8</a:t>
                </a:r>
                <a:endParaRPr b="0" lang="en-US" sz="12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grpSp>
          <p:nvGrpSpPr>
            <p:cNvPr id="793" name=""/>
            <p:cNvGrpSpPr/>
            <p:nvPr/>
          </p:nvGrpSpPr>
          <p:grpSpPr>
            <a:xfrm>
              <a:off x="7317000" y="1582200"/>
              <a:ext cx="1362600" cy="467640"/>
              <a:chOff x="7317000" y="1582200"/>
              <a:chExt cx="1362600" cy="467640"/>
            </a:xfrm>
          </p:grpSpPr>
          <p:grpSp>
            <p:nvGrpSpPr>
              <p:cNvPr id="794" name=""/>
              <p:cNvGrpSpPr/>
              <p:nvPr/>
            </p:nvGrpSpPr>
            <p:grpSpPr>
              <a:xfrm>
                <a:off x="7317000" y="1582200"/>
                <a:ext cx="1183680" cy="467640"/>
                <a:chOff x="7317000" y="1582200"/>
                <a:chExt cx="1183680" cy="467640"/>
              </a:xfrm>
            </p:grpSpPr>
            <p:sp>
              <p:nvSpPr>
                <p:cNvPr id="795" name=""/>
                <p:cNvSpPr/>
                <p:nvPr/>
              </p:nvSpPr>
              <p:spPr>
                <a:xfrm>
                  <a:off x="7373520" y="1582200"/>
                  <a:ext cx="1080000" cy="0"/>
                </a:xfrm>
                <a:prstGeom prst="line">
                  <a:avLst/>
                </a:prstGeom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8450640" y="1582200"/>
                  <a:ext cx="0" cy="467280"/>
                </a:xfrm>
                <a:prstGeom prst="line">
                  <a:avLst/>
                </a:prstGeom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7370640" y="1582560"/>
                  <a:ext cx="0" cy="467280"/>
                </a:xfrm>
                <a:prstGeom prst="line">
                  <a:avLst/>
                </a:prstGeom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8232480" y="1582560"/>
                  <a:ext cx="0" cy="467280"/>
                </a:xfrm>
                <a:prstGeom prst="line">
                  <a:avLst/>
                </a:prstGeom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7586640" y="1582560"/>
                  <a:ext cx="0" cy="467280"/>
                </a:xfrm>
                <a:prstGeom prst="line">
                  <a:avLst/>
                </a:prstGeom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7803000" y="1582560"/>
                  <a:ext cx="0" cy="467280"/>
                </a:xfrm>
                <a:prstGeom prst="line">
                  <a:avLst/>
                </a:prstGeom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8019360" y="1582560"/>
                  <a:ext cx="0" cy="467280"/>
                </a:xfrm>
                <a:prstGeom prst="line">
                  <a:avLst/>
                </a:prstGeom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7373520" y="1893600"/>
                  <a:ext cx="1080000" cy="0"/>
                </a:xfrm>
                <a:prstGeom prst="line">
                  <a:avLst/>
                </a:prstGeom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7373520" y="1738080"/>
                  <a:ext cx="1080000" cy="0"/>
                </a:xfrm>
                <a:prstGeom prst="line">
                  <a:avLst/>
                </a:prstGeom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7317000" y="2049840"/>
                  <a:ext cx="1183680" cy="0"/>
                </a:xfrm>
                <a:prstGeom prst="line">
                  <a:avLst/>
                </a:prstGeom>
                <a:ln w="1908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5" name=""/>
              <p:cNvSpPr/>
              <p:nvPr/>
            </p:nvSpPr>
            <p:spPr>
              <a:xfrm>
                <a:off x="8517960" y="1853640"/>
                <a:ext cx="16164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ctr" pos="14860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66"/>
                    </a:solidFill>
                    <a:latin typeface="Comic Sans MS"/>
                    <a:ea typeface="Times New Roman"/>
                  </a:rPr>
                  <a:t>3</a:t>
                </a:r>
                <a:endParaRPr b="0" lang="en-US" sz="12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grpSp>
          <p:nvGrpSpPr>
            <p:cNvPr id="806" name=""/>
            <p:cNvGrpSpPr/>
            <p:nvPr/>
          </p:nvGrpSpPr>
          <p:grpSpPr>
            <a:xfrm>
              <a:off x="6178320" y="1582200"/>
              <a:ext cx="920160" cy="466920"/>
              <a:chOff x="6178320" y="1582200"/>
              <a:chExt cx="920160" cy="466920"/>
            </a:xfrm>
          </p:grpSpPr>
          <p:grpSp>
            <p:nvGrpSpPr>
              <p:cNvPr id="807" name=""/>
              <p:cNvGrpSpPr/>
              <p:nvPr/>
            </p:nvGrpSpPr>
            <p:grpSpPr>
              <a:xfrm>
                <a:off x="6178320" y="1582200"/>
                <a:ext cx="754920" cy="466920"/>
                <a:chOff x="6178320" y="1582200"/>
                <a:chExt cx="754920" cy="466920"/>
              </a:xfrm>
            </p:grpSpPr>
            <p:sp>
              <p:nvSpPr>
                <p:cNvPr id="808" name=""/>
                <p:cNvSpPr/>
                <p:nvPr/>
              </p:nvSpPr>
              <p:spPr>
                <a:xfrm>
                  <a:off x="6232320" y="1582560"/>
                  <a:ext cx="649440" cy="0"/>
                </a:xfrm>
                <a:prstGeom prst="line">
                  <a:avLst/>
                </a:prstGeom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 flipV="1">
                  <a:off x="6232320" y="1582200"/>
                  <a:ext cx="0" cy="466560"/>
                </a:xfrm>
                <a:prstGeom prst="line">
                  <a:avLst/>
                </a:prstGeom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6448680" y="1582200"/>
                  <a:ext cx="0" cy="466560"/>
                </a:xfrm>
                <a:prstGeom prst="line">
                  <a:avLst/>
                </a:prstGeom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6665400" y="1582560"/>
                  <a:ext cx="0" cy="466560"/>
                </a:xfrm>
                <a:prstGeom prst="line">
                  <a:avLst/>
                </a:prstGeom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6881760" y="1582560"/>
                  <a:ext cx="0" cy="466560"/>
                </a:xfrm>
                <a:prstGeom prst="line">
                  <a:avLst/>
                </a:prstGeom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6232320" y="1738080"/>
                  <a:ext cx="649440" cy="0"/>
                </a:xfrm>
                <a:prstGeom prst="line">
                  <a:avLst/>
                </a:prstGeom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6232320" y="1893240"/>
                  <a:ext cx="649440" cy="0"/>
                </a:xfrm>
                <a:prstGeom prst="line">
                  <a:avLst/>
                </a:prstGeom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 flipV="1">
                  <a:off x="6178320" y="2048760"/>
                  <a:ext cx="754920" cy="360"/>
                </a:xfrm>
                <a:prstGeom prst="line">
                  <a:avLst/>
                </a:prstGeom>
                <a:ln w="1908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16" name=""/>
              <p:cNvSpPr/>
              <p:nvPr/>
            </p:nvSpPr>
            <p:spPr>
              <a:xfrm>
                <a:off x="6936480" y="1854000"/>
                <a:ext cx="1620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ctr" pos="14860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66"/>
                    </a:solidFill>
                    <a:latin typeface="Comic Sans MS"/>
                    <a:ea typeface="Times New Roman"/>
                  </a:rPr>
                  <a:t>2</a:t>
                </a:r>
                <a:endParaRPr b="0" lang="en-US" sz="12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grpSp>
          <p:nvGrpSpPr>
            <p:cNvPr id="817" name=""/>
            <p:cNvGrpSpPr/>
            <p:nvPr/>
          </p:nvGrpSpPr>
          <p:grpSpPr>
            <a:xfrm>
              <a:off x="7317000" y="2202840"/>
              <a:ext cx="1362600" cy="936000"/>
              <a:chOff x="7317000" y="2202840"/>
              <a:chExt cx="1362600" cy="936000"/>
            </a:xfrm>
          </p:grpSpPr>
          <p:grpSp>
            <p:nvGrpSpPr>
              <p:cNvPr id="818" name=""/>
              <p:cNvGrpSpPr/>
              <p:nvPr/>
            </p:nvGrpSpPr>
            <p:grpSpPr>
              <a:xfrm>
                <a:off x="7317000" y="2202840"/>
                <a:ext cx="1183680" cy="936000"/>
                <a:chOff x="7317000" y="2202840"/>
                <a:chExt cx="1183680" cy="936000"/>
              </a:xfrm>
            </p:grpSpPr>
            <p:sp>
              <p:nvSpPr>
                <p:cNvPr id="819" name=""/>
                <p:cNvSpPr/>
                <p:nvPr/>
              </p:nvSpPr>
              <p:spPr>
                <a:xfrm>
                  <a:off x="7370640" y="2202840"/>
                  <a:ext cx="1080000" cy="0"/>
                </a:xfrm>
                <a:prstGeom prst="line">
                  <a:avLst/>
                </a:prstGeom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8450640" y="2202840"/>
                  <a:ext cx="0" cy="935640"/>
                </a:xfrm>
                <a:prstGeom prst="line">
                  <a:avLst/>
                </a:prstGeom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7370640" y="2203200"/>
                  <a:ext cx="0" cy="935640"/>
                </a:xfrm>
                <a:prstGeom prst="line">
                  <a:avLst/>
                </a:prstGeom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8232840" y="2203200"/>
                  <a:ext cx="0" cy="935640"/>
                </a:xfrm>
                <a:prstGeom prst="line">
                  <a:avLst/>
                </a:prstGeom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7587000" y="2203200"/>
                  <a:ext cx="0" cy="935640"/>
                </a:xfrm>
                <a:prstGeom prst="line">
                  <a:avLst/>
                </a:prstGeom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7803000" y="2203200"/>
                  <a:ext cx="0" cy="935640"/>
                </a:xfrm>
                <a:prstGeom prst="line">
                  <a:avLst/>
                </a:prstGeom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8019360" y="2203200"/>
                  <a:ext cx="0" cy="935640"/>
                </a:xfrm>
                <a:prstGeom prst="line">
                  <a:avLst/>
                </a:prstGeom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7373520" y="2514600"/>
                  <a:ext cx="1077120" cy="0"/>
                </a:xfrm>
                <a:prstGeom prst="line">
                  <a:avLst/>
                </a:prstGeom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7373520" y="2358720"/>
                  <a:ext cx="1077120" cy="0"/>
                </a:xfrm>
                <a:prstGeom prst="line">
                  <a:avLst/>
                </a:prstGeom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7317000" y="3137400"/>
                  <a:ext cx="1183680" cy="0"/>
                </a:xfrm>
                <a:prstGeom prst="line">
                  <a:avLst/>
                </a:prstGeom>
                <a:ln w="1908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7370640" y="2659680"/>
                  <a:ext cx="1080000" cy="0"/>
                </a:xfrm>
                <a:prstGeom prst="line">
                  <a:avLst/>
                </a:prstGeom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7373520" y="2971800"/>
                  <a:ext cx="1077120" cy="0"/>
                </a:xfrm>
                <a:prstGeom prst="line">
                  <a:avLst/>
                </a:prstGeom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7373520" y="2815920"/>
                  <a:ext cx="1077120" cy="0"/>
                </a:xfrm>
                <a:prstGeom prst="line">
                  <a:avLst/>
                </a:prstGeom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2" name=""/>
              <p:cNvSpPr/>
              <p:nvPr/>
            </p:nvSpPr>
            <p:spPr>
              <a:xfrm>
                <a:off x="8517960" y="2932200"/>
                <a:ext cx="16164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ctr" pos="14860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66"/>
                    </a:solidFill>
                    <a:latin typeface="Comic Sans MS"/>
                    <a:ea typeface="Times New Roman"/>
                  </a:rPr>
                  <a:t>6</a:t>
                </a:r>
                <a:endParaRPr b="0" lang="en-US" sz="12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grpSp>
          <p:nvGrpSpPr>
            <p:cNvPr id="833" name=""/>
            <p:cNvGrpSpPr/>
            <p:nvPr/>
          </p:nvGrpSpPr>
          <p:grpSpPr>
            <a:xfrm>
              <a:off x="6178320" y="2202840"/>
              <a:ext cx="920160" cy="938160"/>
              <a:chOff x="6178320" y="2202840"/>
              <a:chExt cx="920160" cy="938160"/>
            </a:xfrm>
          </p:grpSpPr>
          <p:grpSp>
            <p:nvGrpSpPr>
              <p:cNvPr id="834" name=""/>
              <p:cNvGrpSpPr/>
              <p:nvPr/>
            </p:nvGrpSpPr>
            <p:grpSpPr>
              <a:xfrm>
                <a:off x="6178320" y="2202840"/>
                <a:ext cx="754920" cy="938160"/>
                <a:chOff x="6178320" y="2202840"/>
                <a:chExt cx="754920" cy="938160"/>
              </a:xfrm>
            </p:grpSpPr>
            <p:sp>
              <p:nvSpPr>
                <p:cNvPr id="835" name=""/>
                <p:cNvSpPr/>
                <p:nvPr/>
              </p:nvSpPr>
              <p:spPr>
                <a:xfrm flipV="1">
                  <a:off x="6230160" y="2203560"/>
                  <a:ext cx="0" cy="937080"/>
                </a:xfrm>
                <a:prstGeom prst="line">
                  <a:avLst/>
                </a:prstGeom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6446880" y="2203920"/>
                  <a:ext cx="0" cy="937080"/>
                </a:xfrm>
                <a:prstGeom prst="line">
                  <a:avLst/>
                </a:prstGeom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6663600" y="2202840"/>
                  <a:ext cx="0" cy="937080"/>
                </a:xfrm>
                <a:prstGeom prst="line">
                  <a:avLst/>
                </a:prstGeom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6879960" y="2202840"/>
                  <a:ext cx="0" cy="937080"/>
                </a:xfrm>
                <a:prstGeom prst="line">
                  <a:avLst/>
                </a:prstGeom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 flipV="1">
                  <a:off x="6178320" y="3140640"/>
                  <a:ext cx="754920" cy="360"/>
                </a:xfrm>
                <a:prstGeom prst="line">
                  <a:avLst/>
                </a:prstGeom>
                <a:ln w="1908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6231240" y="2203920"/>
                  <a:ext cx="649440" cy="0"/>
                </a:xfrm>
                <a:prstGeom prst="line">
                  <a:avLst/>
                </a:prstGeom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6231240" y="2359800"/>
                  <a:ext cx="649440" cy="0"/>
                </a:xfrm>
                <a:prstGeom prst="line">
                  <a:avLst/>
                </a:prstGeom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6231240" y="2515680"/>
                  <a:ext cx="649440" cy="0"/>
                </a:xfrm>
                <a:prstGeom prst="line">
                  <a:avLst/>
                </a:prstGeom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6231240" y="2674440"/>
                  <a:ext cx="649440" cy="0"/>
                </a:xfrm>
                <a:prstGeom prst="line">
                  <a:avLst/>
                </a:prstGeom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6231240" y="2830320"/>
                  <a:ext cx="649440" cy="0"/>
                </a:xfrm>
                <a:prstGeom prst="line">
                  <a:avLst/>
                </a:prstGeom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6231240" y="2986200"/>
                  <a:ext cx="649440" cy="0"/>
                </a:xfrm>
                <a:prstGeom prst="line">
                  <a:avLst/>
                </a:prstGeom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6" name=""/>
              <p:cNvSpPr/>
              <p:nvPr/>
            </p:nvSpPr>
            <p:spPr>
              <a:xfrm>
                <a:off x="6936480" y="2932560"/>
                <a:ext cx="162000" cy="17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ctr" pos="14860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66"/>
                    </a:solidFill>
                    <a:latin typeface="Comic Sans MS"/>
                    <a:ea typeface="Times New Roman"/>
                  </a:rPr>
                  <a:t>5</a:t>
                </a:r>
                <a:endParaRPr b="0" lang="en-US" sz="12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grpSp>
          <p:nvGrpSpPr>
            <p:cNvPr id="847" name=""/>
            <p:cNvGrpSpPr/>
            <p:nvPr/>
          </p:nvGrpSpPr>
          <p:grpSpPr>
            <a:xfrm>
              <a:off x="7326720" y="3310200"/>
              <a:ext cx="1362960" cy="1407960"/>
              <a:chOff x="7326720" y="3310200"/>
              <a:chExt cx="1362960" cy="1407960"/>
            </a:xfrm>
          </p:grpSpPr>
          <p:grpSp>
            <p:nvGrpSpPr>
              <p:cNvPr id="848" name=""/>
              <p:cNvGrpSpPr/>
              <p:nvPr/>
            </p:nvGrpSpPr>
            <p:grpSpPr>
              <a:xfrm>
                <a:off x="7326720" y="3310200"/>
                <a:ext cx="1184040" cy="1407960"/>
                <a:chOff x="7326720" y="3310200"/>
                <a:chExt cx="1184040" cy="1407960"/>
              </a:xfrm>
            </p:grpSpPr>
            <p:sp>
              <p:nvSpPr>
                <p:cNvPr id="849" name=""/>
                <p:cNvSpPr/>
                <p:nvPr/>
              </p:nvSpPr>
              <p:spPr>
                <a:xfrm>
                  <a:off x="7374600" y="3310200"/>
                  <a:ext cx="1080360" cy="0"/>
                </a:xfrm>
                <a:prstGeom prst="line">
                  <a:avLst/>
                </a:prstGeom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8454960" y="3310200"/>
                  <a:ext cx="0" cy="1407240"/>
                </a:xfrm>
                <a:prstGeom prst="line">
                  <a:avLst/>
                </a:prstGeom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7374600" y="3310560"/>
                  <a:ext cx="0" cy="1407600"/>
                </a:xfrm>
                <a:prstGeom prst="line">
                  <a:avLst/>
                </a:prstGeom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8236800" y="3310560"/>
                  <a:ext cx="0" cy="1407600"/>
                </a:xfrm>
                <a:prstGeom prst="line">
                  <a:avLst/>
                </a:prstGeom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7590960" y="3310560"/>
                  <a:ext cx="0" cy="1407600"/>
                </a:xfrm>
                <a:prstGeom prst="line">
                  <a:avLst/>
                </a:prstGeom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7807320" y="3310560"/>
                  <a:ext cx="0" cy="1407600"/>
                </a:xfrm>
                <a:prstGeom prst="line">
                  <a:avLst/>
                </a:prstGeom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8023680" y="3310560"/>
                  <a:ext cx="0" cy="1407600"/>
                </a:xfrm>
                <a:prstGeom prst="line">
                  <a:avLst/>
                </a:prstGeom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7377480" y="3622680"/>
                  <a:ext cx="1077480" cy="0"/>
                </a:xfrm>
                <a:prstGeom prst="line">
                  <a:avLst/>
                </a:prstGeom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7377480" y="3466800"/>
                  <a:ext cx="1077480" cy="0"/>
                </a:xfrm>
                <a:prstGeom prst="line">
                  <a:avLst/>
                </a:prstGeom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7326720" y="4717440"/>
                  <a:ext cx="1184040" cy="0"/>
                </a:xfrm>
                <a:prstGeom prst="line">
                  <a:avLst/>
                </a:prstGeom>
                <a:ln w="1908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7374600" y="3768480"/>
                  <a:ext cx="1080360" cy="0"/>
                </a:xfrm>
                <a:prstGeom prst="line">
                  <a:avLst/>
                </a:prstGeom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7377480" y="4081320"/>
                  <a:ext cx="1077480" cy="0"/>
                </a:xfrm>
                <a:prstGeom prst="line">
                  <a:avLst/>
                </a:prstGeom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7377480" y="3925440"/>
                  <a:ext cx="1077480" cy="0"/>
                </a:xfrm>
                <a:prstGeom prst="line">
                  <a:avLst/>
                </a:prstGeom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7374600" y="4231080"/>
                  <a:ext cx="1080360" cy="0"/>
                </a:xfrm>
                <a:prstGeom prst="line">
                  <a:avLst/>
                </a:prstGeom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7377480" y="4543920"/>
                  <a:ext cx="1077480" cy="0"/>
                </a:xfrm>
                <a:prstGeom prst="line">
                  <a:avLst/>
                </a:prstGeom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7377480" y="4387680"/>
                  <a:ext cx="1077480" cy="0"/>
                </a:xfrm>
                <a:prstGeom prst="line">
                  <a:avLst/>
                </a:prstGeom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5" name=""/>
              <p:cNvSpPr/>
              <p:nvPr/>
            </p:nvSpPr>
            <p:spPr>
              <a:xfrm>
                <a:off x="8527680" y="4520520"/>
                <a:ext cx="162000" cy="17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ctr" pos="14860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66"/>
                    </a:solidFill>
                    <a:latin typeface="Comic Sans MS"/>
                    <a:ea typeface="Times New Roman"/>
                  </a:rPr>
                  <a:t>9</a:t>
                </a:r>
                <a:endParaRPr b="0" lang="en-US" sz="12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66" name=""/>
          <p:cNvSpPr/>
          <p:nvPr/>
        </p:nvSpPr>
        <p:spPr>
          <a:xfrm>
            <a:off x="480960" y="1122480"/>
            <a:ext cx="45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108 telai che differiscono per: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80960" y="1703520"/>
            <a:ext cx="43182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15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Numero di piani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5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Numero di campate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5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Sezioni delle travi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5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Carico sulle travi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5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Luci delle campate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80960" y="4548240"/>
            <a:ext cx="431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Metodi di analisi confrontati: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480960" y="5106960"/>
            <a:ext cx="4318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cc00"/>
                </a:solidFill>
                <a:latin typeface="Comic Sans MS"/>
              </a:rPr>
              <a:t>O.P.C.M. 3431 (metodo N2)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5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Analisi modale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5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Metodo N1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00"/>
                </a:solidFill>
                <a:latin typeface="Comic Sans MS"/>
              </a:rPr>
              <a:t>Confronto OPCM3431 – analisi modale</a:t>
            </a:r>
            <a:endParaRPr b="0" lang="en-US" sz="35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71" name=""/>
          <p:cNvSpPr/>
          <p:nvPr/>
        </p:nvSpPr>
        <p:spPr>
          <a:xfrm>
            <a:off x="338040" y="4535640"/>
            <a:ext cx="85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L’analisi modale fornisce spostamenti sempre minori di quelli ottenuti col metodo N2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H="1">
            <a:off x="3352680" y="2519280"/>
            <a:ext cx="161136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973760" y="2529000"/>
            <a:ext cx="0" cy="128736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874" name=""/>
          <p:cNvGrpSpPr/>
          <p:nvPr/>
        </p:nvGrpSpPr>
        <p:grpSpPr>
          <a:xfrm>
            <a:off x="2311560" y="915840"/>
            <a:ext cx="4646520" cy="3408480"/>
            <a:chOff x="2311560" y="915840"/>
            <a:chExt cx="4646520" cy="3408480"/>
          </a:xfrm>
        </p:grpSpPr>
        <p:sp>
          <p:nvSpPr>
            <p:cNvPr id="875" name=""/>
            <p:cNvSpPr/>
            <p:nvPr/>
          </p:nvSpPr>
          <p:spPr>
            <a:xfrm flipV="1">
              <a:off x="3338640" y="1143000"/>
              <a:ext cx="3028680" cy="2657520"/>
            </a:xfrm>
            <a:prstGeom prst="line">
              <a:avLst/>
            </a:prstGeom>
            <a:ln w="12600">
              <a:solidFill>
                <a:srgbClr val="ffff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349800" y="1149480"/>
              <a:ext cx="1440" cy="266688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303720" y="3816360"/>
              <a:ext cx="91800" cy="14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303720" y="3371760"/>
              <a:ext cx="91800" cy="180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303720" y="2927520"/>
              <a:ext cx="91800" cy="14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303720" y="2484360"/>
              <a:ext cx="91800" cy="180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303720" y="2038320"/>
              <a:ext cx="91800" cy="14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303720" y="1593720"/>
              <a:ext cx="91800" cy="180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303720" y="1149480"/>
              <a:ext cx="91800" cy="14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289320" y="3816360"/>
              <a:ext cx="120600" cy="14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289320" y="2927520"/>
              <a:ext cx="120600" cy="14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289320" y="2038320"/>
              <a:ext cx="120600" cy="14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289320" y="1149480"/>
              <a:ext cx="120600" cy="14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349800" y="3816360"/>
              <a:ext cx="3036600" cy="14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V="1">
              <a:off x="3349800" y="3770280"/>
              <a:ext cx="1440" cy="9216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V="1">
              <a:off x="3855960" y="3770280"/>
              <a:ext cx="1800" cy="9216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V="1">
              <a:off x="4362480" y="3770280"/>
              <a:ext cx="1440" cy="9216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V="1">
              <a:off x="4869000" y="3770280"/>
              <a:ext cx="1440" cy="9216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V="1">
              <a:off x="5373720" y="3770280"/>
              <a:ext cx="1440" cy="9216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V="1">
              <a:off x="5880240" y="3770280"/>
              <a:ext cx="1440" cy="9216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3349800" y="3755880"/>
              <a:ext cx="1440" cy="12096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V="1">
              <a:off x="4362480" y="3755880"/>
              <a:ext cx="1440" cy="12096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5373720" y="3755880"/>
              <a:ext cx="1440" cy="12096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089880" y="370692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66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864520" y="281772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66"/>
                  </a:solidFill>
                  <a:latin typeface="Tahoma"/>
                </a:rPr>
                <a:t>200</a:t>
              </a:r>
              <a:endParaRPr b="0" lang="en-US" sz="1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864520" y="192888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66"/>
                  </a:solidFill>
                  <a:latin typeface="Tahoma"/>
                </a:rPr>
                <a:t>400</a:t>
              </a:r>
              <a:endParaRPr b="0" lang="en-US" sz="1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292200" y="398628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66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190040" y="398628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66"/>
                  </a:solidFill>
                  <a:latin typeface="Tahoma"/>
                </a:rPr>
                <a:t>200</a:t>
              </a:r>
              <a:endParaRPr b="0" lang="en-US" sz="1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201280" y="398628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66"/>
                  </a:solidFill>
                  <a:latin typeface="Tahoma"/>
                </a:rPr>
                <a:t>400</a:t>
              </a:r>
              <a:endParaRPr b="0" lang="en-US" sz="1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04" name=""/>
                <p:cNvSpPr txBox="1"/>
                <p:nvPr/>
              </p:nvSpPr>
              <p:spPr>
                <a:xfrm>
                  <a:off x="2311560" y="915840"/>
                  <a:ext cx="912600" cy="43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t</m:t>
                          </m:r>
                          <m:r>
                            <m:rPr>
                              <m:lit/>
                              <m:nor/>
                            </m:rPr>
                            <m:t xml:space="preserve">,mod</m:t>
                          </m:r>
                          <m:r>
                            <m:rPr>
                              <m:lit/>
                              <m:nor/>
                            </m:rPr>
                            <m:t xml:space="preserve">ale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05" name=""/>
                <p:cNvSpPr txBox="1"/>
                <p:nvPr/>
              </p:nvSpPr>
              <p:spPr>
                <a:xfrm>
                  <a:off x="5792760" y="3887640"/>
                  <a:ext cx="1165320" cy="43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OPCM</m:t>
                          </m:r>
                          <m:r>
                            <m:rPr>
                              <m:lit/>
                              <m:nor/>
                            </m:rPr>
                            <m:t xml:space="preserve">343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06" name=""/>
            <p:cNvSpPr/>
            <p:nvPr/>
          </p:nvSpPr>
          <p:spPr>
            <a:xfrm>
              <a:off x="3343320" y="1143000"/>
              <a:ext cx="3029040" cy="2666880"/>
            </a:xfrm>
            <a:prstGeom prst="rect">
              <a:avLst/>
            </a:prstGeom>
            <a:noFill/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346560" y="1139760"/>
              <a:ext cx="3036600" cy="265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646440" y="3489480"/>
              <a:ext cx="42840" cy="39600"/>
            </a:xfrm>
            <a:custGeom>
              <a:avLst/>
              <a:gdLst/>
              <a:ahLst/>
              <a:rect l="l" t="t" r="r" b="b"/>
              <a:pathLst>
                <a:path w="27" h="25">
                  <a:moveTo>
                    <a:pt x="0" y="21"/>
                  </a:moveTo>
                  <a:lnTo>
                    <a:pt x="24" y="0"/>
                  </a:lnTo>
                  <a:lnTo>
                    <a:pt x="27" y="4"/>
                  </a:lnTo>
                  <a:lnTo>
                    <a:pt x="3" y="25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767040" y="3384720"/>
              <a:ext cx="42840" cy="3780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0" y="21"/>
                  </a:moveTo>
                  <a:lnTo>
                    <a:pt x="25" y="0"/>
                  </a:lnTo>
                  <a:lnTo>
                    <a:pt x="27" y="3"/>
                  </a:lnTo>
                  <a:lnTo>
                    <a:pt x="3" y="24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008600" y="323676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197240" y="304632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638520" y="3494160"/>
              <a:ext cx="77760" cy="7596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25" y="0"/>
                  </a:moveTo>
                  <a:lnTo>
                    <a:pt x="49" y="24"/>
                  </a:lnTo>
                  <a:lnTo>
                    <a:pt x="25" y="48"/>
                  </a:lnTo>
                  <a:lnTo>
                    <a:pt x="0" y="24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763800" y="339732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127400" y="318276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251240" y="3009960"/>
              <a:ext cx="76320" cy="7776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24" y="0"/>
                  </a:moveTo>
                  <a:lnTo>
                    <a:pt x="48" y="24"/>
                  </a:lnTo>
                  <a:lnTo>
                    <a:pt x="24" y="49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703680" y="3465360"/>
              <a:ext cx="76320" cy="7812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24" y="0"/>
                  </a:moveTo>
                  <a:lnTo>
                    <a:pt x="48" y="24"/>
                  </a:lnTo>
                  <a:lnTo>
                    <a:pt x="24" y="49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849840" y="335916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056120" y="3241800"/>
              <a:ext cx="77760" cy="7596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24" y="0"/>
                  </a:moveTo>
                  <a:lnTo>
                    <a:pt x="49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184640" y="3122640"/>
              <a:ext cx="77760" cy="7632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24" y="0"/>
                  </a:moveTo>
                  <a:lnTo>
                    <a:pt x="49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659040" y="3497400"/>
              <a:ext cx="76320" cy="7776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24" y="0"/>
                  </a:moveTo>
                  <a:lnTo>
                    <a:pt x="48" y="25"/>
                  </a:lnTo>
                  <a:lnTo>
                    <a:pt x="24" y="49"/>
                  </a:lnTo>
                  <a:lnTo>
                    <a:pt x="0" y="25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789360" y="340344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033800" y="3206880"/>
              <a:ext cx="76320" cy="7776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24" y="0"/>
                  </a:moveTo>
                  <a:lnTo>
                    <a:pt x="48" y="24"/>
                  </a:lnTo>
                  <a:lnTo>
                    <a:pt x="24" y="49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218120" y="302580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654360" y="348156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778200" y="3379680"/>
              <a:ext cx="77760" cy="7632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24" y="0"/>
                  </a:moveTo>
                  <a:lnTo>
                    <a:pt x="49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038480" y="320832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25" y="0"/>
                  </a:moveTo>
                  <a:lnTo>
                    <a:pt x="49" y="25"/>
                  </a:lnTo>
                  <a:lnTo>
                    <a:pt x="25" y="49"/>
                  </a:lnTo>
                  <a:lnTo>
                    <a:pt x="0" y="2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268880" y="300204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697200" y="345924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827520" y="334980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24" y="0"/>
                  </a:moveTo>
                  <a:lnTo>
                    <a:pt x="49" y="25"/>
                  </a:lnTo>
                  <a:lnTo>
                    <a:pt x="24" y="49"/>
                  </a:lnTo>
                  <a:lnTo>
                    <a:pt x="0" y="25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956040" y="327024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192560" y="3119400"/>
              <a:ext cx="77760" cy="7632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25" y="0"/>
                  </a:moveTo>
                  <a:lnTo>
                    <a:pt x="49" y="24"/>
                  </a:lnTo>
                  <a:lnTo>
                    <a:pt x="25" y="48"/>
                  </a:lnTo>
                  <a:lnTo>
                    <a:pt x="0" y="24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668760" y="348624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801960" y="338760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878360" y="254160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ff"/>
            </a:solidFill>
            <a:ln w="79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208480" y="2317680"/>
              <a:ext cx="77760" cy="7632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25" y="0"/>
                  </a:moveTo>
                  <a:lnTo>
                    <a:pt x="49" y="24"/>
                  </a:lnTo>
                  <a:lnTo>
                    <a:pt x="25" y="48"/>
                  </a:lnTo>
                  <a:lnTo>
                    <a:pt x="0" y="24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00ff"/>
            </a:solidFill>
            <a:ln w="79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424400" y="288144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ff"/>
            </a:solidFill>
            <a:ln w="79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587840" y="271296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ff"/>
            </a:solidFill>
            <a:ln w="79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811760" y="260208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ff"/>
            </a:solidFill>
            <a:ln w="79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121360" y="2386080"/>
              <a:ext cx="77760" cy="7596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24" y="0"/>
                  </a:moveTo>
                  <a:lnTo>
                    <a:pt x="49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ff"/>
            </a:solidFill>
            <a:ln w="79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359240" y="293544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ff"/>
            </a:solidFill>
            <a:ln w="79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549680" y="2774880"/>
              <a:ext cx="76320" cy="7776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24" y="0"/>
                  </a:moveTo>
                  <a:lnTo>
                    <a:pt x="48" y="24"/>
                  </a:lnTo>
                  <a:lnTo>
                    <a:pt x="24" y="49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ff"/>
            </a:solidFill>
            <a:ln w="79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732200" y="267984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ff"/>
            </a:solidFill>
            <a:ln w="79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035680" y="247824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ff"/>
            </a:solidFill>
            <a:ln w="79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303800" y="2971800"/>
              <a:ext cx="77760" cy="7632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25" y="0"/>
                  </a:moveTo>
                  <a:lnTo>
                    <a:pt x="49" y="24"/>
                  </a:lnTo>
                  <a:lnTo>
                    <a:pt x="25" y="48"/>
                  </a:lnTo>
                  <a:lnTo>
                    <a:pt x="0" y="24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00ff"/>
            </a:solidFill>
            <a:ln w="79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491000" y="282420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ff"/>
            </a:solidFill>
            <a:ln w="79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890960" y="254016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ff"/>
            </a:solidFill>
            <a:ln w="79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195880" y="2320920"/>
              <a:ext cx="76320" cy="7776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24" y="0"/>
                  </a:moveTo>
                  <a:lnTo>
                    <a:pt x="48" y="25"/>
                  </a:lnTo>
                  <a:lnTo>
                    <a:pt x="24" y="49"/>
                  </a:lnTo>
                  <a:lnTo>
                    <a:pt x="0" y="25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ff"/>
            </a:solidFill>
            <a:ln w="79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387680" y="2897280"/>
              <a:ext cx="78120" cy="7596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24" y="0"/>
                  </a:moveTo>
                  <a:lnTo>
                    <a:pt x="49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ff"/>
            </a:solidFill>
            <a:ln w="79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589640" y="273060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ff"/>
            </a:solidFill>
            <a:ln w="79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784760" y="261468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ff"/>
            </a:solidFill>
            <a:ln w="79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097600" y="2400480"/>
              <a:ext cx="75960" cy="7776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24" y="0"/>
                  </a:moveTo>
                  <a:lnTo>
                    <a:pt x="48" y="25"/>
                  </a:lnTo>
                  <a:lnTo>
                    <a:pt x="24" y="49"/>
                  </a:lnTo>
                  <a:lnTo>
                    <a:pt x="0" y="25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ff"/>
            </a:solidFill>
            <a:ln w="79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332240" y="294012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ff"/>
            </a:solidFill>
            <a:ln w="79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527720" y="277956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ff"/>
            </a:solidFill>
            <a:ln w="79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719600" y="267804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ff"/>
            </a:solidFill>
            <a:ln w="79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021280" y="247320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ff"/>
            </a:solidFill>
            <a:ln w="79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281480" y="2979720"/>
              <a:ext cx="76320" cy="7776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24" y="0"/>
                  </a:moveTo>
                  <a:lnTo>
                    <a:pt x="48" y="25"/>
                  </a:lnTo>
                  <a:lnTo>
                    <a:pt x="24" y="49"/>
                  </a:lnTo>
                  <a:lnTo>
                    <a:pt x="0" y="25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ff"/>
            </a:solidFill>
            <a:ln w="79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460760" y="283680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ff"/>
            </a:solidFill>
            <a:ln w="79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898880" y="253224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ff"/>
            </a:solidFill>
            <a:ln w="79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5187960" y="2327400"/>
              <a:ext cx="76320" cy="7776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24" y="0"/>
                  </a:moveTo>
                  <a:lnTo>
                    <a:pt x="48" y="25"/>
                  </a:lnTo>
                  <a:lnTo>
                    <a:pt x="24" y="49"/>
                  </a:lnTo>
                  <a:lnTo>
                    <a:pt x="0" y="25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ff"/>
            </a:solidFill>
            <a:ln w="79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387680" y="289080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ff"/>
            </a:solidFill>
            <a:ln w="79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595760" y="272268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ff"/>
            </a:solidFill>
            <a:ln w="79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780080" y="261468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ff"/>
            </a:solidFill>
            <a:ln w="79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095800" y="239868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ff"/>
            </a:solidFill>
            <a:ln w="79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311720" y="2949480"/>
              <a:ext cx="75960" cy="7776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24" y="0"/>
                  </a:moveTo>
                  <a:lnTo>
                    <a:pt x="48" y="25"/>
                  </a:lnTo>
                  <a:lnTo>
                    <a:pt x="24" y="49"/>
                  </a:lnTo>
                  <a:lnTo>
                    <a:pt x="0" y="25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ff"/>
            </a:solidFill>
            <a:ln w="79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500720" y="279396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ff"/>
            </a:solidFill>
            <a:ln w="79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703760" y="267984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ff"/>
            </a:solidFill>
            <a:ln w="79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008680" y="247824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ff"/>
            </a:solidFill>
            <a:ln w="79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265640" y="2984400"/>
              <a:ext cx="77760" cy="7632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24" y="0"/>
                  </a:moveTo>
                  <a:lnTo>
                    <a:pt x="49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ff"/>
            </a:solidFill>
            <a:ln w="79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456080" y="283860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24" y="0"/>
                  </a:moveTo>
                  <a:lnTo>
                    <a:pt x="49" y="25"/>
                  </a:lnTo>
                  <a:lnTo>
                    <a:pt x="24" y="49"/>
                  </a:lnTo>
                  <a:lnTo>
                    <a:pt x="0" y="25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ff"/>
            </a:solidFill>
            <a:ln w="79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576760" y="2084400"/>
              <a:ext cx="77760" cy="7632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24" y="0"/>
                  </a:moveTo>
                  <a:lnTo>
                    <a:pt x="49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ff00"/>
            </a:solidFill>
            <a:ln w="7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986440" y="177624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ff00"/>
            </a:solidFill>
            <a:ln w="7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878360" y="2554200"/>
              <a:ext cx="76320" cy="7776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24" y="0"/>
                  </a:moveTo>
                  <a:lnTo>
                    <a:pt x="48" y="25"/>
                  </a:lnTo>
                  <a:lnTo>
                    <a:pt x="24" y="49"/>
                  </a:lnTo>
                  <a:lnTo>
                    <a:pt x="0" y="25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ff00"/>
            </a:solidFill>
            <a:ln w="7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176800" y="2327400"/>
              <a:ext cx="77760" cy="7596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24" y="0"/>
                  </a:moveTo>
                  <a:lnTo>
                    <a:pt x="49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ff00"/>
            </a:solidFill>
            <a:ln w="7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478480" y="2171880"/>
              <a:ext cx="76320" cy="7776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24" y="0"/>
                  </a:moveTo>
                  <a:lnTo>
                    <a:pt x="48" y="24"/>
                  </a:lnTo>
                  <a:lnTo>
                    <a:pt x="24" y="49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ff00"/>
            </a:solidFill>
            <a:ln w="7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892840" y="185904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ff00"/>
            </a:solidFill>
            <a:ln w="7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808520" y="2612880"/>
              <a:ext cx="77760" cy="7632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25" y="0"/>
                  </a:moveTo>
                  <a:lnTo>
                    <a:pt x="49" y="24"/>
                  </a:lnTo>
                  <a:lnTo>
                    <a:pt x="25" y="48"/>
                  </a:lnTo>
                  <a:lnTo>
                    <a:pt x="0" y="24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ff00"/>
            </a:solidFill>
            <a:ln w="7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073480" y="2409840"/>
              <a:ext cx="78120" cy="7632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25" y="0"/>
                  </a:moveTo>
                  <a:lnTo>
                    <a:pt x="49" y="24"/>
                  </a:lnTo>
                  <a:lnTo>
                    <a:pt x="25" y="48"/>
                  </a:lnTo>
                  <a:lnTo>
                    <a:pt x="0" y="24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ff00"/>
            </a:solidFill>
            <a:ln w="7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384880" y="223992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ff00"/>
            </a:solidFill>
            <a:ln w="7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797440" y="196992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ff00"/>
            </a:solidFill>
            <a:ln w="7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768920" y="267804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ff00"/>
            </a:solidFill>
            <a:ln w="7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010120" y="246528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ff00"/>
            </a:solidFill>
            <a:ln w="7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514840" y="2093760"/>
              <a:ext cx="77760" cy="7632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24" y="0"/>
                  </a:moveTo>
                  <a:lnTo>
                    <a:pt x="49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ff00"/>
            </a:solidFill>
            <a:ln w="7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987880" y="176364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ff00"/>
            </a:solidFill>
            <a:ln w="7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875120" y="256068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24" y="0"/>
                  </a:moveTo>
                  <a:lnTo>
                    <a:pt x="49" y="25"/>
                  </a:lnTo>
                  <a:lnTo>
                    <a:pt x="24" y="49"/>
                  </a:lnTo>
                  <a:lnTo>
                    <a:pt x="0" y="25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ff00"/>
            </a:solidFill>
            <a:ln w="7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138640" y="233352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ff00"/>
            </a:solidFill>
            <a:ln w="7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430960" y="217188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ff00"/>
            </a:solidFill>
            <a:ln w="7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859360" y="187164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ff00"/>
            </a:solidFill>
            <a:ln w="7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786200" y="263196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ff00"/>
            </a:solidFill>
            <a:ln w="7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038560" y="241128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ff00"/>
            </a:solidFill>
            <a:ln w="7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324400" y="224640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24" y="0"/>
                  </a:moveTo>
                  <a:lnTo>
                    <a:pt x="49" y="25"/>
                  </a:lnTo>
                  <a:lnTo>
                    <a:pt x="24" y="49"/>
                  </a:lnTo>
                  <a:lnTo>
                    <a:pt x="0" y="25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ff00"/>
            </a:solidFill>
            <a:ln w="7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734080" y="199692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ff00"/>
            </a:solidFill>
            <a:ln w="7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722840" y="268776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ff00"/>
            </a:solidFill>
            <a:ln w="7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959360" y="2481120"/>
              <a:ext cx="76320" cy="7776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24" y="0"/>
                  </a:moveTo>
                  <a:lnTo>
                    <a:pt x="48" y="25"/>
                  </a:lnTo>
                  <a:lnTo>
                    <a:pt x="24" y="49"/>
                  </a:lnTo>
                  <a:lnTo>
                    <a:pt x="0" y="25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ff00"/>
            </a:solidFill>
            <a:ln w="7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5516640" y="209700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25" y="0"/>
                  </a:moveTo>
                  <a:lnTo>
                    <a:pt x="49" y="24"/>
                  </a:lnTo>
                  <a:lnTo>
                    <a:pt x="25" y="49"/>
                  </a:lnTo>
                  <a:lnTo>
                    <a:pt x="0" y="24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ff00"/>
            </a:solidFill>
            <a:ln w="7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985000" y="1770120"/>
              <a:ext cx="77760" cy="7632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25" y="0"/>
                  </a:moveTo>
                  <a:lnTo>
                    <a:pt x="49" y="24"/>
                  </a:lnTo>
                  <a:lnTo>
                    <a:pt x="25" y="48"/>
                  </a:lnTo>
                  <a:lnTo>
                    <a:pt x="0" y="24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ff00"/>
            </a:solidFill>
            <a:ln w="7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854600" y="2567160"/>
              <a:ext cx="76320" cy="7776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24" y="0"/>
                  </a:moveTo>
                  <a:lnTo>
                    <a:pt x="48" y="25"/>
                  </a:lnTo>
                  <a:lnTo>
                    <a:pt x="24" y="49"/>
                  </a:lnTo>
                  <a:lnTo>
                    <a:pt x="0" y="25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ff00"/>
            </a:solidFill>
            <a:ln w="7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119560" y="233856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ff00"/>
            </a:solidFill>
            <a:ln w="7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405400" y="216684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ff00"/>
            </a:solidFill>
            <a:ln w="7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846760" y="189072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ff00"/>
            </a:solidFill>
            <a:ln w="7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776840" y="263844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ff00"/>
            </a:solidFill>
            <a:ln w="7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5027760" y="241776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ff00"/>
            </a:solidFill>
            <a:ln w="7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265720" y="228132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ff00"/>
            </a:solidFill>
            <a:ln w="7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724360" y="1990800"/>
              <a:ext cx="78120" cy="7596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24" y="0"/>
                  </a:moveTo>
                  <a:lnTo>
                    <a:pt x="49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ff00"/>
            </a:solidFill>
            <a:ln w="7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683240" y="269568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ff00"/>
            </a:solidFill>
            <a:ln w="7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924440" y="2490840"/>
              <a:ext cx="77760" cy="7632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24" y="0"/>
                  </a:moveTo>
                  <a:lnTo>
                    <a:pt x="49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ff00"/>
            </a:solidFill>
            <a:ln w="7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1006" name=""/>
            <p:cNvGrpSpPr/>
            <p:nvPr/>
          </p:nvGrpSpPr>
          <p:grpSpPr>
            <a:xfrm>
              <a:off x="3557520" y="1295280"/>
              <a:ext cx="1110960" cy="994680"/>
              <a:chOff x="3557520" y="1295280"/>
              <a:chExt cx="1110960" cy="994680"/>
            </a:xfrm>
          </p:grpSpPr>
          <p:sp>
            <p:nvSpPr>
              <p:cNvPr id="1007" name=""/>
              <p:cNvSpPr/>
              <p:nvPr/>
            </p:nvSpPr>
            <p:spPr>
              <a:xfrm>
                <a:off x="3632040" y="1371600"/>
                <a:ext cx="78120" cy="7632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24" y="0"/>
                    </a:moveTo>
                    <a:lnTo>
                      <a:pt x="49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0000"/>
              </a:solidFill>
              <a:ln w="79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3830760" y="1295280"/>
                <a:ext cx="599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66"/>
                    </a:solidFill>
                    <a:latin typeface="Arial"/>
                  </a:rPr>
                  <a:t>3 piani</a:t>
                </a:r>
                <a:endParaRPr b="0" lang="en-US" sz="16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3632040" y="1622520"/>
                <a:ext cx="78120" cy="7596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24" y="0"/>
                    </a:moveTo>
                    <a:lnTo>
                      <a:pt x="49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00ff"/>
              </a:solidFill>
              <a:ln w="79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3830760" y="1546200"/>
                <a:ext cx="599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66"/>
                    </a:solidFill>
                    <a:latin typeface="Arial"/>
                  </a:rPr>
                  <a:t>6 piani</a:t>
                </a:r>
                <a:endParaRPr b="0" lang="en-US" sz="16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3632040" y="1873080"/>
                <a:ext cx="78120" cy="7632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24" y="0"/>
                    </a:moveTo>
                    <a:lnTo>
                      <a:pt x="49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ff00"/>
              </a:solidFill>
              <a:ln w="79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3830760" y="1795320"/>
                <a:ext cx="599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66"/>
                    </a:solidFill>
                    <a:latin typeface="Arial"/>
                  </a:rPr>
                  <a:t>9 piani</a:t>
                </a:r>
                <a:endParaRPr b="0" lang="en-US" sz="16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3557520" y="2155680"/>
                <a:ext cx="50760" cy="79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3638520" y="2155680"/>
                <a:ext cx="50760" cy="79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3718080" y="2155680"/>
                <a:ext cx="52200" cy="79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3831120" y="2046240"/>
                <a:ext cx="837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66"/>
                    </a:solidFill>
                    <a:latin typeface="Arial"/>
                  </a:rPr>
                  <a:t>Bisettrice</a:t>
                </a:r>
                <a:endParaRPr b="0" lang="en-US" sz="16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7" name=""/>
          <p:cNvSpPr/>
          <p:nvPr/>
        </p:nvSpPr>
        <p:spPr>
          <a:xfrm>
            <a:off x="4884840" y="2459160"/>
            <a:ext cx="164880" cy="164880"/>
          </a:xfrm>
          <a:prstGeom prst="ellipse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361800" y="-360"/>
            <a:ext cx="83901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Comic Sans MS"/>
              </a:rPr>
              <a:t>CONFRONTO OPCM 3431 – METODO N1</a:t>
            </a:r>
            <a:endParaRPr b="0" lang="en-US" sz="31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019" name=""/>
          <p:cNvGrpSpPr/>
          <p:nvPr/>
        </p:nvGrpSpPr>
        <p:grpSpPr>
          <a:xfrm>
            <a:off x="2685960" y="1058760"/>
            <a:ext cx="4272120" cy="3265560"/>
            <a:chOff x="2685960" y="1058760"/>
            <a:chExt cx="4272120" cy="3265560"/>
          </a:xfrm>
        </p:grpSpPr>
        <p:sp>
          <p:nvSpPr>
            <p:cNvPr id="1020" name=""/>
            <p:cNvSpPr/>
            <p:nvPr/>
          </p:nvSpPr>
          <p:spPr>
            <a:xfrm flipV="1">
              <a:off x="3338640" y="1143000"/>
              <a:ext cx="3028680" cy="2657520"/>
            </a:xfrm>
            <a:prstGeom prst="line">
              <a:avLst/>
            </a:prstGeom>
            <a:ln w="12600">
              <a:solidFill>
                <a:srgbClr val="ffff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341520" y="1139760"/>
              <a:ext cx="3036960" cy="266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3641760" y="3500280"/>
              <a:ext cx="44280" cy="3816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0" y="20"/>
                  </a:moveTo>
                  <a:lnTo>
                    <a:pt x="24" y="0"/>
                  </a:lnTo>
                  <a:lnTo>
                    <a:pt x="28" y="3"/>
                  </a:lnTo>
                  <a:lnTo>
                    <a:pt x="3" y="24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3701880" y="3446640"/>
              <a:ext cx="44640" cy="3780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0" y="21"/>
                  </a:moveTo>
                  <a:lnTo>
                    <a:pt x="24" y="0"/>
                  </a:lnTo>
                  <a:lnTo>
                    <a:pt x="28" y="4"/>
                  </a:lnTo>
                  <a:lnTo>
                    <a:pt x="3" y="24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3762360" y="3394080"/>
              <a:ext cx="44640" cy="3816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0" y="20"/>
                  </a:moveTo>
                  <a:lnTo>
                    <a:pt x="24" y="0"/>
                  </a:lnTo>
                  <a:lnTo>
                    <a:pt x="28" y="3"/>
                  </a:lnTo>
                  <a:lnTo>
                    <a:pt x="3" y="24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822840" y="3340080"/>
              <a:ext cx="44280" cy="39600"/>
            </a:xfrm>
            <a:custGeom>
              <a:avLst/>
              <a:gdLst/>
              <a:ahLst/>
              <a:rect l="l" t="t" r="r" b="b"/>
              <a:pathLst>
                <a:path w="28" h="25">
                  <a:moveTo>
                    <a:pt x="0" y="21"/>
                  </a:moveTo>
                  <a:lnTo>
                    <a:pt x="24" y="0"/>
                  </a:lnTo>
                  <a:lnTo>
                    <a:pt x="28" y="4"/>
                  </a:lnTo>
                  <a:lnTo>
                    <a:pt x="3" y="25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064040" y="3129120"/>
              <a:ext cx="44280" cy="3780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0" y="20"/>
                  </a:moveTo>
                  <a:lnTo>
                    <a:pt x="24" y="0"/>
                  </a:lnTo>
                  <a:lnTo>
                    <a:pt x="28" y="3"/>
                  </a:lnTo>
                  <a:lnTo>
                    <a:pt x="3" y="24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124160" y="3075120"/>
              <a:ext cx="46080" cy="3960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0" y="21"/>
                  </a:moveTo>
                  <a:lnTo>
                    <a:pt x="25" y="0"/>
                  </a:lnTo>
                  <a:lnTo>
                    <a:pt x="29" y="4"/>
                  </a:lnTo>
                  <a:lnTo>
                    <a:pt x="3" y="25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186080" y="3022560"/>
              <a:ext cx="44640" cy="3816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0" y="21"/>
                  </a:moveTo>
                  <a:lnTo>
                    <a:pt x="24" y="0"/>
                  </a:lnTo>
                  <a:lnTo>
                    <a:pt x="28" y="3"/>
                  </a:lnTo>
                  <a:lnTo>
                    <a:pt x="4" y="24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246560" y="2970360"/>
              <a:ext cx="44280" cy="3780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0" y="20"/>
                  </a:moveTo>
                  <a:lnTo>
                    <a:pt x="24" y="0"/>
                  </a:lnTo>
                  <a:lnTo>
                    <a:pt x="28" y="3"/>
                  </a:lnTo>
                  <a:lnTo>
                    <a:pt x="4" y="24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307040" y="2916360"/>
              <a:ext cx="44280" cy="3780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0" y="21"/>
                  </a:moveTo>
                  <a:lnTo>
                    <a:pt x="24" y="0"/>
                  </a:lnTo>
                  <a:lnTo>
                    <a:pt x="28" y="4"/>
                  </a:lnTo>
                  <a:lnTo>
                    <a:pt x="4" y="24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367160" y="2863800"/>
              <a:ext cx="44640" cy="3816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0" y="21"/>
                  </a:moveTo>
                  <a:lnTo>
                    <a:pt x="24" y="0"/>
                  </a:lnTo>
                  <a:lnTo>
                    <a:pt x="28" y="3"/>
                  </a:lnTo>
                  <a:lnTo>
                    <a:pt x="4" y="24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427640" y="2809800"/>
              <a:ext cx="44280" cy="39600"/>
            </a:xfrm>
            <a:custGeom>
              <a:avLst/>
              <a:gdLst/>
              <a:ahLst/>
              <a:rect l="l" t="t" r="r" b="b"/>
              <a:pathLst>
                <a:path w="28" h="25">
                  <a:moveTo>
                    <a:pt x="0" y="21"/>
                  </a:moveTo>
                  <a:lnTo>
                    <a:pt x="24" y="0"/>
                  </a:lnTo>
                  <a:lnTo>
                    <a:pt x="28" y="4"/>
                  </a:lnTo>
                  <a:lnTo>
                    <a:pt x="4" y="25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487760" y="2757600"/>
              <a:ext cx="44640" cy="3816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0" y="21"/>
                  </a:moveTo>
                  <a:lnTo>
                    <a:pt x="24" y="0"/>
                  </a:lnTo>
                  <a:lnTo>
                    <a:pt x="28" y="3"/>
                  </a:lnTo>
                  <a:lnTo>
                    <a:pt x="4" y="24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548240" y="2705040"/>
              <a:ext cx="44280" cy="3816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0" y="20"/>
                  </a:moveTo>
                  <a:lnTo>
                    <a:pt x="24" y="0"/>
                  </a:lnTo>
                  <a:lnTo>
                    <a:pt x="28" y="3"/>
                  </a:lnTo>
                  <a:lnTo>
                    <a:pt x="4" y="24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608360" y="2651040"/>
              <a:ext cx="44640" cy="3816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0" y="21"/>
                  </a:moveTo>
                  <a:lnTo>
                    <a:pt x="24" y="0"/>
                  </a:lnTo>
                  <a:lnTo>
                    <a:pt x="28" y="4"/>
                  </a:lnTo>
                  <a:lnTo>
                    <a:pt x="4" y="24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729320" y="2544840"/>
              <a:ext cx="44280" cy="39600"/>
            </a:xfrm>
            <a:custGeom>
              <a:avLst/>
              <a:gdLst/>
              <a:ahLst/>
              <a:rect l="l" t="t" r="r" b="b"/>
              <a:pathLst>
                <a:path w="28" h="25">
                  <a:moveTo>
                    <a:pt x="0" y="21"/>
                  </a:moveTo>
                  <a:lnTo>
                    <a:pt x="24" y="0"/>
                  </a:lnTo>
                  <a:lnTo>
                    <a:pt x="28" y="4"/>
                  </a:lnTo>
                  <a:lnTo>
                    <a:pt x="4" y="25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789440" y="2492280"/>
              <a:ext cx="44640" cy="3816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0" y="21"/>
                  </a:moveTo>
                  <a:lnTo>
                    <a:pt x="24" y="0"/>
                  </a:lnTo>
                  <a:lnTo>
                    <a:pt x="28" y="3"/>
                  </a:lnTo>
                  <a:lnTo>
                    <a:pt x="4" y="24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849920" y="2436840"/>
              <a:ext cx="44280" cy="41400"/>
            </a:xfrm>
            <a:custGeom>
              <a:avLst/>
              <a:gdLst/>
              <a:ahLst/>
              <a:rect l="l" t="t" r="r" b="b"/>
              <a:pathLst>
                <a:path w="28" h="26">
                  <a:moveTo>
                    <a:pt x="0" y="22"/>
                  </a:moveTo>
                  <a:lnTo>
                    <a:pt x="24" y="0"/>
                  </a:lnTo>
                  <a:lnTo>
                    <a:pt x="28" y="4"/>
                  </a:lnTo>
                  <a:lnTo>
                    <a:pt x="4" y="26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910040" y="2384280"/>
              <a:ext cx="44640" cy="39960"/>
            </a:xfrm>
            <a:custGeom>
              <a:avLst/>
              <a:gdLst/>
              <a:ahLst/>
              <a:rect l="l" t="t" r="r" b="b"/>
              <a:pathLst>
                <a:path w="28" h="25">
                  <a:moveTo>
                    <a:pt x="0" y="22"/>
                  </a:moveTo>
                  <a:lnTo>
                    <a:pt x="24" y="0"/>
                  </a:lnTo>
                  <a:lnTo>
                    <a:pt x="28" y="4"/>
                  </a:lnTo>
                  <a:lnTo>
                    <a:pt x="4" y="25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971960" y="2332080"/>
              <a:ext cx="44640" cy="39600"/>
            </a:xfrm>
            <a:custGeom>
              <a:avLst/>
              <a:gdLst/>
              <a:ahLst/>
              <a:rect l="l" t="t" r="r" b="b"/>
              <a:pathLst>
                <a:path w="28" h="25">
                  <a:moveTo>
                    <a:pt x="0" y="22"/>
                  </a:moveTo>
                  <a:lnTo>
                    <a:pt x="25" y="0"/>
                  </a:lnTo>
                  <a:lnTo>
                    <a:pt x="28" y="3"/>
                  </a:lnTo>
                  <a:lnTo>
                    <a:pt x="4" y="25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032440" y="2278080"/>
              <a:ext cx="44280" cy="41400"/>
            </a:xfrm>
            <a:custGeom>
              <a:avLst/>
              <a:gdLst/>
              <a:ahLst/>
              <a:rect l="l" t="t" r="r" b="b"/>
              <a:pathLst>
                <a:path w="28" h="26">
                  <a:moveTo>
                    <a:pt x="0" y="22"/>
                  </a:moveTo>
                  <a:lnTo>
                    <a:pt x="25" y="0"/>
                  </a:lnTo>
                  <a:lnTo>
                    <a:pt x="28" y="4"/>
                  </a:lnTo>
                  <a:lnTo>
                    <a:pt x="4" y="26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092560" y="2225520"/>
              <a:ext cx="44640" cy="39960"/>
            </a:xfrm>
            <a:custGeom>
              <a:avLst/>
              <a:gdLst/>
              <a:ahLst/>
              <a:rect l="l" t="t" r="r" b="b"/>
              <a:pathLst>
                <a:path w="28" h="25">
                  <a:moveTo>
                    <a:pt x="0" y="22"/>
                  </a:moveTo>
                  <a:lnTo>
                    <a:pt x="25" y="0"/>
                  </a:lnTo>
                  <a:lnTo>
                    <a:pt x="28" y="3"/>
                  </a:lnTo>
                  <a:lnTo>
                    <a:pt x="4" y="25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153040" y="2171880"/>
              <a:ext cx="44280" cy="41040"/>
            </a:xfrm>
            <a:custGeom>
              <a:avLst/>
              <a:gdLst/>
              <a:ahLst/>
              <a:rect l="l" t="t" r="r" b="b"/>
              <a:pathLst>
                <a:path w="28" h="26">
                  <a:moveTo>
                    <a:pt x="0" y="22"/>
                  </a:moveTo>
                  <a:lnTo>
                    <a:pt x="25" y="0"/>
                  </a:lnTo>
                  <a:lnTo>
                    <a:pt x="28" y="4"/>
                  </a:lnTo>
                  <a:lnTo>
                    <a:pt x="4" y="26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213520" y="2119320"/>
              <a:ext cx="44280" cy="39600"/>
            </a:xfrm>
            <a:custGeom>
              <a:avLst/>
              <a:gdLst/>
              <a:ahLst/>
              <a:rect l="l" t="t" r="r" b="b"/>
              <a:pathLst>
                <a:path w="28" h="25">
                  <a:moveTo>
                    <a:pt x="0" y="22"/>
                  </a:moveTo>
                  <a:lnTo>
                    <a:pt x="25" y="0"/>
                  </a:lnTo>
                  <a:lnTo>
                    <a:pt x="28" y="4"/>
                  </a:lnTo>
                  <a:lnTo>
                    <a:pt x="4" y="25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273640" y="2066760"/>
              <a:ext cx="44640" cy="39960"/>
            </a:xfrm>
            <a:custGeom>
              <a:avLst/>
              <a:gdLst/>
              <a:ahLst/>
              <a:rect l="l" t="t" r="r" b="b"/>
              <a:pathLst>
                <a:path w="28" h="25">
                  <a:moveTo>
                    <a:pt x="0" y="22"/>
                  </a:moveTo>
                  <a:lnTo>
                    <a:pt x="25" y="0"/>
                  </a:lnTo>
                  <a:lnTo>
                    <a:pt x="28" y="3"/>
                  </a:lnTo>
                  <a:lnTo>
                    <a:pt x="4" y="25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334120" y="2013120"/>
              <a:ext cx="44280" cy="41040"/>
            </a:xfrm>
            <a:custGeom>
              <a:avLst/>
              <a:gdLst/>
              <a:ahLst/>
              <a:rect l="l" t="t" r="r" b="b"/>
              <a:pathLst>
                <a:path w="28" h="26">
                  <a:moveTo>
                    <a:pt x="0" y="22"/>
                  </a:moveTo>
                  <a:lnTo>
                    <a:pt x="25" y="0"/>
                  </a:lnTo>
                  <a:lnTo>
                    <a:pt x="28" y="4"/>
                  </a:lnTo>
                  <a:lnTo>
                    <a:pt x="4" y="26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394240" y="1960560"/>
              <a:ext cx="44640" cy="39600"/>
            </a:xfrm>
            <a:custGeom>
              <a:avLst/>
              <a:gdLst/>
              <a:ahLst/>
              <a:rect l="l" t="t" r="r" b="b"/>
              <a:pathLst>
                <a:path w="28" h="25">
                  <a:moveTo>
                    <a:pt x="0" y="22"/>
                  </a:moveTo>
                  <a:lnTo>
                    <a:pt x="25" y="0"/>
                  </a:lnTo>
                  <a:lnTo>
                    <a:pt x="28" y="3"/>
                  </a:lnTo>
                  <a:lnTo>
                    <a:pt x="4" y="25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454720" y="1908000"/>
              <a:ext cx="44280" cy="39960"/>
            </a:xfrm>
            <a:custGeom>
              <a:avLst/>
              <a:gdLst/>
              <a:ahLst/>
              <a:rect l="l" t="t" r="r" b="b"/>
              <a:pathLst>
                <a:path w="28" h="25">
                  <a:moveTo>
                    <a:pt x="0" y="21"/>
                  </a:moveTo>
                  <a:lnTo>
                    <a:pt x="25" y="0"/>
                  </a:lnTo>
                  <a:lnTo>
                    <a:pt x="28" y="3"/>
                  </a:lnTo>
                  <a:lnTo>
                    <a:pt x="4" y="25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514840" y="1854360"/>
              <a:ext cx="44640" cy="39600"/>
            </a:xfrm>
            <a:custGeom>
              <a:avLst/>
              <a:gdLst/>
              <a:ahLst/>
              <a:rect l="l" t="t" r="r" b="b"/>
              <a:pathLst>
                <a:path w="28" h="25">
                  <a:moveTo>
                    <a:pt x="0" y="22"/>
                  </a:moveTo>
                  <a:lnTo>
                    <a:pt x="25" y="0"/>
                  </a:lnTo>
                  <a:lnTo>
                    <a:pt x="28" y="4"/>
                  </a:lnTo>
                  <a:lnTo>
                    <a:pt x="4" y="25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819760" y="1589040"/>
              <a:ext cx="42840" cy="39600"/>
            </a:xfrm>
            <a:custGeom>
              <a:avLst/>
              <a:gdLst/>
              <a:ahLst/>
              <a:rect l="l" t="t" r="r" b="b"/>
              <a:pathLst>
                <a:path w="27" h="25">
                  <a:moveTo>
                    <a:pt x="0" y="22"/>
                  </a:moveTo>
                  <a:lnTo>
                    <a:pt x="24" y="0"/>
                  </a:lnTo>
                  <a:lnTo>
                    <a:pt x="27" y="4"/>
                  </a:lnTo>
                  <a:lnTo>
                    <a:pt x="3" y="25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880240" y="1536840"/>
              <a:ext cx="42840" cy="39600"/>
            </a:xfrm>
            <a:custGeom>
              <a:avLst/>
              <a:gdLst/>
              <a:ahLst/>
              <a:rect l="l" t="t" r="r" b="b"/>
              <a:pathLst>
                <a:path w="27" h="25">
                  <a:moveTo>
                    <a:pt x="0" y="22"/>
                  </a:moveTo>
                  <a:lnTo>
                    <a:pt x="24" y="0"/>
                  </a:lnTo>
                  <a:lnTo>
                    <a:pt x="27" y="3"/>
                  </a:lnTo>
                  <a:lnTo>
                    <a:pt x="3" y="25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6000840" y="1430280"/>
              <a:ext cx="42840" cy="3816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0" y="21"/>
                  </a:moveTo>
                  <a:lnTo>
                    <a:pt x="24" y="0"/>
                  </a:lnTo>
                  <a:lnTo>
                    <a:pt x="27" y="3"/>
                  </a:lnTo>
                  <a:lnTo>
                    <a:pt x="3" y="24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003560" y="3147840"/>
              <a:ext cx="76320" cy="7812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24" y="0"/>
                  </a:moveTo>
                  <a:lnTo>
                    <a:pt x="48" y="25"/>
                  </a:lnTo>
                  <a:lnTo>
                    <a:pt x="24" y="49"/>
                  </a:lnTo>
                  <a:lnTo>
                    <a:pt x="0" y="25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4192560" y="298620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633840" y="3473280"/>
              <a:ext cx="77760" cy="7812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24" y="0"/>
                  </a:moveTo>
                  <a:lnTo>
                    <a:pt x="49" y="25"/>
                  </a:lnTo>
                  <a:lnTo>
                    <a:pt x="24" y="49"/>
                  </a:lnTo>
                  <a:lnTo>
                    <a:pt x="0" y="25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759120" y="3365640"/>
              <a:ext cx="76320" cy="7776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24" y="0"/>
                  </a:moveTo>
                  <a:lnTo>
                    <a:pt x="48" y="25"/>
                  </a:lnTo>
                  <a:lnTo>
                    <a:pt x="24" y="49"/>
                  </a:lnTo>
                  <a:lnTo>
                    <a:pt x="0" y="25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121280" y="3049560"/>
              <a:ext cx="75960" cy="7776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24" y="0"/>
                  </a:moveTo>
                  <a:lnTo>
                    <a:pt x="48" y="24"/>
                  </a:lnTo>
                  <a:lnTo>
                    <a:pt x="24" y="49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246560" y="293544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699000" y="341784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844800" y="328932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051440" y="310500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181400" y="301140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654360" y="345744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784680" y="3341520"/>
              <a:ext cx="75960" cy="7812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24" y="0"/>
                  </a:moveTo>
                  <a:lnTo>
                    <a:pt x="48" y="25"/>
                  </a:lnTo>
                  <a:lnTo>
                    <a:pt x="24" y="49"/>
                  </a:lnTo>
                  <a:lnTo>
                    <a:pt x="0" y="25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029120" y="3124080"/>
              <a:ext cx="76320" cy="7776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24" y="0"/>
                  </a:moveTo>
                  <a:lnTo>
                    <a:pt x="48" y="25"/>
                  </a:lnTo>
                  <a:lnTo>
                    <a:pt x="24" y="49"/>
                  </a:lnTo>
                  <a:lnTo>
                    <a:pt x="0" y="25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211640" y="296532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24" y="0"/>
                  </a:moveTo>
                  <a:lnTo>
                    <a:pt x="49" y="24"/>
                  </a:lnTo>
                  <a:lnTo>
                    <a:pt x="24" y="49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649680" y="3462480"/>
              <a:ext cx="76320" cy="7776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24" y="0"/>
                  </a:moveTo>
                  <a:lnTo>
                    <a:pt x="48" y="25"/>
                  </a:lnTo>
                  <a:lnTo>
                    <a:pt x="24" y="49"/>
                  </a:lnTo>
                  <a:lnTo>
                    <a:pt x="0" y="25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773520" y="3352680"/>
              <a:ext cx="76320" cy="7776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24" y="0"/>
                  </a:moveTo>
                  <a:lnTo>
                    <a:pt x="48" y="25"/>
                  </a:lnTo>
                  <a:lnTo>
                    <a:pt x="24" y="49"/>
                  </a:lnTo>
                  <a:lnTo>
                    <a:pt x="0" y="25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035600" y="311940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265640" y="2917800"/>
              <a:ext cx="76320" cy="7776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24" y="0"/>
                  </a:moveTo>
                  <a:lnTo>
                    <a:pt x="48" y="25"/>
                  </a:lnTo>
                  <a:lnTo>
                    <a:pt x="24" y="49"/>
                  </a:lnTo>
                  <a:lnTo>
                    <a:pt x="0" y="25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692520" y="342252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24" y="0"/>
                  </a:moveTo>
                  <a:lnTo>
                    <a:pt x="49" y="24"/>
                  </a:lnTo>
                  <a:lnTo>
                    <a:pt x="24" y="49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822840" y="330984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951360" y="318780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187880" y="3009960"/>
              <a:ext cx="77760" cy="7632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24" y="0"/>
                  </a:moveTo>
                  <a:lnTo>
                    <a:pt x="49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664080" y="3448080"/>
              <a:ext cx="75960" cy="7776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24" y="0"/>
                  </a:moveTo>
                  <a:lnTo>
                    <a:pt x="48" y="24"/>
                  </a:lnTo>
                  <a:lnTo>
                    <a:pt x="24" y="49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795840" y="333360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071960" y="3087720"/>
              <a:ext cx="76320" cy="7776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24" y="0"/>
                  </a:moveTo>
                  <a:lnTo>
                    <a:pt x="48" y="25"/>
                  </a:lnTo>
                  <a:lnTo>
                    <a:pt x="24" y="49"/>
                  </a:lnTo>
                  <a:lnTo>
                    <a:pt x="0" y="25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232160" y="294624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666960" y="344484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790800" y="3336840"/>
              <a:ext cx="77760" cy="7632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25" y="0"/>
                  </a:moveTo>
                  <a:lnTo>
                    <a:pt x="49" y="24"/>
                  </a:lnTo>
                  <a:lnTo>
                    <a:pt x="25" y="48"/>
                  </a:lnTo>
                  <a:lnTo>
                    <a:pt x="0" y="24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054320" y="3103560"/>
              <a:ext cx="78120" cy="7632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24" y="0"/>
                  </a:moveTo>
                  <a:lnTo>
                    <a:pt x="49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222800" y="2957400"/>
              <a:ext cx="77760" cy="7632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24" y="0"/>
                  </a:moveTo>
                  <a:lnTo>
                    <a:pt x="49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656160" y="345600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787920" y="3338640"/>
              <a:ext cx="75960" cy="7776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24" y="0"/>
                  </a:moveTo>
                  <a:lnTo>
                    <a:pt x="48" y="24"/>
                  </a:lnTo>
                  <a:lnTo>
                    <a:pt x="24" y="49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989520" y="315432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4183200" y="301788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625920" y="348156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747960" y="3375000"/>
              <a:ext cx="76320" cy="7776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24" y="0"/>
                  </a:moveTo>
                  <a:lnTo>
                    <a:pt x="48" y="24"/>
                  </a:lnTo>
                  <a:lnTo>
                    <a:pt x="24" y="49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4873680" y="238284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ff"/>
            </a:solidFill>
            <a:ln w="79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202360" y="209700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25" y="0"/>
                  </a:moveTo>
                  <a:lnTo>
                    <a:pt x="49" y="24"/>
                  </a:lnTo>
                  <a:lnTo>
                    <a:pt x="25" y="49"/>
                  </a:lnTo>
                  <a:lnTo>
                    <a:pt x="0" y="24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00ff"/>
            </a:solidFill>
            <a:ln w="79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417920" y="2782800"/>
              <a:ext cx="77760" cy="7632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25" y="0"/>
                  </a:moveTo>
                  <a:lnTo>
                    <a:pt x="49" y="24"/>
                  </a:lnTo>
                  <a:lnTo>
                    <a:pt x="25" y="48"/>
                  </a:lnTo>
                  <a:lnTo>
                    <a:pt x="0" y="24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00ff"/>
            </a:solidFill>
            <a:ln w="79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583160" y="263700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ff"/>
            </a:solidFill>
            <a:ln w="79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807080" y="244008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ff"/>
            </a:solidFill>
            <a:ln w="79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5116680" y="2166840"/>
              <a:ext cx="77760" cy="7632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24" y="0"/>
                  </a:moveTo>
                  <a:lnTo>
                    <a:pt x="49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ff"/>
            </a:solidFill>
            <a:ln w="79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354560" y="284148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ff"/>
            </a:solidFill>
            <a:ln w="79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4545000" y="266868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ff"/>
            </a:solidFill>
            <a:ln w="79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4726080" y="251460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ff"/>
            </a:solidFill>
            <a:ln w="79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030640" y="2249640"/>
              <a:ext cx="77760" cy="7596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24" y="0"/>
                  </a:moveTo>
                  <a:lnTo>
                    <a:pt x="49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ff"/>
            </a:solidFill>
            <a:ln w="79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4300560" y="288936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ff"/>
            </a:solidFill>
            <a:ln w="79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486320" y="272268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ff"/>
            </a:solidFill>
            <a:ln w="79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886280" y="2370240"/>
              <a:ext cx="77760" cy="7596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24" y="0"/>
                  </a:moveTo>
                  <a:lnTo>
                    <a:pt x="49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ff"/>
            </a:solidFill>
            <a:ln w="79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5189400" y="210816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25" y="0"/>
                  </a:moveTo>
                  <a:lnTo>
                    <a:pt x="49" y="24"/>
                  </a:lnTo>
                  <a:lnTo>
                    <a:pt x="25" y="49"/>
                  </a:lnTo>
                  <a:lnTo>
                    <a:pt x="0" y="24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00ff"/>
            </a:solidFill>
            <a:ln w="79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381560" y="2816280"/>
              <a:ext cx="77760" cy="7632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25" y="0"/>
                  </a:moveTo>
                  <a:lnTo>
                    <a:pt x="49" y="24"/>
                  </a:lnTo>
                  <a:lnTo>
                    <a:pt x="25" y="48"/>
                  </a:lnTo>
                  <a:lnTo>
                    <a:pt x="0" y="24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00ff"/>
            </a:solidFill>
            <a:ln w="79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584600" y="2633760"/>
              <a:ext cx="77760" cy="7596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24" y="0"/>
                  </a:moveTo>
                  <a:lnTo>
                    <a:pt x="49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ff"/>
            </a:solidFill>
            <a:ln w="79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778280" y="2463840"/>
              <a:ext cx="77760" cy="7632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24" y="0"/>
                  </a:moveTo>
                  <a:lnTo>
                    <a:pt x="49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ff"/>
            </a:solidFill>
            <a:ln w="79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091120" y="2189160"/>
              <a:ext cx="77760" cy="7632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24" y="0"/>
                  </a:moveTo>
                  <a:lnTo>
                    <a:pt x="49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ff"/>
            </a:solidFill>
            <a:ln w="79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327560" y="286704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ff"/>
            </a:solidFill>
            <a:ln w="79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522680" y="2687760"/>
              <a:ext cx="76320" cy="7776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24" y="0"/>
                  </a:moveTo>
                  <a:lnTo>
                    <a:pt x="48" y="24"/>
                  </a:lnTo>
                  <a:lnTo>
                    <a:pt x="24" y="49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ff"/>
            </a:solidFill>
            <a:ln w="79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714920" y="252576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ff"/>
            </a:solidFill>
            <a:ln w="79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014800" y="226224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ff"/>
            </a:solidFill>
            <a:ln w="79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4276800" y="2906640"/>
              <a:ext cx="75960" cy="7776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24" y="0"/>
                  </a:moveTo>
                  <a:lnTo>
                    <a:pt x="48" y="25"/>
                  </a:lnTo>
                  <a:lnTo>
                    <a:pt x="24" y="49"/>
                  </a:lnTo>
                  <a:lnTo>
                    <a:pt x="0" y="25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ff"/>
            </a:solidFill>
            <a:ln w="79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4454640" y="2752560"/>
              <a:ext cx="77760" cy="7632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25" y="0"/>
                  </a:moveTo>
                  <a:lnTo>
                    <a:pt x="49" y="24"/>
                  </a:lnTo>
                  <a:lnTo>
                    <a:pt x="25" y="48"/>
                  </a:lnTo>
                  <a:lnTo>
                    <a:pt x="0" y="24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00ff"/>
            </a:solidFill>
            <a:ln w="79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4894200" y="2363760"/>
              <a:ext cx="76320" cy="7776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24" y="0"/>
                  </a:moveTo>
                  <a:lnTo>
                    <a:pt x="48" y="25"/>
                  </a:lnTo>
                  <a:lnTo>
                    <a:pt x="24" y="49"/>
                  </a:lnTo>
                  <a:lnTo>
                    <a:pt x="0" y="25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ff"/>
            </a:solidFill>
            <a:ln w="79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5181480" y="211464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ff"/>
            </a:solidFill>
            <a:ln w="79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381560" y="2816280"/>
              <a:ext cx="77760" cy="7632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25" y="0"/>
                  </a:moveTo>
                  <a:lnTo>
                    <a:pt x="49" y="24"/>
                  </a:lnTo>
                  <a:lnTo>
                    <a:pt x="25" y="48"/>
                  </a:lnTo>
                  <a:lnTo>
                    <a:pt x="0" y="24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00ff"/>
            </a:solidFill>
            <a:ln w="79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591080" y="2627280"/>
              <a:ext cx="76320" cy="7776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24" y="0"/>
                  </a:moveTo>
                  <a:lnTo>
                    <a:pt x="48" y="24"/>
                  </a:lnTo>
                  <a:lnTo>
                    <a:pt x="24" y="49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ff"/>
            </a:solidFill>
            <a:ln w="79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773600" y="246852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ff"/>
            </a:solidFill>
            <a:ln w="79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091120" y="2189160"/>
              <a:ext cx="77760" cy="7632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24" y="0"/>
                  </a:moveTo>
                  <a:lnTo>
                    <a:pt x="49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ff"/>
            </a:solidFill>
            <a:ln w="79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305240" y="2882880"/>
              <a:ext cx="76320" cy="7776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24" y="0"/>
                  </a:moveTo>
                  <a:lnTo>
                    <a:pt x="48" y="25"/>
                  </a:lnTo>
                  <a:lnTo>
                    <a:pt x="24" y="49"/>
                  </a:lnTo>
                  <a:lnTo>
                    <a:pt x="0" y="25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ff"/>
            </a:solidFill>
            <a:ln w="79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4495680" y="2711520"/>
              <a:ext cx="76320" cy="7776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24" y="0"/>
                  </a:moveTo>
                  <a:lnTo>
                    <a:pt x="48" y="24"/>
                  </a:lnTo>
                  <a:lnTo>
                    <a:pt x="24" y="49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ff"/>
            </a:solidFill>
            <a:ln w="79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699080" y="254016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ff"/>
            </a:solidFill>
            <a:ln w="79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003640" y="227160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ff"/>
            </a:solidFill>
            <a:ln w="79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260960" y="2922480"/>
              <a:ext cx="77760" cy="7632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25" y="0"/>
                  </a:moveTo>
                  <a:lnTo>
                    <a:pt x="49" y="24"/>
                  </a:lnTo>
                  <a:lnTo>
                    <a:pt x="25" y="48"/>
                  </a:lnTo>
                  <a:lnTo>
                    <a:pt x="0" y="24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00ff"/>
            </a:solidFill>
            <a:ln w="79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451400" y="275580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ff"/>
            </a:solidFill>
            <a:ln w="79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572080" y="1770120"/>
              <a:ext cx="76320" cy="7776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24" y="0"/>
                  </a:moveTo>
                  <a:lnTo>
                    <a:pt x="48" y="24"/>
                  </a:lnTo>
                  <a:lnTo>
                    <a:pt x="24" y="49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ff00"/>
            </a:solidFill>
            <a:ln w="7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981760" y="1409760"/>
              <a:ext cx="76320" cy="7776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24" y="0"/>
                  </a:moveTo>
                  <a:lnTo>
                    <a:pt x="48" y="24"/>
                  </a:lnTo>
                  <a:lnTo>
                    <a:pt x="24" y="49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ff00"/>
            </a:solidFill>
            <a:ln w="7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4871880" y="238140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ff00"/>
            </a:solidFill>
            <a:ln w="7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172120" y="212580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ff00"/>
            </a:solidFill>
            <a:ln w="7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472000" y="1857240"/>
              <a:ext cx="76320" cy="7776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24" y="0"/>
                  </a:moveTo>
                  <a:lnTo>
                    <a:pt x="48" y="25"/>
                  </a:lnTo>
                  <a:lnTo>
                    <a:pt x="24" y="49"/>
                  </a:lnTo>
                  <a:lnTo>
                    <a:pt x="0" y="25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ff00"/>
            </a:solidFill>
            <a:ln w="7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886360" y="1490760"/>
              <a:ext cx="77760" cy="7596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24" y="0"/>
                  </a:moveTo>
                  <a:lnTo>
                    <a:pt x="49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ff00"/>
            </a:solidFill>
            <a:ln w="7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803840" y="2441520"/>
              <a:ext cx="77760" cy="7632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25" y="0"/>
                  </a:moveTo>
                  <a:lnTo>
                    <a:pt x="49" y="24"/>
                  </a:lnTo>
                  <a:lnTo>
                    <a:pt x="25" y="48"/>
                  </a:lnTo>
                  <a:lnTo>
                    <a:pt x="0" y="24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ff00"/>
            </a:solidFill>
            <a:ln w="7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068800" y="2209680"/>
              <a:ext cx="77760" cy="7632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25" y="0"/>
                  </a:moveTo>
                  <a:lnTo>
                    <a:pt x="49" y="24"/>
                  </a:lnTo>
                  <a:lnTo>
                    <a:pt x="25" y="48"/>
                  </a:lnTo>
                  <a:lnTo>
                    <a:pt x="0" y="24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ff00"/>
            </a:solidFill>
            <a:ln w="7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378400" y="193824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ff00"/>
            </a:solidFill>
            <a:ln w="7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791320" y="157788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24" y="0"/>
                  </a:moveTo>
                  <a:lnTo>
                    <a:pt x="49" y="24"/>
                  </a:lnTo>
                  <a:lnTo>
                    <a:pt x="24" y="49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ff00"/>
            </a:solidFill>
            <a:ln w="7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762440" y="2482920"/>
              <a:ext cx="76320" cy="7776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24" y="0"/>
                  </a:moveTo>
                  <a:lnTo>
                    <a:pt x="48" y="24"/>
                  </a:lnTo>
                  <a:lnTo>
                    <a:pt x="24" y="49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ff00"/>
            </a:solidFill>
            <a:ln w="7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005440" y="227016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ff00"/>
            </a:solidFill>
            <a:ln w="7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510160" y="182556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ff00"/>
            </a:solidFill>
            <a:ln w="7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981760" y="1409760"/>
              <a:ext cx="76320" cy="7776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24" y="0"/>
                  </a:moveTo>
                  <a:lnTo>
                    <a:pt x="48" y="24"/>
                  </a:lnTo>
                  <a:lnTo>
                    <a:pt x="24" y="49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ff00"/>
            </a:solidFill>
            <a:ln w="7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870440" y="238284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ff00"/>
            </a:solidFill>
            <a:ln w="7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133960" y="215568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ff00"/>
            </a:solidFill>
            <a:ln w="7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425920" y="189864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ff00"/>
            </a:solidFill>
            <a:ln w="7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853240" y="1522440"/>
              <a:ext cx="77760" cy="7632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25" y="0"/>
                  </a:moveTo>
                  <a:lnTo>
                    <a:pt x="49" y="24"/>
                  </a:lnTo>
                  <a:lnTo>
                    <a:pt x="25" y="48"/>
                  </a:lnTo>
                  <a:lnTo>
                    <a:pt x="0" y="24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ff00"/>
            </a:solidFill>
            <a:ln w="7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780080" y="2463840"/>
              <a:ext cx="77760" cy="7632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25" y="0"/>
                  </a:moveTo>
                  <a:lnTo>
                    <a:pt x="49" y="24"/>
                  </a:lnTo>
                  <a:lnTo>
                    <a:pt x="25" y="48"/>
                  </a:lnTo>
                  <a:lnTo>
                    <a:pt x="0" y="24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ff00"/>
            </a:solidFill>
            <a:ln w="7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032440" y="224172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25" y="0"/>
                  </a:moveTo>
                  <a:lnTo>
                    <a:pt x="49" y="24"/>
                  </a:lnTo>
                  <a:lnTo>
                    <a:pt x="25" y="49"/>
                  </a:lnTo>
                  <a:lnTo>
                    <a:pt x="0" y="24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ff00"/>
            </a:solidFill>
            <a:ln w="7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319720" y="199080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24" y="0"/>
                  </a:moveTo>
                  <a:lnTo>
                    <a:pt x="49" y="25"/>
                  </a:lnTo>
                  <a:lnTo>
                    <a:pt x="24" y="49"/>
                  </a:lnTo>
                  <a:lnTo>
                    <a:pt x="0" y="25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ff00"/>
            </a:solidFill>
            <a:ln w="7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729400" y="163188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ff00"/>
            </a:solidFill>
            <a:ln w="7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716360" y="2521080"/>
              <a:ext cx="76320" cy="7776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24" y="0"/>
                  </a:moveTo>
                  <a:lnTo>
                    <a:pt x="48" y="25"/>
                  </a:lnTo>
                  <a:lnTo>
                    <a:pt x="24" y="49"/>
                  </a:lnTo>
                  <a:lnTo>
                    <a:pt x="0" y="25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ff00"/>
            </a:solidFill>
            <a:ln w="7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954680" y="2314440"/>
              <a:ext cx="75960" cy="7776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24" y="0"/>
                  </a:moveTo>
                  <a:lnTo>
                    <a:pt x="48" y="24"/>
                  </a:lnTo>
                  <a:lnTo>
                    <a:pt x="24" y="49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ff00"/>
            </a:solidFill>
            <a:ln w="7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511960" y="182556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ff00"/>
            </a:solidFill>
            <a:ln w="7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979960" y="1411200"/>
              <a:ext cx="76320" cy="7776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24" y="0"/>
                  </a:moveTo>
                  <a:lnTo>
                    <a:pt x="48" y="25"/>
                  </a:lnTo>
                  <a:lnTo>
                    <a:pt x="24" y="49"/>
                  </a:lnTo>
                  <a:lnTo>
                    <a:pt x="0" y="25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ff00"/>
            </a:solidFill>
            <a:ln w="7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848120" y="2400480"/>
              <a:ext cx="76320" cy="7776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24" y="0"/>
                  </a:moveTo>
                  <a:lnTo>
                    <a:pt x="48" y="25"/>
                  </a:lnTo>
                  <a:lnTo>
                    <a:pt x="24" y="49"/>
                  </a:lnTo>
                  <a:lnTo>
                    <a:pt x="0" y="25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ff00"/>
            </a:solidFill>
            <a:ln w="7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113440" y="2171880"/>
              <a:ext cx="75960" cy="7776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24" y="0"/>
                  </a:moveTo>
                  <a:lnTo>
                    <a:pt x="48" y="25"/>
                  </a:lnTo>
                  <a:lnTo>
                    <a:pt x="24" y="49"/>
                  </a:lnTo>
                  <a:lnTo>
                    <a:pt x="0" y="25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ff00"/>
            </a:solidFill>
            <a:ln w="7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400720" y="192240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ff00"/>
            </a:solidFill>
            <a:ln w="7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840280" y="153180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25" y="0"/>
                  </a:moveTo>
                  <a:lnTo>
                    <a:pt x="49" y="25"/>
                  </a:lnTo>
                  <a:lnTo>
                    <a:pt x="25" y="49"/>
                  </a:lnTo>
                  <a:lnTo>
                    <a:pt x="0" y="2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ff00"/>
            </a:solidFill>
            <a:ln w="7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4772160" y="2471760"/>
              <a:ext cx="75960" cy="7776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24" y="0"/>
                  </a:moveTo>
                  <a:lnTo>
                    <a:pt x="48" y="25"/>
                  </a:lnTo>
                  <a:lnTo>
                    <a:pt x="24" y="49"/>
                  </a:lnTo>
                  <a:lnTo>
                    <a:pt x="0" y="25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ff00"/>
            </a:solidFill>
            <a:ln w="7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021280" y="2251080"/>
              <a:ext cx="77760" cy="7632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25" y="0"/>
                  </a:moveTo>
                  <a:lnTo>
                    <a:pt x="49" y="24"/>
                  </a:lnTo>
                  <a:lnTo>
                    <a:pt x="25" y="48"/>
                  </a:lnTo>
                  <a:lnTo>
                    <a:pt x="0" y="24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ff00"/>
            </a:solidFill>
            <a:ln w="7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261040" y="2044800"/>
              <a:ext cx="77760" cy="7596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24" y="0"/>
                  </a:moveTo>
                  <a:lnTo>
                    <a:pt x="49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ff00"/>
            </a:solidFill>
            <a:ln w="7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5719680" y="163980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25" y="0"/>
                  </a:moveTo>
                  <a:lnTo>
                    <a:pt x="49" y="25"/>
                  </a:lnTo>
                  <a:lnTo>
                    <a:pt x="25" y="49"/>
                  </a:lnTo>
                  <a:lnTo>
                    <a:pt x="0" y="2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ff00"/>
            </a:solidFill>
            <a:ln w="7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678200" y="2554200"/>
              <a:ext cx="76320" cy="7776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24" y="0"/>
                  </a:moveTo>
                  <a:lnTo>
                    <a:pt x="48" y="24"/>
                  </a:lnTo>
                  <a:lnTo>
                    <a:pt x="24" y="49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ff00"/>
            </a:solidFill>
            <a:ln w="7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919760" y="234792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ff00"/>
            </a:solidFill>
            <a:ln w="7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3341520" y="1139760"/>
              <a:ext cx="3036960" cy="2664000"/>
            </a:xfrm>
            <a:prstGeom prst="rect">
              <a:avLst/>
            </a:prstGeom>
            <a:noFill/>
            <a:ln w="792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341520" y="1139760"/>
              <a:ext cx="1800" cy="266400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295800" y="3359160"/>
              <a:ext cx="91800" cy="14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3295800" y="2914560"/>
              <a:ext cx="91800" cy="180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295800" y="2471760"/>
              <a:ext cx="91800" cy="14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295800" y="2028960"/>
              <a:ext cx="91800" cy="14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295800" y="1584360"/>
              <a:ext cx="91800" cy="14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295800" y="1139760"/>
              <a:ext cx="91800" cy="180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281400" y="3803760"/>
              <a:ext cx="120600" cy="14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3281400" y="2914560"/>
              <a:ext cx="120600" cy="180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3281400" y="2028960"/>
              <a:ext cx="120600" cy="14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281400" y="1139760"/>
              <a:ext cx="120600" cy="180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3341520" y="3803760"/>
              <a:ext cx="3036960" cy="14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V="1">
              <a:off x="3341520" y="3757320"/>
              <a:ext cx="1800" cy="9036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V="1">
              <a:off x="3848040" y="3757320"/>
              <a:ext cx="1800" cy="9036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V="1">
              <a:off x="4354560" y="3757320"/>
              <a:ext cx="1440" cy="9036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V="1">
              <a:off x="4861080" y="3757320"/>
              <a:ext cx="1440" cy="9036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V="1">
              <a:off x="5365800" y="3757320"/>
              <a:ext cx="1440" cy="9036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 flipV="1">
              <a:off x="5872320" y="3757320"/>
              <a:ext cx="1440" cy="9036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V="1">
              <a:off x="6378480" y="3757320"/>
              <a:ext cx="1800" cy="9036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 flipV="1">
              <a:off x="3341520" y="3742920"/>
              <a:ext cx="1800" cy="12060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 flipV="1">
              <a:off x="4354560" y="3742920"/>
              <a:ext cx="1440" cy="12060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 flipV="1">
              <a:off x="5365800" y="3742920"/>
              <a:ext cx="1440" cy="12060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 flipV="1">
              <a:off x="6378480" y="3742920"/>
              <a:ext cx="1800" cy="12060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3084120" y="36939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66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2863440" y="280512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66"/>
                  </a:solidFill>
                  <a:latin typeface="Arial"/>
                </a:rPr>
                <a:t>200</a:t>
              </a:r>
              <a:endParaRPr b="0" lang="en-US" sz="1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2863440" y="191772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66"/>
                  </a:solidFill>
                  <a:latin typeface="Arial"/>
                </a:rPr>
                <a:t>400</a:t>
              </a:r>
              <a:endParaRPr b="0" lang="en-US" sz="1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285720" y="39736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66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188960" y="397368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66"/>
                  </a:solidFill>
                  <a:latin typeface="Arial"/>
                </a:rPr>
                <a:t>200</a:t>
              </a:r>
              <a:endParaRPr b="0" lang="en-US" sz="1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200200" y="397368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66"/>
                  </a:solidFill>
                  <a:latin typeface="Arial"/>
                </a:rPr>
                <a:t>400</a:t>
              </a:r>
              <a:endParaRPr b="0" lang="en-US" sz="1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1191" name=""/>
            <p:cNvGrpSpPr/>
            <p:nvPr/>
          </p:nvGrpSpPr>
          <p:grpSpPr>
            <a:xfrm>
              <a:off x="3557520" y="1295280"/>
              <a:ext cx="1110960" cy="994680"/>
              <a:chOff x="3557520" y="1295280"/>
              <a:chExt cx="1110960" cy="994680"/>
            </a:xfrm>
          </p:grpSpPr>
          <p:sp>
            <p:nvSpPr>
              <p:cNvPr id="1192" name=""/>
              <p:cNvSpPr/>
              <p:nvPr/>
            </p:nvSpPr>
            <p:spPr>
              <a:xfrm>
                <a:off x="3632040" y="1371600"/>
                <a:ext cx="78120" cy="7632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24" y="0"/>
                    </a:moveTo>
                    <a:lnTo>
                      <a:pt x="49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0000"/>
              </a:solidFill>
              <a:ln w="79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3830760" y="1295280"/>
                <a:ext cx="599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66"/>
                    </a:solidFill>
                    <a:latin typeface="Arial"/>
                  </a:rPr>
                  <a:t>3 piani</a:t>
                </a:r>
                <a:endParaRPr b="0" lang="en-US" sz="16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3632040" y="1622520"/>
                <a:ext cx="78120" cy="7596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24" y="0"/>
                    </a:moveTo>
                    <a:lnTo>
                      <a:pt x="49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00ff"/>
              </a:solidFill>
              <a:ln w="79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3830760" y="1546200"/>
                <a:ext cx="599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66"/>
                    </a:solidFill>
                    <a:latin typeface="Arial"/>
                  </a:rPr>
                  <a:t>6 piani</a:t>
                </a:r>
                <a:endParaRPr b="0" lang="en-US" sz="16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3632040" y="1873080"/>
                <a:ext cx="78120" cy="7632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24" y="0"/>
                    </a:moveTo>
                    <a:lnTo>
                      <a:pt x="49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ff00"/>
              </a:solidFill>
              <a:ln w="79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3830760" y="1795320"/>
                <a:ext cx="599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66"/>
                    </a:solidFill>
                    <a:latin typeface="Arial"/>
                  </a:rPr>
                  <a:t>9 piani</a:t>
                </a:r>
                <a:endParaRPr b="0" lang="en-US" sz="16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3557520" y="2155680"/>
                <a:ext cx="50760" cy="79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3638520" y="2155680"/>
                <a:ext cx="50760" cy="79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3718080" y="2155680"/>
                <a:ext cx="52200" cy="79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3831120" y="2046240"/>
                <a:ext cx="837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66"/>
                    </a:solidFill>
                    <a:latin typeface="Arial"/>
                  </a:rPr>
                  <a:t>Bisettrice</a:t>
                </a:r>
                <a:endParaRPr b="0" lang="en-US" sz="16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sp>
          <p:nvSpPr>
            <p:cNvPr id="1202" name=""/>
            <p:cNvSpPr/>
            <p:nvPr/>
          </p:nvSpPr>
          <p:spPr>
            <a:xfrm>
              <a:off x="3349800" y="1292400"/>
              <a:ext cx="1440" cy="266688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 flipV="1">
              <a:off x="4869000" y="3770280"/>
              <a:ext cx="1440" cy="9216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04" name=""/>
                <p:cNvSpPr txBox="1"/>
                <p:nvPr/>
              </p:nvSpPr>
              <p:spPr>
                <a:xfrm>
                  <a:off x="2685960" y="1058760"/>
                  <a:ext cx="593640" cy="43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N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05" name=""/>
                <p:cNvSpPr txBox="1"/>
                <p:nvPr/>
              </p:nvSpPr>
              <p:spPr>
                <a:xfrm>
                  <a:off x="5792760" y="3887640"/>
                  <a:ext cx="1165320" cy="43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OPCM</m:t>
                          </m:r>
                          <m:r>
                            <m:rPr>
                              <m:lit/>
                              <m:nor/>
                            </m:rPr>
                            <m:t xml:space="preserve">343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06" name=""/>
          <p:cNvSpPr/>
          <p:nvPr/>
        </p:nvSpPr>
        <p:spPr>
          <a:xfrm>
            <a:off x="338040" y="4535640"/>
            <a:ext cx="8506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I risultati sono sostanzialmente coincidenti con quelli ottenuti attraverso il metodo dell’O.P.C.M. 3431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Il metodo N1 consente di ottenere gli stessi risultati del metodo N2  senza richiedere la definizione di un sistema SDOF equivalente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Verifica della struttura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08" name=""/>
          <p:cNvSpPr/>
          <p:nvPr/>
        </p:nvSpPr>
        <p:spPr>
          <a:xfrm>
            <a:off x="237960" y="1130400"/>
            <a:ext cx="89060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Si esegue l’analisi statica non lineare della struttura fino a che si raggiunge uno spostamento in testa D</a:t>
            </a:r>
            <a:r>
              <a:rPr b="0" lang="it-IT" sz="2400" spc="-1" strike="noStrike" baseline="-25000">
                <a:solidFill>
                  <a:srgbClr val="ffff66"/>
                </a:solidFill>
                <a:latin typeface="Comic Sans MS"/>
              </a:rPr>
              <a:t>t</a:t>
            </a: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237960" y="2660760"/>
            <a:ext cx="847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Le massime deformazioni plastiche fornite dall’analisi statica incrementale devono essere inferiori alla capacità di deformazione plastica dell’elemento/meccanismo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237960" y="4498920"/>
            <a:ext cx="837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Le massime sollecitazioni fornite dall’analisi statica incrementale devono essere inferiori alla resistenza dell’elemento/meccanismo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237960" y="2187720"/>
            <a:ext cx="890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Verifica degli elementi/meccanismi duttili: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237960" y="4022640"/>
            <a:ext cx="890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Verifica degli elementi/meccanismi fragili: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METODO N1: procedimento inverso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14" name=""/>
          <p:cNvSpPr/>
          <p:nvPr/>
        </p:nvSpPr>
        <p:spPr>
          <a:xfrm>
            <a:off x="237960" y="963720"/>
            <a:ext cx="890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Consente anche di calcolare la PGA corrispondente ad un qualsiasi punto della curva di prestazione (livello di prestazione)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5" name=""/>
              <p:cNvSpPr txBox="1"/>
              <p:nvPr/>
            </p:nvSpPr>
            <p:spPr>
              <a:xfrm>
                <a:off x="7488360" y="2711520"/>
                <a:ext cx="11491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1216" name=""/>
          <p:cNvGrpSpPr/>
          <p:nvPr/>
        </p:nvGrpSpPr>
        <p:grpSpPr>
          <a:xfrm>
            <a:off x="5643720" y="2300400"/>
            <a:ext cx="1757160" cy="1598040"/>
            <a:chOff x="5643720" y="2300400"/>
            <a:chExt cx="1757160" cy="1598040"/>
          </a:xfrm>
        </p:grpSpPr>
        <p:grpSp>
          <p:nvGrpSpPr>
            <p:cNvPr id="1217" name=""/>
            <p:cNvGrpSpPr/>
            <p:nvPr/>
          </p:nvGrpSpPr>
          <p:grpSpPr>
            <a:xfrm>
              <a:off x="5962680" y="2460600"/>
              <a:ext cx="1438200" cy="1083600"/>
              <a:chOff x="5962680" y="2460600"/>
              <a:chExt cx="1438200" cy="1083600"/>
            </a:xfrm>
          </p:grpSpPr>
          <p:sp>
            <p:nvSpPr>
              <p:cNvPr id="1218" name=""/>
              <p:cNvSpPr/>
              <p:nvPr/>
            </p:nvSpPr>
            <p:spPr>
              <a:xfrm flipV="1">
                <a:off x="6006600" y="2460600"/>
                <a:ext cx="0" cy="108360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5962680" y="3464640"/>
                <a:ext cx="1438200" cy="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6006600" y="2692080"/>
                <a:ext cx="1201680" cy="772200"/>
              </a:xfrm>
              <a:custGeom>
                <a:avLst/>
                <a:gdLst/>
                <a:ahLst/>
                <a:rect l="l" t="t" r="r" b="b"/>
                <a:pathLst>
                  <a:path w="2008" h="812">
                    <a:moveTo>
                      <a:pt x="0" y="812"/>
                    </a:moveTo>
                    <a:cubicBezTo>
                      <a:pt x="53" y="663"/>
                      <a:pt x="106" y="515"/>
                      <a:pt x="168" y="416"/>
                    </a:cubicBezTo>
                    <a:cubicBezTo>
                      <a:pt x="230" y="317"/>
                      <a:pt x="268" y="269"/>
                      <a:pt x="372" y="216"/>
                    </a:cubicBezTo>
                    <a:cubicBezTo>
                      <a:pt x="476" y="163"/>
                      <a:pt x="597" y="131"/>
                      <a:pt x="792" y="100"/>
                    </a:cubicBezTo>
                    <a:cubicBezTo>
                      <a:pt x="987" y="69"/>
                      <a:pt x="1337" y="45"/>
                      <a:pt x="1540" y="28"/>
                    </a:cubicBezTo>
                    <a:cubicBezTo>
                      <a:pt x="1743" y="11"/>
                      <a:pt x="1855" y="7"/>
                      <a:pt x="2008" y="0"/>
                    </a:cubicBezTo>
                  </a:path>
                </a:pathLst>
              </a:custGeom>
              <a:noFill/>
              <a:ln w="28440">
                <a:solidFill>
                  <a:srgbClr val="ffff66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221" name=""/>
                <p:cNvSpPr txBox="1"/>
                <p:nvPr/>
              </p:nvSpPr>
              <p:spPr>
                <a:xfrm>
                  <a:off x="7005600" y="3489120"/>
                  <a:ext cx="31752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22" name=""/>
                <p:cNvSpPr txBox="1"/>
                <p:nvPr/>
              </p:nvSpPr>
              <p:spPr>
                <a:xfrm>
                  <a:off x="5643720" y="2300400"/>
                  <a:ext cx="296640" cy="38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23" name=""/>
          <p:cNvGrpSpPr/>
          <p:nvPr/>
        </p:nvGrpSpPr>
        <p:grpSpPr>
          <a:xfrm>
            <a:off x="6012360" y="2706480"/>
            <a:ext cx="702720" cy="831960"/>
            <a:chOff x="6012360" y="2706480"/>
            <a:chExt cx="702720" cy="831960"/>
          </a:xfrm>
        </p:grpSpPr>
        <p:sp>
          <p:nvSpPr>
            <p:cNvPr id="1224" name=""/>
            <p:cNvSpPr/>
            <p:nvPr/>
          </p:nvSpPr>
          <p:spPr>
            <a:xfrm flipV="1">
              <a:off x="6012360" y="2706480"/>
              <a:ext cx="197280" cy="75852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6167520" y="2733840"/>
              <a:ext cx="547560" cy="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26" name=""/>
                <p:cNvSpPr txBox="1"/>
                <p:nvPr/>
              </p:nvSpPr>
              <p:spPr>
                <a:xfrm>
                  <a:off x="6081840" y="3100320"/>
                  <a:ext cx="388800" cy="43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27" name=""/>
          <p:cNvSpPr/>
          <p:nvPr/>
        </p:nvSpPr>
        <p:spPr>
          <a:xfrm flipV="1">
            <a:off x="6021360" y="2254320"/>
            <a:ext cx="147600" cy="120168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8" name=""/>
              <p:cNvSpPr txBox="1"/>
              <p:nvPr/>
            </p:nvSpPr>
            <p:spPr>
              <a:xfrm>
                <a:off x="6124680" y="2297160"/>
                <a:ext cx="320400" cy="3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29" name=""/>
          <p:cNvSpPr/>
          <p:nvPr/>
        </p:nvSpPr>
        <p:spPr>
          <a:xfrm>
            <a:off x="6083280" y="2603520"/>
            <a:ext cx="20952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6676920" y="2687760"/>
            <a:ext cx="88920" cy="889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237960" y="2170080"/>
            <a:ext cx="5123160" cy="15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Noto il punto sulla curva si determina la bilineare ed il corrispondente periodo </a:t>
            </a:r>
            <a:r>
              <a:rPr b="0" i="1" lang="it-IT" sz="2400" spc="-1" strike="noStrike">
                <a:solidFill>
                  <a:srgbClr val="ffff66"/>
                </a:solidFill>
                <a:latin typeface="Comic Sans MS"/>
              </a:rPr>
              <a:t>T</a:t>
            </a:r>
            <a:r>
              <a:rPr b="0" i="1" lang="it-IT" sz="2400" spc="-1" strike="noStrike" baseline="-25000">
                <a:solidFill>
                  <a:srgbClr val="ffff66"/>
                </a:solidFill>
                <a:latin typeface="Comic Sans MS"/>
              </a:rPr>
              <a:t>e</a:t>
            </a: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2" name=""/>
              <p:cNvSpPr txBox="1"/>
              <p:nvPr/>
            </p:nvSpPr>
            <p:spPr>
              <a:xfrm>
                <a:off x="6545160" y="2305080"/>
                <a:ext cx="87012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3" name=""/>
              <p:cNvSpPr txBox="1"/>
              <p:nvPr/>
            </p:nvSpPr>
            <p:spPr>
              <a:xfrm>
                <a:off x="3889440" y="3925800"/>
                <a:ext cx="15685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l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e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e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4" name=""/>
              <p:cNvSpPr txBox="1"/>
              <p:nvPr/>
            </p:nvSpPr>
            <p:spPr>
              <a:xfrm>
                <a:off x="3851280" y="4656240"/>
                <a:ext cx="33670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l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e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e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μ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μ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5" name=""/>
              <p:cNvSpPr txBox="1"/>
              <p:nvPr/>
            </p:nvSpPr>
            <p:spPr>
              <a:xfrm>
                <a:off x="7515360" y="4030560"/>
                <a:ext cx="149688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≥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o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μ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6" name=""/>
              <p:cNvSpPr txBox="1"/>
              <p:nvPr/>
            </p:nvSpPr>
            <p:spPr>
              <a:xfrm>
                <a:off x="7505640" y="4818240"/>
                <a:ext cx="151452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μ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7" name=""/>
          <p:cNvSpPr/>
          <p:nvPr/>
        </p:nvSpPr>
        <p:spPr>
          <a:xfrm>
            <a:off x="237960" y="4071960"/>
            <a:ext cx="381636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Comic Sans MS"/>
              </a:rPr>
              <a:t>Si ricava </a:t>
            </a:r>
            <a:r>
              <a:rPr b="0" i="1" lang="en-GB" sz="2400" spc="-1" strike="noStrike">
                <a:solidFill>
                  <a:srgbClr val="ffff66"/>
                </a:solidFill>
                <a:latin typeface="Comic Sans MS"/>
              </a:rPr>
              <a:t>D</a:t>
            </a:r>
            <a:r>
              <a:rPr b="0" lang="en-GB" sz="2400" spc="-1" strike="noStrike" baseline="-25000">
                <a:solidFill>
                  <a:srgbClr val="ffff66"/>
                </a:solidFill>
                <a:latin typeface="Comic Sans MS"/>
              </a:rPr>
              <a:t>el</a:t>
            </a:r>
            <a:r>
              <a:rPr b="0" lang="en-GB" sz="2400" spc="-1" strike="noStrike">
                <a:solidFill>
                  <a:srgbClr val="ffff66"/>
                </a:solidFill>
                <a:latin typeface="Comic Sans MS"/>
              </a:rPr>
              <a:t> in funzione di </a:t>
            </a:r>
            <a:r>
              <a:rPr b="0" i="1" lang="en-GB" sz="2400" spc="-1" strike="noStrike">
                <a:solidFill>
                  <a:srgbClr val="ffff66"/>
                </a:solidFill>
                <a:latin typeface="Comic Sans MS"/>
              </a:rPr>
              <a:t>D</a:t>
            </a:r>
            <a:r>
              <a:rPr b="0" i="1" lang="en-GB" sz="2400" spc="-1" strike="noStrike" baseline="-25000">
                <a:solidFill>
                  <a:srgbClr val="ffff66"/>
                </a:solidFill>
                <a:latin typeface="Comic Sans MS"/>
              </a:rPr>
              <a:t>t</a:t>
            </a:r>
            <a:r>
              <a:rPr b="0" lang="en-GB" sz="2400" spc="-1" strike="noStrike">
                <a:solidFill>
                  <a:srgbClr val="ffff66"/>
                </a:solidFill>
                <a:latin typeface="Comic Sans MS"/>
              </a:rPr>
              <a:t> e </a:t>
            </a:r>
            <a:r>
              <a:rPr b="0" i="1" lang="en-GB" sz="2400" spc="-1" strike="noStrike">
                <a:solidFill>
                  <a:srgbClr val="ffff66"/>
                </a:solidFill>
                <a:latin typeface="Comic Sans MS"/>
              </a:rPr>
              <a:t>R</a:t>
            </a:r>
            <a:r>
              <a:rPr b="0" lang="en-GB" sz="2400" spc="-1" strike="noStrike" baseline="-25000">
                <a:solidFill>
                  <a:srgbClr val="ffff66"/>
                </a:solidFill>
                <a:latin typeface="Symbol"/>
                <a:ea typeface="Symbol"/>
              </a:rPr>
              <a:t></a:t>
            </a:r>
            <a:r>
              <a:rPr b="0" lang="it-IT" sz="1600" spc="-1" strike="noStrike">
                <a:solidFill>
                  <a:srgbClr val="ffff66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237960" y="5651640"/>
            <a:ext cx="8440920" cy="9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Comic Sans MS"/>
              </a:rPr>
              <a:t>Noto </a:t>
            </a:r>
            <a:r>
              <a:rPr b="0" i="1" lang="en-GB" sz="2400" spc="-1" strike="noStrike">
                <a:solidFill>
                  <a:srgbClr val="ffff66"/>
                </a:solidFill>
                <a:latin typeface="Comic Sans MS"/>
              </a:rPr>
              <a:t>D</a:t>
            </a:r>
            <a:r>
              <a:rPr b="0" lang="en-GB" sz="2400" spc="-1" strike="noStrike" baseline="-25000">
                <a:solidFill>
                  <a:srgbClr val="ffff66"/>
                </a:solidFill>
                <a:latin typeface="Comic Sans MS"/>
              </a:rPr>
              <a:t>el</a:t>
            </a:r>
            <a:r>
              <a:rPr b="0" lang="en-GB" sz="2400" spc="-1" strike="noStrike">
                <a:solidFill>
                  <a:srgbClr val="ffff66"/>
                </a:solidFill>
                <a:latin typeface="Comic Sans MS"/>
              </a:rPr>
              <a:t>, si ricava la PGA cercata dai risultati dell’analisi modale del sistema MDOF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1800" y="-360"/>
            <a:ext cx="91278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Valutazione della risposta sismica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878040" y="1809720"/>
            <a:ext cx="1953720" cy="1335960"/>
            <a:chOff x="878040" y="1809720"/>
            <a:chExt cx="1953720" cy="1335960"/>
          </a:xfrm>
        </p:grpSpPr>
        <p:sp>
          <p:nvSpPr>
            <p:cNvPr id="45" name=""/>
            <p:cNvSpPr/>
            <p:nvPr/>
          </p:nvSpPr>
          <p:spPr>
            <a:xfrm>
              <a:off x="878040" y="3119400"/>
              <a:ext cx="1953720" cy="26280"/>
            </a:xfrm>
            <a:prstGeom prst="rect">
              <a:avLst/>
            </a:prstGeom>
            <a:solidFill>
              <a:srgbClr val="ffff66"/>
            </a:solidFill>
            <a:ln w="381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V="1">
              <a:off x="1101960" y="1890360"/>
              <a:ext cx="0" cy="122868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094760" y="1893240"/>
              <a:ext cx="1448280" cy="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101960" y="2291760"/>
              <a:ext cx="1402920" cy="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101960" y="2692440"/>
              <a:ext cx="1433880" cy="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1815480" y="1917000"/>
              <a:ext cx="0" cy="119988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2528640" y="1878840"/>
              <a:ext cx="0" cy="126216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693800" y="1809720"/>
              <a:ext cx="238320" cy="188640"/>
            </a:xfrm>
            <a:prstGeom prst="flowChartConnector">
              <a:avLst/>
            </a:prstGeom>
            <a:solidFill>
              <a:srgbClr val="ffff66"/>
            </a:solidFill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93800" y="2181960"/>
              <a:ext cx="238320" cy="186120"/>
            </a:xfrm>
            <a:prstGeom prst="flowChartConnector">
              <a:avLst/>
            </a:prstGeom>
            <a:solidFill>
              <a:srgbClr val="ffff66"/>
            </a:solidFill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693800" y="2606400"/>
              <a:ext cx="238320" cy="188280"/>
            </a:xfrm>
            <a:prstGeom prst="flowChartConnector">
              <a:avLst/>
            </a:prstGeom>
            <a:solidFill>
              <a:srgbClr val="ffff66"/>
            </a:solidFill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930320" y="1917720"/>
                <a:ext cx="34128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4479840" y="1301760"/>
            <a:ext cx="44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Massima risposta sismica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91000" y="1890720"/>
            <a:ext cx="447192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Sollecitazioni (N</a:t>
            </a:r>
            <a:r>
              <a:rPr b="0" lang="it-IT" sz="2400" spc="-1" strike="noStrike" baseline="-25000">
                <a:solidFill>
                  <a:srgbClr val="ffff66"/>
                </a:solidFill>
                <a:latin typeface="Comic Sans MS"/>
              </a:rPr>
              <a:t>j</a:t>
            </a: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, V</a:t>
            </a:r>
            <a:r>
              <a:rPr b="0" lang="it-IT" sz="2400" spc="-1" strike="noStrike" baseline="-25000">
                <a:solidFill>
                  <a:srgbClr val="ffff66"/>
                </a:solidFill>
                <a:latin typeface="Comic Sans MS"/>
              </a:rPr>
              <a:t>j</a:t>
            </a: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, M</a:t>
            </a:r>
            <a:r>
              <a:rPr b="0" lang="it-IT" sz="2400" spc="-1" strike="noStrike" baseline="-25000">
                <a:solidFill>
                  <a:srgbClr val="ffff66"/>
                </a:solidFill>
                <a:latin typeface="Comic Sans MS"/>
              </a:rPr>
              <a:t>j</a:t>
            </a: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Spostamenti (D</a:t>
            </a:r>
            <a:r>
              <a:rPr b="0" lang="it-IT" sz="2400" spc="-1" strike="noStrike" baseline="-25000">
                <a:solidFill>
                  <a:srgbClr val="ffff66"/>
                </a:solidFill>
                <a:latin typeface="Comic Sans MS"/>
              </a:rPr>
              <a:t>i</a:t>
            </a: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, </a:t>
            </a:r>
            <a:r>
              <a:rPr b="0" lang="it-IT" sz="2400" spc="-1" strike="noStrike">
                <a:solidFill>
                  <a:srgbClr val="ffff66"/>
                </a:solidFill>
                <a:latin typeface="Symbol"/>
                <a:ea typeface="Symbol"/>
              </a:rPr>
              <a:t></a:t>
            </a:r>
            <a:r>
              <a:rPr b="0" lang="it-IT" sz="2400" spc="-1" strike="noStrike" baseline="-25000">
                <a:solidFill>
                  <a:srgbClr val="ffff66"/>
                </a:solidFill>
                <a:latin typeface="Comic Sans MS"/>
              </a:rPr>
              <a:t>i</a:t>
            </a: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Deformazioni plastiche (</a:t>
            </a:r>
            <a:r>
              <a:rPr b="0" lang="it-IT" sz="2400" spc="-1" strike="noStrike">
                <a:solidFill>
                  <a:srgbClr val="ffff66"/>
                </a:solidFill>
                <a:latin typeface="Symbol"/>
                <a:ea typeface="Symbol"/>
              </a:rPr>
              <a:t></a:t>
            </a:r>
            <a:r>
              <a:rPr b="0" lang="it-IT" sz="2400" spc="-1" strike="noStrike" baseline="-25000">
                <a:solidFill>
                  <a:srgbClr val="ffff66"/>
                </a:solidFill>
                <a:latin typeface="Comic Sans MS"/>
              </a:rPr>
              <a:t>pl,i</a:t>
            </a: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90960" y="2220840"/>
            <a:ext cx="1109520" cy="895320"/>
          </a:xfrm>
          <a:custGeom>
            <a:avLst/>
            <a:gdLst>
              <a:gd name="textAreaLeft" fmla="*/ 138600 w 1109520"/>
              <a:gd name="textAreaRight" fmla="*/ 970920 w 1109520"/>
              <a:gd name="textAreaTop" fmla="*/ 223920 h 895320"/>
              <a:gd name="textAreaBottom" fmla="*/ 671760 h 895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089000" y="3467160"/>
            <a:ext cx="1463760" cy="1009440"/>
          </a:xfrm>
          <a:custGeom>
            <a:avLst/>
            <a:gdLst/>
            <a:ahLst/>
            <a:rect l="l" t="t" r="r" b="b"/>
            <a:pathLst>
              <a:path w="3960" h="1048">
                <a:moveTo>
                  <a:pt x="0" y="656"/>
                </a:moveTo>
                <a:cubicBezTo>
                  <a:pt x="12" y="620"/>
                  <a:pt x="21" y="595"/>
                  <a:pt x="48" y="568"/>
                </a:cubicBezTo>
                <a:cubicBezTo>
                  <a:pt x="45" y="588"/>
                  <a:pt x="31" y="650"/>
                  <a:pt x="48" y="672"/>
                </a:cubicBezTo>
                <a:cubicBezTo>
                  <a:pt x="53" y="679"/>
                  <a:pt x="64" y="667"/>
                  <a:pt x="72" y="664"/>
                </a:cubicBezTo>
                <a:cubicBezTo>
                  <a:pt x="116" y="597"/>
                  <a:pt x="57" y="672"/>
                  <a:pt x="104" y="672"/>
                </a:cubicBezTo>
                <a:cubicBezTo>
                  <a:pt x="115" y="672"/>
                  <a:pt x="106" y="649"/>
                  <a:pt x="112" y="640"/>
                </a:cubicBezTo>
                <a:cubicBezTo>
                  <a:pt x="117" y="632"/>
                  <a:pt x="128" y="629"/>
                  <a:pt x="136" y="624"/>
                </a:cubicBezTo>
                <a:cubicBezTo>
                  <a:pt x="173" y="699"/>
                  <a:pt x="134" y="637"/>
                  <a:pt x="160" y="624"/>
                </a:cubicBezTo>
                <a:cubicBezTo>
                  <a:pt x="169" y="620"/>
                  <a:pt x="176" y="635"/>
                  <a:pt x="184" y="640"/>
                </a:cubicBezTo>
                <a:cubicBezTo>
                  <a:pt x="187" y="651"/>
                  <a:pt x="189" y="661"/>
                  <a:pt x="192" y="672"/>
                </a:cubicBezTo>
                <a:cubicBezTo>
                  <a:pt x="194" y="680"/>
                  <a:pt x="194" y="702"/>
                  <a:pt x="200" y="696"/>
                </a:cubicBezTo>
                <a:cubicBezTo>
                  <a:pt x="217" y="679"/>
                  <a:pt x="210" y="648"/>
                  <a:pt x="216" y="624"/>
                </a:cubicBezTo>
                <a:cubicBezTo>
                  <a:pt x="219" y="635"/>
                  <a:pt x="221" y="645"/>
                  <a:pt x="224" y="656"/>
                </a:cubicBezTo>
                <a:cubicBezTo>
                  <a:pt x="229" y="672"/>
                  <a:pt x="240" y="704"/>
                  <a:pt x="240" y="704"/>
                </a:cubicBezTo>
                <a:cubicBezTo>
                  <a:pt x="245" y="695"/>
                  <a:pt x="268" y="643"/>
                  <a:pt x="280" y="640"/>
                </a:cubicBezTo>
                <a:cubicBezTo>
                  <a:pt x="288" y="638"/>
                  <a:pt x="286" y="656"/>
                  <a:pt x="288" y="664"/>
                </a:cubicBezTo>
                <a:cubicBezTo>
                  <a:pt x="308" y="734"/>
                  <a:pt x="285" y="662"/>
                  <a:pt x="304" y="720"/>
                </a:cubicBezTo>
                <a:cubicBezTo>
                  <a:pt x="307" y="709"/>
                  <a:pt x="309" y="699"/>
                  <a:pt x="312" y="688"/>
                </a:cubicBezTo>
                <a:cubicBezTo>
                  <a:pt x="317" y="672"/>
                  <a:pt x="328" y="640"/>
                  <a:pt x="328" y="640"/>
                </a:cubicBezTo>
                <a:cubicBezTo>
                  <a:pt x="333" y="648"/>
                  <a:pt x="340" y="655"/>
                  <a:pt x="344" y="664"/>
                </a:cubicBezTo>
                <a:cubicBezTo>
                  <a:pt x="348" y="672"/>
                  <a:pt x="344" y="686"/>
                  <a:pt x="352" y="688"/>
                </a:cubicBezTo>
                <a:cubicBezTo>
                  <a:pt x="361" y="690"/>
                  <a:pt x="398" y="650"/>
                  <a:pt x="400" y="648"/>
                </a:cubicBezTo>
                <a:cubicBezTo>
                  <a:pt x="443" y="735"/>
                  <a:pt x="426" y="731"/>
                  <a:pt x="440" y="656"/>
                </a:cubicBezTo>
                <a:cubicBezTo>
                  <a:pt x="444" y="634"/>
                  <a:pt x="449" y="621"/>
                  <a:pt x="456" y="600"/>
                </a:cubicBezTo>
                <a:cubicBezTo>
                  <a:pt x="461" y="616"/>
                  <a:pt x="467" y="632"/>
                  <a:pt x="472" y="648"/>
                </a:cubicBezTo>
                <a:cubicBezTo>
                  <a:pt x="475" y="659"/>
                  <a:pt x="477" y="691"/>
                  <a:pt x="480" y="680"/>
                </a:cubicBezTo>
                <a:cubicBezTo>
                  <a:pt x="494" y="630"/>
                  <a:pt x="487" y="578"/>
                  <a:pt x="504" y="528"/>
                </a:cubicBezTo>
                <a:cubicBezTo>
                  <a:pt x="535" y="590"/>
                  <a:pt x="523" y="656"/>
                  <a:pt x="544" y="720"/>
                </a:cubicBezTo>
                <a:cubicBezTo>
                  <a:pt x="565" y="534"/>
                  <a:pt x="573" y="353"/>
                  <a:pt x="608" y="168"/>
                </a:cubicBezTo>
                <a:cubicBezTo>
                  <a:pt x="658" y="369"/>
                  <a:pt x="588" y="537"/>
                  <a:pt x="624" y="752"/>
                </a:cubicBezTo>
                <a:cubicBezTo>
                  <a:pt x="645" y="876"/>
                  <a:pt x="635" y="501"/>
                  <a:pt x="640" y="376"/>
                </a:cubicBezTo>
                <a:cubicBezTo>
                  <a:pt x="656" y="524"/>
                  <a:pt x="628" y="717"/>
                  <a:pt x="672" y="848"/>
                </a:cubicBezTo>
                <a:cubicBezTo>
                  <a:pt x="683" y="784"/>
                  <a:pt x="685" y="720"/>
                  <a:pt x="696" y="656"/>
                </a:cubicBezTo>
                <a:cubicBezTo>
                  <a:pt x="712" y="565"/>
                  <a:pt x="752" y="384"/>
                  <a:pt x="752" y="384"/>
                </a:cubicBezTo>
                <a:cubicBezTo>
                  <a:pt x="802" y="459"/>
                  <a:pt x="776" y="411"/>
                  <a:pt x="776" y="600"/>
                </a:cubicBezTo>
                <a:cubicBezTo>
                  <a:pt x="776" y="637"/>
                  <a:pt x="742" y="738"/>
                  <a:pt x="768" y="712"/>
                </a:cubicBezTo>
                <a:cubicBezTo>
                  <a:pt x="804" y="676"/>
                  <a:pt x="780" y="610"/>
                  <a:pt x="792" y="560"/>
                </a:cubicBezTo>
                <a:cubicBezTo>
                  <a:pt x="823" y="713"/>
                  <a:pt x="757" y="375"/>
                  <a:pt x="808" y="832"/>
                </a:cubicBezTo>
                <a:cubicBezTo>
                  <a:pt x="811" y="861"/>
                  <a:pt x="814" y="773"/>
                  <a:pt x="816" y="744"/>
                </a:cubicBezTo>
                <a:cubicBezTo>
                  <a:pt x="823" y="645"/>
                  <a:pt x="819" y="541"/>
                  <a:pt x="856" y="448"/>
                </a:cubicBezTo>
                <a:cubicBezTo>
                  <a:pt x="898" y="547"/>
                  <a:pt x="883" y="642"/>
                  <a:pt x="896" y="408"/>
                </a:cubicBezTo>
                <a:cubicBezTo>
                  <a:pt x="929" y="507"/>
                  <a:pt x="914" y="653"/>
                  <a:pt x="920" y="760"/>
                </a:cubicBezTo>
                <a:cubicBezTo>
                  <a:pt x="927" y="640"/>
                  <a:pt x="926" y="614"/>
                  <a:pt x="944" y="496"/>
                </a:cubicBezTo>
                <a:cubicBezTo>
                  <a:pt x="951" y="453"/>
                  <a:pt x="958" y="410"/>
                  <a:pt x="968" y="368"/>
                </a:cubicBezTo>
                <a:cubicBezTo>
                  <a:pt x="974" y="343"/>
                  <a:pt x="992" y="296"/>
                  <a:pt x="992" y="296"/>
                </a:cubicBezTo>
                <a:cubicBezTo>
                  <a:pt x="1012" y="356"/>
                  <a:pt x="1011" y="417"/>
                  <a:pt x="1016" y="480"/>
                </a:cubicBezTo>
                <a:cubicBezTo>
                  <a:pt x="1027" y="401"/>
                  <a:pt x="1036" y="350"/>
                  <a:pt x="1064" y="280"/>
                </a:cubicBezTo>
                <a:cubicBezTo>
                  <a:pt x="1082" y="352"/>
                  <a:pt x="1073" y="323"/>
                  <a:pt x="1088" y="368"/>
                </a:cubicBezTo>
                <a:cubicBezTo>
                  <a:pt x="1093" y="357"/>
                  <a:pt x="1092" y="336"/>
                  <a:pt x="1104" y="336"/>
                </a:cubicBezTo>
                <a:cubicBezTo>
                  <a:pt x="1116" y="336"/>
                  <a:pt x="1110" y="375"/>
                  <a:pt x="1120" y="368"/>
                </a:cubicBezTo>
                <a:cubicBezTo>
                  <a:pt x="1140" y="355"/>
                  <a:pt x="1152" y="304"/>
                  <a:pt x="1152" y="304"/>
                </a:cubicBezTo>
                <a:cubicBezTo>
                  <a:pt x="1155" y="267"/>
                  <a:pt x="1156" y="229"/>
                  <a:pt x="1160" y="192"/>
                </a:cubicBezTo>
                <a:cubicBezTo>
                  <a:pt x="1174" y="57"/>
                  <a:pt x="1163" y="48"/>
                  <a:pt x="1192" y="120"/>
                </a:cubicBezTo>
                <a:cubicBezTo>
                  <a:pt x="1189" y="280"/>
                  <a:pt x="1190" y="440"/>
                  <a:pt x="1184" y="600"/>
                </a:cubicBezTo>
                <a:cubicBezTo>
                  <a:pt x="1182" y="659"/>
                  <a:pt x="1173" y="717"/>
                  <a:pt x="1168" y="776"/>
                </a:cubicBezTo>
                <a:cubicBezTo>
                  <a:pt x="1165" y="819"/>
                  <a:pt x="1160" y="947"/>
                  <a:pt x="1160" y="904"/>
                </a:cubicBezTo>
                <a:cubicBezTo>
                  <a:pt x="1160" y="638"/>
                  <a:pt x="1179" y="747"/>
                  <a:pt x="1216" y="416"/>
                </a:cubicBezTo>
                <a:cubicBezTo>
                  <a:pt x="1234" y="255"/>
                  <a:pt x="1217" y="318"/>
                  <a:pt x="1248" y="224"/>
                </a:cubicBezTo>
                <a:cubicBezTo>
                  <a:pt x="1306" y="282"/>
                  <a:pt x="1272" y="237"/>
                  <a:pt x="1280" y="392"/>
                </a:cubicBezTo>
                <a:cubicBezTo>
                  <a:pt x="1292" y="611"/>
                  <a:pt x="1288" y="547"/>
                  <a:pt x="1296" y="816"/>
                </a:cubicBezTo>
                <a:cubicBezTo>
                  <a:pt x="1302" y="702"/>
                  <a:pt x="1309" y="486"/>
                  <a:pt x="1360" y="384"/>
                </a:cubicBezTo>
                <a:cubicBezTo>
                  <a:pt x="1368" y="542"/>
                  <a:pt x="1352" y="700"/>
                  <a:pt x="1352" y="856"/>
                </a:cubicBezTo>
                <a:cubicBezTo>
                  <a:pt x="1352" y="864"/>
                  <a:pt x="1357" y="840"/>
                  <a:pt x="1360" y="832"/>
                </a:cubicBezTo>
                <a:cubicBezTo>
                  <a:pt x="1368" y="725"/>
                  <a:pt x="1376" y="543"/>
                  <a:pt x="1416" y="464"/>
                </a:cubicBezTo>
                <a:cubicBezTo>
                  <a:pt x="1444" y="408"/>
                  <a:pt x="1434" y="433"/>
                  <a:pt x="1448" y="392"/>
                </a:cubicBezTo>
                <a:cubicBezTo>
                  <a:pt x="1471" y="483"/>
                  <a:pt x="1467" y="588"/>
                  <a:pt x="1472" y="680"/>
                </a:cubicBezTo>
                <a:cubicBezTo>
                  <a:pt x="1485" y="567"/>
                  <a:pt x="1476" y="446"/>
                  <a:pt x="1504" y="336"/>
                </a:cubicBezTo>
                <a:cubicBezTo>
                  <a:pt x="1530" y="413"/>
                  <a:pt x="1518" y="497"/>
                  <a:pt x="1544" y="576"/>
                </a:cubicBezTo>
                <a:cubicBezTo>
                  <a:pt x="1569" y="502"/>
                  <a:pt x="1555" y="421"/>
                  <a:pt x="1568" y="344"/>
                </a:cubicBezTo>
                <a:cubicBezTo>
                  <a:pt x="1598" y="389"/>
                  <a:pt x="1590" y="369"/>
                  <a:pt x="1592" y="456"/>
                </a:cubicBezTo>
                <a:cubicBezTo>
                  <a:pt x="1597" y="653"/>
                  <a:pt x="1597" y="851"/>
                  <a:pt x="1600" y="1048"/>
                </a:cubicBezTo>
                <a:cubicBezTo>
                  <a:pt x="1631" y="938"/>
                  <a:pt x="1610" y="1030"/>
                  <a:pt x="1624" y="848"/>
                </a:cubicBezTo>
                <a:cubicBezTo>
                  <a:pt x="1628" y="795"/>
                  <a:pt x="1636" y="741"/>
                  <a:pt x="1640" y="688"/>
                </a:cubicBezTo>
                <a:cubicBezTo>
                  <a:pt x="1647" y="581"/>
                  <a:pt x="1651" y="475"/>
                  <a:pt x="1656" y="368"/>
                </a:cubicBezTo>
                <a:cubicBezTo>
                  <a:pt x="1659" y="304"/>
                  <a:pt x="1660" y="251"/>
                  <a:pt x="1680" y="192"/>
                </a:cubicBezTo>
                <a:cubicBezTo>
                  <a:pt x="1681" y="202"/>
                  <a:pt x="1698" y="382"/>
                  <a:pt x="1704" y="376"/>
                </a:cubicBezTo>
                <a:cubicBezTo>
                  <a:pt x="1734" y="346"/>
                  <a:pt x="1706" y="290"/>
                  <a:pt x="1712" y="248"/>
                </a:cubicBezTo>
                <a:cubicBezTo>
                  <a:pt x="1714" y="231"/>
                  <a:pt x="1723" y="216"/>
                  <a:pt x="1728" y="200"/>
                </a:cubicBezTo>
                <a:cubicBezTo>
                  <a:pt x="1818" y="381"/>
                  <a:pt x="1743" y="627"/>
                  <a:pt x="1792" y="824"/>
                </a:cubicBezTo>
                <a:cubicBezTo>
                  <a:pt x="1817" y="343"/>
                  <a:pt x="1767" y="507"/>
                  <a:pt x="1832" y="312"/>
                </a:cubicBezTo>
                <a:cubicBezTo>
                  <a:pt x="1862" y="494"/>
                  <a:pt x="1851" y="704"/>
                  <a:pt x="1856" y="888"/>
                </a:cubicBezTo>
                <a:cubicBezTo>
                  <a:pt x="1859" y="736"/>
                  <a:pt x="1859" y="584"/>
                  <a:pt x="1864" y="432"/>
                </a:cubicBezTo>
                <a:cubicBezTo>
                  <a:pt x="1864" y="424"/>
                  <a:pt x="1867" y="401"/>
                  <a:pt x="1872" y="408"/>
                </a:cubicBezTo>
                <a:cubicBezTo>
                  <a:pt x="1881" y="421"/>
                  <a:pt x="1877" y="440"/>
                  <a:pt x="1880" y="456"/>
                </a:cubicBezTo>
                <a:cubicBezTo>
                  <a:pt x="1889" y="578"/>
                  <a:pt x="1888" y="710"/>
                  <a:pt x="1912" y="832"/>
                </a:cubicBezTo>
                <a:cubicBezTo>
                  <a:pt x="1926" y="548"/>
                  <a:pt x="1918" y="342"/>
                  <a:pt x="1944" y="640"/>
                </a:cubicBezTo>
                <a:cubicBezTo>
                  <a:pt x="1953" y="740"/>
                  <a:pt x="1944" y="847"/>
                  <a:pt x="1976" y="944"/>
                </a:cubicBezTo>
                <a:cubicBezTo>
                  <a:pt x="1999" y="786"/>
                  <a:pt x="1999" y="628"/>
                  <a:pt x="2032" y="472"/>
                </a:cubicBezTo>
                <a:cubicBezTo>
                  <a:pt x="2044" y="509"/>
                  <a:pt x="2052" y="547"/>
                  <a:pt x="2064" y="584"/>
                </a:cubicBezTo>
                <a:cubicBezTo>
                  <a:pt x="2088" y="846"/>
                  <a:pt x="2065" y="459"/>
                  <a:pt x="2088" y="344"/>
                </a:cubicBezTo>
                <a:cubicBezTo>
                  <a:pt x="2124" y="536"/>
                  <a:pt x="2111" y="729"/>
                  <a:pt x="2152" y="920"/>
                </a:cubicBezTo>
                <a:cubicBezTo>
                  <a:pt x="2186" y="748"/>
                  <a:pt x="2158" y="897"/>
                  <a:pt x="2192" y="480"/>
                </a:cubicBezTo>
                <a:cubicBezTo>
                  <a:pt x="2205" y="317"/>
                  <a:pt x="2233" y="162"/>
                  <a:pt x="2256" y="0"/>
                </a:cubicBezTo>
                <a:cubicBezTo>
                  <a:pt x="2304" y="81"/>
                  <a:pt x="2280" y="26"/>
                  <a:pt x="2288" y="184"/>
                </a:cubicBezTo>
                <a:cubicBezTo>
                  <a:pt x="2320" y="824"/>
                  <a:pt x="2286" y="298"/>
                  <a:pt x="2320" y="664"/>
                </a:cubicBezTo>
                <a:cubicBezTo>
                  <a:pt x="2332" y="796"/>
                  <a:pt x="2315" y="738"/>
                  <a:pt x="2336" y="800"/>
                </a:cubicBezTo>
                <a:cubicBezTo>
                  <a:pt x="2339" y="688"/>
                  <a:pt x="2335" y="576"/>
                  <a:pt x="2344" y="464"/>
                </a:cubicBezTo>
                <a:cubicBezTo>
                  <a:pt x="2345" y="450"/>
                  <a:pt x="2358" y="490"/>
                  <a:pt x="2360" y="504"/>
                </a:cubicBezTo>
                <a:cubicBezTo>
                  <a:pt x="2366" y="541"/>
                  <a:pt x="2364" y="579"/>
                  <a:pt x="2368" y="616"/>
                </a:cubicBezTo>
                <a:cubicBezTo>
                  <a:pt x="2373" y="663"/>
                  <a:pt x="2391" y="706"/>
                  <a:pt x="2400" y="752"/>
                </a:cubicBezTo>
                <a:cubicBezTo>
                  <a:pt x="2426" y="594"/>
                  <a:pt x="2415" y="660"/>
                  <a:pt x="2432" y="744"/>
                </a:cubicBezTo>
                <a:cubicBezTo>
                  <a:pt x="2444" y="709"/>
                  <a:pt x="2450" y="675"/>
                  <a:pt x="2464" y="640"/>
                </a:cubicBezTo>
                <a:cubicBezTo>
                  <a:pt x="2475" y="656"/>
                  <a:pt x="2488" y="670"/>
                  <a:pt x="2496" y="688"/>
                </a:cubicBezTo>
                <a:cubicBezTo>
                  <a:pt x="2502" y="700"/>
                  <a:pt x="2490" y="728"/>
                  <a:pt x="2504" y="728"/>
                </a:cubicBezTo>
                <a:cubicBezTo>
                  <a:pt x="2518" y="728"/>
                  <a:pt x="2507" y="701"/>
                  <a:pt x="2512" y="688"/>
                </a:cubicBezTo>
                <a:cubicBezTo>
                  <a:pt x="2528" y="644"/>
                  <a:pt x="2548" y="606"/>
                  <a:pt x="2560" y="560"/>
                </a:cubicBezTo>
                <a:cubicBezTo>
                  <a:pt x="2581" y="642"/>
                  <a:pt x="2583" y="724"/>
                  <a:pt x="2592" y="808"/>
                </a:cubicBezTo>
                <a:cubicBezTo>
                  <a:pt x="2654" y="684"/>
                  <a:pt x="2583" y="521"/>
                  <a:pt x="2664" y="400"/>
                </a:cubicBezTo>
                <a:cubicBezTo>
                  <a:pt x="2691" y="467"/>
                  <a:pt x="2688" y="528"/>
                  <a:pt x="2704" y="600"/>
                </a:cubicBezTo>
                <a:cubicBezTo>
                  <a:pt x="2709" y="625"/>
                  <a:pt x="2728" y="672"/>
                  <a:pt x="2728" y="672"/>
                </a:cubicBezTo>
                <a:cubicBezTo>
                  <a:pt x="2759" y="579"/>
                  <a:pt x="2738" y="478"/>
                  <a:pt x="2776" y="384"/>
                </a:cubicBezTo>
                <a:cubicBezTo>
                  <a:pt x="2814" y="461"/>
                  <a:pt x="2799" y="549"/>
                  <a:pt x="2816" y="632"/>
                </a:cubicBezTo>
                <a:cubicBezTo>
                  <a:pt x="2821" y="624"/>
                  <a:pt x="2829" y="617"/>
                  <a:pt x="2832" y="608"/>
                </a:cubicBezTo>
                <a:cubicBezTo>
                  <a:pt x="2840" y="582"/>
                  <a:pt x="2827" y="545"/>
                  <a:pt x="2848" y="528"/>
                </a:cubicBezTo>
                <a:cubicBezTo>
                  <a:pt x="2862" y="517"/>
                  <a:pt x="2866" y="559"/>
                  <a:pt x="2872" y="576"/>
                </a:cubicBezTo>
                <a:cubicBezTo>
                  <a:pt x="2879" y="597"/>
                  <a:pt x="2888" y="640"/>
                  <a:pt x="2888" y="640"/>
                </a:cubicBezTo>
                <a:cubicBezTo>
                  <a:pt x="2885" y="488"/>
                  <a:pt x="2885" y="336"/>
                  <a:pt x="2880" y="184"/>
                </a:cubicBezTo>
                <a:cubicBezTo>
                  <a:pt x="2880" y="176"/>
                  <a:pt x="2872" y="152"/>
                  <a:pt x="2872" y="160"/>
                </a:cubicBezTo>
                <a:cubicBezTo>
                  <a:pt x="2872" y="208"/>
                  <a:pt x="2878" y="256"/>
                  <a:pt x="2880" y="304"/>
                </a:cubicBezTo>
                <a:cubicBezTo>
                  <a:pt x="2887" y="495"/>
                  <a:pt x="2874" y="713"/>
                  <a:pt x="2912" y="904"/>
                </a:cubicBezTo>
                <a:cubicBezTo>
                  <a:pt x="2994" y="657"/>
                  <a:pt x="2894" y="383"/>
                  <a:pt x="2976" y="136"/>
                </a:cubicBezTo>
                <a:cubicBezTo>
                  <a:pt x="3028" y="395"/>
                  <a:pt x="3032" y="665"/>
                  <a:pt x="3048" y="928"/>
                </a:cubicBezTo>
                <a:cubicBezTo>
                  <a:pt x="3102" y="765"/>
                  <a:pt x="2998" y="275"/>
                  <a:pt x="3096" y="520"/>
                </a:cubicBezTo>
                <a:cubicBezTo>
                  <a:pt x="3100" y="582"/>
                  <a:pt x="3093" y="644"/>
                  <a:pt x="3128" y="696"/>
                </a:cubicBezTo>
                <a:cubicBezTo>
                  <a:pt x="3131" y="680"/>
                  <a:pt x="3133" y="664"/>
                  <a:pt x="3136" y="648"/>
                </a:cubicBezTo>
                <a:cubicBezTo>
                  <a:pt x="3138" y="637"/>
                  <a:pt x="3133" y="616"/>
                  <a:pt x="3144" y="616"/>
                </a:cubicBezTo>
                <a:cubicBezTo>
                  <a:pt x="3151" y="616"/>
                  <a:pt x="3166" y="665"/>
                  <a:pt x="3168" y="672"/>
                </a:cubicBezTo>
                <a:cubicBezTo>
                  <a:pt x="3176" y="651"/>
                  <a:pt x="3184" y="629"/>
                  <a:pt x="3192" y="608"/>
                </a:cubicBezTo>
                <a:cubicBezTo>
                  <a:pt x="3195" y="600"/>
                  <a:pt x="3192" y="584"/>
                  <a:pt x="3200" y="584"/>
                </a:cubicBezTo>
                <a:cubicBezTo>
                  <a:pt x="3210" y="584"/>
                  <a:pt x="3211" y="600"/>
                  <a:pt x="3216" y="608"/>
                </a:cubicBezTo>
                <a:cubicBezTo>
                  <a:pt x="3236" y="687"/>
                  <a:pt x="3221" y="691"/>
                  <a:pt x="3256" y="632"/>
                </a:cubicBezTo>
                <a:cubicBezTo>
                  <a:pt x="3259" y="619"/>
                  <a:pt x="3261" y="605"/>
                  <a:pt x="3264" y="592"/>
                </a:cubicBezTo>
                <a:cubicBezTo>
                  <a:pt x="3266" y="581"/>
                  <a:pt x="3262" y="555"/>
                  <a:pt x="3272" y="560"/>
                </a:cubicBezTo>
                <a:cubicBezTo>
                  <a:pt x="3289" y="568"/>
                  <a:pt x="3299" y="621"/>
                  <a:pt x="3304" y="640"/>
                </a:cubicBezTo>
                <a:cubicBezTo>
                  <a:pt x="3312" y="629"/>
                  <a:pt x="3322" y="620"/>
                  <a:pt x="3328" y="608"/>
                </a:cubicBezTo>
                <a:cubicBezTo>
                  <a:pt x="3333" y="598"/>
                  <a:pt x="3325" y="574"/>
                  <a:pt x="3336" y="576"/>
                </a:cubicBezTo>
                <a:cubicBezTo>
                  <a:pt x="3341" y="577"/>
                  <a:pt x="3401" y="662"/>
                  <a:pt x="3408" y="672"/>
                </a:cubicBezTo>
                <a:cubicBezTo>
                  <a:pt x="3425" y="638"/>
                  <a:pt x="3431" y="605"/>
                  <a:pt x="3440" y="568"/>
                </a:cubicBezTo>
                <a:cubicBezTo>
                  <a:pt x="3448" y="579"/>
                  <a:pt x="3454" y="591"/>
                  <a:pt x="3464" y="600"/>
                </a:cubicBezTo>
                <a:cubicBezTo>
                  <a:pt x="3470" y="605"/>
                  <a:pt x="3482" y="602"/>
                  <a:pt x="3488" y="608"/>
                </a:cubicBezTo>
                <a:cubicBezTo>
                  <a:pt x="3494" y="614"/>
                  <a:pt x="3491" y="625"/>
                  <a:pt x="3496" y="632"/>
                </a:cubicBezTo>
                <a:cubicBezTo>
                  <a:pt x="3507" y="646"/>
                  <a:pt x="3528" y="651"/>
                  <a:pt x="3544" y="656"/>
                </a:cubicBezTo>
                <a:cubicBezTo>
                  <a:pt x="3555" y="640"/>
                  <a:pt x="3560" y="597"/>
                  <a:pt x="3576" y="608"/>
                </a:cubicBezTo>
                <a:cubicBezTo>
                  <a:pt x="3611" y="631"/>
                  <a:pt x="3650" y="637"/>
                  <a:pt x="3688" y="656"/>
                </a:cubicBezTo>
                <a:cubicBezTo>
                  <a:pt x="3733" y="611"/>
                  <a:pt x="3739" y="604"/>
                  <a:pt x="3792" y="640"/>
                </a:cubicBezTo>
                <a:cubicBezTo>
                  <a:pt x="3835" y="631"/>
                  <a:pt x="3850" y="626"/>
                  <a:pt x="3864" y="584"/>
                </a:cubicBezTo>
                <a:cubicBezTo>
                  <a:pt x="3869" y="592"/>
                  <a:pt x="3872" y="603"/>
                  <a:pt x="3880" y="608"/>
                </a:cubicBezTo>
                <a:cubicBezTo>
                  <a:pt x="3888" y="613"/>
                  <a:pt x="3960" y="616"/>
                  <a:pt x="3928" y="648"/>
                </a:cubicBezTo>
              </a:path>
            </a:pathLst>
          </a:custGeom>
          <a:noFill/>
          <a:ln w="158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30400" y="4521240"/>
            <a:ext cx="13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isma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121 2.40574E-007 L -0.01927 2.40574E-007 E">
                                      <p:cBhvr>
                                        <p:cTn id="6" dur="5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1.83437E-006 L -0.05591 -1.83437E-006 E">
                                      <p:cBhvr>
                                        <p:cTn id="9" dur="5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1.83437E-006 L 0.07777 -1.83437E-006 E">
                                      <p:cBhvr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777 -1.83437E-006 L -0.02882 -1.83437E-006 E">
                                      <p:cBhvr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1.83437E-006 L 0.09687 -1.83437E-006 E">
                                      <p:cBhvr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777 -1.83437E-006 L -0.04219 -1.83437E-006 E">
                                      <p:cBhvr>
                                        <p:cTn id="21" dur="5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1.83437E-006 L 0.04878 -1.83437E-006 E">
                                      <p:cBhvr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500"/>
                            </p:stCondLst>
                            <p:childTnLst>
                              <p:par>
                                <p:cTn id="2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777 -1.83437E-006 L 0.00243 -1.83437E-006 E">
                                      <p:cBhvr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METODO N1: procedimento inverso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40" name=""/>
          <p:cNvSpPr/>
          <p:nvPr/>
        </p:nvSpPr>
        <p:spPr>
          <a:xfrm>
            <a:off x="264960" y="993600"/>
            <a:ext cx="864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Il procedimento descritto può essere utilizzato per descrivere la corrispondenza biunivoca tra spostamenti e valori di PGA che li determinano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241" name=""/>
          <p:cNvGrpSpPr/>
          <p:nvPr/>
        </p:nvGrpSpPr>
        <p:grpSpPr>
          <a:xfrm>
            <a:off x="4492080" y="3335400"/>
            <a:ext cx="3701160" cy="2853360"/>
            <a:chOff x="4492080" y="3335400"/>
            <a:chExt cx="3701160" cy="2853360"/>
          </a:xfrm>
        </p:grpSpPr>
        <p:sp>
          <p:nvSpPr>
            <p:cNvPr id="1242" name=""/>
            <p:cNvSpPr/>
            <p:nvPr/>
          </p:nvSpPr>
          <p:spPr>
            <a:xfrm>
              <a:off x="5089680" y="3584520"/>
              <a:ext cx="3103560" cy="22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5089680" y="3584520"/>
              <a:ext cx="3103560" cy="2263680"/>
            </a:xfrm>
            <a:prstGeom prst="rect">
              <a:avLst/>
            </a:prstGeom>
            <a:noFill/>
            <a:ln w="64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089680" y="3584520"/>
              <a:ext cx="1440" cy="226368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046840" y="5848200"/>
              <a:ext cx="42840" cy="180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046840" y="5281560"/>
              <a:ext cx="42840" cy="180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046840" y="4716360"/>
              <a:ext cx="42840" cy="180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046840" y="4149720"/>
              <a:ext cx="42840" cy="14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089680" y="5848200"/>
              <a:ext cx="3103560" cy="180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 flipV="1">
              <a:off x="5089680" y="5847840"/>
              <a:ext cx="1440" cy="428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 flipV="1">
              <a:off x="6130800" y="5847840"/>
              <a:ext cx="180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 flipV="1">
              <a:off x="7172280" y="5847840"/>
              <a:ext cx="1800" cy="428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 flipV="1">
              <a:off x="5432400" y="5762160"/>
              <a:ext cx="1440" cy="13356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 flipV="1">
              <a:off x="5775480" y="5762160"/>
              <a:ext cx="1440" cy="13356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 flipV="1">
              <a:off x="6145200" y="5762160"/>
              <a:ext cx="1440" cy="13356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 flipV="1">
              <a:off x="6556320" y="5762160"/>
              <a:ext cx="1800" cy="13356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V="1">
              <a:off x="6969240" y="5762160"/>
              <a:ext cx="1440" cy="13356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 flipV="1">
              <a:off x="7383600" y="5762160"/>
              <a:ext cx="1440" cy="13356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 flipV="1">
              <a:off x="7800840" y="5762160"/>
              <a:ext cx="1800" cy="13356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759560" y="577224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66"/>
                  </a:solidFill>
                  <a:latin typeface="Comic Sans MS"/>
                </a:rPr>
                <a:t>0</a:t>
              </a:r>
              <a:endParaRPr b="0" lang="en-US" sz="1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492080" y="512928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66"/>
                  </a:solidFill>
                  <a:latin typeface="Comic Sans MS"/>
                </a:rPr>
                <a:t>2000</a:t>
              </a:r>
              <a:endParaRPr b="0" lang="en-US" sz="1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492080" y="456408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66"/>
                  </a:solidFill>
                  <a:latin typeface="Comic Sans MS"/>
                </a:rPr>
                <a:t>4000</a:t>
              </a:r>
              <a:endParaRPr b="0" lang="en-US" sz="1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492080" y="399744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66"/>
                  </a:solidFill>
                  <a:latin typeface="Comic Sans MS"/>
                </a:rPr>
                <a:t>6000</a:t>
              </a:r>
              <a:endParaRPr b="0" lang="en-US" sz="1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535640" y="3335400"/>
              <a:ext cx="498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>
                  <a:solidFill>
                    <a:srgbClr val="ffff66"/>
                  </a:solidFill>
                  <a:latin typeface="Comic Sans MS"/>
                </a:rPr>
                <a:t>V</a:t>
              </a:r>
              <a:r>
                <a:rPr b="0" i="1" lang="it-IT" sz="1600" spc="-1" strike="noStrike" baseline="-25000">
                  <a:solidFill>
                    <a:srgbClr val="ffff66"/>
                  </a:solidFill>
                  <a:latin typeface="Comic Sans MS"/>
                </a:rPr>
                <a:t>b</a:t>
              </a:r>
              <a:r>
                <a:rPr b="0" i="1" lang="it-IT" sz="1600" spc="-1" strike="noStrike">
                  <a:solidFill>
                    <a:srgbClr val="ffff66"/>
                  </a:solidFill>
                  <a:latin typeface="Comic Sans MS"/>
                </a:rPr>
                <a:t> (kN)</a:t>
              </a:r>
              <a:endParaRPr b="0" lang="en-US" sz="1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293800" y="5945040"/>
              <a:ext cx="28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66"/>
                  </a:solidFill>
                  <a:latin typeface="Comic Sans MS"/>
                </a:rPr>
                <a:t>0.1</a:t>
              </a:r>
              <a:endParaRPr b="0" lang="en-US" sz="1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639400" y="5945040"/>
              <a:ext cx="28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66"/>
                  </a:solidFill>
                  <a:latin typeface="Comic Sans MS"/>
                </a:rPr>
                <a:t>0.2</a:t>
              </a:r>
              <a:endParaRPr b="0" lang="en-US" sz="1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050520" y="5945040"/>
              <a:ext cx="28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66"/>
                  </a:solidFill>
                  <a:latin typeface="Comic Sans MS"/>
                </a:rPr>
                <a:t>0.3</a:t>
              </a:r>
              <a:endParaRPr b="0" lang="en-US" sz="1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6460200" y="5945040"/>
              <a:ext cx="28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66"/>
                  </a:solidFill>
                  <a:latin typeface="Comic Sans MS"/>
                </a:rPr>
                <a:t>0.4</a:t>
              </a:r>
              <a:endParaRPr b="0" lang="en-US" sz="1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882480" y="5945040"/>
              <a:ext cx="28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66"/>
                  </a:solidFill>
                  <a:latin typeface="Comic Sans MS"/>
                </a:rPr>
                <a:t>0.5</a:t>
              </a:r>
              <a:endParaRPr b="0" lang="en-US" sz="1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7327080" y="5945040"/>
              <a:ext cx="28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66"/>
                  </a:solidFill>
                  <a:latin typeface="Comic Sans MS"/>
                </a:rPr>
                <a:t>0.6</a:t>
              </a:r>
              <a:endParaRPr b="0" lang="en-US" sz="1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7798680" y="5945040"/>
              <a:ext cx="36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66"/>
                  </a:solidFill>
                  <a:latin typeface="Comic Sans MS"/>
                </a:rPr>
                <a:t>PGA</a:t>
              </a:r>
              <a:endParaRPr b="0" lang="en-US" sz="1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091120" y="3984480"/>
              <a:ext cx="3092400" cy="1854360"/>
            </a:xfrm>
            <a:custGeom>
              <a:avLst/>
              <a:gdLst/>
              <a:ahLst/>
              <a:rect l="l" t="t" r="r" b="b"/>
              <a:pathLst>
                <a:path w="1948" h="1168">
                  <a:moveTo>
                    <a:pt x="0" y="1168"/>
                  </a:moveTo>
                  <a:cubicBezTo>
                    <a:pt x="51" y="1066"/>
                    <a:pt x="103" y="964"/>
                    <a:pt x="180" y="816"/>
                  </a:cubicBezTo>
                  <a:cubicBezTo>
                    <a:pt x="257" y="668"/>
                    <a:pt x="385" y="396"/>
                    <a:pt x="460" y="280"/>
                  </a:cubicBezTo>
                  <a:cubicBezTo>
                    <a:pt x="535" y="164"/>
                    <a:pt x="561" y="157"/>
                    <a:pt x="628" y="120"/>
                  </a:cubicBezTo>
                  <a:cubicBezTo>
                    <a:pt x="695" y="83"/>
                    <a:pt x="763" y="73"/>
                    <a:pt x="860" y="56"/>
                  </a:cubicBezTo>
                  <a:cubicBezTo>
                    <a:pt x="957" y="39"/>
                    <a:pt x="1101" y="24"/>
                    <a:pt x="1212" y="16"/>
                  </a:cubicBezTo>
                  <a:cubicBezTo>
                    <a:pt x="1323" y="8"/>
                    <a:pt x="1401" y="11"/>
                    <a:pt x="1524" y="8"/>
                  </a:cubicBezTo>
                  <a:cubicBezTo>
                    <a:pt x="1647" y="5"/>
                    <a:pt x="1797" y="2"/>
                    <a:pt x="1948" y="0"/>
                  </a:cubicBezTo>
                </a:path>
              </a:pathLst>
            </a:custGeom>
            <a:noFill/>
            <a:ln w="2844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122880" y="4087800"/>
              <a:ext cx="95400" cy="95400"/>
            </a:xfrm>
            <a:prstGeom prst="ellipse">
              <a:avLst/>
            </a:prstGeom>
            <a:solidFill>
              <a:srgbClr val="00ff00"/>
            </a:solidFill>
            <a:ln w="64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591240" y="4010040"/>
              <a:ext cx="95400" cy="95400"/>
            </a:xfrm>
            <a:prstGeom prst="ellipse">
              <a:avLst/>
            </a:prstGeom>
            <a:solidFill>
              <a:srgbClr val="ffcc00"/>
            </a:solidFill>
            <a:ln w="64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7031160" y="3963960"/>
              <a:ext cx="95040" cy="95400"/>
            </a:xfrm>
            <a:prstGeom prst="ellipse">
              <a:avLst/>
            </a:prstGeom>
            <a:solidFill>
              <a:srgbClr val="ff0000"/>
            </a:solidFill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1276" name=""/>
          <p:cNvGrpSpPr/>
          <p:nvPr/>
        </p:nvGrpSpPr>
        <p:grpSpPr>
          <a:xfrm>
            <a:off x="366840" y="3517920"/>
            <a:ext cx="3319200" cy="2758320"/>
            <a:chOff x="366840" y="3517920"/>
            <a:chExt cx="3319200" cy="2758320"/>
          </a:xfrm>
        </p:grpSpPr>
        <p:sp>
          <p:nvSpPr>
            <p:cNvPr id="1277" name=""/>
            <p:cNvSpPr/>
            <p:nvPr/>
          </p:nvSpPr>
          <p:spPr>
            <a:xfrm>
              <a:off x="1098720" y="3552840"/>
              <a:ext cx="1971360" cy="2324160"/>
            </a:xfrm>
            <a:prstGeom prst="rect">
              <a:avLst/>
            </a:prstGeom>
            <a:noFill/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1098720" y="3552840"/>
              <a:ext cx="1971360" cy="2324160"/>
            </a:xfrm>
            <a:prstGeom prst="rect">
              <a:avLst/>
            </a:prstGeom>
            <a:noFill/>
            <a:ln w="64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1098720" y="3552840"/>
              <a:ext cx="1440" cy="232416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1057320" y="5877000"/>
              <a:ext cx="41400" cy="14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1057320" y="5411880"/>
              <a:ext cx="41400" cy="14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1057320" y="4948200"/>
              <a:ext cx="41400" cy="180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1057320" y="4481640"/>
              <a:ext cx="41400" cy="14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057320" y="4016520"/>
              <a:ext cx="41400" cy="14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1057320" y="3552840"/>
              <a:ext cx="41400" cy="14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1098720" y="5877000"/>
              <a:ext cx="1971360" cy="14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V="1">
              <a:off x="1098720" y="5876640"/>
              <a:ext cx="1440" cy="428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V="1">
              <a:off x="1677960" y="5876640"/>
              <a:ext cx="1440" cy="428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 flipV="1">
              <a:off x="2259000" y="5876640"/>
              <a:ext cx="1440" cy="428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V="1">
              <a:off x="2838600" y="5876640"/>
              <a:ext cx="1440" cy="428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098720" y="4203720"/>
              <a:ext cx="1960560" cy="1673280"/>
            </a:xfrm>
            <a:custGeom>
              <a:avLst/>
              <a:gdLst/>
              <a:ahLst/>
              <a:rect l="l" t="t" r="r" b="b"/>
              <a:pathLst>
                <a:path w="5145" h="4396">
                  <a:moveTo>
                    <a:pt x="0" y="4396"/>
                  </a:moveTo>
                  <a:lnTo>
                    <a:pt x="250" y="4152"/>
                  </a:lnTo>
                  <a:lnTo>
                    <a:pt x="502" y="3908"/>
                  </a:lnTo>
                  <a:lnTo>
                    <a:pt x="752" y="3663"/>
                  </a:lnTo>
                  <a:lnTo>
                    <a:pt x="1002" y="3419"/>
                  </a:lnTo>
                  <a:lnTo>
                    <a:pt x="1259" y="3175"/>
                  </a:lnTo>
                  <a:lnTo>
                    <a:pt x="1544" y="2931"/>
                  </a:lnTo>
                  <a:lnTo>
                    <a:pt x="1844" y="2686"/>
                  </a:lnTo>
                  <a:lnTo>
                    <a:pt x="2144" y="2442"/>
                  </a:lnTo>
                  <a:lnTo>
                    <a:pt x="2445" y="2198"/>
                  </a:lnTo>
                  <a:lnTo>
                    <a:pt x="2747" y="1954"/>
                  </a:lnTo>
                  <a:lnTo>
                    <a:pt x="3050" y="1709"/>
                  </a:lnTo>
                  <a:lnTo>
                    <a:pt x="3354" y="1465"/>
                  </a:lnTo>
                  <a:lnTo>
                    <a:pt x="3658" y="1221"/>
                  </a:lnTo>
                  <a:lnTo>
                    <a:pt x="3963" y="977"/>
                  </a:lnTo>
                  <a:lnTo>
                    <a:pt x="4268" y="732"/>
                  </a:lnTo>
                  <a:lnTo>
                    <a:pt x="4573" y="488"/>
                  </a:lnTo>
                  <a:lnTo>
                    <a:pt x="4877" y="244"/>
                  </a:lnTo>
                  <a:lnTo>
                    <a:pt x="5145" y="0"/>
                  </a:lnTo>
                </a:path>
              </a:pathLst>
            </a:custGeom>
            <a:noFill/>
            <a:ln w="2844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555480" y="5749920"/>
              <a:ext cx="40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66"/>
                  </a:solidFill>
                  <a:latin typeface="Comic Sans MS"/>
                </a:rPr>
                <a:t>0.00</a:t>
              </a:r>
              <a:endParaRPr b="0" lang="en-US" sz="1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55480" y="5284800"/>
              <a:ext cx="40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66"/>
                  </a:solidFill>
                  <a:latin typeface="Comic Sans MS"/>
                </a:rPr>
                <a:t>0.25</a:t>
              </a:r>
              <a:endParaRPr b="0" lang="en-US" sz="1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555480" y="4819680"/>
              <a:ext cx="40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66"/>
                  </a:solidFill>
                  <a:latin typeface="Comic Sans MS"/>
                </a:rPr>
                <a:t>0.50</a:t>
              </a:r>
              <a:endParaRPr b="0" lang="en-US" sz="1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555480" y="4354560"/>
              <a:ext cx="40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66"/>
                  </a:solidFill>
                  <a:latin typeface="Comic Sans MS"/>
                </a:rPr>
                <a:t>0.75</a:t>
              </a:r>
              <a:endParaRPr b="0" lang="en-US" sz="1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55840" y="3889440"/>
              <a:ext cx="40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66"/>
                  </a:solidFill>
                  <a:latin typeface="Comic Sans MS"/>
                </a:rPr>
                <a:t>1.00</a:t>
              </a:r>
              <a:endParaRPr b="0" lang="en-US" sz="1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1072080" y="599292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66"/>
                  </a:solidFill>
                  <a:latin typeface="Comic Sans MS"/>
                </a:rPr>
                <a:t>0</a:t>
              </a:r>
              <a:endParaRPr b="0" lang="en-US" sz="1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1593360" y="599292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66"/>
                  </a:solidFill>
                  <a:latin typeface="Comic Sans MS"/>
                </a:rPr>
                <a:t>50</a:t>
              </a:r>
              <a:endParaRPr b="0" lang="en-US" sz="1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2116080" y="599292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66"/>
                  </a:solidFill>
                  <a:latin typeface="Comic Sans MS"/>
                </a:rPr>
                <a:t>100</a:t>
              </a:r>
              <a:endParaRPr b="0" lang="en-US" sz="1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700360" y="5999040"/>
              <a:ext cx="98568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>
                  <a:solidFill>
                    <a:srgbClr val="ffff66"/>
                  </a:solidFill>
                  <a:latin typeface="Comic Sans MS"/>
                </a:rPr>
                <a:t>D</a:t>
              </a:r>
              <a:r>
                <a:rPr b="0" i="1" lang="it-IT" sz="1600" spc="-1" strike="noStrike" baseline="-25000">
                  <a:solidFill>
                    <a:srgbClr val="ffff66"/>
                  </a:solidFill>
                  <a:latin typeface="Comic Sans MS"/>
                </a:rPr>
                <a:t>t</a:t>
              </a:r>
              <a:r>
                <a:rPr b="0" i="1" lang="it-IT" sz="1600" spc="-1" strike="noStrike">
                  <a:solidFill>
                    <a:srgbClr val="ffff66"/>
                  </a:solidFill>
                  <a:latin typeface="Comic Sans MS"/>
                </a:rPr>
                <a:t> (mm)</a:t>
              </a:r>
              <a:endParaRPr b="0" lang="en-US" sz="1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366840" y="3517920"/>
              <a:ext cx="555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66"/>
                  </a:solidFill>
                  <a:latin typeface="Comic Sans MS"/>
                </a:rPr>
                <a:t>PGA/g</a:t>
              </a:r>
              <a:endParaRPr b="0" lang="en-US" sz="1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 flipV="1">
              <a:off x="1106640" y="3914280"/>
              <a:ext cx="1962000" cy="1962360"/>
            </a:xfrm>
            <a:prstGeom prst="line">
              <a:avLst/>
            </a:prstGeom>
            <a:ln w="19080">
              <a:solidFill>
                <a:srgbClr val="ffff6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1303" name=""/>
          <p:cNvSpPr/>
          <p:nvPr/>
        </p:nvSpPr>
        <p:spPr>
          <a:xfrm>
            <a:off x="279360" y="2303640"/>
            <a:ext cx="864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La corrispondenza biunivoca consente di rappresentare la curva di prestazione in funzione del PGA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304" name=""/>
          <p:cNvGrpSpPr/>
          <p:nvPr/>
        </p:nvGrpSpPr>
        <p:grpSpPr>
          <a:xfrm>
            <a:off x="1100160" y="4857840"/>
            <a:ext cx="1147680" cy="1014480"/>
            <a:chOff x="1100160" y="4857840"/>
            <a:chExt cx="1147680" cy="1014480"/>
          </a:xfrm>
        </p:grpSpPr>
        <p:grpSp>
          <p:nvGrpSpPr>
            <p:cNvPr id="1305" name=""/>
            <p:cNvGrpSpPr/>
            <p:nvPr/>
          </p:nvGrpSpPr>
          <p:grpSpPr>
            <a:xfrm>
              <a:off x="1100160" y="4857840"/>
              <a:ext cx="1147680" cy="492120"/>
              <a:chOff x="1100160" y="4857840"/>
              <a:chExt cx="1147680" cy="492120"/>
            </a:xfrm>
          </p:grpSpPr>
          <p:sp>
            <p:nvSpPr>
              <p:cNvPr id="1306" name=""/>
              <p:cNvSpPr/>
              <p:nvPr/>
            </p:nvSpPr>
            <p:spPr>
              <a:xfrm>
                <a:off x="1920960" y="5054760"/>
                <a:ext cx="82440" cy="82440"/>
              </a:xfrm>
              <a:prstGeom prst="ellipse">
                <a:avLst/>
              </a:prstGeom>
              <a:solidFill>
                <a:srgbClr val="ffcc00"/>
              </a:solidFill>
              <a:ln w="648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2165400" y="4857840"/>
                <a:ext cx="82440" cy="82440"/>
              </a:xfrm>
              <a:prstGeom prst="ellipse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1658880" y="5267160"/>
                <a:ext cx="82800" cy="82800"/>
              </a:xfrm>
              <a:prstGeom prst="ellipse">
                <a:avLst/>
              </a:prstGeom>
              <a:solidFill>
                <a:srgbClr val="00ff00"/>
              </a:solidFill>
              <a:ln w="64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 flipH="1">
                <a:off x="1100160" y="5308560"/>
                <a:ext cx="495360" cy="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 flipH="1">
                <a:off x="1100160" y="5092560"/>
                <a:ext cx="495360" cy="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 flipH="1">
                <a:off x="1100160" y="4889520"/>
                <a:ext cx="4953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sp>
          <p:nvSpPr>
            <p:cNvPr id="1312" name=""/>
            <p:cNvSpPr/>
            <p:nvPr/>
          </p:nvSpPr>
          <p:spPr>
            <a:xfrm flipV="1">
              <a:off x="1692360" y="5376960"/>
              <a:ext cx="0" cy="49536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 flipV="1">
              <a:off x="1955880" y="5376960"/>
              <a:ext cx="0" cy="49536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 flipV="1">
              <a:off x="2195640" y="5376960"/>
              <a:ext cx="0" cy="495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682560" y="285228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MODELLI DI CARICO PER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NALISI STATICA INCREMENTALE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ANALISI PUSHOVER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"/>
          <p:cNvSpPr/>
          <p:nvPr/>
        </p:nvSpPr>
        <p:spPr>
          <a:xfrm>
            <a:off x="480960" y="1073160"/>
            <a:ext cx="49402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1. Modelli di carico </a:t>
            </a:r>
            <a:r>
              <a:rPr b="1" lang="it-IT" sz="24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invarianti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480960" y="4052880"/>
            <a:ext cx="49402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2. Modelli di carico </a:t>
            </a:r>
            <a:r>
              <a:rPr b="1" lang="it-IT" sz="24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adattivi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Tipi di modelli di carico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19" name=""/>
          <p:cNvSpPr/>
          <p:nvPr/>
        </p:nvSpPr>
        <p:spPr>
          <a:xfrm>
            <a:off x="480960" y="153360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La distribuzione delle forze rimane costante durante il processo di carico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480960" y="2389320"/>
            <a:ext cx="83296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15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Modelli semi-empirici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5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Modelli teorici (legati alle caratteristiche dinamiche della struttura)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80960" y="4595760"/>
            <a:ext cx="86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La distribuzione delle forze viene aggiornata durante il processo di carico per tenere conto della mutazione delle caratteristiche della struttura dovute alle plasticizzazioni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80960" y="5829480"/>
            <a:ext cx="832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15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Solo modelli teorici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3" name=""/>
          <p:cNvGrpSpPr/>
          <p:nvPr/>
        </p:nvGrpSpPr>
        <p:grpSpPr>
          <a:xfrm>
            <a:off x="3597840" y="2141640"/>
            <a:ext cx="1958040" cy="1607400"/>
            <a:chOff x="3597840" y="2141640"/>
            <a:chExt cx="1958040" cy="1607400"/>
          </a:xfrm>
        </p:grpSpPr>
        <p:sp>
          <p:nvSpPr>
            <p:cNvPr id="1324" name=""/>
            <p:cNvSpPr/>
            <p:nvPr/>
          </p:nvSpPr>
          <p:spPr>
            <a:xfrm>
              <a:off x="4527720" y="2141640"/>
              <a:ext cx="3236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900" spc="-1" strike="noStrike">
                  <a:solidFill>
                    <a:srgbClr val="ffff66"/>
                  </a:solidFill>
                  <a:latin typeface="Comic Sans MS"/>
                </a:rPr>
                <a:t>m</a:t>
              </a:r>
              <a:endParaRPr b="0" lang="en-US" sz="29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267080" y="2673360"/>
              <a:ext cx="811440" cy="1440"/>
            </a:xfrm>
            <a:prstGeom prst="line">
              <a:avLst/>
            </a:prstGeom>
            <a:ln w="176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800600" y="238608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ffff66"/>
                  </a:solidFill>
                  <a:latin typeface="Comic Sans MS"/>
                </a:rPr>
                <a:t>i</a:t>
              </a:r>
              <a:endParaRPr b="0" lang="en-US" sz="17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3760560" y="25844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ffff66"/>
                  </a:solidFill>
                  <a:latin typeface="Comic Sans MS"/>
                </a:rPr>
                <a:t>i</a:t>
              </a:r>
              <a:endParaRPr b="0" lang="en-US" sz="17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412880" y="2690640"/>
              <a:ext cx="153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ffff66"/>
                  </a:solidFill>
                  <a:latin typeface="Comic Sans MS"/>
                </a:rPr>
                <a:t>N</a:t>
              </a:r>
              <a:endParaRPr b="0" lang="en-US" sz="17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025240" y="319392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ffff66"/>
                  </a:solidFill>
                  <a:latin typeface="Comic Sans MS"/>
                </a:rPr>
                <a:t>j</a:t>
              </a:r>
              <a:endParaRPr b="0" lang="en-US" sz="17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3597840" y="2359080"/>
              <a:ext cx="1760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900" spc="-1" strike="noStrike">
                  <a:solidFill>
                    <a:srgbClr val="ffff66"/>
                  </a:solidFill>
                  <a:latin typeface="Comic Sans MS"/>
                </a:rPr>
                <a:t>F</a:t>
              </a:r>
              <a:endParaRPr b="0" lang="en-US" sz="29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4700880" y="2968560"/>
              <a:ext cx="3236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900" spc="-1" strike="noStrike">
                  <a:solidFill>
                    <a:srgbClr val="ffff66"/>
                  </a:solidFill>
                  <a:latin typeface="Comic Sans MS"/>
                </a:rPr>
                <a:t>m</a:t>
              </a:r>
              <a:endParaRPr b="0" lang="en-US" sz="29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3930120" y="2405160"/>
              <a:ext cx="2109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66"/>
                  </a:solidFill>
                  <a:latin typeface="Comic Sans MS"/>
                </a:rPr>
                <a:t>=</a:t>
              </a:r>
              <a:endParaRPr b="0" lang="en-US" sz="29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4290480" y="2825640"/>
              <a:ext cx="38016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300" spc="-1" strike="noStrike">
                  <a:solidFill>
                    <a:srgbClr val="ffff66"/>
                  </a:solidFill>
                  <a:latin typeface="Symbol"/>
                  <a:ea typeface="Symbol"/>
                </a:rPr>
                <a:t></a:t>
              </a:r>
              <a:endParaRPr b="0" lang="en-US" sz="43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5227560" y="2354400"/>
              <a:ext cx="3283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900" spc="-1" strike="noStrike">
                  <a:solidFill>
                    <a:srgbClr val="ffff66"/>
                  </a:solidFill>
                  <a:latin typeface="Comic Sans MS"/>
                </a:rPr>
                <a:t>V</a:t>
              </a:r>
              <a:r>
                <a:rPr b="0" i="1" lang="it-IT" sz="2900" spc="-1" strike="noStrike" baseline="-25000">
                  <a:solidFill>
                    <a:srgbClr val="ffff66"/>
                  </a:solidFill>
                  <a:latin typeface="Comic Sans MS"/>
                </a:rPr>
                <a:t>b</a:t>
              </a:r>
              <a:endParaRPr b="0" lang="en-US" sz="29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4305240" y="3489480"/>
              <a:ext cx="393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ffff66"/>
                  </a:solidFill>
                  <a:latin typeface="Comic Sans MS"/>
                </a:rPr>
                <a:t>j=1</a:t>
              </a:r>
              <a:endParaRPr b="0" lang="en-US" sz="17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1336" name=""/>
          <p:cNvGrpSpPr/>
          <p:nvPr/>
        </p:nvGrpSpPr>
        <p:grpSpPr>
          <a:xfrm>
            <a:off x="3350520" y="5086440"/>
            <a:ext cx="2475360" cy="1607040"/>
            <a:chOff x="3350520" y="5086440"/>
            <a:chExt cx="2475360" cy="1607040"/>
          </a:xfrm>
        </p:grpSpPr>
        <p:sp>
          <p:nvSpPr>
            <p:cNvPr id="1337" name=""/>
            <p:cNvSpPr/>
            <p:nvPr/>
          </p:nvSpPr>
          <p:spPr>
            <a:xfrm>
              <a:off x="4280040" y="5086440"/>
              <a:ext cx="3236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900" spc="-1" strike="noStrike">
                  <a:solidFill>
                    <a:srgbClr val="ffff66"/>
                  </a:solidFill>
                  <a:latin typeface="Comic Sans MS"/>
                </a:rPr>
                <a:t>m</a:t>
              </a:r>
              <a:endParaRPr b="0" lang="en-US" sz="29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4850640" y="5086440"/>
              <a:ext cx="2142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900" spc="-1" strike="noStrike">
                  <a:solidFill>
                    <a:srgbClr val="ffff66"/>
                  </a:solidFill>
                  <a:latin typeface="Comic Sans MS"/>
                </a:rPr>
                <a:t>h</a:t>
              </a:r>
              <a:endParaRPr b="0" lang="en-US" sz="29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4019400" y="5618160"/>
              <a:ext cx="1346400" cy="1080"/>
            </a:xfrm>
            <a:prstGeom prst="line">
              <a:avLst/>
            </a:prstGeom>
            <a:ln w="176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552920" y="533052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ffff66"/>
                  </a:solidFill>
                  <a:latin typeface="Comic Sans MS"/>
                </a:rPr>
                <a:t>i</a:t>
              </a:r>
              <a:endParaRPr b="0" lang="en-US" sz="17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3512880" y="55292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ffff66"/>
                  </a:solidFill>
                  <a:latin typeface="Comic Sans MS"/>
                </a:rPr>
                <a:t>i</a:t>
              </a:r>
              <a:endParaRPr b="0" lang="en-US" sz="17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4165200" y="5635440"/>
              <a:ext cx="153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ffff66"/>
                  </a:solidFill>
                  <a:latin typeface="Comic Sans MS"/>
                </a:rPr>
                <a:t>N</a:t>
              </a:r>
              <a:endParaRPr b="0" lang="en-US" sz="17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4777560" y="613872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ffff66"/>
                  </a:solidFill>
                  <a:latin typeface="Comic Sans MS"/>
                </a:rPr>
                <a:t>j</a:t>
              </a:r>
              <a:endParaRPr b="0" lang="en-US" sz="17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3350520" y="5303520"/>
              <a:ext cx="1760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900" spc="-1" strike="noStrike">
                  <a:solidFill>
                    <a:srgbClr val="ffff66"/>
                  </a:solidFill>
                  <a:latin typeface="Comic Sans MS"/>
                </a:rPr>
                <a:t>F</a:t>
              </a:r>
              <a:endParaRPr b="0" lang="en-US" sz="29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4453200" y="5913360"/>
              <a:ext cx="3236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900" spc="-1" strike="noStrike">
                  <a:solidFill>
                    <a:srgbClr val="ffff66"/>
                  </a:solidFill>
                  <a:latin typeface="Comic Sans MS"/>
                </a:rPr>
                <a:t>m</a:t>
              </a:r>
              <a:endParaRPr b="0" lang="en-US" sz="29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4626720" y="5113080"/>
              <a:ext cx="230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66"/>
                  </a:solidFill>
                  <a:latin typeface="Comic Sans MS"/>
                </a:rPr>
                <a:t>∙</a:t>
              </a:r>
              <a:endParaRPr b="0" lang="en-US" sz="29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3682440" y="5349600"/>
              <a:ext cx="2109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66"/>
                  </a:solidFill>
                  <a:latin typeface="Comic Sans MS"/>
                </a:rPr>
                <a:t>=</a:t>
              </a:r>
              <a:endParaRPr b="0" lang="en-US" sz="29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4833000" y="5870520"/>
              <a:ext cx="230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66"/>
                  </a:solidFill>
                  <a:latin typeface="Comic Sans MS"/>
                </a:rPr>
                <a:t>∙</a:t>
              </a:r>
              <a:endParaRPr b="0" lang="en-US" sz="29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042800" y="5770440"/>
              <a:ext cx="38016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300" spc="-1" strike="noStrike">
                  <a:solidFill>
                    <a:srgbClr val="ffff66"/>
                  </a:solidFill>
                  <a:latin typeface="Symbol"/>
                  <a:ea typeface="Symbol"/>
                </a:rPr>
                <a:t></a:t>
              </a:r>
              <a:endParaRPr b="0" lang="en-US" sz="43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5497560" y="5386320"/>
              <a:ext cx="3283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900" spc="-1" strike="noStrike">
                  <a:solidFill>
                    <a:srgbClr val="ffff66"/>
                  </a:solidFill>
                  <a:latin typeface="Comic Sans MS"/>
                </a:rPr>
                <a:t>V</a:t>
              </a:r>
              <a:r>
                <a:rPr b="0" i="1" lang="it-IT" sz="2900" spc="-1" strike="noStrike" baseline="-25000">
                  <a:solidFill>
                    <a:srgbClr val="ffff66"/>
                  </a:solidFill>
                  <a:latin typeface="Comic Sans MS"/>
                </a:rPr>
                <a:t>b</a:t>
              </a:r>
              <a:endParaRPr b="0" lang="en-US" sz="29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105160" y="533052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ffff66"/>
                  </a:solidFill>
                  <a:latin typeface="Comic Sans MS"/>
                </a:rPr>
                <a:t>i</a:t>
              </a:r>
              <a:endParaRPr b="0" lang="en-US" sz="17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353560" y="613872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ffff66"/>
                  </a:solidFill>
                  <a:latin typeface="Comic Sans MS"/>
                </a:rPr>
                <a:t>j</a:t>
              </a:r>
              <a:endParaRPr b="0" lang="en-US" sz="17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047560" y="5913360"/>
              <a:ext cx="2142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900" spc="-1" strike="noStrike">
                  <a:solidFill>
                    <a:srgbClr val="ffff66"/>
                  </a:solidFill>
                  <a:latin typeface="Comic Sans MS"/>
                </a:rPr>
                <a:t>h</a:t>
              </a:r>
              <a:endParaRPr b="0" lang="en-US" sz="29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057560" y="6433920"/>
              <a:ext cx="393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ffff66"/>
                  </a:solidFill>
                  <a:latin typeface="Comic Sans MS"/>
                </a:rPr>
                <a:t>j=1</a:t>
              </a:r>
              <a:endParaRPr b="0" lang="en-US" sz="17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1355" name=""/>
          <p:cNvSpPr/>
          <p:nvPr/>
        </p:nvSpPr>
        <p:spPr>
          <a:xfrm>
            <a:off x="358920" y="1432080"/>
            <a:ext cx="8277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Le forze statiche equivalenti sono proporzionali alle masse di piano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358920" y="1038240"/>
            <a:ext cx="433548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Modello di carico A1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358920" y="3772080"/>
            <a:ext cx="433548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Modello di carico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A2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358920" y="4175280"/>
            <a:ext cx="827712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La generica forza </a:t>
            </a:r>
            <a:r>
              <a:rPr b="0" i="1" lang="it-IT" sz="2400" spc="-1" strike="noStrike">
                <a:solidFill>
                  <a:srgbClr val="ffff66"/>
                </a:solidFill>
                <a:latin typeface="Comic Sans MS"/>
              </a:rPr>
              <a:t>F</a:t>
            </a:r>
            <a:r>
              <a:rPr b="0" i="1" lang="it-IT" sz="2400" spc="-1" strike="noStrike" baseline="-25000">
                <a:solidFill>
                  <a:srgbClr val="ffff66"/>
                </a:solidFill>
                <a:latin typeface="Comic Sans MS"/>
              </a:rPr>
              <a:t>i</a:t>
            </a: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 è proporzionale alla massa </a:t>
            </a:r>
            <a:r>
              <a:rPr b="0" i="1" lang="it-IT" sz="2400" spc="-1" strike="noStrike">
                <a:solidFill>
                  <a:srgbClr val="ffff66"/>
                </a:solidFill>
                <a:latin typeface="Comic Sans MS"/>
              </a:rPr>
              <a:t>m</a:t>
            </a:r>
            <a:r>
              <a:rPr b="0" i="1" lang="it-IT" sz="2400" spc="-1" strike="noStrike" baseline="-25000">
                <a:solidFill>
                  <a:srgbClr val="ffff66"/>
                </a:solidFill>
                <a:latin typeface="Comic Sans MS"/>
              </a:rPr>
              <a:t>i</a:t>
            </a: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 ed all’altezza </a:t>
            </a:r>
            <a:r>
              <a:rPr b="0" i="1" lang="it-IT" sz="2400" spc="-1" strike="noStrike">
                <a:solidFill>
                  <a:srgbClr val="ffff66"/>
                </a:solidFill>
                <a:latin typeface="Comic Sans MS"/>
              </a:rPr>
              <a:t>h</a:t>
            </a:r>
            <a:r>
              <a:rPr b="0" i="1" lang="it-IT" sz="2400" spc="-1" strike="noStrike" baseline="-25000">
                <a:solidFill>
                  <a:srgbClr val="ffff66"/>
                </a:solidFill>
                <a:latin typeface="Comic Sans MS"/>
              </a:rPr>
              <a:t>i</a:t>
            </a: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 dell’i-esimo piano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0" y="0"/>
            <a:ext cx="91440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Modelli di carico semi-empirici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"/>
          <p:cNvSpPr/>
          <p:nvPr/>
        </p:nvSpPr>
        <p:spPr>
          <a:xfrm>
            <a:off x="358920" y="1393920"/>
            <a:ext cx="8277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Le forze statiche equivalenti sono proporzionali ad un modo equivalente (</a:t>
            </a:r>
            <a:r>
              <a:rPr b="0" lang="it-IT" sz="24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Requena and Ayala, 2000</a:t>
            </a: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):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358920" y="3716280"/>
            <a:ext cx="43354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Modello di carico B2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358920" y="4097160"/>
            <a:ext cx="827712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Le forze statiche equivalenti dipendono dai modi di vibrazioni a dalle corrispondenti pseudo-accelerazioni spettrali (Freeman et al., 1998)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358920" y="1000080"/>
            <a:ext cx="43354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Modello di carico B1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364" name=""/>
          <p:cNvGrpSpPr/>
          <p:nvPr/>
        </p:nvGrpSpPr>
        <p:grpSpPr>
          <a:xfrm>
            <a:off x="563400" y="2444760"/>
            <a:ext cx="2601360" cy="975600"/>
            <a:chOff x="563400" y="2444760"/>
            <a:chExt cx="2601360" cy="975600"/>
          </a:xfrm>
        </p:grpSpPr>
        <p:sp>
          <p:nvSpPr>
            <p:cNvPr id="1365" name=""/>
            <p:cNvSpPr/>
            <p:nvPr/>
          </p:nvSpPr>
          <p:spPr>
            <a:xfrm>
              <a:off x="1887120" y="2522520"/>
              <a:ext cx="223200" cy="6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500" spc="-1" strike="noStrike">
                  <a:solidFill>
                    <a:srgbClr val="ffff66"/>
                  </a:solidFill>
                  <a:latin typeface="Symbol"/>
                  <a:ea typeface="Symbol"/>
                </a:rPr>
                <a:t></a:t>
              </a:r>
              <a:endParaRPr b="0" lang="en-US" sz="45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880360" y="2522520"/>
              <a:ext cx="172800" cy="6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500" spc="-1" strike="noStrike">
                  <a:solidFill>
                    <a:srgbClr val="ffff66"/>
                  </a:solidFill>
                  <a:latin typeface="Comic Sans MS"/>
                </a:rPr>
                <a:t>)</a:t>
              </a:r>
              <a:endParaRPr b="0" lang="en-US" sz="45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1276200" y="2444760"/>
              <a:ext cx="1817640" cy="901800"/>
            </a:xfrm>
            <a:custGeom>
              <a:avLst/>
              <a:gdLst/>
              <a:ahLst/>
              <a:rect l="l" t="t" r="r" b="b"/>
              <a:pathLst>
                <a:path w="3807" h="1954">
                  <a:moveTo>
                    <a:pt x="0" y="1310"/>
                  </a:moveTo>
                  <a:lnTo>
                    <a:pt x="96" y="1174"/>
                  </a:lnTo>
                  <a:lnTo>
                    <a:pt x="244" y="1772"/>
                  </a:lnTo>
                  <a:lnTo>
                    <a:pt x="414" y="0"/>
                  </a:lnTo>
                  <a:lnTo>
                    <a:pt x="3807" y="0"/>
                  </a:lnTo>
                  <a:lnTo>
                    <a:pt x="3807" y="35"/>
                  </a:lnTo>
                  <a:lnTo>
                    <a:pt x="444" y="35"/>
                  </a:lnTo>
                  <a:lnTo>
                    <a:pt x="261" y="1954"/>
                  </a:lnTo>
                  <a:lnTo>
                    <a:pt x="227" y="1954"/>
                  </a:lnTo>
                  <a:lnTo>
                    <a:pt x="57" y="1267"/>
                  </a:lnTo>
                  <a:lnTo>
                    <a:pt x="19" y="1323"/>
                  </a:lnTo>
                  <a:lnTo>
                    <a:pt x="0" y="1310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040560" y="2557440"/>
              <a:ext cx="124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66"/>
                  </a:solidFill>
                  <a:latin typeface="Comic Sans MS"/>
                </a:rPr>
                <a:t>2</a:t>
              </a:r>
              <a:endParaRPr b="0" lang="en-US" sz="17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1753200" y="3160800"/>
              <a:ext cx="124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66"/>
                  </a:solidFill>
                  <a:latin typeface="Comic Sans MS"/>
                </a:rPr>
                <a:t>1</a:t>
              </a:r>
              <a:endParaRPr b="0" lang="en-US" sz="17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1608840" y="2459160"/>
              <a:ext cx="182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ffff66"/>
                  </a:solidFill>
                  <a:latin typeface="Comic Sans MS"/>
                </a:rPr>
                <a:t>M</a:t>
              </a:r>
              <a:endParaRPr b="0" lang="en-US" sz="17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226600" y="2894040"/>
              <a:ext cx="113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700" spc="-1" strike="noStrike">
                  <a:solidFill>
                    <a:srgbClr val="ffff66"/>
                  </a:solidFill>
                  <a:latin typeface="Comic Sans MS"/>
                </a:rPr>
                <a:t>ij</a:t>
              </a:r>
              <a:endParaRPr b="0" lang="en-US" sz="17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772920" y="2852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ffff66"/>
                  </a:solidFill>
                  <a:latin typeface="Comic Sans MS"/>
                </a:rPr>
                <a:t>i</a:t>
              </a:r>
              <a:endParaRPr b="0" lang="en-US" sz="17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1572120" y="313200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ffff66"/>
                  </a:solidFill>
                  <a:latin typeface="Comic Sans MS"/>
                </a:rPr>
                <a:t>j</a:t>
              </a:r>
              <a:endParaRPr b="0" lang="en-US" sz="17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63400" y="2612880"/>
              <a:ext cx="1926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900" spc="-1" strike="noStrike">
                  <a:solidFill>
                    <a:srgbClr val="ffff66"/>
                  </a:solidFill>
                  <a:latin typeface="Symbol"/>
                  <a:ea typeface="Symbol"/>
                </a:rPr>
                <a:t></a:t>
              </a:r>
              <a:endParaRPr b="0" lang="en-US" sz="29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1630440" y="3139920"/>
              <a:ext cx="172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66"/>
                  </a:solidFill>
                  <a:latin typeface="Symbol"/>
                  <a:ea typeface="Symbol"/>
                </a:rPr>
                <a:t></a:t>
              </a:r>
              <a:endParaRPr b="0" lang="en-US" sz="17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940680" y="2657520"/>
              <a:ext cx="2109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66"/>
                  </a:solidFill>
                  <a:latin typeface="Comic Sans MS"/>
                </a:rPr>
                <a:t>=</a:t>
              </a:r>
              <a:endParaRPr b="0" lang="en-US" sz="29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1526760" y="2573280"/>
              <a:ext cx="38016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300" spc="-1" strike="noStrike">
                  <a:solidFill>
                    <a:srgbClr val="ffff66"/>
                  </a:solidFill>
                  <a:latin typeface="Symbol"/>
                  <a:ea typeface="Symbol"/>
                </a:rPr>
                <a:t></a:t>
              </a:r>
              <a:endParaRPr b="0" lang="en-US" sz="43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550960" y="2637000"/>
              <a:ext cx="1926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900" spc="-1" strike="noStrike">
                  <a:solidFill>
                    <a:srgbClr val="ffff66"/>
                  </a:solidFill>
                  <a:latin typeface="Symbol"/>
                  <a:ea typeface="Symbol"/>
                </a:rPr>
                <a:t></a:t>
              </a:r>
              <a:endParaRPr b="0" lang="en-US" sz="29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072160" y="2657520"/>
              <a:ext cx="230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66"/>
                  </a:solidFill>
                  <a:latin typeface="Symbol"/>
                  <a:ea typeface="Symbol"/>
                </a:rPr>
                <a:t></a:t>
              </a:r>
              <a:endParaRPr b="0" lang="en-US" sz="29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700360" y="2900520"/>
              <a:ext cx="218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700" spc="-1" strike="noStrike">
                  <a:solidFill>
                    <a:srgbClr val="ffff66"/>
                  </a:solidFill>
                  <a:latin typeface="Comic Sans MS"/>
                </a:rPr>
                <a:t>ji</a:t>
              </a:r>
              <a:endParaRPr b="0" lang="en-US" sz="17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328840" y="2739960"/>
              <a:ext cx="222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Times New Roman"/>
                  <a:ea typeface="Times New Roman"/>
                </a:rPr>
                <a:t>•</a:t>
              </a:r>
              <a:endParaRPr b="0" lang="en-US" sz="1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672840" y="2584440"/>
              <a:ext cx="163800" cy="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1383" name=""/>
          <p:cNvGrpSpPr/>
          <p:nvPr/>
        </p:nvGrpSpPr>
        <p:grpSpPr>
          <a:xfrm>
            <a:off x="5718240" y="2249640"/>
            <a:ext cx="2358720" cy="1450080"/>
            <a:chOff x="5718240" y="2249640"/>
            <a:chExt cx="2358720" cy="1450080"/>
          </a:xfrm>
        </p:grpSpPr>
        <p:sp>
          <p:nvSpPr>
            <p:cNvPr id="1384" name=""/>
            <p:cNvSpPr/>
            <p:nvPr/>
          </p:nvSpPr>
          <p:spPr>
            <a:xfrm>
              <a:off x="6459480" y="2757600"/>
              <a:ext cx="1171440" cy="1440"/>
            </a:xfrm>
            <a:prstGeom prst="line">
              <a:avLst/>
            </a:prstGeom>
            <a:ln w="176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949800" y="244152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ffff66"/>
                  </a:solidFill>
                  <a:latin typeface="Comic Sans MS"/>
                </a:rPr>
                <a:t>i</a:t>
              </a:r>
              <a:endParaRPr b="0" lang="en-US" sz="17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5881320" y="273996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ffff66"/>
                  </a:solidFill>
                  <a:latin typeface="Comic Sans MS"/>
                </a:rPr>
                <a:t>i</a:t>
              </a:r>
              <a:endParaRPr b="0" lang="en-US" sz="17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578280" y="277164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ffff66"/>
                  </a:solidFill>
                  <a:latin typeface="Times New Roman"/>
                </a:rPr>
                <a:t>N</a:t>
              </a:r>
              <a:endParaRPr b="0" lang="en-US" sz="17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7107120" y="317016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ffff66"/>
                  </a:solidFill>
                  <a:latin typeface="Comic Sans MS"/>
                </a:rPr>
                <a:t>i</a:t>
              </a:r>
              <a:endParaRPr b="0" lang="en-US" sz="17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6654960" y="2249640"/>
              <a:ext cx="3236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900" spc="-1" strike="noStrike">
                  <a:solidFill>
                    <a:srgbClr val="ffff66"/>
                  </a:solidFill>
                  <a:latin typeface="Comic Sans MS"/>
                </a:rPr>
                <a:t>m</a:t>
              </a:r>
              <a:endParaRPr b="0" lang="en-US" sz="29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718240" y="2492280"/>
              <a:ext cx="2444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900" spc="-1" strike="noStrike">
                  <a:solidFill>
                    <a:srgbClr val="ffff66"/>
                  </a:solidFill>
                  <a:latin typeface="Comic Sans MS"/>
                </a:rPr>
                <a:t>F</a:t>
              </a:r>
              <a:endParaRPr b="0" lang="en-US" sz="29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6821640" y="2927520"/>
              <a:ext cx="3236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900" spc="-1" strike="noStrike">
                  <a:solidFill>
                    <a:srgbClr val="ffff66"/>
                  </a:solidFill>
                  <a:latin typeface="Comic Sans MS"/>
                </a:rPr>
                <a:t>m</a:t>
              </a:r>
              <a:endParaRPr b="0" lang="en-US" sz="29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985800" y="2270160"/>
              <a:ext cx="2142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66"/>
                  </a:solidFill>
                  <a:latin typeface="Symbol"/>
                  <a:ea typeface="Symbol"/>
                </a:rPr>
                <a:t></a:t>
              </a:r>
              <a:endParaRPr b="0" lang="en-US" sz="29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103080" y="2522520"/>
              <a:ext cx="2109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66"/>
                  </a:solidFill>
                  <a:latin typeface="Comic Sans MS"/>
                </a:rPr>
                <a:t>=</a:t>
              </a:r>
              <a:endParaRPr b="0" lang="en-US" sz="29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7151040" y="2957400"/>
              <a:ext cx="2142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66"/>
                  </a:solidFill>
                  <a:latin typeface="Symbol"/>
                  <a:ea typeface="Symbol"/>
                </a:rPr>
                <a:t></a:t>
              </a:r>
              <a:endParaRPr b="0" lang="en-US" sz="29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430320" y="2865600"/>
              <a:ext cx="38016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300" spc="-1" strike="noStrike">
                  <a:solidFill>
                    <a:srgbClr val="ffff66"/>
                  </a:solidFill>
                  <a:latin typeface="Symbol"/>
                  <a:ea typeface="Symbol"/>
                </a:rPr>
                <a:t></a:t>
              </a:r>
              <a:endParaRPr b="0" lang="en-US" sz="43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7748640" y="2503440"/>
              <a:ext cx="3283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900" spc="-1" strike="noStrike">
                  <a:solidFill>
                    <a:srgbClr val="ffff66"/>
                  </a:solidFill>
                  <a:latin typeface="Comic Sans MS"/>
                </a:rPr>
                <a:t>V</a:t>
              </a:r>
              <a:r>
                <a:rPr b="0" i="1" lang="it-IT" sz="2900" spc="-1" strike="noStrike" baseline="-25000">
                  <a:solidFill>
                    <a:srgbClr val="ffff66"/>
                  </a:solidFill>
                  <a:latin typeface="Comic Sans MS"/>
                </a:rPr>
                <a:t>b</a:t>
              </a:r>
              <a:endParaRPr b="0" lang="en-US" sz="29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7402320" y="244152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ffff66"/>
                  </a:solidFill>
                  <a:latin typeface="Comic Sans MS"/>
                </a:rPr>
                <a:t>i</a:t>
              </a:r>
              <a:endParaRPr b="0" lang="en-US" sz="17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7183080" y="2249640"/>
              <a:ext cx="1926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900" spc="-1" strike="noStrike">
                  <a:solidFill>
                    <a:srgbClr val="ffff66"/>
                  </a:solidFill>
                  <a:latin typeface="Symbol"/>
                  <a:ea typeface="Symbol"/>
                </a:rPr>
                <a:t></a:t>
              </a:r>
              <a:endParaRPr b="0" lang="en-US" sz="29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7561080" y="307008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ffff66"/>
                  </a:solidFill>
                  <a:latin typeface="Comic Sans MS"/>
                </a:rPr>
                <a:t>i</a:t>
              </a:r>
              <a:endParaRPr b="0" lang="en-US" sz="17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7305480" y="2890800"/>
              <a:ext cx="1926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900" spc="-1" strike="noStrike">
                  <a:solidFill>
                    <a:srgbClr val="ffff66"/>
                  </a:solidFill>
                  <a:latin typeface="Symbol"/>
                  <a:ea typeface="Symbol"/>
                </a:rPr>
                <a:t></a:t>
              </a:r>
              <a:endParaRPr b="0" lang="en-US" sz="29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7267680" y="2259000"/>
              <a:ext cx="156960" cy="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7408800" y="2901960"/>
              <a:ext cx="157320" cy="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6467400" y="3440160"/>
              <a:ext cx="344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ffff66"/>
                  </a:solidFill>
                  <a:latin typeface="Comic Sans MS"/>
                </a:rPr>
                <a:t>i=1</a:t>
              </a:r>
              <a:endParaRPr b="0" lang="en-US" sz="17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1404" name=""/>
          <p:cNvSpPr/>
          <p:nvPr/>
        </p:nvSpPr>
        <p:spPr>
          <a:xfrm>
            <a:off x="3965400" y="2521080"/>
            <a:ext cx="897120" cy="701640"/>
          </a:xfrm>
          <a:custGeom>
            <a:avLst/>
            <a:gdLst>
              <a:gd name="textAreaLeft" fmla="*/ 111960 w 897120"/>
              <a:gd name="textAreaRight" fmla="*/ 785160 w 897120"/>
              <a:gd name="textAreaTop" fmla="*/ 175320 h 701640"/>
              <a:gd name="textAreaBottom" fmla="*/ 526320 h 70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405" name=""/>
          <p:cNvGrpSpPr/>
          <p:nvPr/>
        </p:nvGrpSpPr>
        <p:grpSpPr>
          <a:xfrm>
            <a:off x="2727720" y="5357880"/>
            <a:ext cx="3865320" cy="1107360"/>
            <a:chOff x="2727720" y="5357880"/>
            <a:chExt cx="3865320" cy="1107360"/>
          </a:xfrm>
        </p:grpSpPr>
        <p:sp>
          <p:nvSpPr>
            <p:cNvPr id="1406" name=""/>
            <p:cNvSpPr/>
            <p:nvPr/>
          </p:nvSpPr>
          <p:spPr>
            <a:xfrm>
              <a:off x="3591000" y="5367240"/>
              <a:ext cx="3002040" cy="1092240"/>
            </a:xfrm>
            <a:custGeom>
              <a:avLst/>
              <a:gdLst/>
              <a:ahLst/>
              <a:rect l="l" t="t" r="r" b="b"/>
              <a:pathLst>
                <a:path w="4088" h="1440">
                  <a:moveTo>
                    <a:pt x="0" y="965"/>
                  </a:moveTo>
                  <a:lnTo>
                    <a:pt x="47" y="892"/>
                  </a:lnTo>
                  <a:lnTo>
                    <a:pt x="164" y="1440"/>
                  </a:lnTo>
                  <a:lnTo>
                    <a:pt x="292" y="0"/>
                  </a:lnTo>
                  <a:lnTo>
                    <a:pt x="408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4276080" y="5518080"/>
              <a:ext cx="172800" cy="6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500" spc="-1" strike="noStrike">
                  <a:solidFill>
                    <a:srgbClr val="ffff66"/>
                  </a:solidFill>
                  <a:latin typeface="Comic Sans MS"/>
                </a:rPr>
                <a:t>(</a:t>
              </a:r>
              <a:endParaRPr b="0" lang="en-US" sz="45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6168240" y="5518080"/>
              <a:ext cx="172800" cy="6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500" spc="-1" strike="noStrike">
                  <a:solidFill>
                    <a:srgbClr val="ffff66"/>
                  </a:solidFill>
                  <a:latin typeface="Comic Sans MS"/>
                </a:rPr>
                <a:t>)</a:t>
              </a:r>
              <a:endParaRPr b="0" lang="en-US" sz="45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3422520" y="5357880"/>
              <a:ext cx="3006720" cy="1101600"/>
            </a:xfrm>
            <a:custGeom>
              <a:avLst/>
              <a:gdLst/>
              <a:ahLst/>
              <a:rect l="l" t="t" r="r" b="b"/>
              <a:pathLst>
                <a:path w="5949" h="2111">
                  <a:moveTo>
                    <a:pt x="0" y="1415"/>
                  </a:moveTo>
                  <a:lnTo>
                    <a:pt x="97" y="1268"/>
                  </a:lnTo>
                  <a:lnTo>
                    <a:pt x="247" y="1915"/>
                  </a:lnTo>
                  <a:lnTo>
                    <a:pt x="418" y="0"/>
                  </a:lnTo>
                  <a:lnTo>
                    <a:pt x="5949" y="0"/>
                  </a:lnTo>
                  <a:lnTo>
                    <a:pt x="5949" y="35"/>
                  </a:lnTo>
                  <a:lnTo>
                    <a:pt x="449" y="35"/>
                  </a:lnTo>
                  <a:lnTo>
                    <a:pt x="264" y="2111"/>
                  </a:lnTo>
                  <a:lnTo>
                    <a:pt x="229" y="2111"/>
                  </a:lnTo>
                  <a:lnTo>
                    <a:pt x="57" y="1363"/>
                  </a:lnTo>
                  <a:lnTo>
                    <a:pt x="19" y="1427"/>
                  </a:lnTo>
                  <a:lnTo>
                    <a:pt x="0" y="1415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6277320" y="5411880"/>
              <a:ext cx="124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66"/>
                  </a:solidFill>
                  <a:latin typeface="Comic Sans MS"/>
                </a:rPr>
                <a:t>2</a:t>
              </a:r>
              <a:endParaRPr b="0" lang="en-US" sz="17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4031280" y="6195960"/>
              <a:ext cx="124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66"/>
                  </a:solidFill>
                  <a:latin typeface="Comic Sans MS"/>
                </a:rPr>
                <a:t>1</a:t>
              </a:r>
              <a:endParaRPr b="0" lang="en-US" sz="17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3844080" y="5445000"/>
              <a:ext cx="182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ffff66"/>
                  </a:solidFill>
                  <a:latin typeface="Comic Sans MS"/>
                </a:rPr>
                <a:t>M</a:t>
              </a:r>
              <a:endParaRPr b="0" lang="en-US" sz="17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3758400" y="619596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ffff66"/>
                  </a:solidFill>
                  <a:latin typeface="Comic Sans MS"/>
                </a:rPr>
                <a:t>j</a:t>
              </a:r>
              <a:endParaRPr b="0" lang="en-US" sz="17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273640" y="5705640"/>
              <a:ext cx="1926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900" spc="-1" strike="noStrike">
                  <a:solidFill>
                    <a:srgbClr val="ffff66"/>
                  </a:solidFill>
                  <a:latin typeface="Symbol"/>
                  <a:ea typeface="Symbol"/>
                </a:rPr>
                <a:t></a:t>
              </a:r>
              <a:endParaRPr b="0" lang="en-US" sz="29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3896640" y="6205680"/>
              <a:ext cx="124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66"/>
                  </a:solidFill>
                  <a:latin typeface="Comic Sans MS"/>
                </a:rPr>
                <a:t>=</a:t>
              </a:r>
              <a:endParaRPr b="0" lang="en-US" sz="17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3755520" y="5573880"/>
              <a:ext cx="38952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66"/>
                  </a:solidFill>
                  <a:latin typeface="Symbol"/>
                  <a:ea typeface="Symbol"/>
                </a:rPr>
                <a:t></a:t>
              </a:r>
              <a:endParaRPr b="0" lang="en-US" sz="4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710680" y="5716440"/>
              <a:ext cx="3085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900" spc="-1" strike="noStrike">
                  <a:solidFill>
                    <a:srgbClr val="ffff66"/>
                  </a:solidFill>
                  <a:latin typeface="Comic Sans MS"/>
                </a:rPr>
                <a:t>S</a:t>
              </a:r>
              <a:r>
                <a:rPr b="0" i="1" lang="en-US" sz="2900" spc="-1" strike="noStrike" baseline="-25000">
                  <a:solidFill>
                    <a:srgbClr val="ffff66"/>
                  </a:solidFill>
                  <a:latin typeface="Comic Sans MS"/>
                </a:rPr>
                <a:t>a</a:t>
              </a:r>
              <a:endParaRPr b="0" lang="en-US" sz="29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4503960" y="5716440"/>
              <a:ext cx="3236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900" spc="-1" strike="noStrike">
                  <a:solidFill>
                    <a:srgbClr val="ffff66"/>
                  </a:solidFill>
                  <a:latin typeface="Comic Sans MS"/>
                </a:rPr>
                <a:t>m</a:t>
              </a:r>
              <a:endParaRPr b="0" lang="en-US" sz="29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960080" y="5705640"/>
              <a:ext cx="230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66"/>
                  </a:solidFill>
                  <a:latin typeface="Symbol"/>
                  <a:ea typeface="Symbol"/>
                </a:rPr>
                <a:t></a:t>
              </a:r>
              <a:endParaRPr b="0" lang="en-US" sz="29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103000" y="59738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ffff66"/>
                  </a:solidFill>
                  <a:latin typeface="Comic Sans MS"/>
                </a:rPr>
                <a:t>j</a:t>
              </a:r>
              <a:endParaRPr b="0" lang="en-US" sz="17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5481000" y="5973840"/>
              <a:ext cx="113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700" spc="-1" strike="noStrike">
                  <a:solidFill>
                    <a:srgbClr val="ffff66"/>
                  </a:solidFill>
                  <a:latin typeface="Comic Sans MS"/>
                </a:rPr>
                <a:t>ij</a:t>
              </a:r>
              <a:endParaRPr b="0" lang="en-US" sz="17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1422" name=""/>
            <p:cNvGrpSpPr/>
            <p:nvPr/>
          </p:nvGrpSpPr>
          <p:grpSpPr>
            <a:xfrm>
              <a:off x="2727720" y="5665680"/>
              <a:ext cx="574200" cy="486720"/>
              <a:chOff x="2727720" y="5665680"/>
              <a:chExt cx="574200" cy="486720"/>
            </a:xfrm>
          </p:grpSpPr>
          <p:sp>
            <p:nvSpPr>
              <p:cNvPr id="1423" name=""/>
              <p:cNvSpPr/>
              <p:nvPr/>
            </p:nvSpPr>
            <p:spPr>
              <a:xfrm>
                <a:off x="2727720" y="5665680"/>
                <a:ext cx="17604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900" spc="-1" strike="noStrike">
                    <a:solidFill>
                      <a:srgbClr val="ffff66"/>
                    </a:solidFill>
                    <a:latin typeface="Comic Sans MS"/>
                  </a:rPr>
                  <a:t>F</a:t>
                </a:r>
                <a:endParaRPr b="0" lang="en-US" sz="29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3090960" y="5673240"/>
                <a:ext cx="21096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900" spc="-1" strike="noStrike">
                    <a:solidFill>
                      <a:srgbClr val="ffff66"/>
                    </a:solidFill>
                    <a:latin typeface="Comic Sans MS"/>
                  </a:rPr>
                  <a:t>=</a:t>
                </a:r>
                <a:endParaRPr b="0" lang="en-US" sz="29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2897640" y="5892840"/>
                <a:ext cx="5724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700" spc="-1" strike="noStrike">
                    <a:solidFill>
                      <a:srgbClr val="ffff66"/>
                    </a:solidFill>
                    <a:latin typeface="Comic Sans MS"/>
                  </a:rPr>
                  <a:t>i</a:t>
                </a:r>
                <a:endParaRPr b="0" lang="en-US" sz="17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sp>
          <p:nvSpPr>
            <p:cNvPr id="1426" name=""/>
            <p:cNvSpPr/>
            <p:nvPr/>
          </p:nvSpPr>
          <p:spPr>
            <a:xfrm>
              <a:off x="4786200" y="594360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ffff66"/>
                  </a:solidFill>
                  <a:latin typeface="Comic Sans MS"/>
                </a:rPr>
                <a:t>i</a:t>
              </a:r>
              <a:endParaRPr b="0" lang="en-US" sz="17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6077520" y="594360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ffff66"/>
                  </a:solidFill>
                  <a:latin typeface="Comic Sans MS"/>
                </a:rPr>
                <a:t>j</a:t>
              </a:r>
              <a:endParaRPr b="0" lang="en-US" sz="17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1428" name=""/>
          <p:cNvSpPr/>
          <p:nvPr/>
        </p:nvSpPr>
        <p:spPr>
          <a:xfrm>
            <a:off x="0" y="0"/>
            <a:ext cx="91440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Modelli di carico teorici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"/>
          <p:cNvSpPr/>
          <p:nvPr/>
        </p:nvSpPr>
        <p:spPr>
          <a:xfrm>
            <a:off x="358920" y="1393920"/>
            <a:ext cx="8277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Le forze statiche equivalenti sono calcolate come differenza tra i tagli modali di piani contigui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358920" y="3627360"/>
            <a:ext cx="43354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Modello di carico B4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358920" y="3963960"/>
            <a:ext cx="827712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Le forze statiche equivalenti sono calcolate in funzione della differenza tra i momenti ribaltanti modali relativi a piani contigui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358920" y="1000080"/>
            <a:ext cx="43354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Modello di carico B3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433" name=""/>
          <p:cNvGrpSpPr/>
          <p:nvPr/>
        </p:nvGrpSpPr>
        <p:grpSpPr>
          <a:xfrm>
            <a:off x="5329080" y="2616120"/>
            <a:ext cx="1839960" cy="725760"/>
            <a:chOff x="5329080" y="2616120"/>
            <a:chExt cx="1839960" cy="725760"/>
          </a:xfrm>
        </p:grpSpPr>
        <p:sp>
          <p:nvSpPr>
            <p:cNvPr id="1434" name=""/>
            <p:cNvSpPr/>
            <p:nvPr/>
          </p:nvSpPr>
          <p:spPr>
            <a:xfrm>
              <a:off x="6008760" y="2616120"/>
              <a:ext cx="1160280" cy="676080"/>
            </a:xfrm>
            <a:custGeom>
              <a:avLst/>
              <a:gdLst/>
              <a:ahLst/>
              <a:rect l="l" t="t" r="r" b="b"/>
              <a:pathLst>
                <a:path w="5949" h="2111">
                  <a:moveTo>
                    <a:pt x="0" y="1415"/>
                  </a:moveTo>
                  <a:lnTo>
                    <a:pt x="97" y="1268"/>
                  </a:lnTo>
                  <a:lnTo>
                    <a:pt x="247" y="1915"/>
                  </a:lnTo>
                  <a:lnTo>
                    <a:pt x="418" y="0"/>
                  </a:lnTo>
                  <a:lnTo>
                    <a:pt x="5949" y="0"/>
                  </a:lnTo>
                  <a:lnTo>
                    <a:pt x="5949" y="35"/>
                  </a:lnTo>
                  <a:lnTo>
                    <a:pt x="449" y="35"/>
                  </a:lnTo>
                  <a:lnTo>
                    <a:pt x="264" y="2111"/>
                  </a:lnTo>
                  <a:lnTo>
                    <a:pt x="229" y="2111"/>
                  </a:lnTo>
                  <a:lnTo>
                    <a:pt x="57" y="1363"/>
                  </a:lnTo>
                  <a:lnTo>
                    <a:pt x="19" y="1427"/>
                  </a:lnTo>
                  <a:lnTo>
                    <a:pt x="0" y="1415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6899760" y="2658960"/>
              <a:ext cx="124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66"/>
                  </a:solidFill>
                  <a:latin typeface="Comic Sans MS"/>
                </a:rPr>
                <a:t>2</a:t>
              </a:r>
              <a:endParaRPr b="0" lang="en-US" sz="17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6281280" y="2634840"/>
              <a:ext cx="12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66"/>
                  </a:solidFill>
                  <a:latin typeface="Comic Sans MS"/>
                </a:rPr>
                <a:t>M</a:t>
              </a:r>
              <a:endParaRPr b="0" lang="en-US" sz="12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226200" y="315900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66"/>
                  </a:solidFill>
                  <a:latin typeface="Comic Sans MS"/>
                </a:rPr>
                <a:t>j=1</a:t>
              </a:r>
              <a:endParaRPr b="0" lang="en-US" sz="12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5329080" y="2777760"/>
              <a:ext cx="1972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66"/>
                  </a:solidFill>
                  <a:latin typeface="Comic Sans MS"/>
                </a:rPr>
                <a:t>V</a:t>
              </a:r>
              <a:endParaRPr b="0" lang="en-US" sz="28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681880" y="2784240"/>
              <a:ext cx="174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Comic Sans MS"/>
                </a:rPr>
                <a:t>=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6249240" y="2774520"/>
              <a:ext cx="212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Symbol"/>
                  <a:ea typeface="Symbol"/>
                </a:rPr>
                <a:t>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616360" y="299700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ffff66"/>
                  </a:solidFill>
                  <a:latin typeface="Comic Sans MS"/>
                </a:rPr>
                <a:t>i</a:t>
              </a:r>
              <a:endParaRPr b="0" lang="en-US" sz="17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6895440" y="3016080"/>
              <a:ext cx="113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700" spc="-1" strike="noStrike">
                  <a:solidFill>
                    <a:srgbClr val="ffff66"/>
                  </a:solidFill>
                  <a:latin typeface="Comic Sans MS"/>
                </a:rPr>
                <a:t>ij</a:t>
              </a:r>
              <a:endParaRPr b="0" lang="en-US" sz="17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6586200" y="2784240"/>
              <a:ext cx="1972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66"/>
                  </a:solidFill>
                  <a:latin typeface="Comic Sans MS"/>
                </a:rPr>
                <a:t>V</a:t>
              </a:r>
              <a:endParaRPr b="0" lang="en-US" sz="28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1444" name=""/>
          <p:cNvGrpSpPr/>
          <p:nvPr/>
        </p:nvGrpSpPr>
        <p:grpSpPr>
          <a:xfrm>
            <a:off x="1690560" y="2711520"/>
            <a:ext cx="1722600" cy="536400"/>
            <a:chOff x="1690560" y="2711520"/>
            <a:chExt cx="1722600" cy="536400"/>
          </a:xfrm>
        </p:grpSpPr>
        <p:sp>
          <p:nvSpPr>
            <p:cNvPr id="1445" name=""/>
            <p:cNvSpPr/>
            <p:nvPr/>
          </p:nvSpPr>
          <p:spPr>
            <a:xfrm>
              <a:off x="1809720" y="2774880"/>
              <a:ext cx="1603440" cy="4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3287160" y="301140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66"/>
                  </a:solidFill>
                  <a:latin typeface="Comic Sans MS"/>
                </a:rPr>
                <a:t>1</a:t>
              </a:r>
              <a:endParaRPr b="0" lang="en-US" sz="13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1933200" y="301140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ffff66"/>
                  </a:solidFill>
                  <a:latin typeface="Comic Sans MS"/>
                </a:rPr>
                <a:t>i</a:t>
              </a:r>
              <a:endParaRPr b="0" lang="en-US" sz="13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2890440" y="2711520"/>
              <a:ext cx="1972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66"/>
                  </a:solidFill>
                  <a:latin typeface="Comic Sans MS"/>
                </a:rPr>
                <a:t>V</a:t>
              </a:r>
              <a:endParaRPr b="0" lang="en-US" sz="28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3202200" y="298764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66"/>
                  </a:solidFill>
                  <a:latin typeface="Comic Sans MS"/>
                </a:rPr>
                <a:t>+</a:t>
              </a:r>
              <a:endParaRPr b="0" lang="en-US" sz="13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2656800" y="2747880"/>
              <a:ext cx="95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66"/>
                  </a:solidFill>
                  <a:latin typeface="Comic Sans MS"/>
                </a:rPr>
                <a:t>-</a:t>
              </a:r>
              <a:endParaRPr b="0" lang="en-US" sz="23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1690560" y="2730600"/>
              <a:ext cx="2304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66"/>
                  </a:solidFill>
                  <a:latin typeface="Comic Sans MS"/>
                </a:rPr>
                <a:t>F</a:t>
              </a:r>
              <a:endParaRPr b="0" lang="en-US" sz="28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051280" y="2747880"/>
              <a:ext cx="174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Comic Sans MS"/>
                </a:rPr>
                <a:t>=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334960" y="2711520"/>
              <a:ext cx="1972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66"/>
                  </a:solidFill>
                  <a:latin typeface="Comic Sans MS"/>
                </a:rPr>
                <a:t>V</a:t>
              </a:r>
              <a:endParaRPr b="0" lang="en-US" sz="28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555280" y="301140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ffff66"/>
                  </a:solidFill>
                  <a:latin typeface="Comic Sans MS"/>
                </a:rPr>
                <a:t>i</a:t>
              </a:r>
              <a:endParaRPr b="0" lang="en-US" sz="13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3144240" y="301140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ffff66"/>
                  </a:solidFill>
                  <a:latin typeface="Comic Sans MS"/>
                </a:rPr>
                <a:t>i</a:t>
              </a:r>
              <a:endParaRPr b="0" lang="en-US" sz="13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1456" name=""/>
          <p:cNvGrpSpPr/>
          <p:nvPr/>
        </p:nvGrpSpPr>
        <p:grpSpPr>
          <a:xfrm>
            <a:off x="5270760" y="5456160"/>
            <a:ext cx="2016000" cy="725760"/>
            <a:chOff x="5270760" y="5456160"/>
            <a:chExt cx="2016000" cy="725760"/>
          </a:xfrm>
        </p:grpSpPr>
        <p:sp>
          <p:nvSpPr>
            <p:cNvPr id="1457" name=""/>
            <p:cNvSpPr/>
            <p:nvPr/>
          </p:nvSpPr>
          <p:spPr>
            <a:xfrm>
              <a:off x="6126120" y="5456160"/>
              <a:ext cx="1160640" cy="676080"/>
            </a:xfrm>
            <a:custGeom>
              <a:avLst/>
              <a:gdLst/>
              <a:ahLst/>
              <a:rect l="l" t="t" r="r" b="b"/>
              <a:pathLst>
                <a:path w="5949" h="2111">
                  <a:moveTo>
                    <a:pt x="0" y="1415"/>
                  </a:moveTo>
                  <a:lnTo>
                    <a:pt x="97" y="1268"/>
                  </a:lnTo>
                  <a:lnTo>
                    <a:pt x="247" y="1915"/>
                  </a:lnTo>
                  <a:lnTo>
                    <a:pt x="418" y="0"/>
                  </a:lnTo>
                  <a:lnTo>
                    <a:pt x="5949" y="0"/>
                  </a:lnTo>
                  <a:lnTo>
                    <a:pt x="5949" y="35"/>
                  </a:lnTo>
                  <a:lnTo>
                    <a:pt x="449" y="35"/>
                  </a:lnTo>
                  <a:lnTo>
                    <a:pt x="264" y="2111"/>
                  </a:lnTo>
                  <a:lnTo>
                    <a:pt x="229" y="2111"/>
                  </a:lnTo>
                  <a:lnTo>
                    <a:pt x="57" y="1363"/>
                  </a:lnTo>
                  <a:lnTo>
                    <a:pt x="19" y="1427"/>
                  </a:lnTo>
                  <a:lnTo>
                    <a:pt x="0" y="1415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7069680" y="5499000"/>
              <a:ext cx="124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66"/>
                  </a:solidFill>
                  <a:latin typeface="Comic Sans MS"/>
                </a:rPr>
                <a:t>2</a:t>
              </a:r>
              <a:endParaRPr b="0" lang="en-US" sz="17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6399000" y="5474880"/>
              <a:ext cx="12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66"/>
                  </a:solidFill>
                  <a:latin typeface="Comic Sans MS"/>
                </a:rPr>
                <a:t>M</a:t>
              </a:r>
              <a:endParaRPr b="0" lang="en-US" sz="12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6343920" y="599904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66"/>
                  </a:solidFill>
                  <a:latin typeface="Comic Sans MS"/>
                </a:rPr>
                <a:t>j=1</a:t>
              </a:r>
              <a:endParaRPr b="0" lang="en-US" sz="12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5270760" y="5565600"/>
              <a:ext cx="3693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66"/>
                  </a:solidFill>
                  <a:latin typeface="CommercialScript BT"/>
                </a:rPr>
                <a:t>M</a:t>
              </a:r>
              <a:endParaRPr b="0" lang="en-US" sz="32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5799240" y="5624280"/>
              <a:ext cx="174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Comic Sans MS"/>
                </a:rPr>
                <a:t>=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366960" y="5614560"/>
              <a:ext cx="212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Symbol"/>
                  <a:ea typeface="Symbol"/>
                </a:rPr>
                <a:t>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5657760" y="579888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ffff66"/>
                  </a:solidFill>
                  <a:latin typeface="Comic Sans MS"/>
                </a:rPr>
                <a:t>i</a:t>
              </a:r>
              <a:endParaRPr b="0" lang="en-US" sz="17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7083000" y="5868720"/>
              <a:ext cx="113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700" spc="-1" strike="noStrike">
                  <a:solidFill>
                    <a:srgbClr val="ffff66"/>
                  </a:solidFill>
                  <a:latin typeface="Comic Sans MS"/>
                </a:rPr>
                <a:t>ij</a:t>
              </a:r>
              <a:endParaRPr b="0" lang="en-US" sz="17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650280" y="5624280"/>
              <a:ext cx="3693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66"/>
                  </a:solidFill>
                  <a:latin typeface="CommercialScript BT"/>
                </a:rPr>
                <a:t>M</a:t>
              </a:r>
              <a:endParaRPr b="0" lang="en-US" sz="32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1467" name=""/>
          <p:cNvGrpSpPr/>
          <p:nvPr/>
        </p:nvGrpSpPr>
        <p:grpSpPr>
          <a:xfrm>
            <a:off x="1808280" y="5324400"/>
            <a:ext cx="2023920" cy="986040"/>
            <a:chOff x="1808280" y="5324400"/>
            <a:chExt cx="2023920" cy="986040"/>
          </a:xfrm>
        </p:grpSpPr>
        <p:grpSp>
          <p:nvGrpSpPr>
            <p:cNvPr id="1468" name=""/>
            <p:cNvGrpSpPr/>
            <p:nvPr/>
          </p:nvGrpSpPr>
          <p:grpSpPr>
            <a:xfrm>
              <a:off x="1808280" y="5324400"/>
              <a:ext cx="2002680" cy="725040"/>
              <a:chOff x="1808280" y="5324400"/>
              <a:chExt cx="2002680" cy="725040"/>
            </a:xfrm>
          </p:grpSpPr>
          <p:sp>
            <p:nvSpPr>
              <p:cNvPr id="1469" name=""/>
              <p:cNvSpPr/>
              <p:nvPr/>
            </p:nvSpPr>
            <p:spPr>
              <a:xfrm>
                <a:off x="3715920" y="5606640"/>
                <a:ext cx="95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ffff66"/>
                    </a:solidFill>
                    <a:latin typeface="Comic Sans MS"/>
                  </a:rPr>
                  <a:t>1</a:t>
                </a:r>
                <a:endParaRPr b="0" lang="en-US" sz="13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2050560" y="5851080"/>
                <a:ext cx="43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300" spc="-1" strike="noStrike">
                    <a:solidFill>
                      <a:srgbClr val="ffff66"/>
                    </a:solidFill>
                    <a:latin typeface="Comic Sans MS"/>
                  </a:rPr>
                  <a:t>i</a:t>
                </a:r>
                <a:endParaRPr b="0" lang="en-US" sz="13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3216600" y="5324400"/>
                <a:ext cx="36936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66"/>
                    </a:solidFill>
                    <a:latin typeface="CommercialScript BT"/>
                  </a:rPr>
                  <a:t>M</a:t>
                </a:r>
                <a:endParaRPr b="0" lang="en-US" sz="32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3630960" y="5582880"/>
                <a:ext cx="95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ffff66"/>
                    </a:solidFill>
                    <a:latin typeface="Comic Sans MS"/>
                  </a:rPr>
                  <a:t>+</a:t>
                </a:r>
                <a:endParaRPr b="0" lang="en-US" sz="13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3018600" y="5395680"/>
                <a:ext cx="950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300" spc="-1" strike="noStrike">
                    <a:solidFill>
                      <a:srgbClr val="ffff66"/>
                    </a:solidFill>
                    <a:latin typeface="Comic Sans MS"/>
                  </a:rPr>
                  <a:t>-</a:t>
                </a:r>
                <a:endParaRPr b="0" lang="en-US" sz="23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1808280" y="5570280"/>
                <a:ext cx="2300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ffff66"/>
                    </a:solidFill>
                    <a:latin typeface="Comic Sans MS"/>
                  </a:rPr>
                  <a:t>F</a:t>
                </a:r>
                <a:endParaRPr b="0" lang="en-US" sz="28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2168640" y="5587560"/>
                <a:ext cx="174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66"/>
                    </a:solidFill>
                    <a:latin typeface="Comic Sans MS"/>
                  </a:rPr>
                  <a:t>=</a:t>
                </a: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2503800" y="5324400"/>
                <a:ext cx="36936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66"/>
                    </a:solidFill>
                    <a:latin typeface="CommercialScript BT"/>
                  </a:rPr>
                  <a:t>M</a:t>
                </a:r>
                <a:endParaRPr b="0" lang="en-US" sz="32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2850480" y="5606640"/>
                <a:ext cx="43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300" spc="-1" strike="noStrike">
                    <a:solidFill>
                      <a:srgbClr val="ffff66"/>
                    </a:solidFill>
                    <a:latin typeface="Comic Sans MS"/>
                  </a:rPr>
                  <a:t>i</a:t>
                </a:r>
                <a:endParaRPr b="0" lang="en-US" sz="13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3573000" y="5606640"/>
                <a:ext cx="43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300" spc="-1" strike="noStrike">
                    <a:solidFill>
                      <a:srgbClr val="ffff66"/>
                    </a:solidFill>
                    <a:latin typeface="Comic Sans MS"/>
                  </a:rPr>
                  <a:t>i</a:t>
                </a:r>
                <a:endParaRPr b="0" lang="en-US" sz="13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sp>
          <p:nvSpPr>
            <p:cNvPr id="1479" name=""/>
            <p:cNvSpPr/>
            <p:nvPr/>
          </p:nvSpPr>
          <p:spPr>
            <a:xfrm>
              <a:off x="2486160" y="5808240"/>
              <a:ext cx="1346040" cy="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3035160" y="5824440"/>
              <a:ext cx="38592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66"/>
                  </a:solidFill>
                  <a:latin typeface="Comic Sans MS"/>
                </a:rPr>
                <a:t>h</a:t>
              </a:r>
              <a:r>
                <a:rPr b="0" i="1" lang="en-US" sz="2800" spc="-1" strike="noStrike" baseline="-25000">
                  <a:solidFill>
                    <a:srgbClr val="ffff66"/>
                  </a:solidFill>
                  <a:latin typeface="Comic Sans MS"/>
                </a:rPr>
                <a:t>i</a:t>
              </a:r>
              <a:endParaRPr b="0" lang="en-US" sz="28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1481" name=""/>
          <p:cNvSpPr/>
          <p:nvPr/>
        </p:nvSpPr>
        <p:spPr>
          <a:xfrm>
            <a:off x="0" y="0"/>
            <a:ext cx="91440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Modelli di carico teorici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2" name=""/>
          <p:cNvGrpSpPr/>
          <p:nvPr/>
        </p:nvGrpSpPr>
        <p:grpSpPr>
          <a:xfrm>
            <a:off x="6788160" y="1166760"/>
            <a:ext cx="1685880" cy="5365800"/>
            <a:chOff x="6788160" y="1166760"/>
            <a:chExt cx="1685880" cy="5365800"/>
          </a:xfrm>
        </p:grpSpPr>
        <p:sp>
          <p:nvSpPr>
            <p:cNvPr id="1483" name=""/>
            <p:cNvSpPr/>
            <p:nvPr/>
          </p:nvSpPr>
          <p:spPr>
            <a:xfrm flipH="1">
              <a:off x="7478640" y="4527720"/>
              <a:ext cx="347760" cy="33156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8028000" y="4527720"/>
              <a:ext cx="353880" cy="33156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7622280" y="6130800"/>
              <a:ext cx="727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Comic Sans MS"/>
                </a:rPr>
                <a:t>8.00 m</a:t>
              </a:r>
              <a:endParaRPr b="0" lang="en-US" sz="18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7429680" y="6481800"/>
              <a:ext cx="993600" cy="468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7429680" y="6113520"/>
              <a:ext cx="6120" cy="324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8423280" y="6113520"/>
              <a:ext cx="4680" cy="324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8423280" y="6481800"/>
              <a:ext cx="4680" cy="468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7486560" y="4883040"/>
              <a:ext cx="881280" cy="792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7486560" y="5294160"/>
              <a:ext cx="881280" cy="18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7486560" y="5702400"/>
              <a:ext cx="881280" cy="324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7435800" y="6054840"/>
              <a:ext cx="50760" cy="5868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3" y="8"/>
                  </a:moveTo>
                  <a:lnTo>
                    <a:pt x="11" y="2"/>
                  </a:lnTo>
                  <a:lnTo>
                    <a:pt x="7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2" y="13"/>
                  </a:lnTo>
                  <a:lnTo>
                    <a:pt x="7" y="15"/>
                  </a:lnTo>
                  <a:lnTo>
                    <a:pt x="11" y="13"/>
                  </a:lnTo>
                  <a:lnTo>
                    <a:pt x="13" y="8"/>
                  </a:lnTo>
                </a:path>
              </a:pathLst>
            </a:custGeom>
            <a:noFill/>
            <a:ln w="1260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 rot="16200000">
              <a:off x="6561720" y="5765400"/>
              <a:ext cx="727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Comic Sans MS"/>
                </a:rPr>
                <a:t>3.30 m</a:t>
              </a:r>
              <a:endParaRPr b="0" lang="en-US" sz="18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 flipV="1">
              <a:off x="7113600" y="5702400"/>
              <a:ext cx="4680" cy="41112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7429680" y="5702400"/>
              <a:ext cx="6120" cy="324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7113600" y="5702400"/>
              <a:ext cx="4680" cy="324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 flipH="1">
              <a:off x="7380000" y="6113520"/>
              <a:ext cx="98280" cy="324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 flipH="1">
              <a:off x="7405200" y="6481800"/>
              <a:ext cx="24120" cy="468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7429680" y="6402240"/>
              <a:ext cx="6120" cy="13032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 flipV="1">
              <a:off x="7113600" y="6113520"/>
              <a:ext cx="4680" cy="2376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7064280" y="6113520"/>
              <a:ext cx="147600" cy="324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 flipH="1">
              <a:off x="7478640" y="5345280"/>
              <a:ext cx="347760" cy="33624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7435800" y="5675400"/>
              <a:ext cx="50760" cy="5724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3" y="7"/>
                  </a:moveTo>
                  <a:lnTo>
                    <a:pt x="11" y="2"/>
                  </a:lnTo>
                  <a:lnTo>
                    <a:pt x="7" y="0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3"/>
                  </a:lnTo>
                  <a:lnTo>
                    <a:pt x="7" y="15"/>
                  </a:lnTo>
                  <a:lnTo>
                    <a:pt x="11" y="13"/>
                  </a:lnTo>
                  <a:lnTo>
                    <a:pt x="13" y="7"/>
                  </a:lnTo>
                </a:path>
              </a:pathLst>
            </a:custGeom>
            <a:noFill/>
            <a:ln w="1260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 flipV="1">
              <a:off x="7113600" y="5681520"/>
              <a:ext cx="4680" cy="2088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7064280" y="5702400"/>
              <a:ext cx="147600" cy="324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 flipH="1">
              <a:off x="7478640" y="5756400"/>
              <a:ext cx="347760" cy="30636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7819920" y="5702400"/>
              <a:ext cx="47880" cy="6192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13" y="8"/>
                  </a:moveTo>
                  <a:lnTo>
                    <a:pt x="11" y="2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2" y="14"/>
                  </a:lnTo>
                  <a:lnTo>
                    <a:pt x="8" y="16"/>
                  </a:lnTo>
                  <a:lnTo>
                    <a:pt x="11" y="14"/>
                  </a:lnTo>
                  <a:lnTo>
                    <a:pt x="13" y="8"/>
                  </a:lnTo>
                </a:path>
              </a:pathLst>
            </a:custGeom>
            <a:noFill/>
            <a:ln w="1260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7435800" y="5264280"/>
              <a:ext cx="50760" cy="5688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3" y="8"/>
                  </a:moveTo>
                  <a:lnTo>
                    <a:pt x="11" y="2"/>
                  </a:lnTo>
                  <a:lnTo>
                    <a:pt x="7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2" y="13"/>
                  </a:lnTo>
                  <a:lnTo>
                    <a:pt x="7" y="15"/>
                  </a:lnTo>
                  <a:lnTo>
                    <a:pt x="11" y="13"/>
                  </a:lnTo>
                  <a:lnTo>
                    <a:pt x="13" y="8"/>
                  </a:lnTo>
                </a:path>
              </a:pathLst>
            </a:custGeom>
            <a:noFill/>
            <a:ln w="1260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7435800" y="4859280"/>
              <a:ext cx="50760" cy="49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6"/>
                  </a:moveTo>
                  <a:lnTo>
                    <a:pt x="11" y="2"/>
                  </a:lnTo>
                  <a:lnTo>
                    <a:pt x="7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2" y="11"/>
                  </a:lnTo>
                  <a:lnTo>
                    <a:pt x="7" y="13"/>
                  </a:lnTo>
                  <a:lnTo>
                    <a:pt x="11" y="11"/>
                  </a:lnTo>
                  <a:lnTo>
                    <a:pt x="13" y="6"/>
                  </a:lnTo>
                </a:path>
              </a:pathLst>
            </a:custGeom>
            <a:noFill/>
            <a:ln w="1260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 flipH="1">
              <a:off x="7478640" y="4930920"/>
              <a:ext cx="347760" cy="33948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7819920" y="5302080"/>
              <a:ext cx="47880" cy="511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7"/>
                  </a:moveTo>
                  <a:lnTo>
                    <a:pt x="11" y="1"/>
                  </a:lnTo>
                  <a:lnTo>
                    <a:pt x="8" y="0"/>
                  </a:lnTo>
                  <a:lnTo>
                    <a:pt x="2" y="1"/>
                  </a:lnTo>
                  <a:lnTo>
                    <a:pt x="0" y="7"/>
                  </a:lnTo>
                  <a:lnTo>
                    <a:pt x="2" y="11"/>
                  </a:lnTo>
                  <a:lnTo>
                    <a:pt x="8" y="13"/>
                  </a:lnTo>
                  <a:lnTo>
                    <a:pt x="11" y="11"/>
                  </a:lnTo>
                  <a:lnTo>
                    <a:pt x="13" y="7"/>
                  </a:lnTo>
                </a:path>
              </a:pathLst>
            </a:custGeom>
            <a:noFill/>
            <a:ln w="1260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7819920" y="4890960"/>
              <a:ext cx="47880" cy="4788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7"/>
                  </a:moveTo>
                  <a:lnTo>
                    <a:pt x="11" y="2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8" y="13"/>
                  </a:lnTo>
                  <a:lnTo>
                    <a:pt x="11" y="11"/>
                  </a:lnTo>
                  <a:lnTo>
                    <a:pt x="13" y="7"/>
                  </a:lnTo>
                </a:path>
              </a:pathLst>
            </a:custGeom>
            <a:noFill/>
            <a:ln w="1260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8367840" y="6054840"/>
              <a:ext cx="47520" cy="5868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3" y="8"/>
                  </a:moveTo>
                  <a:lnTo>
                    <a:pt x="11" y="2"/>
                  </a:lnTo>
                  <a:lnTo>
                    <a:pt x="7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2" y="13"/>
                  </a:lnTo>
                  <a:lnTo>
                    <a:pt x="7" y="15"/>
                  </a:lnTo>
                  <a:lnTo>
                    <a:pt x="11" y="13"/>
                  </a:lnTo>
                  <a:lnTo>
                    <a:pt x="13" y="8"/>
                  </a:lnTo>
                </a:path>
              </a:pathLst>
            </a:custGeom>
            <a:noFill/>
            <a:ln w="1260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8375760" y="6113520"/>
              <a:ext cx="98280" cy="324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8423280" y="6481800"/>
              <a:ext cx="22320" cy="468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8423280" y="6402240"/>
              <a:ext cx="4680" cy="13032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8028000" y="5345280"/>
              <a:ext cx="353880" cy="33624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8028000" y="5756400"/>
              <a:ext cx="347760" cy="30636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7986600" y="5702400"/>
              <a:ext cx="55800" cy="6192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15" y="8"/>
                  </a:moveTo>
                  <a:lnTo>
                    <a:pt x="13" y="2"/>
                  </a:lnTo>
                  <a:lnTo>
                    <a:pt x="7" y="0"/>
                  </a:lnTo>
                  <a:lnTo>
                    <a:pt x="1" y="2"/>
                  </a:lnTo>
                  <a:lnTo>
                    <a:pt x="0" y="8"/>
                  </a:lnTo>
                  <a:lnTo>
                    <a:pt x="1" y="14"/>
                  </a:lnTo>
                  <a:lnTo>
                    <a:pt x="7" y="16"/>
                  </a:lnTo>
                  <a:lnTo>
                    <a:pt x="13" y="14"/>
                  </a:lnTo>
                  <a:lnTo>
                    <a:pt x="15" y="8"/>
                  </a:lnTo>
                </a:path>
              </a:pathLst>
            </a:custGeom>
            <a:noFill/>
            <a:ln w="1260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8367840" y="5675400"/>
              <a:ext cx="47520" cy="5724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3" y="7"/>
                  </a:moveTo>
                  <a:lnTo>
                    <a:pt x="11" y="2"/>
                  </a:lnTo>
                  <a:lnTo>
                    <a:pt x="7" y="0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3"/>
                  </a:lnTo>
                  <a:lnTo>
                    <a:pt x="7" y="15"/>
                  </a:lnTo>
                  <a:lnTo>
                    <a:pt x="11" y="13"/>
                  </a:lnTo>
                  <a:lnTo>
                    <a:pt x="13" y="7"/>
                  </a:lnTo>
                </a:path>
              </a:pathLst>
            </a:custGeom>
            <a:noFill/>
            <a:ln w="1260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8028000" y="4930920"/>
              <a:ext cx="353880" cy="33948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7986600" y="5302080"/>
              <a:ext cx="55800" cy="5112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15" y="7"/>
                  </a:moveTo>
                  <a:lnTo>
                    <a:pt x="13" y="1"/>
                  </a:lnTo>
                  <a:lnTo>
                    <a:pt x="7" y="0"/>
                  </a:lnTo>
                  <a:lnTo>
                    <a:pt x="1" y="1"/>
                  </a:lnTo>
                  <a:lnTo>
                    <a:pt x="0" y="7"/>
                  </a:lnTo>
                  <a:lnTo>
                    <a:pt x="1" y="11"/>
                  </a:lnTo>
                  <a:lnTo>
                    <a:pt x="7" y="13"/>
                  </a:lnTo>
                  <a:lnTo>
                    <a:pt x="13" y="11"/>
                  </a:lnTo>
                  <a:lnTo>
                    <a:pt x="15" y="7"/>
                  </a:lnTo>
                </a:path>
              </a:pathLst>
            </a:custGeom>
            <a:noFill/>
            <a:ln w="1260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8367840" y="5264280"/>
              <a:ext cx="47520" cy="5688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3" y="8"/>
                  </a:moveTo>
                  <a:lnTo>
                    <a:pt x="11" y="2"/>
                  </a:lnTo>
                  <a:lnTo>
                    <a:pt x="7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2" y="13"/>
                  </a:lnTo>
                  <a:lnTo>
                    <a:pt x="7" y="15"/>
                  </a:lnTo>
                  <a:lnTo>
                    <a:pt x="11" y="13"/>
                  </a:lnTo>
                  <a:lnTo>
                    <a:pt x="13" y="8"/>
                  </a:lnTo>
                </a:path>
              </a:pathLst>
            </a:custGeom>
            <a:noFill/>
            <a:ln w="1260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7986600" y="4890960"/>
              <a:ext cx="55800" cy="4788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15" y="7"/>
                  </a:moveTo>
                  <a:lnTo>
                    <a:pt x="13" y="2"/>
                  </a:lnTo>
                  <a:lnTo>
                    <a:pt x="7" y="0"/>
                  </a:lnTo>
                  <a:lnTo>
                    <a:pt x="1" y="2"/>
                  </a:lnTo>
                  <a:lnTo>
                    <a:pt x="0" y="7"/>
                  </a:lnTo>
                  <a:lnTo>
                    <a:pt x="1" y="11"/>
                  </a:lnTo>
                  <a:lnTo>
                    <a:pt x="7" y="13"/>
                  </a:lnTo>
                  <a:lnTo>
                    <a:pt x="13" y="11"/>
                  </a:lnTo>
                  <a:lnTo>
                    <a:pt x="15" y="7"/>
                  </a:lnTo>
                </a:path>
              </a:pathLst>
            </a:custGeom>
            <a:noFill/>
            <a:ln w="1260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8367840" y="4859280"/>
              <a:ext cx="47520" cy="49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6"/>
                  </a:moveTo>
                  <a:lnTo>
                    <a:pt x="11" y="2"/>
                  </a:lnTo>
                  <a:lnTo>
                    <a:pt x="7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2" y="11"/>
                  </a:lnTo>
                  <a:lnTo>
                    <a:pt x="7" y="13"/>
                  </a:lnTo>
                  <a:lnTo>
                    <a:pt x="11" y="11"/>
                  </a:lnTo>
                  <a:lnTo>
                    <a:pt x="13" y="6"/>
                  </a:lnTo>
                </a:path>
              </a:pathLst>
            </a:custGeom>
            <a:noFill/>
            <a:ln w="1260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7486560" y="2017800"/>
              <a:ext cx="881280" cy="144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7486560" y="1608120"/>
              <a:ext cx="881280" cy="468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7486560" y="1197000"/>
              <a:ext cx="881280" cy="468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7486560" y="2428920"/>
              <a:ext cx="881280" cy="144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7486560" y="2832120"/>
              <a:ext cx="881280" cy="792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7486560" y="3654360"/>
              <a:ext cx="881280" cy="468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7486560" y="3243240"/>
              <a:ext cx="881280" cy="468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7486560" y="4471920"/>
              <a:ext cx="881280" cy="792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7486560" y="4068720"/>
              <a:ext cx="881280" cy="18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 flipH="1">
              <a:off x="7478640" y="1658880"/>
              <a:ext cx="347760" cy="33012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7435800" y="3218040"/>
              <a:ext cx="50760" cy="5544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3" y="7"/>
                  </a:moveTo>
                  <a:lnTo>
                    <a:pt x="11" y="1"/>
                  </a:lnTo>
                  <a:lnTo>
                    <a:pt x="7" y="0"/>
                  </a:lnTo>
                  <a:lnTo>
                    <a:pt x="2" y="1"/>
                  </a:lnTo>
                  <a:lnTo>
                    <a:pt x="0" y="7"/>
                  </a:lnTo>
                  <a:lnTo>
                    <a:pt x="2" y="13"/>
                  </a:lnTo>
                  <a:lnTo>
                    <a:pt x="7" y="15"/>
                  </a:lnTo>
                  <a:lnTo>
                    <a:pt x="11" y="13"/>
                  </a:lnTo>
                  <a:lnTo>
                    <a:pt x="13" y="7"/>
                  </a:lnTo>
                </a:path>
              </a:pathLst>
            </a:custGeom>
            <a:noFill/>
            <a:ln w="1260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 flipH="1">
              <a:off x="7478640" y="3705120"/>
              <a:ext cx="347760" cy="33192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7435800" y="4448160"/>
              <a:ext cx="50760" cy="49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8"/>
                  </a:moveTo>
                  <a:lnTo>
                    <a:pt x="11" y="2"/>
                  </a:lnTo>
                  <a:lnTo>
                    <a:pt x="7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2" y="12"/>
                  </a:lnTo>
                  <a:lnTo>
                    <a:pt x="7" y="13"/>
                  </a:lnTo>
                  <a:lnTo>
                    <a:pt x="11" y="12"/>
                  </a:lnTo>
                  <a:lnTo>
                    <a:pt x="13" y="8"/>
                  </a:lnTo>
                </a:path>
              </a:pathLst>
            </a:custGeom>
            <a:noFill/>
            <a:ln w="1260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7435800" y="4037040"/>
              <a:ext cx="50760" cy="5724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3" y="8"/>
                  </a:moveTo>
                  <a:lnTo>
                    <a:pt x="11" y="2"/>
                  </a:lnTo>
                  <a:lnTo>
                    <a:pt x="7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2" y="12"/>
                  </a:lnTo>
                  <a:lnTo>
                    <a:pt x="7" y="15"/>
                  </a:lnTo>
                  <a:lnTo>
                    <a:pt x="11" y="12"/>
                  </a:lnTo>
                  <a:lnTo>
                    <a:pt x="13" y="8"/>
                  </a:lnTo>
                </a:path>
              </a:pathLst>
            </a:custGeom>
            <a:noFill/>
            <a:ln w="1260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 flipH="1">
              <a:off x="7478640" y="4116240"/>
              <a:ext cx="347760" cy="33192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7819920" y="4479840"/>
              <a:ext cx="47880" cy="5580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3" y="7"/>
                  </a:moveTo>
                  <a:lnTo>
                    <a:pt x="11" y="2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3"/>
                  </a:lnTo>
                  <a:lnTo>
                    <a:pt x="8" y="15"/>
                  </a:lnTo>
                  <a:lnTo>
                    <a:pt x="11" y="13"/>
                  </a:lnTo>
                  <a:lnTo>
                    <a:pt x="13" y="7"/>
                  </a:lnTo>
                </a:path>
              </a:pathLst>
            </a:custGeom>
            <a:noFill/>
            <a:ln w="1260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7819920" y="4068720"/>
              <a:ext cx="47880" cy="5544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3" y="7"/>
                  </a:moveTo>
                  <a:lnTo>
                    <a:pt x="11" y="2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3"/>
                  </a:lnTo>
                  <a:lnTo>
                    <a:pt x="8" y="15"/>
                  </a:lnTo>
                  <a:lnTo>
                    <a:pt x="11" y="13"/>
                  </a:lnTo>
                  <a:lnTo>
                    <a:pt x="13" y="7"/>
                  </a:lnTo>
                </a:path>
              </a:pathLst>
            </a:custGeom>
            <a:noFill/>
            <a:ln w="1260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7435800" y="3624120"/>
              <a:ext cx="50760" cy="6048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13" y="8"/>
                  </a:moveTo>
                  <a:lnTo>
                    <a:pt x="11" y="2"/>
                  </a:lnTo>
                  <a:lnTo>
                    <a:pt x="7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2" y="14"/>
                  </a:lnTo>
                  <a:lnTo>
                    <a:pt x="7" y="16"/>
                  </a:lnTo>
                  <a:lnTo>
                    <a:pt x="11" y="14"/>
                  </a:lnTo>
                  <a:lnTo>
                    <a:pt x="13" y="8"/>
                  </a:lnTo>
                </a:path>
              </a:pathLst>
            </a:custGeom>
            <a:noFill/>
            <a:ln w="1260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 flipH="1">
              <a:off x="7478640" y="3294000"/>
              <a:ext cx="347760" cy="33804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7819920" y="3662280"/>
              <a:ext cx="47880" cy="507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6"/>
                  </a:moveTo>
                  <a:lnTo>
                    <a:pt x="11" y="2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2" y="11"/>
                  </a:lnTo>
                  <a:lnTo>
                    <a:pt x="8" y="13"/>
                  </a:lnTo>
                  <a:lnTo>
                    <a:pt x="11" y="11"/>
                  </a:lnTo>
                  <a:lnTo>
                    <a:pt x="13" y="6"/>
                  </a:lnTo>
                </a:path>
              </a:pathLst>
            </a:custGeom>
            <a:noFill/>
            <a:ln w="1260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7819920" y="3251160"/>
              <a:ext cx="47880" cy="507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6"/>
                  </a:moveTo>
                  <a:lnTo>
                    <a:pt x="11" y="2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2" y="11"/>
                  </a:lnTo>
                  <a:lnTo>
                    <a:pt x="8" y="13"/>
                  </a:lnTo>
                  <a:lnTo>
                    <a:pt x="11" y="11"/>
                  </a:lnTo>
                  <a:lnTo>
                    <a:pt x="13" y="6"/>
                  </a:lnTo>
                </a:path>
              </a:pathLst>
            </a:custGeom>
            <a:noFill/>
            <a:ln w="1260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 flipH="1">
              <a:off x="7478640" y="2481120"/>
              <a:ext cx="347760" cy="33336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7435800" y="2814480"/>
              <a:ext cx="50760" cy="4788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7"/>
                  </a:moveTo>
                  <a:lnTo>
                    <a:pt x="11" y="2"/>
                  </a:lnTo>
                  <a:lnTo>
                    <a:pt x="7" y="0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7" y="13"/>
                  </a:lnTo>
                  <a:lnTo>
                    <a:pt x="11" y="11"/>
                  </a:lnTo>
                  <a:lnTo>
                    <a:pt x="13" y="7"/>
                  </a:lnTo>
                </a:path>
              </a:pathLst>
            </a:custGeom>
            <a:noFill/>
            <a:ln w="1260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 flipH="1">
              <a:off x="7478640" y="2884320"/>
              <a:ext cx="347760" cy="3366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7819920" y="2840040"/>
              <a:ext cx="47880" cy="5724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3" y="8"/>
                  </a:moveTo>
                  <a:lnTo>
                    <a:pt x="11" y="2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2" y="13"/>
                  </a:lnTo>
                  <a:lnTo>
                    <a:pt x="8" y="15"/>
                  </a:lnTo>
                  <a:lnTo>
                    <a:pt x="11" y="13"/>
                  </a:lnTo>
                  <a:lnTo>
                    <a:pt x="13" y="8"/>
                  </a:lnTo>
                </a:path>
              </a:pathLst>
            </a:custGeom>
            <a:noFill/>
            <a:ln w="1260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7435800" y="2400480"/>
              <a:ext cx="50760" cy="507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7"/>
                  </a:moveTo>
                  <a:lnTo>
                    <a:pt x="11" y="2"/>
                  </a:lnTo>
                  <a:lnTo>
                    <a:pt x="7" y="0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7" y="13"/>
                  </a:lnTo>
                  <a:lnTo>
                    <a:pt x="11" y="11"/>
                  </a:lnTo>
                  <a:lnTo>
                    <a:pt x="13" y="7"/>
                  </a:lnTo>
                </a:path>
              </a:pathLst>
            </a:custGeom>
            <a:noFill/>
            <a:ln w="1260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7435800" y="1989000"/>
              <a:ext cx="50760" cy="5904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3" y="7"/>
                  </a:moveTo>
                  <a:lnTo>
                    <a:pt x="11" y="2"/>
                  </a:lnTo>
                  <a:lnTo>
                    <a:pt x="7" y="0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3"/>
                  </a:lnTo>
                  <a:lnTo>
                    <a:pt x="7" y="15"/>
                  </a:lnTo>
                  <a:lnTo>
                    <a:pt x="11" y="13"/>
                  </a:lnTo>
                  <a:lnTo>
                    <a:pt x="13" y="7"/>
                  </a:lnTo>
                </a:path>
              </a:pathLst>
            </a:custGeom>
            <a:noFill/>
            <a:ln w="1260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7435800" y="1989000"/>
              <a:ext cx="50760" cy="5904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3" y="7"/>
                  </a:moveTo>
                  <a:lnTo>
                    <a:pt x="11" y="2"/>
                  </a:lnTo>
                  <a:lnTo>
                    <a:pt x="7" y="0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3"/>
                  </a:lnTo>
                  <a:lnTo>
                    <a:pt x="7" y="15"/>
                  </a:lnTo>
                  <a:lnTo>
                    <a:pt x="11" y="13"/>
                  </a:lnTo>
                  <a:lnTo>
                    <a:pt x="13" y="7"/>
                  </a:lnTo>
                </a:path>
              </a:pathLst>
            </a:custGeom>
            <a:noFill/>
            <a:ln w="1260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 flipH="1">
              <a:off x="7478640" y="2070000"/>
              <a:ext cx="347760" cy="33048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7819920" y="2428920"/>
              <a:ext cx="47880" cy="5544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3" y="8"/>
                  </a:moveTo>
                  <a:lnTo>
                    <a:pt x="11" y="2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2" y="14"/>
                  </a:lnTo>
                  <a:lnTo>
                    <a:pt x="8" y="15"/>
                  </a:lnTo>
                  <a:lnTo>
                    <a:pt x="11" y="14"/>
                  </a:lnTo>
                  <a:lnTo>
                    <a:pt x="13" y="8"/>
                  </a:lnTo>
                </a:path>
              </a:pathLst>
            </a:custGeom>
            <a:noFill/>
            <a:ln w="1260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7819920" y="2017800"/>
              <a:ext cx="47880" cy="6012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13" y="8"/>
                  </a:moveTo>
                  <a:lnTo>
                    <a:pt x="11" y="4"/>
                  </a:lnTo>
                  <a:lnTo>
                    <a:pt x="8" y="0"/>
                  </a:lnTo>
                  <a:lnTo>
                    <a:pt x="2" y="4"/>
                  </a:lnTo>
                  <a:lnTo>
                    <a:pt x="0" y="8"/>
                  </a:lnTo>
                  <a:lnTo>
                    <a:pt x="2" y="14"/>
                  </a:lnTo>
                  <a:lnTo>
                    <a:pt x="8" y="16"/>
                  </a:lnTo>
                  <a:lnTo>
                    <a:pt x="11" y="14"/>
                  </a:lnTo>
                  <a:lnTo>
                    <a:pt x="13" y="8"/>
                  </a:lnTo>
                </a:path>
              </a:pathLst>
            </a:custGeom>
            <a:noFill/>
            <a:ln w="1260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7435800" y="1577880"/>
              <a:ext cx="50760" cy="5868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3" y="8"/>
                  </a:moveTo>
                  <a:lnTo>
                    <a:pt x="11" y="2"/>
                  </a:lnTo>
                  <a:lnTo>
                    <a:pt x="7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2" y="13"/>
                  </a:lnTo>
                  <a:lnTo>
                    <a:pt x="7" y="15"/>
                  </a:lnTo>
                  <a:lnTo>
                    <a:pt x="11" y="13"/>
                  </a:lnTo>
                  <a:lnTo>
                    <a:pt x="13" y="8"/>
                  </a:lnTo>
                </a:path>
              </a:pathLst>
            </a:custGeom>
            <a:noFill/>
            <a:ln w="1260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7435800" y="1577880"/>
              <a:ext cx="50760" cy="5868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3" y="8"/>
                  </a:moveTo>
                  <a:lnTo>
                    <a:pt x="11" y="2"/>
                  </a:lnTo>
                  <a:lnTo>
                    <a:pt x="7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2" y="13"/>
                  </a:lnTo>
                  <a:lnTo>
                    <a:pt x="7" y="15"/>
                  </a:lnTo>
                  <a:lnTo>
                    <a:pt x="11" y="13"/>
                  </a:lnTo>
                  <a:lnTo>
                    <a:pt x="13" y="8"/>
                  </a:lnTo>
                </a:path>
              </a:pathLst>
            </a:custGeom>
            <a:noFill/>
            <a:ln w="1260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7435800" y="1166760"/>
              <a:ext cx="50760" cy="5868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3" y="8"/>
                  </a:moveTo>
                  <a:lnTo>
                    <a:pt x="11" y="2"/>
                  </a:lnTo>
                  <a:lnTo>
                    <a:pt x="7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2" y="13"/>
                  </a:lnTo>
                  <a:lnTo>
                    <a:pt x="7" y="15"/>
                  </a:lnTo>
                  <a:lnTo>
                    <a:pt x="11" y="13"/>
                  </a:lnTo>
                  <a:lnTo>
                    <a:pt x="13" y="8"/>
                  </a:lnTo>
                </a:path>
              </a:pathLst>
            </a:custGeom>
            <a:noFill/>
            <a:ln w="1260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7819920" y="1612800"/>
              <a:ext cx="47880" cy="5400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3" y="6"/>
                  </a:moveTo>
                  <a:lnTo>
                    <a:pt x="11" y="2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2" y="12"/>
                  </a:lnTo>
                  <a:lnTo>
                    <a:pt x="8" y="14"/>
                  </a:lnTo>
                  <a:lnTo>
                    <a:pt x="11" y="12"/>
                  </a:lnTo>
                  <a:lnTo>
                    <a:pt x="13" y="6"/>
                  </a:lnTo>
                </a:path>
              </a:pathLst>
            </a:custGeom>
            <a:noFill/>
            <a:ln w="1260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7819920" y="1204920"/>
              <a:ext cx="47880" cy="507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7"/>
                  </a:moveTo>
                  <a:lnTo>
                    <a:pt x="11" y="2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8" y="13"/>
                  </a:lnTo>
                  <a:lnTo>
                    <a:pt x="11" y="11"/>
                  </a:lnTo>
                  <a:lnTo>
                    <a:pt x="13" y="7"/>
                  </a:lnTo>
                </a:path>
              </a:pathLst>
            </a:custGeom>
            <a:noFill/>
            <a:ln w="1260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 flipH="1">
              <a:off x="7478640" y="1247760"/>
              <a:ext cx="347760" cy="33804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8028000" y="1658880"/>
              <a:ext cx="353880" cy="33012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8367840" y="3218040"/>
              <a:ext cx="47520" cy="5544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3" y="7"/>
                  </a:moveTo>
                  <a:lnTo>
                    <a:pt x="11" y="1"/>
                  </a:lnTo>
                  <a:lnTo>
                    <a:pt x="7" y="0"/>
                  </a:lnTo>
                  <a:lnTo>
                    <a:pt x="2" y="1"/>
                  </a:lnTo>
                  <a:lnTo>
                    <a:pt x="0" y="7"/>
                  </a:lnTo>
                  <a:lnTo>
                    <a:pt x="2" y="13"/>
                  </a:lnTo>
                  <a:lnTo>
                    <a:pt x="7" y="15"/>
                  </a:lnTo>
                  <a:lnTo>
                    <a:pt x="11" y="13"/>
                  </a:lnTo>
                  <a:lnTo>
                    <a:pt x="13" y="7"/>
                  </a:lnTo>
                </a:path>
              </a:pathLst>
            </a:custGeom>
            <a:noFill/>
            <a:ln w="1260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8028000" y="3705120"/>
              <a:ext cx="353880" cy="33192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8028000" y="4116240"/>
              <a:ext cx="353880" cy="33192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7986600" y="4479840"/>
              <a:ext cx="55800" cy="5580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5" y="7"/>
                  </a:moveTo>
                  <a:lnTo>
                    <a:pt x="13" y="2"/>
                  </a:lnTo>
                  <a:lnTo>
                    <a:pt x="7" y="0"/>
                  </a:lnTo>
                  <a:lnTo>
                    <a:pt x="1" y="2"/>
                  </a:lnTo>
                  <a:lnTo>
                    <a:pt x="0" y="7"/>
                  </a:lnTo>
                  <a:lnTo>
                    <a:pt x="1" y="13"/>
                  </a:lnTo>
                  <a:lnTo>
                    <a:pt x="7" y="15"/>
                  </a:lnTo>
                  <a:lnTo>
                    <a:pt x="13" y="13"/>
                  </a:lnTo>
                  <a:lnTo>
                    <a:pt x="15" y="7"/>
                  </a:lnTo>
                </a:path>
              </a:pathLst>
            </a:custGeom>
            <a:noFill/>
            <a:ln w="1260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8367840" y="4448160"/>
              <a:ext cx="47520" cy="49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8"/>
                  </a:moveTo>
                  <a:lnTo>
                    <a:pt x="11" y="2"/>
                  </a:lnTo>
                  <a:lnTo>
                    <a:pt x="7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2" y="12"/>
                  </a:lnTo>
                  <a:lnTo>
                    <a:pt x="7" y="13"/>
                  </a:lnTo>
                  <a:lnTo>
                    <a:pt x="11" y="12"/>
                  </a:lnTo>
                  <a:lnTo>
                    <a:pt x="13" y="8"/>
                  </a:lnTo>
                </a:path>
              </a:pathLst>
            </a:custGeom>
            <a:noFill/>
            <a:ln w="1260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7986600" y="4068720"/>
              <a:ext cx="55800" cy="5544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5" y="7"/>
                  </a:moveTo>
                  <a:lnTo>
                    <a:pt x="13" y="2"/>
                  </a:lnTo>
                  <a:lnTo>
                    <a:pt x="7" y="0"/>
                  </a:lnTo>
                  <a:lnTo>
                    <a:pt x="1" y="2"/>
                  </a:lnTo>
                  <a:lnTo>
                    <a:pt x="0" y="7"/>
                  </a:lnTo>
                  <a:lnTo>
                    <a:pt x="1" y="13"/>
                  </a:lnTo>
                  <a:lnTo>
                    <a:pt x="7" y="15"/>
                  </a:lnTo>
                  <a:lnTo>
                    <a:pt x="13" y="13"/>
                  </a:lnTo>
                  <a:lnTo>
                    <a:pt x="15" y="7"/>
                  </a:lnTo>
                </a:path>
              </a:pathLst>
            </a:custGeom>
            <a:noFill/>
            <a:ln w="1260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8367840" y="4037040"/>
              <a:ext cx="47520" cy="5724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3" y="8"/>
                  </a:moveTo>
                  <a:lnTo>
                    <a:pt x="11" y="2"/>
                  </a:lnTo>
                  <a:lnTo>
                    <a:pt x="7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2" y="12"/>
                  </a:lnTo>
                  <a:lnTo>
                    <a:pt x="7" y="15"/>
                  </a:lnTo>
                  <a:lnTo>
                    <a:pt x="11" y="12"/>
                  </a:lnTo>
                  <a:lnTo>
                    <a:pt x="13" y="8"/>
                  </a:lnTo>
                </a:path>
              </a:pathLst>
            </a:custGeom>
            <a:noFill/>
            <a:ln w="1260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8028000" y="3294000"/>
              <a:ext cx="353880" cy="33804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7986600" y="3662280"/>
              <a:ext cx="55800" cy="5076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15" y="6"/>
                  </a:moveTo>
                  <a:lnTo>
                    <a:pt x="13" y="2"/>
                  </a:lnTo>
                  <a:lnTo>
                    <a:pt x="7" y="0"/>
                  </a:lnTo>
                  <a:lnTo>
                    <a:pt x="1" y="2"/>
                  </a:lnTo>
                  <a:lnTo>
                    <a:pt x="0" y="6"/>
                  </a:lnTo>
                  <a:lnTo>
                    <a:pt x="1" y="11"/>
                  </a:lnTo>
                  <a:lnTo>
                    <a:pt x="7" y="13"/>
                  </a:lnTo>
                  <a:lnTo>
                    <a:pt x="13" y="11"/>
                  </a:lnTo>
                  <a:lnTo>
                    <a:pt x="15" y="6"/>
                  </a:lnTo>
                </a:path>
              </a:pathLst>
            </a:custGeom>
            <a:noFill/>
            <a:ln w="1260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8367840" y="3624120"/>
              <a:ext cx="47520" cy="6048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13" y="8"/>
                  </a:moveTo>
                  <a:lnTo>
                    <a:pt x="11" y="2"/>
                  </a:lnTo>
                  <a:lnTo>
                    <a:pt x="7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2" y="14"/>
                  </a:lnTo>
                  <a:lnTo>
                    <a:pt x="7" y="16"/>
                  </a:lnTo>
                  <a:lnTo>
                    <a:pt x="11" y="14"/>
                  </a:lnTo>
                  <a:lnTo>
                    <a:pt x="13" y="8"/>
                  </a:lnTo>
                </a:path>
              </a:pathLst>
            </a:custGeom>
            <a:noFill/>
            <a:ln w="1260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7986600" y="3251160"/>
              <a:ext cx="55800" cy="5076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15" y="6"/>
                  </a:moveTo>
                  <a:lnTo>
                    <a:pt x="13" y="2"/>
                  </a:lnTo>
                  <a:lnTo>
                    <a:pt x="7" y="0"/>
                  </a:lnTo>
                  <a:lnTo>
                    <a:pt x="1" y="2"/>
                  </a:lnTo>
                  <a:lnTo>
                    <a:pt x="0" y="6"/>
                  </a:lnTo>
                  <a:lnTo>
                    <a:pt x="1" y="11"/>
                  </a:lnTo>
                  <a:lnTo>
                    <a:pt x="7" y="13"/>
                  </a:lnTo>
                  <a:lnTo>
                    <a:pt x="13" y="11"/>
                  </a:lnTo>
                  <a:lnTo>
                    <a:pt x="15" y="6"/>
                  </a:lnTo>
                </a:path>
              </a:pathLst>
            </a:custGeom>
            <a:noFill/>
            <a:ln w="1260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8028000" y="2481120"/>
              <a:ext cx="353880" cy="33336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8028000" y="2884320"/>
              <a:ext cx="353880" cy="3366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986600" y="2840040"/>
              <a:ext cx="55800" cy="5724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5" y="8"/>
                  </a:moveTo>
                  <a:lnTo>
                    <a:pt x="13" y="2"/>
                  </a:lnTo>
                  <a:lnTo>
                    <a:pt x="7" y="0"/>
                  </a:lnTo>
                  <a:lnTo>
                    <a:pt x="1" y="2"/>
                  </a:lnTo>
                  <a:lnTo>
                    <a:pt x="0" y="8"/>
                  </a:lnTo>
                  <a:lnTo>
                    <a:pt x="1" y="13"/>
                  </a:lnTo>
                  <a:lnTo>
                    <a:pt x="7" y="15"/>
                  </a:lnTo>
                  <a:lnTo>
                    <a:pt x="13" y="13"/>
                  </a:lnTo>
                  <a:lnTo>
                    <a:pt x="15" y="8"/>
                  </a:lnTo>
                </a:path>
              </a:pathLst>
            </a:custGeom>
            <a:noFill/>
            <a:ln w="1260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8367840" y="2814480"/>
              <a:ext cx="47520" cy="4788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7"/>
                  </a:moveTo>
                  <a:lnTo>
                    <a:pt x="11" y="2"/>
                  </a:lnTo>
                  <a:lnTo>
                    <a:pt x="7" y="0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7" y="13"/>
                  </a:lnTo>
                  <a:lnTo>
                    <a:pt x="11" y="11"/>
                  </a:lnTo>
                  <a:lnTo>
                    <a:pt x="13" y="7"/>
                  </a:lnTo>
                </a:path>
              </a:pathLst>
            </a:custGeom>
            <a:noFill/>
            <a:ln w="1260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8028000" y="2070000"/>
              <a:ext cx="353880" cy="33048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7986600" y="2428920"/>
              <a:ext cx="55800" cy="5544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5" y="8"/>
                  </a:moveTo>
                  <a:lnTo>
                    <a:pt x="13" y="2"/>
                  </a:lnTo>
                  <a:lnTo>
                    <a:pt x="7" y="0"/>
                  </a:lnTo>
                  <a:lnTo>
                    <a:pt x="1" y="2"/>
                  </a:lnTo>
                  <a:lnTo>
                    <a:pt x="0" y="8"/>
                  </a:lnTo>
                  <a:lnTo>
                    <a:pt x="1" y="14"/>
                  </a:lnTo>
                  <a:lnTo>
                    <a:pt x="7" y="15"/>
                  </a:lnTo>
                  <a:lnTo>
                    <a:pt x="13" y="14"/>
                  </a:lnTo>
                  <a:lnTo>
                    <a:pt x="15" y="8"/>
                  </a:lnTo>
                </a:path>
              </a:pathLst>
            </a:custGeom>
            <a:noFill/>
            <a:ln w="1260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8367840" y="2400480"/>
              <a:ext cx="47520" cy="507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7"/>
                  </a:moveTo>
                  <a:lnTo>
                    <a:pt x="11" y="2"/>
                  </a:lnTo>
                  <a:lnTo>
                    <a:pt x="7" y="0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7" y="13"/>
                  </a:lnTo>
                  <a:lnTo>
                    <a:pt x="11" y="11"/>
                  </a:lnTo>
                  <a:lnTo>
                    <a:pt x="13" y="7"/>
                  </a:lnTo>
                </a:path>
              </a:pathLst>
            </a:custGeom>
            <a:noFill/>
            <a:ln w="1260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7986600" y="2017800"/>
              <a:ext cx="55800" cy="6012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15" y="8"/>
                  </a:moveTo>
                  <a:lnTo>
                    <a:pt x="13" y="4"/>
                  </a:lnTo>
                  <a:lnTo>
                    <a:pt x="7" y="0"/>
                  </a:lnTo>
                  <a:lnTo>
                    <a:pt x="1" y="4"/>
                  </a:lnTo>
                  <a:lnTo>
                    <a:pt x="0" y="8"/>
                  </a:lnTo>
                  <a:lnTo>
                    <a:pt x="1" y="14"/>
                  </a:lnTo>
                  <a:lnTo>
                    <a:pt x="7" y="16"/>
                  </a:lnTo>
                  <a:lnTo>
                    <a:pt x="13" y="14"/>
                  </a:lnTo>
                  <a:lnTo>
                    <a:pt x="15" y="8"/>
                  </a:lnTo>
                </a:path>
              </a:pathLst>
            </a:custGeom>
            <a:noFill/>
            <a:ln w="1260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8367840" y="1989000"/>
              <a:ext cx="47520" cy="5904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3" y="7"/>
                  </a:moveTo>
                  <a:lnTo>
                    <a:pt x="11" y="2"/>
                  </a:lnTo>
                  <a:lnTo>
                    <a:pt x="7" y="0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3"/>
                  </a:lnTo>
                  <a:lnTo>
                    <a:pt x="7" y="15"/>
                  </a:lnTo>
                  <a:lnTo>
                    <a:pt x="11" y="13"/>
                  </a:lnTo>
                  <a:lnTo>
                    <a:pt x="13" y="7"/>
                  </a:lnTo>
                </a:path>
              </a:pathLst>
            </a:custGeom>
            <a:noFill/>
            <a:ln w="1260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8367840" y="1989000"/>
              <a:ext cx="47520" cy="5904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3" y="7"/>
                  </a:moveTo>
                  <a:lnTo>
                    <a:pt x="11" y="2"/>
                  </a:lnTo>
                  <a:lnTo>
                    <a:pt x="7" y="0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3"/>
                  </a:lnTo>
                  <a:lnTo>
                    <a:pt x="7" y="15"/>
                  </a:lnTo>
                  <a:lnTo>
                    <a:pt x="11" y="13"/>
                  </a:lnTo>
                  <a:lnTo>
                    <a:pt x="13" y="7"/>
                  </a:lnTo>
                </a:path>
              </a:pathLst>
            </a:custGeom>
            <a:noFill/>
            <a:ln w="1260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7986600" y="1612800"/>
              <a:ext cx="55800" cy="5400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5" y="6"/>
                  </a:moveTo>
                  <a:lnTo>
                    <a:pt x="13" y="2"/>
                  </a:lnTo>
                  <a:lnTo>
                    <a:pt x="7" y="0"/>
                  </a:lnTo>
                  <a:lnTo>
                    <a:pt x="1" y="2"/>
                  </a:lnTo>
                  <a:lnTo>
                    <a:pt x="0" y="6"/>
                  </a:lnTo>
                  <a:lnTo>
                    <a:pt x="1" y="12"/>
                  </a:lnTo>
                  <a:lnTo>
                    <a:pt x="7" y="14"/>
                  </a:lnTo>
                  <a:lnTo>
                    <a:pt x="13" y="12"/>
                  </a:lnTo>
                  <a:lnTo>
                    <a:pt x="15" y="6"/>
                  </a:lnTo>
                </a:path>
              </a:pathLst>
            </a:custGeom>
            <a:noFill/>
            <a:ln w="1260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8367840" y="1577880"/>
              <a:ext cx="47520" cy="5868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3" y="8"/>
                  </a:moveTo>
                  <a:lnTo>
                    <a:pt x="11" y="2"/>
                  </a:lnTo>
                  <a:lnTo>
                    <a:pt x="7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2" y="13"/>
                  </a:lnTo>
                  <a:lnTo>
                    <a:pt x="7" y="15"/>
                  </a:lnTo>
                  <a:lnTo>
                    <a:pt x="11" y="13"/>
                  </a:lnTo>
                  <a:lnTo>
                    <a:pt x="13" y="8"/>
                  </a:lnTo>
                </a:path>
              </a:pathLst>
            </a:custGeom>
            <a:noFill/>
            <a:ln w="1260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8367840" y="1577880"/>
              <a:ext cx="47520" cy="5868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3" y="8"/>
                  </a:moveTo>
                  <a:lnTo>
                    <a:pt x="11" y="2"/>
                  </a:lnTo>
                  <a:lnTo>
                    <a:pt x="7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2" y="13"/>
                  </a:lnTo>
                  <a:lnTo>
                    <a:pt x="7" y="15"/>
                  </a:lnTo>
                  <a:lnTo>
                    <a:pt x="11" y="13"/>
                  </a:lnTo>
                  <a:lnTo>
                    <a:pt x="13" y="8"/>
                  </a:lnTo>
                </a:path>
              </a:pathLst>
            </a:custGeom>
            <a:noFill/>
            <a:ln w="1260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7986600" y="1204920"/>
              <a:ext cx="55800" cy="5076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15" y="7"/>
                  </a:moveTo>
                  <a:lnTo>
                    <a:pt x="13" y="2"/>
                  </a:lnTo>
                  <a:lnTo>
                    <a:pt x="7" y="0"/>
                  </a:lnTo>
                  <a:lnTo>
                    <a:pt x="1" y="2"/>
                  </a:lnTo>
                  <a:lnTo>
                    <a:pt x="0" y="7"/>
                  </a:lnTo>
                  <a:lnTo>
                    <a:pt x="1" y="11"/>
                  </a:lnTo>
                  <a:lnTo>
                    <a:pt x="7" y="13"/>
                  </a:lnTo>
                  <a:lnTo>
                    <a:pt x="13" y="11"/>
                  </a:lnTo>
                  <a:lnTo>
                    <a:pt x="15" y="7"/>
                  </a:lnTo>
                </a:path>
              </a:pathLst>
            </a:custGeom>
            <a:noFill/>
            <a:ln w="1260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8367840" y="1166760"/>
              <a:ext cx="47520" cy="5868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3" y="8"/>
                  </a:moveTo>
                  <a:lnTo>
                    <a:pt x="11" y="2"/>
                  </a:lnTo>
                  <a:lnTo>
                    <a:pt x="7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2" y="13"/>
                  </a:lnTo>
                  <a:lnTo>
                    <a:pt x="7" y="15"/>
                  </a:lnTo>
                  <a:lnTo>
                    <a:pt x="11" y="13"/>
                  </a:lnTo>
                  <a:lnTo>
                    <a:pt x="13" y="8"/>
                  </a:lnTo>
                </a:path>
              </a:pathLst>
            </a:custGeom>
            <a:noFill/>
            <a:ln w="1260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8028000" y="1247760"/>
              <a:ext cx="353880" cy="33804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 flipV="1">
              <a:off x="7429680" y="1196640"/>
              <a:ext cx="6120" cy="491652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 flipV="1">
              <a:off x="8423280" y="1196640"/>
              <a:ext cx="4680" cy="491652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1594" name=""/>
          <p:cNvSpPr/>
          <p:nvPr/>
        </p:nvSpPr>
        <p:spPr>
          <a:xfrm>
            <a:off x="297360" y="2862360"/>
            <a:ext cx="386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Periodo fondamentale: 1.83 s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graphicFrame>
        <p:nvGraphicFramePr>
          <p:cNvPr id="1595" name=""/>
          <p:cNvGraphicFramePr/>
          <p:nvPr/>
        </p:nvGraphicFramePr>
        <p:xfrm>
          <a:off x="361800" y="3362400"/>
          <a:ext cx="6699240" cy="823680"/>
        </p:xfrm>
        <a:graphic>
          <a:graphicData uri="http://schemas.openxmlformats.org/drawingml/2006/table">
            <a:tbl>
              <a:tblPr/>
              <a:tblGrid>
                <a:gridCol w="2421000"/>
                <a:gridCol w="855720"/>
                <a:gridCol w="855720"/>
                <a:gridCol w="855720"/>
                <a:gridCol w="855720"/>
                <a:gridCol w="855360"/>
              </a:tblGrid>
              <a:tr h="39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Modo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1368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1°</a:t>
                      </a:r>
                      <a:endParaRPr b="0" lang="en-US" sz="16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1368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2°</a:t>
                      </a:r>
                      <a:endParaRPr b="0" lang="en-US" sz="16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1368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3°</a:t>
                      </a:r>
                      <a:endParaRPr b="0" lang="en-US" sz="16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1368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4°</a:t>
                      </a:r>
                      <a:endParaRPr b="0" lang="en-US" sz="16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1368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5°</a:t>
                      </a:r>
                      <a:endParaRPr b="0" lang="en-US" sz="16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1368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Massa partecipant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65.9%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20.7%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6.7%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2.7%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0.8%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6" name=""/>
          <p:cNvSpPr/>
          <p:nvPr/>
        </p:nvSpPr>
        <p:spPr>
          <a:xfrm>
            <a:off x="347760" y="1322280"/>
            <a:ext cx="6524640" cy="18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0000"/>
              </a:lnSpc>
              <a:spcBef>
                <a:spcPts val="125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12 piani.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Link corti, secondo le AISC 2000.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Progettato mediante analisi statica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0" y="0"/>
            <a:ext cx="91440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Esempio su un telaio con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ontroventi eccentrici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347760" y="4559400"/>
            <a:ext cx="651672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76040" indent="-176040">
              <a:lnSpc>
                <a:spcPct val="100000"/>
              </a:lnSpc>
              <a:spcBef>
                <a:spcPts val="125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Rotazione ultima dei link: 0.09 rad.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125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Incrudimento determinato imponendo </a:t>
            </a:r>
            <a:r>
              <a:rPr b="0" i="1" lang="en-US" sz="2000" spc="-1" strike="noStrike">
                <a:solidFill>
                  <a:srgbClr val="ffff66"/>
                </a:solidFill>
                <a:latin typeface="Comic Sans MS"/>
              </a:rPr>
              <a:t>V</a:t>
            </a:r>
            <a:r>
              <a:rPr b="0" i="1" lang="en-US" sz="2000" spc="-1" strike="noStrike" baseline="-25000">
                <a:solidFill>
                  <a:srgbClr val="ffff66"/>
                </a:solidFill>
                <a:latin typeface="Comic Sans MS"/>
              </a:rPr>
              <a:t>u</a:t>
            </a: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 = 1.5 </a:t>
            </a:r>
            <a:r>
              <a:rPr b="0" i="1" lang="en-US" sz="2000" spc="-1" strike="noStrike">
                <a:solidFill>
                  <a:srgbClr val="ffff66"/>
                </a:solidFill>
                <a:latin typeface="Comic Sans MS"/>
              </a:rPr>
              <a:t>V</a:t>
            </a:r>
            <a:r>
              <a:rPr b="0" i="1" lang="en-US" sz="2000" spc="-1" strike="noStrike" baseline="-25000">
                <a:solidFill>
                  <a:srgbClr val="ffff66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514440" y="5457960"/>
            <a:ext cx="611820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Comic Sans MS"/>
              </a:rPr>
              <a:t>V</a:t>
            </a:r>
            <a:r>
              <a:rPr b="0" i="1" lang="en-US" sz="2000" spc="-1" strike="noStrike" baseline="-25000">
                <a:solidFill>
                  <a:srgbClr val="ffff66"/>
                </a:solidFill>
                <a:latin typeface="Comic Sans MS"/>
              </a:rPr>
              <a:t>p</a:t>
            </a: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 = taglio plastico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Comic Sans MS"/>
              </a:rPr>
              <a:t>V</a:t>
            </a:r>
            <a:r>
              <a:rPr b="0" i="1" lang="en-US" sz="2000" spc="-1" strike="noStrike" baseline="-25000">
                <a:solidFill>
                  <a:srgbClr val="ffff66"/>
                </a:solidFill>
                <a:latin typeface="Comic Sans MS"/>
              </a:rPr>
              <a:t>u</a:t>
            </a: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 = taglio ultimo (corrispondente a </a:t>
            </a:r>
            <a:r>
              <a:rPr b="0" lang="en-US" sz="2000" spc="-1" strike="noStrike">
                <a:solidFill>
                  <a:srgbClr val="ffff66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ffff66"/>
                </a:solidFill>
                <a:latin typeface="Comic Sans MS"/>
              </a:rPr>
              <a:t>pl</a:t>
            </a: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 = 0.09 rad)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"/>
          <p:cNvSpPr/>
          <p:nvPr/>
        </p:nvSpPr>
        <p:spPr>
          <a:xfrm>
            <a:off x="200160" y="2714760"/>
            <a:ext cx="4302000" cy="3128760"/>
          </a:xfrm>
          <a:prstGeom prst="rect">
            <a:avLst/>
          </a:prstGeom>
          <a:solidFill>
            <a:srgbClr val="ffffff"/>
          </a:solidFill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4708440" y="2714760"/>
            <a:ext cx="4302360" cy="3128760"/>
          </a:xfrm>
          <a:prstGeom prst="rect">
            <a:avLst/>
          </a:prstGeom>
          <a:solidFill>
            <a:srgbClr val="ffffff"/>
          </a:solidFill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4834080" y="2119320"/>
            <a:ext cx="4205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Spostamenti a collasso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430200" y="2119320"/>
            <a:ext cx="38797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Curve di prestazione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0" y="0"/>
            <a:ext cx="91440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Comic Sans MS"/>
              </a:rPr>
              <a:t>Risultati delle analisi statiche 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Comic Sans MS"/>
              </a:rPr>
              <a:t>incrementali (invarianti)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800280" y="2922480"/>
            <a:ext cx="3501720" cy="249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797040" y="4584600"/>
            <a:ext cx="42840" cy="648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863640" y="4584600"/>
            <a:ext cx="42840" cy="648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932040" y="4584600"/>
            <a:ext cx="41040" cy="648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998640" y="4584600"/>
            <a:ext cx="42840" cy="648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1065240" y="4584600"/>
            <a:ext cx="42840" cy="648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1131840" y="4584600"/>
            <a:ext cx="42840" cy="648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1200240" y="4584600"/>
            <a:ext cx="41040" cy="648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1266840" y="4584600"/>
            <a:ext cx="42840" cy="648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1333440" y="4584600"/>
            <a:ext cx="42840" cy="648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1400040" y="4584600"/>
            <a:ext cx="42840" cy="648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1468440" y="4584600"/>
            <a:ext cx="41400" cy="648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1535040" y="4584600"/>
            <a:ext cx="42840" cy="648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1601640" y="4584600"/>
            <a:ext cx="42840" cy="648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1668600" y="4584600"/>
            <a:ext cx="42840" cy="648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1736640" y="4584600"/>
            <a:ext cx="41400" cy="648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1803240" y="4584600"/>
            <a:ext cx="43200" cy="648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1870200" y="4584600"/>
            <a:ext cx="42840" cy="648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1936800" y="4584600"/>
            <a:ext cx="42840" cy="648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2004840" y="4584600"/>
            <a:ext cx="41400" cy="648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2071800" y="4584600"/>
            <a:ext cx="42840" cy="64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2138400" y="4584600"/>
            <a:ext cx="42840" cy="64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2205000" y="4584600"/>
            <a:ext cx="42840" cy="64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2273400" y="4584600"/>
            <a:ext cx="41040" cy="64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2340000" y="4584600"/>
            <a:ext cx="42840" cy="64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2406600" y="4584600"/>
            <a:ext cx="42840" cy="64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2473200" y="4584600"/>
            <a:ext cx="42840" cy="64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2541600" y="4584600"/>
            <a:ext cx="41400" cy="64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2608200" y="4584600"/>
            <a:ext cx="42840" cy="64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2674800" y="4584600"/>
            <a:ext cx="42840" cy="64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2741760" y="4584600"/>
            <a:ext cx="42840" cy="64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2809800" y="4584600"/>
            <a:ext cx="41400" cy="64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2876400" y="4584600"/>
            <a:ext cx="42840" cy="64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2943360" y="4584600"/>
            <a:ext cx="42840" cy="64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3009960" y="4584600"/>
            <a:ext cx="42840" cy="64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3078000" y="4584600"/>
            <a:ext cx="41400" cy="64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3144960" y="4584600"/>
            <a:ext cx="42840" cy="64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3211560" y="4584600"/>
            <a:ext cx="42840" cy="64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3278160" y="4584600"/>
            <a:ext cx="42840" cy="64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3346560" y="4584600"/>
            <a:ext cx="41040" cy="64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3413160" y="4584600"/>
            <a:ext cx="42840" cy="64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3479760" y="4584600"/>
            <a:ext cx="42840" cy="64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3546360" y="4584600"/>
            <a:ext cx="42840" cy="64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3614760" y="4584600"/>
            <a:ext cx="41400" cy="64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3681360" y="4584600"/>
            <a:ext cx="42840" cy="64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3747960" y="4584600"/>
            <a:ext cx="42840" cy="64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814920" y="4584600"/>
            <a:ext cx="42840" cy="64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3882960" y="4584600"/>
            <a:ext cx="41400" cy="64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3949560" y="4584600"/>
            <a:ext cx="42840" cy="64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4016520" y="4584600"/>
            <a:ext cx="42840" cy="64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4083120" y="4584600"/>
            <a:ext cx="42840" cy="64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4151160" y="4584600"/>
            <a:ext cx="41400" cy="64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4218120" y="4584600"/>
            <a:ext cx="42840" cy="64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4284720" y="4584600"/>
            <a:ext cx="19080" cy="64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797040" y="3753000"/>
            <a:ext cx="42840" cy="612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863640" y="3753000"/>
            <a:ext cx="42840" cy="612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932040" y="3753000"/>
            <a:ext cx="41040" cy="612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998640" y="3753000"/>
            <a:ext cx="42840" cy="612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1065240" y="3753000"/>
            <a:ext cx="42840" cy="612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1131840" y="3753000"/>
            <a:ext cx="42840" cy="612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1200240" y="3753000"/>
            <a:ext cx="41040" cy="612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1266840" y="3753000"/>
            <a:ext cx="42840" cy="612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1333440" y="3753000"/>
            <a:ext cx="42840" cy="612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1400040" y="3753000"/>
            <a:ext cx="42840" cy="612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1468440" y="3753000"/>
            <a:ext cx="41400" cy="612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535040" y="3753000"/>
            <a:ext cx="42840" cy="612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1601640" y="3753000"/>
            <a:ext cx="42840" cy="612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1668600" y="3753000"/>
            <a:ext cx="42840" cy="612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1736640" y="3753000"/>
            <a:ext cx="41400" cy="612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1803240" y="3753000"/>
            <a:ext cx="43200" cy="612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1870200" y="3753000"/>
            <a:ext cx="42840" cy="612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1936800" y="3753000"/>
            <a:ext cx="42840" cy="612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2004840" y="3753000"/>
            <a:ext cx="41400" cy="612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2071800" y="3753000"/>
            <a:ext cx="42840" cy="612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2138400" y="3753000"/>
            <a:ext cx="42840" cy="612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2205000" y="3753000"/>
            <a:ext cx="42840" cy="612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2273400" y="3753000"/>
            <a:ext cx="41040" cy="612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2340000" y="3753000"/>
            <a:ext cx="42840" cy="612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2406600" y="3753000"/>
            <a:ext cx="42840" cy="612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2473200" y="3753000"/>
            <a:ext cx="42840" cy="612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2541600" y="3753000"/>
            <a:ext cx="41400" cy="612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2608200" y="3753000"/>
            <a:ext cx="42840" cy="612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2674800" y="3753000"/>
            <a:ext cx="42840" cy="612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2741760" y="3753000"/>
            <a:ext cx="42840" cy="612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2809800" y="3753000"/>
            <a:ext cx="41400" cy="612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2876400" y="3753000"/>
            <a:ext cx="42840" cy="612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2943360" y="3753000"/>
            <a:ext cx="42840" cy="612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3009960" y="3753000"/>
            <a:ext cx="42840" cy="612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3078000" y="3753000"/>
            <a:ext cx="41400" cy="612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3144960" y="3753000"/>
            <a:ext cx="42840" cy="612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3211560" y="3753000"/>
            <a:ext cx="42840" cy="612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3278160" y="3753000"/>
            <a:ext cx="42840" cy="612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3346560" y="3753000"/>
            <a:ext cx="41040" cy="612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3413160" y="3753000"/>
            <a:ext cx="42840" cy="612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3479760" y="3753000"/>
            <a:ext cx="42840" cy="612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3546360" y="3753000"/>
            <a:ext cx="42840" cy="612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3614760" y="3753000"/>
            <a:ext cx="41400" cy="612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3681360" y="3753000"/>
            <a:ext cx="42840" cy="612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3747960" y="3753000"/>
            <a:ext cx="42840" cy="612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3814920" y="3753000"/>
            <a:ext cx="42840" cy="612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3882960" y="3753000"/>
            <a:ext cx="41400" cy="612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3949560" y="3753000"/>
            <a:ext cx="42840" cy="612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4016520" y="3753000"/>
            <a:ext cx="42840" cy="612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4083120" y="3753000"/>
            <a:ext cx="42840" cy="612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4151160" y="3753000"/>
            <a:ext cx="41400" cy="612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4218120" y="3753000"/>
            <a:ext cx="42840" cy="612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4284720" y="3753000"/>
            <a:ext cx="19080" cy="612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1965240" y="2921040"/>
            <a:ext cx="4680" cy="4140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1965240" y="2987640"/>
            <a:ext cx="4680" cy="4284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1965240" y="3054240"/>
            <a:ext cx="4680" cy="4284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1965240" y="3121200"/>
            <a:ext cx="4680" cy="4284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1965240" y="3187800"/>
            <a:ext cx="4680" cy="4284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1965240" y="3255840"/>
            <a:ext cx="4680" cy="4284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1965240" y="3322800"/>
            <a:ext cx="4680" cy="4284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1965240" y="3389400"/>
            <a:ext cx="4680" cy="4284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1965240" y="3456000"/>
            <a:ext cx="4680" cy="4284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1965240" y="3524400"/>
            <a:ext cx="4680" cy="4284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1965240" y="3591000"/>
            <a:ext cx="4680" cy="4284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1965240" y="3657600"/>
            <a:ext cx="4680" cy="4284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1965240" y="3724200"/>
            <a:ext cx="4680" cy="4284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1965240" y="3792600"/>
            <a:ext cx="4680" cy="4284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1965240" y="3859200"/>
            <a:ext cx="4680" cy="4284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1965240" y="3925800"/>
            <a:ext cx="4680" cy="4284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1965240" y="3992400"/>
            <a:ext cx="4680" cy="4320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1965240" y="4060800"/>
            <a:ext cx="4680" cy="4140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1965240" y="4127400"/>
            <a:ext cx="4680" cy="4284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1965240" y="4194000"/>
            <a:ext cx="4680" cy="4320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1965240" y="4260960"/>
            <a:ext cx="4680" cy="4284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1965240" y="4329000"/>
            <a:ext cx="4680" cy="4140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1965240" y="4395960"/>
            <a:ext cx="4680" cy="4284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1965240" y="4462560"/>
            <a:ext cx="4680" cy="4284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1965240" y="4529160"/>
            <a:ext cx="4680" cy="4284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1965240" y="4595760"/>
            <a:ext cx="4680" cy="4284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1965240" y="4664160"/>
            <a:ext cx="4680" cy="4284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1965240" y="4730760"/>
            <a:ext cx="4680" cy="4284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1965240" y="4797360"/>
            <a:ext cx="4680" cy="4284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1965240" y="4863960"/>
            <a:ext cx="4680" cy="4284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1965240" y="4932360"/>
            <a:ext cx="4680" cy="4284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1965240" y="4998960"/>
            <a:ext cx="4680" cy="4284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1965240" y="5065560"/>
            <a:ext cx="4680" cy="4284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1965240" y="5132520"/>
            <a:ext cx="4680" cy="4284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1965240" y="5200560"/>
            <a:ext cx="4680" cy="4284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1965240" y="5267160"/>
            <a:ext cx="4680" cy="4320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1965240" y="5334120"/>
            <a:ext cx="4680" cy="4284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1965240" y="5400720"/>
            <a:ext cx="4680" cy="2232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3132000" y="2921040"/>
            <a:ext cx="5040" cy="4140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3132000" y="2987640"/>
            <a:ext cx="5040" cy="4284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3132000" y="3054240"/>
            <a:ext cx="5040" cy="4284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3132000" y="3121200"/>
            <a:ext cx="5040" cy="4284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3132000" y="3187800"/>
            <a:ext cx="5040" cy="4284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3132000" y="3255840"/>
            <a:ext cx="5040" cy="4284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3132000" y="3322800"/>
            <a:ext cx="5040" cy="4284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3132000" y="3389400"/>
            <a:ext cx="5040" cy="4284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3132000" y="3456000"/>
            <a:ext cx="5040" cy="4284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3132000" y="3524400"/>
            <a:ext cx="5040" cy="4284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3132000" y="3591000"/>
            <a:ext cx="5040" cy="4284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3132000" y="3657600"/>
            <a:ext cx="5040" cy="4284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3132000" y="3724200"/>
            <a:ext cx="5040" cy="4284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3132000" y="3792600"/>
            <a:ext cx="5040" cy="4284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3132000" y="3859200"/>
            <a:ext cx="5040" cy="4284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3132000" y="3925800"/>
            <a:ext cx="5040" cy="4284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3132000" y="3992400"/>
            <a:ext cx="5040" cy="4320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3132000" y="4060800"/>
            <a:ext cx="5040" cy="4140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3132000" y="4127400"/>
            <a:ext cx="5040" cy="4284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3132000" y="4194000"/>
            <a:ext cx="5040" cy="4320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3132000" y="4260960"/>
            <a:ext cx="5040" cy="4284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3132000" y="4329000"/>
            <a:ext cx="5040" cy="4140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3132000" y="4395960"/>
            <a:ext cx="5040" cy="4284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3132000" y="4462560"/>
            <a:ext cx="5040" cy="4284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3132000" y="4529160"/>
            <a:ext cx="5040" cy="428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3132000" y="4595760"/>
            <a:ext cx="5040" cy="428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3132000" y="4664160"/>
            <a:ext cx="5040" cy="4284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3132000" y="4730760"/>
            <a:ext cx="5040" cy="4284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3132000" y="4797360"/>
            <a:ext cx="5040" cy="4284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3132000" y="4863960"/>
            <a:ext cx="5040" cy="4284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3132000" y="4932360"/>
            <a:ext cx="5040" cy="4284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3132000" y="4998960"/>
            <a:ext cx="5040" cy="4284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3132000" y="5065560"/>
            <a:ext cx="5040" cy="4284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3132000" y="5132520"/>
            <a:ext cx="5040" cy="4284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3132000" y="5200560"/>
            <a:ext cx="5040" cy="4284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3132000" y="5267160"/>
            <a:ext cx="5040" cy="4320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3132000" y="5334120"/>
            <a:ext cx="5040" cy="4284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3132000" y="5400720"/>
            <a:ext cx="5040" cy="22320"/>
          </a:xfrm>
          <a:prstGeom prst="rect">
            <a:avLst/>
          </a:prstGeom>
          <a:solidFill>
            <a:srgbClr val="33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800280" y="2922480"/>
            <a:ext cx="3501720" cy="24973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800280" y="2922480"/>
            <a:ext cx="1440" cy="2497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744480" y="541980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744480" y="4587840"/>
            <a:ext cx="55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744480" y="3755880"/>
            <a:ext cx="55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800280" y="5419800"/>
            <a:ext cx="3501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 flipV="1">
            <a:off x="800280" y="541944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 flipV="1">
            <a:off x="1384200" y="541944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 flipV="1">
            <a:off x="1968480" y="541944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 flipV="1">
            <a:off x="2550960" y="541944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 flipV="1">
            <a:off x="3135240" y="541944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 flipV="1">
            <a:off x="3718080" y="541944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 flipV="1">
            <a:off x="800280" y="541980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 flipV="1">
            <a:off x="1968480" y="541980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 flipV="1">
            <a:off x="3135240" y="541980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 flipV="1">
            <a:off x="800280" y="4130280"/>
            <a:ext cx="510840" cy="12891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 flipV="1">
            <a:off x="1311120" y="4038480"/>
            <a:ext cx="49320" cy="921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 flipV="1">
            <a:off x="1360440" y="3921120"/>
            <a:ext cx="84240" cy="117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 flipV="1">
            <a:off x="1444680" y="3762000"/>
            <a:ext cx="149040" cy="158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 flipV="1">
            <a:off x="1593720" y="3745080"/>
            <a:ext cx="20880" cy="17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 flipV="1">
            <a:off x="1614600" y="3604680"/>
            <a:ext cx="179280" cy="1400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 flipV="1">
            <a:off x="1793880" y="3598560"/>
            <a:ext cx="7920" cy="61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 flipV="1">
            <a:off x="1801800" y="3505320"/>
            <a:ext cx="154080" cy="93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 flipV="1">
            <a:off x="1955880" y="3501720"/>
            <a:ext cx="3240" cy="3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 flipV="1">
            <a:off x="1959120" y="3346560"/>
            <a:ext cx="288720" cy="1555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 flipV="1">
            <a:off x="2247840" y="3013200"/>
            <a:ext cx="682560" cy="333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 flipV="1">
            <a:off x="2930400" y="2922480"/>
            <a:ext cx="196920" cy="907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 flipV="1">
            <a:off x="800280" y="4336920"/>
            <a:ext cx="614160" cy="10828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 flipV="1">
            <a:off x="1414440" y="4233960"/>
            <a:ext cx="81000" cy="102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 flipV="1">
            <a:off x="1495440" y="4177800"/>
            <a:ext cx="52200" cy="55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 flipV="1">
            <a:off x="1547640" y="4145040"/>
            <a:ext cx="38160" cy="331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 flipV="1">
            <a:off x="1585800" y="4137120"/>
            <a:ext cx="9720" cy="7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 flipV="1">
            <a:off x="1595520" y="4105440"/>
            <a:ext cx="41040" cy="316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 flipV="1">
            <a:off x="1636560" y="4088880"/>
            <a:ext cx="25560" cy="16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 flipV="1">
            <a:off x="1662120" y="4078440"/>
            <a:ext cx="20520" cy="10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 flipV="1">
            <a:off x="1682640" y="4068360"/>
            <a:ext cx="17640" cy="97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 flipV="1">
            <a:off x="1700280" y="4052880"/>
            <a:ext cx="38160" cy="158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 flipV="1">
            <a:off x="1738440" y="3992400"/>
            <a:ext cx="161640" cy="604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 flipV="1">
            <a:off x="1900080" y="3825360"/>
            <a:ext cx="493920" cy="1666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 flipV="1">
            <a:off x="2394000" y="3784680"/>
            <a:ext cx="125280" cy="410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 flipV="1">
            <a:off x="2519280" y="3779640"/>
            <a:ext cx="15840" cy="46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 flipV="1">
            <a:off x="2535120" y="3546000"/>
            <a:ext cx="703440" cy="233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 flipV="1">
            <a:off x="3238560" y="3514680"/>
            <a:ext cx="96840" cy="316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 flipV="1">
            <a:off x="3335400" y="3457080"/>
            <a:ext cx="171360" cy="57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 flipV="1">
            <a:off x="3506760" y="3352320"/>
            <a:ext cx="335160" cy="104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 flipV="1">
            <a:off x="3841920" y="3300120"/>
            <a:ext cx="168120" cy="52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 flipV="1">
            <a:off x="4010040" y="3206880"/>
            <a:ext cx="291960" cy="93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 flipV="1">
            <a:off x="800280" y="4471560"/>
            <a:ext cx="569880" cy="9478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 flipV="1">
            <a:off x="1370160" y="4320720"/>
            <a:ext cx="128520" cy="1508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 flipV="1">
            <a:off x="1498680" y="4227480"/>
            <a:ext cx="98280" cy="93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 flipV="1">
            <a:off x="1596960" y="4159080"/>
            <a:ext cx="81000" cy="68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 flipV="1">
            <a:off x="1677960" y="4146120"/>
            <a:ext cx="15840" cy="12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 flipV="1">
            <a:off x="1693800" y="4145040"/>
            <a:ext cx="18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 flipV="1">
            <a:off x="1695600" y="4130640"/>
            <a:ext cx="2376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 flipV="1">
            <a:off x="1719360" y="4124160"/>
            <a:ext cx="11160" cy="64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 flipV="1">
            <a:off x="1730520" y="4106880"/>
            <a:ext cx="41040" cy="17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 flipV="1">
            <a:off x="1771560" y="4083120"/>
            <a:ext cx="61920" cy="23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 flipV="1">
            <a:off x="1833480" y="4067280"/>
            <a:ext cx="41400" cy="158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 flipV="1">
            <a:off x="1874880" y="4024080"/>
            <a:ext cx="133200" cy="428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 flipV="1">
            <a:off x="2008080" y="4022280"/>
            <a:ext cx="324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 flipV="1">
            <a:off x="2011320" y="3987360"/>
            <a:ext cx="111240" cy="34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 flipV="1">
            <a:off x="2122560" y="3784680"/>
            <a:ext cx="644400" cy="2030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 flipV="1">
            <a:off x="2766960" y="3754440"/>
            <a:ext cx="93600" cy="30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 flipV="1">
            <a:off x="2860560" y="3745080"/>
            <a:ext cx="28800" cy="9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 flipV="1">
            <a:off x="2889360" y="3619080"/>
            <a:ext cx="423720" cy="125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 flipV="1">
            <a:off x="3313080" y="3444480"/>
            <a:ext cx="585720" cy="174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 flipV="1">
            <a:off x="3898800" y="3403080"/>
            <a:ext cx="138240" cy="41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 flipV="1">
            <a:off x="4037040" y="3325680"/>
            <a:ext cx="264960" cy="77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 flipV="1">
            <a:off x="800280" y="4338360"/>
            <a:ext cx="587160" cy="1081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 flipV="1">
            <a:off x="1387440" y="4142880"/>
            <a:ext cx="150840" cy="1954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 flipV="1">
            <a:off x="1538280" y="4135320"/>
            <a:ext cx="7920" cy="7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 flipV="1">
            <a:off x="1546200" y="4100040"/>
            <a:ext cx="36360" cy="34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 flipV="1">
            <a:off x="1582560" y="4076640"/>
            <a:ext cx="28800" cy="23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 flipV="1">
            <a:off x="1611360" y="4073040"/>
            <a:ext cx="3240" cy="3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 flipV="1">
            <a:off x="1614600" y="4061880"/>
            <a:ext cx="19080" cy="111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 flipV="1">
            <a:off x="1633680" y="4008240"/>
            <a:ext cx="88920" cy="53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 flipV="1">
            <a:off x="1722600" y="4002120"/>
            <a:ext cx="15840" cy="64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 flipV="1">
            <a:off x="1738440" y="3951000"/>
            <a:ext cx="117360" cy="50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 flipV="1">
            <a:off x="1855800" y="3916080"/>
            <a:ext cx="90360" cy="34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 flipV="1">
            <a:off x="1946160" y="3878280"/>
            <a:ext cx="108000" cy="381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 flipV="1">
            <a:off x="2054160" y="3825720"/>
            <a:ext cx="150840" cy="52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 flipV="1">
            <a:off x="2205000" y="3784680"/>
            <a:ext cx="115920" cy="410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 flipV="1">
            <a:off x="2320920" y="3579480"/>
            <a:ext cx="596880" cy="2048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 flipV="1">
            <a:off x="2917800" y="3396960"/>
            <a:ext cx="557280" cy="1825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 flipV="1">
            <a:off x="3475080" y="3371400"/>
            <a:ext cx="79200" cy="25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 flipV="1">
            <a:off x="3554280" y="3341520"/>
            <a:ext cx="92160" cy="30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 flipV="1">
            <a:off x="3646440" y="3217680"/>
            <a:ext cx="382680" cy="1234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 flipV="1">
            <a:off x="4029120" y="3128760"/>
            <a:ext cx="272880" cy="88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 flipV="1">
            <a:off x="800280" y="4579560"/>
            <a:ext cx="518760" cy="8398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 flipV="1">
            <a:off x="1319040" y="4349520"/>
            <a:ext cx="209880" cy="2300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 flipV="1">
            <a:off x="1528920" y="4223880"/>
            <a:ext cx="137880" cy="125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 flipV="1">
            <a:off x="1666800" y="4214880"/>
            <a:ext cx="9720" cy="9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 flipV="1">
            <a:off x="1676520" y="4209840"/>
            <a:ext cx="6120" cy="46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 flipV="1">
            <a:off x="1682640" y="4179960"/>
            <a:ext cx="46080" cy="30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 flipV="1">
            <a:off x="1728720" y="4149720"/>
            <a:ext cx="47520" cy="30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 flipV="1">
            <a:off x="1776240" y="4148280"/>
            <a:ext cx="1800" cy="1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 flipV="1">
            <a:off x="1778040" y="4146120"/>
            <a:ext cx="468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 flipV="1">
            <a:off x="1782720" y="4142880"/>
            <a:ext cx="6480" cy="3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 flipV="1">
            <a:off x="1789200" y="4107960"/>
            <a:ext cx="73080" cy="34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 flipV="1">
            <a:off x="1862280" y="4105440"/>
            <a:ext cx="7920" cy="28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 flipV="1">
            <a:off x="1870200" y="4078080"/>
            <a:ext cx="71280" cy="27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 flipV="1">
            <a:off x="1941480" y="4056120"/>
            <a:ext cx="65160" cy="22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 flipV="1">
            <a:off x="2006640" y="4000680"/>
            <a:ext cx="176040" cy="55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 flipV="1">
            <a:off x="2182680" y="3887640"/>
            <a:ext cx="393840" cy="1130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 flipV="1">
            <a:off x="2576520" y="3585960"/>
            <a:ext cx="1046160" cy="301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 flipV="1">
            <a:off x="3622680" y="3527280"/>
            <a:ext cx="200160" cy="590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 flipV="1">
            <a:off x="3822840" y="3392640"/>
            <a:ext cx="466560" cy="134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 flipV="1">
            <a:off x="4289400" y="3389040"/>
            <a:ext cx="12600" cy="3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 flipV="1">
            <a:off x="800280" y="4614840"/>
            <a:ext cx="506160" cy="804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 flipV="1">
            <a:off x="1306440" y="4375080"/>
            <a:ext cx="222480" cy="239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 flipV="1">
            <a:off x="1528920" y="4272120"/>
            <a:ext cx="114120" cy="102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 flipV="1">
            <a:off x="1643040" y="4247640"/>
            <a:ext cx="27000" cy="241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 flipV="1">
            <a:off x="1670040" y="4230720"/>
            <a:ext cx="27000" cy="17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 flipV="1">
            <a:off x="1697040" y="4219200"/>
            <a:ext cx="14400" cy="111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 flipV="1">
            <a:off x="1711440" y="4198680"/>
            <a:ext cx="31680" cy="205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 flipV="1">
            <a:off x="1743120" y="4167360"/>
            <a:ext cx="54000" cy="31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 flipV="1">
            <a:off x="1797120" y="4145040"/>
            <a:ext cx="39600" cy="223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 flipV="1">
            <a:off x="1836720" y="4132080"/>
            <a:ext cx="28440" cy="12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 flipV="1">
            <a:off x="1865160" y="4103640"/>
            <a:ext cx="61920" cy="28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 flipV="1">
            <a:off x="1927080" y="4100040"/>
            <a:ext cx="11160" cy="3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 flipV="1">
            <a:off x="1938240" y="4065120"/>
            <a:ext cx="87480" cy="34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 flipV="1">
            <a:off x="2025720" y="4060440"/>
            <a:ext cx="15840" cy="46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 flipV="1">
            <a:off x="2041560" y="4060800"/>
            <a:ext cx="3240" cy="1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 flipV="1">
            <a:off x="2044800" y="4043520"/>
            <a:ext cx="55440" cy="17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 flipV="1">
            <a:off x="2100240" y="3954240"/>
            <a:ext cx="304920" cy="88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 flipV="1">
            <a:off x="2405160" y="3603240"/>
            <a:ext cx="1234800" cy="351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 flipV="1">
            <a:off x="3639960" y="3541680"/>
            <a:ext cx="214560" cy="61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 flipV="1">
            <a:off x="3854520" y="3476160"/>
            <a:ext cx="228600" cy="651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 flipV="1">
            <a:off x="4083120" y="3472920"/>
            <a:ext cx="15840" cy="3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 flipV="1">
            <a:off x="4098960" y="3446640"/>
            <a:ext cx="92160" cy="26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 flipV="1">
            <a:off x="4191120" y="3417840"/>
            <a:ext cx="98280" cy="28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 flipV="1">
            <a:off x="4289400" y="3416400"/>
            <a:ext cx="12600" cy="1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2009880" y="3387600"/>
            <a:ext cx="101520" cy="10332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96" y="0"/>
                </a:moveTo>
                <a:lnTo>
                  <a:pt x="193" y="193"/>
                </a:lnTo>
                <a:lnTo>
                  <a:pt x="0" y="193"/>
                </a:lnTo>
                <a:lnTo>
                  <a:pt x="96" y="0"/>
                </a:lnTo>
                <a:close/>
              </a:path>
            </a:pathLst>
          </a:custGeom>
          <a:solidFill>
            <a:srgbClr val="ff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2570040" y="3703680"/>
            <a:ext cx="101880" cy="10152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97" y="0"/>
                </a:moveTo>
                <a:lnTo>
                  <a:pt x="193" y="193"/>
                </a:lnTo>
                <a:lnTo>
                  <a:pt x="0" y="193"/>
                </a:lnTo>
                <a:lnTo>
                  <a:pt x="97" y="0"/>
                </a:lnTo>
                <a:close/>
              </a:path>
            </a:pathLst>
          </a:custGeom>
          <a:solidFill>
            <a:srgbClr val="ff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2149560" y="3909960"/>
            <a:ext cx="102960" cy="10152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96" y="0"/>
                </a:moveTo>
                <a:lnTo>
                  <a:pt x="193" y="193"/>
                </a:lnTo>
                <a:lnTo>
                  <a:pt x="0" y="193"/>
                </a:lnTo>
                <a:lnTo>
                  <a:pt x="96" y="0"/>
                </a:lnTo>
                <a:close/>
              </a:path>
            </a:pathLst>
          </a:custGeom>
          <a:solidFill>
            <a:srgbClr val="ff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2336760" y="3703680"/>
            <a:ext cx="101520" cy="10152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96" y="0"/>
                </a:moveTo>
                <a:lnTo>
                  <a:pt x="193" y="193"/>
                </a:lnTo>
                <a:lnTo>
                  <a:pt x="0" y="193"/>
                </a:lnTo>
                <a:lnTo>
                  <a:pt x="96" y="0"/>
                </a:lnTo>
                <a:close/>
              </a:path>
            </a:pathLst>
          </a:custGeom>
          <a:solidFill>
            <a:srgbClr val="ff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1776240" y="4073400"/>
            <a:ext cx="101880" cy="10332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97" y="0"/>
                </a:moveTo>
                <a:lnTo>
                  <a:pt x="193" y="193"/>
                </a:lnTo>
                <a:lnTo>
                  <a:pt x="0" y="193"/>
                </a:lnTo>
                <a:lnTo>
                  <a:pt x="97" y="0"/>
                </a:lnTo>
                <a:close/>
              </a:path>
            </a:pathLst>
          </a:custGeom>
          <a:solidFill>
            <a:srgbClr val="ff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1728720" y="4125960"/>
            <a:ext cx="103320" cy="10152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96" y="0"/>
                </a:moveTo>
                <a:lnTo>
                  <a:pt x="193" y="193"/>
                </a:lnTo>
                <a:lnTo>
                  <a:pt x="0" y="193"/>
                </a:lnTo>
                <a:lnTo>
                  <a:pt x="96" y="0"/>
                </a:lnTo>
                <a:close/>
              </a:path>
            </a:pathLst>
          </a:custGeom>
          <a:solidFill>
            <a:srgbClr val="ff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578880" y="531972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303480" y="4487760"/>
            <a:ext cx="40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000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317520" y="3656160"/>
            <a:ext cx="40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000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759600" y="558000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1888200" y="5580000"/>
            <a:ext cx="20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5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3054960" y="5580000"/>
            <a:ext cx="20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3745080" y="5533920"/>
            <a:ext cx="17604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i="1" lang="it-IT" sz="16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4020120" y="5567400"/>
            <a:ext cx="331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(cm)</a:t>
            </a:r>
            <a:endParaRPr b="0" lang="en-US" sz="13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228600" y="2884320"/>
            <a:ext cx="63180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429840" y="2900520"/>
            <a:ext cx="10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15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569880" y="299412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405360" y="3151080"/>
            <a:ext cx="354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Comic Sans MS"/>
              </a:rPr>
              <a:t>(kN) </a:t>
            </a:r>
            <a:endParaRPr b="0" lang="en-US" sz="13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938" name=""/>
          <p:cNvGrpSpPr/>
          <p:nvPr/>
        </p:nvGrpSpPr>
        <p:grpSpPr>
          <a:xfrm>
            <a:off x="2336760" y="3044880"/>
            <a:ext cx="211320" cy="189000"/>
            <a:chOff x="2336760" y="3044880"/>
            <a:chExt cx="211320" cy="189000"/>
          </a:xfrm>
        </p:grpSpPr>
        <p:sp>
          <p:nvSpPr>
            <p:cNvPr id="1939" name=""/>
            <p:cNvSpPr/>
            <p:nvPr/>
          </p:nvSpPr>
          <p:spPr>
            <a:xfrm>
              <a:off x="2336760" y="3044880"/>
              <a:ext cx="177840" cy="154080"/>
            </a:xfrm>
            <a:custGeom>
              <a:avLst/>
              <a:gdLst/>
              <a:ahLst/>
              <a:rect l="l" t="t" r="r" b="b"/>
              <a:pathLst>
                <a:path w="334" h="293">
                  <a:moveTo>
                    <a:pt x="334" y="293"/>
                  </a:moveTo>
                  <a:lnTo>
                    <a:pt x="138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2482920" y="3166920"/>
              <a:ext cx="65160" cy="66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1941" name=""/>
          <p:cNvSpPr/>
          <p:nvPr/>
        </p:nvSpPr>
        <p:spPr>
          <a:xfrm>
            <a:off x="2060280" y="2960640"/>
            <a:ext cx="21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1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942" name=""/>
          <p:cNvGrpSpPr/>
          <p:nvPr/>
        </p:nvGrpSpPr>
        <p:grpSpPr>
          <a:xfrm>
            <a:off x="2982960" y="3639960"/>
            <a:ext cx="438120" cy="492480"/>
            <a:chOff x="2982960" y="3639960"/>
            <a:chExt cx="438120" cy="492480"/>
          </a:xfrm>
        </p:grpSpPr>
        <p:sp>
          <p:nvSpPr>
            <p:cNvPr id="1943" name=""/>
            <p:cNvSpPr/>
            <p:nvPr/>
          </p:nvSpPr>
          <p:spPr>
            <a:xfrm>
              <a:off x="2982960" y="3672000"/>
              <a:ext cx="403200" cy="460440"/>
            </a:xfrm>
            <a:custGeom>
              <a:avLst/>
              <a:gdLst/>
              <a:ahLst/>
              <a:rect l="l" t="t" r="r" b="b"/>
              <a:pathLst>
                <a:path w="761" h="870">
                  <a:moveTo>
                    <a:pt x="761" y="0"/>
                  </a:moveTo>
                  <a:lnTo>
                    <a:pt x="356" y="870"/>
                  </a:lnTo>
                  <a:lnTo>
                    <a:pt x="0" y="87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3354480" y="3639960"/>
              <a:ext cx="66600" cy="66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1945" name=""/>
          <p:cNvSpPr/>
          <p:nvPr/>
        </p:nvSpPr>
        <p:spPr>
          <a:xfrm>
            <a:off x="2329920" y="4014720"/>
            <a:ext cx="264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3 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2585880" y="3995640"/>
            <a:ext cx="58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2679120" y="4014720"/>
            <a:ext cx="264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4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948" name=""/>
          <p:cNvGrpSpPr/>
          <p:nvPr/>
        </p:nvGrpSpPr>
        <p:grpSpPr>
          <a:xfrm>
            <a:off x="2870280" y="3375000"/>
            <a:ext cx="207360" cy="198360"/>
            <a:chOff x="2870280" y="3375000"/>
            <a:chExt cx="207360" cy="198360"/>
          </a:xfrm>
        </p:grpSpPr>
        <p:sp>
          <p:nvSpPr>
            <p:cNvPr id="1949" name=""/>
            <p:cNvSpPr/>
            <p:nvPr/>
          </p:nvSpPr>
          <p:spPr>
            <a:xfrm>
              <a:off x="2870280" y="3375000"/>
              <a:ext cx="174240" cy="163440"/>
            </a:xfrm>
            <a:custGeom>
              <a:avLst/>
              <a:gdLst/>
              <a:ahLst/>
              <a:rect l="l" t="t" r="r" b="b"/>
              <a:pathLst>
                <a:path w="329" h="308">
                  <a:moveTo>
                    <a:pt x="329" y="308"/>
                  </a:moveTo>
                  <a:lnTo>
                    <a:pt x="154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3012840" y="3506760"/>
              <a:ext cx="64800" cy="66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1951" name=""/>
          <p:cNvSpPr/>
          <p:nvPr/>
        </p:nvSpPr>
        <p:spPr>
          <a:xfrm>
            <a:off x="2625120" y="3267000"/>
            <a:ext cx="21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2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952" name=""/>
          <p:cNvGrpSpPr/>
          <p:nvPr/>
        </p:nvGrpSpPr>
        <p:grpSpPr>
          <a:xfrm>
            <a:off x="3660840" y="3110040"/>
            <a:ext cx="243000" cy="272880"/>
            <a:chOff x="3660840" y="3110040"/>
            <a:chExt cx="243000" cy="272880"/>
          </a:xfrm>
        </p:grpSpPr>
        <p:sp>
          <p:nvSpPr>
            <p:cNvPr id="1953" name=""/>
            <p:cNvSpPr/>
            <p:nvPr/>
          </p:nvSpPr>
          <p:spPr>
            <a:xfrm>
              <a:off x="3660840" y="3110040"/>
              <a:ext cx="207720" cy="239760"/>
            </a:xfrm>
            <a:custGeom>
              <a:avLst/>
              <a:gdLst/>
              <a:ahLst/>
              <a:rect l="l" t="t" r="r" b="b"/>
              <a:pathLst>
                <a:path w="395" h="453">
                  <a:moveTo>
                    <a:pt x="395" y="453"/>
                  </a:moveTo>
                  <a:lnTo>
                    <a:pt x="165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3836880" y="3317760"/>
              <a:ext cx="6696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1955" name=""/>
          <p:cNvSpPr/>
          <p:nvPr/>
        </p:nvSpPr>
        <p:spPr>
          <a:xfrm>
            <a:off x="3396600" y="3025800"/>
            <a:ext cx="21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2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956" name=""/>
          <p:cNvGrpSpPr/>
          <p:nvPr/>
        </p:nvGrpSpPr>
        <p:grpSpPr>
          <a:xfrm>
            <a:off x="3422520" y="3260880"/>
            <a:ext cx="257400" cy="296640"/>
            <a:chOff x="3422520" y="3260880"/>
            <a:chExt cx="257400" cy="296640"/>
          </a:xfrm>
        </p:grpSpPr>
        <p:sp>
          <p:nvSpPr>
            <p:cNvPr id="1957" name=""/>
            <p:cNvSpPr/>
            <p:nvPr/>
          </p:nvSpPr>
          <p:spPr>
            <a:xfrm>
              <a:off x="3422520" y="3260880"/>
              <a:ext cx="223920" cy="261720"/>
            </a:xfrm>
            <a:custGeom>
              <a:avLst/>
              <a:gdLst/>
              <a:ahLst/>
              <a:rect l="l" t="t" r="r" b="b"/>
              <a:pathLst>
                <a:path w="423" h="496">
                  <a:moveTo>
                    <a:pt x="423" y="496"/>
                  </a:moveTo>
                  <a:lnTo>
                    <a:pt x="175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3614760" y="3490920"/>
              <a:ext cx="65160" cy="66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1959" name=""/>
          <p:cNvSpPr/>
          <p:nvPr/>
        </p:nvSpPr>
        <p:spPr>
          <a:xfrm>
            <a:off x="3144600" y="3178080"/>
            <a:ext cx="21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1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3309840" y="4929120"/>
            <a:ext cx="122400" cy="114480"/>
          </a:xfrm>
          <a:custGeom>
            <a:avLst/>
            <a:gdLst/>
            <a:ahLst/>
            <a:rect l="l" t="t" r="r" b="b"/>
            <a:pathLst>
              <a:path w="232" h="216">
                <a:moveTo>
                  <a:pt x="115" y="0"/>
                </a:moveTo>
                <a:lnTo>
                  <a:pt x="0" y="216"/>
                </a:lnTo>
                <a:lnTo>
                  <a:pt x="232" y="216"/>
                </a:lnTo>
                <a:lnTo>
                  <a:pt x="115" y="0"/>
                </a:lnTo>
                <a:close/>
              </a:path>
            </a:pathLst>
          </a:custGeom>
          <a:solidFill>
            <a:srgbClr val="ff00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2944800" y="4295880"/>
            <a:ext cx="141120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3498840" y="4884840"/>
            <a:ext cx="69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llasso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5216400" y="2890800"/>
            <a:ext cx="3565800" cy="25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6402240" y="2887560"/>
            <a:ext cx="6480" cy="428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6402240" y="2954160"/>
            <a:ext cx="6480" cy="432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6402240" y="3021120"/>
            <a:ext cx="6480" cy="428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6402240" y="3089160"/>
            <a:ext cx="6480" cy="428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6402240" y="3156120"/>
            <a:ext cx="6480" cy="428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6402240" y="3222720"/>
            <a:ext cx="6480" cy="428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6402240" y="3290760"/>
            <a:ext cx="6480" cy="428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6402240" y="3357720"/>
            <a:ext cx="6480" cy="428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6402240" y="3424320"/>
            <a:ext cx="6480" cy="428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6402240" y="3490920"/>
            <a:ext cx="6480" cy="428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6402240" y="3559320"/>
            <a:ext cx="6480" cy="428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6402240" y="3625920"/>
            <a:ext cx="6480" cy="428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6402240" y="3692520"/>
            <a:ext cx="6480" cy="428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6402240" y="3760920"/>
            <a:ext cx="6480" cy="410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6402240" y="3827520"/>
            <a:ext cx="6480" cy="428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6402240" y="3894120"/>
            <a:ext cx="6480" cy="428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6402240" y="3960720"/>
            <a:ext cx="6480" cy="428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6402240" y="4029120"/>
            <a:ext cx="6480" cy="428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6402240" y="4095720"/>
            <a:ext cx="6480" cy="428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6402240" y="4162320"/>
            <a:ext cx="6480" cy="428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6402240" y="4230720"/>
            <a:ext cx="6480" cy="414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6402240" y="4297320"/>
            <a:ext cx="6480" cy="428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6402240" y="4363920"/>
            <a:ext cx="6480" cy="428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6402240" y="4430880"/>
            <a:ext cx="6480" cy="428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6402240" y="4498920"/>
            <a:ext cx="6480" cy="428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6402240" y="4565520"/>
            <a:ext cx="6480" cy="428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6402240" y="4632480"/>
            <a:ext cx="6480" cy="428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6402240" y="4699080"/>
            <a:ext cx="6480" cy="428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6402240" y="4767120"/>
            <a:ext cx="6480" cy="428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6402240" y="4834080"/>
            <a:ext cx="6480" cy="428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6402240" y="4900680"/>
            <a:ext cx="6480" cy="428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6402240" y="4968720"/>
            <a:ext cx="6480" cy="414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6402240" y="5035680"/>
            <a:ext cx="6480" cy="428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6402240" y="5102280"/>
            <a:ext cx="6480" cy="428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6402240" y="5168880"/>
            <a:ext cx="6480" cy="428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6402240" y="5237280"/>
            <a:ext cx="6480" cy="428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6402240" y="5303880"/>
            <a:ext cx="6480" cy="428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6402240" y="5370480"/>
            <a:ext cx="6480" cy="428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6402240" y="5438880"/>
            <a:ext cx="6480" cy="205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7589880" y="2887560"/>
            <a:ext cx="6480" cy="428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7589880" y="2954160"/>
            <a:ext cx="6480" cy="432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7589880" y="3021120"/>
            <a:ext cx="6480" cy="428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7589880" y="3089160"/>
            <a:ext cx="6480" cy="428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7589880" y="3156120"/>
            <a:ext cx="6480" cy="428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7589880" y="3222720"/>
            <a:ext cx="6480" cy="428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7589880" y="3290760"/>
            <a:ext cx="6480" cy="428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7589880" y="3357720"/>
            <a:ext cx="6480" cy="428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7589880" y="3424320"/>
            <a:ext cx="6480" cy="428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7589880" y="3490920"/>
            <a:ext cx="6480" cy="428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7589880" y="3559320"/>
            <a:ext cx="6480" cy="428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7589880" y="3625920"/>
            <a:ext cx="6480" cy="428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7589880" y="3692520"/>
            <a:ext cx="6480" cy="428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7589880" y="3760920"/>
            <a:ext cx="6480" cy="410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7589880" y="3827520"/>
            <a:ext cx="6480" cy="428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7589880" y="3894120"/>
            <a:ext cx="6480" cy="428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7589880" y="3960720"/>
            <a:ext cx="6480" cy="428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7589880" y="4029120"/>
            <a:ext cx="6480" cy="428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7589880" y="4095720"/>
            <a:ext cx="6480" cy="428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7589880" y="4162320"/>
            <a:ext cx="6480" cy="428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7589880" y="4230720"/>
            <a:ext cx="6480" cy="414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7589880" y="4297320"/>
            <a:ext cx="6480" cy="428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7589880" y="4363920"/>
            <a:ext cx="6480" cy="428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7589880" y="4430880"/>
            <a:ext cx="6480" cy="428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7589880" y="4498920"/>
            <a:ext cx="6480" cy="428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7589880" y="4565520"/>
            <a:ext cx="6480" cy="428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7589880" y="4632480"/>
            <a:ext cx="6480" cy="428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7589880" y="4699080"/>
            <a:ext cx="6480" cy="428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7589880" y="4767120"/>
            <a:ext cx="6480" cy="428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7589880" y="4834080"/>
            <a:ext cx="6480" cy="428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7589880" y="4900680"/>
            <a:ext cx="6480" cy="428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7589880" y="4968720"/>
            <a:ext cx="6480" cy="414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7589880" y="5035680"/>
            <a:ext cx="6480" cy="428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7589880" y="5102280"/>
            <a:ext cx="6480" cy="428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7589880" y="5168880"/>
            <a:ext cx="6480" cy="428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7589880" y="5237280"/>
            <a:ext cx="6480" cy="428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7589880" y="5303880"/>
            <a:ext cx="6480" cy="428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7589880" y="5370480"/>
            <a:ext cx="6480" cy="428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7589880" y="5438880"/>
            <a:ext cx="6480" cy="205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5216400" y="2890800"/>
            <a:ext cx="3565800" cy="2567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5216400" y="2890800"/>
            <a:ext cx="1800" cy="2567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5216400" y="5457960"/>
            <a:ext cx="3816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5216400" y="524340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5216400" y="502920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5216400" y="481500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5216400" y="460044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5216400" y="438768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5216400" y="417348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5216400" y="395928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5216400" y="374508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5216400" y="353232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5216400" y="331776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5216400" y="310356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5164200" y="5457960"/>
            <a:ext cx="104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5164200" y="4600440"/>
            <a:ext cx="104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5164200" y="3745080"/>
            <a:ext cx="104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5216400" y="5457960"/>
            <a:ext cx="356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 flipV="1">
            <a:off x="5216400" y="5417640"/>
            <a:ext cx="1800" cy="3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 flipV="1">
            <a:off x="5810400" y="5417640"/>
            <a:ext cx="144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 flipV="1">
            <a:off x="6405480" y="5417640"/>
            <a:ext cx="180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 flipV="1">
            <a:off x="6999120" y="5417640"/>
            <a:ext cx="180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 flipV="1">
            <a:off x="7593120" y="5417640"/>
            <a:ext cx="144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 flipV="1">
            <a:off x="8186760" y="5417640"/>
            <a:ext cx="144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 flipV="1">
            <a:off x="5216400" y="5457600"/>
            <a:ext cx="1800" cy="50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 flipV="1">
            <a:off x="6405480" y="5457600"/>
            <a:ext cx="1800" cy="50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 flipV="1">
            <a:off x="7593120" y="5457600"/>
            <a:ext cx="1440" cy="50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 flipH="1">
            <a:off x="6743520" y="2890800"/>
            <a:ext cx="98280" cy="212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 flipH="1">
            <a:off x="6617880" y="3103560"/>
            <a:ext cx="125640" cy="214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 flipH="1">
            <a:off x="6518160" y="3317760"/>
            <a:ext cx="100080" cy="214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 flipH="1">
            <a:off x="6405120" y="3532320"/>
            <a:ext cx="112680" cy="212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 flipH="1">
            <a:off x="6310440" y="3745080"/>
            <a:ext cx="95040" cy="214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 flipH="1">
            <a:off x="6190920" y="3959280"/>
            <a:ext cx="119160" cy="214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 flipH="1">
            <a:off x="6071760" y="4173480"/>
            <a:ext cx="119160" cy="214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 flipH="1">
            <a:off x="5935320" y="4387680"/>
            <a:ext cx="136440" cy="212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 flipH="1">
            <a:off x="5797440" y="4600440"/>
            <a:ext cx="138240" cy="214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 flipH="1">
            <a:off x="5632560" y="4815000"/>
            <a:ext cx="164880" cy="214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 flipH="1">
            <a:off x="5433840" y="5029200"/>
            <a:ext cx="198720" cy="214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 flipH="1">
            <a:off x="5216400" y="5243400"/>
            <a:ext cx="217440" cy="214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 flipH="1">
            <a:off x="7391160" y="2890800"/>
            <a:ext cx="129960" cy="212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 flipH="1">
            <a:off x="7067520" y="3103560"/>
            <a:ext cx="324000" cy="214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 flipH="1">
            <a:off x="6873840" y="3317760"/>
            <a:ext cx="193680" cy="214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 flipH="1">
            <a:off x="6616800" y="3532320"/>
            <a:ext cx="257040" cy="212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 flipH="1">
            <a:off x="6411600" y="3745080"/>
            <a:ext cx="204840" cy="214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 flipH="1">
            <a:off x="6190920" y="3959280"/>
            <a:ext cx="220680" cy="214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 flipH="1">
            <a:off x="5999040" y="4173480"/>
            <a:ext cx="192240" cy="214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 flipH="1">
            <a:off x="5813280" y="4387680"/>
            <a:ext cx="185760" cy="212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 flipH="1">
            <a:off x="5656320" y="4600440"/>
            <a:ext cx="156960" cy="214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 flipH="1">
            <a:off x="5506560" y="4815000"/>
            <a:ext cx="149400" cy="214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 flipH="1">
            <a:off x="5360760" y="5029200"/>
            <a:ext cx="145800" cy="214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 flipH="1">
            <a:off x="5216400" y="5243400"/>
            <a:ext cx="144720" cy="214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 flipH="1">
            <a:off x="6883560" y="2890800"/>
            <a:ext cx="123840" cy="212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 flipH="1">
            <a:off x="6563880" y="3103560"/>
            <a:ext cx="319320" cy="214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 flipH="1">
            <a:off x="6391440" y="3317760"/>
            <a:ext cx="172800" cy="214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 flipH="1">
            <a:off x="6167520" y="3532320"/>
            <a:ext cx="223920" cy="212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 flipH="1">
            <a:off x="6005520" y="3745080"/>
            <a:ext cx="162000" cy="214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 flipH="1">
            <a:off x="5834160" y="3959280"/>
            <a:ext cx="171360" cy="214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 flipH="1">
            <a:off x="5697360" y="4173480"/>
            <a:ext cx="136800" cy="214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 flipH="1">
            <a:off x="5568480" y="4387680"/>
            <a:ext cx="128520" cy="212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 flipH="1">
            <a:off x="5470200" y="4600440"/>
            <a:ext cx="98280" cy="214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 flipH="1">
            <a:off x="5381280" y="4815000"/>
            <a:ext cx="88920" cy="214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 flipH="1">
            <a:off x="5297400" y="5029200"/>
            <a:ext cx="84240" cy="214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 flipH="1">
            <a:off x="5216040" y="5243400"/>
            <a:ext cx="81000" cy="214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 flipH="1">
            <a:off x="7137000" y="2890800"/>
            <a:ext cx="127080" cy="212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 flipH="1">
            <a:off x="6816240" y="3103560"/>
            <a:ext cx="320760" cy="214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 flipH="1">
            <a:off x="6651720" y="3317760"/>
            <a:ext cx="164880" cy="214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 flipH="1">
            <a:off x="6438600" y="3532320"/>
            <a:ext cx="212760" cy="212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 flipH="1">
            <a:off x="6278400" y="3745080"/>
            <a:ext cx="160560" cy="214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 flipH="1">
            <a:off x="6097680" y="3959280"/>
            <a:ext cx="180720" cy="214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 flipH="1">
            <a:off x="5938560" y="4173480"/>
            <a:ext cx="158760" cy="214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 flipH="1">
            <a:off x="5778360" y="4387680"/>
            <a:ext cx="160560" cy="212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 flipH="1">
            <a:off x="5638680" y="4600440"/>
            <a:ext cx="139680" cy="214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 flipH="1">
            <a:off x="5500440" y="4815000"/>
            <a:ext cx="137880" cy="214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 flipH="1">
            <a:off x="5357520" y="5029200"/>
            <a:ext cx="142920" cy="214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 flipH="1">
            <a:off x="5216040" y="5243400"/>
            <a:ext cx="141480" cy="214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 flipH="1">
            <a:off x="6403680" y="2890800"/>
            <a:ext cx="120600" cy="212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 flipH="1">
            <a:off x="6094440" y="3103560"/>
            <a:ext cx="309600" cy="214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 flipH="1">
            <a:off x="5952600" y="3317760"/>
            <a:ext cx="141480" cy="214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 flipH="1">
            <a:off x="5780160" y="3532320"/>
            <a:ext cx="172800" cy="212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 flipH="1">
            <a:off x="5672160" y="3745080"/>
            <a:ext cx="108000" cy="214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 flipH="1">
            <a:off x="5564160" y="3959280"/>
            <a:ext cx="108000" cy="214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 flipH="1">
            <a:off x="5479920" y="4173480"/>
            <a:ext cx="84240" cy="214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 flipH="1">
            <a:off x="5403600" y="4387680"/>
            <a:ext cx="75960" cy="212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 flipH="1">
            <a:off x="5342040" y="4600440"/>
            <a:ext cx="61920" cy="214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 flipH="1">
            <a:off x="5292360" y="4815000"/>
            <a:ext cx="49320" cy="214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 flipH="1">
            <a:off x="5250960" y="5029200"/>
            <a:ext cx="41400" cy="214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 flipH="1">
            <a:off x="5216040" y="5243400"/>
            <a:ext cx="34920" cy="214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 flipH="1">
            <a:off x="6345360" y="2890800"/>
            <a:ext cx="118800" cy="212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 flipH="1">
            <a:off x="6037200" y="3103560"/>
            <a:ext cx="308160" cy="214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 flipH="1">
            <a:off x="5900400" y="3317760"/>
            <a:ext cx="136440" cy="214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 flipH="1">
            <a:off x="5738760" y="3532320"/>
            <a:ext cx="162000" cy="212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 flipH="1">
            <a:off x="5640120" y="3745080"/>
            <a:ext cx="98280" cy="214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 flipH="1">
            <a:off x="5543280" y="3959280"/>
            <a:ext cx="96840" cy="214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 flipH="1">
            <a:off x="5463720" y="4173480"/>
            <a:ext cx="79560" cy="214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 flipH="1">
            <a:off x="5392800" y="4387680"/>
            <a:ext cx="71280" cy="212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 flipH="1">
            <a:off x="5333760" y="4600440"/>
            <a:ext cx="58680" cy="214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 flipH="1">
            <a:off x="5285880" y="4815000"/>
            <a:ext cx="47880" cy="214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 flipH="1">
            <a:off x="5246640" y="5029200"/>
            <a:ext cx="39600" cy="214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 flipH="1">
            <a:off x="5216400" y="5243400"/>
            <a:ext cx="30240" cy="214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5010840" y="536400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3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5010840" y="450864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3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5010840" y="365292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3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5174640" y="560556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3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6323400" y="560556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13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7510680" y="560556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13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8251920" y="5549760"/>
            <a:ext cx="6429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8207280" y="5535720"/>
            <a:ext cx="16704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8495640" y="553572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cm)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2150" name=""/>
          <p:cNvGrpSpPr/>
          <p:nvPr/>
        </p:nvGrpSpPr>
        <p:grpSpPr>
          <a:xfrm>
            <a:off x="5889600" y="4437000"/>
            <a:ext cx="477720" cy="349200"/>
            <a:chOff x="5889600" y="4437000"/>
            <a:chExt cx="477720" cy="349200"/>
          </a:xfrm>
        </p:grpSpPr>
        <p:sp>
          <p:nvSpPr>
            <p:cNvPr id="2151" name=""/>
            <p:cNvSpPr/>
            <p:nvPr/>
          </p:nvSpPr>
          <p:spPr>
            <a:xfrm>
              <a:off x="5921280" y="4468680"/>
              <a:ext cx="446040" cy="317520"/>
            </a:xfrm>
            <a:custGeom>
              <a:avLst/>
              <a:gdLst/>
              <a:ahLst/>
              <a:rect l="l" t="t" r="r" b="b"/>
              <a:pathLst>
                <a:path w="844" h="598">
                  <a:moveTo>
                    <a:pt x="0" y="0"/>
                  </a:moveTo>
                  <a:lnTo>
                    <a:pt x="449" y="598"/>
                  </a:lnTo>
                  <a:lnTo>
                    <a:pt x="844" y="59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5889600" y="4437000"/>
              <a:ext cx="65160" cy="66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2153" name=""/>
          <p:cNvSpPr/>
          <p:nvPr/>
        </p:nvSpPr>
        <p:spPr>
          <a:xfrm>
            <a:off x="6435000" y="4708440"/>
            <a:ext cx="21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2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2154" name=""/>
          <p:cNvGrpSpPr/>
          <p:nvPr/>
        </p:nvGrpSpPr>
        <p:grpSpPr>
          <a:xfrm>
            <a:off x="5595840" y="4983120"/>
            <a:ext cx="433440" cy="258840"/>
            <a:chOff x="5595840" y="4983120"/>
            <a:chExt cx="433440" cy="258840"/>
          </a:xfrm>
        </p:grpSpPr>
        <p:sp>
          <p:nvSpPr>
            <p:cNvPr id="2155" name=""/>
            <p:cNvSpPr/>
            <p:nvPr/>
          </p:nvSpPr>
          <p:spPr>
            <a:xfrm>
              <a:off x="5627520" y="5014800"/>
              <a:ext cx="401760" cy="227160"/>
            </a:xfrm>
            <a:custGeom>
              <a:avLst/>
              <a:gdLst/>
              <a:ahLst/>
              <a:rect l="l" t="t" r="r" b="b"/>
              <a:pathLst>
                <a:path w="758" h="428">
                  <a:moveTo>
                    <a:pt x="0" y="0"/>
                  </a:moveTo>
                  <a:lnTo>
                    <a:pt x="357" y="428"/>
                  </a:lnTo>
                  <a:lnTo>
                    <a:pt x="758" y="42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5595840" y="4983120"/>
              <a:ext cx="66600" cy="66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2157" name=""/>
          <p:cNvSpPr/>
          <p:nvPr/>
        </p:nvSpPr>
        <p:spPr>
          <a:xfrm>
            <a:off x="6082920" y="5162400"/>
            <a:ext cx="21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1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2158" name=""/>
          <p:cNvGrpSpPr/>
          <p:nvPr/>
        </p:nvGrpSpPr>
        <p:grpSpPr>
          <a:xfrm>
            <a:off x="5942160" y="3432240"/>
            <a:ext cx="944280" cy="588960"/>
            <a:chOff x="5942160" y="3432240"/>
            <a:chExt cx="944280" cy="588960"/>
          </a:xfrm>
        </p:grpSpPr>
        <p:sp>
          <p:nvSpPr>
            <p:cNvPr id="2159" name=""/>
            <p:cNvSpPr/>
            <p:nvPr/>
          </p:nvSpPr>
          <p:spPr>
            <a:xfrm>
              <a:off x="5973840" y="3463920"/>
              <a:ext cx="912600" cy="557280"/>
            </a:xfrm>
            <a:custGeom>
              <a:avLst/>
              <a:gdLst/>
              <a:ahLst/>
              <a:rect l="l" t="t" r="r" b="b"/>
              <a:pathLst>
                <a:path w="1726" h="1054">
                  <a:moveTo>
                    <a:pt x="0" y="0"/>
                  </a:moveTo>
                  <a:lnTo>
                    <a:pt x="919" y="1054"/>
                  </a:lnTo>
                  <a:lnTo>
                    <a:pt x="1726" y="105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942160" y="3432240"/>
              <a:ext cx="66600" cy="66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2161" name=""/>
          <p:cNvSpPr/>
          <p:nvPr/>
        </p:nvSpPr>
        <p:spPr>
          <a:xfrm>
            <a:off x="6948000" y="3933720"/>
            <a:ext cx="264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3 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7203960" y="3914640"/>
            <a:ext cx="58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7297200" y="3933720"/>
            <a:ext cx="264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4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4716360" y="2730600"/>
            <a:ext cx="6001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4915440" y="2744640"/>
            <a:ext cx="11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5059440" y="2846520"/>
            <a:ext cx="67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1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2167" name=""/>
          <p:cNvGrpSpPr/>
          <p:nvPr/>
        </p:nvGrpSpPr>
        <p:grpSpPr>
          <a:xfrm>
            <a:off x="5805360" y="4129200"/>
            <a:ext cx="363600" cy="385560"/>
            <a:chOff x="5805360" y="4129200"/>
            <a:chExt cx="363600" cy="385560"/>
          </a:xfrm>
        </p:grpSpPr>
        <p:sp>
          <p:nvSpPr>
            <p:cNvPr id="2168" name=""/>
            <p:cNvSpPr/>
            <p:nvPr/>
          </p:nvSpPr>
          <p:spPr>
            <a:xfrm>
              <a:off x="5837400" y="4160880"/>
              <a:ext cx="331560" cy="353880"/>
            </a:xfrm>
            <a:custGeom>
              <a:avLst/>
              <a:gdLst/>
              <a:ahLst/>
              <a:rect l="l" t="t" r="r" b="b"/>
              <a:pathLst>
                <a:path w="626" h="671">
                  <a:moveTo>
                    <a:pt x="0" y="0"/>
                  </a:moveTo>
                  <a:lnTo>
                    <a:pt x="424" y="671"/>
                  </a:lnTo>
                  <a:lnTo>
                    <a:pt x="626" y="67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5805360" y="4129200"/>
              <a:ext cx="66960" cy="64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2170" name=""/>
          <p:cNvSpPr/>
          <p:nvPr/>
        </p:nvSpPr>
        <p:spPr>
          <a:xfrm>
            <a:off x="6211440" y="4440240"/>
            <a:ext cx="21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1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2171" name=""/>
          <p:cNvGrpSpPr/>
          <p:nvPr/>
        </p:nvGrpSpPr>
        <p:grpSpPr>
          <a:xfrm>
            <a:off x="6157800" y="4021200"/>
            <a:ext cx="335160" cy="295200"/>
            <a:chOff x="6157800" y="4021200"/>
            <a:chExt cx="335160" cy="295200"/>
          </a:xfrm>
        </p:grpSpPr>
        <p:sp>
          <p:nvSpPr>
            <p:cNvPr id="2172" name=""/>
            <p:cNvSpPr/>
            <p:nvPr/>
          </p:nvSpPr>
          <p:spPr>
            <a:xfrm>
              <a:off x="6189840" y="4052880"/>
              <a:ext cx="303120" cy="263520"/>
            </a:xfrm>
            <a:custGeom>
              <a:avLst/>
              <a:gdLst/>
              <a:ahLst/>
              <a:rect l="l" t="t" r="r" b="b"/>
              <a:pathLst>
                <a:path w="572" h="497">
                  <a:moveTo>
                    <a:pt x="0" y="0"/>
                  </a:moveTo>
                  <a:lnTo>
                    <a:pt x="296" y="497"/>
                  </a:lnTo>
                  <a:lnTo>
                    <a:pt x="572" y="49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6157800" y="4021200"/>
              <a:ext cx="66960" cy="66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2174" name=""/>
          <p:cNvSpPr/>
          <p:nvPr/>
        </p:nvSpPr>
        <p:spPr>
          <a:xfrm>
            <a:off x="6550920" y="4238640"/>
            <a:ext cx="21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2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7478640" y="4832280"/>
            <a:ext cx="1312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682560" y="285228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Grazie dell’attenzione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480" y="-360"/>
            <a:ext cx="91249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Valutazione della risposta sismica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089000" y="3467160"/>
            <a:ext cx="1463760" cy="1009440"/>
          </a:xfrm>
          <a:custGeom>
            <a:avLst/>
            <a:gdLst/>
            <a:ahLst/>
            <a:rect l="l" t="t" r="r" b="b"/>
            <a:pathLst>
              <a:path w="3960" h="1048">
                <a:moveTo>
                  <a:pt x="0" y="656"/>
                </a:moveTo>
                <a:cubicBezTo>
                  <a:pt x="12" y="620"/>
                  <a:pt x="21" y="595"/>
                  <a:pt x="48" y="568"/>
                </a:cubicBezTo>
                <a:cubicBezTo>
                  <a:pt x="45" y="588"/>
                  <a:pt x="31" y="650"/>
                  <a:pt x="48" y="672"/>
                </a:cubicBezTo>
                <a:cubicBezTo>
                  <a:pt x="53" y="679"/>
                  <a:pt x="64" y="667"/>
                  <a:pt x="72" y="664"/>
                </a:cubicBezTo>
                <a:cubicBezTo>
                  <a:pt x="116" y="597"/>
                  <a:pt x="57" y="672"/>
                  <a:pt x="104" y="672"/>
                </a:cubicBezTo>
                <a:cubicBezTo>
                  <a:pt x="115" y="672"/>
                  <a:pt x="106" y="649"/>
                  <a:pt x="112" y="640"/>
                </a:cubicBezTo>
                <a:cubicBezTo>
                  <a:pt x="117" y="632"/>
                  <a:pt x="128" y="629"/>
                  <a:pt x="136" y="624"/>
                </a:cubicBezTo>
                <a:cubicBezTo>
                  <a:pt x="173" y="699"/>
                  <a:pt x="134" y="637"/>
                  <a:pt x="160" y="624"/>
                </a:cubicBezTo>
                <a:cubicBezTo>
                  <a:pt x="169" y="620"/>
                  <a:pt x="176" y="635"/>
                  <a:pt x="184" y="640"/>
                </a:cubicBezTo>
                <a:cubicBezTo>
                  <a:pt x="187" y="651"/>
                  <a:pt x="189" y="661"/>
                  <a:pt x="192" y="672"/>
                </a:cubicBezTo>
                <a:cubicBezTo>
                  <a:pt x="194" y="680"/>
                  <a:pt x="194" y="702"/>
                  <a:pt x="200" y="696"/>
                </a:cubicBezTo>
                <a:cubicBezTo>
                  <a:pt x="217" y="679"/>
                  <a:pt x="210" y="648"/>
                  <a:pt x="216" y="624"/>
                </a:cubicBezTo>
                <a:cubicBezTo>
                  <a:pt x="219" y="635"/>
                  <a:pt x="221" y="645"/>
                  <a:pt x="224" y="656"/>
                </a:cubicBezTo>
                <a:cubicBezTo>
                  <a:pt x="229" y="672"/>
                  <a:pt x="240" y="704"/>
                  <a:pt x="240" y="704"/>
                </a:cubicBezTo>
                <a:cubicBezTo>
                  <a:pt x="245" y="695"/>
                  <a:pt x="268" y="643"/>
                  <a:pt x="280" y="640"/>
                </a:cubicBezTo>
                <a:cubicBezTo>
                  <a:pt x="288" y="638"/>
                  <a:pt x="286" y="656"/>
                  <a:pt x="288" y="664"/>
                </a:cubicBezTo>
                <a:cubicBezTo>
                  <a:pt x="308" y="734"/>
                  <a:pt x="285" y="662"/>
                  <a:pt x="304" y="720"/>
                </a:cubicBezTo>
                <a:cubicBezTo>
                  <a:pt x="307" y="709"/>
                  <a:pt x="309" y="699"/>
                  <a:pt x="312" y="688"/>
                </a:cubicBezTo>
                <a:cubicBezTo>
                  <a:pt x="317" y="672"/>
                  <a:pt x="328" y="640"/>
                  <a:pt x="328" y="640"/>
                </a:cubicBezTo>
                <a:cubicBezTo>
                  <a:pt x="333" y="648"/>
                  <a:pt x="340" y="655"/>
                  <a:pt x="344" y="664"/>
                </a:cubicBezTo>
                <a:cubicBezTo>
                  <a:pt x="348" y="672"/>
                  <a:pt x="344" y="686"/>
                  <a:pt x="352" y="688"/>
                </a:cubicBezTo>
                <a:cubicBezTo>
                  <a:pt x="361" y="690"/>
                  <a:pt x="398" y="650"/>
                  <a:pt x="400" y="648"/>
                </a:cubicBezTo>
                <a:cubicBezTo>
                  <a:pt x="443" y="735"/>
                  <a:pt x="426" y="731"/>
                  <a:pt x="440" y="656"/>
                </a:cubicBezTo>
                <a:cubicBezTo>
                  <a:pt x="444" y="634"/>
                  <a:pt x="449" y="621"/>
                  <a:pt x="456" y="600"/>
                </a:cubicBezTo>
                <a:cubicBezTo>
                  <a:pt x="461" y="616"/>
                  <a:pt x="467" y="632"/>
                  <a:pt x="472" y="648"/>
                </a:cubicBezTo>
                <a:cubicBezTo>
                  <a:pt x="475" y="659"/>
                  <a:pt x="477" y="691"/>
                  <a:pt x="480" y="680"/>
                </a:cubicBezTo>
                <a:cubicBezTo>
                  <a:pt x="494" y="630"/>
                  <a:pt x="487" y="578"/>
                  <a:pt x="504" y="528"/>
                </a:cubicBezTo>
                <a:cubicBezTo>
                  <a:pt x="535" y="590"/>
                  <a:pt x="523" y="656"/>
                  <a:pt x="544" y="720"/>
                </a:cubicBezTo>
                <a:cubicBezTo>
                  <a:pt x="565" y="534"/>
                  <a:pt x="573" y="353"/>
                  <a:pt x="608" y="168"/>
                </a:cubicBezTo>
                <a:cubicBezTo>
                  <a:pt x="658" y="369"/>
                  <a:pt x="588" y="537"/>
                  <a:pt x="624" y="752"/>
                </a:cubicBezTo>
                <a:cubicBezTo>
                  <a:pt x="645" y="876"/>
                  <a:pt x="635" y="501"/>
                  <a:pt x="640" y="376"/>
                </a:cubicBezTo>
                <a:cubicBezTo>
                  <a:pt x="656" y="524"/>
                  <a:pt x="628" y="717"/>
                  <a:pt x="672" y="848"/>
                </a:cubicBezTo>
                <a:cubicBezTo>
                  <a:pt x="683" y="784"/>
                  <a:pt x="685" y="720"/>
                  <a:pt x="696" y="656"/>
                </a:cubicBezTo>
                <a:cubicBezTo>
                  <a:pt x="712" y="565"/>
                  <a:pt x="752" y="384"/>
                  <a:pt x="752" y="384"/>
                </a:cubicBezTo>
                <a:cubicBezTo>
                  <a:pt x="802" y="459"/>
                  <a:pt x="776" y="411"/>
                  <a:pt x="776" y="600"/>
                </a:cubicBezTo>
                <a:cubicBezTo>
                  <a:pt x="776" y="637"/>
                  <a:pt x="742" y="738"/>
                  <a:pt x="768" y="712"/>
                </a:cubicBezTo>
                <a:cubicBezTo>
                  <a:pt x="804" y="676"/>
                  <a:pt x="780" y="610"/>
                  <a:pt x="792" y="560"/>
                </a:cubicBezTo>
                <a:cubicBezTo>
                  <a:pt x="823" y="713"/>
                  <a:pt x="757" y="375"/>
                  <a:pt x="808" y="832"/>
                </a:cubicBezTo>
                <a:cubicBezTo>
                  <a:pt x="811" y="861"/>
                  <a:pt x="814" y="773"/>
                  <a:pt x="816" y="744"/>
                </a:cubicBezTo>
                <a:cubicBezTo>
                  <a:pt x="823" y="645"/>
                  <a:pt x="819" y="541"/>
                  <a:pt x="856" y="448"/>
                </a:cubicBezTo>
                <a:cubicBezTo>
                  <a:pt x="898" y="547"/>
                  <a:pt x="883" y="642"/>
                  <a:pt x="896" y="408"/>
                </a:cubicBezTo>
                <a:cubicBezTo>
                  <a:pt x="929" y="507"/>
                  <a:pt x="914" y="653"/>
                  <a:pt x="920" y="760"/>
                </a:cubicBezTo>
                <a:cubicBezTo>
                  <a:pt x="927" y="640"/>
                  <a:pt x="926" y="614"/>
                  <a:pt x="944" y="496"/>
                </a:cubicBezTo>
                <a:cubicBezTo>
                  <a:pt x="951" y="453"/>
                  <a:pt x="958" y="410"/>
                  <a:pt x="968" y="368"/>
                </a:cubicBezTo>
                <a:cubicBezTo>
                  <a:pt x="974" y="343"/>
                  <a:pt x="992" y="296"/>
                  <a:pt x="992" y="296"/>
                </a:cubicBezTo>
                <a:cubicBezTo>
                  <a:pt x="1012" y="356"/>
                  <a:pt x="1011" y="417"/>
                  <a:pt x="1016" y="480"/>
                </a:cubicBezTo>
                <a:cubicBezTo>
                  <a:pt x="1027" y="401"/>
                  <a:pt x="1036" y="350"/>
                  <a:pt x="1064" y="280"/>
                </a:cubicBezTo>
                <a:cubicBezTo>
                  <a:pt x="1082" y="352"/>
                  <a:pt x="1073" y="323"/>
                  <a:pt x="1088" y="368"/>
                </a:cubicBezTo>
                <a:cubicBezTo>
                  <a:pt x="1093" y="357"/>
                  <a:pt x="1092" y="336"/>
                  <a:pt x="1104" y="336"/>
                </a:cubicBezTo>
                <a:cubicBezTo>
                  <a:pt x="1116" y="336"/>
                  <a:pt x="1110" y="375"/>
                  <a:pt x="1120" y="368"/>
                </a:cubicBezTo>
                <a:cubicBezTo>
                  <a:pt x="1140" y="355"/>
                  <a:pt x="1152" y="304"/>
                  <a:pt x="1152" y="304"/>
                </a:cubicBezTo>
                <a:cubicBezTo>
                  <a:pt x="1155" y="267"/>
                  <a:pt x="1156" y="229"/>
                  <a:pt x="1160" y="192"/>
                </a:cubicBezTo>
                <a:cubicBezTo>
                  <a:pt x="1174" y="57"/>
                  <a:pt x="1163" y="48"/>
                  <a:pt x="1192" y="120"/>
                </a:cubicBezTo>
                <a:cubicBezTo>
                  <a:pt x="1189" y="280"/>
                  <a:pt x="1190" y="440"/>
                  <a:pt x="1184" y="600"/>
                </a:cubicBezTo>
                <a:cubicBezTo>
                  <a:pt x="1182" y="659"/>
                  <a:pt x="1173" y="717"/>
                  <a:pt x="1168" y="776"/>
                </a:cubicBezTo>
                <a:cubicBezTo>
                  <a:pt x="1165" y="819"/>
                  <a:pt x="1160" y="947"/>
                  <a:pt x="1160" y="904"/>
                </a:cubicBezTo>
                <a:cubicBezTo>
                  <a:pt x="1160" y="638"/>
                  <a:pt x="1179" y="747"/>
                  <a:pt x="1216" y="416"/>
                </a:cubicBezTo>
                <a:cubicBezTo>
                  <a:pt x="1234" y="255"/>
                  <a:pt x="1217" y="318"/>
                  <a:pt x="1248" y="224"/>
                </a:cubicBezTo>
                <a:cubicBezTo>
                  <a:pt x="1306" y="282"/>
                  <a:pt x="1272" y="237"/>
                  <a:pt x="1280" y="392"/>
                </a:cubicBezTo>
                <a:cubicBezTo>
                  <a:pt x="1292" y="611"/>
                  <a:pt x="1288" y="547"/>
                  <a:pt x="1296" y="816"/>
                </a:cubicBezTo>
                <a:cubicBezTo>
                  <a:pt x="1302" y="702"/>
                  <a:pt x="1309" y="486"/>
                  <a:pt x="1360" y="384"/>
                </a:cubicBezTo>
                <a:cubicBezTo>
                  <a:pt x="1368" y="542"/>
                  <a:pt x="1352" y="700"/>
                  <a:pt x="1352" y="856"/>
                </a:cubicBezTo>
                <a:cubicBezTo>
                  <a:pt x="1352" y="864"/>
                  <a:pt x="1357" y="840"/>
                  <a:pt x="1360" y="832"/>
                </a:cubicBezTo>
                <a:cubicBezTo>
                  <a:pt x="1368" y="725"/>
                  <a:pt x="1376" y="543"/>
                  <a:pt x="1416" y="464"/>
                </a:cubicBezTo>
                <a:cubicBezTo>
                  <a:pt x="1444" y="408"/>
                  <a:pt x="1434" y="433"/>
                  <a:pt x="1448" y="392"/>
                </a:cubicBezTo>
                <a:cubicBezTo>
                  <a:pt x="1471" y="483"/>
                  <a:pt x="1467" y="588"/>
                  <a:pt x="1472" y="680"/>
                </a:cubicBezTo>
                <a:cubicBezTo>
                  <a:pt x="1485" y="567"/>
                  <a:pt x="1476" y="446"/>
                  <a:pt x="1504" y="336"/>
                </a:cubicBezTo>
                <a:cubicBezTo>
                  <a:pt x="1530" y="413"/>
                  <a:pt x="1518" y="497"/>
                  <a:pt x="1544" y="576"/>
                </a:cubicBezTo>
                <a:cubicBezTo>
                  <a:pt x="1569" y="502"/>
                  <a:pt x="1555" y="421"/>
                  <a:pt x="1568" y="344"/>
                </a:cubicBezTo>
                <a:cubicBezTo>
                  <a:pt x="1598" y="389"/>
                  <a:pt x="1590" y="369"/>
                  <a:pt x="1592" y="456"/>
                </a:cubicBezTo>
                <a:cubicBezTo>
                  <a:pt x="1597" y="653"/>
                  <a:pt x="1597" y="851"/>
                  <a:pt x="1600" y="1048"/>
                </a:cubicBezTo>
                <a:cubicBezTo>
                  <a:pt x="1631" y="938"/>
                  <a:pt x="1610" y="1030"/>
                  <a:pt x="1624" y="848"/>
                </a:cubicBezTo>
                <a:cubicBezTo>
                  <a:pt x="1628" y="795"/>
                  <a:pt x="1636" y="741"/>
                  <a:pt x="1640" y="688"/>
                </a:cubicBezTo>
                <a:cubicBezTo>
                  <a:pt x="1647" y="581"/>
                  <a:pt x="1651" y="475"/>
                  <a:pt x="1656" y="368"/>
                </a:cubicBezTo>
                <a:cubicBezTo>
                  <a:pt x="1659" y="304"/>
                  <a:pt x="1660" y="251"/>
                  <a:pt x="1680" y="192"/>
                </a:cubicBezTo>
                <a:cubicBezTo>
                  <a:pt x="1681" y="202"/>
                  <a:pt x="1698" y="382"/>
                  <a:pt x="1704" y="376"/>
                </a:cubicBezTo>
                <a:cubicBezTo>
                  <a:pt x="1734" y="346"/>
                  <a:pt x="1706" y="290"/>
                  <a:pt x="1712" y="248"/>
                </a:cubicBezTo>
                <a:cubicBezTo>
                  <a:pt x="1714" y="231"/>
                  <a:pt x="1723" y="216"/>
                  <a:pt x="1728" y="200"/>
                </a:cubicBezTo>
                <a:cubicBezTo>
                  <a:pt x="1818" y="381"/>
                  <a:pt x="1743" y="627"/>
                  <a:pt x="1792" y="824"/>
                </a:cubicBezTo>
                <a:cubicBezTo>
                  <a:pt x="1817" y="343"/>
                  <a:pt x="1767" y="507"/>
                  <a:pt x="1832" y="312"/>
                </a:cubicBezTo>
                <a:cubicBezTo>
                  <a:pt x="1862" y="494"/>
                  <a:pt x="1851" y="704"/>
                  <a:pt x="1856" y="888"/>
                </a:cubicBezTo>
                <a:cubicBezTo>
                  <a:pt x="1859" y="736"/>
                  <a:pt x="1859" y="584"/>
                  <a:pt x="1864" y="432"/>
                </a:cubicBezTo>
                <a:cubicBezTo>
                  <a:pt x="1864" y="424"/>
                  <a:pt x="1867" y="401"/>
                  <a:pt x="1872" y="408"/>
                </a:cubicBezTo>
                <a:cubicBezTo>
                  <a:pt x="1881" y="421"/>
                  <a:pt x="1877" y="440"/>
                  <a:pt x="1880" y="456"/>
                </a:cubicBezTo>
                <a:cubicBezTo>
                  <a:pt x="1889" y="578"/>
                  <a:pt x="1888" y="710"/>
                  <a:pt x="1912" y="832"/>
                </a:cubicBezTo>
                <a:cubicBezTo>
                  <a:pt x="1926" y="548"/>
                  <a:pt x="1918" y="342"/>
                  <a:pt x="1944" y="640"/>
                </a:cubicBezTo>
                <a:cubicBezTo>
                  <a:pt x="1953" y="740"/>
                  <a:pt x="1944" y="847"/>
                  <a:pt x="1976" y="944"/>
                </a:cubicBezTo>
                <a:cubicBezTo>
                  <a:pt x="1999" y="786"/>
                  <a:pt x="1999" y="628"/>
                  <a:pt x="2032" y="472"/>
                </a:cubicBezTo>
                <a:cubicBezTo>
                  <a:pt x="2044" y="509"/>
                  <a:pt x="2052" y="547"/>
                  <a:pt x="2064" y="584"/>
                </a:cubicBezTo>
                <a:cubicBezTo>
                  <a:pt x="2088" y="846"/>
                  <a:pt x="2065" y="459"/>
                  <a:pt x="2088" y="344"/>
                </a:cubicBezTo>
                <a:cubicBezTo>
                  <a:pt x="2124" y="536"/>
                  <a:pt x="2111" y="729"/>
                  <a:pt x="2152" y="920"/>
                </a:cubicBezTo>
                <a:cubicBezTo>
                  <a:pt x="2186" y="748"/>
                  <a:pt x="2158" y="897"/>
                  <a:pt x="2192" y="480"/>
                </a:cubicBezTo>
                <a:cubicBezTo>
                  <a:pt x="2205" y="317"/>
                  <a:pt x="2233" y="162"/>
                  <a:pt x="2256" y="0"/>
                </a:cubicBezTo>
                <a:cubicBezTo>
                  <a:pt x="2304" y="81"/>
                  <a:pt x="2280" y="26"/>
                  <a:pt x="2288" y="184"/>
                </a:cubicBezTo>
                <a:cubicBezTo>
                  <a:pt x="2320" y="824"/>
                  <a:pt x="2286" y="298"/>
                  <a:pt x="2320" y="664"/>
                </a:cubicBezTo>
                <a:cubicBezTo>
                  <a:pt x="2332" y="796"/>
                  <a:pt x="2315" y="738"/>
                  <a:pt x="2336" y="800"/>
                </a:cubicBezTo>
                <a:cubicBezTo>
                  <a:pt x="2339" y="688"/>
                  <a:pt x="2335" y="576"/>
                  <a:pt x="2344" y="464"/>
                </a:cubicBezTo>
                <a:cubicBezTo>
                  <a:pt x="2345" y="450"/>
                  <a:pt x="2358" y="490"/>
                  <a:pt x="2360" y="504"/>
                </a:cubicBezTo>
                <a:cubicBezTo>
                  <a:pt x="2366" y="541"/>
                  <a:pt x="2364" y="579"/>
                  <a:pt x="2368" y="616"/>
                </a:cubicBezTo>
                <a:cubicBezTo>
                  <a:pt x="2373" y="663"/>
                  <a:pt x="2391" y="706"/>
                  <a:pt x="2400" y="752"/>
                </a:cubicBezTo>
                <a:cubicBezTo>
                  <a:pt x="2426" y="594"/>
                  <a:pt x="2415" y="660"/>
                  <a:pt x="2432" y="744"/>
                </a:cubicBezTo>
                <a:cubicBezTo>
                  <a:pt x="2444" y="709"/>
                  <a:pt x="2450" y="675"/>
                  <a:pt x="2464" y="640"/>
                </a:cubicBezTo>
                <a:cubicBezTo>
                  <a:pt x="2475" y="656"/>
                  <a:pt x="2488" y="670"/>
                  <a:pt x="2496" y="688"/>
                </a:cubicBezTo>
                <a:cubicBezTo>
                  <a:pt x="2502" y="700"/>
                  <a:pt x="2490" y="728"/>
                  <a:pt x="2504" y="728"/>
                </a:cubicBezTo>
                <a:cubicBezTo>
                  <a:pt x="2518" y="728"/>
                  <a:pt x="2507" y="701"/>
                  <a:pt x="2512" y="688"/>
                </a:cubicBezTo>
                <a:cubicBezTo>
                  <a:pt x="2528" y="644"/>
                  <a:pt x="2548" y="606"/>
                  <a:pt x="2560" y="560"/>
                </a:cubicBezTo>
                <a:cubicBezTo>
                  <a:pt x="2581" y="642"/>
                  <a:pt x="2583" y="724"/>
                  <a:pt x="2592" y="808"/>
                </a:cubicBezTo>
                <a:cubicBezTo>
                  <a:pt x="2654" y="684"/>
                  <a:pt x="2583" y="521"/>
                  <a:pt x="2664" y="400"/>
                </a:cubicBezTo>
                <a:cubicBezTo>
                  <a:pt x="2691" y="467"/>
                  <a:pt x="2688" y="528"/>
                  <a:pt x="2704" y="600"/>
                </a:cubicBezTo>
                <a:cubicBezTo>
                  <a:pt x="2709" y="625"/>
                  <a:pt x="2728" y="672"/>
                  <a:pt x="2728" y="672"/>
                </a:cubicBezTo>
                <a:cubicBezTo>
                  <a:pt x="2759" y="579"/>
                  <a:pt x="2738" y="478"/>
                  <a:pt x="2776" y="384"/>
                </a:cubicBezTo>
                <a:cubicBezTo>
                  <a:pt x="2814" y="461"/>
                  <a:pt x="2799" y="549"/>
                  <a:pt x="2816" y="632"/>
                </a:cubicBezTo>
                <a:cubicBezTo>
                  <a:pt x="2821" y="624"/>
                  <a:pt x="2829" y="617"/>
                  <a:pt x="2832" y="608"/>
                </a:cubicBezTo>
                <a:cubicBezTo>
                  <a:pt x="2840" y="582"/>
                  <a:pt x="2827" y="545"/>
                  <a:pt x="2848" y="528"/>
                </a:cubicBezTo>
                <a:cubicBezTo>
                  <a:pt x="2862" y="517"/>
                  <a:pt x="2866" y="559"/>
                  <a:pt x="2872" y="576"/>
                </a:cubicBezTo>
                <a:cubicBezTo>
                  <a:pt x="2879" y="597"/>
                  <a:pt x="2888" y="640"/>
                  <a:pt x="2888" y="640"/>
                </a:cubicBezTo>
                <a:cubicBezTo>
                  <a:pt x="2885" y="488"/>
                  <a:pt x="2885" y="336"/>
                  <a:pt x="2880" y="184"/>
                </a:cubicBezTo>
                <a:cubicBezTo>
                  <a:pt x="2880" y="176"/>
                  <a:pt x="2872" y="152"/>
                  <a:pt x="2872" y="160"/>
                </a:cubicBezTo>
                <a:cubicBezTo>
                  <a:pt x="2872" y="208"/>
                  <a:pt x="2878" y="256"/>
                  <a:pt x="2880" y="304"/>
                </a:cubicBezTo>
                <a:cubicBezTo>
                  <a:pt x="2887" y="495"/>
                  <a:pt x="2874" y="713"/>
                  <a:pt x="2912" y="904"/>
                </a:cubicBezTo>
                <a:cubicBezTo>
                  <a:pt x="2994" y="657"/>
                  <a:pt x="2894" y="383"/>
                  <a:pt x="2976" y="136"/>
                </a:cubicBezTo>
                <a:cubicBezTo>
                  <a:pt x="3028" y="395"/>
                  <a:pt x="3032" y="665"/>
                  <a:pt x="3048" y="928"/>
                </a:cubicBezTo>
                <a:cubicBezTo>
                  <a:pt x="3102" y="765"/>
                  <a:pt x="2998" y="275"/>
                  <a:pt x="3096" y="520"/>
                </a:cubicBezTo>
                <a:cubicBezTo>
                  <a:pt x="3100" y="582"/>
                  <a:pt x="3093" y="644"/>
                  <a:pt x="3128" y="696"/>
                </a:cubicBezTo>
                <a:cubicBezTo>
                  <a:pt x="3131" y="680"/>
                  <a:pt x="3133" y="664"/>
                  <a:pt x="3136" y="648"/>
                </a:cubicBezTo>
                <a:cubicBezTo>
                  <a:pt x="3138" y="637"/>
                  <a:pt x="3133" y="616"/>
                  <a:pt x="3144" y="616"/>
                </a:cubicBezTo>
                <a:cubicBezTo>
                  <a:pt x="3151" y="616"/>
                  <a:pt x="3166" y="665"/>
                  <a:pt x="3168" y="672"/>
                </a:cubicBezTo>
                <a:cubicBezTo>
                  <a:pt x="3176" y="651"/>
                  <a:pt x="3184" y="629"/>
                  <a:pt x="3192" y="608"/>
                </a:cubicBezTo>
                <a:cubicBezTo>
                  <a:pt x="3195" y="600"/>
                  <a:pt x="3192" y="584"/>
                  <a:pt x="3200" y="584"/>
                </a:cubicBezTo>
                <a:cubicBezTo>
                  <a:pt x="3210" y="584"/>
                  <a:pt x="3211" y="600"/>
                  <a:pt x="3216" y="608"/>
                </a:cubicBezTo>
                <a:cubicBezTo>
                  <a:pt x="3236" y="687"/>
                  <a:pt x="3221" y="691"/>
                  <a:pt x="3256" y="632"/>
                </a:cubicBezTo>
                <a:cubicBezTo>
                  <a:pt x="3259" y="619"/>
                  <a:pt x="3261" y="605"/>
                  <a:pt x="3264" y="592"/>
                </a:cubicBezTo>
                <a:cubicBezTo>
                  <a:pt x="3266" y="581"/>
                  <a:pt x="3262" y="555"/>
                  <a:pt x="3272" y="560"/>
                </a:cubicBezTo>
                <a:cubicBezTo>
                  <a:pt x="3289" y="568"/>
                  <a:pt x="3299" y="621"/>
                  <a:pt x="3304" y="640"/>
                </a:cubicBezTo>
                <a:cubicBezTo>
                  <a:pt x="3312" y="629"/>
                  <a:pt x="3322" y="620"/>
                  <a:pt x="3328" y="608"/>
                </a:cubicBezTo>
                <a:cubicBezTo>
                  <a:pt x="3333" y="598"/>
                  <a:pt x="3325" y="574"/>
                  <a:pt x="3336" y="576"/>
                </a:cubicBezTo>
                <a:cubicBezTo>
                  <a:pt x="3341" y="577"/>
                  <a:pt x="3401" y="662"/>
                  <a:pt x="3408" y="672"/>
                </a:cubicBezTo>
                <a:cubicBezTo>
                  <a:pt x="3425" y="638"/>
                  <a:pt x="3431" y="605"/>
                  <a:pt x="3440" y="568"/>
                </a:cubicBezTo>
                <a:cubicBezTo>
                  <a:pt x="3448" y="579"/>
                  <a:pt x="3454" y="591"/>
                  <a:pt x="3464" y="600"/>
                </a:cubicBezTo>
                <a:cubicBezTo>
                  <a:pt x="3470" y="605"/>
                  <a:pt x="3482" y="602"/>
                  <a:pt x="3488" y="608"/>
                </a:cubicBezTo>
                <a:cubicBezTo>
                  <a:pt x="3494" y="614"/>
                  <a:pt x="3491" y="625"/>
                  <a:pt x="3496" y="632"/>
                </a:cubicBezTo>
                <a:cubicBezTo>
                  <a:pt x="3507" y="646"/>
                  <a:pt x="3528" y="651"/>
                  <a:pt x="3544" y="656"/>
                </a:cubicBezTo>
                <a:cubicBezTo>
                  <a:pt x="3555" y="640"/>
                  <a:pt x="3560" y="597"/>
                  <a:pt x="3576" y="608"/>
                </a:cubicBezTo>
                <a:cubicBezTo>
                  <a:pt x="3611" y="631"/>
                  <a:pt x="3650" y="637"/>
                  <a:pt x="3688" y="656"/>
                </a:cubicBezTo>
                <a:cubicBezTo>
                  <a:pt x="3733" y="611"/>
                  <a:pt x="3739" y="604"/>
                  <a:pt x="3792" y="640"/>
                </a:cubicBezTo>
                <a:cubicBezTo>
                  <a:pt x="3835" y="631"/>
                  <a:pt x="3850" y="626"/>
                  <a:pt x="3864" y="584"/>
                </a:cubicBezTo>
                <a:cubicBezTo>
                  <a:pt x="3869" y="592"/>
                  <a:pt x="3872" y="603"/>
                  <a:pt x="3880" y="608"/>
                </a:cubicBezTo>
                <a:cubicBezTo>
                  <a:pt x="3888" y="613"/>
                  <a:pt x="3960" y="616"/>
                  <a:pt x="3928" y="648"/>
                </a:cubicBezTo>
              </a:path>
            </a:pathLst>
          </a:custGeom>
          <a:noFill/>
          <a:ln w="158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79840" y="1301760"/>
            <a:ext cx="44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Massima risposta sismica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90960" y="2220840"/>
            <a:ext cx="1109520" cy="895320"/>
          </a:xfrm>
          <a:custGeom>
            <a:avLst/>
            <a:gdLst>
              <a:gd name="textAreaLeft" fmla="*/ 138600 w 1109520"/>
              <a:gd name="textAreaRight" fmla="*/ 970920 w 1109520"/>
              <a:gd name="textAreaTop" fmla="*/ 223920 h 895320"/>
              <a:gd name="textAreaBottom" fmla="*/ 671760 h 895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91000" y="1890720"/>
            <a:ext cx="447192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… </a:t>
            </a: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in maniera sintetica …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Taglio alla base (V</a:t>
            </a:r>
            <a:r>
              <a:rPr b="0" lang="it-IT" sz="2400" spc="-1" strike="noStrike" baseline="-25000">
                <a:solidFill>
                  <a:srgbClr val="ffff66"/>
                </a:solidFill>
                <a:latin typeface="Comic Sans MS"/>
              </a:rPr>
              <a:t>b</a:t>
            </a: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Spostamenti in testa (D</a:t>
            </a:r>
            <a:r>
              <a:rPr b="0" lang="it-IT" sz="2400" spc="-1" strike="noStrike" baseline="-25000">
                <a:solidFill>
                  <a:srgbClr val="ffff66"/>
                </a:solidFill>
                <a:latin typeface="Comic Sans MS"/>
              </a:rPr>
              <a:t>t</a:t>
            </a: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675240" y="3621240"/>
            <a:ext cx="4516200" cy="2873160"/>
            <a:chOff x="3675240" y="3621240"/>
            <a:chExt cx="4516200" cy="2873160"/>
          </a:xfrm>
        </p:grpSpPr>
        <p:sp>
          <p:nvSpPr>
            <p:cNvPr id="67" name=""/>
            <p:cNvSpPr/>
            <p:nvPr/>
          </p:nvSpPr>
          <p:spPr>
            <a:xfrm>
              <a:off x="4181400" y="3672000"/>
              <a:ext cx="3983040" cy="2768400"/>
            </a:xfrm>
            <a:prstGeom prst="rect">
              <a:avLst/>
            </a:prstGeom>
            <a:noFill/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81400" y="3672000"/>
              <a:ext cx="3983040" cy="2768400"/>
            </a:xfrm>
            <a:prstGeom prst="rect">
              <a:avLst/>
            </a:prstGeom>
            <a:noFill/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81400" y="3672000"/>
              <a:ext cx="1800" cy="276840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40360" y="6440400"/>
              <a:ext cx="83880" cy="180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40360" y="5748480"/>
              <a:ext cx="83880" cy="14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40360" y="5056200"/>
              <a:ext cx="83880" cy="14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140360" y="4363920"/>
              <a:ext cx="83880" cy="180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140360" y="3672000"/>
              <a:ext cx="83880" cy="14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127400" y="6440400"/>
              <a:ext cx="109800" cy="180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127400" y="5056200"/>
              <a:ext cx="109800" cy="14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127400" y="3672000"/>
              <a:ext cx="109800" cy="14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181400" y="6440400"/>
              <a:ext cx="3983040" cy="180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4181400" y="6397560"/>
              <a:ext cx="1800" cy="842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5178600" y="6397560"/>
              <a:ext cx="1440" cy="842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6173640" y="6397560"/>
              <a:ext cx="1800" cy="842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7169040" y="6397560"/>
              <a:ext cx="1800" cy="842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8164440" y="6397560"/>
              <a:ext cx="1800" cy="842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4181400" y="6384960"/>
              <a:ext cx="1800" cy="1094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6173640" y="6384960"/>
              <a:ext cx="1800" cy="1094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8164440" y="6384960"/>
              <a:ext cx="1800" cy="1094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675240" y="3621240"/>
              <a:ext cx="527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66"/>
                  </a:solidFill>
                  <a:latin typeface="Comic Sans MS"/>
                </a:rPr>
                <a:t>V</a:t>
              </a:r>
              <a:r>
                <a:rPr b="0" lang="it-IT" sz="2400" spc="-1" strike="noStrike" baseline="-25000">
                  <a:solidFill>
                    <a:srgbClr val="ffff66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608960" y="5978520"/>
              <a:ext cx="582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66"/>
                  </a:solidFill>
                  <a:latin typeface="Comic Sans MS"/>
                </a:rPr>
                <a:t>D</a:t>
              </a:r>
              <a:r>
                <a:rPr b="0" lang="it-IT" sz="2400" spc="-1" strike="noStrike" baseline="-25000">
                  <a:solidFill>
                    <a:srgbClr val="ffff66"/>
                  </a:solidFill>
                  <a:latin typeface="Comic Sans MS"/>
                </a:rPr>
                <a:t>t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702400" y="4641840"/>
            <a:ext cx="75960" cy="76320"/>
          </a:xfrm>
          <a:prstGeom prst="ellipse">
            <a:avLst/>
          </a:prstGeom>
          <a:solidFill>
            <a:srgbClr val="ffff66"/>
          </a:solidFill>
          <a:ln w="64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46680" y="4384800"/>
            <a:ext cx="0" cy="2049480"/>
          </a:xfrm>
          <a:prstGeom prst="line">
            <a:avLst/>
          </a:prstGeom>
          <a:ln w="93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175280" y="4686480"/>
            <a:ext cx="1885680" cy="0"/>
          </a:xfrm>
          <a:prstGeom prst="line">
            <a:avLst/>
          </a:prstGeom>
          <a:ln w="93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51120" y="4395960"/>
            <a:ext cx="139680" cy="13968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712880" y="4314960"/>
            <a:ext cx="13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GA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878040" y="1809720"/>
            <a:ext cx="1953720" cy="1335960"/>
            <a:chOff x="878040" y="1809720"/>
            <a:chExt cx="1953720" cy="1335960"/>
          </a:xfrm>
        </p:grpSpPr>
        <p:sp>
          <p:nvSpPr>
            <p:cNvPr id="95" name=""/>
            <p:cNvSpPr/>
            <p:nvPr/>
          </p:nvSpPr>
          <p:spPr>
            <a:xfrm>
              <a:off x="878040" y="3119400"/>
              <a:ext cx="1953720" cy="26280"/>
            </a:xfrm>
            <a:prstGeom prst="rect">
              <a:avLst/>
            </a:prstGeom>
            <a:solidFill>
              <a:srgbClr val="ffff66"/>
            </a:solidFill>
            <a:ln w="381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1101960" y="1890360"/>
              <a:ext cx="0" cy="122868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094760" y="1893240"/>
              <a:ext cx="1448280" cy="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01960" y="2291760"/>
              <a:ext cx="1402920" cy="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101960" y="2692440"/>
              <a:ext cx="1433880" cy="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1815480" y="1917000"/>
              <a:ext cx="0" cy="119988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2528640" y="1878840"/>
              <a:ext cx="0" cy="126216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693800" y="1809720"/>
              <a:ext cx="238320" cy="188640"/>
            </a:xfrm>
            <a:prstGeom prst="flowChartConnector">
              <a:avLst/>
            </a:prstGeom>
            <a:solidFill>
              <a:srgbClr val="ffff66"/>
            </a:solidFill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693800" y="2181960"/>
              <a:ext cx="238320" cy="186120"/>
            </a:xfrm>
            <a:prstGeom prst="flowChartConnector">
              <a:avLst/>
            </a:prstGeom>
            <a:solidFill>
              <a:srgbClr val="ffff66"/>
            </a:solidFill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693800" y="2606400"/>
              <a:ext cx="238320" cy="188280"/>
            </a:xfrm>
            <a:prstGeom prst="flowChartConnector">
              <a:avLst/>
            </a:prstGeom>
            <a:solidFill>
              <a:srgbClr val="ffff66"/>
            </a:solidFill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930320" y="1917720"/>
                <a:ext cx="34128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80" y="-360"/>
            <a:ext cx="91249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Valutazione della risposta sismica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7" name=""/>
          <p:cNvSpPr/>
          <p:nvPr/>
        </p:nvSpPr>
        <p:spPr>
          <a:xfrm>
            <a:off x="4479840" y="1301760"/>
            <a:ext cx="44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Massima risposta sismica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90960" y="2220840"/>
            <a:ext cx="1109520" cy="895320"/>
          </a:xfrm>
          <a:custGeom>
            <a:avLst/>
            <a:gdLst>
              <a:gd name="textAreaLeft" fmla="*/ 138600 w 1109520"/>
              <a:gd name="textAreaRight" fmla="*/ 970920 w 1109520"/>
              <a:gd name="textAreaTop" fmla="*/ 223920 h 895320"/>
              <a:gd name="textAreaBottom" fmla="*/ 671760 h 895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91000" y="1890720"/>
            <a:ext cx="447192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… </a:t>
            </a: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in maniera sintetica …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Taglio alla base (V</a:t>
            </a:r>
            <a:r>
              <a:rPr b="0" lang="it-IT" sz="2400" spc="-1" strike="noStrike" baseline="-25000">
                <a:solidFill>
                  <a:srgbClr val="ffff66"/>
                </a:solidFill>
                <a:latin typeface="Comic Sans MS"/>
              </a:rPr>
              <a:t>b</a:t>
            </a: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Spostamenti in testa (D</a:t>
            </a:r>
            <a:r>
              <a:rPr b="0" lang="it-IT" sz="2400" spc="-1" strike="noStrike" baseline="-25000">
                <a:solidFill>
                  <a:srgbClr val="ffff66"/>
                </a:solidFill>
                <a:latin typeface="Comic Sans MS"/>
              </a:rPr>
              <a:t>t</a:t>
            </a: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675240" y="3621240"/>
            <a:ext cx="4516200" cy="2873160"/>
            <a:chOff x="3675240" y="3621240"/>
            <a:chExt cx="4516200" cy="2873160"/>
          </a:xfrm>
        </p:grpSpPr>
        <p:sp>
          <p:nvSpPr>
            <p:cNvPr id="111" name=""/>
            <p:cNvSpPr/>
            <p:nvPr/>
          </p:nvSpPr>
          <p:spPr>
            <a:xfrm>
              <a:off x="4181400" y="3672000"/>
              <a:ext cx="3983040" cy="2768400"/>
            </a:xfrm>
            <a:prstGeom prst="rect">
              <a:avLst/>
            </a:prstGeom>
            <a:noFill/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181400" y="3672000"/>
              <a:ext cx="3983040" cy="2768400"/>
            </a:xfrm>
            <a:prstGeom prst="rect">
              <a:avLst/>
            </a:prstGeom>
            <a:noFill/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181400" y="3672000"/>
              <a:ext cx="1800" cy="276840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140360" y="6440400"/>
              <a:ext cx="83880" cy="180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140360" y="5748480"/>
              <a:ext cx="83880" cy="14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140360" y="5056200"/>
              <a:ext cx="83880" cy="14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4363920"/>
              <a:ext cx="83880" cy="180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140360" y="3672000"/>
              <a:ext cx="83880" cy="14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127400" y="6440400"/>
              <a:ext cx="109800" cy="180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27400" y="5056200"/>
              <a:ext cx="109800" cy="14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27400" y="3672000"/>
              <a:ext cx="109800" cy="14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81400" y="6440400"/>
              <a:ext cx="3983040" cy="180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4181400" y="6397560"/>
              <a:ext cx="1800" cy="842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5178600" y="6397560"/>
              <a:ext cx="1440" cy="842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6173640" y="6397560"/>
              <a:ext cx="1800" cy="842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7169040" y="6397560"/>
              <a:ext cx="1800" cy="842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8164440" y="6397560"/>
              <a:ext cx="1800" cy="842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4181400" y="6384960"/>
              <a:ext cx="1800" cy="1094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6173640" y="6384960"/>
              <a:ext cx="1800" cy="1094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8164440" y="6384960"/>
              <a:ext cx="1800" cy="1094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675240" y="3621240"/>
              <a:ext cx="527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66"/>
                  </a:solidFill>
                  <a:latin typeface="Comic Sans MS"/>
                </a:rPr>
                <a:t>V</a:t>
              </a:r>
              <a:r>
                <a:rPr b="0" lang="it-IT" sz="2400" spc="-1" strike="noStrike" baseline="-25000">
                  <a:solidFill>
                    <a:srgbClr val="ffff66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608960" y="5978520"/>
              <a:ext cx="582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66"/>
                  </a:solidFill>
                  <a:latin typeface="Comic Sans MS"/>
                </a:rPr>
                <a:t>D</a:t>
              </a:r>
              <a:r>
                <a:rPr b="0" lang="it-IT" sz="2400" spc="-1" strike="noStrike" baseline="-25000">
                  <a:solidFill>
                    <a:srgbClr val="ffff66"/>
                  </a:solidFill>
                  <a:latin typeface="Comic Sans MS"/>
                </a:rPr>
                <a:t>t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5702400" y="4641840"/>
            <a:ext cx="75960" cy="76320"/>
          </a:xfrm>
          <a:prstGeom prst="ellipse">
            <a:avLst/>
          </a:prstGeom>
          <a:solidFill>
            <a:srgbClr val="ffff66"/>
          </a:solidFill>
          <a:ln w="64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089000" y="3741120"/>
            <a:ext cx="1463760" cy="460440"/>
          </a:xfrm>
          <a:custGeom>
            <a:avLst/>
            <a:gdLst/>
            <a:ahLst/>
            <a:rect l="l" t="t" r="r" b="b"/>
            <a:pathLst>
              <a:path w="3960" h="1048">
                <a:moveTo>
                  <a:pt x="0" y="656"/>
                </a:moveTo>
                <a:cubicBezTo>
                  <a:pt x="12" y="620"/>
                  <a:pt x="21" y="595"/>
                  <a:pt x="48" y="568"/>
                </a:cubicBezTo>
                <a:cubicBezTo>
                  <a:pt x="45" y="588"/>
                  <a:pt x="31" y="650"/>
                  <a:pt x="48" y="672"/>
                </a:cubicBezTo>
                <a:cubicBezTo>
                  <a:pt x="53" y="679"/>
                  <a:pt x="64" y="667"/>
                  <a:pt x="72" y="664"/>
                </a:cubicBezTo>
                <a:cubicBezTo>
                  <a:pt x="116" y="597"/>
                  <a:pt x="57" y="672"/>
                  <a:pt x="104" y="672"/>
                </a:cubicBezTo>
                <a:cubicBezTo>
                  <a:pt x="115" y="672"/>
                  <a:pt x="106" y="649"/>
                  <a:pt x="112" y="640"/>
                </a:cubicBezTo>
                <a:cubicBezTo>
                  <a:pt x="117" y="632"/>
                  <a:pt x="128" y="629"/>
                  <a:pt x="136" y="624"/>
                </a:cubicBezTo>
                <a:cubicBezTo>
                  <a:pt x="173" y="699"/>
                  <a:pt x="134" y="637"/>
                  <a:pt x="160" y="624"/>
                </a:cubicBezTo>
                <a:cubicBezTo>
                  <a:pt x="169" y="620"/>
                  <a:pt x="176" y="635"/>
                  <a:pt x="184" y="640"/>
                </a:cubicBezTo>
                <a:cubicBezTo>
                  <a:pt x="187" y="651"/>
                  <a:pt x="189" y="661"/>
                  <a:pt x="192" y="672"/>
                </a:cubicBezTo>
                <a:cubicBezTo>
                  <a:pt x="194" y="680"/>
                  <a:pt x="194" y="702"/>
                  <a:pt x="200" y="696"/>
                </a:cubicBezTo>
                <a:cubicBezTo>
                  <a:pt x="217" y="679"/>
                  <a:pt x="210" y="648"/>
                  <a:pt x="216" y="624"/>
                </a:cubicBezTo>
                <a:cubicBezTo>
                  <a:pt x="219" y="635"/>
                  <a:pt x="221" y="645"/>
                  <a:pt x="224" y="656"/>
                </a:cubicBezTo>
                <a:cubicBezTo>
                  <a:pt x="229" y="672"/>
                  <a:pt x="240" y="704"/>
                  <a:pt x="240" y="704"/>
                </a:cubicBezTo>
                <a:cubicBezTo>
                  <a:pt x="245" y="695"/>
                  <a:pt x="268" y="643"/>
                  <a:pt x="280" y="640"/>
                </a:cubicBezTo>
                <a:cubicBezTo>
                  <a:pt x="288" y="638"/>
                  <a:pt x="286" y="656"/>
                  <a:pt x="288" y="664"/>
                </a:cubicBezTo>
                <a:cubicBezTo>
                  <a:pt x="308" y="734"/>
                  <a:pt x="285" y="662"/>
                  <a:pt x="304" y="720"/>
                </a:cubicBezTo>
                <a:cubicBezTo>
                  <a:pt x="307" y="709"/>
                  <a:pt x="309" y="699"/>
                  <a:pt x="312" y="688"/>
                </a:cubicBezTo>
                <a:cubicBezTo>
                  <a:pt x="317" y="672"/>
                  <a:pt x="328" y="640"/>
                  <a:pt x="328" y="640"/>
                </a:cubicBezTo>
                <a:cubicBezTo>
                  <a:pt x="333" y="648"/>
                  <a:pt x="340" y="655"/>
                  <a:pt x="344" y="664"/>
                </a:cubicBezTo>
                <a:cubicBezTo>
                  <a:pt x="348" y="672"/>
                  <a:pt x="344" y="686"/>
                  <a:pt x="352" y="688"/>
                </a:cubicBezTo>
                <a:cubicBezTo>
                  <a:pt x="361" y="690"/>
                  <a:pt x="398" y="650"/>
                  <a:pt x="400" y="648"/>
                </a:cubicBezTo>
                <a:cubicBezTo>
                  <a:pt x="443" y="735"/>
                  <a:pt x="426" y="731"/>
                  <a:pt x="440" y="656"/>
                </a:cubicBezTo>
                <a:cubicBezTo>
                  <a:pt x="444" y="634"/>
                  <a:pt x="449" y="621"/>
                  <a:pt x="456" y="600"/>
                </a:cubicBezTo>
                <a:cubicBezTo>
                  <a:pt x="461" y="616"/>
                  <a:pt x="467" y="632"/>
                  <a:pt x="472" y="648"/>
                </a:cubicBezTo>
                <a:cubicBezTo>
                  <a:pt x="475" y="659"/>
                  <a:pt x="477" y="691"/>
                  <a:pt x="480" y="680"/>
                </a:cubicBezTo>
                <a:cubicBezTo>
                  <a:pt x="494" y="630"/>
                  <a:pt x="487" y="578"/>
                  <a:pt x="504" y="528"/>
                </a:cubicBezTo>
                <a:cubicBezTo>
                  <a:pt x="535" y="590"/>
                  <a:pt x="523" y="656"/>
                  <a:pt x="544" y="720"/>
                </a:cubicBezTo>
                <a:cubicBezTo>
                  <a:pt x="565" y="534"/>
                  <a:pt x="573" y="353"/>
                  <a:pt x="608" y="168"/>
                </a:cubicBezTo>
                <a:cubicBezTo>
                  <a:pt x="658" y="369"/>
                  <a:pt x="588" y="537"/>
                  <a:pt x="624" y="752"/>
                </a:cubicBezTo>
                <a:cubicBezTo>
                  <a:pt x="645" y="876"/>
                  <a:pt x="635" y="501"/>
                  <a:pt x="640" y="376"/>
                </a:cubicBezTo>
                <a:cubicBezTo>
                  <a:pt x="656" y="524"/>
                  <a:pt x="628" y="717"/>
                  <a:pt x="672" y="848"/>
                </a:cubicBezTo>
                <a:cubicBezTo>
                  <a:pt x="683" y="784"/>
                  <a:pt x="685" y="720"/>
                  <a:pt x="696" y="656"/>
                </a:cubicBezTo>
                <a:cubicBezTo>
                  <a:pt x="712" y="565"/>
                  <a:pt x="752" y="384"/>
                  <a:pt x="752" y="384"/>
                </a:cubicBezTo>
                <a:cubicBezTo>
                  <a:pt x="802" y="459"/>
                  <a:pt x="776" y="411"/>
                  <a:pt x="776" y="600"/>
                </a:cubicBezTo>
                <a:cubicBezTo>
                  <a:pt x="776" y="637"/>
                  <a:pt x="742" y="738"/>
                  <a:pt x="768" y="712"/>
                </a:cubicBezTo>
                <a:cubicBezTo>
                  <a:pt x="804" y="676"/>
                  <a:pt x="780" y="610"/>
                  <a:pt x="792" y="560"/>
                </a:cubicBezTo>
                <a:cubicBezTo>
                  <a:pt x="823" y="713"/>
                  <a:pt x="757" y="375"/>
                  <a:pt x="808" y="832"/>
                </a:cubicBezTo>
                <a:cubicBezTo>
                  <a:pt x="811" y="861"/>
                  <a:pt x="814" y="773"/>
                  <a:pt x="816" y="744"/>
                </a:cubicBezTo>
                <a:cubicBezTo>
                  <a:pt x="823" y="645"/>
                  <a:pt x="819" y="541"/>
                  <a:pt x="856" y="448"/>
                </a:cubicBezTo>
                <a:cubicBezTo>
                  <a:pt x="898" y="547"/>
                  <a:pt x="883" y="642"/>
                  <a:pt x="896" y="408"/>
                </a:cubicBezTo>
                <a:cubicBezTo>
                  <a:pt x="929" y="507"/>
                  <a:pt x="914" y="653"/>
                  <a:pt x="920" y="760"/>
                </a:cubicBezTo>
                <a:cubicBezTo>
                  <a:pt x="927" y="640"/>
                  <a:pt x="926" y="614"/>
                  <a:pt x="944" y="496"/>
                </a:cubicBezTo>
                <a:cubicBezTo>
                  <a:pt x="951" y="453"/>
                  <a:pt x="958" y="410"/>
                  <a:pt x="968" y="368"/>
                </a:cubicBezTo>
                <a:cubicBezTo>
                  <a:pt x="974" y="343"/>
                  <a:pt x="992" y="296"/>
                  <a:pt x="992" y="296"/>
                </a:cubicBezTo>
                <a:cubicBezTo>
                  <a:pt x="1012" y="356"/>
                  <a:pt x="1011" y="417"/>
                  <a:pt x="1016" y="480"/>
                </a:cubicBezTo>
                <a:cubicBezTo>
                  <a:pt x="1027" y="401"/>
                  <a:pt x="1036" y="350"/>
                  <a:pt x="1064" y="280"/>
                </a:cubicBezTo>
                <a:cubicBezTo>
                  <a:pt x="1082" y="352"/>
                  <a:pt x="1073" y="323"/>
                  <a:pt x="1088" y="368"/>
                </a:cubicBezTo>
                <a:cubicBezTo>
                  <a:pt x="1093" y="357"/>
                  <a:pt x="1092" y="336"/>
                  <a:pt x="1104" y="336"/>
                </a:cubicBezTo>
                <a:cubicBezTo>
                  <a:pt x="1116" y="336"/>
                  <a:pt x="1110" y="375"/>
                  <a:pt x="1120" y="368"/>
                </a:cubicBezTo>
                <a:cubicBezTo>
                  <a:pt x="1140" y="355"/>
                  <a:pt x="1152" y="304"/>
                  <a:pt x="1152" y="304"/>
                </a:cubicBezTo>
                <a:cubicBezTo>
                  <a:pt x="1155" y="267"/>
                  <a:pt x="1156" y="229"/>
                  <a:pt x="1160" y="192"/>
                </a:cubicBezTo>
                <a:cubicBezTo>
                  <a:pt x="1174" y="57"/>
                  <a:pt x="1163" y="48"/>
                  <a:pt x="1192" y="120"/>
                </a:cubicBezTo>
                <a:cubicBezTo>
                  <a:pt x="1189" y="280"/>
                  <a:pt x="1190" y="440"/>
                  <a:pt x="1184" y="600"/>
                </a:cubicBezTo>
                <a:cubicBezTo>
                  <a:pt x="1182" y="659"/>
                  <a:pt x="1173" y="717"/>
                  <a:pt x="1168" y="776"/>
                </a:cubicBezTo>
                <a:cubicBezTo>
                  <a:pt x="1165" y="819"/>
                  <a:pt x="1160" y="947"/>
                  <a:pt x="1160" y="904"/>
                </a:cubicBezTo>
                <a:cubicBezTo>
                  <a:pt x="1160" y="638"/>
                  <a:pt x="1179" y="747"/>
                  <a:pt x="1216" y="416"/>
                </a:cubicBezTo>
                <a:cubicBezTo>
                  <a:pt x="1234" y="255"/>
                  <a:pt x="1217" y="318"/>
                  <a:pt x="1248" y="224"/>
                </a:cubicBezTo>
                <a:cubicBezTo>
                  <a:pt x="1306" y="282"/>
                  <a:pt x="1272" y="237"/>
                  <a:pt x="1280" y="392"/>
                </a:cubicBezTo>
                <a:cubicBezTo>
                  <a:pt x="1292" y="611"/>
                  <a:pt x="1288" y="547"/>
                  <a:pt x="1296" y="816"/>
                </a:cubicBezTo>
                <a:cubicBezTo>
                  <a:pt x="1302" y="702"/>
                  <a:pt x="1309" y="486"/>
                  <a:pt x="1360" y="384"/>
                </a:cubicBezTo>
                <a:cubicBezTo>
                  <a:pt x="1368" y="542"/>
                  <a:pt x="1352" y="700"/>
                  <a:pt x="1352" y="856"/>
                </a:cubicBezTo>
                <a:cubicBezTo>
                  <a:pt x="1352" y="864"/>
                  <a:pt x="1357" y="840"/>
                  <a:pt x="1360" y="832"/>
                </a:cubicBezTo>
                <a:cubicBezTo>
                  <a:pt x="1368" y="725"/>
                  <a:pt x="1376" y="543"/>
                  <a:pt x="1416" y="464"/>
                </a:cubicBezTo>
                <a:cubicBezTo>
                  <a:pt x="1444" y="408"/>
                  <a:pt x="1434" y="433"/>
                  <a:pt x="1448" y="392"/>
                </a:cubicBezTo>
                <a:cubicBezTo>
                  <a:pt x="1471" y="483"/>
                  <a:pt x="1467" y="588"/>
                  <a:pt x="1472" y="680"/>
                </a:cubicBezTo>
                <a:cubicBezTo>
                  <a:pt x="1485" y="567"/>
                  <a:pt x="1476" y="446"/>
                  <a:pt x="1504" y="336"/>
                </a:cubicBezTo>
                <a:cubicBezTo>
                  <a:pt x="1530" y="413"/>
                  <a:pt x="1518" y="497"/>
                  <a:pt x="1544" y="576"/>
                </a:cubicBezTo>
                <a:cubicBezTo>
                  <a:pt x="1569" y="502"/>
                  <a:pt x="1555" y="421"/>
                  <a:pt x="1568" y="344"/>
                </a:cubicBezTo>
                <a:cubicBezTo>
                  <a:pt x="1598" y="389"/>
                  <a:pt x="1590" y="369"/>
                  <a:pt x="1592" y="456"/>
                </a:cubicBezTo>
                <a:cubicBezTo>
                  <a:pt x="1597" y="653"/>
                  <a:pt x="1597" y="851"/>
                  <a:pt x="1600" y="1048"/>
                </a:cubicBezTo>
                <a:cubicBezTo>
                  <a:pt x="1631" y="938"/>
                  <a:pt x="1610" y="1030"/>
                  <a:pt x="1624" y="848"/>
                </a:cubicBezTo>
                <a:cubicBezTo>
                  <a:pt x="1628" y="795"/>
                  <a:pt x="1636" y="741"/>
                  <a:pt x="1640" y="688"/>
                </a:cubicBezTo>
                <a:cubicBezTo>
                  <a:pt x="1647" y="581"/>
                  <a:pt x="1651" y="475"/>
                  <a:pt x="1656" y="368"/>
                </a:cubicBezTo>
                <a:cubicBezTo>
                  <a:pt x="1659" y="304"/>
                  <a:pt x="1660" y="251"/>
                  <a:pt x="1680" y="192"/>
                </a:cubicBezTo>
                <a:cubicBezTo>
                  <a:pt x="1681" y="202"/>
                  <a:pt x="1698" y="382"/>
                  <a:pt x="1704" y="376"/>
                </a:cubicBezTo>
                <a:cubicBezTo>
                  <a:pt x="1734" y="346"/>
                  <a:pt x="1706" y="290"/>
                  <a:pt x="1712" y="248"/>
                </a:cubicBezTo>
                <a:cubicBezTo>
                  <a:pt x="1714" y="231"/>
                  <a:pt x="1723" y="216"/>
                  <a:pt x="1728" y="200"/>
                </a:cubicBezTo>
                <a:cubicBezTo>
                  <a:pt x="1818" y="381"/>
                  <a:pt x="1743" y="627"/>
                  <a:pt x="1792" y="824"/>
                </a:cubicBezTo>
                <a:cubicBezTo>
                  <a:pt x="1817" y="343"/>
                  <a:pt x="1767" y="507"/>
                  <a:pt x="1832" y="312"/>
                </a:cubicBezTo>
                <a:cubicBezTo>
                  <a:pt x="1862" y="494"/>
                  <a:pt x="1851" y="704"/>
                  <a:pt x="1856" y="888"/>
                </a:cubicBezTo>
                <a:cubicBezTo>
                  <a:pt x="1859" y="736"/>
                  <a:pt x="1859" y="584"/>
                  <a:pt x="1864" y="432"/>
                </a:cubicBezTo>
                <a:cubicBezTo>
                  <a:pt x="1864" y="424"/>
                  <a:pt x="1867" y="401"/>
                  <a:pt x="1872" y="408"/>
                </a:cubicBezTo>
                <a:cubicBezTo>
                  <a:pt x="1881" y="421"/>
                  <a:pt x="1877" y="440"/>
                  <a:pt x="1880" y="456"/>
                </a:cubicBezTo>
                <a:cubicBezTo>
                  <a:pt x="1889" y="578"/>
                  <a:pt x="1888" y="710"/>
                  <a:pt x="1912" y="832"/>
                </a:cubicBezTo>
                <a:cubicBezTo>
                  <a:pt x="1926" y="548"/>
                  <a:pt x="1918" y="342"/>
                  <a:pt x="1944" y="640"/>
                </a:cubicBezTo>
                <a:cubicBezTo>
                  <a:pt x="1953" y="740"/>
                  <a:pt x="1944" y="847"/>
                  <a:pt x="1976" y="944"/>
                </a:cubicBezTo>
                <a:cubicBezTo>
                  <a:pt x="1999" y="786"/>
                  <a:pt x="1999" y="628"/>
                  <a:pt x="2032" y="472"/>
                </a:cubicBezTo>
                <a:cubicBezTo>
                  <a:pt x="2044" y="509"/>
                  <a:pt x="2052" y="547"/>
                  <a:pt x="2064" y="584"/>
                </a:cubicBezTo>
                <a:cubicBezTo>
                  <a:pt x="2088" y="846"/>
                  <a:pt x="2065" y="459"/>
                  <a:pt x="2088" y="344"/>
                </a:cubicBezTo>
                <a:cubicBezTo>
                  <a:pt x="2124" y="536"/>
                  <a:pt x="2111" y="729"/>
                  <a:pt x="2152" y="920"/>
                </a:cubicBezTo>
                <a:cubicBezTo>
                  <a:pt x="2186" y="748"/>
                  <a:pt x="2158" y="897"/>
                  <a:pt x="2192" y="480"/>
                </a:cubicBezTo>
                <a:cubicBezTo>
                  <a:pt x="2205" y="317"/>
                  <a:pt x="2233" y="162"/>
                  <a:pt x="2256" y="0"/>
                </a:cubicBezTo>
                <a:cubicBezTo>
                  <a:pt x="2304" y="81"/>
                  <a:pt x="2280" y="26"/>
                  <a:pt x="2288" y="184"/>
                </a:cubicBezTo>
                <a:cubicBezTo>
                  <a:pt x="2320" y="824"/>
                  <a:pt x="2286" y="298"/>
                  <a:pt x="2320" y="664"/>
                </a:cubicBezTo>
                <a:cubicBezTo>
                  <a:pt x="2332" y="796"/>
                  <a:pt x="2315" y="738"/>
                  <a:pt x="2336" y="800"/>
                </a:cubicBezTo>
                <a:cubicBezTo>
                  <a:pt x="2339" y="688"/>
                  <a:pt x="2335" y="576"/>
                  <a:pt x="2344" y="464"/>
                </a:cubicBezTo>
                <a:cubicBezTo>
                  <a:pt x="2345" y="450"/>
                  <a:pt x="2358" y="490"/>
                  <a:pt x="2360" y="504"/>
                </a:cubicBezTo>
                <a:cubicBezTo>
                  <a:pt x="2366" y="541"/>
                  <a:pt x="2364" y="579"/>
                  <a:pt x="2368" y="616"/>
                </a:cubicBezTo>
                <a:cubicBezTo>
                  <a:pt x="2373" y="663"/>
                  <a:pt x="2391" y="706"/>
                  <a:pt x="2400" y="752"/>
                </a:cubicBezTo>
                <a:cubicBezTo>
                  <a:pt x="2426" y="594"/>
                  <a:pt x="2415" y="660"/>
                  <a:pt x="2432" y="744"/>
                </a:cubicBezTo>
                <a:cubicBezTo>
                  <a:pt x="2444" y="709"/>
                  <a:pt x="2450" y="675"/>
                  <a:pt x="2464" y="640"/>
                </a:cubicBezTo>
                <a:cubicBezTo>
                  <a:pt x="2475" y="656"/>
                  <a:pt x="2488" y="670"/>
                  <a:pt x="2496" y="688"/>
                </a:cubicBezTo>
                <a:cubicBezTo>
                  <a:pt x="2502" y="700"/>
                  <a:pt x="2490" y="728"/>
                  <a:pt x="2504" y="728"/>
                </a:cubicBezTo>
                <a:cubicBezTo>
                  <a:pt x="2518" y="728"/>
                  <a:pt x="2507" y="701"/>
                  <a:pt x="2512" y="688"/>
                </a:cubicBezTo>
                <a:cubicBezTo>
                  <a:pt x="2528" y="644"/>
                  <a:pt x="2548" y="606"/>
                  <a:pt x="2560" y="560"/>
                </a:cubicBezTo>
                <a:cubicBezTo>
                  <a:pt x="2581" y="642"/>
                  <a:pt x="2583" y="724"/>
                  <a:pt x="2592" y="808"/>
                </a:cubicBezTo>
                <a:cubicBezTo>
                  <a:pt x="2654" y="684"/>
                  <a:pt x="2583" y="521"/>
                  <a:pt x="2664" y="400"/>
                </a:cubicBezTo>
                <a:cubicBezTo>
                  <a:pt x="2691" y="467"/>
                  <a:pt x="2688" y="528"/>
                  <a:pt x="2704" y="600"/>
                </a:cubicBezTo>
                <a:cubicBezTo>
                  <a:pt x="2709" y="625"/>
                  <a:pt x="2728" y="672"/>
                  <a:pt x="2728" y="672"/>
                </a:cubicBezTo>
                <a:cubicBezTo>
                  <a:pt x="2759" y="579"/>
                  <a:pt x="2738" y="478"/>
                  <a:pt x="2776" y="384"/>
                </a:cubicBezTo>
                <a:cubicBezTo>
                  <a:pt x="2814" y="461"/>
                  <a:pt x="2799" y="549"/>
                  <a:pt x="2816" y="632"/>
                </a:cubicBezTo>
                <a:cubicBezTo>
                  <a:pt x="2821" y="624"/>
                  <a:pt x="2829" y="617"/>
                  <a:pt x="2832" y="608"/>
                </a:cubicBezTo>
                <a:cubicBezTo>
                  <a:pt x="2840" y="582"/>
                  <a:pt x="2827" y="545"/>
                  <a:pt x="2848" y="528"/>
                </a:cubicBezTo>
                <a:cubicBezTo>
                  <a:pt x="2862" y="517"/>
                  <a:pt x="2866" y="559"/>
                  <a:pt x="2872" y="576"/>
                </a:cubicBezTo>
                <a:cubicBezTo>
                  <a:pt x="2879" y="597"/>
                  <a:pt x="2888" y="640"/>
                  <a:pt x="2888" y="640"/>
                </a:cubicBezTo>
                <a:cubicBezTo>
                  <a:pt x="2885" y="488"/>
                  <a:pt x="2885" y="336"/>
                  <a:pt x="2880" y="184"/>
                </a:cubicBezTo>
                <a:cubicBezTo>
                  <a:pt x="2880" y="176"/>
                  <a:pt x="2872" y="152"/>
                  <a:pt x="2872" y="160"/>
                </a:cubicBezTo>
                <a:cubicBezTo>
                  <a:pt x="2872" y="208"/>
                  <a:pt x="2878" y="256"/>
                  <a:pt x="2880" y="304"/>
                </a:cubicBezTo>
                <a:cubicBezTo>
                  <a:pt x="2887" y="495"/>
                  <a:pt x="2874" y="713"/>
                  <a:pt x="2912" y="904"/>
                </a:cubicBezTo>
                <a:cubicBezTo>
                  <a:pt x="2994" y="657"/>
                  <a:pt x="2894" y="383"/>
                  <a:pt x="2976" y="136"/>
                </a:cubicBezTo>
                <a:cubicBezTo>
                  <a:pt x="3028" y="395"/>
                  <a:pt x="3032" y="665"/>
                  <a:pt x="3048" y="928"/>
                </a:cubicBezTo>
                <a:cubicBezTo>
                  <a:pt x="3102" y="765"/>
                  <a:pt x="2998" y="275"/>
                  <a:pt x="3096" y="520"/>
                </a:cubicBezTo>
                <a:cubicBezTo>
                  <a:pt x="3100" y="582"/>
                  <a:pt x="3093" y="644"/>
                  <a:pt x="3128" y="696"/>
                </a:cubicBezTo>
                <a:cubicBezTo>
                  <a:pt x="3131" y="680"/>
                  <a:pt x="3133" y="664"/>
                  <a:pt x="3136" y="648"/>
                </a:cubicBezTo>
                <a:cubicBezTo>
                  <a:pt x="3138" y="637"/>
                  <a:pt x="3133" y="616"/>
                  <a:pt x="3144" y="616"/>
                </a:cubicBezTo>
                <a:cubicBezTo>
                  <a:pt x="3151" y="616"/>
                  <a:pt x="3166" y="665"/>
                  <a:pt x="3168" y="672"/>
                </a:cubicBezTo>
                <a:cubicBezTo>
                  <a:pt x="3176" y="651"/>
                  <a:pt x="3184" y="629"/>
                  <a:pt x="3192" y="608"/>
                </a:cubicBezTo>
                <a:cubicBezTo>
                  <a:pt x="3195" y="600"/>
                  <a:pt x="3192" y="584"/>
                  <a:pt x="3200" y="584"/>
                </a:cubicBezTo>
                <a:cubicBezTo>
                  <a:pt x="3210" y="584"/>
                  <a:pt x="3211" y="600"/>
                  <a:pt x="3216" y="608"/>
                </a:cubicBezTo>
                <a:cubicBezTo>
                  <a:pt x="3236" y="687"/>
                  <a:pt x="3221" y="691"/>
                  <a:pt x="3256" y="632"/>
                </a:cubicBezTo>
                <a:cubicBezTo>
                  <a:pt x="3259" y="619"/>
                  <a:pt x="3261" y="605"/>
                  <a:pt x="3264" y="592"/>
                </a:cubicBezTo>
                <a:cubicBezTo>
                  <a:pt x="3266" y="581"/>
                  <a:pt x="3262" y="555"/>
                  <a:pt x="3272" y="560"/>
                </a:cubicBezTo>
                <a:cubicBezTo>
                  <a:pt x="3289" y="568"/>
                  <a:pt x="3299" y="621"/>
                  <a:pt x="3304" y="640"/>
                </a:cubicBezTo>
                <a:cubicBezTo>
                  <a:pt x="3312" y="629"/>
                  <a:pt x="3322" y="620"/>
                  <a:pt x="3328" y="608"/>
                </a:cubicBezTo>
                <a:cubicBezTo>
                  <a:pt x="3333" y="598"/>
                  <a:pt x="3325" y="574"/>
                  <a:pt x="3336" y="576"/>
                </a:cubicBezTo>
                <a:cubicBezTo>
                  <a:pt x="3341" y="577"/>
                  <a:pt x="3401" y="662"/>
                  <a:pt x="3408" y="672"/>
                </a:cubicBezTo>
                <a:cubicBezTo>
                  <a:pt x="3425" y="638"/>
                  <a:pt x="3431" y="605"/>
                  <a:pt x="3440" y="568"/>
                </a:cubicBezTo>
                <a:cubicBezTo>
                  <a:pt x="3448" y="579"/>
                  <a:pt x="3454" y="591"/>
                  <a:pt x="3464" y="600"/>
                </a:cubicBezTo>
                <a:cubicBezTo>
                  <a:pt x="3470" y="605"/>
                  <a:pt x="3482" y="602"/>
                  <a:pt x="3488" y="608"/>
                </a:cubicBezTo>
                <a:cubicBezTo>
                  <a:pt x="3494" y="614"/>
                  <a:pt x="3491" y="625"/>
                  <a:pt x="3496" y="632"/>
                </a:cubicBezTo>
                <a:cubicBezTo>
                  <a:pt x="3507" y="646"/>
                  <a:pt x="3528" y="651"/>
                  <a:pt x="3544" y="656"/>
                </a:cubicBezTo>
                <a:cubicBezTo>
                  <a:pt x="3555" y="640"/>
                  <a:pt x="3560" y="597"/>
                  <a:pt x="3576" y="608"/>
                </a:cubicBezTo>
                <a:cubicBezTo>
                  <a:pt x="3611" y="631"/>
                  <a:pt x="3650" y="637"/>
                  <a:pt x="3688" y="656"/>
                </a:cubicBezTo>
                <a:cubicBezTo>
                  <a:pt x="3733" y="611"/>
                  <a:pt x="3739" y="604"/>
                  <a:pt x="3792" y="640"/>
                </a:cubicBezTo>
                <a:cubicBezTo>
                  <a:pt x="3835" y="631"/>
                  <a:pt x="3850" y="626"/>
                  <a:pt x="3864" y="584"/>
                </a:cubicBezTo>
                <a:cubicBezTo>
                  <a:pt x="3869" y="592"/>
                  <a:pt x="3872" y="603"/>
                  <a:pt x="3880" y="608"/>
                </a:cubicBezTo>
                <a:cubicBezTo>
                  <a:pt x="3888" y="613"/>
                  <a:pt x="3960" y="616"/>
                  <a:pt x="3928" y="648"/>
                </a:cubicBezTo>
              </a:path>
            </a:pathLst>
          </a:custGeom>
          <a:noFill/>
          <a:ln w="158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11760" y="5391000"/>
            <a:ext cx="76320" cy="76320"/>
          </a:xfrm>
          <a:prstGeom prst="ellipse">
            <a:avLst/>
          </a:prstGeom>
          <a:solidFill>
            <a:srgbClr val="ffff66"/>
          </a:solidFill>
          <a:ln w="64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1120" y="4129200"/>
            <a:ext cx="139680" cy="13968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12880" y="4048200"/>
            <a:ext cx="13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GA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878040" y="1809720"/>
            <a:ext cx="1953720" cy="1335960"/>
            <a:chOff x="878040" y="1809720"/>
            <a:chExt cx="1953720" cy="1335960"/>
          </a:xfrm>
        </p:grpSpPr>
        <p:sp>
          <p:nvSpPr>
            <p:cNvPr id="139" name=""/>
            <p:cNvSpPr/>
            <p:nvPr/>
          </p:nvSpPr>
          <p:spPr>
            <a:xfrm>
              <a:off x="878040" y="3119400"/>
              <a:ext cx="1953720" cy="26280"/>
            </a:xfrm>
            <a:prstGeom prst="rect">
              <a:avLst/>
            </a:prstGeom>
            <a:solidFill>
              <a:srgbClr val="ffff66"/>
            </a:solidFill>
            <a:ln w="381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1101960" y="1890360"/>
              <a:ext cx="0" cy="122868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094760" y="1893240"/>
              <a:ext cx="1448280" cy="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101960" y="2291760"/>
              <a:ext cx="1402920" cy="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01960" y="2692440"/>
              <a:ext cx="1433880" cy="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1815480" y="1917000"/>
              <a:ext cx="0" cy="119988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2528640" y="1878840"/>
              <a:ext cx="0" cy="126216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693800" y="1809720"/>
              <a:ext cx="238320" cy="188640"/>
            </a:xfrm>
            <a:prstGeom prst="flowChartConnector">
              <a:avLst/>
            </a:prstGeom>
            <a:solidFill>
              <a:srgbClr val="ffff66"/>
            </a:solidFill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93800" y="2181960"/>
              <a:ext cx="238320" cy="186120"/>
            </a:xfrm>
            <a:prstGeom prst="flowChartConnector">
              <a:avLst/>
            </a:prstGeom>
            <a:solidFill>
              <a:srgbClr val="ffff66"/>
            </a:solidFill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693800" y="2606400"/>
              <a:ext cx="238320" cy="188280"/>
            </a:xfrm>
            <a:prstGeom prst="flowChartConnector">
              <a:avLst/>
            </a:prstGeom>
            <a:solidFill>
              <a:srgbClr val="ffff66"/>
            </a:solidFill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1930320" y="1917720"/>
                <a:ext cx="34128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480" y="-360"/>
            <a:ext cx="91249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Valutazione della risposta sismica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4479840" y="1301760"/>
            <a:ext cx="44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Massima risposta sismica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90960" y="2220840"/>
            <a:ext cx="1109520" cy="895320"/>
          </a:xfrm>
          <a:custGeom>
            <a:avLst/>
            <a:gdLst>
              <a:gd name="textAreaLeft" fmla="*/ 138600 w 1109520"/>
              <a:gd name="textAreaRight" fmla="*/ 970920 w 1109520"/>
              <a:gd name="textAreaTop" fmla="*/ 223920 h 895320"/>
              <a:gd name="textAreaBottom" fmla="*/ 671760 h 895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91000" y="1890720"/>
            <a:ext cx="447192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… </a:t>
            </a: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in maniera sintetica …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Taglio alla base (V</a:t>
            </a:r>
            <a:r>
              <a:rPr b="0" lang="it-IT" sz="2400" spc="-1" strike="noStrike" baseline="-25000">
                <a:solidFill>
                  <a:srgbClr val="ffff66"/>
                </a:solidFill>
                <a:latin typeface="Comic Sans MS"/>
              </a:rPr>
              <a:t>b</a:t>
            </a: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Spostamenti in testa (D</a:t>
            </a:r>
            <a:r>
              <a:rPr b="0" lang="it-IT" sz="2400" spc="-1" strike="noStrike" baseline="-25000">
                <a:solidFill>
                  <a:srgbClr val="ffff66"/>
                </a:solidFill>
                <a:latin typeface="Comic Sans MS"/>
              </a:rPr>
              <a:t>t</a:t>
            </a: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675240" y="3621240"/>
            <a:ext cx="4516200" cy="2873160"/>
            <a:chOff x="3675240" y="3621240"/>
            <a:chExt cx="4516200" cy="2873160"/>
          </a:xfrm>
        </p:grpSpPr>
        <p:sp>
          <p:nvSpPr>
            <p:cNvPr id="155" name=""/>
            <p:cNvSpPr/>
            <p:nvPr/>
          </p:nvSpPr>
          <p:spPr>
            <a:xfrm>
              <a:off x="4181400" y="3672000"/>
              <a:ext cx="3983040" cy="2768400"/>
            </a:xfrm>
            <a:prstGeom prst="rect">
              <a:avLst/>
            </a:prstGeom>
            <a:noFill/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181400" y="3672000"/>
              <a:ext cx="3983040" cy="2768400"/>
            </a:xfrm>
            <a:prstGeom prst="rect">
              <a:avLst/>
            </a:prstGeom>
            <a:noFill/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672000"/>
              <a:ext cx="1800" cy="276840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140360" y="6440400"/>
              <a:ext cx="83880" cy="180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40360" y="5748480"/>
              <a:ext cx="83880" cy="14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140360" y="5056200"/>
              <a:ext cx="83880" cy="14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140360" y="4363920"/>
              <a:ext cx="83880" cy="180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140360" y="3672000"/>
              <a:ext cx="83880" cy="14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127400" y="6440400"/>
              <a:ext cx="109800" cy="180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127400" y="5056200"/>
              <a:ext cx="109800" cy="14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7400" y="3672000"/>
              <a:ext cx="109800" cy="14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181400" y="6440400"/>
              <a:ext cx="3983040" cy="180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4181400" y="6397560"/>
              <a:ext cx="1800" cy="842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5178600" y="6397560"/>
              <a:ext cx="1440" cy="842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6173640" y="6397560"/>
              <a:ext cx="1800" cy="842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7169040" y="6397560"/>
              <a:ext cx="1800" cy="842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8164440" y="6397560"/>
              <a:ext cx="1800" cy="842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4181400" y="6384960"/>
              <a:ext cx="1800" cy="1094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6173640" y="6384960"/>
              <a:ext cx="1800" cy="1094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8164440" y="6384960"/>
              <a:ext cx="1800" cy="1094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75240" y="3621240"/>
              <a:ext cx="527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66"/>
                  </a:solidFill>
                  <a:latin typeface="Comic Sans MS"/>
                </a:rPr>
                <a:t>V</a:t>
              </a:r>
              <a:r>
                <a:rPr b="0" lang="it-IT" sz="2400" spc="-1" strike="noStrike" baseline="-25000">
                  <a:solidFill>
                    <a:srgbClr val="ffff66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608960" y="5978520"/>
              <a:ext cx="582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66"/>
                  </a:solidFill>
                  <a:latin typeface="Comic Sans MS"/>
                </a:rPr>
                <a:t>D</a:t>
              </a:r>
              <a:r>
                <a:rPr b="0" lang="it-IT" sz="2400" spc="-1" strike="noStrike" baseline="-25000">
                  <a:solidFill>
                    <a:srgbClr val="ffff66"/>
                  </a:solidFill>
                  <a:latin typeface="Comic Sans MS"/>
                </a:rPr>
                <a:t>t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5702400" y="4641840"/>
            <a:ext cx="75960" cy="76320"/>
          </a:xfrm>
          <a:prstGeom prst="ellipse">
            <a:avLst/>
          </a:prstGeom>
          <a:solidFill>
            <a:srgbClr val="ffff66"/>
          </a:solidFill>
          <a:ln w="64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11760" y="5391000"/>
            <a:ext cx="76320" cy="76320"/>
          </a:xfrm>
          <a:prstGeom prst="ellipse">
            <a:avLst/>
          </a:prstGeom>
          <a:solidFill>
            <a:srgbClr val="ffff66"/>
          </a:solidFill>
          <a:ln w="64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1089000" y="3168000"/>
            <a:ext cx="1463760" cy="1608120"/>
          </a:xfrm>
          <a:custGeom>
            <a:avLst/>
            <a:gdLst/>
            <a:ahLst/>
            <a:rect l="l" t="t" r="r" b="b"/>
            <a:pathLst>
              <a:path w="3960" h="1048">
                <a:moveTo>
                  <a:pt x="0" y="656"/>
                </a:moveTo>
                <a:cubicBezTo>
                  <a:pt x="12" y="620"/>
                  <a:pt x="21" y="595"/>
                  <a:pt x="48" y="568"/>
                </a:cubicBezTo>
                <a:cubicBezTo>
                  <a:pt x="45" y="588"/>
                  <a:pt x="31" y="650"/>
                  <a:pt x="48" y="672"/>
                </a:cubicBezTo>
                <a:cubicBezTo>
                  <a:pt x="53" y="679"/>
                  <a:pt x="64" y="667"/>
                  <a:pt x="72" y="664"/>
                </a:cubicBezTo>
                <a:cubicBezTo>
                  <a:pt x="116" y="597"/>
                  <a:pt x="57" y="672"/>
                  <a:pt x="104" y="672"/>
                </a:cubicBezTo>
                <a:cubicBezTo>
                  <a:pt x="115" y="672"/>
                  <a:pt x="106" y="649"/>
                  <a:pt x="112" y="640"/>
                </a:cubicBezTo>
                <a:cubicBezTo>
                  <a:pt x="117" y="632"/>
                  <a:pt x="128" y="629"/>
                  <a:pt x="136" y="624"/>
                </a:cubicBezTo>
                <a:cubicBezTo>
                  <a:pt x="173" y="699"/>
                  <a:pt x="134" y="637"/>
                  <a:pt x="160" y="624"/>
                </a:cubicBezTo>
                <a:cubicBezTo>
                  <a:pt x="169" y="620"/>
                  <a:pt x="176" y="635"/>
                  <a:pt x="184" y="640"/>
                </a:cubicBezTo>
                <a:cubicBezTo>
                  <a:pt x="187" y="651"/>
                  <a:pt x="189" y="661"/>
                  <a:pt x="192" y="672"/>
                </a:cubicBezTo>
                <a:cubicBezTo>
                  <a:pt x="194" y="680"/>
                  <a:pt x="194" y="702"/>
                  <a:pt x="200" y="696"/>
                </a:cubicBezTo>
                <a:cubicBezTo>
                  <a:pt x="217" y="679"/>
                  <a:pt x="210" y="648"/>
                  <a:pt x="216" y="624"/>
                </a:cubicBezTo>
                <a:cubicBezTo>
                  <a:pt x="219" y="635"/>
                  <a:pt x="221" y="645"/>
                  <a:pt x="224" y="656"/>
                </a:cubicBezTo>
                <a:cubicBezTo>
                  <a:pt x="229" y="672"/>
                  <a:pt x="240" y="704"/>
                  <a:pt x="240" y="704"/>
                </a:cubicBezTo>
                <a:cubicBezTo>
                  <a:pt x="245" y="695"/>
                  <a:pt x="268" y="643"/>
                  <a:pt x="280" y="640"/>
                </a:cubicBezTo>
                <a:cubicBezTo>
                  <a:pt x="288" y="638"/>
                  <a:pt x="286" y="656"/>
                  <a:pt x="288" y="664"/>
                </a:cubicBezTo>
                <a:cubicBezTo>
                  <a:pt x="308" y="734"/>
                  <a:pt x="285" y="662"/>
                  <a:pt x="304" y="720"/>
                </a:cubicBezTo>
                <a:cubicBezTo>
                  <a:pt x="307" y="709"/>
                  <a:pt x="309" y="699"/>
                  <a:pt x="312" y="688"/>
                </a:cubicBezTo>
                <a:cubicBezTo>
                  <a:pt x="317" y="672"/>
                  <a:pt x="328" y="640"/>
                  <a:pt x="328" y="640"/>
                </a:cubicBezTo>
                <a:cubicBezTo>
                  <a:pt x="333" y="648"/>
                  <a:pt x="340" y="655"/>
                  <a:pt x="344" y="664"/>
                </a:cubicBezTo>
                <a:cubicBezTo>
                  <a:pt x="348" y="672"/>
                  <a:pt x="344" y="686"/>
                  <a:pt x="352" y="688"/>
                </a:cubicBezTo>
                <a:cubicBezTo>
                  <a:pt x="361" y="690"/>
                  <a:pt x="398" y="650"/>
                  <a:pt x="400" y="648"/>
                </a:cubicBezTo>
                <a:cubicBezTo>
                  <a:pt x="443" y="735"/>
                  <a:pt x="426" y="731"/>
                  <a:pt x="440" y="656"/>
                </a:cubicBezTo>
                <a:cubicBezTo>
                  <a:pt x="444" y="634"/>
                  <a:pt x="449" y="621"/>
                  <a:pt x="456" y="600"/>
                </a:cubicBezTo>
                <a:cubicBezTo>
                  <a:pt x="461" y="616"/>
                  <a:pt x="467" y="632"/>
                  <a:pt x="472" y="648"/>
                </a:cubicBezTo>
                <a:cubicBezTo>
                  <a:pt x="475" y="659"/>
                  <a:pt x="477" y="691"/>
                  <a:pt x="480" y="680"/>
                </a:cubicBezTo>
                <a:cubicBezTo>
                  <a:pt x="494" y="630"/>
                  <a:pt x="487" y="578"/>
                  <a:pt x="504" y="528"/>
                </a:cubicBezTo>
                <a:cubicBezTo>
                  <a:pt x="535" y="590"/>
                  <a:pt x="523" y="656"/>
                  <a:pt x="544" y="720"/>
                </a:cubicBezTo>
                <a:cubicBezTo>
                  <a:pt x="565" y="534"/>
                  <a:pt x="573" y="353"/>
                  <a:pt x="608" y="168"/>
                </a:cubicBezTo>
                <a:cubicBezTo>
                  <a:pt x="658" y="369"/>
                  <a:pt x="588" y="537"/>
                  <a:pt x="624" y="752"/>
                </a:cubicBezTo>
                <a:cubicBezTo>
                  <a:pt x="645" y="876"/>
                  <a:pt x="635" y="501"/>
                  <a:pt x="640" y="376"/>
                </a:cubicBezTo>
                <a:cubicBezTo>
                  <a:pt x="656" y="524"/>
                  <a:pt x="628" y="717"/>
                  <a:pt x="672" y="848"/>
                </a:cubicBezTo>
                <a:cubicBezTo>
                  <a:pt x="683" y="784"/>
                  <a:pt x="685" y="720"/>
                  <a:pt x="696" y="656"/>
                </a:cubicBezTo>
                <a:cubicBezTo>
                  <a:pt x="712" y="565"/>
                  <a:pt x="752" y="384"/>
                  <a:pt x="752" y="384"/>
                </a:cubicBezTo>
                <a:cubicBezTo>
                  <a:pt x="802" y="459"/>
                  <a:pt x="776" y="411"/>
                  <a:pt x="776" y="600"/>
                </a:cubicBezTo>
                <a:cubicBezTo>
                  <a:pt x="776" y="637"/>
                  <a:pt x="742" y="738"/>
                  <a:pt x="768" y="712"/>
                </a:cubicBezTo>
                <a:cubicBezTo>
                  <a:pt x="804" y="676"/>
                  <a:pt x="780" y="610"/>
                  <a:pt x="792" y="560"/>
                </a:cubicBezTo>
                <a:cubicBezTo>
                  <a:pt x="823" y="713"/>
                  <a:pt x="757" y="375"/>
                  <a:pt x="808" y="832"/>
                </a:cubicBezTo>
                <a:cubicBezTo>
                  <a:pt x="811" y="861"/>
                  <a:pt x="814" y="773"/>
                  <a:pt x="816" y="744"/>
                </a:cubicBezTo>
                <a:cubicBezTo>
                  <a:pt x="823" y="645"/>
                  <a:pt x="819" y="541"/>
                  <a:pt x="856" y="448"/>
                </a:cubicBezTo>
                <a:cubicBezTo>
                  <a:pt x="898" y="547"/>
                  <a:pt x="883" y="642"/>
                  <a:pt x="896" y="408"/>
                </a:cubicBezTo>
                <a:cubicBezTo>
                  <a:pt x="929" y="507"/>
                  <a:pt x="914" y="653"/>
                  <a:pt x="920" y="760"/>
                </a:cubicBezTo>
                <a:cubicBezTo>
                  <a:pt x="927" y="640"/>
                  <a:pt x="926" y="614"/>
                  <a:pt x="944" y="496"/>
                </a:cubicBezTo>
                <a:cubicBezTo>
                  <a:pt x="951" y="453"/>
                  <a:pt x="958" y="410"/>
                  <a:pt x="968" y="368"/>
                </a:cubicBezTo>
                <a:cubicBezTo>
                  <a:pt x="974" y="343"/>
                  <a:pt x="992" y="296"/>
                  <a:pt x="992" y="296"/>
                </a:cubicBezTo>
                <a:cubicBezTo>
                  <a:pt x="1012" y="356"/>
                  <a:pt x="1011" y="417"/>
                  <a:pt x="1016" y="480"/>
                </a:cubicBezTo>
                <a:cubicBezTo>
                  <a:pt x="1027" y="401"/>
                  <a:pt x="1036" y="350"/>
                  <a:pt x="1064" y="280"/>
                </a:cubicBezTo>
                <a:cubicBezTo>
                  <a:pt x="1082" y="352"/>
                  <a:pt x="1073" y="323"/>
                  <a:pt x="1088" y="368"/>
                </a:cubicBezTo>
                <a:cubicBezTo>
                  <a:pt x="1093" y="357"/>
                  <a:pt x="1092" y="336"/>
                  <a:pt x="1104" y="336"/>
                </a:cubicBezTo>
                <a:cubicBezTo>
                  <a:pt x="1116" y="336"/>
                  <a:pt x="1110" y="375"/>
                  <a:pt x="1120" y="368"/>
                </a:cubicBezTo>
                <a:cubicBezTo>
                  <a:pt x="1140" y="355"/>
                  <a:pt x="1152" y="304"/>
                  <a:pt x="1152" y="304"/>
                </a:cubicBezTo>
                <a:cubicBezTo>
                  <a:pt x="1155" y="267"/>
                  <a:pt x="1156" y="229"/>
                  <a:pt x="1160" y="192"/>
                </a:cubicBezTo>
                <a:cubicBezTo>
                  <a:pt x="1174" y="57"/>
                  <a:pt x="1163" y="48"/>
                  <a:pt x="1192" y="120"/>
                </a:cubicBezTo>
                <a:cubicBezTo>
                  <a:pt x="1189" y="280"/>
                  <a:pt x="1190" y="440"/>
                  <a:pt x="1184" y="600"/>
                </a:cubicBezTo>
                <a:cubicBezTo>
                  <a:pt x="1182" y="659"/>
                  <a:pt x="1173" y="717"/>
                  <a:pt x="1168" y="776"/>
                </a:cubicBezTo>
                <a:cubicBezTo>
                  <a:pt x="1165" y="819"/>
                  <a:pt x="1160" y="947"/>
                  <a:pt x="1160" y="904"/>
                </a:cubicBezTo>
                <a:cubicBezTo>
                  <a:pt x="1160" y="638"/>
                  <a:pt x="1179" y="747"/>
                  <a:pt x="1216" y="416"/>
                </a:cubicBezTo>
                <a:cubicBezTo>
                  <a:pt x="1234" y="255"/>
                  <a:pt x="1217" y="318"/>
                  <a:pt x="1248" y="224"/>
                </a:cubicBezTo>
                <a:cubicBezTo>
                  <a:pt x="1306" y="282"/>
                  <a:pt x="1272" y="237"/>
                  <a:pt x="1280" y="392"/>
                </a:cubicBezTo>
                <a:cubicBezTo>
                  <a:pt x="1292" y="611"/>
                  <a:pt x="1288" y="547"/>
                  <a:pt x="1296" y="816"/>
                </a:cubicBezTo>
                <a:cubicBezTo>
                  <a:pt x="1302" y="702"/>
                  <a:pt x="1309" y="486"/>
                  <a:pt x="1360" y="384"/>
                </a:cubicBezTo>
                <a:cubicBezTo>
                  <a:pt x="1368" y="542"/>
                  <a:pt x="1352" y="700"/>
                  <a:pt x="1352" y="856"/>
                </a:cubicBezTo>
                <a:cubicBezTo>
                  <a:pt x="1352" y="864"/>
                  <a:pt x="1357" y="840"/>
                  <a:pt x="1360" y="832"/>
                </a:cubicBezTo>
                <a:cubicBezTo>
                  <a:pt x="1368" y="725"/>
                  <a:pt x="1376" y="543"/>
                  <a:pt x="1416" y="464"/>
                </a:cubicBezTo>
                <a:cubicBezTo>
                  <a:pt x="1444" y="408"/>
                  <a:pt x="1434" y="433"/>
                  <a:pt x="1448" y="392"/>
                </a:cubicBezTo>
                <a:cubicBezTo>
                  <a:pt x="1471" y="483"/>
                  <a:pt x="1467" y="588"/>
                  <a:pt x="1472" y="680"/>
                </a:cubicBezTo>
                <a:cubicBezTo>
                  <a:pt x="1485" y="567"/>
                  <a:pt x="1476" y="446"/>
                  <a:pt x="1504" y="336"/>
                </a:cubicBezTo>
                <a:cubicBezTo>
                  <a:pt x="1530" y="413"/>
                  <a:pt x="1518" y="497"/>
                  <a:pt x="1544" y="576"/>
                </a:cubicBezTo>
                <a:cubicBezTo>
                  <a:pt x="1569" y="502"/>
                  <a:pt x="1555" y="421"/>
                  <a:pt x="1568" y="344"/>
                </a:cubicBezTo>
                <a:cubicBezTo>
                  <a:pt x="1598" y="389"/>
                  <a:pt x="1590" y="369"/>
                  <a:pt x="1592" y="456"/>
                </a:cubicBezTo>
                <a:cubicBezTo>
                  <a:pt x="1597" y="653"/>
                  <a:pt x="1597" y="851"/>
                  <a:pt x="1600" y="1048"/>
                </a:cubicBezTo>
                <a:cubicBezTo>
                  <a:pt x="1631" y="938"/>
                  <a:pt x="1610" y="1030"/>
                  <a:pt x="1624" y="848"/>
                </a:cubicBezTo>
                <a:cubicBezTo>
                  <a:pt x="1628" y="795"/>
                  <a:pt x="1636" y="741"/>
                  <a:pt x="1640" y="688"/>
                </a:cubicBezTo>
                <a:cubicBezTo>
                  <a:pt x="1647" y="581"/>
                  <a:pt x="1651" y="475"/>
                  <a:pt x="1656" y="368"/>
                </a:cubicBezTo>
                <a:cubicBezTo>
                  <a:pt x="1659" y="304"/>
                  <a:pt x="1660" y="251"/>
                  <a:pt x="1680" y="192"/>
                </a:cubicBezTo>
                <a:cubicBezTo>
                  <a:pt x="1681" y="202"/>
                  <a:pt x="1698" y="382"/>
                  <a:pt x="1704" y="376"/>
                </a:cubicBezTo>
                <a:cubicBezTo>
                  <a:pt x="1734" y="346"/>
                  <a:pt x="1706" y="290"/>
                  <a:pt x="1712" y="248"/>
                </a:cubicBezTo>
                <a:cubicBezTo>
                  <a:pt x="1714" y="231"/>
                  <a:pt x="1723" y="216"/>
                  <a:pt x="1728" y="200"/>
                </a:cubicBezTo>
                <a:cubicBezTo>
                  <a:pt x="1818" y="381"/>
                  <a:pt x="1743" y="627"/>
                  <a:pt x="1792" y="824"/>
                </a:cubicBezTo>
                <a:cubicBezTo>
                  <a:pt x="1817" y="343"/>
                  <a:pt x="1767" y="507"/>
                  <a:pt x="1832" y="312"/>
                </a:cubicBezTo>
                <a:cubicBezTo>
                  <a:pt x="1862" y="494"/>
                  <a:pt x="1851" y="704"/>
                  <a:pt x="1856" y="888"/>
                </a:cubicBezTo>
                <a:cubicBezTo>
                  <a:pt x="1859" y="736"/>
                  <a:pt x="1859" y="584"/>
                  <a:pt x="1864" y="432"/>
                </a:cubicBezTo>
                <a:cubicBezTo>
                  <a:pt x="1864" y="424"/>
                  <a:pt x="1867" y="401"/>
                  <a:pt x="1872" y="408"/>
                </a:cubicBezTo>
                <a:cubicBezTo>
                  <a:pt x="1881" y="421"/>
                  <a:pt x="1877" y="440"/>
                  <a:pt x="1880" y="456"/>
                </a:cubicBezTo>
                <a:cubicBezTo>
                  <a:pt x="1889" y="578"/>
                  <a:pt x="1888" y="710"/>
                  <a:pt x="1912" y="832"/>
                </a:cubicBezTo>
                <a:cubicBezTo>
                  <a:pt x="1926" y="548"/>
                  <a:pt x="1918" y="342"/>
                  <a:pt x="1944" y="640"/>
                </a:cubicBezTo>
                <a:cubicBezTo>
                  <a:pt x="1953" y="740"/>
                  <a:pt x="1944" y="847"/>
                  <a:pt x="1976" y="944"/>
                </a:cubicBezTo>
                <a:cubicBezTo>
                  <a:pt x="1999" y="786"/>
                  <a:pt x="1999" y="628"/>
                  <a:pt x="2032" y="472"/>
                </a:cubicBezTo>
                <a:cubicBezTo>
                  <a:pt x="2044" y="509"/>
                  <a:pt x="2052" y="547"/>
                  <a:pt x="2064" y="584"/>
                </a:cubicBezTo>
                <a:cubicBezTo>
                  <a:pt x="2088" y="846"/>
                  <a:pt x="2065" y="459"/>
                  <a:pt x="2088" y="344"/>
                </a:cubicBezTo>
                <a:cubicBezTo>
                  <a:pt x="2124" y="536"/>
                  <a:pt x="2111" y="729"/>
                  <a:pt x="2152" y="920"/>
                </a:cubicBezTo>
                <a:cubicBezTo>
                  <a:pt x="2186" y="748"/>
                  <a:pt x="2158" y="897"/>
                  <a:pt x="2192" y="480"/>
                </a:cubicBezTo>
                <a:cubicBezTo>
                  <a:pt x="2205" y="317"/>
                  <a:pt x="2233" y="162"/>
                  <a:pt x="2256" y="0"/>
                </a:cubicBezTo>
                <a:cubicBezTo>
                  <a:pt x="2304" y="81"/>
                  <a:pt x="2280" y="26"/>
                  <a:pt x="2288" y="184"/>
                </a:cubicBezTo>
                <a:cubicBezTo>
                  <a:pt x="2320" y="824"/>
                  <a:pt x="2286" y="298"/>
                  <a:pt x="2320" y="664"/>
                </a:cubicBezTo>
                <a:cubicBezTo>
                  <a:pt x="2332" y="796"/>
                  <a:pt x="2315" y="738"/>
                  <a:pt x="2336" y="800"/>
                </a:cubicBezTo>
                <a:cubicBezTo>
                  <a:pt x="2339" y="688"/>
                  <a:pt x="2335" y="576"/>
                  <a:pt x="2344" y="464"/>
                </a:cubicBezTo>
                <a:cubicBezTo>
                  <a:pt x="2345" y="450"/>
                  <a:pt x="2358" y="490"/>
                  <a:pt x="2360" y="504"/>
                </a:cubicBezTo>
                <a:cubicBezTo>
                  <a:pt x="2366" y="541"/>
                  <a:pt x="2364" y="579"/>
                  <a:pt x="2368" y="616"/>
                </a:cubicBezTo>
                <a:cubicBezTo>
                  <a:pt x="2373" y="663"/>
                  <a:pt x="2391" y="706"/>
                  <a:pt x="2400" y="752"/>
                </a:cubicBezTo>
                <a:cubicBezTo>
                  <a:pt x="2426" y="594"/>
                  <a:pt x="2415" y="660"/>
                  <a:pt x="2432" y="744"/>
                </a:cubicBezTo>
                <a:cubicBezTo>
                  <a:pt x="2444" y="709"/>
                  <a:pt x="2450" y="675"/>
                  <a:pt x="2464" y="640"/>
                </a:cubicBezTo>
                <a:cubicBezTo>
                  <a:pt x="2475" y="656"/>
                  <a:pt x="2488" y="670"/>
                  <a:pt x="2496" y="688"/>
                </a:cubicBezTo>
                <a:cubicBezTo>
                  <a:pt x="2502" y="700"/>
                  <a:pt x="2490" y="728"/>
                  <a:pt x="2504" y="728"/>
                </a:cubicBezTo>
                <a:cubicBezTo>
                  <a:pt x="2518" y="728"/>
                  <a:pt x="2507" y="701"/>
                  <a:pt x="2512" y="688"/>
                </a:cubicBezTo>
                <a:cubicBezTo>
                  <a:pt x="2528" y="644"/>
                  <a:pt x="2548" y="606"/>
                  <a:pt x="2560" y="560"/>
                </a:cubicBezTo>
                <a:cubicBezTo>
                  <a:pt x="2581" y="642"/>
                  <a:pt x="2583" y="724"/>
                  <a:pt x="2592" y="808"/>
                </a:cubicBezTo>
                <a:cubicBezTo>
                  <a:pt x="2654" y="684"/>
                  <a:pt x="2583" y="521"/>
                  <a:pt x="2664" y="400"/>
                </a:cubicBezTo>
                <a:cubicBezTo>
                  <a:pt x="2691" y="467"/>
                  <a:pt x="2688" y="528"/>
                  <a:pt x="2704" y="600"/>
                </a:cubicBezTo>
                <a:cubicBezTo>
                  <a:pt x="2709" y="625"/>
                  <a:pt x="2728" y="672"/>
                  <a:pt x="2728" y="672"/>
                </a:cubicBezTo>
                <a:cubicBezTo>
                  <a:pt x="2759" y="579"/>
                  <a:pt x="2738" y="478"/>
                  <a:pt x="2776" y="384"/>
                </a:cubicBezTo>
                <a:cubicBezTo>
                  <a:pt x="2814" y="461"/>
                  <a:pt x="2799" y="549"/>
                  <a:pt x="2816" y="632"/>
                </a:cubicBezTo>
                <a:cubicBezTo>
                  <a:pt x="2821" y="624"/>
                  <a:pt x="2829" y="617"/>
                  <a:pt x="2832" y="608"/>
                </a:cubicBezTo>
                <a:cubicBezTo>
                  <a:pt x="2840" y="582"/>
                  <a:pt x="2827" y="545"/>
                  <a:pt x="2848" y="528"/>
                </a:cubicBezTo>
                <a:cubicBezTo>
                  <a:pt x="2862" y="517"/>
                  <a:pt x="2866" y="559"/>
                  <a:pt x="2872" y="576"/>
                </a:cubicBezTo>
                <a:cubicBezTo>
                  <a:pt x="2879" y="597"/>
                  <a:pt x="2888" y="640"/>
                  <a:pt x="2888" y="640"/>
                </a:cubicBezTo>
                <a:cubicBezTo>
                  <a:pt x="2885" y="488"/>
                  <a:pt x="2885" y="336"/>
                  <a:pt x="2880" y="184"/>
                </a:cubicBezTo>
                <a:cubicBezTo>
                  <a:pt x="2880" y="176"/>
                  <a:pt x="2872" y="152"/>
                  <a:pt x="2872" y="160"/>
                </a:cubicBezTo>
                <a:cubicBezTo>
                  <a:pt x="2872" y="208"/>
                  <a:pt x="2878" y="256"/>
                  <a:pt x="2880" y="304"/>
                </a:cubicBezTo>
                <a:cubicBezTo>
                  <a:pt x="2887" y="495"/>
                  <a:pt x="2874" y="713"/>
                  <a:pt x="2912" y="904"/>
                </a:cubicBezTo>
                <a:cubicBezTo>
                  <a:pt x="2994" y="657"/>
                  <a:pt x="2894" y="383"/>
                  <a:pt x="2976" y="136"/>
                </a:cubicBezTo>
                <a:cubicBezTo>
                  <a:pt x="3028" y="395"/>
                  <a:pt x="3032" y="665"/>
                  <a:pt x="3048" y="928"/>
                </a:cubicBezTo>
                <a:cubicBezTo>
                  <a:pt x="3102" y="765"/>
                  <a:pt x="2998" y="275"/>
                  <a:pt x="3096" y="520"/>
                </a:cubicBezTo>
                <a:cubicBezTo>
                  <a:pt x="3100" y="582"/>
                  <a:pt x="3093" y="644"/>
                  <a:pt x="3128" y="696"/>
                </a:cubicBezTo>
                <a:cubicBezTo>
                  <a:pt x="3131" y="680"/>
                  <a:pt x="3133" y="664"/>
                  <a:pt x="3136" y="648"/>
                </a:cubicBezTo>
                <a:cubicBezTo>
                  <a:pt x="3138" y="637"/>
                  <a:pt x="3133" y="616"/>
                  <a:pt x="3144" y="616"/>
                </a:cubicBezTo>
                <a:cubicBezTo>
                  <a:pt x="3151" y="616"/>
                  <a:pt x="3166" y="665"/>
                  <a:pt x="3168" y="672"/>
                </a:cubicBezTo>
                <a:cubicBezTo>
                  <a:pt x="3176" y="651"/>
                  <a:pt x="3184" y="629"/>
                  <a:pt x="3192" y="608"/>
                </a:cubicBezTo>
                <a:cubicBezTo>
                  <a:pt x="3195" y="600"/>
                  <a:pt x="3192" y="584"/>
                  <a:pt x="3200" y="584"/>
                </a:cubicBezTo>
                <a:cubicBezTo>
                  <a:pt x="3210" y="584"/>
                  <a:pt x="3211" y="600"/>
                  <a:pt x="3216" y="608"/>
                </a:cubicBezTo>
                <a:cubicBezTo>
                  <a:pt x="3236" y="687"/>
                  <a:pt x="3221" y="691"/>
                  <a:pt x="3256" y="632"/>
                </a:cubicBezTo>
                <a:cubicBezTo>
                  <a:pt x="3259" y="619"/>
                  <a:pt x="3261" y="605"/>
                  <a:pt x="3264" y="592"/>
                </a:cubicBezTo>
                <a:cubicBezTo>
                  <a:pt x="3266" y="581"/>
                  <a:pt x="3262" y="555"/>
                  <a:pt x="3272" y="560"/>
                </a:cubicBezTo>
                <a:cubicBezTo>
                  <a:pt x="3289" y="568"/>
                  <a:pt x="3299" y="621"/>
                  <a:pt x="3304" y="640"/>
                </a:cubicBezTo>
                <a:cubicBezTo>
                  <a:pt x="3312" y="629"/>
                  <a:pt x="3322" y="620"/>
                  <a:pt x="3328" y="608"/>
                </a:cubicBezTo>
                <a:cubicBezTo>
                  <a:pt x="3333" y="598"/>
                  <a:pt x="3325" y="574"/>
                  <a:pt x="3336" y="576"/>
                </a:cubicBezTo>
                <a:cubicBezTo>
                  <a:pt x="3341" y="577"/>
                  <a:pt x="3401" y="662"/>
                  <a:pt x="3408" y="672"/>
                </a:cubicBezTo>
                <a:cubicBezTo>
                  <a:pt x="3425" y="638"/>
                  <a:pt x="3431" y="605"/>
                  <a:pt x="3440" y="568"/>
                </a:cubicBezTo>
                <a:cubicBezTo>
                  <a:pt x="3448" y="579"/>
                  <a:pt x="3454" y="591"/>
                  <a:pt x="3464" y="600"/>
                </a:cubicBezTo>
                <a:cubicBezTo>
                  <a:pt x="3470" y="605"/>
                  <a:pt x="3482" y="602"/>
                  <a:pt x="3488" y="608"/>
                </a:cubicBezTo>
                <a:cubicBezTo>
                  <a:pt x="3494" y="614"/>
                  <a:pt x="3491" y="625"/>
                  <a:pt x="3496" y="632"/>
                </a:cubicBezTo>
                <a:cubicBezTo>
                  <a:pt x="3507" y="646"/>
                  <a:pt x="3528" y="651"/>
                  <a:pt x="3544" y="656"/>
                </a:cubicBezTo>
                <a:cubicBezTo>
                  <a:pt x="3555" y="640"/>
                  <a:pt x="3560" y="597"/>
                  <a:pt x="3576" y="608"/>
                </a:cubicBezTo>
                <a:cubicBezTo>
                  <a:pt x="3611" y="631"/>
                  <a:pt x="3650" y="637"/>
                  <a:pt x="3688" y="656"/>
                </a:cubicBezTo>
                <a:cubicBezTo>
                  <a:pt x="3733" y="611"/>
                  <a:pt x="3739" y="604"/>
                  <a:pt x="3792" y="640"/>
                </a:cubicBezTo>
                <a:cubicBezTo>
                  <a:pt x="3835" y="631"/>
                  <a:pt x="3850" y="626"/>
                  <a:pt x="3864" y="584"/>
                </a:cubicBezTo>
                <a:cubicBezTo>
                  <a:pt x="3869" y="592"/>
                  <a:pt x="3872" y="603"/>
                  <a:pt x="3880" y="608"/>
                </a:cubicBezTo>
                <a:cubicBezTo>
                  <a:pt x="3888" y="613"/>
                  <a:pt x="3960" y="616"/>
                  <a:pt x="3928" y="648"/>
                </a:cubicBezTo>
              </a:path>
            </a:pathLst>
          </a:custGeom>
          <a:noFill/>
          <a:ln w="158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75640" y="4397400"/>
            <a:ext cx="75960" cy="76320"/>
          </a:xfrm>
          <a:prstGeom prst="ellipse">
            <a:avLst/>
          </a:prstGeom>
          <a:solidFill>
            <a:srgbClr val="ffff66"/>
          </a:solidFill>
          <a:ln w="64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851120" y="4707000"/>
            <a:ext cx="139680" cy="13968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712880" y="4626000"/>
            <a:ext cx="13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GA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878040" y="1809720"/>
            <a:ext cx="1953720" cy="1335960"/>
            <a:chOff x="878040" y="1809720"/>
            <a:chExt cx="1953720" cy="1335960"/>
          </a:xfrm>
        </p:grpSpPr>
        <p:sp>
          <p:nvSpPr>
            <p:cNvPr id="184" name=""/>
            <p:cNvSpPr/>
            <p:nvPr/>
          </p:nvSpPr>
          <p:spPr>
            <a:xfrm>
              <a:off x="878040" y="3119400"/>
              <a:ext cx="1953720" cy="26280"/>
            </a:xfrm>
            <a:prstGeom prst="rect">
              <a:avLst/>
            </a:prstGeom>
            <a:solidFill>
              <a:srgbClr val="ffff66"/>
            </a:solidFill>
            <a:ln w="381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1101960" y="1890360"/>
              <a:ext cx="0" cy="122868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094760" y="1893240"/>
              <a:ext cx="1448280" cy="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101960" y="2291760"/>
              <a:ext cx="1402920" cy="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101960" y="2692440"/>
              <a:ext cx="1433880" cy="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1815480" y="1917000"/>
              <a:ext cx="0" cy="119988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2528640" y="1878840"/>
              <a:ext cx="0" cy="126216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693800" y="1809720"/>
              <a:ext cx="238320" cy="188640"/>
            </a:xfrm>
            <a:prstGeom prst="flowChartConnector">
              <a:avLst/>
            </a:prstGeom>
            <a:solidFill>
              <a:srgbClr val="ffff66"/>
            </a:solidFill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693800" y="2181960"/>
              <a:ext cx="238320" cy="186120"/>
            </a:xfrm>
            <a:prstGeom prst="flowChartConnector">
              <a:avLst/>
            </a:prstGeom>
            <a:solidFill>
              <a:srgbClr val="ffff66"/>
            </a:solidFill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693800" y="2606400"/>
              <a:ext cx="238320" cy="188280"/>
            </a:xfrm>
            <a:prstGeom prst="flowChartConnector">
              <a:avLst/>
            </a:prstGeom>
            <a:solidFill>
              <a:srgbClr val="ffff66"/>
            </a:solidFill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930320" y="1917720"/>
                <a:ext cx="34128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480" y="-360"/>
            <a:ext cx="91249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Valutazione della risposta sismica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4479840" y="1301760"/>
            <a:ext cx="44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Massima risposta sismica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90960" y="2220840"/>
            <a:ext cx="1109520" cy="895320"/>
          </a:xfrm>
          <a:custGeom>
            <a:avLst/>
            <a:gdLst>
              <a:gd name="textAreaLeft" fmla="*/ 138600 w 1109520"/>
              <a:gd name="textAreaRight" fmla="*/ 970920 w 1109520"/>
              <a:gd name="textAreaTop" fmla="*/ 223920 h 895320"/>
              <a:gd name="textAreaBottom" fmla="*/ 671760 h 895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491000" y="1890720"/>
            <a:ext cx="447192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… </a:t>
            </a: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in maniera sintetica …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Taglio alla base (V</a:t>
            </a:r>
            <a:r>
              <a:rPr b="0" lang="it-IT" sz="2400" spc="-1" strike="noStrike" baseline="-25000">
                <a:solidFill>
                  <a:srgbClr val="ffff66"/>
                </a:solidFill>
                <a:latin typeface="Comic Sans MS"/>
              </a:rPr>
              <a:t>b</a:t>
            </a: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Spostamenti in testa (D</a:t>
            </a:r>
            <a:r>
              <a:rPr b="0" lang="it-IT" sz="2400" spc="-1" strike="noStrike" baseline="-25000">
                <a:solidFill>
                  <a:srgbClr val="ffff66"/>
                </a:solidFill>
                <a:latin typeface="Comic Sans MS"/>
              </a:rPr>
              <a:t>t</a:t>
            </a: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81400" y="3672000"/>
            <a:ext cx="3983040" cy="27684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267080" y="4365720"/>
            <a:ext cx="3684600" cy="1922400"/>
            <a:chOff x="4267080" y="4365720"/>
            <a:chExt cx="3684600" cy="1922400"/>
          </a:xfrm>
        </p:grpSpPr>
        <p:sp>
          <p:nvSpPr>
            <p:cNvPr id="201" name=""/>
            <p:cNvSpPr/>
            <p:nvPr/>
          </p:nvSpPr>
          <p:spPr>
            <a:xfrm>
              <a:off x="4267080" y="6238800"/>
              <a:ext cx="49320" cy="49320"/>
            </a:xfrm>
            <a:prstGeom prst="ellipse">
              <a:avLst/>
            </a:prstGeom>
            <a:noFill/>
            <a:ln w="64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378320" y="6064200"/>
              <a:ext cx="49320" cy="49320"/>
            </a:xfrm>
            <a:prstGeom prst="ellipse">
              <a:avLst/>
            </a:prstGeom>
            <a:noFill/>
            <a:ln w="64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487760" y="5889600"/>
              <a:ext cx="49320" cy="49320"/>
            </a:xfrm>
            <a:prstGeom prst="ellipse">
              <a:avLst/>
            </a:prstGeom>
            <a:noFill/>
            <a:ln w="64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597560" y="5713560"/>
              <a:ext cx="48960" cy="48960"/>
            </a:xfrm>
            <a:prstGeom prst="ellipse">
              <a:avLst/>
            </a:prstGeom>
            <a:noFill/>
            <a:ln w="64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07000" y="5553000"/>
              <a:ext cx="49320" cy="49320"/>
            </a:xfrm>
            <a:prstGeom prst="ellipse">
              <a:avLst/>
            </a:prstGeom>
            <a:noFill/>
            <a:ln w="64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824360" y="5403960"/>
              <a:ext cx="49320" cy="48960"/>
            </a:xfrm>
            <a:prstGeom prst="ellipse">
              <a:avLst/>
            </a:prstGeom>
            <a:noFill/>
            <a:ln w="64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938840" y="5257800"/>
              <a:ext cx="48960" cy="49320"/>
            </a:xfrm>
            <a:prstGeom prst="ellipse">
              <a:avLst/>
            </a:prstGeom>
            <a:noFill/>
            <a:ln w="64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25960" y="5149800"/>
              <a:ext cx="49320" cy="49320"/>
            </a:xfrm>
            <a:prstGeom prst="ellipse">
              <a:avLst/>
            </a:prstGeom>
            <a:noFill/>
            <a:ln w="64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129280" y="5079960"/>
              <a:ext cx="49320" cy="49320"/>
            </a:xfrm>
            <a:prstGeom prst="ellipse">
              <a:avLst/>
            </a:prstGeom>
            <a:noFill/>
            <a:ln w="64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167440" y="5038560"/>
              <a:ext cx="48960" cy="49320"/>
            </a:xfrm>
            <a:prstGeom prst="ellipse">
              <a:avLst/>
            </a:prstGeom>
            <a:noFill/>
            <a:ln w="64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197320" y="4975200"/>
              <a:ext cx="49320" cy="49320"/>
            </a:xfrm>
            <a:prstGeom prst="ellipse">
              <a:avLst/>
            </a:prstGeom>
            <a:noFill/>
            <a:ln w="64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227560" y="4917960"/>
              <a:ext cx="49320" cy="49320"/>
            </a:xfrm>
            <a:prstGeom prst="ellipse">
              <a:avLst/>
            </a:prstGeom>
            <a:noFill/>
            <a:ln w="64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299200" y="4853160"/>
              <a:ext cx="48960" cy="48960"/>
            </a:xfrm>
            <a:prstGeom prst="ellipse">
              <a:avLst/>
            </a:prstGeom>
            <a:noFill/>
            <a:ln w="64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353200" y="4805280"/>
              <a:ext cx="48960" cy="49320"/>
            </a:xfrm>
            <a:prstGeom prst="ellipse">
              <a:avLst/>
            </a:prstGeom>
            <a:noFill/>
            <a:ln w="64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380200" y="4775040"/>
              <a:ext cx="48960" cy="49320"/>
            </a:xfrm>
            <a:prstGeom prst="ellipse">
              <a:avLst/>
            </a:prstGeom>
            <a:noFill/>
            <a:ln w="64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397480" y="4749840"/>
              <a:ext cx="49320" cy="49320"/>
            </a:xfrm>
            <a:prstGeom prst="ellipse">
              <a:avLst/>
            </a:prstGeom>
            <a:noFill/>
            <a:ln w="64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487840" y="4745160"/>
              <a:ext cx="49320" cy="48960"/>
            </a:xfrm>
            <a:prstGeom prst="ellipse">
              <a:avLst/>
            </a:prstGeom>
            <a:noFill/>
            <a:ln w="64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562720" y="4743360"/>
              <a:ext cx="48960" cy="49320"/>
            </a:xfrm>
            <a:prstGeom prst="ellipse">
              <a:avLst/>
            </a:prstGeom>
            <a:noFill/>
            <a:ln w="64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578560" y="4718160"/>
              <a:ext cx="48960" cy="48960"/>
            </a:xfrm>
            <a:prstGeom prst="ellipse">
              <a:avLst/>
            </a:prstGeom>
            <a:noFill/>
            <a:ln w="64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610240" y="4687920"/>
              <a:ext cx="49320" cy="49320"/>
            </a:xfrm>
            <a:prstGeom prst="ellipse">
              <a:avLst/>
            </a:prstGeom>
            <a:noFill/>
            <a:ln w="64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724360" y="4664160"/>
              <a:ext cx="49320" cy="48960"/>
            </a:xfrm>
            <a:prstGeom prst="ellipse">
              <a:avLst/>
            </a:prstGeom>
            <a:noFill/>
            <a:ln w="64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32360" y="4630680"/>
              <a:ext cx="49320" cy="49320"/>
            </a:xfrm>
            <a:prstGeom prst="ellipse">
              <a:avLst/>
            </a:prstGeom>
            <a:noFill/>
            <a:ln w="64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946840" y="4599000"/>
              <a:ext cx="49320" cy="49320"/>
            </a:xfrm>
            <a:prstGeom prst="ellipse">
              <a:avLst/>
            </a:prstGeom>
            <a:noFill/>
            <a:ln w="64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068880" y="4564080"/>
              <a:ext cx="49320" cy="49320"/>
            </a:xfrm>
            <a:prstGeom prst="ellipse">
              <a:avLst/>
            </a:prstGeom>
            <a:noFill/>
            <a:ln w="64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124680" y="4530600"/>
              <a:ext cx="48960" cy="49320"/>
            </a:xfrm>
            <a:prstGeom prst="ellipse">
              <a:avLst/>
            </a:prstGeom>
            <a:noFill/>
            <a:ln w="64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180120" y="4519440"/>
              <a:ext cx="49320" cy="49320"/>
            </a:xfrm>
            <a:prstGeom prst="ellipse">
              <a:avLst/>
            </a:prstGeom>
            <a:noFill/>
            <a:ln w="64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207120" y="4519440"/>
              <a:ext cx="49320" cy="49320"/>
            </a:xfrm>
            <a:prstGeom prst="ellipse">
              <a:avLst/>
            </a:prstGeom>
            <a:noFill/>
            <a:ln w="64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199200" y="4533840"/>
              <a:ext cx="49320" cy="49320"/>
            </a:xfrm>
            <a:prstGeom prst="ellipse">
              <a:avLst/>
            </a:prstGeom>
            <a:noFill/>
            <a:ln w="64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232680" y="4533840"/>
              <a:ext cx="48960" cy="49320"/>
            </a:xfrm>
            <a:prstGeom prst="ellipse">
              <a:avLst/>
            </a:prstGeom>
            <a:noFill/>
            <a:ln w="64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292800" y="4530600"/>
              <a:ext cx="49320" cy="49320"/>
            </a:xfrm>
            <a:prstGeom prst="ellipse">
              <a:avLst/>
            </a:prstGeom>
            <a:noFill/>
            <a:ln w="64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353280" y="4503600"/>
              <a:ext cx="48960" cy="49320"/>
            </a:xfrm>
            <a:prstGeom prst="ellipse">
              <a:avLst/>
            </a:prstGeom>
            <a:noFill/>
            <a:ln w="64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357960" y="4465800"/>
              <a:ext cx="49320" cy="48960"/>
            </a:xfrm>
            <a:prstGeom prst="ellipse">
              <a:avLst/>
            </a:prstGeom>
            <a:noFill/>
            <a:ln w="64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407280" y="4424400"/>
              <a:ext cx="48960" cy="49320"/>
            </a:xfrm>
            <a:prstGeom prst="ellipse">
              <a:avLst/>
            </a:prstGeom>
            <a:noFill/>
            <a:ln w="64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622920" y="4405320"/>
              <a:ext cx="49320" cy="49320"/>
            </a:xfrm>
            <a:prstGeom prst="ellipse">
              <a:avLst/>
            </a:prstGeom>
            <a:noFill/>
            <a:ln w="64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888240" y="4410000"/>
              <a:ext cx="48960" cy="49320"/>
            </a:xfrm>
            <a:prstGeom prst="ellipse">
              <a:avLst/>
            </a:prstGeom>
            <a:noFill/>
            <a:ln w="64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83440" y="4397400"/>
              <a:ext cx="49320" cy="49320"/>
            </a:xfrm>
            <a:prstGeom prst="ellipse">
              <a:avLst/>
            </a:prstGeom>
            <a:noFill/>
            <a:ln w="64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464600" y="4381560"/>
              <a:ext cx="48960" cy="49320"/>
            </a:xfrm>
            <a:prstGeom prst="ellipse">
              <a:avLst/>
            </a:prstGeom>
            <a:noFill/>
            <a:ln w="64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02720" y="4365720"/>
              <a:ext cx="48960" cy="48960"/>
            </a:xfrm>
            <a:prstGeom prst="ellipse">
              <a:avLst/>
            </a:prstGeom>
            <a:noFill/>
            <a:ln w="64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3675240" y="3621240"/>
            <a:ext cx="4516200" cy="2873160"/>
            <a:chOff x="3675240" y="3621240"/>
            <a:chExt cx="4516200" cy="2873160"/>
          </a:xfrm>
        </p:grpSpPr>
        <p:sp>
          <p:nvSpPr>
            <p:cNvPr id="240" name=""/>
            <p:cNvSpPr/>
            <p:nvPr/>
          </p:nvSpPr>
          <p:spPr>
            <a:xfrm>
              <a:off x="4181400" y="3672000"/>
              <a:ext cx="3983040" cy="2768400"/>
            </a:xfrm>
            <a:prstGeom prst="rect">
              <a:avLst/>
            </a:prstGeom>
            <a:noFill/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81400" y="3672000"/>
              <a:ext cx="1800" cy="276840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40360" y="6440400"/>
              <a:ext cx="83880" cy="180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40360" y="5748480"/>
              <a:ext cx="83880" cy="14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40360" y="5056200"/>
              <a:ext cx="83880" cy="14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40360" y="4363920"/>
              <a:ext cx="83880" cy="180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140360" y="3672000"/>
              <a:ext cx="83880" cy="14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127400" y="6440400"/>
              <a:ext cx="109800" cy="180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127400" y="5056200"/>
              <a:ext cx="109800" cy="14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127400" y="3672000"/>
              <a:ext cx="109800" cy="14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181400" y="6440400"/>
              <a:ext cx="3983040" cy="180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4181400" y="6397560"/>
              <a:ext cx="1800" cy="842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5178600" y="6397560"/>
              <a:ext cx="1440" cy="842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6173640" y="6397560"/>
              <a:ext cx="1800" cy="842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7169040" y="6397560"/>
              <a:ext cx="1800" cy="842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8164440" y="6397560"/>
              <a:ext cx="1800" cy="842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4181400" y="6384960"/>
              <a:ext cx="1800" cy="1094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6173640" y="6384960"/>
              <a:ext cx="1800" cy="1094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8164440" y="6384960"/>
              <a:ext cx="1800" cy="1094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675240" y="3621240"/>
              <a:ext cx="527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66"/>
                  </a:solidFill>
                  <a:latin typeface="Comic Sans MS"/>
                </a:rPr>
                <a:t>V</a:t>
              </a:r>
              <a:r>
                <a:rPr b="0" lang="it-IT" sz="2400" spc="-1" strike="noStrike" baseline="-25000">
                  <a:solidFill>
                    <a:srgbClr val="ffff66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608960" y="5978520"/>
              <a:ext cx="582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66"/>
                  </a:solidFill>
                  <a:latin typeface="Comic Sans MS"/>
                </a:rPr>
                <a:t>D</a:t>
              </a:r>
              <a:r>
                <a:rPr b="0" lang="it-IT" sz="2400" spc="-1" strike="noStrike" baseline="-25000">
                  <a:solidFill>
                    <a:srgbClr val="ffff66"/>
                  </a:solidFill>
                  <a:latin typeface="Comic Sans MS"/>
                </a:rPr>
                <a:t>t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436680" y="3530520"/>
            <a:ext cx="329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Considerando tanti valori di PGA …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4290840" y="4040280"/>
            <a:ext cx="3872160" cy="1813320"/>
            <a:chOff x="4290840" y="4040280"/>
            <a:chExt cx="3872160" cy="1813320"/>
          </a:xfrm>
        </p:grpSpPr>
        <p:sp>
          <p:nvSpPr>
            <p:cNvPr id="263" name=""/>
            <p:cNvSpPr/>
            <p:nvPr/>
          </p:nvSpPr>
          <p:spPr>
            <a:xfrm>
              <a:off x="4987800" y="5111640"/>
              <a:ext cx="125640" cy="125640"/>
            </a:xfrm>
            <a:prstGeom prst="ellipse">
              <a:avLst/>
            </a:prstGeom>
            <a:solidFill>
              <a:srgbClr val="ffff66"/>
            </a:solidFill>
            <a:ln w="64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54640" y="4492800"/>
              <a:ext cx="125640" cy="123480"/>
            </a:xfrm>
            <a:prstGeom prst="ellipse">
              <a:avLst/>
            </a:prstGeom>
            <a:solidFill>
              <a:srgbClr val="ffff66"/>
            </a:solidFill>
            <a:ln w="64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145280" y="4359240"/>
              <a:ext cx="125640" cy="125280"/>
            </a:xfrm>
            <a:prstGeom prst="ellipse">
              <a:avLst/>
            </a:prstGeom>
            <a:solidFill>
              <a:srgbClr val="ffff66"/>
            </a:solidFill>
            <a:ln w="64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943600" y="5281560"/>
              <a:ext cx="109440" cy="109440"/>
            </a:xfrm>
            <a:prstGeom prst="ellipse">
              <a:avLst/>
            </a:prstGeom>
            <a:solidFill>
              <a:srgbClr val="ffff66"/>
            </a:solidFill>
            <a:ln w="64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290840" y="4761000"/>
              <a:ext cx="10875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Comic Sans MS"/>
                </a:rPr>
                <a:t>PGA</a:t>
              </a:r>
              <a:r>
                <a:rPr b="0" lang="en-US" sz="1800" spc="-1" strike="noStrike" baseline="-25000">
                  <a:solidFill>
                    <a:srgbClr val="ffff66"/>
                  </a:solidFill>
                  <a:latin typeface="Comic Sans MS"/>
                </a:rPr>
                <a:t>SL</a:t>
              </a:r>
              <a:endParaRPr b="0" lang="en-US" sz="18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804000" y="4040280"/>
              <a:ext cx="11271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Comic Sans MS"/>
                </a:rPr>
                <a:t>PGA</a:t>
              </a:r>
              <a:r>
                <a:rPr b="0" lang="en-US" sz="1800" spc="-1" strike="noStrike" baseline="-25000">
                  <a:solidFill>
                    <a:srgbClr val="ffff66"/>
                  </a:solidFill>
                  <a:latin typeface="Comic Sans MS"/>
                </a:rPr>
                <a:t>CO</a:t>
              </a:r>
              <a:endParaRPr b="0" lang="en-US" sz="18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335640" y="4549680"/>
              <a:ext cx="86832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Comic Sans MS"/>
                </a:rPr>
                <a:t>PGA</a:t>
              </a:r>
              <a:r>
                <a:rPr b="0" lang="en-US" sz="1800" spc="-1" strike="noStrike" baseline="-25000">
                  <a:solidFill>
                    <a:srgbClr val="ffff66"/>
                  </a:solidFill>
                  <a:latin typeface="Comic Sans MS"/>
                </a:rPr>
                <a:t>DS</a:t>
              </a:r>
              <a:endParaRPr b="0" lang="en-US" sz="18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094440" y="5149800"/>
              <a:ext cx="2068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Comic Sans MS"/>
                </a:rPr>
                <a:t>PGA previste dalla normativa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878040" y="1809720"/>
            <a:ext cx="1953720" cy="1335960"/>
            <a:chOff x="878040" y="1809720"/>
            <a:chExt cx="1953720" cy="1335960"/>
          </a:xfrm>
        </p:grpSpPr>
        <p:sp>
          <p:nvSpPr>
            <p:cNvPr id="272" name=""/>
            <p:cNvSpPr/>
            <p:nvPr/>
          </p:nvSpPr>
          <p:spPr>
            <a:xfrm>
              <a:off x="878040" y="3119400"/>
              <a:ext cx="1953720" cy="26280"/>
            </a:xfrm>
            <a:prstGeom prst="rect">
              <a:avLst/>
            </a:prstGeom>
            <a:solidFill>
              <a:srgbClr val="ffff66"/>
            </a:solidFill>
            <a:ln w="381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1101960" y="1890360"/>
              <a:ext cx="0" cy="122868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094760" y="1893240"/>
              <a:ext cx="1448280" cy="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101960" y="2291760"/>
              <a:ext cx="1402920" cy="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101960" y="2692440"/>
              <a:ext cx="1433880" cy="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1815480" y="1917000"/>
              <a:ext cx="0" cy="119988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2528640" y="1878840"/>
              <a:ext cx="0" cy="126216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693800" y="1809720"/>
              <a:ext cx="238320" cy="188640"/>
            </a:xfrm>
            <a:prstGeom prst="flowChartConnector">
              <a:avLst/>
            </a:prstGeom>
            <a:solidFill>
              <a:srgbClr val="ffff66"/>
            </a:solidFill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693800" y="2181960"/>
              <a:ext cx="238320" cy="186120"/>
            </a:xfrm>
            <a:prstGeom prst="flowChartConnector">
              <a:avLst/>
            </a:prstGeom>
            <a:solidFill>
              <a:srgbClr val="ffff66"/>
            </a:solidFill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693800" y="2606400"/>
              <a:ext cx="238320" cy="188280"/>
            </a:xfrm>
            <a:prstGeom prst="flowChartConnector">
              <a:avLst/>
            </a:prstGeom>
            <a:solidFill>
              <a:srgbClr val="ffff66"/>
            </a:solidFill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1930320" y="1917720"/>
                <a:ext cx="34128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480" y="-360"/>
            <a:ext cx="91249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Valutazione della risposta sismica col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metodo statico non lineare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6173640" y="1542960"/>
            <a:ext cx="1954080" cy="1335960"/>
            <a:chOff x="6173640" y="1542960"/>
            <a:chExt cx="1954080" cy="1335960"/>
          </a:xfrm>
        </p:grpSpPr>
        <p:sp>
          <p:nvSpPr>
            <p:cNvPr id="285" name=""/>
            <p:cNvSpPr/>
            <p:nvPr/>
          </p:nvSpPr>
          <p:spPr>
            <a:xfrm>
              <a:off x="6173640" y="2852640"/>
              <a:ext cx="1954080" cy="262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6397560" y="1623600"/>
              <a:ext cx="0" cy="1228680"/>
            </a:xfrm>
            <a:prstGeom prst="line">
              <a:avLst/>
            </a:prstGeom>
            <a:ln w="3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390360" y="1626480"/>
              <a:ext cx="1448640" cy="0"/>
            </a:xfrm>
            <a:prstGeom prst="line">
              <a:avLst/>
            </a:prstGeom>
            <a:ln w="3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397560" y="2025000"/>
              <a:ext cx="1403280" cy="0"/>
            </a:xfrm>
            <a:prstGeom prst="line">
              <a:avLst/>
            </a:prstGeom>
            <a:ln w="3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397560" y="2425680"/>
              <a:ext cx="1433880" cy="0"/>
            </a:xfrm>
            <a:prstGeom prst="line">
              <a:avLst/>
            </a:prstGeom>
            <a:ln w="3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7111440" y="1650240"/>
              <a:ext cx="0" cy="119988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7824600" y="1612080"/>
              <a:ext cx="0" cy="1262160"/>
            </a:xfrm>
            <a:prstGeom prst="line">
              <a:avLst/>
            </a:prstGeom>
            <a:ln w="3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989760" y="1542960"/>
              <a:ext cx="238320" cy="188640"/>
            </a:xfrm>
            <a:prstGeom prst="flowChartConnector">
              <a:avLst/>
            </a:prstGeom>
            <a:solidFill>
              <a:srgbClr val="ffff66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989760" y="1915200"/>
              <a:ext cx="238320" cy="186120"/>
            </a:xfrm>
            <a:prstGeom prst="flowChartConnector">
              <a:avLst/>
            </a:prstGeom>
            <a:solidFill>
              <a:srgbClr val="ffff66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989760" y="2339640"/>
              <a:ext cx="238320" cy="188280"/>
            </a:xfrm>
            <a:prstGeom prst="flowChartConnector">
              <a:avLst/>
            </a:prstGeom>
            <a:solidFill>
              <a:srgbClr val="ffff66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4181400" y="3672000"/>
            <a:ext cx="3983040" cy="27684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4267080" y="4365720"/>
            <a:ext cx="3684600" cy="1922400"/>
            <a:chOff x="4267080" y="4365720"/>
            <a:chExt cx="3684600" cy="1922400"/>
          </a:xfrm>
        </p:grpSpPr>
        <p:sp>
          <p:nvSpPr>
            <p:cNvPr id="297" name=""/>
            <p:cNvSpPr/>
            <p:nvPr/>
          </p:nvSpPr>
          <p:spPr>
            <a:xfrm>
              <a:off x="4267080" y="6238800"/>
              <a:ext cx="49320" cy="49320"/>
            </a:xfrm>
            <a:prstGeom prst="ellipse">
              <a:avLst/>
            </a:prstGeom>
            <a:noFill/>
            <a:ln w="64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378320" y="6064200"/>
              <a:ext cx="49320" cy="49320"/>
            </a:xfrm>
            <a:prstGeom prst="ellipse">
              <a:avLst/>
            </a:prstGeom>
            <a:noFill/>
            <a:ln w="64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487760" y="5889600"/>
              <a:ext cx="49320" cy="49320"/>
            </a:xfrm>
            <a:prstGeom prst="ellipse">
              <a:avLst/>
            </a:prstGeom>
            <a:noFill/>
            <a:ln w="64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597560" y="5713560"/>
              <a:ext cx="48960" cy="48960"/>
            </a:xfrm>
            <a:prstGeom prst="ellipse">
              <a:avLst/>
            </a:prstGeom>
            <a:noFill/>
            <a:ln w="64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707000" y="5553000"/>
              <a:ext cx="49320" cy="49320"/>
            </a:xfrm>
            <a:prstGeom prst="ellipse">
              <a:avLst/>
            </a:prstGeom>
            <a:noFill/>
            <a:ln w="64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824360" y="5403960"/>
              <a:ext cx="49320" cy="48960"/>
            </a:xfrm>
            <a:prstGeom prst="ellipse">
              <a:avLst/>
            </a:prstGeom>
            <a:noFill/>
            <a:ln w="64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938840" y="5257800"/>
              <a:ext cx="48960" cy="49320"/>
            </a:xfrm>
            <a:prstGeom prst="ellipse">
              <a:avLst/>
            </a:prstGeom>
            <a:noFill/>
            <a:ln w="64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025960" y="5149800"/>
              <a:ext cx="49320" cy="49320"/>
            </a:xfrm>
            <a:prstGeom prst="ellipse">
              <a:avLst/>
            </a:prstGeom>
            <a:noFill/>
            <a:ln w="64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129280" y="5079960"/>
              <a:ext cx="49320" cy="49320"/>
            </a:xfrm>
            <a:prstGeom prst="ellipse">
              <a:avLst/>
            </a:prstGeom>
            <a:noFill/>
            <a:ln w="64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167440" y="5038560"/>
              <a:ext cx="48960" cy="49320"/>
            </a:xfrm>
            <a:prstGeom prst="ellipse">
              <a:avLst/>
            </a:prstGeom>
            <a:noFill/>
            <a:ln w="64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197320" y="4975200"/>
              <a:ext cx="49320" cy="49320"/>
            </a:xfrm>
            <a:prstGeom prst="ellipse">
              <a:avLst/>
            </a:prstGeom>
            <a:noFill/>
            <a:ln w="64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227560" y="4917960"/>
              <a:ext cx="49320" cy="49320"/>
            </a:xfrm>
            <a:prstGeom prst="ellipse">
              <a:avLst/>
            </a:prstGeom>
            <a:noFill/>
            <a:ln w="64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299200" y="4853160"/>
              <a:ext cx="48960" cy="48960"/>
            </a:xfrm>
            <a:prstGeom prst="ellipse">
              <a:avLst/>
            </a:prstGeom>
            <a:noFill/>
            <a:ln w="64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353200" y="4805280"/>
              <a:ext cx="48960" cy="49320"/>
            </a:xfrm>
            <a:prstGeom prst="ellipse">
              <a:avLst/>
            </a:prstGeom>
            <a:noFill/>
            <a:ln w="64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380200" y="4775040"/>
              <a:ext cx="48960" cy="49320"/>
            </a:xfrm>
            <a:prstGeom prst="ellipse">
              <a:avLst/>
            </a:prstGeom>
            <a:noFill/>
            <a:ln w="64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397480" y="4749840"/>
              <a:ext cx="49320" cy="49320"/>
            </a:xfrm>
            <a:prstGeom prst="ellipse">
              <a:avLst/>
            </a:prstGeom>
            <a:noFill/>
            <a:ln w="64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487840" y="4745160"/>
              <a:ext cx="49320" cy="48960"/>
            </a:xfrm>
            <a:prstGeom prst="ellipse">
              <a:avLst/>
            </a:prstGeom>
            <a:noFill/>
            <a:ln w="64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562720" y="4743360"/>
              <a:ext cx="48960" cy="49320"/>
            </a:xfrm>
            <a:prstGeom prst="ellipse">
              <a:avLst/>
            </a:prstGeom>
            <a:noFill/>
            <a:ln w="64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578560" y="4718160"/>
              <a:ext cx="48960" cy="48960"/>
            </a:xfrm>
            <a:prstGeom prst="ellipse">
              <a:avLst/>
            </a:prstGeom>
            <a:noFill/>
            <a:ln w="64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610240" y="4687920"/>
              <a:ext cx="49320" cy="49320"/>
            </a:xfrm>
            <a:prstGeom prst="ellipse">
              <a:avLst/>
            </a:prstGeom>
            <a:noFill/>
            <a:ln w="64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724360" y="4664160"/>
              <a:ext cx="49320" cy="48960"/>
            </a:xfrm>
            <a:prstGeom prst="ellipse">
              <a:avLst/>
            </a:prstGeom>
            <a:noFill/>
            <a:ln w="64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832360" y="4630680"/>
              <a:ext cx="49320" cy="49320"/>
            </a:xfrm>
            <a:prstGeom prst="ellipse">
              <a:avLst/>
            </a:prstGeom>
            <a:noFill/>
            <a:ln w="64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946840" y="4599000"/>
              <a:ext cx="49320" cy="49320"/>
            </a:xfrm>
            <a:prstGeom prst="ellipse">
              <a:avLst/>
            </a:prstGeom>
            <a:noFill/>
            <a:ln w="64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068880" y="4564080"/>
              <a:ext cx="49320" cy="49320"/>
            </a:xfrm>
            <a:prstGeom prst="ellipse">
              <a:avLst/>
            </a:prstGeom>
            <a:noFill/>
            <a:ln w="64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124680" y="4530600"/>
              <a:ext cx="48960" cy="49320"/>
            </a:xfrm>
            <a:prstGeom prst="ellipse">
              <a:avLst/>
            </a:prstGeom>
            <a:noFill/>
            <a:ln w="64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180120" y="4519440"/>
              <a:ext cx="49320" cy="49320"/>
            </a:xfrm>
            <a:prstGeom prst="ellipse">
              <a:avLst/>
            </a:prstGeom>
            <a:noFill/>
            <a:ln w="64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207120" y="4519440"/>
              <a:ext cx="49320" cy="49320"/>
            </a:xfrm>
            <a:prstGeom prst="ellipse">
              <a:avLst/>
            </a:prstGeom>
            <a:noFill/>
            <a:ln w="64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199200" y="4533840"/>
              <a:ext cx="49320" cy="49320"/>
            </a:xfrm>
            <a:prstGeom prst="ellipse">
              <a:avLst/>
            </a:prstGeom>
            <a:noFill/>
            <a:ln w="64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232680" y="4533840"/>
              <a:ext cx="48960" cy="49320"/>
            </a:xfrm>
            <a:prstGeom prst="ellipse">
              <a:avLst/>
            </a:prstGeom>
            <a:noFill/>
            <a:ln w="64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292800" y="4530600"/>
              <a:ext cx="49320" cy="49320"/>
            </a:xfrm>
            <a:prstGeom prst="ellipse">
              <a:avLst/>
            </a:prstGeom>
            <a:noFill/>
            <a:ln w="64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353280" y="4503600"/>
              <a:ext cx="48960" cy="49320"/>
            </a:xfrm>
            <a:prstGeom prst="ellipse">
              <a:avLst/>
            </a:prstGeom>
            <a:noFill/>
            <a:ln w="64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357960" y="4465800"/>
              <a:ext cx="49320" cy="48960"/>
            </a:xfrm>
            <a:prstGeom prst="ellipse">
              <a:avLst/>
            </a:prstGeom>
            <a:noFill/>
            <a:ln w="64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407280" y="4424400"/>
              <a:ext cx="48960" cy="49320"/>
            </a:xfrm>
            <a:prstGeom prst="ellipse">
              <a:avLst/>
            </a:prstGeom>
            <a:noFill/>
            <a:ln w="64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622920" y="4405320"/>
              <a:ext cx="49320" cy="49320"/>
            </a:xfrm>
            <a:prstGeom prst="ellipse">
              <a:avLst/>
            </a:prstGeom>
            <a:noFill/>
            <a:ln w="64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888240" y="4410000"/>
              <a:ext cx="48960" cy="49320"/>
            </a:xfrm>
            <a:prstGeom prst="ellipse">
              <a:avLst/>
            </a:prstGeom>
            <a:noFill/>
            <a:ln w="64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183440" y="4397400"/>
              <a:ext cx="49320" cy="49320"/>
            </a:xfrm>
            <a:prstGeom prst="ellipse">
              <a:avLst/>
            </a:prstGeom>
            <a:noFill/>
            <a:ln w="64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464600" y="4381560"/>
              <a:ext cx="48960" cy="49320"/>
            </a:xfrm>
            <a:prstGeom prst="ellipse">
              <a:avLst/>
            </a:prstGeom>
            <a:noFill/>
            <a:ln w="64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902720" y="4365720"/>
              <a:ext cx="48960" cy="48960"/>
            </a:xfrm>
            <a:prstGeom prst="ellipse">
              <a:avLst/>
            </a:prstGeom>
            <a:noFill/>
            <a:ln w="64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3675240" y="3621240"/>
            <a:ext cx="4516200" cy="2873160"/>
            <a:chOff x="3675240" y="3621240"/>
            <a:chExt cx="4516200" cy="2873160"/>
          </a:xfrm>
        </p:grpSpPr>
        <p:sp>
          <p:nvSpPr>
            <p:cNvPr id="336" name=""/>
            <p:cNvSpPr/>
            <p:nvPr/>
          </p:nvSpPr>
          <p:spPr>
            <a:xfrm>
              <a:off x="4181400" y="3672000"/>
              <a:ext cx="3983040" cy="2768400"/>
            </a:xfrm>
            <a:prstGeom prst="rect">
              <a:avLst/>
            </a:prstGeom>
            <a:noFill/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181400" y="3672000"/>
              <a:ext cx="1800" cy="276840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140360" y="6440400"/>
              <a:ext cx="83880" cy="180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140360" y="5748480"/>
              <a:ext cx="83880" cy="14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140360" y="5056200"/>
              <a:ext cx="83880" cy="14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140360" y="4363920"/>
              <a:ext cx="83880" cy="180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140360" y="3672000"/>
              <a:ext cx="83880" cy="14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127400" y="6440400"/>
              <a:ext cx="109800" cy="180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127400" y="5056200"/>
              <a:ext cx="109800" cy="14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127400" y="3672000"/>
              <a:ext cx="109800" cy="14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181400" y="6440400"/>
              <a:ext cx="3983040" cy="180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4181400" y="6397560"/>
              <a:ext cx="1800" cy="842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5178600" y="6397560"/>
              <a:ext cx="1440" cy="842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6173640" y="6397560"/>
              <a:ext cx="1800" cy="842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7169040" y="6397560"/>
              <a:ext cx="1800" cy="842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8164440" y="6397560"/>
              <a:ext cx="1800" cy="842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4181400" y="6384960"/>
              <a:ext cx="1800" cy="1094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6173640" y="6384960"/>
              <a:ext cx="1800" cy="1094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8164440" y="6384960"/>
              <a:ext cx="1800" cy="1094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675240" y="3621240"/>
              <a:ext cx="527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66"/>
                  </a:solidFill>
                  <a:latin typeface="Comic Sans MS"/>
                </a:rPr>
                <a:t>V</a:t>
              </a:r>
              <a:r>
                <a:rPr b="0" lang="it-IT" sz="2400" spc="-1" strike="noStrike" baseline="-25000">
                  <a:solidFill>
                    <a:srgbClr val="ffff66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608960" y="5978520"/>
              <a:ext cx="582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66"/>
                  </a:solidFill>
                  <a:latin typeface="Comic Sans MS"/>
                </a:rPr>
                <a:t>D</a:t>
              </a:r>
              <a:r>
                <a:rPr b="0" lang="it-IT" sz="2400" spc="-1" strike="noStrike" baseline="-25000">
                  <a:solidFill>
                    <a:srgbClr val="ffff66"/>
                  </a:solidFill>
                  <a:latin typeface="Comic Sans MS"/>
                </a:rPr>
                <a:t>t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6316560" y="4435560"/>
            <a:ext cx="868320" cy="379440"/>
            <a:chOff x="6316560" y="4435560"/>
            <a:chExt cx="868320" cy="379440"/>
          </a:xfrm>
        </p:grpSpPr>
        <p:sp>
          <p:nvSpPr>
            <p:cNvPr id="358" name=""/>
            <p:cNvSpPr/>
            <p:nvPr/>
          </p:nvSpPr>
          <p:spPr>
            <a:xfrm>
              <a:off x="6397560" y="4435560"/>
              <a:ext cx="125640" cy="123840"/>
            </a:xfrm>
            <a:prstGeom prst="ellipse">
              <a:avLst/>
            </a:prstGeom>
            <a:solidFill>
              <a:srgbClr val="ffff66"/>
            </a:solidFill>
            <a:ln w="64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316560" y="4540320"/>
              <a:ext cx="868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Comic Sans MS"/>
                </a:rPr>
                <a:t>PGA</a:t>
              </a:r>
              <a:endParaRPr b="0" lang="en-US" sz="18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4189320" y="4433760"/>
            <a:ext cx="3963960" cy="1997280"/>
          </a:xfrm>
          <a:custGeom>
            <a:avLst/>
            <a:gdLst/>
            <a:ahLst/>
            <a:rect l="l" t="t" r="r" b="b"/>
            <a:pathLst>
              <a:path w="5266" h="2652">
                <a:moveTo>
                  <a:pt x="0" y="2652"/>
                </a:moveTo>
                <a:lnTo>
                  <a:pt x="661" y="1642"/>
                </a:lnTo>
                <a:lnTo>
                  <a:pt x="662" y="1640"/>
                </a:lnTo>
                <a:lnTo>
                  <a:pt x="687" y="1596"/>
                </a:lnTo>
                <a:lnTo>
                  <a:pt x="716" y="1550"/>
                </a:lnTo>
                <a:lnTo>
                  <a:pt x="719" y="1545"/>
                </a:lnTo>
                <a:lnTo>
                  <a:pt x="745" y="1507"/>
                </a:lnTo>
                <a:lnTo>
                  <a:pt x="787" y="1449"/>
                </a:lnTo>
                <a:lnTo>
                  <a:pt x="794" y="1440"/>
                </a:lnTo>
                <a:lnTo>
                  <a:pt x="831" y="1393"/>
                </a:lnTo>
                <a:lnTo>
                  <a:pt x="906" y="1302"/>
                </a:lnTo>
                <a:lnTo>
                  <a:pt x="912" y="1294"/>
                </a:lnTo>
                <a:lnTo>
                  <a:pt x="953" y="1248"/>
                </a:lnTo>
                <a:lnTo>
                  <a:pt x="1423" y="748"/>
                </a:lnTo>
                <a:lnTo>
                  <a:pt x="1479" y="690"/>
                </a:lnTo>
                <a:lnTo>
                  <a:pt x="1481" y="688"/>
                </a:lnTo>
                <a:lnTo>
                  <a:pt x="1496" y="674"/>
                </a:lnTo>
                <a:lnTo>
                  <a:pt x="1496" y="674"/>
                </a:lnTo>
                <a:lnTo>
                  <a:pt x="1518" y="654"/>
                </a:lnTo>
                <a:lnTo>
                  <a:pt x="1590" y="591"/>
                </a:lnTo>
                <a:lnTo>
                  <a:pt x="1598" y="585"/>
                </a:lnTo>
                <a:lnTo>
                  <a:pt x="1599" y="585"/>
                </a:lnTo>
                <a:lnTo>
                  <a:pt x="1895" y="362"/>
                </a:lnTo>
                <a:lnTo>
                  <a:pt x="1940" y="329"/>
                </a:lnTo>
                <a:lnTo>
                  <a:pt x="1972" y="306"/>
                </a:lnTo>
                <a:lnTo>
                  <a:pt x="1985" y="297"/>
                </a:lnTo>
                <a:lnTo>
                  <a:pt x="2049" y="254"/>
                </a:lnTo>
                <a:lnTo>
                  <a:pt x="2050" y="253"/>
                </a:lnTo>
                <a:lnTo>
                  <a:pt x="2056" y="250"/>
                </a:lnTo>
                <a:lnTo>
                  <a:pt x="2058" y="249"/>
                </a:lnTo>
                <a:lnTo>
                  <a:pt x="2138" y="202"/>
                </a:lnTo>
                <a:lnTo>
                  <a:pt x="2296" y="114"/>
                </a:lnTo>
                <a:lnTo>
                  <a:pt x="3642" y="51"/>
                </a:lnTo>
                <a:lnTo>
                  <a:pt x="3981" y="37"/>
                </a:lnTo>
                <a:lnTo>
                  <a:pt x="3998" y="36"/>
                </a:lnTo>
                <a:lnTo>
                  <a:pt x="5266" y="0"/>
                </a:lnTo>
              </a:path>
            </a:pathLst>
          </a:custGeom>
          <a:noFill/>
          <a:ln w="1764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88880" y="1120680"/>
            <a:ext cx="44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1. Analisi statica non lineare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88880" y="3683160"/>
            <a:ext cx="44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2. Metodo SNL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8880" y="4140360"/>
            <a:ext cx="317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Fissata la PGA si determina il punto corrispondente sulla curva di prestazione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88880" y="1596960"/>
            <a:ext cx="48261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Si incrementano le forze equivalenti al sisma fino al collasso della struttura e si determina la curva di prestazione V</a:t>
            </a:r>
            <a:r>
              <a:rPr b="0" lang="it-IT" sz="2400" spc="-1" strike="noStrike" baseline="-25000">
                <a:solidFill>
                  <a:srgbClr val="ffff66"/>
                </a:solidFill>
                <a:latin typeface="Comic Sans MS"/>
              </a:rPr>
              <a:t>b</a:t>
            </a: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-D</a:t>
            </a:r>
            <a:r>
              <a:rPr b="0" lang="it-IT" sz="2400" spc="-1" strike="noStrike" baseline="-25000">
                <a:solidFill>
                  <a:srgbClr val="ffff66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5586480" y="1087560"/>
            <a:ext cx="2543040" cy="2503440"/>
            <a:chOff x="5586480" y="1087560"/>
            <a:chExt cx="2543040" cy="2503440"/>
          </a:xfrm>
        </p:grpSpPr>
        <p:grpSp>
          <p:nvGrpSpPr>
            <p:cNvPr id="366" name=""/>
            <p:cNvGrpSpPr/>
            <p:nvPr/>
          </p:nvGrpSpPr>
          <p:grpSpPr>
            <a:xfrm>
              <a:off x="5586480" y="1577880"/>
              <a:ext cx="555120" cy="847440"/>
              <a:chOff x="5586480" y="1577880"/>
              <a:chExt cx="555120" cy="847440"/>
            </a:xfrm>
          </p:grpSpPr>
          <p:grpSp>
            <p:nvGrpSpPr>
              <p:cNvPr id="367" name=""/>
              <p:cNvGrpSpPr/>
              <p:nvPr/>
            </p:nvGrpSpPr>
            <p:grpSpPr>
              <a:xfrm>
                <a:off x="5862600" y="1577880"/>
                <a:ext cx="279000" cy="847440"/>
                <a:chOff x="5862600" y="1577880"/>
                <a:chExt cx="279000" cy="847440"/>
              </a:xfrm>
            </p:grpSpPr>
            <p:grpSp>
              <p:nvGrpSpPr>
                <p:cNvPr id="368" name=""/>
                <p:cNvGrpSpPr/>
                <p:nvPr/>
              </p:nvGrpSpPr>
              <p:grpSpPr>
                <a:xfrm>
                  <a:off x="5862600" y="1577880"/>
                  <a:ext cx="279000" cy="96840"/>
                  <a:chOff x="5862600" y="1577880"/>
                  <a:chExt cx="279000" cy="9684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 flipH="1">
                    <a:off x="5862600" y="1624680"/>
                    <a:ext cx="218880" cy="1080"/>
                  </a:xfrm>
                  <a:prstGeom prst="line">
                    <a:avLst/>
                  </a:prstGeom>
                  <a:ln w="9000">
                    <a:solidFill>
                      <a:srgbClr val="ffff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6048000" y="1577880"/>
                    <a:ext cx="936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100" h="101">
                        <a:moveTo>
                          <a:pt x="0" y="101"/>
                        </a:moveTo>
                        <a:lnTo>
                          <a:pt x="100" y="49"/>
                        </a:lnTo>
                        <a:lnTo>
                          <a:pt x="0" y="0"/>
                        </a:lnTo>
                        <a:lnTo>
                          <a:pt x="31" y="49"/>
                        </a:lnTo>
                        <a:lnTo>
                          <a:pt x="0" y="101"/>
                        </a:lnTo>
                        <a:close/>
                      </a:path>
                    </a:pathLst>
                  </a:custGeom>
                  <a:solidFill>
                    <a:srgbClr val="ffff66"/>
                  </a:solidFill>
                  <a:ln w="9360">
                    <a:solidFill>
                      <a:srgbClr val="ffff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5947200" y="1974960"/>
                  <a:ext cx="194040" cy="94680"/>
                  <a:chOff x="5947200" y="1974960"/>
                  <a:chExt cx="194040" cy="9468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 flipH="1">
                    <a:off x="5947200" y="2020680"/>
                    <a:ext cx="133560" cy="720"/>
                  </a:xfrm>
                  <a:prstGeom prst="line">
                    <a:avLst/>
                  </a:prstGeom>
                  <a:ln w="9000">
                    <a:solidFill>
                      <a:srgbClr val="ffff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ffff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6047280" y="1974960"/>
                    <a:ext cx="9396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w="100" h="101">
                        <a:moveTo>
                          <a:pt x="0" y="101"/>
                        </a:moveTo>
                        <a:lnTo>
                          <a:pt x="100" y="49"/>
                        </a:lnTo>
                        <a:lnTo>
                          <a:pt x="0" y="0"/>
                        </a:lnTo>
                        <a:lnTo>
                          <a:pt x="31" y="49"/>
                        </a:lnTo>
                        <a:lnTo>
                          <a:pt x="0" y="101"/>
                        </a:lnTo>
                        <a:close/>
                      </a:path>
                    </a:pathLst>
                  </a:custGeom>
                  <a:solidFill>
                    <a:srgbClr val="ffff66"/>
                  </a:solidFill>
                  <a:ln w="9360">
                    <a:solidFill>
                      <a:srgbClr val="ffff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042240" y="2333160"/>
                  <a:ext cx="98640" cy="92160"/>
                  <a:chOff x="6042240" y="2333160"/>
                  <a:chExt cx="98640" cy="9216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 flipH="1">
                    <a:off x="6042240" y="2377800"/>
                    <a:ext cx="38160" cy="720"/>
                  </a:xfrm>
                  <a:prstGeom prst="line">
                    <a:avLst/>
                  </a:prstGeom>
                  <a:ln w="9000">
                    <a:solidFill>
                      <a:srgbClr val="ffff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ffff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045840" y="2333160"/>
                    <a:ext cx="9504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0" h="101">
                        <a:moveTo>
                          <a:pt x="0" y="101"/>
                        </a:moveTo>
                        <a:lnTo>
                          <a:pt x="100" y="49"/>
                        </a:lnTo>
                        <a:lnTo>
                          <a:pt x="0" y="0"/>
                        </a:lnTo>
                        <a:lnTo>
                          <a:pt x="31" y="49"/>
                        </a:lnTo>
                        <a:lnTo>
                          <a:pt x="0" y="101"/>
                        </a:lnTo>
                        <a:close/>
                      </a:path>
                    </a:pathLst>
                  </a:custGeom>
                  <a:solidFill>
                    <a:srgbClr val="ffff66"/>
                  </a:solidFill>
                  <a:ln w="9360">
                    <a:solidFill>
                      <a:srgbClr val="ffff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2400" spc="-1" strike="noStrike">
                      <a:solidFill>
                        <a:srgbClr val="ffff66"/>
                      </a:solidFill>
                      <a:latin typeface="Times New Roman"/>
                    </a:endParaRPr>
                  </a:p>
                </p:txBody>
              </p:sp>
            </p:grpSp>
          </p:grpSp>
          <mc:AlternateContent>
            <mc:Choice xmlns:a14="http://schemas.microsoft.com/office/drawing/2010/main" Requires="a14">
              <p:sp>
                <p:nvSpPr>
                  <p:cNvPr id="377" name=""/>
                  <p:cNvSpPr txBox="1"/>
                  <p:nvPr/>
                </p:nvSpPr>
                <p:spPr>
                  <a:xfrm>
                    <a:off x="5586480" y="1773360"/>
                    <a:ext cx="298440" cy="388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378" name=""/>
            <p:cNvGrpSpPr/>
            <p:nvPr/>
          </p:nvGrpSpPr>
          <p:grpSpPr>
            <a:xfrm>
              <a:off x="6532560" y="1087560"/>
              <a:ext cx="1596960" cy="2503440"/>
              <a:chOff x="6532560" y="1087560"/>
              <a:chExt cx="1596960" cy="2503440"/>
            </a:xfrm>
          </p:grpSpPr>
          <p:sp>
            <p:nvSpPr>
              <p:cNvPr id="379" name=""/>
              <p:cNvSpPr/>
              <p:nvPr/>
            </p:nvSpPr>
            <p:spPr>
              <a:xfrm flipH="1">
                <a:off x="6573960" y="3065400"/>
                <a:ext cx="101736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80" name=""/>
                  <p:cNvSpPr txBox="1"/>
                  <p:nvPr/>
                </p:nvSpPr>
                <p:spPr>
                  <a:xfrm>
                    <a:off x="6532560" y="3133800"/>
                    <a:ext cx="1189080" cy="457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381" name=""/>
              <p:cNvGrpSpPr/>
              <p:nvPr/>
            </p:nvGrpSpPr>
            <p:grpSpPr>
              <a:xfrm>
                <a:off x="7786800" y="1087560"/>
                <a:ext cx="342720" cy="426600"/>
                <a:chOff x="7786800" y="1087560"/>
                <a:chExt cx="342720" cy="426600"/>
              </a:xfrm>
            </p:grpSpPr>
            <p:sp>
              <p:nvSpPr>
                <p:cNvPr id="382" name=""/>
                <p:cNvSpPr/>
                <p:nvPr/>
              </p:nvSpPr>
              <p:spPr>
                <a:xfrm flipV="1">
                  <a:off x="7832880" y="1449000"/>
                  <a:ext cx="0" cy="65160"/>
                </a:xfrm>
                <a:prstGeom prst="line">
                  <a:avLst/>
                </a:prstGeom>
                <a:ln w="648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 flipV="1">
                  <a:off x="8053560" y="1449000"/>
                  <a:ext cx="0" cy="65160"/>
                </a:xfrm>
                <a:prstGeom prst="line">
                  <a:avLst/>
                </a:prstGeom>
                <a:ln w="648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7786800" y="1482840"/>
                  <a:ext cx="315720" cy="0"/>
                </a:xfrm>
                <a:prstGeom prst="line">
                  <a:avLst/>
                </a:prstGeom>
                <a:ln w="648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385" name=""/>
                    <p:cNvSpPr txBox="1"/>
                    <p:nvPr/>
                  </p:nvSpPr>
                  <p:spPr>
                    <a:xfrm>
                      <a:off x="7812000" y="1087560"/>
                      <a:ext cx="317520" cy="4096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-18000" y="-360"/>
            <a:ext cx="916308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Valutazione della risposta sismica col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metodo statico non lineare e verifica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440" y="4853160"/>
            <a:ext cx="792468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importanza del modello di carico</a:t>
            </a: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88" name=""/>
          <p:cNvSpPr/>
          <p:nvPr/>
        </p:nvSpPr>
        <p:spPr>
          <a:xfrm>
            <a:off x="685800" y="4281480"/>
            <a:ext cx="77724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Analisi statica incrementale: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85800" y="2462040"/>
            <a:ext cx="7924680" cy="15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66"/>
                </a:solidFill>
                <a:latin typeface="Comic Sans MS"/>
              </a:rPr>
              <a:t>Metodo N2 (Fajfar)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66"/>
                </a:solidFill>
                <a:latin typeface="Comic Sans MS"/>
              </a:rPr>
              <a:t>Metodo OPCM 3431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66"/>
                </a:solidFill>
                <a:latin typeface="Comic Sans MS"/>
              </a:rPr>
              <a:t>Metodo N1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85800" y="1882800"/>
            <a:ext cx="77724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Metodi statici non lineari: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2560" y="285228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METODI STATICI NON LINEARI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5T07:18:09Z</dcterms:created>
  <dc:creator>Aurelio Ghersi</dc:creator>
  <dc:description/>
  <dc:language>en-US</dc:language>
  <cp:lastModifiedBy> </cp:lastModifiedBy>
  <dcterms:modified xsi:type="dcterms:W3CDTF">2007-06-05T09:42:13Z</dcterms:modified>
  <cp:revision>239</cp:revision>
  <dc:subject>Lezione LabPro 8/3/06</dc:subject>
  <dc:title>Obiettivi della progettazione in zona sismica</dc:title>
</cp:coreProperties>
</file>