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FB42-7B03-4FE6-BFB8-EDAF2E3CF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9040-074D-4A09-A4FE-0C83CD534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E4CC-622C-4391-BE1E-1449DEC12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FE0A-1ADF-41A1-9697-422C516A8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DEE0-E9F0-439D-B1BE-B7BA904DA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4894-2F5E-4AA8-A1CE-2C2B3C25B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C692-1D9D-4C3A-9386-314B37CF9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35A3-4FEE-479D-BE69-6BDA4A139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D6B3-5739-4195-9878-C6E19EB38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17F2-31BB-49D3-AB17-A5777C5E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F882-706B-496F-A79F-BA01CCD5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D0F2-F7AB-408C-B6CD-06198F44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65EC5-249B-4034-A0DB-31612616C6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403280" y="189000"/>
          <a:ext cx="6624720" cy="662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89000"/>
                    <a:ext cx="6624720" cy="66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6T08:06:08Z</dcterms:created>
  <dc:creator>Fabbrizio</dc:creator>
  <dc:description/>
  <dc:language>en-US</dc:language>
  <cp:lastModifiedBy>Administrator</cp:lastModifiedBy>
  <dcterms:modified xsi:type="dcterms:W3CDTF">2007-05-08T06:55:19Z</dcterms:modified>
  <cp:revision>4</cp:revision>
  <dc:subject/>
  <dc:title>Presentazione di PowerPoint</dc:title>
</cp:coreProperties>
</file>