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937500" cy="11422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332-7ECF-4675-B16E-0C54DC0B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8CB-5174-4D70-95CD-08F7A9F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5F0-368B-44ED-9788-2512B12E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BFA-A5BB-4039-BB43-15A07011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CAAD-301D-47A0-A791-89A5B05F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9398-1DC1-4E20-AFBE-2A02E80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CD8-D9B5-4FB4-9181-52DD16C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24C4-3E72-483B-BC88-7F79157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8AD-D685-4A50-9C1E-81F0AB5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8C52-0EEE-4B22-9CEA-03728CE2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0BF-7A68-4F70-908F-1FDCC240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ED9-0FDF-49D9-A2E2-9D8A11B4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2C9D-B626-4EBD-862B-4968959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95F4-0B38-4A92-97CD-9A34558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1F98-8ADB-4D0C-995F-AE1CF6F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468D-BEF1-4BA6-8E0D-7A82747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4D4-2A4D-4EAC-BF86-7A4607FE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B40-D4D0-4EA2-B206-9A842653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450-18FD-4915-97F7-95964089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A18-E1B0-4F4B-BECF-931BFB1A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19D-45BA-4365-A674-40CC0E15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B42-FF6F-4522-A4CD-B78BB9A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2E6-3C9E-4A36-8D0D-6AD9994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2BA-0284-4DC7-9D67-BBC3745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20EF-BD98-44B8-87DA-4E3754AE3B45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8F3-65A8-45DA-8AD8-73F179039AEB}" type="slidenum">
              <a:rPr b="0" lang="it-IT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0504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62040" y="4883040"/>
            <a:ext cx="6118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, 8 maggi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elina Bosc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240" y="59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same di Edifici Esistenti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0560" y="2338560"/>
            <a:ext cx="7558200" cy="1091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I livelli di conoscenza nelle linee-guida FEMA 356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st sui Materiali: Prove Usua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600" y="37018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cciaio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4600" y="93996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alcestruzzo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600" y="142704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no note le resistenze di progett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vono essere testat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1 provin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per ciascun tipo di calcestruzzo impiegato con un minimo d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provini per l’edifici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4600" y="251604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n sono note le resistenze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i progetto devono essere testat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1 provino per ciascun tipo di componente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con un minimo d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6 provini per l’edifici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600" y="424332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no note le resistenze di progett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possono essere usati i valori nomin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515448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n sono note le resistenze di progett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vono essere testati almeno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2 provin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ndagini sui Component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600" y="11494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erifica di eventuali degradi in elementi primari e secondar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251604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Orientamento e dimensione dei componenti struttur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4600" y="186516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Verifica della continuità dei percorsi di caric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ndagini sui Componenti: Indagine Visiv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14948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lmeno il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20% degli elementi e dei nodi per ciascun pian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ve essere ispezionato visivamen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5760" y="3174840"/>
            <a:ext cx="87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In caso di ricoprimento o ostruzioni è possibile fare una ispezione indiretta attraverso fibroscop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4600" y="210492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si trov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grado significativo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occorre analizzare il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40%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gli element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ndagini sui Componenti: Indagine Esaustiv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600" y="114948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È possibile rimuovere il ricoprimento per analizzare i dettagli di armatur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2104920"/>
            <a:ext cx="8739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 i disegni di progetto sono dettagliati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occorre osservare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diverse tipologie di connessioni primarie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i dettagli differiscono da quelli di progetto occorre analizzare almeno il 25% dello specifico tipo di collegamento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4600" y="3997440"/>
            <a:ext cx="8739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assenza di dettagli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occorre analizzare almeno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connessioni per ciascun tipo di collegamento principa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i dettagli differiscono da quelli di progetto occorre approfondire le indagin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incipi Genera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42920" y="198756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onfigurazione del sistema struttura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2652840"/>
            <a:ext cx="87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Elementi strutturali che costituiscono l’edificio (tipo, dettagli, resistenze dei materiali, degrado…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3629160"/>
            <a:ext cx="87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Elementi non strutturali che influenzano sollecitazioni e deformazioni subite dalla struttura durante l’evento sismic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920" y="452592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ondazion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920" y="520056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nterazione con strutture adiacent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2920" y="120816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È necessario raccogliere informazioni su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incipi Genera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142920" y="1631880"/>
            <a:ext cx="849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ocumenti di progetto (relazioni di calcolo, elaborati grafici di progetto, test sui materiali, libretti di manutenzione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920" y="259704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Normative vigenti nell’epoca di progettazione dell’edific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326232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Test distruttivi e non distruttivi sui materiali prelevati dall’edific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2920" y="390384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olloqui con il proprietario dell’immobile e con il progettis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451152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eve essere fatto almeno un sopralluogo per verificare che i dati raccolti siano rispondenti alle reali caratteristiche dell’edific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4600" y="551664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Qualora sia necessario effettuare prove sui materiali è consigliabile fare un calcolo preliminare per selezionare gli elementi-chiave nella risposta strutturale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600" y="11206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ossibili fonti d’informazion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figurazione del Sistema Struttura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42920" y="1631880"/>
            <a:ext cx="84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ati sul tipo e sulla disposizione degli elementi struttur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2308320"/>
            <a:ext cx="87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ndividuazione degli elementi che sostengono i carichi verticale e le azioni sismich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920" y="3262320"/>
            <a:ext cx="90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Individuazione dei load path per evidenziare eventuali carenze (discontinuità nel percorso dei carichi, inadeguata resistenza e duttilità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2920" y="444816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istinzione degli elementi in primari e secondar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prietà dei Componenti Struttura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30176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e informazioni raccolte devono consentire la stima delle proprietà di resistenza e di deformazione (dimensione della sezione trasversale, armature, presenza di staffe...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600" y="272556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 tener conto di incertezze associate ai componenti è introdotto un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efficiente di conoscenza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a adottare nella stima delle capacità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attore di Conoscenz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8440" y="1341360"/>
          <a:ext cx="9095040" cy="4748400"/>
        </p:xfrm>
        <a:graphic>
          <a:graphicData uri="http://schemas.openxmlformats.org/drawingml/2006/table">
            <a:tbl>
              <a:tblPr/>
              <a:tblGrid>
                <a:gridCol w="1206720"/>
                <a:gridCol w="1103400"/>
                <a:gridCol w="976320"/>
                <a:gridCol w="799920"/>
                <a:gridCol w="966960"/>
                <a:gridCol w="903240"/>
                <a:gridCol w="861840"/>
                <a:gridCol w="1247760"/>
                <a:gridCol w="1028880"/>
              </a:tblGrid>
              <a:tr h="456840">
                <a:tc row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t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gridSpan="8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ivello di conoscenza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Minim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Usual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aust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biettivo Prestazional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Base o inferior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Base o inferior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Migliorat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Migliorat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Procedure di analis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Lineari 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(Sta-Mod-Time History)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utt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utt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utt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est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Nessun Test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est Usual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est Usual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Test esaustiv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isegn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isegni di progett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 equiv.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isegni di progett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 equiv.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isegni di progett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 equiv.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ocumenti di costruzion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 equiv.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Sopralluog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Vis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aust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Vis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aust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Vis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aust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Vis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Esaustivo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Proprietà dei material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l progetto  o dai valori tipici dell’epoca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i valori tipici dell’epoca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l progetto e da prov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 prove usual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l progetto e da prov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 prove usuali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 documenti di costruzione e da prov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Da prove esaustive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18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Fattore di conoscenza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18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st sui Material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4600" y="1135080"/>
            <a:ext cx="873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l numero minimo di test da effettuare è funzione della quantità di dati di progetto disponibili, della tipologia del sistema strutturale, della qualità e della condizione dei materiali present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4936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 test devono essere concentrati sugli elementi principali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600" y="340848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e il numero di campioni è superiore al minimo prefissato e se il COV&lt;14%  R = Rm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4600" y="433224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Se il numero di campioni è superiore al minimo prefissato e se il COV&gt;14%  R = Rm – dev.st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st sui Materiali: Prove Esaustiv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4600" y="83520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 determinare ciascuna proprietà sono condotti test in numero sufficiente da garantire un COV = 14% con un minimo di 3 test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600" y="159372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alcestruzzo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" y="3301920"/>
            <a:ext cx="849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 ciascun tipo di elemento in calcestruzzo devono essere fatti almeno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tes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evono essere fatti almeno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6 test per l’intero edifici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02896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l modulo di elasticità deve poter essere stimato dai test di resistenz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4600" y="250812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 campioni devono essere presi casualmente dai componenti critici (ed anche da componenti che sembrano danneggiati o degradati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" y="4578480"/>
            <a:ext cx="8499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Per elementi in cls di cui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i conoscono le resistenze di progetto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evono essere testati almeno </a:t>
            </a:r>
            <a:r>
              <a:rPr b="0" lang="it-IT" sz="2000" spc="-1" strike="noStrike">
                <a:solidFill>
                  <a:srgbClr val="00ff00"/>
                </a:solidFill>
                <a:latin typeface="Comic Sans MS"/>
              </a:rPr>
              <a:t>3 provini per ciascun piano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, per 300m</a:t>
            </a:r>
            <a:r>
              <a:rPr b="0" lang="it-IT" sz="2000" spc="-1" strike="noStrike" baseline="30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i cls o 930 m</a:t>
            </a:r>
            <a:r>
              <a:rPr b="0" lang="it-IT" sz="2000" spc="-1" strike="noStrike" baseline="30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i area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Per elementi in cls di cui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non si conoscono le resistenze di progetto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evono essere testati almeno </a:t>
            </a:r>
            <a:r>
              <a:rPr b="0" lang="it-IT" sz="2000" spc="-1" strike="noStrike">
                <a:solidFill>
                  <a:srgbClr val="00ff00"/>
                </a:solidFill>
                <a:latin typeface="Comic Sans MS"/>
              </a:rPr>
              <a:t>6 provini per ciascun piano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, per 300m</a:t>
            </a:r>
            <a:r>
              <a:rPr b="0" lang="it-IT" sz="2000" spc="-1" strike="noStrike" baseline="30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i cls o 930 m</a:t>
            </a:r>
            <a:r>
              <a:rPr b="0" lang="it-IT" sz="2000" spc="-1" strike="noStrike" baseline="30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di area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160" y="36360"/>
            <a:ext cx="90154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st sui Materiali: Prove Esaustiv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3560"/>
            <a:ext cx="9144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003320"/>
            <a:ext cx="873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le prove forniscono valori di resistenza inferiori a quelli di progetto occorre intensificare la campagna d’indagine ed individuare i motivi di tale comportament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4600" y="250200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cciaio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600" y="298944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no note le proprietà di resistenza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vono essere testat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provini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per ciascun tipo di componen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600" y="4065480"/>
            <a:ext cx="8739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n sono note le proprietà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i resistenza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57120" indent="-357120" algn="just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si conosce il periodo di costruzione devono essere testat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provini per ciascun tipo di componente ogni 3 piani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57120" indent="-357120" algn="just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 non si conosce il periodo di costruzione devono essere testati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6 provini per ciascun tipo di componente ogni 3 piani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 perretti</dc:creator>
  <dc:description/>
  <dc:language>en-US</dc:language>
  <cp:lastModifiedBy>\\</cp:lastModifiedBy>
  <dcterms:modified xsi:type="dcterms:W3CDTF">2007-05-08T10:53:03Z</dcterms:modified>
  <cp:revision>392</cp:revision>
  <dc:subject>-</dc:subject>
  <dc:title>-</dc:title>
</cp:coreProperties>
</file>