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937500" cy="11422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30F-F8E0-4A20-A6FB-CFCCD7F2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AD6-407E-4B16-8037-F674D67B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11B-60B4-468B-BE8C-D5E08792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350-35D9-4710-8E81-3FDF8949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85F-E5C5-4B55-8074-9E6AAA2D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D32-AC07-429E-9C4E-47C7E74E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2CC-A97C-4849-9022-5DB9E43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EEF-F6DB-441C-8DA5-97F6728B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07A-A402-438B-870D-5D24426C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B68-87DF-4F0C-8924-304E2144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FFB-9F51-462C-9275-A3619B7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50D-C527-473B-8644-EF4D4A0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D221-7355-4753-BA85-11D307A094F8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2040" y="4883040"/>
            <a:ext cx="61182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tania, 5 giugno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elina Bosc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7240" y="592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rtamento (sismico) di edifici esistenti con struttura in c.a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0560" y="2782800"/>
            <a:ext cx="7558200" cy="109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Verifica di Elementi Duttili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in Procedure Non Lineari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: D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98520" y="1004760"/>
                <a:ext cx="51339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3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68360" y="2178000"/>
                <a:ext cx="1649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2247840" y="2347920"/>
            <a:ext cx="637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Rotazione rispetto alla corda per </a:t>
            </a:r>
            <a:r>
              <a:rPr b="0" i="1" lang="it-IT" sz="2000" spc="-1" strike="noStrike">
                <a:solidFill>
                  <a:srgbClr val="ffff66"/>
                </a:solidFill>
                <a:latin typeface="Tahoma"/>
              </a:rPr>
              <a:t>M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=</a:t>
            </a:r>
            <a:r>
              <a:rPr b="0" i="1" lang="it-IT" sz="2000" spc="-1" strike="noStrike">
                <a:solidFill>
                  <a:srgbClr val="ffff66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50720" y="3222720"/>
                <a:ext cx="21081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3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247840" y="344340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ontributo deformazioni a tagl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60520" y="4584600"/>
                <a:ext cx="14652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2247840" y="4732200"/>
            <a:ext cx="63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Contributo def. longitudinali armature nella zona di ancoragg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01960" y="4811760"/>
            <a:ext cx="1946160" cy="1152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73160" y="5235480"/>
            <a:ext cx="2027520" cy="728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0120" y="5694480"/>
            <a:ext cx="439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Tahoma"/>
              </a:rPr>
              <a:t>Resistenze medie di acciaio e cls (in MPa) divise per F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363680" y="4836960"/>
            <a:ext cx="95400" cy="1035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5870520"/>
            <a:ext cx="36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Diametro medio delle barre longitudinali (tese?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: C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822240" y="1222200"/>
                <a:ext cx="7861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r>
                                      <m:t xml:space="preserve">;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α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w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96840" y="14842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1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6840" y="27338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838080" y="2522520"/>
                <a:ext cx="433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: C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822240" y="1222200"/>
                <a:ext cx="7861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r>
                                      <m:t xml:space="preserve">;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α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w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96840" y="14842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1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6520" y="2448000"/>
            <a:ext cx="85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Dipende da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680" y="5216400"/>
            <a:ext cx="859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L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luce di tagl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6520" y="2854440"/>
            <a:ext cx="85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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asso di lavoro assia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520" y="3325680"/>
            <a:ext cx="85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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’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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percentuali meccaniche di armatura tesa e compress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6520" y="3798720"/>
            <a:ext cx="859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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x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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 confinament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680" y="4270320"/>
            <a:ext cx="8869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Tahoma"/>
              </a:rPr>
              <a:t>c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,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Tahoma"/>
              </a:rPr>
              <a:t>yw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resistenza media del cls e dell’armatura di confinamento / FC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680" y="4743360"/>
            <a:ext cx="85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altezza della sezio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6520" y="6013440"/>
            <a:ext cx="8596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ahoma"/>
              </a:rPr>
              <a:t>u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deve essere ridotta moltiplicando per 0.85 per elementi non dotati di adeguati dettagli di tipo antisismic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817800" y="2971800"/>
            <a:ext cx="4078440" cy="28670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: CO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822240" y="1222200"/>
                <a:ext cx="7861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r>
                                      <m:t xml:space="preserve">;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α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w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96840" y="14842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1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6520" y="2448000"/>
            <a:ext cx="85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nfluenza staffatura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04120" y="540540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asso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1680" y="3003480"/>
            <a:ext cx="44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cc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46000" y="5454720"/>
            <a:ext cx="9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0760" y="3649680"/>
            <a:ext cx="75564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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= 0.0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0760" y="4070520"/>
            <a:ext cx="75564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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= 0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0760" y="4578480"/>
            <a:ext cx="75564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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= 0.6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27000" y="3541680"/>
            <a:ext cx="900360" cy="1800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14480" y="362916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19040" y="362916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23960" y="362916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4480" y="520380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19040" y="520380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23960" y="520380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14480" y="4422600"/>
            <a:ext cx="68040" cy="684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55640" y="4429080"/>
            <a:ext cx="68400" cy="684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5360" y="3537000"/>
            <a:ext cx="15876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7800" y="3454200"/>
            <a:ext cx="0" cy="19875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360" y="5340240"/>
            <a:ext cx="15876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040" y="4336920"/>
            <a:ext cx="38736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66880" y="3139560"/>
            <a:ext cx="0" cy="1587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74720" y="3213000"/>
            <a:ext cx="10666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755720" y="3139560"/>
            <a:ext cx="0" cy="1587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23920" y="3056040"/>
            <a:ext cx="38736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6840" y="3606840"/>
            <a:ext cx="755640" cy="1695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46800" y="3606840"/>
            <a:ext cx="2275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1086800">
            <a:off x="997560" y="3465360"/>
            <a:ext cx="22752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87480" y="4349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814920" y="2973240"/>
            <a:ext cx="4078080" cy="28670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325760" y="4716360"/>
            <a:ext cx="3532320" cy="12960"/>
          </a:xfrm>
          <a:custGeom>
            <a:avLst/>
            <a:gdLst/>
            <a:ahLst/>
            <a:rect l="l" t="t" r="r" b="b"/>
            <a:pathLst>
              <a:path w="9277" h="34">
                <a:moveTo>
                  <a:pt x="0" y="0"/>
                </a:moveTo>
                <a:lnTo>
                  <a:pt x="928" y="14"/>
                </a:lnTo>
                <a:lnTo>
                  <a:pt x="1855" y="21"/>
                </a:lnTo>
                <a:lnTo>
                  <a:pt x="2783" y="25"/>
                </a:lnTo>
                <a:lnTo>
                  <a:pt x="3711" y="28"/>
                </a:lnTo>
                <a:lnTo>
                  <a:pt x="4639" y="30"/>
                </a:lnTo>
                <a:lnTo>
                  <a:pt x="5566" y="31"/>
                </a:lnTo>
                <a:lnTo>
                  <a:pt x="6494" y="32"/>
                </a:lnTo>
                <a:lnTo>
                  <a:pt x="7422" y="33"/>
                </a:lnTo>
                <a:lnTo>
                  <a:pt x="8349" y="34"/>
                </a:lnTo>
                <a:lnTo>
                  <a:pt x="9277" y="34"/>
                </a:lnTo>
              </a:path>
            </a:pathLst>
          </a:custGeom>
          <a:noFill/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25760" y="4203720"/>
            <a:ext cx="3532320" cy="23760"/>
          </a:xfrm>
          <a:custGeom>
            <a:avLst/>
            <a:gdLst/>
            <a:ahLst/>
            <a:rect l="l" t="t" r="r" b="b"/>
            <a:pathLst>
              <a:path w="9277" h="62">
                <a:moveTo>
                  <a:pt x="0" y="0"/>
                </a:moveTo>
                <a:lnTo>
                  <a:pt x="928" y="26"/>
                </a:lnTo>
                <a:lnTo>
                  <a:pt x="1855" y="38"/>
                </a:lnTo>
                <a:lnTo>
                  <a:pt x="2783" y="45"/>
                </a:lnTo>
                <a:lnTo>
                  <a:pt x="3711" y="50"/>
                </a:lnTo>
                <a:lnTo>
                  <a:pt x="4639" y="54"/>
                </a:lnTo>
                <a:lnTo>
                  <a:pt x="5566" y="56"/>
                </a:lnTo>
                <a:lnTo>
                  <a:pt x="6494" y="58"/>
                </a:lnTo>
                <a:lnTo>
                  <a:pt x="7422" y="59"/>
                </a:lnTo>
                <a:lnTo>
                  <a:pt x="8349" y="61"/>
                </a:lnTo>
                <a:lnTo>
                  <a:pt x="9277" y="62"/>
                </a:lnTo>
              </a:path>
            </a:pathLst>
          </a:custGeom>
          <a:noFill/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25760" y="3816360"/>
            <a:ext cx="3532320" cy="30240"/>
          </a:xfrm>
          <a:custGeom>
            <a:avLst/>
            <a:gdLst/>
            <a:ahLst/>
            <a:rect l="l" t="t" r="r" b="b"/>
            <a:pathLst>
              <a:path w="9277" h="81">
                <a:moveTo>
                  <a:pt x="0" y="0"/>
                </a:moveTo>
                <a:lnTo>
                  <a:pt x="928" y="34"/>
                </a:lnTo>
                <a:lnTo>
                  <a:pt x="1855" y="50"/>
                </a:lnTo>
                <a:lnTo>
                  <a:pt x="2783" y="60"/>
                </a:lnTo>
                <a:lnTo>
                  <a:pt x="3711" y="66"/>
                </a:lnTo>
                <a:lnTo>
                  <a:pt x="4639" y="71"/>
                </a:lnTo>
                <a:lnTo>
                  <a:pt x="5566" y="74"/>
                </a:lnTo>
                <a:lnTo>
                  <a:pt x="6494" y="77"/>
                </a:lnTo>
                <a:lnTo>
                  <a:pt x="7422" y="79"/>
                </a:lnTo>
                <a:lnTo>
                  <a:pt x="8349" y="80"/>
                </a:lnTo>
                <a:lnTo>
                  <a:pt x="9277" y="81"/>
                </a:lnTo>
              </a:path>
            </a:pathLst>
          </a:custGeom>
          <a:noFill/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: CO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822240" y="1222200"/>
                <a:ext cx="7861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r>
                                      <m:t xml:space="preserve">;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α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w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6840" y="14842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1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520" y="2448000"/>
            <a:ext cx="85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Influenza staffatura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04120" y="540540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asso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11680" y="3003480"/>
            <a:ext cx="44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cc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6000" y="5454720"/>
            <a:ext cx="9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0760" y="3649680"/>
            <a:ext cx="75564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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= 0.0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0760" y="4070520"/>
            <a:ext cx="75564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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= 0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30760" y="4578480"/>
            <a:ext cx="75564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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= 0.6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27000" y="3541680"/>
            <a:ext cx="900360" cy="1800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14480" y="362916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19040" y="362916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960" y="362916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4480" y="520380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19040" y="520380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23960" y="5203800"/>
            <a:ext cx="88920" cy="88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14480" y="4422600"/>
            <a:ext cx="68040" cy="684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55640" y="4429080"/>
            <a:ext cx="68400" cy="684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360" y="3537000"/>
            <a:ext cx="15876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77800" y="3454200"/>
            <a:ext cx="0" cy="19875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5340240"/>
            <a:ext cx="15876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040" y="4336920"/>
            <a:ext cx="38736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66880" y="3139560"/>
            <a:ext cx="0" cy="1587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4720" y="3213000"/>
            <a:ext cx="10666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755720" y="3139560"/>
            <a:ext cx="0" cy="1587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23920" y="3056040"/>
            <a:ext cx="387360" cy="30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6840" y="3606840"/>
            <a:ext cx="755640" cy="1695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46800" y="3606840"/>
            <a:ext cx="2275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1086800">
            <a:off x="997560" y="3465360"/>
            <a:ext cx="22752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87480" y="4349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1625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987480" y="4405320"/>
            <a:ext cx="765000" cy="112320"/>
            <a:chOff x="987480" y="4405320"/>
            <a:chExt cx="765000" cy="112320"/>
          </a:xfrm>
        </p:grpSpPr>
        <p:sp>
          <p:nvSpPr>
            <p:cNvPr id="463" name=""/>
            <p:cNvSpPr/>
            <p:nvPr/>
          </p:nvSpPr>
          <p:spPr>
            <a:xfrm>
              <a:off x="987480" y="4405320"/>
              <a:ext cx="403200" cy="106200"/>
            </a:xfrm>
            <a:custGeom>
              <a:avLst/>
              <a:gdLst/>
              <a:ahLst/>
              <a:rect l="l" t="t" r="r" b="b"/>
              <a:pathLst>
                <a:path w="254" h="67">
                  <a:moveTo>
                    <a:pt x="106" y="57"/>
                  </a:moveTo>
                  <a:cubicBezTo>
                    <a:pt x="84" y="62"/>
                    <a:pt x="62" y="67"/>
                    <a:pt x="46" y="65"/>
                  </a:cubicBezTo>
                  <a:cubicBezTo>
                    <a:pt x="30" y="63"/>
                    <a:pt x="15" y="55"/>
                    <a:pt x="10" y="45"/>
                  </a:cubicBezTo>
                  <a:cubicBezTo>
                    <a:pt x="5" y="35"/>
                    <a:pt x="0" y="10"/>
                    <a:pt x="18" y="5"/>
                  </a:cubicBezTo>
                  <a:cubicBezTo>
                    <a:pt x="36" y="0"/>
                    <a:pt x="79" y="8"/>
                    <a:pt x="118" y="13"/>
                  </a:cubicBezTo>
                  <a:cubicBezTo>
                    <a:pt x="157" y="18"/>
                    <a:pt x="205" y="27"/>
                    <a:pt x="254" y="3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1349280" y="4411080"/>
              <a:ext cx="403200" cy="106200"/>
            </a:xfrm>
            <a:custGeom>
              <a:avLst/>
              <a:gdLst/>
              <a:ahLst/>
              <a:rect l="l" t="t" r="r" b="b"/>
              <a:pathLst>
                <a:path w="254" h="67">
                  <a:moveTo>
                    <a:pt x="106" y="57"/>
                  </a:moveTo>
                  <a:cubicBezTo>
                    <a:pt x="84" y="62"/>
                    <a:pt x="62" y="67"/>
                    <a:pt x="46" y="65"/>
                  </a:cubicBezTo>
                  <a:cubicBezTo>
                    <a:pt x="30" y="63"/>
                    <a:pt x="15" y="55"/>
                    <a:pt x="10" y="45"/>
                  </a:cubicBezTo>
                  <a:cubicBezTo>
                    <a:pt x="5" y="35"/>
                    <a:pt x="0" y="10"/>
                    <a:pt x="18" y="5"/>
                  </a:cubicBezTo>
                  <a:cubicBezTo>
                    <a:pt x="36" y="0"/>
                    <a:pt x="79" y="8"/>
                    <a:pt x="118" y="13"/>
                  </a:cubicBezTo>
                  <a:cubicBezTo>
                    <a:pt x="157" y="18"/>
                    <a:pt x="205" y="27"/>
                    <a:pt x="254" y="3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287360" y="3606840"/>
            <a:ext cx="136800" cy="1707840"/>
            <a:chOff x="1287360" y="3606840"/>
            <a:chExt cx="136800" cy="1707840"/>
          </a:xfrm>
        </p:grpSpPr>
        <p:sp>
          <p:nvSpPr>
            <p:cNvPr id="466" name=""/>
            <p:cNvSpPr/>
            <p:nvPr/>
          </p:nvSpPr>
          <p:spPr>
            <a:xfrm>
              <a:off x="1287360" y="3606840"/>
              <a:ext cx="130320" cy="863640"/>
            </a:xfrm>
            <a:custGeom>
              <a:avLst/>
              <a:gdLst/>
              <a:ahLst/>
              <a:rect l="l" t="t" r="r" b="b"/>
              <a:pathLst>
                <a:path w="82" h="544">
                  <a:moveTo>
                    <a:pt x="13" y="112"/>
                  </a:moveTo>
                  <a:cubicBezTo>
                    <a:pt x="6" y="91"/>
                    <a:pt x="0" y="70"/>
                    <a:pt x="5" y="52"/>
                  </a:cubicBezTo>
                  <a:cubicBezTo>
                    <a:pt x="10" y="34"/>
                    <a:pt x="29" y="8"/>
                    <a:pt x="41" y="4"/>
                  </a:cubicBezTo>
                  <a:cubicBezTo>
                    <a:pt x="53" y="0"/>
                    <a:pt x="72" y="4"/>
                    <a:pt x="77" y="28"/>
                  </a:cubicBezTo>
                  <a:cubicBezTo>
                    <a:pt x="82" y="52"/>
                    <a:pt x="75" y="62"/>
                    <a:pt x="69" y="148"/>
                  </a:cubicBezTo>
                  <a:cubicBezTo>
                    <a:pt x="63" y="234"/>
                    <a:pt x="52" y="389"/>
                    <a:pt x="41" y="5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1293840" y="4450680"/>
              <a:ext cx="130320" cy="863640"/>
            </a:xfrm>
            <a:custGeom>
              <a:avLst/>
              <a:gdLst/>
              <a:ahLst/>
              <a:rect l="l" t="t" r="r" b="b"/>
              <a:pathLst>
                <a:path w="82" h="544">
                  <a:moveTo>
                    <a:pt x="13" y="112"/>
                  </a:moveTo>
                  <a:cubicBezTo>
                    <a:pt x="6" y="91"/>
                    <a:pt x="0" y="70"/>
                    <a:pt x="5" y="52"/>
                  </a:cubicBezTo>
                  <a:cubicBezTo>
                    <a:pt x="10" y="34"/>
                    <a:pt x="29" y="8"/>
                    <a:pt x="41" y="4"/>
                  </a:cubicBezTo>
                  <a:cubicBezTo>
                    <a:pt x="53" y="0"/>
                    <a:pt x="72" y="4"/>
                    <a:pt x="77" y="28"/>
                  </a:cubicBezTo>
                  <a:cubicBezTo>
                    <a:pt x="82" y="52"/>
                    <a:pt x="75" y="62"/>
                    <a:pt x="69" y="148"/>
                  </a:cubicBezTo>
                  <a:cubicBezTo>
                    <a:pt x="63" y="234"/>
                    <a:pt x="52" y="389"/>
                    <a:pt x="41" y="5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724880" y="3600360"/>
            <a:ext cx="149040" cy="14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: C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6840" y="14842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24560" y="1901880"/>
                <a:ext cx="35686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863640" y="1289160"/>
                <a:ext cx="43322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 flipH="1">
            <a:off x="1739520" y="1949400"/>
            <a:ext cx="289080" cy="4716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25560" y="2851200"/>
            <a:ext cx="369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urvatura ultima della sezione d’estremità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913040" y="3849840"/>
            <a:ext cx="5332320" cy="3069720"/>
            <a:chOff x="1913040" y="3849840"/>
            <a:chExt cx="5332320" cy="3069720"/>
          </a:xfrm>
        </p:grpSpPr>
        <p:sp>
          <p:nvSpPr>
            <p:cNvPr id="477" name=""/>
            <p:cNvSpPr/>
            <p:nvPr/>
          </p:nvSpPr>
          <p:spPr>
            <a:xfrm>
              <a:off x="2870280" y="4781880"/>
              <a:ext cx="312480" cy="47520"/>
            </a:xfrm>
            <a:custGeom>
              <a:avLst/>
              <a:gdLst/>
              <a:ahLst/>
              <a:rect l="l" t="t" r="r" b="b"/>
              <a:pathLst>
                <a:path w="393" h="59">
                  <a:moveTo>
                    <a:pt x="0" y="0"/>
                  </a:moveTo>
                  <a:lnTo>
                    <a:pt x="0" y="57"/>
                  </a:lnTo>
                  <a:lnTo>
                    <a:pt x="393" y="59"/>
                  </a:lnTo>
                  <a:lnTo>
                    <a:pt x="39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87720" y="4680000"/>
              <a:ext cx="1800" cy="15624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121280" y="4702320"/>
              <a:ext cx="1296720" cy="1513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05440" y="4680000"/>
              <a:ext cx="1800" cy="15624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05440" y="4680000"/>
              <a:ext cx="46836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084200" y="4692960"/>
              <a:ext cx="784440" cy="144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87720" y="530568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70280" y="6089760"/>
              <a:ext cx="312480" cy="46080"/>
            </a:xfrm>
            <a:custGeom>
              <a:avLst/>
              <a:gdLst/>
              <a:ahLst/>
              <a:rect l="l" t="t" r="r" b="b"/>
              <a:pathLst>
                <a:path w="393" h="59">
                  <a:moveTo>
                    <a:pt x="0" y="0"/>
                  </a:moveTo>
                  <a:lnTo>
                    <a:pt x="0" y="58"/>
                  </a:lnTo>
                  <a:lnTo>
                    <a:pt x="393" y="59"/>
                  </a:lnTo>
                  <a:lnTo>
                    <a:pt x="39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40200" y="4503960"/>
              <a:ext cx="342720" cy="290520"/>
            </a:xfrm>
            <a:custGeom>
              <a:avLst/>
              <a:gdLst/>
              <a:ahLst/>
              <a:rect l="l" t="t" r="r" b="b"/>
              <a:pathLst>
                <a:path w="430" h="430">
                  <a:moveTo>
                    <a:pt x="0" y="430"/>
                  </a:moveTo>
                  <a:lnTo>
                    <a:pt x="174" y="0"/>
                  </a:lnTo>
                  <a:lnTo>
                    <a:pt x="430" y="0"/>
                  </a:lnTo>
                </a:path>
              </a:pathLst>
            </a:custGeom>
            <a:noFill/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33720" y="6102360"/>
              <a:ext cx="349200" cy="366840"/>
            </a:xfrm>
            <a:custGeom>
              <a:avLst/>
              <a:gdLst/>
              <a:ahLst/>
              <a:rect l="l" t="t" r="r" b="b"/>
              <a:pathLst>
                <a:path w="438" h="464">
                  <a:moveTo>
                    <a:pt x="0" y="0"/>
                  </a:moveTo>
                  <a:lnTo>
                    <a:pt x="177" y="464"/>
                  </a:lnTo>
                  <a:lnTo>
                    <a:pt x="438" y="464"/>
                  </a:lnTo>
                </a:path>
              </a:pathLst>
            </a:custGeom>
            <a:noFill/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146640" y="4768920"/>
              <a:ext cx="635040" cy="77760"/>
              <a:chOff x="6146640" y="4768920"/>
              <a:chExt cx="635040" cy="77760"/>
            </a:xfrm>
          </p:grpSpPr>
          <p:sp>
            <p:nvSpPr>
              <p:cNvPr id="488" name=""/>
              <p:cNvSpPr/>
              <p:nvPr/>
            </p:nvSpPr>
            <p:spPr>
              <a:xfrm>
                <a:off x="6146640" y="4808880"/>
                <a:ext cx="55728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02480" y="476892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9" y="48"/>
                    </a:lnTo>
                    <a:lnTo>
                      <a:pt x="0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146640" y="4859640"/>
              <a:ext cx="635040" cy="77760"/>
              <a:chOff x="6146640" y="4859640"/>
              <a:chExt cx="635040" cy="77760"/>
            </a:xfrm>
          </p:grpSpPr>
          <p:sp>
            <p:nvSpPr>
              <p:cNvPr id="491" name=""/>
              <p:cNvSpPr/>
              <p:nvPr/>
            </p:nvSpPr>
            <p:spPr>
              <a:xfrm>
                <a:off x="6146640" y="4897800"/>
                <a:ext cx="55728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02480" y="48596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9" y="48"/>
                    </a:lnTo>
                    <a:lnTo>
                      <a:pt x="0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5278320" y="6081840"/>
              <a:ext cx="631440" cy="77760"/>
              <a:chOff x="5278320" y="6081840"/>
              <a:chExt cx="631440" cy="77760"/>
            </a:xfrm>
          </p:grpSpPr>
          <p:sp>
            <p:nvSpPr>
              <p:cNvPr id="494" name=""/>
              <p:cNvSpPr/>
              <p:nvPr/>
            </p:nvSpPr>
            <p:spPr>
              <a:xfrm flipH="1">
                <a:off x="5352840" y="6121440"/>
                <a:ext cx="55692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278320" y="608184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98" y="0"/>
                    </a:moveTo>
                    <a:lnTo>
                      <a:pt x="0" y="49"/>
                    </a:lnTo>
                    <a:lnTo>
                      <a:pt x="98" y="9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5468760" y="6159600"/>
              <a:ext cx="395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09240" y="615960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2481120" y="5299200"/>
              <a:ext cx="3969000" cy="11160"/>
              <a:chOff x="2481120" y="5299200"/>
              <a:chExt cx="3969000" cy="11160"/>
            </a:xfrm>
          </p:grpSpPr>
          <p:sp>
            <p:nvSpPr>
              <p:cNvPr id="499" name=""/>
              <p:cNvSpPr/>
              <p:nvPr/>
            </p:nvSpPr>
            <p:spPr>
              <a:xfrm>
                <a:off x="2481120" y="529920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70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5888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63520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1152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70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8928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86524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941560" y="529920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70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01932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9564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7196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70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4972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32568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0200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7976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55608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32040" y="529920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0980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8612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6244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4020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16520" y="52992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92480" y="529920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7024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24656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32288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0064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47660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5292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63068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0700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782960" y="529920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61080" y="52992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3704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1336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9112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6744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43400" y="529920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2116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9748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7380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5156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2752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0384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8160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5792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933880" y="529920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12000" y="52992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8796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164280" y="52992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4204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318360" y="529920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394320" y="529920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916600" y="4967640"/>
              <a:ext cx="339840" cy="336240"/>
            </a:xfrm>
            <a:custGeom>
              <a:avLst/>
              <a:gdLst/>
              <a:ahLst/>
              <a:rect l="l" t="t" r="r" b="b"/>
              <a:pathLst>
                <a:path w="427" h="776">
                  <a:moveTo>
                    <a:pt x="427" y="0"/>
                  </a:moveTo>
                  <a:lnTo>
                    <a:pt x="424" y="50"/>
                  </a:lnTo>
                  <a:lnTo>
                    <a:pt x="420" y="100"/>
                  </a:lnTo>
                  <a:lnTo>
                    <a:pt x="414" y="149"/>
                  </a:lnTo>
                  <a:lnTo>
                    <a:pt x="411" y="174"/>
                  </a:lnTo>
                  <a:lnTo>
                    <a:pt x="406" y="201"/>
                  </a:lnTo>
                  <a:lnTo>
                    <a:pt x="404" y="216"/>
                  </a:lnTo>
                  <a:lnTo>
                    <a:pt x="403" y="232"/>
                  </a:lnTo>
                  <a:lnTo>
                    <a:pt x="398" y="265"/>
                  </a:lnTo>
                  <a:lnTo>
                    <a:pt x="392" y="300"/>
                  </a:lnTo>
                  <a:lnTo>
                    <a:pt x="390" y="315"/>
                  </a:lnTo>
                  <a:lnTo>
                    <a:pt x="386" y="329"/>
                  </a:lnTo>
                  <a:lnTo>
                    <a:pt x="383" y="342"/>
                  </a:lnTo>
                  <a:lnTo>
                    <a:pt x="381" y="354"/>
                  </a:lnTo>
                  <a:lnTo>
                    <a:pt x="375" y="376"/>
                  </a:lnTo>
                  <a:lnTo>
                    <a:pt x="367" y="397"/>
                  </a:lnTo>
                  <a:lnTo>
                    <a:pt x="359" y="420"/>
                  </a:lnTo>
                  <a:lnTo>
                    <a:pt x="348" y="447"/>
                  </a:lnTo>
                  <a:lnTo>
                    <a:pt x="337" y="475"/>
                  </a:lnTo>
                  <a:lnTo>
                    <a:pt x="325" y="503"/>
                  </a:lnTo>
                  <a:lnTo>
                    <a:pt x="312" y="530"/>
                  </a:lnTo>
                  <a:lnTo>
                    <a:pt x="297" y="556"/>
                  </a:lnTo>
                  <a:lnTo>
                    <a:pt x="282" y="583"/>
                  </a:lnTo>
                  <a:lnTo>
                    <a:pt x="266" y="607"/>
                  </a:lnTo>
                  <a:lnTo>
                    <a:pt x="251" y="630"/>
                  </a:lnTo>
                  <a:lnTo>
                    <a:pt x="237" y="651"/>
                  </a:lnTo>
                  <a:lnTo>
                    <a:pt x="224" y="670"/>
                  </a:lnTo>
                  <a:lnTo>
                    <a:pt x="210" y="687"/>
                  </a:lnTo>
                  <a:lnTo>
                    <a:pt x="197" y="702"/>
                  </a:lnTo>
                  <a:lnTo>
                    <a:pt x="180" y="719"/>
                  </a:lnTo>
                  <a:lnTo>
                    <a:pt x="163" y="734"/>
                  </a:lnTo>
                  <a:lnTo>
                    <a:pt x="145" y="747"/>
                  </a:lnTo>
                  <a:lnTo>
                    <a:pt x="137" y="753"/>
                  </a:lnTo>
                  <a:lnTo>
                    <a:pt x="129" y="758"/>
                  </a:lnTo>
                  <a:lnTo>
                    <a:pt x="122" y="761"/>
                  </a:lnTo>
                  <a:lnTo>
                    <a:pt x="115" y="763"/>
                  </a:lnTo>
                  <a:lnTo>
                    <a:pt x="101" y="766"/>
                  </a:lnTo>
                  <a:lnTo>
                    <a:pt x="88" y="767"/>
                  </a:lnTo>
                  <a:lnTo>
                    <a:pt x="75" y="768"/>
                  </a:lnTo>
                  <a:lnTo>
                    <a:pt x="70" y="768"/>
                  </a:lnTo>
                  <a:lnTo>
                    <a:pt x="64" y="768"/>
                  </a:lnTo>
                  <a:lnTo>
                    <a:pt x="57" y="767"/>
                  </a:lnTo>
                  <a:lnTo>
                    <a:pt x="49" y="766"/>
                  </a:lnTo>
                  <a:lnTo>
                    <a:pt x="33" y="762"/>
                  </a:lnTo>
                  <a:lnTo>
                    <a:pt x="17" y="760"/>
                  </a:lnTo>
                  <a:lnTo>
                    <a:pt x="10" y="759"/>
                  </a:lnTo>
                  <a:lnTo>
                    <a:pt x="5" y="759"/>
                  </a:lnTo>
                  <a:lnTo>
                    <a:pt x="1" y="760"/>
                  </a:lnTo>
                  <a:lnTo>
                    <a:pt x="0" y="761"/>
                  </a:lnTo>
                  <a:lnTo>
                    <a:pt x="1" y="762"/>
                  </a:lnTo>
                  <a:lnTo>
                    <a:pt x="4" y="766"/>
                  </a:lnTo>
                  <a:lnTo>
                    <a:pt x="10" y="770"/>
                  </a:lnTo>
                  <a:lnTo>
                    <a:pt x="20" y="776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62120" y="4683240"/>
              <a:ext cx="914400" cy="62856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76440" y="4216680"/>
              <a:ext cx="1117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577960" y="4165920"/>
              <a:ext cx="0" cy="1396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3492360" y="4165920"/>
              <a:ext cx="0" cy="1396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27440" y="3849840"/>
              <a:ext cx="4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11560" y="4584960"/>
              <a:ext cx="0" cy="1752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235240" y="6235920"/>
              <a:ext cx="164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235240" y="6108840"/>
              <a:ext cx="164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235240" y="4699080"/>
              <a:ext cx="164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38240" y="5170680"/>
              <a:ext cx="2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13040" y="59706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52760" y="4686480"/>
              <a:ext cx="939600" cy="156204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35400" y="6224760"/>
              <a:ext cx="46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48000" y="4294440"/>
              <a:ext cx="46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Tahoma"/>
                </a:rPr>
                <a:t>A’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61000" y="4370400"/>
              <a:ext cx="50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N’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02560" y="4751640"/>
              <a:ext cx="4428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Tahoma"/>
                </a:rPr>
                <a:t>N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54480" y="4584960"/>
              <a:ext cx="0" cy="825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177800" y="5295960"/>
              <a:ext cx="1652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4177800" y="4699080"/>
              <a:ext cx="1652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32280" y="4764240"/>
              <a:ext cx="3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43560" y="6174000"/>
              <a:ext cx="4428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Tahoma"/>
                </a:rPr>
                <a:t>N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00400" y="6108840"/>
              <a:ext cx="22734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4586400" y="4686480"/>
              <a:ext cx="0" cy="157464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195880" y="4686480"/>
              <a:ext cx="0" cy="157464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424480" y="4686480"/>
              <a:ext cx="0" cy="157464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02120" y="4699080"/>
              <a:ext cx="52092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02200" y="6235920"/>
              <a:ext cx="78552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97440" y="4256280"/>
              <a:ext cx="50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Tahoma"/>
                </a:rPr>
                <a:t>c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78320" y="4256280"/>
              <a:ext cx="50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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cu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32240" y="4268880"/>
              <a:ext cx="50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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yd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4965840"/>
              <a:ext cx="10670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6261120" y="4686120"/>
              <a:ext cx="0" cy="2919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0" y="2371680"/>
            <a:ext cx="261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Rotazione rispetto alla corda al limite elastic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65520" y="1936800"/>
            <a:ext cx="765000" cy="890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62600" y="1593720"/>
            <a:ext cx="612720" cy="18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576760" y="1332000"/>
            <a:ext cx="31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Lunghezza della cerniera plastic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27040" y="1547640"/>
            <a:ext cx="3678120" cy="25927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nfronti Limiti di Normativa per C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03680" y="3718080"/>
            <a:ext cx="4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u’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4800" y="1546200"/>
            <a:ext cx="44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cc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5520" y="880920"/>
            <a:ext cx="82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Travi (esempio trave 30x60, confinamento trascurabile)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5280" y="418320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s = 3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2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4883040" y="1547640"/>
            <a:ext cx="3678480" cy="25927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066680" y="3365640"/>
            <a:ext cx="2921040" cy="31680"/>
          </a:xfrm>
          <a:custGeom>
            <a:avLst/>
            <a:gdLst/>
            <a:ahLst/>
            <a:rect l="l" t="t" r="r" b="b"/>
            <a:pathLst>
              <a:path w="1840" h="20">
                <a:moveTo>
                  <a:pt x="0" y="0"/>
                </a:moveTo>
                <a:cubicBezTo>
                  <a:pt x="756" y="10"/>
                  <a:pt x="1512" y="20"/>
                  <a:pt x="1840" y="16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23040" y="3340080"/>
            <a:ext cx="2921040" cy="12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54080" y="2076480"/>
            <a:ext cx="2933640" cy="399960"/>
          </a:xfrm>
          <a:custGeom>
            <a:avLst/>
            <a:gdLst/>
            <a:ahLst/>
            <a:rect l="l" t="t" r="r" b="b"/>
            <a:pathLst>
              <a:path w="1848" h="252">
                <a:moveTo>
                  <a:pt x="0" y="252"/>
                </a:moveTo>
                <a:cubicBezTo>
                  <a:pt x="72" y="236"/>
                  <a:pt x="145" y="221"/>
                  <a:pt x="232" y="204"/>
                </a:cubicBezTo>
                <a:cubicBezTo>
                  <a:pt x="319" y="187"/>
                  <a:pt x="417" y="171"/>
                  <a:pt x="524" y="152"/>
                </a:cubicBezTo>
                <a:cubicBezTo>
                  <a:pt x="631" y="133"/>
                  <a:pt x="771" y="107"/>
                  <a:pt x="872" y="92"/>
                </a:cubicBezTo>
                <a:cubicBezTo>
                  <a:pt x="973" y="77"/>
                  <a:pt x="1033" y="75"/>
                  <a:pt x="1128" y="64"/>
                </a:cubicBezTo>
                <a:cubicBezTo>
                  <a:pt x="1223" y="53"/>
                  <a:pt x="1333" y="38"/>
                  <a:pt x="1440" y="28"/>
                </a:cubicBezTo>
                <a:cubicBezTo>
                  <a:pt x="1547" y="18"/>
                  <a:pt x="1700" y="8"/>
                  <a:pt x="1768" y="4"/>
                </a:cubicBezTo>
                <a:cubicBezTo>
                  <a:pt x="1836" y="0"/>
                  <a:pt x="1842" y="2"/>
                  <a:pt x="1848" y="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387520"/>
            <a:ext cx="2946600" cy="647640"/>
          </a:xfrm>
          <a:custGeom>
            <a:avLst/>
            <a:gdLst/>
            <a:ahLst/>
            <a:rect l="l" t="t" r="r" b="b"/>
            <a:pathLst>
              <a:path w="1856" h="408">
                <a:moveTo>
                  <a:pt x="0" y="408"/>
                </a:moveTo>
                <a:cubicBezTo>
                  <a:pt x="35" y="404"/>
                  <a:pt x="71" y="401"/>
                  <a:pt x="132" y="388"/>
                </a:cubicBezTo>
                <a:cubicBezTo>
                  <a:pt x="193" y="375"/>
                  <a:pt x="274" y="353"/>
                  <a:pt x="368" y="328"/>
                </a:cubicBezTo>
                <a:cubicBezTo>
                  <a:pt x="462" y="303"/>
                  <a:pt x="592" y="264"/>
                  <a:pt x="696" y="236"/>
                </a:cubicBezTo>
                <a:cubicBezTo>
                  <a:pt x="800" y="208"/>
                  <a:pt x="896" y="182"/>
                  <a:pt x="992" y="160"/>
                </a:cubicBezTo>
                <a:cubicBezTo>
                  <a:pt x="1088" y="138"/>
                  <a:pt x="1187" y="121"/>
                  <a:pt x="1272" y="104"/>
                </a:cubicBezTo>
                <a:cubicBezTo>
                  <a:pt x="1357" y="87"/>
                  <a:pt x="1417" y="71"/>
                  <a:pt x="1504" y="56"/>
                </a:cubicBezTo>
                <a:cubicBezTo>
                  <a:pt x="1591" y="41"/>
                  <a:pt x="1733" y="21"/>
                  <a:pt x="1792" y="12"/>
                </a:cubicBezTo>
                <a:cubicBezTo>
                  <a:pt x="1851" y="3"/>
                  <a:pt x="1853" y="1"/>
                  <a:pt x="185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03960" y="2171880"/>
            <a:ext cx="2952720" cy="734760"/>
          </a:xfrm>
          <a:custGeom>
            <a:avLst/>
            <a:gdLst/>
            <a:ahLst/>
            <a:rect l="l" t="t" r="r" b="b"/>
            <a:pathLst>
              <a:path w="1860" h="463">
                <a:moveTo>
                  <a:pt x="0" y="456"/>
                </a:moveTo>
                <a:cubicBezTo>
                  <a:pt x="29" y="459"/>
                  <a:pt x="58" y="463"/>
                  <a:pt x="84" y="456"/>
                </a:cubicBezTo>
                <a:cubicBezTo>
                  <a:pt x="110" y="449"/>
                  <a:pt x="125" y="434"/>
                  <a:pt x="156" y="416"/>
                </a:cubicBezTo>
                <a:cubicBezTo>
                  <a:pt x="187" y="398"/>
                  <a:pt x="224" y="372"/>
                  <a:pt x="272" y="348"/>
                </a:cubicBezTo>
                <a:cubicBezTo>
                  <a:pt x="320" y="324"/>
                  <a:pt x="362" y="301"/>
                  <a:pt x="444" y="272"/>
                </a:cubicBezTo>
                <a:cubicBezTo>
                  <a:pt x="526" y="243"/>
                  <a:pt x="667" y="200"/>
                  <a:pt x="764" y="176"/>
                </a:cubicBezTo>
                <a:cubicBezTo>
                  <a:pt x="861" y="152"/>
                  <a:pt x="940" y="145"/>
                  <a:pt x="1028" y="128"/>
                </a:cubicBezTo>
                <a:cubicBezTo>
                  <a:pt x="1116" y="111"/>
                  <a:pt x="1203" y="91"/>
                  <a:pt x="1292" y="76"/>
                </a:cubicBezTo>
                <a:cubicBezTo>
                  <a:pt x="1381" y="61"/>
                  <a:pt x="1489" y="51"/>
                  <a:pt x="1564" y="40"/>
                </a:cubicBezTo>
                <a:cubicBezTo>
                  <a:pt x="1639" y="29"/>
                  <a:pt x="1695" y="15"/>
                  <a:pt x="1744" y="8"/>
                </a:cubicBezTo>
                <a:cubicBezTo>
                  <a:pt x="1793" y="1"/>
                  <a:pt x="1826" y="0"/>
                  <a:pt x="186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0560" y="2178000"/>
            <a:ext cx="2927160" cy="585720"/>
          </a:xfrm>
          <a:custGeom>
            <a:avLst/>
            <a:gdLst/>
            <a:ahLst/>
            <a:rect l="l" t="t" r="r" b="b"/>
            <a:pathLst>
              <a:path w="1844" h="369">
                <a:moveTo>
                  <a:pt x="0" y="368"/>
                </a:moveTo>
                <a:cubicBezTo>
                  <a:pt x="47" y="368"/>
                  <a:pt x="94" y="369"/>
                  <a:pt x="124" y="368"/>
                </a:cubicBezTo>
                <a:cubicBezTo>
                  <a:pt x="154" y="367"/>
                  <a:pt x="161" y="368"/>
                  <a:pt x="180" y="364"/>
                </a:cubicBezTo>
                <a:cubicBezTo>
                  <a:pt x="199" y="360"/>
                  <a:pt x="213" y="353"/>
                  <a:pt x="240" y="344"/>
                </a:cubicBezTo>
                <a:cubicBezTo>
                  <a:pt x="267" y="335"/>
                  <a:pt x="319" y="321"/>
                  <a:pt x="344" y="312"/>
                </a:cubicBezTo>
                <a:cubicBezTo>
                  <a:pt x="369" y="303"/>
                  <a:pt x="365" y="300"/>
                  <a:pt x="392" y="288"/>
                </a:cubicBezTo>
                <a:cubicBezTo>
                  <a:pt x="419" y="276"/>
                  <a:pt x="459" y="255"/>
                  <a:pt x="504" y="240"/>
                </a:cubicBezTo>
                <a:cubicBezTo>
                  <a:pt x="549" y="225"/>
                  <a:pt x="606" y="210"/>
                  <a:pt x="660" y="196"/>
                </a:cubicBezTo>
                <a:cubicBezTo>
                  <a:pt x="714" y="182"/>
                  <a:pt x="772" y="169"/>
                  <a:pt x="832" y="156"/>
                </a:cubicBezTo>
                <a:cubicBezTo>
                  <a:pt x="892" y="143"/>
                  <a:pt x="953" y="133"/>
                  <a:pt x="1020" y="120"/>
                </a:cubicBezTo>
                <a:cubicBezTo>
                  <a:pt x="1087" y="107"/>
                  <a:pt x="1167" y="91"/>
                  <a:pt x="1236" y="80"/>
                </a:cubicBezTo>
                <a:cubicBezTo>
                  <a:pt x="1305" y="69"/>
                  <a:pt x="1355" y="62"/>
                  <a:pt x="1432" y="52"/>
                </a:cubicBezTo>
                <a:cubicBezTo>
                  <a:pt x="1509" y="42"/>
                  <a:pt x="1627" y="29"/>
                  <a:pt x="1696" y="20"/>
                </a:cubicBezTo>
                <a:cubicBezTo>
                  <a:pt x="1765" y="11"/>
                  <a:pt x="1804" y="5"/>
                  <a:pt x="184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08920" y="3718080"/>
            <a:ext cx="4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u’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910040" y="1546200"/>
            <a:ext cx="44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cc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85000" y="4183200"/>
            <a:ext cx="18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s = 6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2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6120" y="5156280"/>
            <a:ext cx="622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31760" y="4957920"/>
            <a:ext cx="1986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u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(Formula 1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73600" y="5168880"/>
            <a:ext cx="622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59240" y="4970520"/>
            <a:ext cx="203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u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(Formula 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16720" y="5168880"/>
            <a:ext cx="622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016840" y="4970520"/>
            <a:ext cx="582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y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8440" y="5676840"/>
            <a:ext cx="82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Per le travi molto armate è più conservativa la formulazione teoric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8440" y="6299280"/>
            <a:ext cx="821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Per le travi poco armate è più conservativa la formulazione empiric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905360" y="1539720"/>
            <a:ext cx="3678120" cy="25927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77800" y="1509840"/>
            <a:ext cx="3678120" cy="259236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nfronti Limiti di Normativa per C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03680" y="3718080"/>
            <a:ext cx="4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4800" y="1546200"/>
            <a:ext cx="44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cc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5520" y="880920"/>
            <a:ext cx="84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Pilastri (esempio pilastro 30x60, confinamento trascurabile)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5280" y="418320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s = 3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2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08920" y="3718080"/>
            <a:ext cx="4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10040" y="1546200"/>
            <a:ext cx="44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cc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985000" y="4183200"/>
            <a:ext cx="18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s = 6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2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6120" y="5156280"/>
            <a:ext cx="622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31760" y="4957920"/>
            <a:ext cx="1986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u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(Formula 1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3600" y="5168880"/>
            <a:ext cx="622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59240" y="4970520"/>
            <a:ext cx="203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u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(Formula 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440" y="5676840"/>
            <a:ext cx="821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La formula teorica determina, anche per valori modesti dello sforzo normale sollecitante, rotazioni ultime rispetto alla corda molto bass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14360" y="2451240"/>
            <a:ext cx="2584440" cy="952200"/>
          </a:xfrm>
          <a:custGeom>
            <a:avLst/>
            <a:gdLst/>
            <a:ahLst/>
            <a:rect l="l" t="t" r="r" b="b"/>
            <a:pathLst>
              <a:path w="1628" h="600">
                <a:moveTo>
                  <a:pt x="0" y="0"/>
                </a:moveTo>
                <a:cubicBezTo>
                  <a:pt x="48" y="32"/>
                  <a:pt x="97" y="65"/>
                  <a:pt x="140" y="92"/>
                </a:cubicBezTo>
                <a:cubicBezTo>
                  <a:pt x="183" y="119"/>
                  <a:pt x="213" y="137"/>
                  <a:pt x="256" y="160"/>
                </a:cubicBezTo>
                <a:cubicBezTo>
                  <a:pt x="299" y="183"/>
                  <a:pt x="340" y="201"/>
                  <a:pt x="396" y="228"/>
                </a:cubicBezTo>
                <a:cubicBezTo>
                  <a:pt x="452" y="255"/>
                  <a:pt x="533" y="295"/>
                  <a:pt x="592" y="320"/>
                </a:cubicBezTo>
                <a:cubicBezTo>
                  <a:pt x="651" y="345"/>
                  <a:pt x="698" y="361"/>
                  <a:pt x="752" y="380"/>
                </a:cubicBezTo>
                <a:cubicBezTo>
                  <a:pt x="806" y="399"/>
                  <a:pt x="860" y="415"/>
                  <a:pt x="916" y="432"/>
                </a:cubicBezTo>
                <a:cubicBezTo>
                  <a:pt x="972" y="449"/>
                  <a:pt x="1031" y="468"/>
                  <a:pt x="1088" y="484"/>
                </a:cubicBezTo>
                <a:cubicBezTo>
                  <a:pt x="1145" y="500"/>
                  <a:pt x="1197" y="514"/>
                  <a:pt x="1260" y="528"/>
                </a:cubicBezTo>
                <a:cubicBezTo>
                  <a:pt x="1323" y="542"/>
                  <a:pt x="1407" y="556"/>
                  <a:pt x="1468" y="568"/>
                </a:cubicBezTo>
                <a:cubicBezTo>
                  <a:pt x="1529" y="580"/>
                  <a:pt x="1578" y="590"/>
                  <a:pt x="1628" y="60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27320" y="1866960"/>
            <a:ext cx="2558880" cy="1727280"/>
          </a:xfrm>
          <a:custGeom>
            <a:avLst/>
            <a:gdLst/>
            <a:ahLst/>
            <a:rect l="l" t="t" r="r" b="b"/>
            <a:pathLst>
              <a:path w="1612" h="1088">
                <a:moveTo>
                  <a:pt x="0" y="0"/>
                </a:moveTo>
                <a:cubicBezTo>
                  <a:pt x="14" y="56"/>
                  <a:pt x="29" y="113"/>
                  <a:pt x="44" y="164"/>
                </a:cubicBezTo>
                <a:cubicBezTo>
                  <a:pt x="59" y="215"/>
                  <a:pt x="71" y="259"/>
                  <a:pt x="88" y="308"/>
                </a:cubicBezTo>
                <a:cubicBezTo>
                  <a:pt x="105" y="357"/>
                  <a:pt x="127" y="413"/>
                  <a:pt x="144" y="460"/>
                </a:cubicBezTo>
                <a:cubicBezTo>
                  <a:pt x="161" y="507"/>
                  <a:pt x="173" y="545"/>
                  <a:pt x="192" y="588"/>
                </a:cubicBezTo>
                <a:cubicBezTo>
                  <a:pt x="211" y="631"/>
                  <a:pt x="231" y="678"/>
                  <a:pt x="256" y="720"/>
                </a:cubicBezTo>
                <a:cubicBezTo>
                  <a:pt x="281" y="762"/>
                  <a:pt x="309" y="803"/>
                  <a:pt x="344" y="840"/>
                </a:cubicBezTo>
                <a:cubicBezTo>
                  <a:pt x="379" y="877"/>
                  <a:pt x="428" y="915"/>
                  <a:pt x="468" y="940"/>
                </a:cubicBezTo>
                <a:cubicBezTo>
                  <a:pt x="508" y="965"/>
                  <a:pt x="524" y="972"/>
                  <a:pt x="584" y="988"/>
                </a:cubicBezTo>
                <a:cubicBezTo>
                  <a:pt x="644" y="1004"/>
                  <a:pt x="729" y="1025"/>
                  <a:pt x="828" y="1036"/>
                </a:cubicBezTo>
                <a:cubicBezTo>
                  <a:pt x="927" y="1047"/>
                  <a:pt x="1076" y="1052"/>
                  <a:pt x="1176" y="1056"/>
                </a:cubicBezTo>
                <a:cubicBezTo>
                  <a:pt x="1276" y="1060"/>
                  <a:pt x="1355" y="1055"/>
                  <a:pt x="1428" y="1060"/>
                </a:cubicBezTo>
                <a:cubicBezTo>
                  <a:pt x="1501" y="1065"/>
                  <a:pt x="1556" y="1076"/>
                  <a:pt x="1612" y="10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78400" y="1824120"/>
            <a:ext cx="2833560" cy="1809720"/>
          </a:xfrm>
          <a:custGeom>
            <a:avLst/>
            <a:gdLst/>
            <a:ahLst/>
            <a:rect l="l" t="t" r="r" b="b"/>
            <a:pathLst>
              <a:path w="1785" h="1140">
                <a:moveTo>
                  <a:pt x="0" y="0"/>
                </a:moveTo>
                <a:cubicBezTo>
                  <a:pt x="18" y="39"/>
                  <a:pt x="37" y="78"/>
                  <a:pt x="54" y="117"/>
                </a:cubicBezTo>
                <a:cubicBezTo>
                  <a:pt x="71" y="156"/>
                  <a:pt x="86" y="196"/>
                  <a:pt x="105" y="237"/>
                </a:cubicBezTo>
                <a:cubicBezTo>
                  <a:pt x="124" y="278"/>
                  <a:pt x="146" y="323"/>
                  <a:pt x="168" y="366"/>
                </a:cubicBezTo>
                <a:cubicBezTo>
                  <a:pt x="190" y="409"/>
                  <a:pt x="213" y="451"/>
                  <a:pt x="237" y="495"/>
                </a:cubicBezTo>
                <a:cubicBezTo>
                  <a:pt x="261" y="539"/>
                  <a:pt x="283" y="582"/>
                  <a:pt x="315" y="633"/>
                </a:cubicBezTo>
                <a:cubicBezTo>
                  <a:pt x="347" y="684"/>
                  <a:pt x="396" y="753"/>
                  <a:pt x="432" y="801"/>
                </a:cubicBezTo>
                <a:cubicBezTo>
                  <a:pt x="468" y="849"/>
                  <a:pt x="490" y="887"/>
                  <a:pt x="528" y="921"/>
                </a:cubicBezTo>
                <a:cubicBezTo>
                  <a:pt x="566" y="955"/>
                  <a:pt x="604" y="982"/>
                  <a:pt x="663" y="1005"/>
                </a:cubicBezTo>
                <a:cubicBezTo>
                  <a:pt x="722" y="1028"/>
                  <a:pt x="810" y="1047"/>
                  <a:pt x="882" y="1059"/>
                </a:cubicBezTo>
                <a:cubicBezTo>
                  <a:pt x="954" y="1071"/>
                  <a:pt x="1030" y="1075"/>
                  <a:pt x="1095" y="1080"/>
                </a:cubicBezTo>
                <a:cubicBezTo>
                  <a:pt x="1160" y="1085"/>
                  <a:pt x="1212" y="1085"/>
                  <a:pt x="1275" y="1089"/>
                </a:cubicBezTo>
                <a:cubicBezTo>
                  <a:pt x="1338" y="1093"/>
                  <a:pt x="1407" y="1096"/>
                  <a:pt x="1473" y="1101"/>
                </a:cubicBezTo>
                <a:cubicBezTo>
                  <a:pt x="1539" y="1106"/>
                  <a:pt x="1619" y="1115"/>
                  <a:pt x="1671" y="1122"/>
                </a:cubicBezTo>
                <a:cubicBezTo>
                  <a:pt x="1723" y="1129"/>
                  <a:pt x="1754" y="1134"/>
                  <a:pt x="1785" y="11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78400" y="2224080"/>
            <a:ext cx="2824200" cy="1247760"/>
          </a:xfrm>
          <a:custGeom>
            <a:avLst/>
            <a:gdLst/>
            <a:ahLst/>
            <a:rect l="l" t="t" r="r" b="b"/>
            <a:pathLst>
              <a:path w="1779" h="786">
                <a:moveTo>
                  <a:pt x="0" y="0"/>
                </a:moveTo>
                <a:cubicBezTo>
                  <a:pt x="19" y="20"/>
                  <a:pt x="38" y="40"/>
                  <a:pt x="72" y="69"/>
                </a:cubicBezTo>
                <a:cubicBezTo>
                  <a:pt x="106" y="98"/>
                  <a:pt x="156" y="137"/>
                  <a:pt x="201" y="171"/>
                </a:cubicBezTo>
                <a:cubicBezTo>
                  <a:pt x="246" y="205"/>
                  <a:pt x="302" y="247"/>
                  <a:pt x="345" y="276"/>
                </a:cubicBezTo>
                <a:cubicBezTo>
                  <a:pt x="388" y="305"/>
                  <a:pt x="413" y="321"/>
                  <a:pt x="459" y="348"/>
                </a:cubicBezTo>
                <a:cubicBezTo>
                  <a:pt x="505" y="375"/>
                  <a:pt x="562" y="405"/>
                  <a:pt x="621" y="435"/>
                </a:cubicBezTo>
                <a:cubicBezTo>
                  <a:pt x="680" y="465"/>
                  <a:pt x="747" y="501"/>
                  <a:pt x="810" y="528"/>
                </a:cubicBezTo>
                <a:cubicBezTo>
                  <a:pt x="873" y="555"/>
                  <a:pt x="941" y="576"/>
                  <a:pt x="1002" y="597"/>
                </a:cubicBezTo>
                <a:cubicBezTo>
                  <a:pt x="1063" y="618"/>
                  <a:pt x="1116" y="638"/>
                  <a:pt x="1179" y="657"/>
                </a:cubicBezTo>
                <a:cubicBezTo>
                  <a:pt x="1242" y="676"/>
                  <a:pt x="1311" y="695"/>
                  <a:pt x="1383" y="711"/>
                </a:cubicBezTo>
                <a:cubicBezTo>
                  <a:pt x="1455" y="727"/>
                  <a:pt x="1548" y="744"/>
                  <a:pt x="1614" y="756"/>
                </a:cubicBezTo>
                <a:cubicBezTo>
                  <a:pt x="1680" y="768"/>
                  <a:pt x="1729" y="777"/>
                  <a:pt x="1779" y="786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: D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1770120" y="2852640"/>
                <a:ext cx="4332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187200" y="104616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a verifica per l’obiettivo di prestazione di danno severo prevede che sia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843360" y="1641600"/>
                <a:ext cx="1628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155520" y="250524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OSSERVAZION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0600" y="3110040"/>
            <a:ext cx="11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oiché: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0600" y="3957480"/>
            <a:ext cx="83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 sezioni poco duttili può accadere ch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054240" y="4398840"/>
                <a:ext cx="1764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90600" y="5481720"/>
            <a:ext cx="836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Potrebbe essere comodo effettuare le verifiche direttamente in termini di rotazioni plastiche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ed applicare il coeff. ¾ solo su questa aliquo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 nel FEM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7200" y="1046160"/>
            <a:ext cx="8739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La rotazione rispetto alla corda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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è definita come la somma tra la rotazione al limite elastico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y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e la rotazione plastica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7200" y="216360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a rotazione rispetto alla corda è impiegata per la definizione del legame generalizzato forza-deformazio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7200" y="542772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 limiti deformativi sono forniti in termini di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tazione Plastic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33640" y="4788000"/>
            <a:ext cx="288288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940120" y="3168720"/>
            <a:ext cx="0" cy="16128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933640" y="4051440"/>
            <a:ext cx="241200" cy="723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187800" y="3911760"/>
            <a:ext cx="1054080" cy="139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54480" y="3911760"/>
            <a:ext cx="31896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73440" y="4533840"/>
            <a:ext cx="646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915160" y="465300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26520" y="3201840"/>
            <a:ext cx="925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Q/Q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945880" y="4051440"/>
            <a:ext cx="24156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2663280" y="3900600"/>
            <a:ext cx="2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Generalità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5520" y="123660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Meccanismi duttili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5520" y="174132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Meccanismi flessionali per travi, pilastri e pareti in presenza o in assenza di sforzo assial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600" y="3033720"/>
            <a:ext cx="214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N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elevat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20920" y="3143160"/>
            <a:ext cx="436680" cy="223920"/>
          </a:xfrm>
          <a:prstGeom prst="rightArrow">
            <a:avLst>
              <a:gd name="adj1" fmla="val 50000"/>
              <a:gd name="adj2" fmla="val 48754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3440" y="3033720"/>
            <a:ext cx="36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ossibile comportamento fragi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5520" y="413856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Meccanismi fragili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520" y="4643280"/>
            <a:ext cx="855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Meccanismi di taglio in travi, pilastri e paret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ottura dei nod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Limiti di Normativa nel FEMA : Travi (</a:t>
            </a:r>
            <a:r>
              <a:rPr b="0" lang="it-IT" sz="3200" spc="-1" strike="noStrike">
                <a:solidFill>
                  <a:srgbClr val="ffcc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ffcc00"/>
                </a:solidFill>
                <a:latin typeface="Comic Sans MS"/>
              </a:rPr>
              <a:t>pl</a:t>
            </a: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430200" y="12193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13000"/>
                <a:gridCol w="1413000"/>
                <a:gridCol w="141264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it-IT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pl</a:t>
                      </a: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(rad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Limiti di Normativa nel FEMA : Travi (</a:t>
            </a:r>
            <a:r>
              <a:rPr b="0" lang="it-IT" sz="3200" spc="-1" strike="noStrike">
                <a:solidFill>
                  <a:srgbClr val="ffcc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ffcc00"/>
                </a:solidFill>
                <a:latin typeface="Comic Sans MS"/>
              </a:rPr>
              <a:t>pl</a:t>
            </a: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30200" y="12193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13000"/>
                <a:gridCol w="1413000"/>
                <a:gridCol w="141264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it-IT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pl</a:t>
                      </a: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(rad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112840" y="1836720"/>
                <a:ext cx="73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Limiti di Normativa nel FEMA : Travi (</a:t>
            </a:r>
            <a:r>
              <a:rPr b="0" lang="it-IT" sz="3200" spc="-1" strike="noStrike">
                <a:solidFill>
                  <a:srgbClr val="ffcc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ffcc00"/>
                </a:solidFill>
                <a:latin typeface="Comic Sans MS"/>
              </a:rPr>
              <a:t>pl</a:t>
            </a: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430200" y="12193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13000"/>
                <a:gridCol w="1413000"/>
                <a:gridCol w="141264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it-IT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pl</a:t>
                      </a: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(rad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13240" y="1844640"/>
                <a:ext cx="1054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112840" y="1836720"/>
                <a:ext cx="73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Limiti di Normativa nel FEMA : Travi (</a:t>
            </a:r>
            <a:r>
              <a:rPr b="0" lang="it-IT" sz="3200" spc="-1" strike="noStrike">
                <a:solidFill>
                  <a:srgbClr val="ffcc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ffcc00"/>
                </a:solidFill>
                <a:latin typeface="Comic Sans MS"/>
              </a:rPr>
              <a:t>pl</a:t>
            </a: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430200" y="12193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it-IT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pl</a:t>
                      </a: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(rad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Stato limit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IO (DL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S (DS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P (C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513240" y="1844640"/>
                <a:ext cx="1054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112840" y="1836720"/>
                <a:ext cx="73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Limiti di Normativa nel FEMA : Travi (</a:t>
            </a:r>
            <a:r>
              <a:rPr b="0" lang="it-IT" sz="3200" spc="-1" strike="noStrike">
                <a:solidFill>
                  <a:srgbClr val="ffcc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ffcc00"/>
                </a:solidFill>
                <a:latin typeface="Comic Sans MS"/>
              </a:rPr>
              <a:t>pl</a:t>
            </a: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30200" y="12193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13000"/>
                <a:gridCol w="1413000"/>
                <a:gridCol w="141264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it-IT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pl</a:t>
                      </a: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(rad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Stato limit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IO (DL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S (DS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P (C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13240" y="1844640"/>
                <a:ext cx="1054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112840" y="1836720"/>
                <a:ext cx="73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Limiti di Normativa nel FEMA : Pilastri (</a:t>
            </a:r>
            <a:r>
              <a:rPr b="0" lang="it-IT" sz="3200" spc="-1" strike="noStrike">
                <a:solidFill>
                  <a:srgbClr val="ffcc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ffcc00"/>
                </a:solidFill>
                <a:latin typeface="Comic Sans MS"/>
              </a:rPr>
              <a:t>pl</a:t>
            </a:r>
            <a:r>
              <a:rPr b="0" lang="it-IT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430200" y="12193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13000"/>
                <a:gridCol w="1413000"/>
                <a:gridCol w="141264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it-IT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pl</a:t>
                      </a: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(rad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Stato limit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IO (DL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S (DS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P (C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0.1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6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1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1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6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3513240" y="1844640"/>
                <a:ext cx="1054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200320" y="1911240"/>
                <a:ext cx="662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5" name=""/>
          <p:cNvGrpSpPr/>
          <p:nvPr/>
        </p:nvGrpSpPr>
        <p:grpSpPr>
          <a:xfrm>
            <a:off x="187200" y="6056280"/>
            <a:ext cx="5823000" cy="801720"/>
            <a:chOff x="187200" y="6056280"/>
            <a:chExt cx="5823000" cy="801720"/>
          </a:xfrm>
        </p:grpSpPr>
        <p:sp>
          <p:nvSpPr>
            <p:cNvPr id="686" name=""/>
            <p:cNvSpPr/>
            <p:nvPr/>
          </p:nvSpPr>
          <p:spPr>
            <a:xfrm>
              <a:off x="187200" y="6283440"/>
              <a:ext cx="451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Sono considerati fragili i pilastri con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7" name=""/>
                <p:cNvSpPr txBox="1"/>
                <p:nvPr/>
              </p:nvSpPr>
              <p:spPr>
                <a:xfrm>
                  <a:off x="4749840" y="6056280"/>
                  <a:ext cx="126036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nfronti FEMA 356 -OPCM 343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430200" y="12193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13000"/>
                <a:gridCol w="1413000"/>
                <a:gridCol w="141264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it-IT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pl</a:t>
                      </a:r>
                      <a:r>
                        <a:rPr b="0" lang="it-IT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(rad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Stato limit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IO (DL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S (DS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P (C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1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2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6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11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0.1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6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1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3513240" y="1844640"/>
                <a:ext cx="1054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200320" y="1911240"/>
                <a:ext cx="662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3" name=""/>
          <p:cNvGrpSpPr/>
          <p:nvPr/>
        </p:nvGrpSpPr>
        <p:grpSpPr>
          <a:xfrm>
            <a:off x="187200" y="6056280"/>
            <a:ext cx="5823000" cy="801720"/>
            <a:chOff x="187200" y="6056280"/>
            <a:chExt cx="5823000" cy="801720"/>
          </a:xfrm>
        </p:grpSpPr>
        <p:sp>
          <p:nvSpPr>
            <p:cNvPr id="694" name=""/>
            <p:cNvSpPr/>
            <p:nvPr/>
          </p:nvSpPr>
          <p:spPr>
            <a:xfrm>
              <a:off x="187200" y="6283440"/>
              <a:ext cx="451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Sono considerati fragili i pilastri con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4749840" y="6056280"/>
                  <a:ext cx="126036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nfronti FEMA 356 -OPCM 343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4905360" y="2212920"/>
            <a:ext cx="3678120" cy="259236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577800" y="2182680"/>
            <a:ext cx="3678120" cy="25923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3703680" y="4390920"/>
            <a:ext cx="4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4800" y="2219400"/>
            <a:ext cx="44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cc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5520" y="88092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Pilastri (esempio pilastro 30x60)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65280" y="485604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s = 3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2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008920" y="4390920"/>
            <a:ext cx="4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10040" y="2219400"/>
            <a:ext cx="44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cc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85000" y="4856040"/>
            <a:ext cx="18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s = 6 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20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6120" y="5880240"/>
            <a:ext cx="622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031760" y="5681520"/>
            <a:ext cx="1986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u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(Formula 1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73600" y="5892840"/>
            <a:ext cx="622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59240" y="5694480"/>
            <a:ext cx="203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u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(Formula 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14360" y="3124080"/>
            <a:ext cx="2584440" cy="952560"/>
          </a:xfrm>
          <a:custGeom>
            <a:avLst/>
            <a:gdLst/>
            <a:ahLst/>
            <a:rect l="l" t="t" r="r" b="b"/>
            <a:pathLst>
              <a:path w="1628" h="600">
                <a:moveTo>
                  <a:pt x="0" y="0"/>
                </a:moveTo>
                <a:cubicBezTo>
                  <a:pt x="48" y="32"/>
                  <a:pt x="97" y="65"/>
                  <a:pt x="140" y="92"/>
                </a:cubicBezTo>
                <a:cubicBezTo>
                  <a:pt x="183" y="119"/>
                  <a:pt x="213" y="137"/>
                  <a:pt x="256" y="160"/>
                </a:cubicBezTo>
                <a:cubicBezTo>
                  <a:pt x="299" y="183"/>
                  <a:pt x="340" y="201"/>
                  <a:pt x="396" y="228"/>
                </a:cubicBezTo>
                <a:cubicBezTo>
                  <a:pt x="452" y="255"/>
                  <a:pt x="533" y="295"/>
                  <a:pt x="592" y="320"/>
                </a:cubicBezTo>
                <a:cubicBezTo>
                  <a:pt x="651" y="345"/>
                  <a:pt x="698" y="361"/>
                  <a:pt x="752" y="380"/>
                </a:cubicBezTo>
                <a:cubicBezTo>
                  <a:pt x="806" y="399"/>
                  <a:pt x="860" y="415"/>
                  <a:pt x="916" y="432"/>
                </a:cubicBezTo>
                <a:cubicBezTo>
                  <a:pt x="972" y="449"/>
                  <a:pt x="1031" y="468"/>
                  <a:pt x="1088" y="484"/>
                </a:cubicBezTo>
                <a:cubicBezTo>
                  <a:pt x="1145" y="500"/>
                  <a:pt x="1197" y="514"/>
                  <a:pt x="1260" y="528"/>
                </a:cubicBezTo>
                <a:cubicBezTo>
                  <a:pt x="1323" y="542"/>
                  <a:pt x="1407" y="556"/>
                  <a:pt x="1468" y="568"/>
                </a:cubicBezTo>
                <a:cubicBezTo>
                  <a:pt x="1529" y="580"/>
                  <a:pt x="1578" y="590"/>
                  <a:pt x="1628" y="60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27320" y="2540160"/>
            <a:ext cx="2558880" cy="1726920"/>
          </a:xfrm>
          <a:custGeom>
            <a:avLst/>
            <a:gdLst/>
            <a:ahLst/>
            <a:rect l="l" t="t" r="r" b="b"/>
            <a:pathLst>
              <a:path w="1612" h="1088">
                <a:moveTo>
                  <a:pt x="0" y="0"/>
                </a:moveTo>
                <a:cubicBezTo>
                  <a:pt x="14" y="56"/>
                  <a:pt x="29" y="113"/>
                  <a:pt x="44" y="164"/>
                </a:cubicBezTo>
                <a:cubicBezTo>
                  <a:pt x="59" y="215"/>
                  <a:pt x="71" y="259"/>
                  <a:pt x="88" y="308"/>
                </a:cubicBezTo>
                <a:cubicBezTo>
                  <a:pt x="105" y="357"/>
                  <a:pt x="127" y="413"/>
                  <a:pt x="144" y="460"/>
                </a:cubicBezTo>
                <a:cubicBezTo>
                  <a:pt x="161" y="507"/>
                  <a:pt x="173" y="545"/>
                  <a:pt x="192" y="588"/>
                </a:cubicBezTo>
                <a:cubicBezTo>
                  <a:pt x="211" y="631"/>
                  <a:pt x="231" y="678"/>
                  <a:pt x="256" y="720"/>
                </a:cubicBezTo>
                <a:cubicBezTo>
                  <a:pt x="281" y="762"/>
                  <a:pt x="309" y="803"/>
                  <a:pt x="344" y="840"/>
                </a:cubicBezTo>
                <a:cubicBezTo>
                  <a:pt x="379" y="877"/>
                  <a:pt x="428" y="915"/>
                  <a:pt x="468" y="940"/>
                </a:cubicBezTo>
                <a:cubicBezTo>
                  <a:pt x="508" y="965"/>
                  <a:pt x="524" y="972"/>
                  <a:pt x="584" y="988"/>
                </a:cubicBezTo>
                <a:cubicBezTo>
                  <a:pt x="644" y="1004"/>
                  <a:pt x="729" y="1025"/>
                  <a:pt x="828" y="1036"/>
                </a:cubicBezTo>
                <a:cubicBezTo>
                  <a:pt x="927" y="1047"/>
                  <a:pt x="1076" y="1052"/>
                  <a:pt x="1176" y="1056"/>
                </a:cubicBezTo>
                <a:cubicBezTo>
                  <a:pt x="1276" y="1060"/>
                  <a:pt x="1355" y="1055"/>
                  <a:pt x="1428" y="1060"/>
                </a:cubicBezTo>
                <a:cubicBezTo>
                  <a:pt x="1501" y="1065"/>
                  <a:pt x="1556" y="1076"/>
                  <a:pt x="1612" y="10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78400" y="2496960"/>
            <a:ext cx="2833560" cy="1810080"/>
          </a:xfrm>
          <a:custGeom>
            <a:avLst/>
            <a:gdLst/>
            <a:ahLst/>
            <a:rect l="l" t="t" r="r" b="b"/>
            <a:pathLst>
              <a:path w="1785" h="1140">
                <a:moveTo>
                  <a:pt x="0" y="0"/>
                </a:moveTo>
                <a:cubicBezTo>
                  <a:pt x="18" y="39"/>
                  <a:pt x="37" y="78"/>
                  <a:pt x="54" y="117"/>
                </a:cubicBezTo>
                <a:cubicBezTo>
                  <a:pt x="71" y="156"/>
                  <a:pt x="86" y="196"/>
                  <a:pt x="105" y="237"/>
                </a:cubicBezTo>
                <a:cubicBezTo>
                  <a:pt x="124" y="278"/>
                  <a:pt x="146" y="323"/>
                  <a:pt x="168" y="366"/>
                </a:cubicBezTo>
                <a:cubicBezTo>
                  <a:pt x="190" y="409"/>
                  <a:pt x="213" y="451"/>
                  <a:pt x="237" y="495"/>
                </a:cubicBezTo>
                <a:cubicBezTo>
                  <a:pt x="261" y="539"/>
                  <a:pt x="283" y="582"/>
                  <a:pt x="315" y="633"/>
                </a:cubicBezTo>
                <a:cubicBezTo>
                  <a:pt x="347" y="684"/>
                  <a:pt x="396" y="753"/>
                  <a:pt x="432" y="801"/>
                </a:cubicBezTo>
                <a:cubicBezTo>
                  <a:pt x="468" y="849"/>
                  <a:pt x="490" y="887"/>
                  <a:pt x="528" y="921"/>
                </a:cubicBezTo>
                <a:cubicBezTo>
                  <a:pt x="566" y="955"/>
                  <a:pt x="604" y="982"/>
                  <a:pt x="663" y="1005"/>
                </a:cubicBezTo>
                <a:cubicBezTo>
                  <a:pt x="722" y="1028"/>
                  <a:pt x="810" y="1047"/>
                  <a:pt x="882" y="1059"/>
                </a:cubicBezTo>
                <a:cubicBezTo>
                  <a:pt x="954" y="1071"/>
                  <a:pt x="1030" y="1075"/>
                  <a:pt x="1095" y="1080"/>
                </a:cubicBezTo>
                <a:cubicBezTo>
                  <a:pt x="1160" y="1085"/>
                  <a:pt x="1212" y="1085"/>
                  <a:pt x="1275" y="1089"/>
                </a:cubicBezTo>
                <a:cubicBezTo>
                  <a:pt x="1338" y="1093"/>
                  <a:pt x="1407" y="1096"/>
                  <a:pt x="1473" y="1101"/>
                </a:cubicBezTo>
                <a:cubicBezTo>
                  <a:pt x="1539" y="1106"/>
                  <a:pt x="1619" y="1115"/>
                  <a:pt x="1671" y="1122"/>
                </a:cubicBezTo>
                <a:cubicBezTo>
                  <a:pt x="1723" y="1129"/>
                  <a:pt x="1754" y="1134"/>
                  <a:pt x="1785" y="11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78400" y="2897280"/>
            <a:ext cx="2824200" cy="1247760"/>
          </a:xfrm>
          <a:custGeom>
            <a:avLst/>
            <a:gdLst/>
            <a:ahLst/>
            <a:rect l="l" t="t" r="r" b="b"/>
            <a:pathLst>
              <a:path w="1779" h="786">
                <a:moveTo>
                  <a:pt x="0" y="0"/>
                </a:moveTo>
                <a:cubicBezTo>
                  <a:pt x="19" y="20"/>
                  <a:pt x="38" y="40"/>
                  <a:pt x="72" y="69"/>
                </a:cubicBezTo>
                <a:cubicBezTo>
                  <a:pt x="106" y="98"/>
                  <a:pt x="156" y="137"/>
                  <a:pt x="201" y="171"/>
                </a:cubicBezTo>
                <a:cubicBezTo>
                  <a:pt x="246" y="205"/>
                  <a:pt x="302" y="247"/>
                  <a:pt x="345" y="276"/>
                </a:cubicBezTo>
                <a:cubicBezTo>
                  <a:pt x="388" y="305"/>
                  <a:pt x="413" y="321"/>
                  <a:pt x="459" y="348"/>
                </a:cubicBezTo>
                <a:cubicBezTo>
                  <a:pt x="505" y="375"/>
                  <a:pt x="562" y="405"/>
                  <a:pt x="621" y="435"/>
                </a:cubicBezTo>
                <a:cubicBezTo>
                  <a:pt x="680" y="465"/>
                  <a:pt x="747" y="501"/>
                  <a:pt x="810" y="528"/>
                </a:cubicBezTo>
                <a:cubicBezTo>
                  <a:pt x="873" y="555"/>
                  <a:pt x="941" y="576"/>
                  <a:pt x="1002" y="597"/>
                </a:cubicBezTo>
                <a:cubicBezTo>
                  <a:pt x="1063" y="618"/>
                  <a:pt x="1116" y="638"/>
                  <a:pt x="1179" y="657"/>
                </a:cubicBezTo>
                <a:cubicBezTo>
                  <a:pt x="1242" y="676"/>
                  <a:pt x="1311" y="695"/>
                  <a:pt x="1383" y="711"/>
                </a:cubicBezTo>
                <a:cubicBezTo>
                  <a:pt x="1455" y="727"/>
                  <a:pt x="1548" y="744"/>
                  <a:pt x="1614" y="756"/>
                </a:cubicBezTo>
                <a:cubicBezTo>
                  <a:pt x="1680" y="768"/>
                  <a:pt x="1729" y="777"/>
                  <a:pt x="1779" y="786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19360" y="3903840"/>
            <a:ext cx="88920" cy="885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86160" y="4049640"/>
            <a:ext cx="88920" cy="8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33960" y="3913200"/>
            <a:ext cx="88920" cy="8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10480" y="4068720"/>
            <a:ext cx="88920" cy="8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920880" y="1536840"/>
                <a:ext cx="2070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÷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stensione ad Analisi 3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74600" y="9586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n quale modo deve essere definita la luce di taglio per i pilastri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4600" y="170028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 valori limite di rotazione rispetto alla corda sono ancora validi con riferimento a curvature ultime e al limite elastico per sezione soggetta a presso-flessione deviata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4600" y="320184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 programmi di calcolo sono affidabili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346480" y="3571920"/>
            <a:ext cx="4405320" cy="2868480"/>
            <a:chOff x="2346480" y="3571920"/>
            <a:chExt cx="4405320" cy="2868480"/>
          </a:xfrm>
        </p:grpSpPr>
        <p:pic>
          <p:nvPicPr>
            <p:cNvPr id="726" name="" descr=""/>
            <p:cNvPicPr/>
            <p:nvPr/>
          </p:nvPicPr>
          <p:blipFill>
            <a:blip r:embed="rId1"/>
            <a:stretch/>
          </p:blipFill>
          <p:spPr>
            <a:xfrm>
              <a:off x="2346480" y="3571920"/>
              <a:ext cx="4078080" cy="28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371680" y="3639960"/>
              <a:ext cx="69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ffff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80200" y="479592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66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83200" y="3805200"/>
              <a:ext cx="102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ffff66"/>
                  </a:solidFill>
                  <a:latin typeface="Comic Sans MS"/>
                </a:rPr>
                <a:t>2</a:t>
              </a: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oblematiche di Modella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600" y="130176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a presenza di una luce di taglio che varia istante per istante rende impossibili la conoscenza a priori del limite deformativo per le sezion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74600" y="251784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uò essere conveniente descrivere le cerniere plastiche attraverso un legame momento curvatura non degradante e fare un controllo a posteriori dei risultati ottenut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Generalità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155520" y="279864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Valori med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5520" y="4194000"/>
            <a:ext cx="87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Valori medi diviso il FC 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(per meccanismi duttili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520" y="147636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Valori delle Proprietà dei materiali da impiegar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5520" y="227160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Modello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5520" y="350028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apacità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5520" y="5351400"/>
            <a:ext cx="87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Valori medi diviso il FC  e diviso i coefficienti parziali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(per meccanismi fragili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Rotazione Rispetto alla Cord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857160"/>
            <a:ext cx="8739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otazione della sezione d’estremità rispetto alla congiungente questa ultima con la sezione di momento nullo posta a distanza pari a L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08120" y="2388960"/>
            <a:ext cx="4141440" cy="2280960"/>
            <a:chOff x="2508120" y="2388960"/>
            <a:chExt cx="4141440" cy="2280960"/>
          </a:xfrm>
        </p:grpSpPr>
        <p:sp>
          <p:nvSpPr>
            <p:cNvPr id="65" name=""/>
            <p:cNvSpPr/>
            <p:nvPr/>
          </p:nvSpPr>
          <p:spPr>
            <a:xfrm>
              <a:off x="2653920" y="2567520"/>
              <a:ext cx="3865680" cy="1810080"/>
            </a:xfrm>
            <a:custGeom>
              <a:avLst/>
              <a:gdLst/>
              <a:ahLst/>
              <a:rect l="l" t="t" r="r" b="b"/>
              <a:pathLst>
                <a:path w="4172" h="1957">
                  <a:moveTo>
                    <a:pt x="0" y="154"/>
                  </a:moveTo>
                  <a:cubicBezTo>
                    <a:pt x="65" y="111"/>
                    <a:pt x="130" y="68"/>
                    <a:pt x="201" y="44"/>
                  </a:cubicBezTo>
                  <a:cubicBezTo>
                    <a:pt x="273" y="19"/>
                    <a:pt x="370" y="4"/>
                    <a:pt x="428" y="2"/>
                  </a:cubicBezTo>
                  <a:cubicBezTo>
                    <a:pt x="486" y="0"/>
                    <a:pt x="503" y="13"/>
                    <a:pt x="553" y="27"/>
                  </a:cubicBezTo>
                  <a:cubicBezTo>
                    <a:pt x="604" y="40"/>
                    <a:pt x="675" y="58"/>
                    <a:pt x="730" y="86"/>
                  </a:cubicBezTo>
                  <a:cubicBezTo>
                    <a:pt x="784" y="114"/>
                    <a:pt x="823" y="151"/>
                    <a:pt x="880" y="195"/>
                  </a:cubicBezTo>
                  <a:cubicBezTo>
                    <a:pt x="939" y="239"/>
                    <a:pt x="1014" y="288"/>
                    <a:pt x="1082" y="346"/>
                  </a:cubicBezTo>
                  <a:cubicBezTo>
                    <a:pt x="1150" y="405"/>
                    <a:pt x="1222" y="478"/>
                    <a:pt x="1290" y="548"/>
                  </a:cubicBezTo>
                  <a:cubicBezTo>
                    <a:pt x="1359" y="619"/>
                    <a:pt x="1420" y="685"/>
                    <a:pt x="1492" y="767"/>
                  </a:cubicBezTo>
                  <a:cubicBezTo>
                    <a:pt x="1563" y="848"/>
                    <a:pt x="1623" y="929"/>
                    <a:pt x="1718" y="1036"/>
                  </a:cubicBezTo>
                  <a:cubicBezTo>
                    <a:pt x="1813" y="1142"/>
                    <a:pt x="1958" y="1299"/>
                    <a:pt x="2061" y="1406"/>
                  </a:cubicBezTo>
                  <a:cubicBezTo>
                    <a:pt x="2164" y="1512"/>
                    <a:pt x="2233" y="1591"/>
                    <a:pt x="2338" y="1675"/>
                  </a:cubicBezTo>
                  <a:cubicBezTo>
                    <a:pt x="2443" y="1757"/>
                    <a:pt x="2594" y="1856"/>
                    <a:pt x="2690" y="1902"/>
                  </a:cubicBezTo>
                  <a:cubicBezTo>
                    <a:pt x="2786" y="1948"/>
                    <a:pt x="2846" y="1948"/>
                    <a:pt x="2916" y="1952"/>
                  </a:cubicBezTo>
                  <a:cubicBezTo>
                    <a:pt x="2985" y="1957"/>
                    <a:pt x="3051" y="1942"/>
                    <a:pt x="3109" y="1927"/>
                  </a:cubicBezTo>
                  <a:cubicBezTo>
                    <a:pt x="3167" y="1911"/>
                    <a:pt x="3204" y="1904"/>
                    <a:pt x="3267" y="1859"/>
                  </a:cubicBezTo>
                  <a:cubicBezTo>
                    <a:pt x="3331" y="1815"/>
                    <a:pt x="3417" y="1757"/>
                    <a:pt x="3494" y="1658"/>
                  </a:cubicBezTo>
                  <a:cubicBezTo>
                    <a:pt x="3571" y="1558"/>
                    <a:pt x="3660" y="1394"/>
                    <a:pt x="3729" y="1263"/>
                  </a:cubicBezTo>
                  <a:cubicBezTo>
                    <a:pt x="3798" y="1132"/>
                    <a:pt x="3851" y="1023"/>
                    <a:pt x="3913" y="868"/>
                  </a:cubicBezTo>
                  <a:cubicBezTo>
                    <a:pt x="3976" y="712"/>
                    <a:pt x="4062" y="448"/>
                    <a:pt x="4105" y="330"/>
                  </a:cubicBezTo>
                  <a:cubicBezTo>
                    <a:pt x="4149" y="211"/>
                    <a:pt x="4160" y="182"/>
                    <a:pt x="4172" y="154"/>
                  </a:cubicBezTo>
                </a:path>
              </a:pathLst>
            </a:custGeom>
            <a:noFill/>
            <a:ln w="21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39880" y="2724480"/>
              <a:ext cx="3863520" cy="0"/>
            </a:xfrm>
            <a:prstGeom prst="line">
              <a:avLst/>
            </a:prstGeom>
            <a:ln cap="rnd" w="108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81920" y="2724480"/>
              <a:ext cx="147960" cy="148320"/>
              <a:chOff x="2581920" y="2724480"/>
              <a:chExt cx="147960" cy="148320"/>
            </a:xfrm>
          </p:grpSpPr>
          <p:sp>
            <p:nvSpPr>
              <p:cNvPr id="68" name=""/>
              <p:cNvSpPr/>
              <p:nvPr/>
            </p:nvSpPr>
            <p:spPr>
              <a:xfrm>
                <a:off x="2581920" y="2724480"/>
                <a:ext cx="147960" cy="14832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81920" y="2724480"/>
                <a:ext cx="147960" cy="14832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cap="rnd" w="108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445800" y="2724480"/>
              <a:ext cx="147960" cy="148320"/>
              <a:chOff x="6445800" y="2724480"/>
              <a:chExt cx="147960" cy="148320"/>
            </a:xfrm>
          </p:grpSpPr>
          <p:sp>
            <p:nvSpPr>
              <p:cNvPr id="71" name=""/>
              <p:cNvSpPr/>
              <p:nvPr/>
            </p:nvSpPr>
            <p:spPr>
              <a:xfrm>
                <a:off x="6445800" y="2724480"/>
                <a:ext cx="147960" cy="14832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445800" y="2724480"/>
                <a:ext cx="147960" cy="14832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cap="rnd" w="108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V="1">
              <a:off x="2653920" y="2388960"/>
              <a:ext cx="412200" cy="312120"/>
            </a:xfrm>
            <a:prstGeom prst="line">
              <a:avLst/>
            </a:prstGeom>
            <a:ln cap="rnd" w="6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53920" y="2701440"/>
              <a:ext cx="1544760" cy="761760"/>
            </a:xfrm>
            <a:prstGeom prst="line">
              <a:avLst/>
            </a:prstGeom>
            <a:ln cap="rnd" w="6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208040" y="2708640"/>
              <a:ext cx="2311560" cy="754200"/>
            </a:xfrm>
            <a:prstGeom prst="line">
              <a:avLst/>
            </a:prstGeom>
            <a:ln cap="rnd" w="6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208040" y="2724120"/>
              <a:ext cx="0" cy="745560"/>
            </a:xfrm>
            <a:prstGeom prst="line">
              <a:avLst/>
            </a:prstGeom>
            <a:ln cap="rnd"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130800" y="2709000"/>
              <a:ext cx="382320" cy="1291320"/>
            </a:xfrm>
            <a:prstGeom prst="line">
              <a:avLst/>
            </a:prstGeom>
            <a:ln cap="rnd" w="6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9080" y="2460960"/>
              <a:ext cx="178560" cy="451440"/>
            </a:xfrm>
            <a:custGeom>
              <a:avLst/>
              <a:gdLst/>
              <a:ahLst/>
              <a:rect l="l" t="t" r="r" b="b"/>
              <a:pathLst>
                <a:path w="192" h="489">
                  <a:moveTo>
                    <a:pt x="0" y="0"/>
                  </a:moveTo>
                  <a:cubicBezTo>
                    <a:pt x="129" y="38"/>
                    <a:pt x="192" y="239"/>
                    <a:pt x="154" y="489"/>
                  </a:cubicBezTo>
                </a:path>
              </a:pathLst>
            </a:custGeom>
            <a:noFill/>
            <a:ln cap="rnd" w="108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70320" y="2796480"/>
              <a:ext cx="396000" cy="349560"/>
            </a:xfrm>
            <a:custGeom>
              <a:avLst/>
              <a:gdLst/>
              <a:ahLst/>
              <a:rect l="l" t="t" r="r" b="b"/>
              <a:pathLst>
                <a:path w="426" h="377">
                  <a:moveTo>
                    <a:pt x="426" y="377"/>
                  </a:moveTo>
                  <a:cubicBezTo>
                    <a:pt x="191" y="377"/>
                    <a:pt x="0" y="208"/>
                    <a:pt x="0" y="0"/>
                  </a:cubicBezTo>
                </a:path>
              </a:pathLst>
            </a:custGeom>
            <a:noFill/>
            <a:ln cap="rnd" w="108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24360" y="2685240"/>
              <a:ext cx="215640" cy="243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36400" y="3004920"/>
              <a:ext cx="215280" cy="243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8520" y="3004920"/>
              <a:ext cx="215280" cy="243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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08120" y="4558680"/>
              <a:ext cx="4141440" cy="180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39880" y="4477680"/>
              <a:ext cx="2520" cy="1450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584800" y="4498200"/>
              <a:ext cx="103680" cy="11124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147920" y="4498200"/>
              <a:ext cx="104400" cy="11124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03360" y="4477680"/>
              <a:ext cx="0" cy="1450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8240" y="4426920"/>
              <a:ext cx="437760" cy="243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66"/>
                  </a:solidFill>
                  <a:latin typeface="Comic Sans MS"/>
                </a:rPr>
                <a:t>L</a:t>
              </a:r>
              <a:r>
                <a:rPr b="0" i="1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463800" y="4498200"/>
              <a:ext cx="101880" cy="11124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7080" y="4477680"/>
              <a:ext cx="2520" cy="1450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64560" y="4426920"/>
              <a:ext cx="437760" cy="243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66"/>
                  </a:solidFill>
                  <a:latin typeface="Comic Sans MS"/>
                </a:rPr>
                <a:t>L</a:t>
              </a:r>
              <a:r>
                <a:rPr b="0" i="1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Rotazione Rispetto alla Cord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90840" y="3654360"/>
            <a:ext cx="1571400" cy="457200"/>
            <a:chOff x="2490840" y="3654360"/>
            <a:chExt cx="1571400" cy="457200"/>
          </a:xfrm>
        </p:grpSpPr>
        <p:sp>
          <p:nvSpPr>
            <p:cNvPr id="95" name=""/>
            <p:cNvSpPr/>
            <p:nvPr/>
          </p:nvSpPr>
          <p:spPr>
            <a:xfrm>
              <a:off x="2490840" y="3786120"/>
              <a:ext cx="1571400" cy="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55720" y="3705120"/>
              <a:ext cx="3240" cy="14616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599920" y="3726000"/>
              <a:ext cx="104760" cy="1108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892320" y="3726000"/>
              <a:ext cx="104760" cy="1108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48120" y="3705120"/>
              <a:ext cx="0" cy="14616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5880" y="3654360"/>
              <a:ext cx="4381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66"/>
                  </a:solidFill>
                  <a:latin typeface="Comic Sans MS"/>
                </a:rPr>
                <a:t>L</a:t>
              </a:r>
              <a:r>
                <a:rPr b="0" i="1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77960" y="2790720"/>
            <a:ext cx="3984480" cy="147600"/>
            <a:chOff x="2577960" y="2790720"/>
            <a:chExt cx="3984480" cy="147600"/>
          </a:xfrm>
        </p:grpSpPr>
        <p:sp>
          <p:nvSpPr>
            <p:cNvPr id="102" name=""/>
            <p:cNvSpPr/>
            <p:nvPr/>
          </p:nvSpPr>
          <p:spPr>
            <a:xfrm>
              <a:off x="2634480" y="2790720"/>
              <a:ext cx="3838680" cy="0"/>
            </a:xfrm>
            <a:prstGeom prst="line">
              <a:avLst/>
            </a:prstGeom>
            <a:ln cap="rnd" w="108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577960" y="2790720"/>
              <a:ext cx="147240" cy="147600"/>
              <a:chOff x="2577960" y="2790720"/>
              <a:chExt cx="147240" cy="147600"/>
            </a:xfrm>
          </p:grpSpPr>
          <p:sp>
            <p:nvSpPr>
              <p:cNvPr id="104" name=""/>
              <p:cNvSpPr/>
              <p:nvPr/>
            </p:nvSpPr>
            <p:spPr>
              <a:xfrm>
                <a:off x="2577960" y="2790720"/>
                <a:ext cx="14724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77960" y="2790720"/>
                <a:ext cx="14724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cap="rnd" w="108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415200" y="2790720"/>
              <a:ext cx="147240" cy="147600"/>
              <a:chOff x="6415200" y="2790720"/>
              <a:chExt cx="14724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415200" y="2790720"/>
                <a:ext cx="14724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15200" y="2790720"/>
                <a:ext cx="14724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cap="rnd" w="108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2128680" y="2465280"/>
            <a:ext cx="330480" cy="822600"/>
          </a:xfrm>
          <a:custGeom>
            <a:avLst/>
            <a:gdLst>
              <a:gd name="textAreaLeft" fmla="*/ 44280 w 330480"/>
              <a:gd name="textAreaRight" fmla="*/ 286200 w 330480"/>
              <a:gd name="textAreaTop" fmla="*/ 144000 h 822600"/>
              <a:gd name="textAreaBottom" fmla="*/ 596520 h 8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39800" y="2595600"/>
            <a:ext cx="46368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643080" y="2464560"/>
            <a:ext cx="330120" cy="822600"/>
          </a:xfrm>
          <a:custGeom>
            <a:avLst/>
            <a:gdLst>
              <a:gd name="textAreaLeft" fmla="*/ 43920 w 330120"/>
              <a:gd name="textAreaRight" fmla="*/ 286200 w 330120"/>
              <a:gd name="textAreaTop" fmla="*/ 144000 h 822600"/>
              <a:gd name="textAreaBottom" fmla="*/ 596520 h 8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3760" y="2595600"/>
            <a:ext cx="46368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44840" y="3022560"/>
            <a:ext cx="239760" cy="382680"/>
          </a:xfrm>
          <a:prstGeom prst="upArrow">
            <a:avLst>
              <a:gd name="adj1" fmla="val 50000"/>
              <a:gd name="adj2" fmla="val 39902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272280" y="2241720"/>
            <a:ext cx="239760" cy="382320"/>
          </a:xfrm>
          <a:prstGeom prst="upArrow">
            <a:avLst>
              <a:gd name="adj1" fmla="val 50000"/>
              <a:gd name="adj2" fmla="val 39865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4440" y="3013200"/>
            <a:ext cx="46332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29400" y="2178000"/>
            <a:ext cx="46332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6360" y="2224080"/>
            <a:ext cx="3868920" cy="1704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6360" y="2224080"/>
            <a:ext cx="0" cy="5428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62720" y="2952720"/>
            <a:ext cx="0" cy="9651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7200" y="104616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a definizione della luce di taglio fornita dalla normativa richiede la presenza di una sollecitazione tagliante costante lungo la trav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826160" y="3975840"/>
            <a:ext cx="239400" cy="382680"/>
          </a:xfrm>
          <a:prstGeom prst="upArrow">
            <a:avLst>
              <a:gd name="adj1" fmla="val 50000"/>
              <a:gd name="adj2" fmla="val 39962"/>
            </a:avLst>
          </a:prstGeom>
          <a:solidFill>
            <a:srgbClr val="ffff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314960" y="4594320"/>
                <a:ext cx="9824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03040" y="56656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n è prevista l’influenza dei carichi vertical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Rotazione Rispetto alla Cord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490840" y="3654360"/>
            <a:ext cx="1571400" cy="457200"/>
            <a:chOff x="2490840" y="3654360"/>
            <a:chExt cx="1571400" cy="457200"/>
          </a:xfrm>
        </p:grpSpPr>
        <p:sp>
          <p:nvSpPr>
            <p:cNvPr id="127" name=""/>
            <p:cNvSpPr/>
            <p:nvPr/>
          </p:nvSpPr>
          <p:spPr>
            <a:xfrm>
              <a:off x="2490840" y="3786120"/>
              <a:ext cx="1571400" cy="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55720" y="3705120"/>
              <a:ext cx="3240" cy="14616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599920" y="3726000"/>
              <a:ext cx="104760" cy="1108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892320" y="3726000"/>
              <a:ext cx="104760" cy="1108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48120" y="3705120"/>
              <a:ext cx="0" cy="14616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5880" y="3654360"/>
              <a:ext cx="4381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66"/>
                  </a:solidFill>
                  <a:latin typeface="Comic Sans MS"/>
                </a:rPr>
                <a:t>L</a:t>
              </a:r>
              <a:r>
                <a:rPr b="0" i="1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77960" y="2790720"/>
            <a:ext cx="3984480" cy="147600"/>
            <a:chOff x="2577960" y="2790720"/>
            <a:chExt cx="3984480" cy="147600"/>
          </a:xfrm>
        </p:grpSpPr>
        <p:sp>
          <p:nvSpPr>
            <p:cNvPr id="134" name=""/>
            <p:cNvSpPr/>
            <p:nvPr/>
          </p:nvSpPr>
          <p:spPr>
            <a:xfrm>
              <a:off x="2634480" y="2790720"/>
              <a:ext cx="3838680" cy="0"/>
            </a:xfrm>
            <a:prstGeom prst="line">
              <a:avLst/>
            </a:prstGeom>
            <a:ln cap="rnd" w="108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577960" y="2790720"/>
              <a:ext cx="147240" cy="147600"/>
              <a:chOff x="2577960" y="2790720"/>
              <a:chExt cx="147240" cy="147600"/>
            </a:xfrm>
          </p:grpSpPr>
          <p:sp>
            <p:nvSpPr>
              <p:cNvPr id="136" name=""/>
              <p:cNvSpPr/>
              <p:nvPr/>
            </p:nvSpPr>
            <p:spPr>
              <a:xfrm>
                <a:off x="2577960" y="2790720"/>
                <a:ext cx="14724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77960" y="2790720"/>
                <a:ext cx="14724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cap="rnd" w="108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415200" y="2790720"/>
              <a:ext cx="147240" cy="147600"/>
              <a:chOff x="6415200" y="2790720"/>
              <a:chExt cx="147240" cy="147600"/>
            </a:xfrm>
          </p:grpSpPr>
          <p:sp>
            <p:nvSpPr>
              <p:cNvPr id="139" name=""/>
              <p:cNvSpPr/>
              <p:nvPr/>
            </p:nvSpPr>
            <p:spPr>
              <a:xfrm>
                <a:off x="6415200" y="2790720"/>
                <a:ext cx="14724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415200" y="2790720"/>
                <a:ext cx="14724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cap="rnd" w="108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128680" y="2465280"/>
            <a:ext cx="330480" cy="822600"/>
          </a:xfrm>
          <a:custGeom>
            <a:avLst/>
            <a:gdLst>
              <a:gd name="textAreaLeft" fmla="*/ 44280 w 330480"/>
              <a:gd name="textAreaRight" fmla="*/ 286200 w 330480"/>
              <a:gd name="textAreaTop" fmla="*/ 144000 h 822600"/>
              <a:gd name="textAreaBottom" fmla="*/ 596520 h 8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9800" y="2595600"/>
            <a:ext cx="46368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643080" y="2464560"/>
            <a:ext cx="330120" cy="822600"/>
          </a:xfrm>
          <a:custGeom>
            <a:avLst/>
            <a:gdLst>
              <a:gd name="textAreaLeft" fmla="*/ 43920 w 330120"/>
              <a:gd name="textAreaRight" fmla="*/ 286200 w 330120"/>
              <a:gd name="textAreaTop" fmla="*/ 144000 h 822600"/>
              <a:gd name="textAreaBottom" fmla="*/ 596520 h 8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3760" y="2595600"/>
            <a:ext cx="46368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44840" y="3022560"/>
            <a:ext cx="239760" cy="382680"/>
          </a:xfrm>
          <a:prstGeom prst="upArrow">
            <a:avLst>
              <a:gd name="adj1" fmla="val 50000"/>
              <a:gd name="adj2" fmla="val 39902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272280" y="2241720"/>
            <a:ext cx="239760" cy="382320"/>
          </a:xfrm>
          <a:prstGeom prst="upArrow">
            <a:avLst>
              <a:gd name="adj1" fmla="val 50000"/>
              <a:gd name="adj2" fmla="val 39865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54440" y="3013200"/>
            <a:ext cx="46332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9400" y="2178000"/>
            <a:ext cx="46332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46360" y="2224080"/>
            <a:ext cx="3868920" cy="1704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6360" y="2224080"/>
            <a:ext cx="0" cy="5428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62720" y="2952720"/>
            <a:ext cx="0" cy="9651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7200" y="104616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a rotazione rispetto alla corda può essere valutata considerando la porzione di trave compresa tra la sezione di estremità e quella di momento null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Rotazione Rispetto alla Cord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4600" y="434196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il momento flettente è pari a quello di plasticizzazion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246640" y="2435400"/>
                <a:ext cx="13240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2641680" y="2480760"/>
            <a:ext cx="679320" cy="524520"/>
            <a:chOff x="2641680" y="2480760"/>
            <a:chExt cx="679320" cy="524520"/>
          </a:xfrm>
        </p:grpSpPr>
        <p:sp>
          <p:nvSpPr>
            <p:cNvPr id="158" name=""/>
            <p:cNvSpPr/>
            <p:nvPr/>
          </p:nvSpPr>
          <p:spPr>
            <a:xfrm flipV="1">
              <a:off x="2641680" y="2480760"/>
              <a:ext cx="412560" cy="312840"/>
            </a:xfrm>
            <a:prstGeom prst="line">
              <a:avLst/>
            </a:prstGeom>
            <a:ln cap="rnd" w="6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97200" y="2552760"/>
              <a:ext cx="177840" cy="452520"/>
            </a:xfrm>
            <a:custGeom>
              <a:avLst/>
              <a:gdLst/>
              <a:ahLst/>
              <a:rect l="l" t="t" r="r" b="b"/>
              <a:pathLst>
                <a:path w="192" h="489">
                  <a:moveTo>
                    <a:pt x="0" y="0"/>
                  </a:moveTo>
                  <a:cubicBezTo>
                    <a:pt x="129" y="38"/>
                    <a:pt x="192" y="239"/>
                    <a:pt x="154" y="489"/>
                  </a:cubicBezTo>
                </a:path>
              </a:pathLst>
            </a:custGeom>
            <a:noFill/>
            <a:ln cap="rnd" w="108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05000" y="2509920"/>
              <a:ext cx="216000" cy="242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635200" y="2790720"/>
            <a:ext cx="1281240" cy="0"/>
          </a:xfrm>
          <a:prstGeom prst="line">
            <a:avLst/>
          </a:prstGeom>
          <a:ln cap="rnd" w="108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77960" y="2790720"/>
            <a:ext cx="147600" cy="147600"/>
            <a:chOff x="2577960" y="2790720"/>
            <a:chExt cx="147600" cy="147600"/>
          </a:xfrm>
        </p:grpSpPr>
        <p:sp>
          <p:nvSpPr>
            <p:cNvPr id="163" name=""/>
            <p:cNvSpPr/>
            <p:nvPr/>
          </p:nvSpPr>
          <p:spPr>
            <a:xfrm>
              <a:off x="2577960" y="2790720"/>
              <a:ext cx="147600" cy="1476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80" y="0"/>
                  </a:moveTo>
                  <a:lnTo>
                    <a:pt x="0" y="161"/>
                  </a:lnTo>
                  <a:lnTo>
                    <a:pt x="160" y="16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77960" y="2790720"/>
              <a:ext cx="147600" cy="1476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80" y="0"/>
                  </a:moveTo>
                  <a:lnTo>
                    <a:pt x="0" y="161"/>
                  </a:lnTo>
                  <a:lnTo>
                    <a:pt x="160" y="16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ff00"/>
            </a:solidFill>
            <a:ln cap="rnd" w="108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28680" y="2465280"/>
            <a:ext cx="330480" cy="822600"/>
          </a:xfrm>
          <a:custGeom>
            <a:avLst/>
            <a:gdLst>
              <a:gd name="textAreaLeft" fmla="*/ 44280 w 330480"/>
              <a:gd name="textAreaRight" fmla="*/ 286200 w 330480"/>
              <a:gd name="textAreaTop" fmla="*/ 144000 h 822600"/>
              <a:gd name="textAreaBottom" fmla="*/ 596520 h 8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2595600"/>
            <a:ext cx="46368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44840" y="3022560"/>
            <a:ext cx="239760" cy="382680"/>
          </a:xfrm>
          <a:prstGeom prst="upArrow">
            <a:avLst>
              <a:gd name="adj1" fmla="val 50000"/>
              <a:gd name="adj2" fmla="val 39902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54440" y="3013200"/>
            <a:ext cx="46332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200" y="104616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a rotazione rispetto alla corda può essere valutata considerando la porzione di trave compresa tra la sezione di estremità e quella di momento null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2727360"/>
            <a:ext cx="120960" cy="120600"/>
          </a:xfrm>
          <a:prstGeom prst="ellipse">
            <a:avLst/>
          </a:prstGeom>
          <a:solidFill>
            <a:srgbClr val="000099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90840" y="3654360"/>
            <a:ext cx="1571400" cy="457200"/>
            <a:chOff x="2490840" y="3654360"/>
            <a:chExt cx="1571400" cy="457200"/>
          </a:xfrm>
        </p:grpSpPr>
        <p:sp>
          <p:nvSpPr>
            <p:cNvPr id="172" name=""/>
            <p:cNvSpPr/>
            <p:nvPr/>
          </p:nvSpPr>
          <p:spPr>
            <a:xfrm>
              <a:off x="2490840" y="3786120"/>
              <a:ext cx="1571400" cy="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55720" y="3705120"/>
              <a:ext cx="3240" cy="14616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599920" y="3726000"/>
              <a:ext cx="104760" cy="1108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892320" y="3726000"/>
              <a:ext cx="104760" cy="1108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48120" y="3705120"/>
              <a:ext cx="0" cy="14616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3654360"/>
              <a:ext cx="4381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66"/>
                  </a:solidFill>
                  <a:latin typeface="Comic Sans MS"/>
                </a:rPr>
                <a:t>L</a:t>
              </a:r>
              <a:r>
                <a:rPr b="0" i="1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381640" y="5105520"/>
                <a:ext cx="1874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1639800" y="4768920"/>
            <a:ext cx="2422440" cy="1793880"/>
            <a:chOff x="1639800" y="4768920"/>
            <a:chExt cx="2422440" cy="1793880"/>
          </a:xfrm>
        </p:grpSpPr>
        <p:sp>
          <p:nvSpPr>
            <p:cNvPr id="180" name=""/>
            <p:cNvSpPr/>
            <p:nvPr/>
          </p:nvSpPr>
          <p:spPr>
            <a:xfrm flipV="1">
              <a:off x="2641680" y="5084280"/>
              <a:ext cx="412560" cy="297000"/>
            </a:xfrm>
            <a:prstGeom prst="line">
              <a:avLst/>
            </a:prstGeom>
            <a:ln cap="rnd" w="6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97200" y="5153040"/>
              <a:ext cx="177840" cy="428760"/>
            </a:xfrm>
            <a:custGeom>
              <a:avLst/>
              <a:gdLst/>
              <a:ahLst/>
              <a:rect l="l" t="t" r="r" b="b"/>
              <a:pathLst>
                <a:path w="192" h="489">
                  <a:moveTo>
                    <a:pt x="0" y="0"/>
                  </a:moveTo>
                  <a:cubicBezTo>
                    <a:pt x="129" y="38"/>
                    <a:pt x="192" y="239"/>
                    <a:pt x="154" y="489"/>
                  </a:cubicBezTo>
                </a:path>
              </a:pathLst>
            </a:custGeom>
            <a:noFill/>
            <a:ln cap="rnd" w="108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05000" y="5111640"/>
              <a:ext cx="216000" cy="2304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35200" y="5394240"/>
              <a:ext cx="1281240" cy="0"/>
            </a:xfrm>
            <a:prstGeom prst="line">
              <a:avLst/>
            </a:prstGeom>
            <a:ln cap="rnd" w="108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577960" y="5394240"/>
              <a:ext cx="147600" cy="147600"/>
              <a:chOff x="2577960" y="5394240"/>
              <a:chExt cx="147600" cy="147600"/>
            </a:xfrm>
          </p:grpSpPr>
          <p:sp>
            <p:nvSpPr>
              <p:cNvPr id="185" name=""/>
              <p:cNvSpPr/>
              <p:nvPr/>
            </p:nvSpPr>
            <p:spPr>
              <a:xfrm>
                <a:off x="2577960" y="5394240"/>
                <a:ext cx="14760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77960" y="5394240"/>
                <a:ext cx="147600" cy="147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80" y="0"/>
                    </a:moveTo>
                    <a:lnTo>
                      <a:pt x="0" y="161"/>
                    </a:lnTo>
                    <a:lnTo>
                      <a:pt x="160" y="16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ff00"/>
              </a:solidFill>
              <a:ln cap="rnd" w="108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128680" y="5068800"/>
              <a:ext cx="330480" cy="822240"/>
            </a:xfrm>
            <a:custGeom>
              <a:avLst/>
              <a:gdLst>
                <a:gd name="textAreaLeft" fmla="*/ 44280 w 330480"/>
                <a:gd name="textAreaRight" fmla="*/ 286200 w 330480"/>
                <a:gd name="textAreaTop" fmla="*/ 143640 h 822240"/>
                <a:gd name="textAreaBottom" fmla="*/ 59616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9800" y="5199120"/>
              <a:ext cx="463680" cy="49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66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44840" y="5626080"/>
              <a:ext cx="239760" cy="382680"/>
            </a:xfrm>
            <a:prstGeom prst="upArrow">
              <a:avLst>
                <a:gd name="adj1" fmla="val 50000"/>
                <a:gd name="adj2" fmla="val 39902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4440" y="5616720"/>
              <a:ext cx="463320" cy="4060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52720" y="5330880"/>
              <a:ext cx="120960" cy="120600"/>
            </a:xfrm>
            <a:prstGeom prst="ellipse">
              <a:avLst/>
            </a:prstGeom>
            <a:solidFill>
              <a:srgbClr val="000099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490840" y="6105600"/>
              <a:ext cx="1571400" cy="457200"/>
              <a:chOff x="2490840" y="6105600"/>
              <a:chExt cx="1571400" cy="45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2490840" y="6237360"/>
                <a:ext cx="1571400" cy="0"/>
              </a:xfrm>
              <a:prstGeom prst="line">
                <a:avLst/>
              </a:prstGeom>
              <a:ln w="64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55720" y="6156360"/>
                <a:ext cx="3240" cy="146160"/>
              </a:xfrm>
              <a:prstGeom prst="line">
                <a:avLst/>
              </a:prstGeom>
              <a:ln w="64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599920" y="6177240"/>
                <a:ext cx="104760" cy="110880"/>
              </a:xfrm>
              <a:prstGeom prst="line">
                <a:avLst/>
              </a:prstGeom>
              <a:ln w="64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3892320" y="6177240"/>
                <a:ext cx="104760" cy="110880"/>
              </a:xfrm>
              <a:prstGeom prst="line">
                <a:avLst/>
              </a:prstGeom>
              <a:ln w="64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48120" y="6156360"/>
                <a:ext cx="0" cy="146160"/>
              </a:xfrm>
              <a:prstGeom prst="line">
                <a:avLst/>
              </a:prstGeom>
              <a:ln w="64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25880" y="6105600"/>
                <a:ext cx="438120" cy="4572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66"/>
                    </a:solidFill>
                    <a:latin typeface="Comic Sans MS"/>
                  </a:rPr>
                  <a:t>L</a:t>
                </a:r>
                <a:r>
                  <a:rPr b="0" i="1" lang="en-US" sz="2000" spc="-1" strike="noStrike" baseline="-25000">
                    <a:solidFill>
                      <a:srgbClr val="ffff66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593800" y="5330880"/>
              <a:ext cx="120960" cy="1206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664000" y="4989600"/>
              <a:ext cx="145800" cy="39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6080" y="5095800"/>
              <a:ext cx="52992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5640" y="4768920"/>
              <a:ext cx="347760" cy="36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0" lang="it-IT" sz="2000" spc="-1" strike="noStrike" baseline="-25000">
                  <a:solidFill>
                    <a:srgbClr val="ff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uce di Taglio: Problematich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4600" y="9586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n presenza di carichi verticali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440" y="2336760"/>
            <a:ext cx="821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Il diagramma dei momenti da carichi verticali + sisma può presentar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49520" y="2033640"/>
            <a:ext cx="39600" cy="174240"/>
          </a:xfrm>
          <a:custGeom>
            <a:avLst/>
            <a:gdLst>
              <a:gd name="textAreaLeft" fmla="*/ 360 w 39600"/>
              <a:gd name="textAreaRight" fmla="*/ 39240 w 39600"/>
              <a:gd name="textAreaTop" fmla="*/ 360 h 174240"/>
              <a:gd name="textAreaBottom" fmla="*/ 173880 h 174240"/>
            </a:gdLst>
            <a:ahLst/>
            <a:rect l="textAreaLeft" t="textAreaTop" r="textAreaRight" b="textAreaBottom"/>
            <a:pathLst>
              <a:path w="21600" h="94378">
                <a:moveTo>
                  <a:pt x="900" y="0"/>
                </a:moveTo>
                <a:arcTo wR="900" hR="900" stAng="16200000" swAng="-5400000"/>
                <a:lnTo>
                  <a:pt x="0" y="93478"/>
                </a:lnTo>
                <a:arcTo wR="900" hR="900" stAng="10800000" swAng="-5400000"/>
                <a:lnTo>
                  <a:pt x="20700" y="943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16200" y="2046240"/>
            <a:ext cx="3705120" cy="3240"/>
          </a:xfrm>
          <a:prstGeom prst="line">
            <a:avLst/>
          </a:prstGeom>
          <a:ln w="9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98840" y="2062080"/>
            <a:ext cx="244440" cy="182520"/>
          </a:xfrm>
          <a:custGeom>
            <a:avLst/>
            <a:gdLst/>
            <a:ahLst/>
            <a:rect l="l" t="t" r="r" b="b"/>
            <a:pathLst>
              <a:path w="681" h="509">
                <a:moveTo>
                  <a:pt x="348" y="0"/>
                </a:moveTo>
                <a:lnTo>
                  <a:pt x="0" y="508"/>
                </a:lnTo>
                <a:lnTo>
                  <a:pt x="680" y="508"/>
                </a:lnTo>
                <a:lnTo>
                  <a:pt x="348" y="0"/>
                </a:lnTo>
                <a:lnTo>
                  <a:pt x="348" y="0"/>
                </a:lnTo>
              </a:path>
            </a:pathLst>
          </a:custGeom>
          <a:solidFill>
            <a:srgbClr val="00ff00"/>
          </a:solidFill>
          <a:ln w="9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3960" y="2062080"/>
            <a:ext cx="236520" cy="182520"/>
          </a:xfrm>
          <a:custGeom>
            <a:avLst/>
            <a:gdLst/>
            <a:ahLst/>
            <a:rect l="l" t="t" r="r" b="b"/>
            <a:pathLst>
              <a:path w="655" h="509">
                <a:moveTo>
                  <a:pt x="327" y="0"/>
                </a:moveTo>
                <a:lnTo>
                  <a:pt x="0" y="508"/>
                </a:lnTo>
                <a:lnTo>
                  <a:pt x="654" y="508"/>
                </a:lnTo>
                <a:lnTo>
                  <a:pt x="327" y="0"/>
                </a:lnTo>
                <a:lnTo>
                  <a:pt x="327" y="0"/>
                </a:lnTo>
              </a:path>
            </a:pathLst>
          </a:custGeom>
          <a:solidFill>
            <a:srgbClr val="00ff00"/>
          </a:solidFill>
          <a:ln w="9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716200" y="1512720"/>
            <a:ext cx="3710160" cy="341640"/>
            <a:chOff x="2716200" y="1512720"/>
            <a:chExt cx="3710160" cy="341640"/>
          </a:xfrm>
        </p:grpSpPr>
        <p:sp>
          <p:nvSpPr>
            <p:cNvPr id="212" name=""/>
            <p:cNvSpPr/>
            <p:nvPr/>
          </p:nvSpPr>
          <p:spPr>
            <a:xfrm>
              <a:off x="2716200" y="1538280"/>
              <a:ext cx="3710160" cy="316080"/>
            </a:xfrm>
            <a:prstGeom prst="roundRect">
              <a:avLst>
                <a:gd name="adj" fmla="val 50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46520" y="1512720"/>
              <a:ext cx="3240" cy="328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92640" y="1512720"/>
              <a:ext cx="1440" cy="328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1000" y="1512720"/>
              <a:ext cx="1800" cy="328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8320" y="1512720"/>
              <a:ext cx="3240" cy="328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1360" y="1512720"/>
              <a:ext cx="3240" cy="328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00760" y="1512720"/>
              <a:ext cx="1440" cy="328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73640" y="1522440"/>
              <a:ext cx="3585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830760" y="3087720"/>
            <a:ext cx="24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b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081240" y="3198960"/>
            <a:ext cx="1858680" cy="501480"/>
            <a:chOff x="3081240" y="3198960"/>
            <a:chExt cx="1858680" cy="501480"/>
          </a:xfrm>
        </p:grpSpPr>
        <p:sp>
          <p:nvSpPr>
            <p:cNvPr id="222" name=""/>
            <p:cNvSpPr/>
            <p:nvPr/>
          </p:nvSpPr>
          <p:spPr>
            <a:xfrm>
              <a:off x="3093480" y="3531960"/>
              <a:ext cx="1846440" cy="1440"/>
            </a:xfrm>
            <a:prstGeom prst="line">
              <a:avLst/>
            </a:prstGeom>
            <a:ln w="9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1240" y="3329640"/>
              <a:ext cx="1440" cy="1944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29480" y="3213000"/>
              <a:ext cx="1080" cy="317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81240" y="3198960"/>
              <a:ext cx="1849680" cy="501480"/>
            </a:xfrm>
            <a:custGeom>
              <a:avLst/>
              <a:gdLst/>
              <a:ahLst/>
              <a:rect l="l" t="t" r="r" b="b"/>
              <a:pathLst>
                <a:path w="5140" h="1405">
                  <a:moveTo>
                    <a:pt x="0" y="363"/>
                  </a:moveTo>
                  <a:cubicBezTo>
                    <a:pt x="100" y="517"/>
                    <a:pt x="200" y="672"/>
                    <a:pt x="380" y="817"/>
                  </a:cubicBezTo>
                  <a:cubicBezTo>
                    <a:pt x="560" y="963"/>
                    <a:pt x="778" y="1138"/>
                    <a:pt x="1085" y="1234"/>
                  </a:cubicBezTo>
                  <a:cubicBezTo>
                    <a:pt x="1392" y="1330"/>
                    <a:pt x="1845" y="1404"/>
                    <a:pt x="2225" y="1398"/>
                  </a:cubicBezTo>
                  <a:cubicBezTo>
                    <a:pt x="2605" y="1392"/>
                    <a:pt x="3009" y="1316"/>
                    <a:pt x="3365" y="1199"/>
                  </a:cubicBezTo>
                  <a:cubicBezTo>
                    <a:pt x="3721" y="1082"/>
                    <a:pt x="4066" y="890"/>
                    <a:pt x="4362" y="690"/>
                  </a:cubicBezTo>
                  <a:cubicBezTo>
                    <a:pt x="4657" y="491"/>
                    <a:pt x="5043" y="106"/>
                    <a:pt x="5139" y="0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09480" y="3198960"/>
            <a:ext cx="1858680" cy="614160"/>
            <a:chOff x="609480" y="3198960"/>
            <a:chExt cx="1858680" cy="614160"/>
          </a:xfrm>
        </p:grpSpPr>
        <p:sp>
          <p:nvSpPr>
            <p:cNvPr id="227" name=""/>
            <p:cNvSpPr/>
            <p:nvPr/>
          </p:nvSpPr>
          <p:spPr>
            <a:xfrm>
              <a:off x="622080" y="3531960"/>
              <a:ext cx="1846080" cy="1440"/>
            </a:xfrm>
            <a:prstGeom prst="line">
              <a:avLst/>
            </a:prstGeom>
            <a:ln w="9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480" y="3526200"/>
              <a:ext cx="1440" cy="128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57720" y="3212640"/>
              <a:ext cx="1080" cy="317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7040" y="3198960"/>
              <a:ext cx="1843200" cy="614160"/>
            </a:xfrm>
            <a:custGeom>
              <a:avLst/>
              <a:gdLst/>
              <a:ahLst/>
              <a:rect l="l" t="t" r="r" b="b"/>
              <a:pathLst>
                <a:path w="5126" h="1764">
                  <a:moveTo>
                    <a:pt x="0" y="1330"/>
                  </a:moveTo>
                  <a:cubicBezTo>
                    <a:pt x="134" y="1456"/>
                    <a:pt x="268" y="1581"/>
                    <a:pt x="612" y="1636"/>
                  </a:cubicBezTo>
                  <a:cubicBezTo>
                    <a:pt x="956" y="1690"/>
                    <a:pt x="1531" y="1763"/>
                    <a:pt x="2063" y="1657"/>
                  </a:cubicBezTo>
                  <a:cubicBezTo>
                    <a:pt x="2596" y="1552"/>
                    <a:pt x="3300" y="1279"/>
                    <a:pt x="3810" y="1003"/>
                  </a:cubicBezTo>
                  <a:cubicBezTo>
                    <a:pt x="4319" y="727"/>
                    <a:pt x="4910" y="167"/>
                    <a:pt x="5125" y="0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362240" y="3087720"/>
            <a:ext cx="24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a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608880" y="3030480"/>
            <a:ext cx="1861920" cy="533520"/>
            <a:chOff x="6608880" y="3030480"/>
            <a:chExt cx="1861920" cy="533520"/>
          </a:xfrm>
        </p:grpSpPr>
        <p:sp>
          <p:nvSpPr>
            <p:cNvPr id="233" name=""/>
            <p:cNvSpPr/>
            <p:nvPr/>
          </p:nvSpPr>
          <p:spPr>
            <a:xfrm>
              <a:off x="6622920" y="3562200"/>
              <a:ext cx="1847880" cy="1800"/>
            </a:xfrm>
            <a:prstGeom prst="line">
              <a:avLst/>
            </a:prstGeom>
            <a:ln w="9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08880" y="3122640"/>
              <a:ext cx="1440" cy="4316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59640" y="3240000"/>
              <a:ext cx="1800" cy="3207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13560" y="3112920"/>
              <a:ext cx="1852560" cy="290520"/>
            </a:xfrm>
            <a:custGeom>
              <a:avLst/>
              <a:gdLst/>
              <a:ahLst/>
              <a:rect l="l" t="t" r="r" b="b"/>
              <a:pathLst>
                <a:path w="5148" h="805">
                  <a:moveTo>
                    <a:pt x="0" y="0"/>
                  </a:moveTo>
                  <a:cubicBezTo>
                    <a:pt x="61" y="93"/>
                    <a:pt x="125" y="188"/>
                    <a:pt x="363" y="294"/>
                  </a:cubicBezTo>
                  <a:cubicBezTo>
                    <a:pt x="601" y="400"/>
                    <a:pt x="955" y="551"/>
                    <a:pt x="1428" y="634"/>
                  </a:cubicBezTo>
                  <a:cubicBezTo>
                    <a:pt x="1900" y="717"/>
                    <a:pt x="2701" y="782"/>
                    <a:pt x="3196" y="793"/>
                  </a:cubicBezTo>
                  <a:cubicBezTo>
                    <a:pt x="3692" y="804"/>
                    <a:pt x="4073" y="781"/>
                    <a:pt x="4397" y="701"/>
                  </a:cubicBezTo>
                  <a:cubicBezTo>
                    <a:pt x="4722" y="622"/>
                    <a:pt x="5048" y="377"/>
                    <a:pt x="5147" y="317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5120" y="3030480"/>
              <a:ext cx="24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c)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19120" y="3854520"/>
            <a:ext cx="4564080" cy="363600"/>
          </a:xfrm>
          <a:custGeom>
            <a:avLst/>
            <a:gdLst/>
            <a:ahLst/>
            <a:rect l="l" t="t" r="r" b="b"/>
            <a:pathLst>
              <a:path w="12680" h="1012">
                <a:moveTo>
                  <a:pt x="0" y="0"/>
                </a:moveTo>
                <a:cubicBezTo>
                  <a:pt x="0" y="253"/>
                  <a:pt x="528" y="506"/>
                  <a:pt x="1056" y="506"/>
                </a:cubicBezTo>
                <a:lnTo>
                  <a:pt x="5282" y="506"/>
                </a:lnTo>
                <a:cubicBezTo>
                  <a:pt x="5811" y="506"/>
                  <a:pt x="6339" y="759"/>
                  <a:pt x="6339" y="1011"/>
                </a:cubicBezTo>
                <a:cubicBezTo>
                  <a:pt x="6339" y="759"/>
                  <a:pt x="6867" y="506"/>
                  <a:pt x="7396" y="506"/>
                </a:cubicBezTo>
                <a:lnTo>
                  <a:pt x="11622" y="506"/>
                </a:lnTo>
                <a:cubicBezTo>
                  <a:pt x="12150" y="506"/>
                  <a:pt x="12679" y="253"/>
                  <a:pt x="12679" y="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86480" y="3882960"/>
            <a:ext cx="2111400" cy="363600"/>
          </a:xfrm>
          <a:custGeom>
            <a:avLst/>
            <a:gdLst/>
            <a:ahLst/>
            <a:rect l="l" t="t" r="r" b="b"/>
            <a:pathLst>
              <a:path w="5863" h="1012">
                <a:moveTo>
                  <a:pt x="0" y="0"/>
                </a:moveTo>
                <a:cubicBezTo>
                  <a:pt x="0" y="253"/>
                  <a:pt x="244" y="506"/>
                  <a:pt x="488" y="506"/>
                </a:cubicBezTo>
                <a:lnTo>
                  <a:pt x="2442" y="506"/>
                </a:lnTo>
                <a:cubicBezTo>
                  <a:pt x="2686" y="506"/>
                  <a:pt x="2931" y="759"/>
                  <a:pt x="2931" y="1011"/>
                </a:cubicBezTo>
                <a:cubicBezTo>
                  <a:pt x="2931" y="759"/>
                  <a:pt x="3175" y="506"/>
                  <a:pt x="3419" y="506"/>
                </a:cubicBezTo>
                <a:lnTo>
                  <a:pt x="5373" y="506"/>
                </a:lnTo>
                <a:cubicBezTo>
                  <a:pt x="5617" y="506"/>
                  <a:pt x="5862" y="253"/>
                  <a:pt x="5862" y="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53200" y="4341960"/>
            <a:ext cx="259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Non esiste la luce di taglio ma possono verificarsi plasticizzazion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87280" y="4824360"/>
                <a:ext cx="2289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604800" y="4341960"/>
            <a:ext cx="445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ondizione di equilibrio alla rotazion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00480" y="4738680"/>
                <a:ext cx="25448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q</m:t>
                            </m:r>
                          </m:e>
                        </m:rad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59120" y="5676840"/>
                <a:ext cx="2111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 flipH="1" flipV="1" rot="16200000">
            <a:off x="2863800" y="5034240"/>
            <a:ext cx="239760" cy="382320"/>
          </a:xfrm>
          <a:prstGeom prst="upArrow">
            <a:avLst>
              <a:gd name="adj1" fmla="val 50000"/>
              <a:gd name="adj2" fmla="val 39865"/>
            </a:avLst>
          </a:prstGeom>
          <a:solidFill>
            <a:srgbClr val="ffff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128680" y="1459080"/>
            <a:ext cx="330480" cy="822240"/>
          </a:xfrm>
          <a:custGeom>
            <a:avLst/>
            <a:gdLst>
              <a:gd name="textAreaLeft" fmla="*/ 44280 w 330480"/>
              <a:gd name="textAreaRight" fmla="*/ 286200 w 330480"/>
              <a:gd name="textAreaTop" fmla="*/ 144000 h 822240"/>
              <a:gd name="textAreaBottom" fmla="*/ 596520 h 82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9800" y="1589040"/>
            <a:ext cx="46368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643080" y="1459080"/>
            <a:ext cx="330120" cy="822240"/>
          </a:xfrm>
          <a:custGeom>
            <a:avLst/>
            <a:gdLst>
              <a:gd name="textAreaLeft" fmla="*/ 43920 w 330120"/>
              <a:gd name="textAreaRight" fmla="*/ 286200 w 330120"/>
              <a:gd name="textAreaTop" fmla="*/ 143640 h 822240"/>
              <a:gd name="textAreaBottom" fmla="*/ 596160 h 82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43760" y="1589040"/>
            <a:ext cx="463680" cy="406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Limiti di Normativa: D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8520" y="1004760"/>
                <a:ext cx="51339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3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68360" y="2178000"/>
                <a:ext cx="1649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2247840" y="2347920"/>
            <a:ext cx="637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Rotazione rispetto alla corda per </a:t>
            </a:r>
            <a:r>
              <a:rPr b="0" i="1" lang="it-IT" sz="2000" spc="-1" strike="noStrike">
                <a:solidFill>
                  <a:srgbClr val="ffff66"/>
                </a:solidFill>
                <a:latin typeface="Tahoma"/>
              </a:rPr>
              <a:t>M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=</a:t>
            </a:r>
            <a:r>
              <a:rPr b="0" i="1" lang="it-IT" sz="2000" spc="-1" strike="noStrike">
                <a:solidFill>
                  <a:srgbClr val="ffff66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73360" y="3506760"/>
            <a:ext cx="5332320" cy="3069720"/>
            <a:chOff x="1773360" y="3506760"/>
            <a:chExt cx="5332320" cy="3069720"/>
          </a:xfrm>
        </p:grpSpPr>
        <p:sp>
          <p:nvSpPr>
            <p:cNvPr id="256" name=""/>
            <p:cNvSpPr/>
            <p:nvPr/>
          </p:nvSpPr>
          <p:spPr>
            <a:xfrm>
              <a:off x="2730600" y="4438800"/>
              <a:ext cx="312480" cy="47520"/>
            </a:xfrm>
            <a:custGeom>
              <a:avLst/>
              <a:gdLst/>
              <a:ahLst/>
              <a:rect l="l" t="t" r="r" b="b"/>
              <a:pathLst>
                <a:path w="393" h="59">
                  <a:moveTo>
                    <a:pt x="0" y="0"/>
                  </a:moveTo>
                  <a:lnTo>
                    <a:pt x="0" y="57"/>
                  </a:lnTo>
                  <a:lnTo>
                    <a:pt x="393" y="59"/>
                  </a:lnTo>
                  <a:lnTo>
                    <a:pt x="39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8040" y="4336920"/>
              <a:ext cx="1800" cy="15624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387320" y="4359240"/>
              <a:ext cx="597240" cy="1550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65760" y="4336920"/>
              <a:ext cx="1800" cy="15624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65760" y="4336920"/>
              <a:ext cx="46836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944520" y="4349880"/>
              <a:ext cx="784440" cy="144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48040" y="496260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30600" y="5746680"/>
              <a:ext cx="312480" cy="46080"/>
            </a:xfrm>
            <a:custGeom>
              <a:avLst/>
              <a:gdLst/>
              <a:ahLst/>
              <a:rect l="l" t="t" r="r" b="b"/>
              <a:pathLst>
                <a:path w="393" h="59">
                  <a:moveTo>
                    <a:pt x="0" y="0"/>
                  </a:moveTo>
                  <a:lnTo>
                    <a:pt x="0" y="58"/>
                  </a:lnTo>
                  <a:lnTo>
                    <a:pt x="393" y="59"/>
                  </a:lnTo>
                  <a:lnTo>
                    <a:pt x="39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00520" y="4160880"/>
              <a:ext cx="342720" cy="290520"/>
            </a:xfrm>
            <a:custGeom>
              <a:avLst/>
              <a:gdLst/>
              <a:ahLst/>
              <a:rect l="l" t="t" r="r" b="b"/>
              <a:pathLst>
                <a:path w="430" h="430">
                  <a:moveTo>
                    <a:pt x="0" y="430"/>
                  </a:moveTo>
                  <a:lnTo>
                    <a:pt x="174" y="0"/>
                  </a:lnTo>
                  <a:lnTo>
                    <a:pt x="430" y="0"/>
                  </a:lnTo>
                </a:path>
              </a:pathLst>
            </a:custGeom>
            <a:noFill/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4040" y="5759280"/>
              <a:ext cx="349200" cy="366840"/>
            </a:xfrm>
            <a:custGeom>
              <a:avLst/>
              <a:gdLst/>
              <a:ahLst/>
              <a:rect l="l" t="t" r="r" b="b"/>
              <a:pathLst>
                <a:path w="438" h="464">
                  <a:moveTo>
                    <a:pt x="0" y="0"/>
                  </a:moveTo>
                  <a:lnTo>
                    <a:pt x="177" y="464"/>
                  </a:lnTo>
                  <a:lnTo>
                    <a:pt x="438" y="464"/>
                  </a:lnTo>
                </a:path>
              </a:pathLst>
            </a:custGeom>
            <a:noFill/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006960" y="4425840"/>
              <a:ext cx="635040" cy="77760"/>
              <a:chOff x="6006960" y="4425840"/>
              <a:chExt cx="635040" cy="77760"/>
            </a:xfrm>
          </p:grpSpPr>
          <p:sp>
            <p:nvSpPr>
              <p:cNvPr id="267" name=""/>
              <p:cNvSpPr/>
              <p:nvPr/>
            </p:nvSpPr>
            <p:spPr>
              <a:xfrm>
                <a:off x="6006960" y="4465800"/>
                <a:ext cx="55728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562800" y="44258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9" y="48"/>
                    </a:lnTo>
                    <a:lnTo>
                      <a:pt x="0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006960" y="4579920"/>
              <a:ext cx="635040" cy="77760"/>
              <a:chOff x="6006960" y="4579920"/>
              <a:chExt cx="635040" cy="77760"/>
            </a:xfrm>
          </p:grpSpPr>
          <p:sp>
            <p:nvSpPr>
              <p:cNvPr id="270" name=""/>
              <p:cNvSpPr/>
              <p:nvPr/>
            </p:nvSpPr>
            <p:spPr>
              <a:xfrm>
                <a:off x="6006960" y="4618080"/>
                <a:ext cx="55728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62800" y="457992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98"/>
                    </a:moveTo>
                    <a:lnTo>
                      <a:pt x="99" y="48"/>
                    </a:lnTo>
                    <a:lnTo>
                      <a:pt x="0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138640" y="5738760"/>
              <a:ext cx="631440" cy="77760"/>
              <a:chOff x="5138640" y="5738760"/>
              <a:chExt cx="631440" cy="7776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5213160" y="5778360"/>
                <a:ext cx="55692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138640" y="573876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98" y="0"/>
                    </a:moveTo>
                    <a:lnTo>
                      <a:pt x="0" y="49"/>
                    </a:lnTo>
                    <a:lnTo>
                      <a:pt x="98" y="9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329080" y="5816520"/>
              <a:ext cx="395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9560" y="581652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341440" y="4956120"/>
              <a:ext cx="3969000" cy="11160"/>
              <a:chOff x="2341440" y="4956120"/>
              <a:chExt cx="3969000" cy="11160"/>
            </a:xfrm>
          </p:grpSpPr>
          <p:sp>
            <p:nvSpPr>
              <p:cNvPr id="278" name=""/>
              <p:cNvSpPr/>
              <p:nvPr/>
            </p:nvSpPr>
            <p:spPr>
              <a:xfrm>
                <a:off x="2341440" y="495612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70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1920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9552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7184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70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4960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2556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01880" y="495612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70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87964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5596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3228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70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1004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8600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6232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4008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640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92360" y="495612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7012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4644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2276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052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76840" y="495612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52800" y="495612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3056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0688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8320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6096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3692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324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9100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6732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43280" y="495612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21400" y="495612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9736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368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5144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2776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03720" y="495612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8148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5780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412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1188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8784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6416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64192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1824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94200" y="495612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72320" y="495612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4828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24600" y="49561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0236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78680" y="495612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5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7" y="12"/>
                    </a:lnTo>
                    <a:lnTo>
                      <a:pt x="69" y="7"/>
                    </a:lnTo>
                    <a:lnTo>
                      <a:pt x="67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54640" y="4956120"/>
                <a:ext cx="55800" cy="1116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7" y="0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6" y="12"/>
                    </a:lnTo>
                    <a:lnTo>
                      <a:pt x="69" y="7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776920" y="4344840"/>
              <a:ext cx="339840" cy="615960"/>
            </a:xfrm>
            <a:custGeom>
              <a:avLst/>
              <a:gdLst/>
              <a:ahLst/>
              <a:rect l="l" t="t" r="r" b="b"/>
              <a:pathLst>
                <a:path w="427" h="776">
                  <a:moveTo>
                    <a:pt x="427" y="0"/>
                  </a:moveTo>
                  <a:lnTo>
                    <a:pt x="424" y="50"/>
                  </a:lnTo>
                  <a:lnTo>
                    <a:pt x="420" y="100"/>
                  </a:lnTo>
                  <a:lnTo>
                    <a:pt x="414" y="149"/>
                  </a:lnTo>
                  <a:lnTo>
                    <a:pt x="411" y="174"/>
                  </a:lnTo>
                  <a:lnTo>
                    <a:pt x="406" y="201"/>
                  </a:lnTo>
                  <a:lnTo>
                    <a:pt x="404" y="216"/>
                  </a:lnTo>
                  <a:lnTo>
                    <a:pt x="403" y="232"/>
                  </a:lnTo>
                  <a:lnTo>
                    <a:pt x="398" y="265"/>
                  </a:lnTo>
                  <a:lnTo>
                    <a:pt x="392" y="300"/>
                  </a:lnTo>
                  <a:lnTo>
                    <a:pt x="390" y="315"/>
                  </a:lnTo>
                  <a:lnTo>
                    <a:pt x="386" y="329"/>
                  </a:lnTo>
                  <a:lnTo>
                    <a:pt x="383" y="342"/>
                  </a:lnTo>
                  <a:lnTo>
                    <a:pt x="381" y="354"/>
                  </a:lnTo>
                  <a:lnTo>
                    <a:pt x="375" y="376"/>
                  </a:lnTo>
                  <a:lnTo>
                    <a:pt x="367" y="397"/>
                  </a:lnTo>
                  <a:lnTo>
                    <a:pt x="359" y="420"/>
                  </a:lnTo>
                  <a:lnTo>
                    <a:pt x="348" y="447"/>
                  </a:lnTo>
                  <a:lnTo>
                    <a:pt x="337" y="475"/>
                  </a:lnTo>
                  <a:lnTo>
                    <a:pt x="325" y="503"/>
                  </a:lnTo>
                  <a:lnTo>
                    <a:pt x="312" y="530"/>
                  </a:lnTo>
                  <a:lnTo>
                    <a:pt x="297" y="556"/>
                  </a:lnTo>
                  <a:lnTo>
                    <a:pt x="282" y="583"/>
                  </a:lnTo>
                  <a:lnTo>
                    <a:pt x="266" y="607"/>
                  </a:lnTo>
                  <a:lnTo>
                    <a:pt x="251" y="630"/>
                  </a:lnTo>
                  <a:lnTo>
                    <a:pt x="237" y="651"/>
                  </a:lnTo>
                  <a:lnTo>
                    <a:pt x="224" y="670"/>
                  </a:lnTo>
                  <a:lnTo>
                    <a:pt x="210" y="687"/>
                  </a:lnTo>
                  <a:lnTo>
                    <a:pt x="197" y="702"/>
                  </a:lnTo>
                  <a:lnTo>
                    <a:pt x="180" y="719"/>
                  </a:lnTo>
                  <a:lnTo>
                    <a:pt x="163" y="734"/>
                  </a:lnTo>
                  <a:lnTo>
                    <a:pt x="145" y="747"/>
                  </a:lnTo>
                  <a:lnTo>
                    <a:pt x="137" y="753"/>
                  </a:lnTo>
                  <a:lnTo>
                    <a:pt x="129" y="758"/>
                  </a:lnTo>
                  <a:lnTo>
                    <a:pt x="122" y="761"/>
                  </a:lnTo>
                  <a:lnTo>
                    <a:pt x="115" y="763"/>
                  </a:lnTo>
                  <a:lnTo>
                    <a:pt x="101" y="766"/>
                  </a:lnTo>
                  <a:lnTo>
                    <a:pt x="88" y="767"/>
                  </a:lnTo>
                  <a:lnTo>
                    <a:pt x="75" y="768"/>
                  </a:lnTo>
                  <a:lnTo>
                    <a:pt x="70" y="768"/>
                  </a:lnTo>
                  <a:lnTo>
                    <a:pt x="64" y="768"/>
                  </a:lnTo>
                  <a:lnTo>
                    <a:pt x="57" y="767"/>
                  </a:lnTo>
                  <a:lnTo>
                    <a:pt x="49" y="766"/>
                  </a:lnTo>
                  <a:lnTo>
                    <a:pt x="33" y="762"/>
                  </a:lnTo>
                  <a:lnTo>
                    <a:pt x="17" y="760"/>
                  </a:lnTo>
                  <a:lnTo>
                    <a:pt x="10" y="759"/>
                  </a:lnTo>
                  <a:lnTo>
                    <a:pt x="5" y="759"/>
                  </a:lnTo>
                  <a:lnTo>
                    <a:pt x="1" y="760"/>
                  </a:lnTo>
                  <a:lnTo>
                    <a:pt x="0" y="761"/>
                  </a:lnTo>
                  <a:lnTo>
                    <a:pt x="1" y="762"/>
                  </a:lnTo>
                  <a:lnTo>
                    <a:pt x="4" y="766"/>
                  </a:lnTo>
                  <a:lnTo>
                    <a:pt x="10" y="770"/>
                  </a:lnTo>
                  <a:lnTo>
                    <a:pt x="20" y="776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22440" y="4340160"/>
              <a:ext cx="914400" cy="62856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6760" y="3873600"/>
              <a:ext cx="1117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438280" y="3822840"/>
              <a:ext cx="0" cy="1396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352680" y="3822840"/>
              <a:ext cx="0" cy="1396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87760" y="3506760"/>
              <a:ext cx="4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71880" y="4241880"/>
              <a:ext cx="0" cy="1752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095560" y="5892840"/>
              <a:ext cx="164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95560" y="5765760"/>
              <a:ext cx="164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095560" y="4356000"/>
              <a:ext cx="164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98560" y="4827600"/>
              <a:ext cx="2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73360" y="562752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13080" y="4343400"/>
              <a:ext cx="939600" cy="156204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95720" y="5881680"/>
              <a:ext cx="46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Tahoma"/>
                </a:rPr>
                <a:t>A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8320" y="3951360"/>
              <a:ext cx="46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Tahoma"/>
                </a:rPr>
                <a:t>A’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21320" y="4027320"/>
              <a:ext cx="50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N’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62880" y="4471920"/>
              <a:ext cx="4428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Tahoma"/>
                </a:rPr>
                <a:t>N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4241880"/>
              <a:ext cx="0" cy="825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038120" y="4952880"/>
              <a:ext cx="1652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038120" y="4356000"/>
              <a:ext cx="1652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92600" y="4421160"/>
              <a:ext cx="3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03880" y="5830920"/>
              <a:ext cx="4428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Tahoma"/>
                </a:rPr>
                <a:t>N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60720" y="5765760"/>
              <a:ext cx="22734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446720" y="4343400"/>
              <a:ext cx="0" cy="157464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056200" y="4343400"/>
              <a:ext cx="0" cy="157464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284800" y="4343400"/>
              <a:ext cx="0" cy="157464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62440" y="4356000"/>
              <a:ext cx="228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94160" y="5892840"/>
              <a:ext cx="3538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57760" y="3913200"/>
              <a:ext cx="50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 baseline="-25000">
                  <a:solidFill>
                    <a:srgbClr val="ffff66"/>
                  </a:solidFill>
                  <a:latin typeface="Tahoma"/>
                </a:rPr>
                <a:t>c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38640" y="3913200"/>
              <a:ext cx="50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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cu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92560" y="3925800"/>
              <a:ext cx="506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</a:t>
              </a:r>
              <a:r>
                <a:rPr b="0" lang="it-IT" sz="2000" spc="-1" strike="noStrike" baseline="-25000">
                  <a:solidFill>
                    <a:srgbClr val="ffff66"/>
                  </a:solidFill>
                  <a:latin typeface="Tahoma"/>
                </a:rPr>
                <a:t>yd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a perretti</dc:creator>
  <dc:description/>
  <dc:language>en-US</dc:language>
  <cp:lastModifiedBy>\\</cp:lastModifiedBy>
  <dcterms:modified xsi:type="dcterms:W3CDTF">2007-06-05T09:53:18Z</dcterms:modified>
  <cp:revision>510</cp:revision>
  <dc:subject>-</dc:subject>
  <dc:title>-</dc:title>
</cp:coreProperties>
</file>