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613-8F60-48A2-9266-8F483567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504-F9DB-417D-B309-07B413F3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C3F-2499-413E-9148-0D85287D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120-4863-48BC-B07E-F67B8976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42A-0B31-4453-97AD-74E1F559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5C3-5731-48B4-9BB9-0A31DE14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52D-C0D2-4745-B9DD-98A9965D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BD3-8A1F-47D1-A268-B9B45619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58C-AA0A-48C1-B783-AAEBCC4B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99E-A3AE-4BFB-9A1E-5D15EABE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E24-B5C7-43BD-ACF2-5A5C6B0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24D-A629-45A6-9267-0103915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7814-3C45-4E9A-B4D8-FC2B39B73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403200"/>
          <a:ext cx="8064360" cy="63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3200"/>
                    <a:ext cx="80643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8:06:08Z</dcterms:created>
  <dc:creator>Fabbrizio</dc:creator>
  <dc:description/>
  <dc:language>en-US</dc:language>
  <cp:lastModifiedBy>Administrator</cp:lastModifiedBy>
  <dcterms:modified xsi:type="dcterms:W3CDTF">2007-05-08T06:52:31Z</dcterms:modified>
  <cp:revision>2</cp:revision>
  <dc:subject/>
  <dc:title>Presentazione di PowerPoint</dc:title>
</cp:coreProperties>
</file>