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0A4-F858-42BD-92BF-0C82FBD7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D2D-F659-4156-9A3B-3F36D6B0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9AF-F392-4EAE-A4A8-EC0636D1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3DB8-B701-458C-9A79-E2FEB955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C70-1B11-41AB-B381-8452CA70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5FE-D86E-4307-9467-E29CF989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C2C-E922-42FB-9CB8-2C7260C5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5832-5CCB-496A-92F9-6F98E96B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502920"/>
            <a:ext cx="777240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938-5085-4967-A308-35515D62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BB1-2D13-47B7-A3D5-A15317FF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653-8BD7-45F3-A71C-527D66DA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331-7F33-4E5E-A7FA-8870D43C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2A7B-2311-47EE-80AD-5AEF3BA6D0C1}" type="slidenum">
              <a:rPr b="0" lang="en-US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1080" y="1437840"/>
            <a:ext cx="8040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Verifica di edifici esistenti mediante analisi lineare con forze non ridott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511280" y="4857840"/>
            <a:ext cx="61182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atania, 22 maggio 2007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doardo Marin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alori di m per le trav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28680" y="1689120"/>
          <a:ext cx="8477280" cy="4854600"/>
        </p:xfrm>
        <a:graphic>
          <a:graphicData uri="http://schemas.openxmlformats.org/drawingml/2006/table">
            <a:tbl>
              <a:tblPr/>
              <a:tblGrid>
                <a:gridCol w="1412640"/>
                <a:gridCol w="1413000"/>
                <a:gridCol w="1413000"/>
                <a:gridCol w="1412640"/>
                <a:gridCol w="1413000"/>
                <a:gridCol w="1413000"/>
              </a:tblGrid>
              <a:tr h="588960">
                <a:tc gridSpan="3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uttilità attesa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760"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Arm. Trasv.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0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5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N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0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5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011320" y="2306520"/>
                <a:ext cx="733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ρ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3618000" y="247644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rmature longitudinal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18000" y="3063960"/>
            <a:ext cx="523692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1720" indent="-801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Symbol"/>
                <a:ea typeface="Symbol"/>
              </a:rPr>
              <a:t>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=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percentuale di armatura tes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801720" indent="-801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Symbol"/>
                <a:ea typeface="Symbol"/>
              </a:rPr>
              <a:t>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’ 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=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percentuale di armatura compress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801720" indent="-801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Symbol"/>
                <a:ea typeface="Symbol"/>
              </a:rPr>
              <a:t>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bal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 =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percentuale di armature tesa di riferiment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alori di m per le trav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28680" y="1689120"/>
          <a:ext cx="8477280" cy="4854600"/>
        </p:xfrm>
        <a:graphic>
          <a:graphicData uri="http://schemas.openxmlformats.org/drawingml/2006/table">
            <a:tbl>
              <a:tblPr/>
              <a:tblGrid>
                <a:gridCol w="1412640"/>
                <a:gridCol w="1413000"/>
                <a:gridCol w="1413000"/>
                <a:gridCol w="1412640"/>
                <a:gridCol w="1413000"/>
                <a:gridCol w="1413000"/>
              </a:tblGrid>
              <a:tr h="588960">
                <a:tc gridSpan="3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uttilità attesa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760"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Arm. Trasv.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0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5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N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0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5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411360" y="2314440"/>
                <a:ext cx="10544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d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011320" y="2306520"/>
                <a:ext cx="733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ρ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4648320" y="2505240"/>
            <a:ext cx="38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asso di lavoro della sezione a tagli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alori di m per le trav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28680" y="1689120"/>
          <a:ext cx="8477280" cy="4854600"/>
        </p:xfrm>
        <a:graphic>
          <a:graphicData uri="http://schemas.openxmlformats.org/drawingml/2006/table">
            <a:tbl>
              <a:tblPr/>
              <a:tblGrid>
                <a:gridCol w="1412640"/>
                <a:gridCol w="1413000"/>
                <a:gridCol w="1413000"/>
                <a:gridCol w="1412640"/>
                <a:gridCol w="1413000"/>
                <a:gridCol w="1413000"/>
              </a:tblGrid>
              <a:tr h="588960">
                <a:tc gridSpan="3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uttilità attesa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Stato limite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760"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Arm. Trasv.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IO (DL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LS (DS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P (CO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0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5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N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0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1.2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5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1.2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411360" y="2314440"/>
                <a:ext cx="10544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d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011320" y="2306520"/>
                <a:ext cx="733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ρ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alori di m per le trav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28680" y="1689120"/>
          <a:ext cx="8477280" cy="4854600"/>
        </p:xfrm>
        <a:graphic>
          <a:graphicData uri="http://schemas.openxmlformats.org/drawingml/2006/table">
            <a:tbl>
              <a:tblPr/>
              <a:tblGrid>
                <a:gridCol w="1412640"/>
                <a:gridCol w="1413000"/>
                <a:gridCol w="1413000"/>
                <a:gridCol w="1412640"/>
                <a:gridCol w="1413000"/>
                <a:gridCol w="1413000"/>
              </a:tblGrid>
              <a:tr h="588960">
                <a:tc gridSpan="3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uttilità attesa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Stato limite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760"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Arm. Trasv.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IO (DL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LS (DS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P (CO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&lt; 0.0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5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N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0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1.2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5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1.2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411360" y="2314440"/>
                <a:ext cx="10544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d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011320" y="2306520"/>
                <a:ext cx="733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ρ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alori di m per i pilastr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28680" y="1689120"/>
          <a:ext cx="8477280" cy="4854600"/>
        </p:xfrm>
        <a:graphic>
          <a:graphicData uri="http://schemas.openxmlformats.org/drawingml/2006/table">
            <a:tbl>
              <a:tblPr/>
              <a:tblGrid>
                <a:gridCol w="1412640"/>
                <a:gridCol w="1413000"/>
                <a:gridCol w="1413000"/>
                <a:gridCol w="1412640"/>
                <a:gridCol w="1413000"/>
                <a:gridCol w="1413000"/>
              </a:tblGrid>
              <a:tr h="588960">
                <a:tc gridSpan="3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uttilità attesa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760"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Arm. Trasv.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rowSpan="4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rowSpan="4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N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2003400" y="3419640"/>
            <a:ext cx="668016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Conform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Passo delle staffe minore di d/3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Le staffe portano almeno il 75% di </a:t>
            </a:r>
            <a:r>
              <a:rPr b="0" i="1" lang="it-IT" sz="2400" spc="-1" strike="noStrike">
                <a:solidFill>
                  <a:srgbClr val="ffff66"/>
                </a:solidFill>
                <a:latin typeface="Comic Sans MS"/>
              </a:rPr>
              <a:t>V</a:t>
            </a:r>
            <a:r>
              <a:rPr b="0" i="1" lang="it-IT" sz="2400" spc="-1" strike="noStrike" baseline="-25000">
                <a:solidFill>
                  <a:srgbClr val="ffff66"/>
                </a:solidFill>
                <a:latin typeface="Comic Sans MS"/>
              </a:rPr>
              <a:t>Sd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03400" y="2438280"/>
            <a:ext cx="70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rmatura trasversale nella zona della cerniera plastic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03400" y="5214960"/>
            <a:ext cx="6680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Non Conform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tutti gli altri cas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alori di m per i pilastr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8680" y="1689120"/>
          <a:ext cx="8477280" cy="4854600"/>
        </p:xfrm>
        <a:graphic>
          <a:graphicData uri="http://schemas.openxmlformats.org/drawingml/2006/table">
            <a:tbl>
              <a:tblPr/>
              <a:tblGrid>
                <a:gridCol w="1412640"/>
                <a:gridCol w="1413000"/>
                <a:gridCol w="1413000"/>
                <a:gridCol w="1412640"/>
                <a:gridCol w="1413000"/>
                <a:gridCol w="1413000"/>
              </a:tblGrid>
              <a:tr h="588960">
                <a:tc gridSpan="3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uttilità attesa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760"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Arm. Trasv.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rowSpan="4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1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4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rowSpan="4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N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1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4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122560" y="2363760"/>
                <a:ext cx="6649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3529080" y="2505240"/>
            <a:ext cx="49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asso di lavoro della sezione a compression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29080" y="3559320"/>
            <a:ext cx="494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N.B. se il tasso di lavoro della sezione a compressione il pilastro deve essere considerato fragil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alori di m per i pilastr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8680" y="1689120"/>
          <a:ext cx="8477280" cy="4854600"/>
        </p:xfrm>
        <a:graphic>
          <a:graphicData uri="http://schemas.openxmlformats.org/drawingml/2006/table">
            <a:tbl>
              <a:tblPr/>
              <a:tblGrid>
                <a:gridCol w="1412640"/>
                <a:gridCol w="1413000"/>
                <a:gridCol w="1413000"/>
                <a:gridCol w="1412640"/>
                <a:gridCol w="1413000"/>
                <a:gridCol w="1413000"/>
              </a:tblGrid>
              <a:tr h="588960">
                <a:tc gridSpan="3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uttilità attesa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760"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Arm. Trasv.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rowSpan="4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1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4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rowSpan="4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N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1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4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411360" y="2325600"/>
                <a:ext cx="10544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d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122560" y="2363760"/>
                <a:ext cx="6649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648320" y="2505240"/>
            <a:ext cx="38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asso di lavoro della sezione a tagli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alori di m per i pilastr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28680" y="1689120"/>
          <a:ext cx="8477280" cy="4854600"/>
        </p:xfrm>
        <a:graphic>
          <a:graphicData uri="http://schemas.openxmlformats.org/drawingml/2006/table">
            <a:tbl>
              <a:tblPr/>
              <a:tblGrid>
                <a:gridCol w="1412640"/>
                <a:gridCol w="1413000"/>
                <a:gridCol w="1413000"/>
                <a:gridCol w="1412640"/>
                <a:gridCol w="1413000"/>
                <a:gridCol w="1413000"/>
              </a:tblGrid>
              <a:tr h="588960">
                <a:tc gridSpan="3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uttilità attesa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Stato limite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760"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Arm. Trasv.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IO (DL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LS (DS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P (CO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rowSpan="4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 rowSpan="2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&lt; 0.10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.4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.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4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1.2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1.2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1.6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.4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rowSpan="4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N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0.1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1.6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.4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0.4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lt; 3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1.2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1.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&gt; 6.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1.2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1.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1.75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411360" y="2325600"/>
                <a:ext cx="10544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d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122560" y="2363760"/>
                <a:ext cx="6649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Quando è possibile applicare l’analisi lineare secondo il FEMA 356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997360" y="4402080"/>
                <a:ext cx="31492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d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30120" y="21906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empre nel caso di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Comic Sans MS"/>
              </a:rPr>
              <a:t>strutture regolar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0120" y="342900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olo quando è atteso un impegno plastico molto modesto nel caso di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Comic Sans MS"/>
              </a:rPr>
              <a:t>strutture irregolar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2560" y="285228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’ANALISI LINEARE CON FORZE NON RIDOTTE SECONDO L’OPCM 343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nalisi lineare con forze non ridott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611440"/>
            <a:ext cx="7924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è il metodo consigliato dalla normativa sismica italiana (OPCM 3431)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l’analisi con fattore di struttura q può essere utilizzata in alternativa e solo per la verifica di alcuni stati limite</a:t>
            </a:r>
            <a:endParaRPr b="0" lang="en-US" sz="1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spcBef>
                <a:spcPts val="225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è l’unico metodo lineare applicabile secondo il FEMA 356 (linee guida per il recupero degli edifici esistenti elaborate dalla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ederal Emergency Management Agency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927080"/>
            <a:ext cx="77724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Nella verifica sismica di edifici esistenti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1800" y="502920"/>
            <a:ext cx="8390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me si applica il metodo dell’OPCM 3431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174600" y="47671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Spettro elastico per lo stato limite DL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99880" y="5516640"/>
                <a:ext cx="26208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243160" y="6518160"/>
                <a:ext cx="19836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9" name=""/>
          <p:cNvGrpSpPr/>
          <p:nvPr/>
        </p:nvGrpSpPr>
        <p:grpSpPr>
          <a:xfrm>
            <a:off x="636480" y="5446800"/>
            <a:ext cx="1808280" cy="1023840"/>
            <a:chOff x="636480" y="5446800"/>
            <a:chExt cx="1808280" cy="1023840"/>
          </a:xfrm>
        </p:grpSpPr>
        <p:sp>
          <p:nvSpPr>
            <p:cNvPr id="260" name=""/>
            <p:cNvSpPr/>
            <p:nvPr/>
          </p:nvSpPr>
          <p:spPr>
            <a:xfrm>
              <a:off x="636480" y="5446800"/>
              <a:ext cx="0" cy="10238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6480" y="6470640"/>
              <a:ext cx="18082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36480" y="6114600"/>
            <a:ext cx="1808280" cy="250920"/>
            <a:chOff x="636480" y="6114600"/>
            <a:chExt cx="1808280" cy="250920"/>
          </a:xfrm>
        </p:grpSpPr>
        <p:sp>
          <p:nvSpPr>
            <p:cNvPr id="263" name=""/>
            <p:cNvSpPr/>
            <p:nvPr/>
          </p:nvSpPr>
          <p:spPr>
            <a:xfrm flipV="1">
              <a:off x="636480" y="6288120"/>
              <a:ext cx="19080" cy="2700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55560" y="6261840"/>
              <a:ext cx="17640" cy="262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73200" y="6234840"/>
              <a:ext cx="17280" cy="2700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90480" y="6208560"/>
              <a:ext cx="19080" cy="262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09560" y="6181200"/>
              <a:ext cx="17640" cy="2700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27200" y="6154200"/>
              <a:ext cx="17280" cy="2700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44480" y="6127200"/>
              <a:ext cx="19080" cy="2700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63560" y="6114600"/>
              <a:ext cx="9720" cy="1260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3280" y="6114960"/>
              <a:ext cx="792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81200" y="6114960"/>
              <a:ext cx="172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8480" y="6114960"/>
              <a:ext cx="190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7560" y="6114960"/>
              <a:ext cx="1764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35200" y="6114960"/>
              <a:ext cx="1872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53920" y="6114960"/>
              <a:ext cx="1764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71560" y="6114960"/>
              <a:ext cx="190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90640" y="6114960"/>
              <a:ext cx="172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7920" y="6114960"/>
              <a:ext cx="190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27000" y="6114960"/>
              <a:ext cx="1764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44640" y="6114960"/>
              <a:ext cx="172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61920" y="6114960"/>
              <a:ext cx="190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81000" y="6114960"/>
              <a:ext cx="1764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98640" y="6114960"/>
              <a:ext cx="172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15920" y="6114960"/>
              <a:ext cx="190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35000" y="6114960"/>
              <a:ext cx="1764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52640" y="6114960"/>
              <a:ext cx="172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69920" y="6114960"/>
              <a:ext cx="190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89000" y="6114960"/>
              <a:ext cx="17640" cy="1260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06640" y="6127560"/>
              <a:ext cx="18720" cy="1152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25360" y="6139440"/>
              <a:ext cx="17640" cy="111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43000" y="6150600"/>
              <a:ext cx="19080" cy="104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62080" y="6161040"/>
              <a:ext cx="17280" cy="93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79360" y="6170400"/>
              <a:ext cx="17640" cy="86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97000" y="6179400"/>
              <a:ext cx="19080" cy="86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16080" y="6188040"/>
              <a:ext cx="17280" cy="75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33360" y="6195960"/>
              <a:ext cx="17640" cy="75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51000" y="6203520"/>
              <a:ext cx="19080" cy="68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70080" y="6210360"/>
              <a:ext cx="17280" cy="612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87360" y="6216840"/>
              <a:ext cx="17640" cy="64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05000" y="6223320"/>
              <a:ext cx="19080" cy="57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4080" y="6229080"/>
              <a:ext cx="17280" cy="57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6235200"/>
              <a:ext cx="19080" cy="50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60440" y="6240600"/>
              <a:ext cx="17640" cy="50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78080" y="6245640"/>
              <a:ext cx="17280" cy="46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95360" y="6250320"/>
              <a:ext cx="19080" cy="432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14440" y="6255000"/>
              <a:ext cx="17640" cy="39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32080" y="6259320"/>
              <a:ext cx="18720" cy="432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50800" y="6264000"/>
              <a:ext cx="1764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68440" y="6267600"/>
              <a:ext cx="17640" cy="39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86080" y="6271560"/>
              <a:ext cx="1872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04800" y="6275160"/>
              <a:ext cx="17640" cy="39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22440" y="6279120"/>
              <a:ext cx="19080" cy="28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41520" y="6282000"/>
              <a:ext cx="1728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58800" y="6285600"/>
              <a:ext cx="17640" cy="28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76440" y="6288480"/>
              <a:ext cx="19080" cy="28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95520" y="6291360"/>
              <a:ext cx="1728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12800" y="6294960"/>
              <a:ext cx="19080" cy="21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31880" y="6297480"/>
              <a:ext cx="17640" cy="28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49520" y="6300360"/>
              <a:ext cx="17280" cy="28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66800" y="6303240"/>
              <a:ext cx="19080" cy="14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85880" y="6305040"/>
              <a:ext cx="17640" cy="28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03520" y="6307920"/>
              <a:ext cx="19080" cy="21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22600" y="6310440"/>
              <a:ext cx="17280" cy="21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39880" y="6312600"/>
              <a:ext cx="17640" cy="14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57520" y="6314400"/>
              <a:ext cx="18720" cy="21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76240" y="6316560"/>
              <a:ext cx="17640" cy="14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93880" y="6318360"/>
              <a:ext cx="17280" cy="21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11160" y="6320880"/>
              <a:ext cx="19080" cy="14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30240" y="6322680"/>
              <a:ext cx="17640" cy="21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47880" y="6324840"/>
              <a:ext cx="17280" cy="14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65160" y="6326640"/>
              <a:ext cx="19080" cy="14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84240" y="6328440"/>
              <a:ext cx="17640" cy="14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1880" y="6330240"/>
              <a:ext cx="19080" cy="180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20960" y="6332040"/>
              <a:ext cx="17280" cy="14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38240" y="6333840"/>
              <a:ext cx="19080" cy="1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57320" y="6334920"/>
              <a:ext cx="17640" cy="14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74960" y="6336720"/>
              <a:ext cx="17280" cy="1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92240" y="6337800"/>
              <a:ext cx="19080" cy="14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11320" y="6339600"/>
              <a:ext cx="17640" cy="1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28960" y="6340680"/>
              <a:ext cx="17280" cy="1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46240" y="6342120"/>
              <a:ext cx="19080" cy="14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65320" y="6343560"/>
              <a:ext cx="17640" cy="1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82960" y="6345000"/>
              <a:ext cx="17280" cy="14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00240" y="6346800"/>
              <a:ext cx="19080" cy="1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19320" y="6347880"/>
              <a:ext cx="17280" cy="1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6600" y="6348960"/>
              <a:ext cx="19080" cy="72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55680" y="6350040"/>
              <a:ext cx="17640" cy="1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173320" y="6351120"/>
              <a:ext cx="19080" cy="1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92400" y="6352560"/>
              <a:ext cx="17280" cy="1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09680" y="6353640"/>
              <a:ext cx="17640" cy="3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27320" y="6354360"/>
              <a:ext cx="19080" cy="1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46400" y="6355440"/>
              <a:ext cx="17280" cy="1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63680" y="6356520"/>
              <a:ext cx="19080" cy="1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82760" y="6357960"/>
              <a:ext cx="17640" cy="3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00400" y="6358320"/>
              <a:ext cx="17280" cy="1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17680" y="6359400"/>
              <a:ext cx="19080" cy="1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36760" y="6360840"/>
              <a:ext cx="17640" cy="3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54400" y="6361200"/>
              <a:ext cx="17280" cy="1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71680" y="6362640"/>
              <a:ext cx="19080" cy="1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90760" y="6363720"/>
              <a:ext cx="17640" cy="3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08400" y="6364080"/>
              <a:ext cx="17280" cy="3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25680" y="6364800"/>
              <a:ext cx="19080" cy="72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20840" y="2924280"/>
            <a:ext cx="1915920" cy="1547640"/>
            <a:chOff x="420840" y="2924280"/>
            <a:chExt cx="1915920" cy="1547640"/>
          </a:xfrm>
        </p:grpSpPr>
        <p:sp>
          <p:nvSpPr>
            <p:cNvPr id="365" name=""/>
            <p:cNvSpPr/>
            <p:nvPr/>
          </p:nvSpPr>
          <p:spPr>
            <a:xfrm>
              <a:off x="569880" y="2924280"/>
              <a:ext cx="0" cy="1547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9880" y="2924280"/>
              <a:ext cx="161856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9880" y="3309840"/>
              <a:ext cx="161856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9880" y="3695400"/>
              <a:ext cx="161856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9880" y="4081320"/>
              <a:ext cx="161856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0840" y="4466880"/>
              <a:ext cx="191592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09520" y="2924280"/>
              <a:ext cx="0" cy="1547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49160" y="2924280"/>
              <a:ext cx="0" cy="1547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88800" y="2924280"/>
              <a:ext cx="0" cy="1547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74600" y="2532240"/>
            <a:ext cx="346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Struttura da verificare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4040" y="1574640"/>
            <a:ext cx="81741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er la verifica allo stato limite di danno limitato (DL)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89240" y="2827440"/>
            <a:ext cx="34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alisi elastica linear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618160" y="480384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Risposta struttural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18160" y="5305320"/>
            <a:ext cx="344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Comic Sans MS"/>
              </a:rPr>
              <a:t>Spostamenti d’interpiano devono essere inferiori ai limiti di normativa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89240" y="3351240"/>
            <a:ext cx="346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nalisi static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nalisi modal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52760" y="4630680"/>
            <a:ext cx="1865520" cy="895320"/>
          </a:xfrm>
          <a:custGeom>
            <a:avLst/>
            <a:gdLst>
              <a:gd name="textAreaLeft" fmla="*/ 232920 w 1865520"/>
              <a:gd name="textAreaRight" fmla="*/ 1632600 w 18655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1800" y="502920"/>
            <a:ext cx="8390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me si applica il metodo dell’OPCM 3431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174600" y="47671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Spettro elastico per lo stato limite DS o CO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99880" y="5516640"/>
                <a:ext cx="26208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243160" y="6518160"/>
                <a:ext cx="19836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5" name=""/>
          <p:cNvGrpSpPr/>
          <p:nvPr/>
        </p:nvGrpSpPr>
        <p:grpSpPr>
          <a:xfrm>
            <a:off x="636480" y="5446800"/>
            <a:ext cx="1808280" cy="1023840"/>
            <a:chOff x="636480" y="5446800"/>
            <a:chExt cx="1808280" cy="1023840"/>
          </a:xfrm>
        </p:grpSpPr>
        <p:sp>
          <p:nvSpPr>
            <p:cNvPr id="386" name=""/>
            <p:cNvSpPr/>
            <p:nvPr/>
          </p:nvSpPr>
          <p:spPr>
            <a:xfrm>
              <a:off x="636480" y="5446800"/>
              <a:ext cx="0" cy="102384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6480" y="6470640"/>
              <a:ext cx="1808280" cy="0"/>
            </a:xfrm>
            <a:prstGeom prst="line">
              <a:avLst/>
            </a:prstGeom>
            <a:ln w="0">
              <a:solidFill>
                <a:srgbClr val="fff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36480" y="5508360"/>
            <a:ext cx="1808280" cy="723960"/>
            <a:chOff x="636480" y="5508360"/>
            <a:chExt cx="1808280" cy="723960"/>
          </a:xfrm>
        </p:grpSpPr>
        <p:sp>
          <p:nvSpPr>
            <p:cNvPr id="389" name=""/>
            <p:cNvSpPr/>
            <p:nvPr/>
          </p:nvSpPr>
          <p:spPr>
            <a:xfrm flipV="1">
              <a:off x="636480" y="6009120"/>
              <a:ext cx="19080" cy="777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55560" y="5932800"/>
              <a:ext cx="17640" cy="759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73200" y="5855400"/>
              <a:ext cx="17280" cy="777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90480" y="5779080"/>
              <a:ext cx="19080" cy="759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709560" y="5701680"/>
              <a:ext cx="17640" cy="777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727200" y="5623560"/>
              <a:ext cx="17280" cy="777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744480" y="5545800"/>
              <a:ext cx="19080" cy="777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63560" y="5508360"/>
              <a:ext cx="9720" cy="37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3280" y="5508720"/>
              <a:ext cx="792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1200" y="5508720"/>
              <a:ext cx="172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8480" y="5508720"/>
              <a:ext cx="190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7560" y="5508720"/>
              <a:ext cx="1764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5200" y="5508720"/>
              <a:ext cx="1872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53920" y="5508720"/>
              <a:ext cx="1764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1560" y="5508720"/>
              <a:ext cx="190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90640" y="5508720"/>
              <a:ext cx="172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07920" y="5508720"/>
              <a:ext cx="190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27000" y="5508720"/>
              <a:ext cx="1764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44640" y="5508720"/>
              <a:ext cx="172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61920" y="5508720"/>
              <a:ext cx="190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1000" y="5508720"/>
              <a:ext cx="1764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98640" y="5508720"/>
              <a:ext cx="172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15920" y="5508720"/>
              <a:ext cx="190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035000" y="5508720"/>
              <a:ext cx="1764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52640" y="5508720"/>
              <a:ext cx="172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69920" y="5508720"/>
              <a:ext cx="1908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89000" y="5508720"/>
              <a:ext cx="17640" cy="37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06640" y="5545800"/>
              <a:ext cx="18720" cy="334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25360" y="5579640"/>
              <a:ext cx="17640" cy="320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43000" y="5611680"/>
              <a:ext cx="19080" cy="30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62080" y="5641920"/>
              <a:ext cx="17280" cy="2700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79360" y="5669280"/>
              <a:ext cx="17640" cy="2520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97000" y="5694480"/>
              <a:ext cx="19080" cy="2520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16080" y="5720040"/>
              <a:ext cx="17280" cy="219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33360" y="5742000"/>
              <a:ext cx="17640" cy="2160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51000" y="5763960"/>
              <a:ext cx="19080" cy="201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70080" y="5784480"/>
              <a:ext cx="17280" cy="183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87360" y="5802840"/>
              <a:ext cx="17640" cy="1872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305000" y="5821560"/>
              <a:ext cx="19080" cy="165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24080" y="5838480"/>
              <a:ext cx="17280" cy="165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41360" y="5855400"/>
              <a:ext cx="19080" cy="1512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60440" y="5870880"/>
              <a:ext cx="17640" cy="147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78080" y="5885640"/>
              <a:ext cx="17280" cy="136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95360" y="5899320"/>
              <a:ext cx="19080" cy="1332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14440" y="5913000"/>
              <a:ext cx="17640" cy="118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32080" y="5924880"/>
              <a:ext cx="18720" cy="1332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50800" y="5938200"/>
              <a:ext cx="17640" cy="10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68440" y="5948640"/>
              <a:ext cx="17640" cy="111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486080" y="5960160"/>
              <a:ext cx="18720" cy="10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04800" y="5970600"/>
              <a:ext cx="17640" cy="118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22440" y="5982480"/>
              <a:ext cx="19080" cy="82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41520" y="5990760"/>
              <a:ext cx="17280" cy="972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58800" y="6000840"/>
              <a:ext cx="17640" cy="82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76440" y="6009120"/>
              <a:ext cx="19080" cy="82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595520" y="6017760"/>
              <a:ext cx="17280" cy="100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612800" y="6027840"/>
              <a:ext cx="19080" cy="68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31880" y="6035040"/>
              <a:ext cx="17640" cy="82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49520" y="6043320"/>
              <a:ext cx="17280" cy="82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66800" y="6051960"/>
              <a:ext cx="19080" cy="46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85880" y="6056640"/>
              <a:ext cx="17640" cy="82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03520" y="6065280"/>
              <a:ext cx="19080" cy="68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22600" y="6072120"/>
              <a:ext cx="17280" cy="64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39880" y="6078600"/>
              <a:ext cx="17640" cy="46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57520" y="6083640"/>
              <a:ext cx="18720" cy="68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76240" y="6090480"/>
              <a:ext cx="17640" cy="46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93880" y="6095520"/>
              <a:ext cx="17280" cy="68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11160" y="6102360"/>
              <a:ext cx="19080" cy="46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30240" y="6107400"/>
              <a:ext cx="17640" cy="68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47880" y="6114240"/>
              <a:ext cx="17280" cy="46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65160" y="6119280"/>
              <a:ext cx="19080" cy="46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84240" y="6124320"/>
              <a:ext cx="17640" cy="46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01880" y="6129360"/>
              <a:ext cx="19080" cy="50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20960" y="6134760"/>
              <a:ext cx="17280" cy="46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938240" y="6139800"/>
              <a:ext cx="1908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957320" y="6143040"/>
              <a:ext cx="17640" cy="46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74960" y="6148080"/>
              <a:ext cx="1728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92240" y="6151680"/>
              <a:ext cx="19080" cy="46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11320" y="6156360"/>
              <a:ext cx="1764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028960" y="6159960"/>
              <a:ext cx="1728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46240" y="6163560"/>
              <a:ext cx="19080" cy="46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065320" y="6168240"/>
              <a:ext cx="1764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82960" y="6171840"/>
              <a:ext cx="17280" cy="46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100240" y="6176880"/>
              <a:ext cx="1908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119320" y="6180480"/>
              <a:ext cx="1728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136600" y="6183720"/>
              <a:ext cx="19080" cy="28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55680" y="6186960"/>
              <a:ext cx="1764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73320" y="6190200"/>
              <a:ext cx="1908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92400" y="6193800"/>
              <a:ext cx="1728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09680" y="6197040"/>
              <a:ext cx="17640" cy="14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27320" y="6198840"/>
              <a:ext cx="1908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46400" y="6202080"/>
              <a:ext cx="1728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63680" y="6205680"/>
              <a:ext cx="1908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82760" y="6208920"/>
              <a:ext cx="17640" cy="14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00400" y="6210720"/>
              <a:ext cx="1728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17680" y="6213960"/>
              <a:ext cx="1908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36760" y="6217560"/>
              <a:ext cx="17640" cy="14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354400" y="6219000"/>
              <a:ext cx="1728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71680" y="6222600"/>
              <a:ext cx="19080" cy="32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90760" y="6225840"/>
              <a:ext cx="17640" cy="144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408400" y="6227640"/>
              <a:ext cx="17280" cy="180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25680" y="6229440"/>
              <a:ext cx="19080" cy="28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20840" y="2924280"/>
            <a:ext cx="1915920" cy="1547640"/>
            <a:chOff x="420840" y="2924280"/>
            <a:chExt cx="1915920" cy="1547640"/>
          </a:xfrm>
        </p:grpSpPr>
        <p:sp>
          <p:nvSpPr>
            <p:cNvPr id="491" name=""/>
            <p:cNvSpPr/>
            <p:nvPr/>
          </p:nvSpPr>
          <p:spPr>
            <a:xfrm>
              <a:off x="569880" y="2924280"/>
              <a:ext cx="0" cy="1547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9880" y="2924280"/>
              <a:ext cx="161856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9880" y="3309840"/>
              <a:ext cx="161856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69880" y="3695400"/>
              <a:ext cx="161856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69880" y="4081320"/>
              <a:ext cx="161856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0840" y="4466880"/>
              <a:ext cx="191592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09520" y="2924280"/>
              <a:ext cx="0" cy="1547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49160" y="2924280"/>
              <a:ext cx="0" cy="1547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188800" y="2924280"/>
              <a:ext cx="0" cy="1547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174600" y="2532240"/>
            <a:ext cx="346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Struttura da verificare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4040" y="1574640"/>
            <a:ext cx="8859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1. Per le verifiche agli stato limite di danno severo (DS) e di collasso (CO), si valuta la risposta sismica della struttura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89240" y="2827440"/>
            <a:ext cx="34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alisi elastica linear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618160" y="480384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Risposta struttural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618160" y="5305320"/>
            <a:ext cx="3448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66"/>
                </a:solidFill>
                <a:latin typeface="Comic Sans MS"/>
              </a:rPr>
              <a:t>N</a:t>
            </a:r>
            <a:r>
              <a:rPr b="0" lang="it-IT" sz="2200" spc="-1" strike="noStrike" baseline="-25000">
                <a:solidFill>
                  <a:srgbClr val="ffff66"/>
                </a:solidFill>
                <a:latin typeface="Comic Sans MS"/>
              </a:rPr>
              <a:t>Sd</a:t>
            </a:r>
            <a:r>
              <a:rPr b="0" lang="it-IT" sz="2200" spc="-1" strike="noStrike">
                <a:solidFill>
                  <a:srgbClr val="ffff66"/>
                </a:solidFill>
                <a:latin typeface="Comic Sans MS"/>
              </a:rPr>
              <a:t>, V</a:t>
            </a:r>
            <a:r>
              <a:rPr b="0" lang="it-IT" sz="2200" spc="-1" strike="noStrike" baseline="-25000">
                <a:solidFill>
                  <a:srgbClr val="ffff66"/>
                </a:solidFill>
                <a:latin typeface="Comic Sans MS"/>
              </a:rPr>
              <a:t>Sd</a:t>
            </a:r>
            <a:r>
              <a:rPr b="0" lang="it-IT" sz="2200" spc="-1" strike="noStrike">
                <a:solidFill>
                  <a:srgbClr val="ffff66"/>
                </a:solidFill>
                <a:latin typeface="Comic Sans MS"/>
              </a:rPr>
              <a:t>, M</a:t>
            </a:r>
            <a:r>
              <a:rPr b="0" lang="it-IT" sz="2200" spc="-1" strike="noStrike" baseline="-25000">
                <a:solidFill>
                  <a:srgbClr val="ffff66"/>
                </a:solidFill>
                <a:latin typeface="Comic Sans MS"/>
              </a:rPr>
              <a:t>Sd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189240" y="3351240"/>
            <a:ext cx="346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nalisi static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nalisi modal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52760" y="4630680"/>
            <a:ext cx="1865520" cy="895320"/>
          </a:xfrm>
          <a:custGeom>
            <a:avLst/>
            <a:gdLst>
              <a:gd name="textAreaLeft" fmla="*/ 232920 w 1865520"/>
              <a:gd name="textAreaRight" fmla="*/ 1632600 w 18655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61800" y="502920"/>
            <a:ext cx="8390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me si applica il metodo dell’OPCM 3431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284040" y="1574640"/>
            <a:ext cx="8859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2. Si controlla che il calcolo lineare sia accettabile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4040" y="2109960"/>
            <a:ext cx="834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er tutti gli elementi/meccanismi duttili si calcola il rapporto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tra domanda e capacità (DCR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133800" y="3251160"/>
                <a:ext cx="22921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 flipH="1">
            <a:off x="3206880" y="4268880"/>
            <a:ext cx="558720" cy="2030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5440" y="3968640"/>
            <a:ext cx="316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Resistenza calcolata con le caratteristiche medie dei material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64320" y="4071960"/>
            <a:ext cx="331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Fattore di confidenza pari a 1.00 o 1.20 o 1.35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67160" y="4202280"/>
            <a:ext cx="559080" cy="2030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738680" y="3160800"/>
            <a:ext cx="558720" cy="2030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83360" y="2951280"/>
            <a:ext cx="30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ollecitazion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4040" y="50958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sclusi i valori di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&lt; 2, deve essere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656160" y="5584680"/>
                <a:ext cx="181260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61800" y="502920"/>
            <a:ext cx="8390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me si applica il metodo dell’OPCM 3431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>
            <a:off x="284040" y="1574640"/>
            <a:ext cx="8859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2. Si controlla che il calcolo lineare sia accettabile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4040" y="2109960"/>
            <a:ext cx="83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er tutti gli elementi/meccanismi fragili deve esser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2979720" y="3521160"/>
                <a:ext cx="2357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sub>
                    </m:sSub>
                    <m:r>
                      <m:t xml:space="preserve">≤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>
            <a:off x="4292640" y="4103640"/>
            <a:ext cx="558720" cy="2034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083120" y="4067280"/>
            <a:ext cx="498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Resistenza calcolata con le caratteristiche medie dei materiali diviso i coefficienti di sicurezza parzial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99000" y="2905200"/>
            <a:ext cx="33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Fattore di confidenza pari a 1.00 o 1.20 o 1.35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35400" y="3327480"/>
            <a:ext cx="558720" cy="2030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5146200" y="3327480"/>
            <a:ext cx="559080" cy="2030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03040" y="2951280"/>
            <a:ext cx="30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ollecitazion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4040" y="5361120"/>
            <a:ext cx="81676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V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Sd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 =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sollecitazione massima calcolata tenendo conto della plasticizzazione degli elementi duttili e/o l’attivazione dei meccanismi duttil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Calcolo di V</a:t>
            </a:r>
            <a:r>
              <a:rPr b="0" lang="it-IT" sz="3200" spc="-1" strike="noStrike" baseline="-25000">
                <a:solidFill>
                  <a:srgbClr val="ffff00"/>
                </a:solidFill>
                <a:latin typeface="Comic Sans MS"/>
              </a:rPr>
              <a:t>Sd</a:t>
            </a: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 per un pilastr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1204920" y="2155680"/>
            <a:ext cx="0" cy="180180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998280" y="1866960"/>
            <a:ext cx="447480" cy="44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14" y="814"/>
                </a:moveTo>
                <a:arcTo wR="10800" hR="10800" stAng="-4056528" swAng="14233268"/>
                <a:lnTo>
                  <a:pt x="10800" y="10800"/>
                </a:lnTo>
                <a:close/>
              </a:path>
              <a:path fill="none" w="21600" h="21600">
                <a:moveTo>
                  <a:pt x="14914" y="814"/>
                </a:moveTo>
                <a:arcTo wR="10800" hR="10800" stAng="-4056528" swAng="14233268"/>
              </a:path>
            </a:pathLst>
          </a:custGeom>
          <a:noFill/>
          <a:ln w="9360">
            <a:solidFill>
              <a:srgbClr val="ffff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955080" y="3757320"/>
            <a:ext cx="44748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02" y="1391"/>
                </a:moveTo>
                <a:arcTo wR="10800" hR="10800" stAng="-3636019" swAng="13812759"/>
                <a:lnTo>
                  <a:pt x="10800" y="10800"/>
                </a:lnTo>
                <a:close/>
              </a:path>
              <a:path fill="none" w="21600" h="21600">
                <a:moveTo>
                  <a:pt x="16102" y="1391"/>
                </a:moveTo>
                <a:arcTo wR="10800" hR="10800" stAng="-3636019" swAng="13812759"/>
              </a:path>
            </a:pathLst>
          </a:custGeom>
          <a:noFill/>
          <a:ln w="9360">
            <a:solidFill>
              <a:srgbClr val="ffff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73320" y="154944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Comic Sans MS"/>
              </a:rPr>
              <a:t>Sd1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4360" y="405936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Comic Sans MS"/>
              </a:rPr>
              <a:t>Sd2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41320" y="2220840"/>
            <a:ext cx="7002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840960" y="3908520"/>
            <a:ext cx="7002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165320" y="350820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V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Sd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2880" y="221148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V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Sd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056040" y="1589040"/>
                <a:ext cx="17888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den>
                        </m:f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592600" y="1579680"/>
                <a:ext cx="19051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den>
                        </m:f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2066760" y="1714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35520" y="1714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66760" y="2386080"/>
            <a:ext cx="6959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00"/>
                </a:solidFill>
                <a:latin typeface="Comic Sans MS"/>
              </a:rPr>
              <a:t>V</a:t>
            </a:r>
            <a:r>
              <a:rPr b="0" lang="it-IT" sz="2000" spc="-1" strike="noStrike" baseline="-25000">
                <a:solidFill>
                  <a:srgbClr val="00ff00"/>
                </a:solidFill>
                <a:latin typeface="Comic Sans MS"/>
              </a:rPr>
              <a:t>Sd</a:t>
            </a:r>
            <a:r>
              <a:rPr b="0" lang="it-IT" sz="2000" spc="-1" strike="noStrike">
                <a:solidFill>
                  <a:srgbClr val="00ff00"/>
                </a:solidFill>
                <a:latin typeface="Comic Sans MS"/>
              </a:rPr>
              <a:t> = taglio derivante dall’analisi elastica della struttura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056040" y="3070080"/>
                <a:ext cx="17888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den>
                        </m:f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5592600" y="3060720"/>
                <a:ext cx="19051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den>
                        </m:f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2066760" y="3195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35520" y="3195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989600" y="3981600"/>
            <a:ext cx="41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dall’equilibrio in condizioni limite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2227320" y="3870360"/>
                <a:ext cx="26668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444600" y="2052720"/>
            <a:ext cx="0" cy="785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6880" y="2155680"/>
            <a:ext cx="243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6880" y="3957480"/>
            <a:ext cx="243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49120" y="2840040"/>
            <a:ext cx="4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44600" y="3246480"/>
            <a:ext cx="0" cy="844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6080" y="5173560"/>
            <a:ext cx="8578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4960" indent="-2874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M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Sd1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, M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Sd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, V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Sd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ed N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Sd 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=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sollecitazioni ottenute dall’analisi elastica della struttur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192320" y="4051440"/>
            <a:ext cx="0" cy="699840"/>
          </a:xfrm>
          <a:prstGeom prst="line">
            <a:avLst/>
          </a:prstGeom>
          <a:ln w="9360">
            <a:solidFill>
              <a:srgbClr val="ffff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098720" y="429264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N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Sd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92320" y="1353960"/>
            <a:ext cx="0" cy="700200"/>
          </a:xfrm>
          <a:prstGeom prst="line">
            <a:avLst/>
          </a:prstGeom>
          <a:ln w="9360">
            <a:solidFill>
              <a:srgbClr val="ffff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6400" y="139536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N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Sd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6080" y="5959440"/>
            <a:ext cx="8578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0640" indent="-1790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Comic Sans MS"/>
              </a:rPr>
              <a:t>Rm1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ed 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Comic Sans MS"/>
              </a:rPr>
              <a:t>Rm2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=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momenti resistenti delle due sezioni d’estremità ridotti per effetto dello sforzo normal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61800" y="502920"/>
            <a:ext cx="8390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me si applica il metodo dell’OPCM 3431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284040" y="1574640"/>
            <a:ext cx="8859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3. Si eseguono le verifiche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4040" y="4319640"/>
            <a:ext cx="83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lementi/meccanismi duttil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4040" y="2673360"/>
            <a:ext cx="834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a domanda non deve superare la corrispondente capacità in termini di resistenza (OPCM3431 punto 11.2.6)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4040" y="4824360"/>
            <a:ext cx="834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a domanda non deve superare la corrispondente capacità in termini di deformazione (OPCM3431 punto 11.2.6)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4040" y="5637240"/>
            <a:ext cx="83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uanto vale la capacità in termini di deformazione??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84040" y="2230560"/>
            <a:ext cx="83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lementi/meccanismi fragil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4040" y="3478320"/>
            <a:ext cx="83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Certamente verificato se l’analisi è applicabil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ossibile interpretazion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434880" y="1590840"/>
            <a:ext cx="839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 l’analisi lineare è applicabile la struttura è verificata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34880" y="3046320"/>
            <a:ext cx="844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1.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er gli elementi duttili primari con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≥ 2, il rispetto della condizione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654360" y="3713040"/>
                <a:ext cx="18129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434880" y="4910040"/>
            <a:ext cx="844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garantisce una buona diffusione delle plasticizzazioni nella struttura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ossibile interpretazion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6" name=""/>
          <p:cNvSpPr/>
          <p:nvPr/>
        </p:nvSpPr>
        <p:spPr>
          <a:xfrm>
            <a:off x="434880" y="1590840"/>
            <a:ext cx="839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 l’analisi lineare è applicabile la struttura è verificata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34880" y="3046320"/>
            <a:ext cx="844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2. 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Supponendo che </a:t>
            </a:r>
            <a:r>
              <a:rPr b="0" lang="it-IT" sz="2400" spc="-1" strike="noStrike">
                <a:solidFill>
                  <a:srgbClr val="ffff66"/>
                </a:solidFill>
                <a:latin typeface="Symbol"/>
                <a:ea typeface="Symbol"/>
              </a:rPr>
              <a:t>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min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 = 2 si ricava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017880" y="3983040"/>
                <a:ext cx="30859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434880" y="4910040"/>
            <a:ext cx="844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he rappresenta un limite superiore del rapporto domanda/capacità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31920" y="502920"/>
            <a:ext cx="84643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nsiderazioni ed interrogativi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ul metodo dell’OPCM 343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357120" y="4879800"/>
            <a:ext cx="844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Perché fare un’analisi lineare con forze non ridotte anziché l’analisi lineare con fattore di struttura utilizzata per gli edifici di nuova costruzione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7120" y="2043000"/>
            <a:ext cx="8445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l limite superiore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= 5 è indipendente dallo stato limite considerato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7120" y="4010040"/>
            <a:ext cx="8445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Il limite superiore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= 5 è indipendente dalla duttilità delle sezioni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57120" y="2909880"/>
            <a:ext cx="84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Perché fare la verifica dell’edificio per più stati limite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2560" y="285228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razie dell’attenzion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560" y="285228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’ANALISI LINEARE CON FORZE NON RIDOTTE SECONDO IL FEMA 35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1800" y="502920"/>
            <a:ext cx="8390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me si applica il metodo del FEMA 356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74600" y="2532240"/>
            <a:ext cx="3462480" cy="4216320"/>
            <a:chOff x="174600" y="2532240"/>
            <a:chExt cx="3462480" cy="4216320"/>
          </a:xfrm>
        </p:grpSpPr>
        <p:sp>
          <p:nvSpPr>
            <p:cNvPr id="49" name=""/>
            <p:cNvSpPr/>
            <p:nvPr/>
          </p:nvSpPr>
          <p:spPr>
            <a:xfrm>
              <a:off x="174600" y="4767120"/>
              <a:ext cx="278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Comic Sans MS"/>
                </a:rPr>
                <a:t>Spettro elastico per lo stato limite considerato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99880" y="5446800"/>
              <a:ext cx="2144880" cy="1301760"/>
              <a:chOff x="299880" y="5446800"/>
              <a:chExt cx="2144880" cy="1301760"/>
            </a:xfrm>
          </p:grpSpPr>
          <mc:AlternateContent>
            <mc:Choice xmlns:a14="http://schemas.microsoft.com/office/drawing/2010/main" Requires="a14">
              <p:sp>
                <p:nvSpPr>
                  <p:cNvPr id="51" name=""/>
                  <p:cNvSpPr txBox="1"/>
                  <p:nvPr/>
                </p:nvSpPr>
                <p:spPr>
                  <a:xfrm>
                    <a:off x="299880" y="5516640"/>
                    <a:ext cx="262080" cy="277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" name=""/>
                  <p:cNvSpPr txBox="1"/>
                  <p:nvPr/>
                </p:nvSpPr>
                <p:spPr>
                  <a:xfrm>
                    <a:off x="2243160" y="6518160"/>
                    <a:ext cx="198360" cy="230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" name=""/>
              <p:cNvGrpSpPr/>
              <p:nvPr/>
            </p:nvGrpSpPr>
            <p:grpSpPr>
              <a:xfrm>
                <a:off x="636480" y="5446800"/>
                <a:ext cx="1808280" cy="1023480"/>
                <a:chOff x="636480" y="5446800"/>
                <a:chExt cx="1808280" cy="10234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36480" y="5446800"/>
                  <a:ext cx="360" cy="102312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36480" y="6469920"/>
                  <a:ext cx="1808280" cy="360"/>
                </a:xfrm>
                <a:prstGeom prst="line">
                  <a:avLst/>
                </a:prstGeom>
                <a:ln w="0">
                  <a:solidFill>
                    <a:srgbClr val="ffff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636480" y="6034320"/>
                  <a:ext cx="18360" cy="723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V="1">
                  <a:off x="654840" y="5962320"/>
                  <a:ext cx="17640" cy="7164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V="1">
                  <a:off x="672480" y="5889600"/>
                  <a:ext cx="18360" cy="723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690840" y="5817240"/>
                  <a:ext cx="17640" cy="723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flipV="1">
                  <a:off x="708840" y="5744520"/>
                  <a:ext cx="18360" cy="723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V="1">
                  <a:off x="727200" y="5671800"/>
                  <a:ext cx="17640" cy="723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V="1">
                  <a:off x="744840" y="5599080"/>
                  <a:ext cx="18360" cy="723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flipV="1">
                  <a:off x="763560" y="5563080"/>
                  <a:ext cx="8640" cy="3564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72560" y="5563440"/>
                  <a:ext cx="8640" cy="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81200" y="5563440"/>
                  <a:ext cx="17640" cy="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99200" y="5563440"/>
                  <a:ext cx="18360" cy="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17560" y="5563440"/>
                  <a:ext cx="17640" cy="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835200" y="5563440"/>
                  <a:ext cx="18360" cy="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53560" y="5563440"/>
                  <a:ext cx="17640" cy="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71560" y="5563440"/>
                  <a:ext cx="18360" cy="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89920" y="5563440"/>
                  <a:ext cx="17640" cy="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07560" y="5563440"/>
                  <a:ext cx="18360" cy="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926280" y="5563440"/>
                  <a:ext cx="17640" cy="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943920" y="5563440"/>
                  <a:ext cx="18360" cy="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962280" y="5563440"/>
                  <a:ext cx="17640" cy="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979920" y="5563440"/>
                  <a:ext cx="17640" cy="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997920" y="5563440"/>
                  <a:ext cx="18360" cy="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016280" y="5563440"/>
                  <a:ext cx="18360" cy="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034640" y="5563440"/>
                  <a:ext cx="17640" cy="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052640" y="5563440"/>
                  <a:ext cx="17640" cy="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070280" y="5563440"/>
                  <a:ext cx="18360" cy="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088640" y="5563440"/>
                  <a:ext cx="17640" cy="349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106640" y="5598720"/>
                  <a:ext cx="18360" cy="3204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125000" y="5630760"/>
                  <a:ext cx="17640" cy="295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143000" y="5660640"/>
                  <a:ext cx="18360" cy="280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161360" y="5689080"/>
                  <a:ext cx="17640" cy="259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179000" y="5715000"/>
                  <a:ext cx="17640" cy="241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196640" y="5739480"/>
                  <a:ext cx="18360" cy="2304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215360" y="5762520"/>
                  <a:ext cx="18360" cy="205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233720" y="5783040"/>
                  <a:ext cx="17640" cy="205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251360" y="5803920"/>
                  <a:ext cx="17640" cy="18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269000" y="5823000"/>
                  <a:ext cx="18360" cy="1764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287720" y="5840640"/>
                  <a:ext cx="17640" cy="172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305360" y="5857920"/>
                  <a:ext cx="18360" cy="151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323720" y="5873400"/>
                  <a:ext cx="17640" cy="1584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341720" y="5889600"/>
                  <a:ext cx="18360" cy="136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360080" y="5903280"/>
                  <a:ext cx="17640" cy="1440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378080" y="5917680"/>
                  <a:ext cx="17640" cy="129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395720" y="5930640"/>
                  <a:ext cx="18360" cy="118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414080" y="5942880"/>
                  <a:ext cx="18360" cy="1224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432440" y="5955120"/>
                  <a:ext cx="17640" cy="111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450440" y="5966640"/>
                  <a:ext cx="17640" cy="1044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468080" y="5977440"/>
                  <a:ext cx="18360" cy="1044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486440" y="5988240"/>
                  <a:ext cx="17640" cy="9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504440" y="5997960"/>
                  <a:ext cx="18360" cy="97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522800" y="6008040"/>
                  <a:ext cx="17640" cy="900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540440" y="6017040"/>
                  <a:ext cx="18360" cy="82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559160" y="6025680"/>
                  <a:ext cx="17640" cy="82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576800" y="6033960"/>
                  <a:ext cx="18360" cy="82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595160" y="6042240"/>
                  <a:ext cx="17640" cy="82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13160" y="6050880"/>
                  <a:ext cx="18360" cy="684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631520" y="6057720"/>
                  <a:ext cx="17640" cy="75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649160" y="6065280"/>
                  <a:ext cx="17640" cy="75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667160" y="6072840"/>
                  <a:ext cx="18360" cy="57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685520" y="6078960"/>
                  <a:ext cx="17640" cy="684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703160" y="6085800"/>
                  <a:ext cx="18360" cy="57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721880" y="6091920"/>
                  <a:ext cx="17640" cy="684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739520" y="6099120"/>
                  <a:ext cx="18360" cy="504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757880" y="6104160"/>
                  <a:ext cx="17640" cy="57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775520" y="6110280"/>
                  <a:ext cx="18360" cy="504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794240" y="6115680"/>
                  <a:ext cx="17640" cy="504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811880" y="6121080"/>
                  <a:ext cx="18360" cy="504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830240" y="6126480"/>
                  <a:ext cx="17640" cy="504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847880" y="6131880"/>
                  <a:ext cx="17640" cy="504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865880" y="6137280"/>
                  <a:ext cx="18360" cy="43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884240" y="6141960"/>
                  <a:ext cx="17640" cy="43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02240" y="6146280"/>
                  <a:ext cx="18360" cy="46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920600" y="6150960"/>
                  <a:ext cx="17640" cy="43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938240" y="6155640"/>
                  <a:ext cx="18360" cy="46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956960" y="6160320"/>
                  <a:ext cx="17640" cy="360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974600" y="6163920"/>
                  <a:ext cx="18360" cy="360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992960" y="6167880"/>
                  <a:ext cx="17640" cy="360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010960" y="6171480"/>
                  <a:ext cx="17640" cy="360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028600" y="6175440"/>
                  <a:ext cx="18360" cy="360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046960" y="6179400"/>
                  <a:ext cx="17640" cy="360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064600" y="6183000"/>
                  <a:ext cx="18360" cy="360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083320" y="6186960"/>
                  <a:ext cx="17640" cy="360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100960" y="6190560"/>
                  <a:ext cx="18360" cy="28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119320" y="6193800"/>
                  <a:ext cx="17640" cy="28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137320" y="6196680"/>
                  <a:ext cx="18360" cy="39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155680" y="6200640"/>
                  <a:ext cx="17640" cy="28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73320" y="6203880"/>
                  <a:ext cx="18360" cy="28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92040" y="6206760"/>
                  <a:ext cx="17640" cy="28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09680" y="6209640"/>
                  <a:ext cx="17640" cy="21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227320" y="6212160"/>
                  <a:ext cx="18360" cy="28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246040" y="6215040"/>
                  <a:ext cx="18360" cy="28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264400" y="6218280"/>
                  <a:ext cx="17640" cy="28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282040" y="6221520"/>
                  <a:ext cx="17640" cy="21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300040" y="6223680"/>
                  <a:ext cx="18360" cy="28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18400" y="6226560"/>
                  <a:ext cx="17640" cy="21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36040" y="6229080"/>
                  <a:ext cx="18360" cy="21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54400" y="6231240"/>
                  <a:ext cx="17640" cy="288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372400" y="6234480"/>
                  <a:ext cx="18360" cy="21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390760" y="6236640"/>
                  <a:ext cx="17640" cy="21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408400" y="6238800"/>
                  <a:ext cx="17640" cy="21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6400" y="6241320"/>
                  <a:ext cx="18360" cy="216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420840" y="2924280"/>
              <a:ext cx="1915920" cy="1547640"/>
              <a:chOff x="420840" y="2924280"/>
              <a:chExt cx="1915920" cy="1547640"/>
            </a:xfrm>
          </p:grpSpPr>
          <p:sp>
            <p:nvSpPr>
              <p:cNvPr id="158" name=""/>
              <p:cNvSpPr/>
              <p:nvPr/>
            </p:nvSpPr>
            <p:spPr>
              <a:xfrm>
                <a:off x="569880" y="2924280"/>
                <a:ext cx="0" cy="154764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9880" y="2924280"/>
                <a:ext cx="1618560" cy="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69880" y="3309840"/>
                <a:ext cx="1618560" cy="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69880" y="3695400"/>
                <a:ext cx="1618560" cy="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69880" y="4081320"/>
                <a:ext cx="1618560" cy="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20840" y="4466880"/>
                <a:ext cx="1915920" cy="0"/>
              </a:xfrm>
              <a:prstGeom prst="line">
                <a:avLst/>
              </a:prstGeom>
              <a:ln w="572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09520" y="2924280"/>
                <a:ext cx="0" cy="154764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649160" y="2924280"/>
                <a:ext cx="0" cy="154764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188800" y="2924280"/>
                <a:ext cx="0" cy="154764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174600" y="2532240"/>
              <a:ext cx="34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Comic Sans MS"/>
                </a:rPr>
                <a:t>Struttura da verificare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84040" y="1574640"/>
            <a:ext cx="81741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er ogni stato limite da verificare, si valuta la risposta sismica della struttura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89240" y="2827440"/>
            <a:ext cx="34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nalisi elastica linear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92920" y="458964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Risposta struttural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92920" y="5118120"/>
            <a:ext cx="210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N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Sd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, V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Sd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, M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Sd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89240" y="3351240"/>
            <a:ext cx="346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nalisi static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nalisi modal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52760" y="4630680"/>
            <a:ext cx="2228760" cy="895320"/>
          </a:xfrm>
          <a:custGeom>
            <a:avLst/>
            <a:gdLst>
              <a:gd name="textAreaLeft" fmla="*/ 278640 w 2228760"/>
              <a:gd name="textAreaRight" fmla="*/ 1950480 w 222876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1800" y="502920"/>
            <a:ext cx="8390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me si applica il metodo del FEMA 356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84040" y="1574640"/>
            <a:ext cx="81741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Verifica degli elementi/meccanismi duttili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4040" y="2276640"/>
            <a:ext cx="834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er ogni elemento, si calcola il rapporto tra domanda e capacità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900520" y="3402000"/>
                <a:ext cx="2514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5378400" y="4424400"/>
            <a:ext cx="558720" cy="2030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24520" y="4435560"/>
            <a:ext cx="30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Resistenz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6880" y="4260960"/>
            <a:ext cx="29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Fattore di conoscenza pari a 1.00 o 0.75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494160" y="4324320"/>
            <a:ext cx="558720" cy="2034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4040" y="5361120"/>
            <a:ext cx="83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DCR = Demand Capacity Rati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068800" y="3344760"/>
            <a:ext cx="558720" cy="2034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13480" y="3135240"/>
            <a:ext cx="30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ollecitazion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61800" y="502920"/>
            <a:ext cx="8390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me si applica il metodo del FEMA 356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284040" y="1574640"/>
            <a:ext cx="81741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Verifica degli elementi/meccanismi duttili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4040" y="2276640"/>
            <a:ext cx="83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a verifica (di duttilità) è soddisfatta 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519280" y="3402000"/>
                <a:ext cx="3278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d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84040" y="5361120"/>
            <a:ext cx="83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DCR = Demand Capacity Rati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4040" y="5965920"/>
            <a:ext cx="83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m = massimo valore (&gt; 1) di DCR ammesso dalla norm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61800" y="502920"/>
            <a:ext cx="8390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me si applica il metodo del FEMA 356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284040" y="1574640"/>
            <a:ext cx="81741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3.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Verifica degli elementi/meccanismi fragili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4040" y="2276640"/>
            <a:ext cx="83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a verifica (di resistenza) è soddisfatta 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156120" y="3687840"/>
                <a:ext cx="20048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396040" y="4457880"/>
            <a:ext cx="30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Resistenz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86400" y="294624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Fattore di conoscenza pari a 1.00 o 0.75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556000" y="4159080"/>
            <a:ext cx="558720" cy="2034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430880" y="3429000"/>
            <a:ext cx="304560" cy="36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3800" y="4160880"/>
            <a:ext cx="20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ollecitazion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5071680" y="4278240"/>
            <a:ext cx="304920" cy="3621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4040" y="5361120"/>
            <a:ext cx="8344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V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Sd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 =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sollecitazione massima calcolata tenendo conto della plasticizzazione degli elementi duttil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1800" y="502920"/>
            <a:ext cx="8390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sa cambia rispetto all’analisi con fattore di struttura q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06320" y="2879640"/>
                <a:ext cx="2068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d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475240" y="2876400"/>
                <a:ext cx="232272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239760" y="2041560"/>
            <a:ext cx="83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Verifica degli elementi/meccanismi duttil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35280" y="3079800"/>
            <a:ext cx="1109880" cy="674640"/>
          </a:xfrm>
          <a:custGeom>
            <a:avLst/>
            <a:gdLst>
              <a:gd name="textAreaLeft" fmla="*/ 138600 w 1109880"/>
              <a:gd name="textAreaRight" fmla="*/ 971280 w 1109880"/>
              <a:gd name="textAreaTop" fmla="*/ 168480 h 674640"/>
              <a:gd name="textAreaBottom" fmla="*/ 506160 h 674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040" y="4545000"/>
            <a:ext cx="834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m dipende dalla duttilità disponibile della sezione ed è diverso per ciascuna sezione nel caso di una struttura esistent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alori di m per le trav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28680" y="1689120"/>
          <a:ext cx="8477280" cy="4854600"/>
        </p:xfrm>
        <a:graphic>
          <a:graphicData uri="http://schemas.openxmlformats.org/drawingml/2006/table">
            <a:tbl>
              <a:tblPr/>
              <a:tblGrid>
                <a:gridCol w="1412640"/>
                <a:gridCol w="1413000"/>
                <a:gridCol w="1413000"/>
                <a:gridCol w="1412640"/>
                <a:gridCol w="1413000"/>
                <a:gridCol w="1413000"/>
              </a:tblGrid>
              <a:tr h="588960">
                <a:tc gridSpan="3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uttilità attesa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760"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Arm. Trasv.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rowSpan="4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NC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rowSpan="2"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18000" tIns="54000" bIns="54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2003400" y="3419640"/>
            <a:ext cx="668016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Conform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Passo delle staffe minore di d/3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Le staffe portano almeno il 75% di </a:t>
            </a:r>
            <a:r>
              <a:rPr b="0" i="1" lang="it-IT" sz="2400" spc="-1" strike="noStrike">
                <a:solidFill>
                  <a:srgbClr val="ffff66"/>
                </a:solidFill>
                <a:latin typeface="Comic Sans MS"/>
              </a:rPr>
              <a:t>V</a:t>
            </a:r>
            <a:r>
              <a:rPr b="0" i="1" lang="it-IT" sz="2400" spc="-1" strike="noStrike" baseline="-25000">
                <a:solidFill>
                  <a:srgbClr val="ffff66"/>
                </a:solidFill>
                <a:latin typeface="Comic Sans MS"/>
              </a:rPr>
              <a:t>Sd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03400" y="2438280"/>
            <a:ext cx="70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rmatura trasversale nella zona della cerniera plastic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03400" y="5214960"/>
            <a:ext cx="6680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Non Conform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tutti gli altri cas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7:18:09Z</dcterms:created>
  <dc:creator>Aurelio Ghersi</dc:creator>
  <dc:description/>
  <dc:language>en-US</dc:language>
  <cp:lastModifiedBy>DICA</cp:lastModifiedBy>
  <dcterms:modified xsi:type="dcterms:W3CDTF">2007-05-21T08:35:49Z</dcterms:modified>
  <cp:revision>173</cp:revision>
  <dc:subject>Lezione LabPro 8/3/06</dc:subject>
  <dc:title>Obiettivi della progettazione in zona sismica</dc:title>
</cp:coreProperties>
</file>