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6.wmf" ContentType="image/x-wmf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CBCB-8B27-45DC-AF72-104F3772A64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BED7-FA14-4E12-8FE8-B659E005FE3F}" type="slidenum">
              <a:rPr b="0" lang="it-IT" sz="12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AB65-DFCF-407A-91E5-14D0F4FC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0920" y="3950640"/>
            <a:ext cx="79167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B1A5-6791-42F8-8435-7E01035B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58220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0920" y="395064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95064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0759-1370-4BEF-9C78-6A593331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2548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520" y="1582200"/>
            <a:ext cx="2548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4120" y="1582200"/>
            <a:ext cx="2548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0920" y="3950640"/>
            <a:ext cx="2548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520" y="3950640"/>
            <a:ext cx="2548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4120" y="3950640"/>
            <a:ext cx="2548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BE89-C4C8-480C-AABE-6F1BDBF0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0920" y="1582200"/>
            <a:ext cx="7916760" cy="453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5D0-103A-4D4B-AEFC-1C9AA2BB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DE26-6B79-4215-BED7-3BDEBAA5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38631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582200"/>
            <a:ext cx="38631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BB4-613F-41D6-8E5E-D5958CAC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E33F-9B53-4C04-817B-15A4DE71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0920" y="358920"/>
            <a:ext cx="79167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13A9-C51C-4770-A8C2-A77FF13B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582200"/>
            <a:ext cx="38631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0920" y="395064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D76C-1E6E-4672-B68F-2FE1650E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38631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58220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95064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A180-0E13-418E-9A24-97D6D65E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58220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0920" y="3950640"/>
            <a:ext cx="79167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E2F8-ED74-4FEF-9F16-68286D66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582200"/>
            <a:ext cx="79167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0920" y="6297120"/>
            <a:ext cx="1942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297120"/>
            <a:ext cx="28800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48400" y="6297120"/>
            <a:ext cx="1943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6215-7CF4-4FA2-98B6-384E044F6C7D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612720" y="719280"/>
            <a:ext cx="791676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orso di Tecnica delle costruzioni 2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12720" y="2698920"/>
            <a:ext cx="7916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Fondazioni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12720" y="4497480"/>
            <a:ext cx="791676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14 e 15 giugno 2011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Oggi: strutture</a:t>
            </a:r>
            <a:br>
              <a:rPr sz="2800"/>
            </a:b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verifica allo stato limite ultimo (SLU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10920" y="1582200"/>
            <a:ext cx="7916760" cy="19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er le resistenze: valore di riferimento corrispondente ad una resistenza al di sotto della quale si può scendere solo in casi estremamente rari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(es. nel 0.1% dei casi)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da valore caratteristico a valore di calcolo;</a:t>
            </a:r>
            <a:endParaRPr b="0" lang="en-US" sz="22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5"/>
              <p:cNvSpPr txBox="1"/>
              <p:nvPr/>
            </p:nvSpPr>
            <p:spPr>
              <a:xfrm>
                <a:off x="2757600" y="3392640"/>
                <a:ext cx="99216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CasellaDiTesto 10"/>
          <p:cNvSpPr/>
          <p:nvPr/>
        </p:nvSpPr>
        <p:spPr>
          <a:xfrm>
            <a:off x="4815000" y="3511440"/>
            <a:ext cx="2724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Comic Sans MS"/>
              </a:rPr>
              <a:t>M</a:t>
            </a:r>
            <a:r>
              <a:rPr b="0" lang="en-US" sz="18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Comic Sans MS"/>
              </a:rPr>
              <a:t>coefficiente di sicurezza parzial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582560" y="4317840"/>
            <a:ext cx="3098520" cy="2159640"/>
            <a:chOff x="1582560" y="4317840"/>
            <a:chExt cx="3098520" cy="2159640"/>
          </a:xfrm>
        </p:grpSpPr>
        <p:grpSp>
          <p:nvGrpSpPr>
            <p:cNvPr id="216" name=""/>
            <p:cNvGrpSpPr/>
            <p:nvPr/>
          </p:nvGrpSpPr>
          <p:grpSpPr>
            <a:xfrm>
              <a:off x="2282400" y="4346280"/>
              <a:ext cx="1595160" cy="1563120"/>
              <a:chOff x="2282400" y="4346280"/>
              <a:chExt cx="1595160" cy="1563120"/>
            </a:xfrm>
          </p:grpSpPr>
          <p:sp>
            <p:nvSpPr>
              <p:cNvPr id="217" name=""/>
              <p:cNvSpPr/>
              <p:nvPr/>
            </p:nvSpPr>
            <p:spPr>
              <a:xfrm>
                <a:off x="2282400" y="5908680"/>
                <a:ext cx="79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03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361960" y="5908680"/>
                <a:ext cx="79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03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441880" y="5908680"/>
                <a:ext cx="7956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03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521440" y="5908680"/>
                <a:ext cx="79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03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601000" y="5908680"/>
                <a:ext cx="7956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03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680560" y="5908680"/>
                <a:ext cx="79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03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60480" y="5908680"/>
                <a:ext cx="7956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03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839680" y="5908680"/>
                <a:ext cx="79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03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919600" y="5908680"/>
                <a:ext cx="79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9662" y="0"/>
                    </a:lnTo>
                    <a:lnTo>
                      <a:pt x="19903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999520" y="5901480"/>
                <a:ext cx="81720" cy="7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8182"/>
                    </a:moveTo>
                    <a:lnTo>
                      <a:pt x="9953" y="18182"/>
                    </a:lnTo>
                    <a:lnTo>
                      <a:pt x="14882" y="9091"/>
                    </a:lnTo>
                    <a:lnTo>
                      <a:pt x="19905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80880" y="5863320"/>
                <a:ext cx="79560" cy="38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623"/>
                    </a:moveTo>
                    <a:lnTo>
                      <a:pt x="5049" y="17736"/>
                    </a:lnTo>
                    <a:lnTo>
                      <a:pt x="10194" y="14340"/>
                    </a:lnTo>
                    <a:lnTo>
                      <a:pt x="14854" y="8679"/>
                    </a:lnTo>
                    <a:lnTo>
                      <a:pt x="17670" y="5283"/>
                    </a:lnTo>
                    <a:lnTo>
                      <a:pt x="19903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160080" y="5698080"/>
                <a:ext cx="79920" cy="165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12"/>
                    </a:moveTo>
                    <a:lnTo>
                      <a:pt x="5121" y="16903"/>
                    </a:lnTo>
                    <a:lnTo>
                      <a:pt x="7440" y="14779"/>
                    </a:lnTo>
                    <a:lnTo>
                      <a:pt x="9758" y="13097"/>
                    </a:lnTo>
                    <a:lnTo>
                      <a:pt x="12560" y="10619"/>
                    </a:lnTo>
                    <a:lnTo>
                      <a:pt x="14783" y="7611"/>
                    </a:lnTo>
                    <a:lnTo>
                      <a:pt x="17585" y="4248"/>
                    </a:lnTo>
                    <a:lnTo>
                      <a:pt x="19903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240000" y="5267520"/>
                <a:ext cx="79920" cy="430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6"/>
                    </a:moveTo>
                    <a:lnTo>
                      <a:pt x="2319" y="18194"/>
                    </a:lnTo>
                    <a:lnTo>
                      <a:pt x="5121" y="16082"/>
                    </a:lnTo>
                    <a:lnTo>
                      <a:pt x="7440" y="13799"/>
                    </a:lnTo>
                    <a:lnTo>
                      <a:pt x="9662" y="11210"/>
                    </a:lnTo>
                    <a:lnTo>
                      <a:pt x="12464" y="8620"/>
                    </a:lnTo>
                    <a:lnTo>
                      <a:pt x="14783" y="5860"/>
                    </a:lnTo>
                    <a:lnTo>
                      <a:pt x="19903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319920" y="4657680"/>
                <a:ext cx="79560" cy="610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6"/>
                    </a:moveTo>
                    <a:lnTo>
                      <a:pt x="2233" y="17690"/>
                    </a:lnTo>
                    <a:lnTo>
                      <a:pt x="5049" y="15162"/>
                    </a:lnTo>
                    <a:lnTo>
                      <a:pt x="7379" y="12515"/>
                    </a:lnTo>
                    <a:lnTo>
                      <a:pt x="9709" y="9747"/>
                    </a:lnTo>
                    <a:lnTo>
                      <a:pt x="12524" y="7004"/>
                    </a:lnTo>
                    <a:lnTo>
                      <a:pt x="14854" y="4477"/>
                    </a:lnTo>
                    <a:lnTo>
                      <a:pt x="17573" y="2070"/>
                    </a:lnTo>
                    <a:lnTo>
                      <a:pt x="18544" y="1035"/>
                    </a:lnTo>
                    <a:lnTo>
                      <a:pt x="19903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399120" y="4346280"/>
                <a:ext cx="79920" cy="312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53"/>
                    </a:moveTo>
                    <a:lnTo>
                      <a:pt x="2319" y="16376"/>
                    </a:lnTo>
                    <a:lnTo>
                      <a:pt x="5121" y="12753"/>
                    </a:lnTo>
                    <a:lnTo>
                      <a:pt x="7440" y="9412"/>
                    </a:lnTo>
                    <a:lnTo>
                      <a:pt x="9758" y="6259"/>
                    </a:lnTo>
                    <a:lnTo>
                      <a:pt x="12464" y="3812"/>
                    </a:lnTo>
                    <a:lnTo>
                      <a:pt x="13913" y="2682"/>
                    </a:lnTo>
                    <a:lnTo>
                      <a:pt x="14783" y="1788"/>
                    </a:lnTo>
                    <a:lnTo>
                      <a:pt x="16135" y="894"/>
                    </a:lnTo>
                    <a:lnTo>
                      <a:pt x="17585" y="424"/>
                    </a:lnTo>
                    <a:lnTo>
                      <a:pt x="18454" y="188"/>
                    </a:lnTo>
                    <a:lnTo>
                      <a:pt x="19903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479040" y="4346280"/>
                <a:ext cx="79560" cy="312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359" y="188"/>
                    </a:lnTo>
                    <a:lnTo>
                      <a:pt x="2330" y="424"/>
                    </a:lnTo>
                    <a:lnTo>
                      <a:pt x="3689" y="894"/>
                    </a:lnTo>
                    <a:lnTo>
                      <a:pt x="5049" y="1788"/>
                    </a:lnTo>
                    <a:lnTo>
                      <a:pt x="6019" y="2682"/>
                    </a:lnTo>
                    <a:lnTo>
                      <a:pt x="7379" y="3812"/>
                    </a:lnTo>
                    <a:lnTo>
                      <a:pt x="9709" y="6259"/>
                    </a:lnTo>
                    <a:lnTo>
                      <a:pt x="12524" y="9412"/>
                    </a:lnTo>
                    <a:lnTo>
                      <a:pt x="14854" y="12753"/>
                    </a:lnTo>
                    <a:lnTo>
                      <a:pt x="17573" y="16376"/>
                    </a:lnTo>
                    <a:lnTo>
                      <a:pt x="19903" y="19953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558600" y="4657680"/>
                <a:ext cx="79920" cy="610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449" y="1035"/>
                    </a:lnTo>
                    <a:lnTo>
                      <a:pt x="2319" y="2070"/>
                    </a:lnTo>
                    <a:lnTo>
                      <a:pt x="5121" y="4477"/>
                    </a:lnTo>
                    <a:lnTo>
                      <a:pt x="7440" y="7004"/>
                    </a:lnTo>
                    <a:lnTo>
                      <a:pt x="9758" y="9747"/>
                    </a:lnTo>
                    <a:lnTo>
                      <a:pt x="12464" y="12515"/>
                    </a:lnTo>
                    <a:lnTo>
                      <a:pt x="14783" y="15162"/>
                    </a:lnTo>
                    <a:lnTo>
                      <a:pt x="17585" y="17690"/>
                    </a:lnTo>
                    <a:lnTo>
                      <a:pt x="19903" y="19976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38160" y="5267520"/>
                <a:ext cx="79560" cy="430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5049" y="5860"/>
                    </a:lnTo>
                    <a:lnTo>
                      <a:pt x="7379" y="8620"/>
                    </a:lnTo>
                    <a:lnTo>
                      <a:pt x="9709" y="11210"/>
                    </a:lnTo>
                    <a:lnTo>
                      <a:pt x="12524" y="13799"/>
                    </a:lnTo>
                    <a:lnTo>
                      <a:pt x="14854" y="16082"/>
                    </a:lnTo>
                    <a:lnTo>
                      <a:pt x="17670" y="18194"/>
                    </a:lnTo>
                    <a:lnTo>
                      <a:pt x="19903" y="19966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717720" y="5698080"/>
                <a:ext cx="79920" cy="165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2319" y="4248"/>
                    </a:lnTo>
                    <a:lnTo>
                      <a:pt x="5121" y="7611"/>
                    </a:lnTo>
                    <a:lnTo>
                      <a:pt x="7440" y="10619"/>
                    </a:lnTo>
                    <a:lnTo>
                      <a:pt x="9758" y="13097"/>
                    </a:lnTo>
                    <a:lnTo>
                      <a:pt x="12560" y="14779"/>
                    </a:lnTo>
                    <a:lnTo>
                      <a:pt x="14783" y="16903"/>
                    </a:lnTo>
                    <a:lnTo>
                      <a:pt x="19903" y="19912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797640" y="5863320"/>
                <a:ext cx="79920" cy="38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2319" y="5283"/>
                    </a:lnTo>
                    <a:lnTo>
                      <a:pt x="5121" y="8679"/>
                    </a:lnTo>
                    <a:lnTo>
                      <a:pt x="9662" y="14340"/>
                    </a:lnTo>
                    <a:lnTo>
                      <a:pt x="14783" y="16226"/>
                    </a:lnTo>
                    <a:lnTo>
                      <a:pt x="19903" y="19623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1582560" y="4317840"/>
              <a:ext cx="3098520" cy="1593720"/>
              <a:chOff x="1582560" y="4317840"/>
              <a:chExt cx="3098520" cy="1593720"/>
            </a:xfrm>
          </p:grpSpPr>
          <p:sp>
            <p:nvSpPr>
              <p:cNvPr id="238" name=""/>
              <p:cNvSpPr/>
              <p:nvPr/>
            </p:nvSpPr>
            <p:spPr>
              <a:xfrm>
                <a:off x="1582560" y="4317840"/>
                <a:ext cx="0" cy="1593720"/>
              </a:xfrm>
              <a:prstGeom prst="line">
                <a:avLst/>
              </a:prstGeom>
              <a:ln w="0">
                <a:solidFill>
                  <a:srgbClr val="0033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82560" y="5911560"/>
                <a:ext cx="3098520" cy="0"/>
              </a:xfrm>
              <a:prstGeom prst="line">
                <a:avLst/>
              </a:prstGeom>
              <a:ln w="0">
                <a:solidFill>
                  <a:srgbClr val="0033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3237120" y="5550480"/>
              <a:ext cx="0" cy="50292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61160" y="6036840"/>
              <a:ext cx="614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99ff"/>
                  </a:solidFill>
                  <a:latin typeface="Times New Roman"/>
                </a:rPr>
                <a:t>f</a:t>
              </a:r>
              <a:r>
                <a:rPr b="0" i="1" lang="it-IT" sz="2000" spc="-1" strike="noStrike" baseline="-25000">
                  <a:solidFill>
                    <a:srgbClr val="0099ff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30120" y="5550480"/>
              <a:ext cx="0" cy="50292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21680" y="6036840"/>
              <a:ext cx="616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99ff"/>
                  </a:solidFill>
                  <a:latin typeface="Times New Roman"/>
                </a:rPr>
                <a:t>f</a:t>
              </a:r>
              <a:r>
                <a:rPr b="0" i="1" lang="it-IT" sz="2000" spc="-1" strike="noStrike" baseline="-25000">
                  <a:solidFill>
                    <a:srgbClr val="0099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Oggi: terreno</a:t>
            </a:r>
            <a:br>
              <a:rPr sz="2800"/>
            </a:b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me dovrebbe essere …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10920" y="1582200"/>
            <a:ext cx="7916760" cy="19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er i carichi: come per strutture, valore di riferimento corrispondente ad un carico che può essere superato solo in casi estremamente rar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da valore caratteristico a valore di calcolo:</a:t>
            </a:r>
            <a:endParaRPr b="0" lang="en-US" sz="22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7"/>
              <p:cNvSpPr txBox="1"/>
              <p:nvPr/>
            </p:nvSpPr>
            <p:spPr>
              <a:xfrm>
                <a:off x="2757600" y="3317760"/>
                <a:ext cx="11952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7" name="Segnaposto contenuto 2"/>
          <p:cNvSpPr/>
          <p:nvPr/>
        </p:nvSpPr>
        <p:spPr>
          <a:xfrm>
            <a:off x="611280" y="4033800"/>
            <a:ext cx="791676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er le proprietà del terreno: valore di riferimento corrispondente a situazioni al di sotto della quale si può scendere solo in casi estremamente rari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(es. nel ??? dei casi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da valore caratteristico a valore di calcolo;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CasellaDiTesto 8"/>
          <p:cNvSpPr/>
          <p:nvPr/>
        </p:nvSpPr>
        <p:spPr>
          <a:xfrm>
            <a:off x="4815000" y="3220920"/>
            <a:ext cx="2724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Comic Sans MS"/>
              </a:rPr>
              <a:t>F</a:t>
            </a:r>
            <a:r>
              <a:rPr b="0" lang="en-US" sz="18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Comic Sans MS"/>
              </a:rPr>
              <a:t>coefficiente di sicurezza parzial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2757600" y="5899320"/>
                <a:ext cx="99216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CasellaDiTesto 10"/>
          <p:cNvSpPr/>
          <p:nvPr/>
        </p:nvSpPr>
        <p:spPr>
          <a:xfrm>
            <a:off x="4815000" y="6018120"/>
            <a:ext cx="2724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Comic Sans MS"/>
              </a:rPr>
              <a:t>M</a:t>
            </a:r>
            <a:r>
              <a:rPr b="0" lang="en-US" sz="18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Comic Sans MS"/>
              </a:rPr>
              <a:t>coefficiente di sicurezza parzial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Oggi: terreno</a:t>
            </a:r>
            <a:br>
              <a:rPr sz="2800"/>
            </a:b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erché è difficile fare così ?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’è carenza di studi sperimentali che valutino la dispersione dei dati geotecnici e l’effetto di tale dispersione sul comportamento delle struttur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Quasi tutte le formule che si usano nascono da dati sperimentali, tarati sul calcolo “a rottura”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Le formule sono in molti casi fortemente non lineari al variare dei parametri geotecnic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4319640" y="4605480"/>
            <a:ext cx="503280" cy="2156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5037120"/>
            <a:ext cx="79167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Occorrerebbe “rifondare” la geotecnica, cioè riorganizzarla fin dall’inizio secondo i nuovi approcci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…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ma per questo ci vuole molto temp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Oggi: terreno</a:t>
            </a:r>
            <a:br>
              <a:rPr sz="2800"/>
            </a:b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… e come invece è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10920" y="1582560"/>
            <a:ext cx="791676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Due distinti approcci (approccio 1 e approccio 2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57" name="Segnaposto contenuto 2"/>
          <p:cNvSpPr/>
          <p:nvPr/>
        </p:nvSpPr>
        <p:spPr>
          <a:xfrm>
            <a:off x="611280" y="2263680"/>
            <a:ext cx="791676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Notare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 risultati possono essere diversi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ranne casi particolari, possiamo scegliere liberamente quale dei due usare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8" name="Segnaposto contenuto 2"/>
          <p:cNvSpPr/>
          <p:nvPr/>
        </p:nvSpPr>
        <p:spPr>
          <a:xfrm>
            <a:off x="2062080" y="3997440"/>
            <a:ext cx="6465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E la garanzia di uguale sicurezza dov’è finita?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9" name="Segnaposto contenuto 2"/>
          <p:cNvSpPr/>
          <p:nvPr/>
        </p:nvSpPr>
        <p:spPr>
          <a:xfrm>
            <a:off x="611280" y="4714920"/>
            <a:ext cx="79167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…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e vengono messe in mezzo pure le struttur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Segnaposto contenuto 2"/>
          <p:cNvSpPr/>
          <p:nvPr/>
        </p:nvSpPr>
        <p:spPr>
          <a:xfrm>
            <a:off x="611280" y="5181480"/>
            <a:ext cx="7916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ma per le strutture non cambia niente nei due approcci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Segnaposto contenuto 2"/>
          <p:cNvSpPr/>
          <p:nvPr/>
        </p:nvSpPr>
        <p:spPr>
          <a:xfrm>
            <a:off x="2062080" y="6012000"/>
            <a:ext cx="6465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Era meglio non parlarne propri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Oggi: terreno</a:t>
            </a:r>
            <a:br>
              <a:rPr sz="2800"/>
            </a:b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n generale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10920" y="1582200"/>
            <a:ext cx="7916760" cy="19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er le proprietà del terreno: valore di riferimento determinato mediante un coefficiente di sicurezza parzial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4" name="Segnaposto contenuto 2"/>
          <p:cNvSpPr/>
          <p:nvPr/>
        </p:nvSpPr>
        <p:spPr>
          <a:xfrm>
            <a:off x="611280" y="4033800"/>
            <a:ext cx="79167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E poi applicazione di un coefficiente di sicurezza ai carichi limit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5"/>
              <p:cNvSpPr txBox="1"/>
              <p:nvPr/>
            </p:nvSpPr>
            <p:spPr>
              <a:xfrm>
                <a:off x="2757600" y="2581200"/>
                <a:ext cx="9921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6" name="CasellaDiTesto 10"/>
          <p:cNvSpPr/>
          <p:nvPr/>
        </p:nvSpPr>
        <p:spPr>
          <a:xfrm>
            <a:off x="4815000" y="2700360"/>
            <a:ext cx="2724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Comic Sans MS"/>
              </a:rPr>
              <a:t>M</a:t>
            </a:r>
            <a:r>
              <a:rPr b="0" lang="en-US" sz="18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Comic Sans MS"/>
              </a:rPr>
              <a:t>coefficiente di sicurezza parzial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7"/>
              <p:cNvSpPr txBox="1"/>
              <p:nvPr/>
            </p:nvSpPr>
            <p:spPr>
              <a:xfrm>
                <a:off x="2757600" y="4859280"/>
                <a:ext cx="11952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Segnaposto contenuto 2"/>
          <p:cNvSpPr/>
          <p:nvPr/>
        </p:nvSpPr>
        <p:spPr>
          <a:xfrm>
            <a:off x="1770120" y="5902200"/>
            <a:ext cx="6757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Approccio misto, tra SLU e calcolo a rottu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CasellaDiTesto 11"/>
          <p:cNvSpPr/>
          <p:nvPr/>
        </p:nvSpPr>
        <p:spPr>
          <a:xfrm>
            <a:off x="4815000" y="4938840"/>
            <a:ext cx="31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</a:rPr>
              <a:t>R</a:t>
            </a:r>
            <a:r>
              <a:rPr b="0" lang="en-US" sz="18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Comic Sans MS"/>
              </a:rPr>
              <a:t>ulteriore coefficiente di sicurezz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Oggi: terreno</a:t>
            </a:r>
            <a:br>
              <a:rPr sz="2800"/>
            </a:b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n particolare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10920" y="1582200"/>
            <a:ext cx="7916760" cy="17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pproccio 1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er i carichi: valore di riferimento corrispondente ad un carico (A2) che può essere superato solo in casi molto (ma non estremamente) rari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2" name="Segnaposto contenuto 2"/>
          <p:cNvSpPr/>
          <p:nvPr/>
        </p:nvSpPr>
        <p:spPr>
          <a:xfrm>
            <a:off x="611280" y="4033800"/>
            <a:ext cx="79167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Si applicano i coefficienti M2 alle proprietà del terreno (es. </a:t>
            </a:r>
            <a:r>
              <a:rPr b="0" lang="it-IT" sz="2400" spc="-1" strike="noStrike">
                <a:solidFill>
                  <a:srgbClr val="003399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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Comic Sans MS"/>
              </a:rPr>
              <a:t>’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=1.25, </a:t>
            </a:r>
            <a:r>
              <a:rPr b="0" lang="it-IT" sz="2000" spc="-1" strike="noStrike">
                <a:solidFill>
                  <a:srgbClr val="003399"/>
                </a:solidFill>
                <a:latin typeface="Symbol"/>
                <a:ea typeface="Symbol"/>
              </a:rPr>
              <a:t></a:t>
            </a:r>
            <a:r>
              <a:rPr b="0" lang="it-IT" sz="2000" spc="-1" strike="noStrike" baseline="-25000">
                <a:solidFill>
                  <a:srgbClr val="003399"/>
                </a:solidFill>
                <a:latin typeface="Comic Sans MS"/>
              </a:rPr>
              <a:t>cu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=1.4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Segnaposto contenuto 2"/>
          <p:cNvSpPr/>
          <p:nvPr/>
        </p:nvSpPr>
        <p:spPr>
          <a:xfrm>
            <a:off x="5775480" y="5937120"/>
            <a:ext cx="31082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</a:rPr>
              <a:t>Nota: questo ha senso solo in assenza di sisma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7"/>
              <p:cNvSpPr txBox="1"/>
              <p:nvPr/>
            </p:nvSpPr>
            <p:spPr>
              <a:xfrm>
                <a:off x="2897280" y="3262320"/>
                <a:ext cx="9158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7"/>
              <p:cNvSpPr txBox="1"/>
              <p:nvPr/>
            </p:nvSpPr>
            <p:spPr>
              <a:xfrm>
                <a:off x="4740120" y="3249720"/>
                <a:ext cx="1297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6" name="Segnaposto contenuto 2"/>
          <p:cNvSpPr/>
          <p:nvPr/>
        </p:nvSpPr>
        <p:spPr>
          <a:xfrm>
            <a:off x="611280" y="4967280"/>
            <a:ext cx="79167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Si applicano i coefficienti R2 ai carichi limite</a:t>
            </a:r>
            <a:br>
              <a:rPr sz="2400"/>
            </a:b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(es. capacità portante fondazioni dirette R=1.8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182520" y="6345360"/>
            <a:ext cx="78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mic Sans MS"/>
              </a:rPr>
              <a:t>NTC 08, punti 2.6.1 e 6.4.2.1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Oggi: terreno</a:t>
            </a:r>
            <a:br>
              <a:rPr sz="2800"/>
            </a:b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n particolare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10920" y="1582200"/>
            <a:ext cx="7916760" cy="17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pproccio 2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er i carichi: valore di riferimento corrispondente ad un carico (A1) che può essere superato solo in casi estremamente rari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0" name="Segnaposto contenuto 2"/>
          <p:cNvSpPr/>
          <p:nvPr/>
        </p:nvSpPr>
        <p:spPr>
          <a:xfrm>
            <a:off x="611280" y="4033800"/>
            <a:ext cx="79167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Si applicano i coefficienti M1 alle proprietà del terreno (sempre unitari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Segnaposto contenuto 2"/>
          <p:cNvSpPr/>
          <p:nvPr/>
        </p:nvSpPr>
        <p:spPr>
          <a:xfrm>
            <a:off x="611280" y="4967280"/>
            <a:ext cx="79167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Si applicano i coefficienti R3 ai carichi limite</a:t>
            </a:r>
            <a:br>
              <a:rPr sz="2400"/>
            </a:b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(es. capacità portante fondazioni dirette R=2.3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7"/>
              <p:cNvSpPr txBox="1"/>
              <p:nvPr/>
            </p:nvSpPr>
            <p:spPr>
              <a:xfrm>
                <a:off x="4727520" y="3249720"/>
                <a:ext cx="13222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7"/>
              <p:cNvSpPr txBox="1"/>
              <p:nvPr/>
            </p:nvSpPr>
            <p:spPr>
              <a:xfrm>
                <a:off x="2898720" y="3249720"/>
                <a:ext cx="13222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4" name="Segnaposto contenuto 2"/>
          <p:cNvSpPr/>
          <p:nvPr/>
        </p:nvSpPr>
        <p:spPr>
          <a:xfrm>
            <a:off x="1770120" y="5902200"/>
            <a:ext cx="6757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È un modo per operare così come si faceva nel passat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Approcci per verifica SLU</a:t>
            </a:r>
            <a:br>
              <a:rPr sz="2800"/>
            </a:b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5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Normativa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611280" y="3778200"/>
            <a:ext cx="79167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pproccio 2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(A1+M1+R3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611280" y="2338560"/>
            <a:ext cx="79167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pproccio 1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Combinazione 1:  (A1+M1+R1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Combinazione 2:  (A2+M2+R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611280" y="5037120"/>
            <a:ext cx="79167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Nota: 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A = coefficienti per azioni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 = coefficienti per materiali (calcestruzzo, acciaio, terreno)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R = coefficienti per resistenza sistem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Approcci per verifica SLU</a:t>
            </a:r>
            <a:br>
              <a:rPr sz="3200"/>
            </a:b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per tutti gli elementi strutturali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5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Normativa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611280" y="3778200"/>
            <a:ext cx="79167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pproccio 2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(A1+M1+R3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611280" y="2338560"/>
            <a:ext cx="79167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pproccio 1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Combinazione 1:  (A1+M1+R1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Combinazione 2:  (A2+M2+R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4" name="Line 7"/>
          <p:cNvSpPr/>
          <p:nvPr/>
        </p:nvSpPr>
        <p:spPr>
          <a:xfrm flipH="1">
            <a:off x="5364000" y="2997360"/>
            <a:ext cx="64944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 flipH="1">
            <a:off x="3203280" y="4437000"/>
            <a:ext cx="64908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611280" y="5037120"/>
            <a:ext cx="79167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Per calcestruzzo e acciaio coefficienti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e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Per il terreno coefficienti = 1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I coefficienti R in realtà non intervengono propri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611280" y="6165720"/>
            <a:ext cx="79167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Comic Sans MS"/>
              </a:rPr>
              <a:t>Quindi non sono due approcci diversi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8" name="Rectangle 37"/>
          <p:cNvSpPr/>
          <p:nvPr/>
        </p:nvSpPr>
        <p:spPr>
          <a:xfrm>
            <a:off x="6313320" y="2967120"/>
            <a:ext cx="232416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Comic Sans MS"/>
              </a:rPr>
              <a:t>Secondo me è proprio inutile citare questi approcci quando si parla di struttur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5911920" y="1392120"/>
            <a:ext cx="28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incluso fondazioni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022720" y="1339920"/>
            <a:ext cx="874800" cy="276120"/>
          </a:xfrm>
          <a:prstGeom prst="line">
            <a:avLst/>
          </a:prstGeom>
          <a:ln w="12600">
            <a:solidFill>
              <a:srgbClr val="0066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Approcci per verifica SLU</a:t>
            </a:r>
            <a:br>
              <a:rPr sz="2800"/>
            </a:b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per le verifiche geotecniche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5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Normativa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611280" y="3778200"/>
            <a:ext cx="79167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pproccio 2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(A1+M1+R3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611280" y="2338560"/>
            <a:ext cx="79167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pproccio 1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Combinazione 1:  (A1+M1+R1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Combinazione 2:  (A2+M2+R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Line 7"/>
          <p:cNvSpPr/>
          <p:nvPr/>
        </p:nvSpPr>
        <p:spPr>
          <a:xfrm flipH="1">
            <a:off x="5508360" y="3381480"/>
            <a:ext cx="64908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Line 8"/>
          <p:cNvSpPr/>
          <p:nvPr/>
        </p:nvSpPr>
        <p:spPr>
          <a:xfrm flipH="1">
            <a:off x="3203280" y="4437000"/>
            <a:ext cx="64908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Alcune problematiche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954000" y="1854360"/>
            <a:ext cx="2584440" cy="1871640"/>
            <a:chOff x="954000" y="1854360"/>
            <a:chExt cx="2584440" cy="1871640"/>
          </a:xfrm>
        </p:grpSpPr>
        <p:grpSp>
          <p:nvGrpSpPr>
            <p:cNvPr id="53" name=""/>
            <p:cNvGrpSpPr/>
            <p:nvPr/>
          </p:nvGrpSpPr>
          <p:grpSpPr>
            <a:xfrm>
              <a:off x="1452600" y="1854360"/>
              <a:ext cx="1587600" cy="1871640"/>
              <a:chOff x="1452600" y="1854360"/>
              <a:chExt cx="1587600" cy="1871640"/>
            </a:xfrm>
          </p:grpSpPr>
          <p:sp>
            <p:nvSpPr>
              <p:cNvPr id="54" name=""/>
              <p:cNvSpPr/>
              <p:nvPr/>
            </p:nvSpPr>
            <p:spPr>
              <a:xfrm>
                <a:off x="1597320" y="1854360"/>
                <a:ext cx="0" cy="1800000"/>
              </a:xfrm>
              <a:prstGeom prst="line">
                <a:avLst/>
              </a:prstGeom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55" name=""/>
              <p:cNvGrpSpPr/>
              <p:nvPr/>
            </p:nvGrpSpPr>
            <p:grpSpPr>
              <a:xfrm>
                <a:off x="1452600" y="3654360"/>
                <a:ext cx="290160" cy="71640"/>
                <a:chOff x="1452600" y="3654360"/>
                <a:chExt cx="290160" cy="7164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1452600" y="3654360"/>
                  <a:ext cx="288720" cy="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>
                  <a:off x="1453680" y="3654360"/>
                  <a:ext cx="73080" cy="7164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flipH="1">
                  <a:off x="1525320" y="3654360"/>
                  <a:ext cx="73080" cy="7164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H="1">
                  <a:off x="1596600" y="3654360"/>
                  <a:ext cx="73080" cy="7164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flipH="1">
                  <a:off x="1669680" y="3654360"/>
                  <a:ext cx="73080" cy="7164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" name=""/>
              <p:cNvSpPr/>
              <p:nvPr/>
            </p:nvSpPr>
            <p:spPr>
              <a:xfrm>
                <a:off x="2028960" y="1854360"/>
                <a:ext cx="0" cy="1800000"/>
              </a:xfrm>
              <a:prstGeom prst="line">
                <a:avLst/>
              </a:prstGeom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460960" y="1854360"/>
                <a:ext cx="0" cy="1800000"/>
              </a:xfrm>
              <a:prstGeom prst="line">
                <a:avLst/>
              </a:prstGeom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892600" y="1854360"/>
                <a:ext cx="0" cy="1800000"/>
              </a:xfrm>
              <a:prstGeom prst="line">
                <a:avLst/>
              </a:prstGeom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597320" y="1854360"/>
                <a:ext cx="1295280" cy="0"/>
              </a:xfrm>
              <a:prstGeom prst="line">
                <a:avLst/>
              </a:prstGeom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597320" y="2214720"/>
                <a:ext cx="1295280" cy="0"/>
              </a:xfrm>
              <a:prstGeom prst="line">
                <a:avLst/>
              </a:prstGeom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597320" y="2573280"/>
                <a:ext cx="1295280" cy="0"/>
              </a:xfrm>
              <a:prstGeom prst="line">
                <a:avLst/>
              </a:prstGeom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97320" y="2933640"/>
                <a:ext cx="1295280" cy="0"/>
              </a:xfrm>
              <a:prstGeom prst="line">
                <a:avLst/>
              </a:prstGeom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597320" y="3294000"/>
                <a:ext cx="1295280" cy="0"/>
              </a:xfrm>
              <a:prstGeom prst="line">
                <a:avLst/>
              </a:prstGeom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1884600" y="3654360"/>
                <a:ext cx="290160" cy="71640"/>
                <a:chOff x="1884600" y="3654360"/>
                <a:chExt cx="290160" cy="716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1884600" y="3654360"/>
                  <a:ext cx="288720" cy="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H="1">
                  <a:off x="1885680" y="3654360"/>
                  <a:ext cx="73080" cy="7164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 flipH="1">
                  <a:off x="1957320" y="3654360"/>
                  <a:ext cx="73080" cy="7164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flipH="1">
                  <a:off x="2028600" y="3654360"/>
                  <a:ext cx="73080" cy="7164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H="1">
                  <a:off x="2101680" y="3654360"/>
                  <a:ext cx="73080" cy="7164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318040" y="3654360"/>
                <a:ext cx="290160" cy="71640"/>
                <a:chOff x="2318040" y="3654360"/>
                <a:chExt cx="290160" cy="716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318040" y="3654360"/>
                  <a:ext cx="288720" cy="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H="1">
                  <a:off x="2319120" y="3654360"/>
                  <a:ext cx="73080" cy="7164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H="1">
                  <a:off x="2390760" y="3654360"/>
                  <a:ext cx="73080" cy="7164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>
                  <a:off x="2462040" y="3654360"/>
                  <a:ext cx="73080" cy="7164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H="1">
                  <a:off x="2535120" y="3654360"/>
                  <a:ext cx="73080" cy="7164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2749680" y="3654360"/>
                <a:ext cx="290160" cy="71640"/>
                <a:chOff x="2749680" y="3654360"/>
                <a:chExt cx="290160" cy="716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2749680" y="3654360"/>
                  <a:ext cx="288720" cy="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H="1">
                  <a:off x="2750760" y="3654360"/>
                  <a:ext cx="73080" cy="7164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H="1">
                  <a:off x="2822400" y="3654360"/>
                  <a:ext cx="73080" cy="7164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H="1">
                  <a:off x="2893680" y="3654360"/>
                  <a:ext cx="73080" cy="7164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flipH="1">
                  <a:off x="2966760" y="3654360"/>
                  <a:ext cx="73080" cy="7164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"/>
              <p:cNvSpPr/>
              <p:nvPr/>
            </p:nvSpPr>
            <p:spPr>
              <a:xfrm>
                <a:off x="1452600" y="3654360"/>
                <a:ext cx="292320" cy="7164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83160" y="3654360"/>
                <a:ext cx="291960" cy="7164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316240" y="3654360"/>
                <a:ext cx="292320" cy="7164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748240" y="3654360"/>
                <a:ext cx="291960" cy="7164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954000" y="3651120"/>
              <a:ext cx="258444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220920" y="2120760"/>
            <a:ext cx="170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ruttura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 elevazi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25360" y="388296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erren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05040" y="3459240"/>
            <a:ext cx="165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ndazi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7040" y="4335480"/>
            <a:ext cx="32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omportamento fisico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264960" indent="-2649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all’applicazione dei carichi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264960" indent="-2649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el temp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264960" indent="-2649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otto effetti dinamici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7040" y="5473800"/>
            <a:ext cx="462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arametri che regolano il comportamento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264960" indent="-2649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quali?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264960" indent="-2649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ome determinarli?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8120" y="4545000"/>
            <a:ext cx="34452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8120" y="5672160"/>
            <a:ext cx="34452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8120" y="4229280"/>
            <a:ext cx="0" cy="144288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67320" y="393876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ipologi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264960" indent="-2649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apacità portant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264960" indent="-2649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edimenti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65800" y="4133880"/>
            <a:ext cx="87444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65800" y="3830760"/>
            <a:ext cx="0" cy="3031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1120" y="2144880"/>
            <a:ext cx="27954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terazione t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- Struttura in elevazion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- Fondazion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- Terren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73960" y="15908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he importanza?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264960" indent="-2649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ome valutarla?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94400" y="1881360"/>
            <a:ext cx="87480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94400" y="1881360"/>
            <a:ext cx="0" cy="3031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…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in definitiv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0920" y="1582560"/>
            <a:ext cx="791676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er gli elementi strutturali, incluse le fondazioni, esiste un unico approcci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611280" y="2517840"/>
            <a:ext cx="791676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4272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1 + M1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2720" indent="-342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ioè c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2720" indent="-34272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zioni incrementate dai coefficienti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Comic Sans MS"/>
              </a:rPr>
              <a:t>G1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Comic Sans MS"/>
              </a:rPr>
              <a:t>G2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) della tabella 2.6.I, colonna A1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2720" indent="-34272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roprietà dei materiali strutturali ridotte dei coefficienti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riportati per ogni materiale nel capitolo 4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2720" indent="-34272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roprietà del terreno (ove occorrano) nominali, non ridott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672160" y="242568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come si è sempre visto </a:t>
            </a:r>
            <a:br>
              <a:rPr sz="1800"/>
            </a:b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nei corsi precedenti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…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in definitiv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5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er le verifiche geotecniche d’ora in poi parlerò d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611280" y="2338560"/>
            <a:ext cx="7916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pproccio 1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(A2+M2+R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611280" y="3186000"/>
            <a:ext cx="79167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pproccio 2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(A1+M1+R3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611280" y="3957480"/>
            <a:ext cx="79167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senza più citare le combinazioni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Approcci per verifica SLU</a:t>
            </a:r>
            <a:br>
              <a:rPr sz="2800"/>
            </a:b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per le verifiche geotecniche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5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er soli carichi verticali (senza sisma)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612720" y="2376360"/>
            <a:ext cx="252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pproccio 1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611280" y="4726080"/>
            <a:ext cx="252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pproccio 2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4572000" y="2781360"/>
            <a:ext cx="0" cy="107928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1" name="Line 11"/>
          <p:cNvSpPr/>
          <p:nvPr/>
        </p:nvSpPr>
        <p:spPr>
          <a:xfrm>
            <a:off x="5075280" y="2781360"/>
            <a:ext cx="0" cy="107928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Line 12"/>
          <p:cNvSpPr/>
          <p:nvPr/>
        </p:nvSpPr>
        <p:spPr>
          <a:xfrm>
            <a:off x="5651640" y="2781360"/>
            <a:ext cx="0" cy="107928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3" name="Line 13"/>
          <p:cNvSpPr/>
          <p:nvPr/>
        </p:nvSpPr>
        <p:spPr>
          <a:xfrm>
            <a:off x="6156360" y="2781360"/>
            <a:ext cx="0" cy="107928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4" name="Line 14"/>
          <p:cNvSpPr/>
          <p:nvPr/>
        </p:nvSpPr>
        <p:spPr>
          <a:xfrm>
            <a:off x="4572000" y="2781360"/>
            <a:ext cx="158436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5" name="Line 15"/>
          <p:cNvSpPr/>
          <p:nvPr/>
        </p:nvSpPr>
        <p:spPr>
          <a:xfrm>
            <a:off x="4572000" y="3141720"/>
            <a:ext cx="158436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6" name="Line 16"/>
          <p:cNvSpPr/>
          <p:nvPr/>
        </p:nvSpPr>
        <p:spPr>
          <a:xfrm>
            <a:off x="4572000" y="3500280"/>
            <a:ext cx="158436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7" name="Line 17"/>
          <p:cNvSpPr/>
          <p:nvPr/>
        </p:nvSpPr>
        <p:spPr>
          <a:xfrm>
            <a:off x="4356000" y="3860640"/>
            <a:ext cx="201636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8" name="Rectangle 19"/>
          <p:cNvSpPr/>
          <p:nvPr/>
        </p:nvSpPr>
        <p:spPr>
          <a:xfrm>
            <a:off x="6516720" y="306864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truttur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6516720" y="364500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erren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0" name="Rectangle 21"/>
          <p:cNvSpPr/>
          <p:nvPr/>
        </p:nvSpPr>
        <p:spPr>
          <a:xfrm>
            <a:off x="4572000" y="2492280"/>
            <a:ext cx="1584360" cy="142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1" name="Rectangle 22"/>
          <p:cNvSpPr/>
          <p:nvPr/>
        </p:nvSpPr>
        <p:spPr>
          <a:xfrm>
            <a:off x="6516720" y="2421000"/>
            <a:ext cx="179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g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k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+ 1.3 q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2" name="Line 23"/>
          <p:cNvSpPr/>
          <p:nvPr/>
        </p:nvSpPr>
        <p:spPr>
          <a:xfrm>
            <a:off x="4572000" y="5086440"/>
            <a:ext cx="0" cy="107928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3" name="Line 24"/>
          <p:cNvSpPr/>
          <p:nvPr/>
        </p:nvSpPr>
        <p:spPr>
          <a:xfrm>
            <a:off x="5075280" y="5086440"/>
            <a:ext cx="0" cy="107928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Line 25"/>
          <p:cNvSpPr/>
          <p:nvPr/>
        </p:nvSpPr>
        <p:spPr>
          <a:xfrm>
            <a:off x="5651640" y="5086440"/>
            <a:ext cx="0" cy="107928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5" name="Line 26"/>
          <p:cNvSpPr/>
          <p:nvPr/>
        </p:nvSpPr>
        <p:spPr>
          <a:xfrm>
            <a:off x="6156360" y="5086440"/>
            <a:ext cx="0" cy="107928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Line 27"/>
          <p:cNvSpPr/>
          <p:nvPr/>
        </p:nvSpPr>
        <p:spPr>
          <a:xfrm>
            <a:off x="4572000" y="5086440"/>
            <a:ext cx="158436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7" name="Line 28"/>
          <p:cNvSpPr/>
          <p:nvPr/>
        </p:nvSpPr>
        <p:spPr>
          <a:xfrm>
            <a:off x="4572000" y="5446800"/>
            <a:ext cx="158436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Line 29"/>
          <p:cNvSpPr/>
          <p:nvPr/>
        </p:nvSpPr>
        <p:spPr>
          <a:xfrm>
            <a:off x="4572000" y="5805360"/>
            <a:ext cx="158436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9" name="Line 30"/>
          <p:cNvSpPr/>
          <p:nvPr/>
        </p:nvSpPr>
        <p:spPr>
          <a:xfrm>
            <a:off x="4356000" y="6165720"/>
            <a:ext cx="201636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0" name="Rectangle 31"/>
          <p:cNvSpPr/>
          <p:nvPr/>
        </p:nvSpPr>
        <p:spPr>
          <a:xfrm>
            <a:off x="6516720" y="53737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truttur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1" name="Rectangle 32"/>
          <p:cNvSpPr/>
          <p:nvPr/>
        </p:nvSpPr>
        <p:spPr>
          <a:xfrm>
            <a:off x="6516720" y="595008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erren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2" name="Rectangle 33"/>
          <p:cNvSpPr/>
          <p:nvPr/>
        </p:nvSpPr>
        <p:spPr>
          <a:xfrm>
            <a:off x="4572000" y="4797360"/>
            <a:ext cx="1584360" cy="14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Rectangle 34"/>
          <p:cNvSpPr/>
          <p:nvPr/>
        </p:nvSpPr>
        <p:spPr>
          <a:xfrm>
            <a:off x="6516720" y="4726080"/>
            <a:ext cx="179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1.3 g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k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+ 1.5 q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4" name="Rectangle 35"/>
          <p:cNvSpPr/>
          <p:nvPr/>
        </p:nvSpPr>
        <p:spPr>
          <a:xfrm>
            <a:off x="4572000" y="3933720"/>
            <a:ext cx="179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’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/1.25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u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/1.4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5" name="Rectangle 36"/>
          <p:cNvSpPr/>
          <p:nvPr/>
        </p:nvSpPr>
        <p:spPr>
          <a:xfrm>
            <a:off x="4572000" y="6237360"/>
            <a:ext cx="179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’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6" name="Rectangle 37"/>
          <p:cNvSpPr/>
          <p:nvPr/>
        </p:nvSpPr>
        <p:spPr>
          <a:xfrm>
            <a:off x="1042920" y="2986200"/>
            <a:ext cx="22338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arichi più piccoli Parametri terreno ridotti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Resistenza ridott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Rectangle 38"/>
          <p:cNvSpPr/>
          <p:nvPr/>
        </p:nvSpPr>
        <p:spPr>
          <a:xfrm>
            <a:off x="1042920" y="5224320"/>
            <a:ext cx="2737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arichi incrementati Parametri terreno 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on ridotti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Resistenza più ridott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8" name="Rectangle 39"/>
          <p:cNvSpPr/>
          <p:nvPr/>
        </p:nvSpPr>
        <p:spPr>
          <a:xfrm>
            <a:off x="6516720" y="393372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R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 = 1.8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9" name="Rectangle 40"/>
          <p:cNvSpPr/>
          <p:nvPr/>
        </p:nvSpPr>
        <p:spPr>
          <a:xfrm>
            <a:off x="6516720" y="623736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R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3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 = 2.3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5591160" y="1936800"/>
            <a:ext cx="782640" cy="223560"/>
            <a:chOff x="5591160" y="1936800"/>
            <a:chExt cx="782640" cy="223560"/>
          </a:xfrm>
        </p:grpSpPr>
        <p:sp>
          <p:nvSpPr>
            <p:cNvPr id="351" name=""/>
            <p:cNvSpPr/>
            <p:nvPr/>
          </p:nvSpPr>
          <p:spPr>
            <a:xfrm>
              <a:off x="5591160" y="1936800"/>
              <a:ext cx="0" cy="22356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591160" y="2160360"/>
              <a:ext cx="78264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6405480" y="1974960"/>
            <a:ext cx="23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di sisma parlerò dop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Verifica SLE</a:t>
            </a:r>
            <a:br>
              <a:rPr sz="2800"/>
            </a:b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per le verifiche geotecniche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Analogamente al caso delle strutture, non bisogna apportare modifiche ai parametri meccanic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Quindi per il terreno si usano i soliti valori, senza coefficienti per modificarli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Si fa riferimento alle combinazioni di carico per SLE (rara, frequente, quasi permanente) G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Comic Sans MS"/>
              </a:rPr>
              <a:t>k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 + </a:t>
            </a:r>
            <a:r>
              <a:rPr b="0" lang="it-IT" sz="2400" spc="-1" strike="noStrike">
                <a:solidFill>
                  <a:srgbClr val="003399"/>
                </a:solidFill>
                <a:latin typeface="Symbol"/>
                <a:ea typeface="Symbol"/>
              </a:rPr>
              <a:t>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 Q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Si valutano i cedimenti del terreno sotto tali carichi e se ne controlla l’accettabilità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Sono importanti soprattutto gli abbassamenti relativi, che possono pregiudicare l’uso dell’edificio ma anche il funzionamento della struttura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Nelle combinazioni di carico SLE</a:t>
            </a:r>
            <a:br>
              <a:rPr sz="32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zioni variabili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647640" y="1835280"/>
            <a:ext cx="784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Valore caratteristico   F</a:t>
            </a:r>
            <a:r>
              <a:rPr b="0" lang="it-IT" sz="2000" spc="-1" strike="noStrike" baseline="-25000">
                <a:solidFill>
                  <a:srgbClr val="003399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89520" y="2266920"/>
            <a:ext cx="6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Comic Sans MS"/>
              </a:rPr>
              <a:t>F</a:t>
            </a:r>
            <a:r>
              <a:rPr b="0" lang="it-IT" sz="1400" spc="-1" strike="noStrike" baseline="-25000">
                <a:solidFill>
                  <a:srgbClr val="003399"/>
                </a:solidFill>
                <a:latin typeface="Comic Sans MS"/>
              </a:rPr>
              <a:t>max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857840" y="2498760"/>
                <a:ext cx="19044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5397480" y="2698920"/>
            <a:ext cx="337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È il frattile 95% dei valori massimi che si hanno in un periodo di riferiment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33880" y="2516040"/>
            <a:ext cx="36360" cy="367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511440"/>
            <a:ext cx="36360" cy="367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681280" y="4435560"/>
            <a:ext cx="36360" cy="3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822840" y="5332320"/>
            <a:ext cx="36360" cy="367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16040" y="2617920"/>
            <a:ext cx="4128840" cy="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28760" y="2517840"/>
            <a:ext cx="4416120" cy="926280"/>
            <a:chOff x="428760" y="2517840"/>
            <a:chExt cx="4416120" cy="926280"/>
          </a:xfrm>
        </p:grpSpPr>
        <p:grpSp>
          <p:nvGrpSpPr>
            <p:cNvPr id="367" name=""/>
            <p:cNvGrpSpPr/>
            <p:nvPr/>
          </p:nvGrpSpPr>
          <p:grpSpPr>
            <a:xfrm>
              <a:off x="716040" y="2541960"/>
              <a:ext cx="4128840" cy="625320"/>
              <a:chOff x="716040" y="2541960"/>
              <a:chExt cx="4128840" cy="625320"/>
            </a:xfrm>
          </p:grpSpPr>
          <p:sp>
            <p:nvSpPr>
              <p:cNvPr id="368" name=""/>
              <p:cNvSpPr/>
              <p:nvPr/>
            </p:nvSpPr>
            <p:spPr>
              <a:xfrm>
                <a:off x="716040" y="2541960"/>
                <a:ext cx="0" cy="6253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16040" y="3167280"/>
                <a:ext cx="412884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716040" y="2517840"/>
              <a:ext cx="4076640" cy="608040"/>
            </a:xfrm>
            <a:custGeom>
              <a:avLst/>
              <a:gdLst/>
              <a:ahLst/>
              <a:rect l="l" t="t" r="r" b="b"/>
              <a:pathLst>
                <a:path w="2568" h="383">
                  <a:moveTo>
                    <a:pt x="0" y="358"/>
                  </a:moveTo>
                  <a:cubicBezTo>
                    <a:pt x="7" y="294"/>
                    <a:pt x="15" y="230"/>
                    <a:pt x="20" y="222"/>
                  </a:cubicBezTo>
                  <a:cubicBezTo>
                    <a:pt x="25" y="214"/>
                    <a:pt x="23" y="302"/>
                    <a:pt x="30" y="308"/>
                  </a:cubicBezTo>
                  <a:cubicBezTo>
                    <a:pt x="37" y="314"/>
                    <a:pt x="54" y="280"/>
                    <a:pt x="60" y="257"/>
                  </a:cubicBezTo>
                  <a:cubicBezTo>
                    <a:pt x="66" y="234"/>
                    <a:pt x="63" y="172"/>
                    <a:pt x="65" y="167"/>
                  </a:cubicBezTo>
                  <a:cubicBezTo>
                    <a:pt x="67" y="162"/>
                    <a:pt x="67" y="225"/>
                    <a:pt x="75" y="227"/>
                  </a:cubicBezTo>
                  <a:cubicBezTo>
                    <a:pt x="83" y="229"/>
                    <a:pt x="106" y="175"/>
                    <a:pt x="115" y="177"/>
                  </a:cubicBezTo>
                  <a:cubicBezTo>
                    <a:pt x="124" y="179"/>
                    <a:pt x="125" y="211"/>
                    <a:pt x="130" y="237"/>
                  </a:cubicBezTo>
                  <a:cubicBezTo>
                    <a:pt x="135" y="263"/>
                    <a:pt x="140" y="329"/>
                    <a:pt x="145" y="333"/>
                  </a:cubicBezTo>
                  <a:cubicBezTo>
                    <a:pt x="150" y="337"/>
                    <a:pt x="153" y="275"/>
                    <a:pt x="160" y="262"/>
                  </a:cubicBezTo>
                  <a:cubicBezTo>
                    <a:pt x="167" y="249"/>
                    <a:pt x="182" y="247"/>
                    <a:pt x="190" y="252"/>
                  </a:cubicBezTo>
                  <a:cubicBezTo>
                    <a:pt x="198" y="257"/>
                    <a:pt x="204" y="278"/>
                    <a:pt x="210" y="293"/>
                  </a:cubicBezTo>
                  <a:cubicBezTo>
                    <a:pt x="216" y="308"/>
                    <a:pt x="216" y="333"/>
                    <a:pt x="225" y="343"/>
                  </a:cubicBezTo>
                  <a:cubicBezTo>
                    <a:pt x="234" y="353"/>
                    <a:pt x="254" y="361"/>
                    <a:pt x="265" y="353"/>
                  </a:cubicBezTo>
                  <a:cubicBezTo>
                    <a:pt x="276" y="345"/>
                    <a:pt x="283" y="296"/>
                    <a:pt x="290" y="293"/>
                  </a:cubicBezTo>
                  <a:cubicBezTo>
                    <a:pt x="297" y="290"/>
                    <a:pt x="303" y="335"/>
                    <a:pt x="310" y="333"/>
                  </a:cubicBezTo>
                  <a:cubicBezTo>
                    <a:pt x="317" y="331"/>
                    <a:pt x="325" y="314"/>
                    <a:pt x="335" y="278"/>
                  </a:cubicBezTo>
                  <a:cubicBezTo>
                    <a:pt x="345" y="242"/>
                    <a:pt x="363" y="120"/>
                    <a:pt x="370" y="117"/>
                  </a:cubicBezTo>
                  <a:cubicBezTo>
                    <a:pt x="377" y="114"/>
                    <a:pt x="372" y="229"/>
                    <a:pt x="380" y="257"/>
                  </a:cubicBezTo>
                  <a:cubicBezTo>
                    <a:pt x="388" y="285"/>
                    <a:pt x="413" y="290"/>
                    <a:pt x="421" y="288"/>
                  </a:cubicBezTo>
                  <a:cubicBezTo>
                    <a:pt x="429" y="286"/>
                    <a:pt x="422" y="245"/>
                    <a:pt x="431" y="242"/>
                  </a:cubicBezTo>
                  <a:cubicBezTo>
                    <a:pt x="440" y="239"/>
                    <a:pt x="463" y="273"/>
                    <a:pt x="476" y="268"/>
                  </a:cubicBezTo>
                  <a:cubicBezTo>
                    <a:pt x="489" y="263"/>
                    <a:pt x="502" y="227"/>
                    <a:pt x="511" y="212"/>
                  </a:cubicBezTo>
                  <a:cubicBezTo>
                    <a:pt x="520" y="197"/>
                    <a:pt x="527" y="175"/>
                    <a:pt x="531" y="177"/>
                  </a:cubicBezTo>
                  <a:cubicBezTo>
                    <a:pt x="535" y="179"/>
                    <a:pt x="533" y="205"/>
                    <a:pt x="536" y="222"/>
                  </a:cubicBezTo>
                  <a:cubicBezTo>
                    <a:pt x="539" y="239"/>
                    <a:pt x="541" y="263"/>
                    <a:pt x="551" y="278"/>
                  </a:cubicBezTo>
                  <a:cubicBezTo>
                    <a:pt x="561" y="293"/>
                    <a:pt x="586" y="312"/>
                    <a:pt x="596" y="313"/>
                  </a:cubicBezTo>
                  <a:cubicBezTo>
                    <a:pt x="606" y="314"/>
                    <a:pt x="606" y="280"/>
                    <a:pt x="611" y="283"/>
                  </a:cubicBezTo>
                  <a:cubicBezTo>
                    <a:pt x="616" y="286"/>
                    <a:pt x="622" y="342"/>
                    <a:pt x="626" y="333"/>
                  </a:cubicBezTo>
                  <a:cubicBezTo>
                    <a:pt x="630" y="324"/>
                    <a:pt x="632" y="231"/>
                    <a:pt x="636" y="227"/>
                  </a:cubicBezTo>
                  <a:cubicBezTo>
                    <a:pt x="640" y="223"/>
                    <a:pt x="643" y="299"/>
                    <a:pt x="651" y="308"/>
                  </a:cubicBezTo>
                  <a:cubicBezTo>
                    <a:pt x="659" y="317"/>
                    <a:pt x="674" y="288"/>
                    <a:pt x="686" y="283"/>
                  </a:cubicBezTo>
                  <a:cubicBezTo>
                    <a:pt x="698" y="278"/>
                    <a:pt x="714" y="287"/>
                    <a:pt x="721" y="278"/>
                  </a:cubicBezTo>
                  <a:cubicBezTo>
                    <a:pt x="728" y="269"/>
                    <a:pt x="723" y="227"/>
                    <a:pt x="731" y="227"/>
                  </a:cubicBezTo>
                  <a:cubicBezTo>
                    <a:pt x="739" y="227"/>
                    <a:pt x="764" y="258"/>
                    <a:pt x="771" y="278"/>
                  </a:cubicBezTo>
                  <a:cubicBezTo>
                    <a:pt x="778" y="298"/>
                    <a:pt x="772" y="344"/>
                    <a:pt x="776" y="348"/>
                  </a:cubicBezTo>
                  <a:cubicBezTo>
                    <a:pt x="780" y="352"/>
                    <a:pt x="790" y="301"/>
                    <a:pt x="796" y="303"/>
                  </a:cubicBezTo>
                  <a:cubicBezTo>
                    <a:pt x="802" y="305"/>
                    <a:pt x="805" y="365"/>
                    <a:pt x="811" y="358"/>
                  </a:cubicBezTo>
                  <a:cubicBezTo>
                    <a:pt x="817" y="351"/>
                    <a:pt x="824" y="305"/>
                    <a:pt x="831" y="262"/>
                  </a:cubicBezTo>
                  <a:cubicBezTo>
                    <a:pt x="838" y="219"/>
                    <a:pt x="851" y="99"/>
                    <a:pt x="856" y="97"/>
                  </a:cubicBezTo>
                  <a:cubicBezTo>
                    <a:pt x="861" y="95"/>
                    <a:pt x="854" y="230"/>
                    <a:pt x="861" y="252"/>
                  </a:cubicBezTo>
                  <a:cubicBezTo>
                    <a:pt x="868" y="274"/>
                    <a:pt x="889" y="223"/>
                    <a:pt x="896" y="227"/>
                  </a:cubicBezTo>
                  <a:cubicBezTo>
                    <a:pt x="903" y="231"/>
                    <a:pt x="897" y="261"/>
                    <a:pt x="906" y="278"/>
                  </a:cubicBezTo>
                  <a:cubicBezTo>
                    <a:pt x="915" y="295"/>
                    <a:pt x="941" y="331"/>
                    <a:pt x="951" y="328"/>
                  </a:cubicBezTo>
                  <a:cubicBezTo>
                    <a:pt x="961" y="325"/>
                    <a:pt x="959" y="273"/>
                    <a:pt x="966" y="257"/>
                  </a:cubicBezTo>
                  <a:cubicBezTo>
                    <a:pt x="973" y="241"/>
                    <a:pt x="982" y="229"/>
                    <a:pt x="992" y="232"/>
                  </a:cubicBezTo>
                  <a:cubicBezTo>
                    <a:pt x="1002" y="235"/>
                    <a:pt x="1020" y="260"/>
                    <a:pt x="1027" y="278"/>
                  </a:cubicBezTo>
                  <a:cubicBezTo>
                    <a:pt x="1034" y="296"/>
                    <a:pt x="1025" y="334"/>
                    <a:pt x="1032" y="338"/>
                  </a:cubicBezTo>
                  <a:cubicBezTo>
                    <a:pt x="1039" y="342"/>
                    <a:pt x="1058" y="301"/>
                    <a:pt x="1067" y="303"/>
                  </a:cubicBezTo>
                  <a:cubicBezTo>
                    <a:pt x="1076" y="305"/>
                    <a:pt x="1079" y="345"/>
                    <a:pt x="1087" y="353"/>
                  </a:cubicBezTo>
                  <a:cubicBezTo>
                    <a:pt x="1095" y="361"/>
                    <a:pt x="1109" y="349"/>
                    <a:pt x="1117" y="353"/>
                  </a:cubicBezTo>
                  <a:cubicBezTo>
                    <a:pt x="1125" y="357"/>
                    <a:pt x="1129" y="383"/>
                    <a:pt x="1137" y="378"/>
                  </a:cubicBezTo>
                  <a:cubicBezTo>
                    <a:pt x="1145" y="373"/>
                    <a:pt x="1158" y="324"/>
                    <a:pt x="1167" y="323"/>
                  </a:cubicBezTo>
                  <a:cubicBezTo>
                    <a:pt x="1176" y="322"/>
                    <a:pt x="1184" y="381"/>
                    <a:pt x="1192" y="373"/>
                  </a:cubicBezTo>
                  <a:cubicBezTo>
                    <a:pt x="1200" y="365"/>
                    <a:pt x="1206" y="289"/>
                    <a:pt x="1217" y="278"/>
                  </a:cubicBezTo>
                  <a:cubicBezTo>
                    <a:pt x="1228" y="267"/>
                    <a:pt x="1245" y="314"/>
                    <a:pt x="1257" y="308"/>
                  </a:cubicBezTo>
                  <a:cubicBezTo>
                    <a:pt x="1269" y="302"/>
                    <a:pt x="1280" y="240"/>
                    <a:pt x="1287" y="242"/>
                  </a:cubicBezTo>
                  <a:cubicBezTo>
                    <a:pt x="1294" y="244"/>
                    <a:pt x="1290" y="300"/>
                    <a:pt x="1297" y="318"/>
                  </a:cubicBezTo>
                  <a:cubicBezTo>
                    <a:pt x="1304" y="336"/>
                    <a:pt x="1320" y="358"/>
                    <a:pt x="1327" y="348"/>
                  </a:cubicBezTo>
                  <a:cubicBezTo>
                    <a:pt x="1334" y="338"/>
                    <a:pt x="1335" y="275"/>
                    <a:pt x="1342" y="257"/>
                  </a:cubicBezTo>
                  <a:cubicBezTo>
                    <a:pt x="1349" y="239"/>
                    <a:pt x="1361" y="229"/>
                    <a:pt x="1367" y="237"/>
                  </a:cubicBezTo>
                  <a:cubicBezTo>
                    <a:pt x="1373" y="245"/>
                    <a:pt x="1371" y="305"/>
                    <a:pt x="1377" y="303"/>
                  </a:cubicBezTo>
                  <a:cubicBezTo>
                    <a:pt x="1383" y="301"/>
                    <a:pt x="1394" y="222"/>
                    <a:pt x="1402" y="227"/>
                  </a:cubicBezTo>
                  <a:cubicBezTo>
                    <a:pt x="1410" y="232"/>
                    <a:pt x="1416" y="312"/>
                    <a:pt x="1427" y="333"/>
                  </a:cubicBezTo>
                  <a:cubicBezTo>
                    <a:pt x="1438" y="354"/>
                    <a:pt x="1457" y="357"/>
                    <a:pt x="1467" y="353"/>
                  </a:cubicBezTo>
                  <a:cubicBezTo>
                    <a:pt x="1477" y="349"/>
                    <a:pt x="1479" y="322"/>
                    <a:pt x="1487" y="308"/>
                  </a:cubicBezTo>
                  <a:cubicBezTo>
                    <a:pt x="1495" y="294"/>
                    <a:pt x="1510" y="265"/>
                    <a:pt x="1517" y="268"/>
                  </a:cubicBezTo>
                  <a:cubicBezTo>
                    <a:pt x="1524" y="271"/>
                    <a:pt x="1520" y="325"/>
                    <a:pt x="1527" y="328"/>
                  </a:cubicBezTo>
                  <a:cubicBezTo>
                    <a:pt x="1534" y="331"/>
                    <a:pt x="1549" y="286"/>
                    <a:pt x="1557" y="288"/>
                  </a:cubicBezTo>
                  <a:cubicBezTo>
                    <a:pt x="1565" y="290"/>
                    <a:pt x="1569" y="356"/>
                    <a:pt x="1578" y="343"/>
                  </a:cubicBezTo>
                  <a:cubicBezTo>
                    <a:pt x="1587" y="330"/>
                    <a:pt x="1606" y="222"/>
                    <a:pt x="1613" y="212"/>
                  </a:cubicBezTo>
                  <a:cubicBezTo>
                    <a:pt x="1620" y="202"/>
                    <a:pt x="1618" y="261"/>
                    <a:pt x="1623" y="283"/>
                  </a:cubicBezTo>
                  <a:cubicBezTo>
                    <a:pt x="1628" y="305"/>
                    <a:pt x="1631" y="341"/>
                    <a:pt x="1643" y="343"/>
                  </a:cubicBezTo>
                  <a:cubicBezTo>
                    <a:pt x="1655" y="345"/>
                    <a:pt x="1683" y="291"/>
                    <a:pt x="1698" y="293"/>
                  </a:cubicBezTo>
                  <a:cubicBezTo>
                    <a:pt x="1713" y="295"/>
                    <a:pt x="1721" y="352"/>
                    <a:pt x="1733" y="353"/>
                  </a:cubicBezTo>
                  <a:cubicBezTo>
                    <a:pt x="1745" y="354"/>
                    <a:pt x="1760" y="296"/>
                    <a:pt x="1768" y="298"/>
                  </a:cubicBezTo>
                  <a:cubicBezTo>
                    <a:pt x="1776" y="300"/>
                    <a:pt x="1774" y="368"/>
                    <a:pt x="1783" y="363"/>
                  </a:cubicBezTo>
                  <a:cubicBezTo>
                    <a:pt x="1792" y="358"/>
                    <a:pt x="1808" y="290"/>
                    <a:pt x="1823" y="268"/>
                  </a:cubicBezTo>
                  <a:cubicBezTo>
                    <a:pt x="1838" y="246"/>
                    <a:pt x="1864" y="225"/>
                    <a:pt x="1873" y="232"/>
                  </a:cubicBezTo>
                  <a:cubicBezTo>
                    <a:pt x="1882" y="239"/>
                    <a:pt x="1871" y="292"/>
                    <a:pt x="1878" y="308"/>
                  </a:cubicBezTo>
                  <a:cubicBezTo>
                    <a:pt x="1885" y="324"/>
                    <a:pt x="1907" y="330"/>
                    <a:pt x="1918" y="328"/>
                  </a:cubicBezTo>
                  <a:cubicBezTo>
                    <a:pt x="1929" y="326"/>
                    <a:pt x="1934" y="289"/>
                    <a:pt x="1943" y="293"/>
                  </a:cubicBezTo>
                  <a:cubicBezTo>
                    <a:pt x="1952" y="297"/>
                    <a:pt x="1961" y="354"/>
                    <a:pt x="1973" y="353"/>
                  </a:cubicBezTo>
                  <a:cubicBezTo>
                    <a:pt x="1985" y="352"/>
                    <a:pt x="2006" y="288"/>
                    <a:pt x="2013" y="288"/>
                  </a:cubicBezTo>
                  <a:cubicBezTo>
                    <a:pt x="2020" y="288"/>
                    <a:pt x="2003" y="345"/>
                    <a:pt x="2013" y="353"/>
                  </a:cubicBezTo>
                  <a:cubicBezTo>
                    <a:pt x="2023" y="361"/>
                    <a:pt x="2059" y="351"/>
                    <a:pt x="2073" y="338"/>
                  </a:cubicBezTo>
                  <a:cubicBezTo>
                    <a:pt x="2087" y="325"/>
                    <a:pt x="2092" y="296"/>
                    <a:pt x="2098" y="273"/>
                  </a:cubicBezTo>
                  <a:cubicBezTo>
                    <a:pt x="2104" y="250"/>
                    <a:pt x="2105" y="194"/>
                    <a:pt x="2108" y="202"/>
                  </a:cubicBezTo>
                  <a:cubicBezTo>
                    <a:pt x="2111" y="210"/>
                    <a:pt x="2112" y="328"/>
                    <a:pt x="2118" y="323"/>
                  </a:cubicBezTo>
                  <a:cubicBezTo>
                    <a:pt x="2124" y="318"/>
                    <a:pt x="2138" y="218"/>
                    <a:pt x="2144" y="172"/>
                  </a:cubicBezTo>
                  <a:cubicBezTo>
                    <a:pt x="2150" y="126"/>
                    <a:pt x="2150" y="74"/>
                    <a:pt x="2154" y="47"/>
                  </a:cubicBezTo>
                  <a:cubicBezTo>
                    <a:pt x="2158" y="20"/>
                    <a:pt x="2166" y="0"/>
                    <a:pt x="2169" y="12"/>
                  </a:cubicBezTo>
                  <a:cubicBezTo>
                    <a:pt x="2172" y="24"/>
                    <a:pt x="2168" y="84"/>
                    <a:pt x="2174" y="122"/>
                  </a:cubicBezTo>
                  <a:cubicBezTo>
                    <a:pt x="2180" y="160"/>
                    <a:pt x="2192" y="228"/>
                    <a:pt x="2204" y="242"/>
                  </a:cubicBezTo>
                  <a:cubicBezTo>
                    <a:pt x="2216" y="256"/>
                    <a:pt x="2235" y="199"/>
                    <a:pt x="2244" y="207"/>
                  </a:cubicBezTo>
                  <a:cubicBezTo>
                    <a:pt x="2253" y="215"/>
                    <a:pt x="2252" y="278"/>
                    <a:pt x="2259" y="293"/>
                  </a:cubicBezTo>
                  <a:cubicBezTo>
                    <a:pt x="2266" y="308"/>
                    <a:pt x="2277" y="290"/>
                    <a:pt x="2289" y="298"/>
                  </a:cubicBezTo>
                  <a:cubicBezTo>
                    <a:pt x="2301" y="306"/>
                    <a:pt x="2320" y="345"/>
                    <a:pt x="2329" y="343"/>
                  </a:cubicBezTo>
                  <a:cubicBezTo>
                    <a:pt x="2338" y="341"/>
                    <a:pt x="2337" y="286"/>
                    <a:pt x="2344" y="283"/>
                  </a:cubicBezTo>
                  <a:cubicBezTo>
                    <a:pt x="2351" y="280"/>
                    <a:pt x="2357" y="322"/>
                    <a:pt x="2369" y="323"/>
                  </a:cubicBezTo>
                  <a:cubicBezTo>
                    <a:pt x="2381" y="324"/>
                    <a:pt x="2408" y="286"/>
                    <a:pt x="2419" y="288"/>
                  </a:cubicBezTo>
                  <a:cubicBezTo>
                    <a:pt x="2430" y="290"/>
                    <a:pt x="2422" y="334"/>
                    <a:pt x="2434" y="338"/>
                  </a:cubicBezTo>
                  <a:cubicBezTo>
                    <a:pt x="2446" y="342"/>
                    <a:pt x="2480" y="311"/>
                    <a:pt x="2494" y="313"/>
                  </a:cubicBezTo>
                  <a:cubicBezTo>
                    <a:pt x="2508" y="315"/>
                    <a:pt x="2507" y="345"/>
                    <a:pt x="2519" y="353"/>
                  </a:cubicBezTo>
                  <a:cubicBezTo>
                    <a:pt x="2531" y="361"/>
                    <a:pt x="2568" y="351"/>
                    <a:pt x="2564" y="363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8760" y="254196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75160" y="310680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t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716040" y="3494160"/>
            <a:ext cx="4128840" cy="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28760" y="3417840"/>
            <a:ext cx="4416120" cy="896040"/>
            <a:chOff x="428760" y="3417840"/>
            <a:chExt cx="4416120" cy="896040"/>
          </a:xfrm>
        </p:grpSpPr>
        <p:grpSp>
          <p:nvGrpSpPr>
            <p:cNvPr id="375" name=""/>
            <p:cNvGrpSpPr/>
            <p:nvPr/>
          </p:nvGrpSpPr>
          <p:grpSpPr>
            <a:xfrm>
              <a:off x="716040" y="3417840"/>
              <a:ext cx="4128840" cy="625320"/>
              <a:chOff x="716040" y="3417840"/>
              <a:chExt cx="4128840" cy="625320"/>
            </a:xfrm>
          </p:grpSpPr>
          <p:sp>
            <p:nvSpPr>
              <p:cNvPr id="376" name=""/>
              <p:cNvSpPr/>
              <p:nvPr/>
            </p:nvSpPr>
            <p:spPr>
              <a:xfrm>
                <a:off x="716040" y="3417840"/>
                <a:ext cx="0" cy="6253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16040" y="4043160"/>
                <a:ext cx="412884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716040" y="3531960"/>
              <a:ext cx="4102200" cy="478080"/>
            </a:xfrm>
            <a:custGeom>
              <a:avLst/>
              <a:gdLst/>
              <a:ahLst/>
              <a:rect l="l" t="t" r="r" b="b"/>
              <a:pathLst>
                <a:path w="2584" h="301">
                  <a:moveTo>
                    <a:pt x="0" y="225"/>
                  </a:moveTo>
                  <a:cubicBezTo>
                    <a:pt x="6" y="201"/>
                    <a:pt x="13" y="177"/>
                    <a:pt x="15" y="185"/>
                  </a:cubicBezTo>
                  <a:cubicBezTo>
                    <a:pt x="17" y="193"/>
                    <a:pt x="13" y="269"/>
                    <a:pt x="15" y="276"/>
                  </a:cubicBezTo>
                  <a:cubicBezTo>
                    <a:pt x="17" y="283"/>
                    <a:pt x="23" y="228"/>
                    <a:pt x="30" y="230"/>
                  </a:cubicBezTo>
                  <a:cubicBezTo>
                    <a:pt x="37" y="232"/>
                    <a:pt x="53" y="284"/>
                    <a:pt x="60" y="286"/>
                  </a:cubicBezTo>
                  <a:cubicBezTo>
                    <a:pt x="67" y="288"/>
                    <a:pt x="65" y="247"/>
                    <a:pt x="70" y="245"/>
                  </a:cubicBezTo>
                  <a:cubicBezTo>
                    <a:pt x="75" y="243"/>
                    <a:pt x="85" y="280"/>
                    <a:pt x="90" y="276"/>
                  </a:cubicBezTo>
                  <a:cubicBezTo>
                    <a:pt x="95" y="272"/>
                    <a:pt x="96" y="222"/>
                    <a:pt x="100" y="220"/>
                  </a:cubicBezTo>
                  <a:cubicBezTo>
                    <a:pt x="104" y="218"/>
                    <a:pt x="109" y="269"/>
                    <a:pt x="115" y="266"/>
                  </a:cubicBezTo>
                  <a:cubicBezTo>
                    <a:pt x="121" y="263"/>
                    <a:pt x="130" y="217"/>
                    <a:pt x="135" y="200"/>
                  </a:cubicBezTo>
                  <a:cubicBezTo>
                    <a:pt x="140" y="183"/>
                    <a:pt x="142" y="159"/>
                    <a:pt x="145" y="165"/>
                  </a:cubicBezTo>
                  <a:cubicBezTo>
                    <a:pt x="148" y="171"/>
                    <a:pt x="149" y="221"/>
                    <a:pt x="155" y="235"/>
                  </a:cubicBezTo>
                  <a:cubicBezTo>
                    <a:pt x="161" y="249"/>
                    <a:pt x="173" y="254"/>
                    <a:pt x="180" y="250"/>
                  </a:cubicBezTo>
                  <a:cubicBezTo>
                    <a:pt x="187" y="246"/>
                    <a:pt x="191" y="208"/>
                    <a:pt x="195" y="210"/>
                  </a:cubicBezTo>
                  <a:cubicBezTo>
                    <a:pt x="199" y="212"/>
                    <a:pt x="199" y="265"/>
                    <a:pt x="205" y="261"/>
                  </a:cubicBezTo>
                  <a:cubicBezTo>
                    <a:pt x="211" y="257"/>
                    <a:pt x="223" y="203"/>
                    <a:pt x="230" y="185"/>
                  </a:cubicBezTo>
                  <a:cubicBezTo>
                    <a:pt x="237" y="167"/>
                    <a:pt x="246" y="144"/>
                    <a:pt x="250" y="150"/>
                  </a:cubicBezTo>
                  <a:cubicBezTo>
                    <a:pt x="254" y="156"/>
                    <a:pt x="252" y="202"/>
                    <a:pt x="255" y="220"/>
                  </a:cubicBezTo>
                  <a:cubicBezTo>
                    <a:pt x="258" y="238"/>
                    <a:pt x="263" y="261"/>
                    <a:pt x="270" y="261"/>
                  </a:cubicBezTo>
                  <a:cubicBezTo>
                    <a:pt x="277" y="261"/>
                    <a:pt x="288" y="218"/>
                    <a:pt x="295" y="220"/>
                  </a:cubicBezTo>
                  <a:cubicBezTo>
                    <a:pt x="302" y="222"/>
                    <a:pt x="303" y="271"/>
                    <a:pt x="310" y="271"/>
                  </a:cubicBezTo>
                  <a:cubicBezTo>
                    <a:pt x="317" y="271"/>
                    <a:pt x="333" y="238"/>
                    <a:pt x="340" y="220"/>
                  </a:cubicBezTo>
                  <a:cubicBezTo>
                    <a:pt x="347" y="202"/>
                    <a:pt x="346" y="160"/>
                    <a:pt x="350" y="160"/>
                  </a:cubicBezTo>
                  <a:cubicBezTo>
                    <a:pt x="354" y="160"/>
                    <a:pt x="361" y="202"/>
                    <a:pt x="365" y="220"/>
                  </a:cubicBezTo>
                  <a:cubicBezTo>
                    <a:pt x="369" y="238"/>
                    <a:pt x="371" y="267"/>
                    <a:pt x="375" y="271"/>
                  </a:cubicBezTo>
                  <a:cubicBezTo>
                    <a:pt x="379" y="275"/>
                    <a:pt x="386" y="257"/>
                    <a:pt x="390" y="245"/>
                  </a:cubicBezTo>
                  <a:cubicBezTo>
                    <a:pt x="394" y="233"/>
                    <a:pt x="395" y="201"/>
                    <a:pt x="400" y="200"/>
                  </a:cubicBezTo>
                  <a:cubicBezTo>
                    <a:pt x="405" y="199"/>
                    <a:pt x="415" y="242"/>
                    <a:pt x="421" y="240"/>
                  </a:cubicBezTo>
                  <a:cubicBezTo>
                    <a:pt x="427" y="238"/>
                    <a:pt x="430" y="184"/>
                    <a:pt x="436" y="185"/>
                  </a:cubicBezTo>
                  <a:cubicBezTo>
                    <a:pt x="442" y="186"/>
                    <a:pt x="449" y="229"/>
                    <a:pt x="456" y="245"/>
                  </a:cubicBezTo>
                  <a:cubicBezTo>
                    <a:pt x="463" y="261"/>
                    <a:pt x="475" y="287"/>
                    <a:pt x="481" y="281"/>
                  </a:cubicBezTo>
                  <a:cubicBezTo>
                    <a:pt x="487" y="275"/>
                    <a:pt x="488" y="236"/>
                    <a:pt x="491" y="210"/>
                  </a:cubicBezTo>
                  <a:cubicBezTo>
                    <a:pt x="494" y="184"/>
                    <a:pt x="495" y="148"/>
                    <a:pt x="501" y="125"/>
                  </a:cubicBezTo>
                  <a:cubicBezTo>
                    <a:pt x="507" y="102"/>
                    <a:pt x="521" y="65"/>
                    <a:pt x="526" y="70"/>
                  </a:cubicBezTo>
                  <a:cubicBezTo>
                    <a:pt x="531" y="75"/>
                    <a:pt x="523" y="133"/>
                    <a:pt x="531" y="155"/>
                  </a:cubicBezTo>
                  <a:cubicBezTo>
                    <a:pt x="539" y="177"/>
                    <a:pt x="563" y="203"/>
                    <a:pt x="571" y="200"/>
                  </a:cubicBezTo>
                  <a:cubicBezTo>
                    <a:pt x="579" y="197"/>
                    <a:pt x="576" y="157"/>
                    <a:pt x="581" y="135"/>
                  </a:cubicBezTo>
                  <a:cubicBezTo>
                    <a:pt x="586" y="113"/>
                    <a:pt x="593" y="87"/>
                    <a:pt x="601" y="65"/>
                  </a:cubicBezTo>
                  <a:cubicBezTo>
                    <a:pt x="609" y="43"/>
                    <a:pt x="625" y="0"/>
                    <a:pt x="631" y="5"/>
                  </a:cubicBezTo>
                  <a:cubicBezTo>
                    <a:pt x="637" y="10"/>
                    <a:pt x="628" y="82"/>
                    <a:pt x="636" y="95"/>
                  </a:cubicBezTo>
                  <a:cubicBezTo>
                    <a:pt x="644" y="108"/>
                    <a:pt x="667" y="71"/>
                    <a:pt x="676" y="85"/>
                  </a:cubicBezTo>
                  <a:cubicBezTo>
                    <a:pt x="685" y="99"/>
                    <a:pt x="684" y="165"/>
                    <a:pt x="691" y="180"/>
                  </a:cubicBezTo>
                  <a:cubicBezTo>
                    <a:pt x="698" y="195"/>
                    <a:pt x="713" y="167"/>
                    <a:pt x="721" y="175"/>
                  </a:cubicBezTo>
                  <a:cubicBezTo>
                    <a:pt x="729" y="183"/>
                    <a:pt x="734" y="228"/>
                    <a:pt x="741" y="230"/>
                  </a:cubicBezTo>
                  <a:cubicBezTo>
                    <a:pt x="748" y="232"/>
                    <a:pt x="759" y="187"/>
                    <a:pt x="766" y="190"/>
                  </a:cubicBezTo>
                  <a:cubicBezTo>
                    <a:pt x="773" y="193"/>
                    <a:pt x="774" y="252"/>
                    <a:pt x="781" y="250"/>
                  </a:cubicBezTo>
                  <a:cubicBezTo>
                    <a:pt x="788" y="248"/>
                    <a:pt x="801" y="178"/>
                    <a:pt x="806" y="175"/>
                  </a:cubicBezTo>
                  <a:cubicBezTo>
                    <a:pt x="811" y="172"/>
                    <a:pt x="805" y="234"/>
                    <a:pt x="811" y="230"/>
                  </a:cubicBezTo>
                  <a:cubicBezTo>
                    <a:pt x="817" y="226"/>
                    <a:pt x="834" y="147"/>
                    <a:pt x="841" y="150"/>
                  </a:cubicBezTo>
                  <a:cubicBezTo>
                    <a:pt x="848" y="153"/>
                    <a:pt x="842" y="239"/>
                    <a:pt x="851" y="250"/>
                  </a:cubicBezTo>
                  <a:cubicBezTo>
                    <a:pt x="860" y="261"/>
                    <a:pt x="881" y="211"/>
                    <a:pt x="896" y="215"/>
                  </a:cubicBezTo>
                  <a:cubicBezTo>
                    <a:pt x="911" y="219"/>
                    <a:pt x="932" y="278"/>
                    <a:pt x="941" y="276"/>
                  </a:cubicBezTo>
                  <a:cubicBezTo>
                    <a:pt x="950" y="274"/>
                    <a:pt x="943" y="218"/>
                    <a:pt x="951" y="200"/>
                  </a:cubicBezTo>
                  <a:cubicBezTo>
                    <a:pt x="959" y="182"/>
                    <a:pt x="978" y="167"/>
                    <a:pt x="986" y="170"/>
                  </a:cubicBezTo>
                  <a:cubicBezTo>
                    <a:pt x="994" y="173"/>
                    <a:pt x="991" y="206"/>
                    <a:pt x="997" y="220"/>
                  </a:cubicBezTo>
                  <a:cubicBezTo>
                    <a:pt x="1003" y="234"/>
                    <a:pt x="1012" y="261"/>
                    <a:pt x="1022" y="255"/>
                  </a:cubicBezTo>
                  <a:cubicBezTo>
                    <a:pt x="1032" y="249"/>
                    <a:pt x="1050" y="185"/>
                    <a:pt x="1057" y="185"/>
                  </a:cubicBezTo>
                  <a:cubicBezTo>
                    <a:pt x="1064" y="185"/>
                    <a:pt x="1058" y="241"/>
                    <a:pt x="1067" y="255"/>
                  </a:cubicBezTo>
                  <a:cubicBezTo>
                    <a:pt x="1076" y="269"/>
                    <a:pt x="1100" y="282"/>
                    <a:pt x="1112" y="271"/>
                  </a:cubicBezTo>
                  <a:cubicBezTo>
                    <a:pt x="1124" y="260"/>
                    <a:pt x="1135" y="212"/>
                    <a:pt x="1142" y="190"/>
                  </a:cubicBezTo>
                  <a:cubicBezTo>
                    <a:pt x="1149" y="168"/>
                    <a:pt x="1149" y="135"/>
                    <a:pt x="1152" y="140"/>
                  </a:cubicBezTo>
                  <a:cubicBezTo>
                    <a:pt x="1155" y="145"/>
                    <a:pt x="1153" y="215"/>
                    <a:pt x="1157" y="220"/>
                  </a:cubicBezTo>
                  <a:cubicBezTo>
                    <a:pt x="1161" y="225"/>
                    <a:pt x="1170" y="174"/>
                    <a:pt x="1177" y="170"/>
                  </a:cubicBezTo>
                  <a:cubicBezTo>
                    <a:pt x="1184" y="166"/>
                    <a:pt x="1192" y="184"/>
                    <a:pt x="1202" y="195"/>
                  </a:cubicBezTo>
                  <a:cubicBezTo>
                    <a:pt x="1212" y="206"/>
                    <a:pt x="1226" y="225"/>
                    <a:pt x="1237" y="235"/>
                  </a:cubicBezTo>
                  <a:cubicBezTo>
                    <a:pt x="1248" y="245"/>
                    <a:pt x="1261" y="262"/>
                    <a:pt x="1267" y="255"/>
                  </a:cubicBezTo>
                  <a:cubicBezTo>
                    <a:pt x="1273" y="248"/>
                    <a:pt x="1267" y="194"/>
                    <a:pt x="1272" y="190"/>
                  </a:cubicBezTo>
                  <a:cubicBezTo>
                    <a:pt x="1277" y="186"/>
                    <a:pt x="1283" y="233"/>
                    <a:pt x="1297" y="230"/>
                  </a:cubicBezTo>
                  <a:cubicBezTo>
                    <a:pt x="1311" y="227"/>
                    <a:pt x="1346" y="169"/>
                    <a:pt x="1357" y="170"/>
                  </a:cubicBezTo>
                  <a:cubicBezTo>
                    <a:pt x="1368" y="171"/>
                    <a:pt x="1355" y="217"/>
                    <a:pt x="1362" y="235"/>
                  </a:cubicBezTo>
                  <a:cubicBezTo>
                    <a:pt x="1369" y="253"/>
                    <a:pt x="1390" y="280"/>
                    <a:pt x="1397" y="276"/>
                  </a:cubicBezTo>
                  <a:cubicBezTo>
                    <a:pt x="1404" y="272"/>
                    <a:pt x="1395" y="212"/>
                    <a:pt x="1402" y="210"/>
                  </a:cubicBezTo>
                  <a:cubicBezTo>
                    <a:pt x="1409" y="208"/>
                    <a:pt x="1429" y="271"/>
                    <a:pt x="1437" y="266"/>
                  </a:cubicBezTo>
                  <a:cubicBezTo>
                    <a:pt x="1445" y="261"/>
                    <a:pt x="1440" y="206"/>
                    <a:pt x="1447" y="180"/>
                  </a:cubicBezTo>
                  <a:cubicBezTo>
                    <a:pt x="1454" y="154"/>
                    <a:pt x="1470" y="110"/>
                    <a:pt x="1477" y="110"/>
                  </a:cubicBezTo>
                  <a:cubicBezTo>
                    <a:pt x="1484" y="110"/>
                    <a:pt x="1481" y="162"/>
                    <a:pt x="1487" y="180"/>
                  </a:cubicBezTo>
                  <a:cubicBezTo>
                    <a:pt x="1493" y="198"/>
                    <a:pt x="1503" y="207"/>
                    <a:pt x="1512" y="220"/>
                  </a:cubicBezTo>
                  <a:cubicBezTo>
                    <a:pt x="1521" y="233"/>
                    <a:pt x="1536" y="263"/>
                    <a:pt x="1542" y="261"/>
                  </a:cubicBezTo>
                  <a:cubicBezTo>
                    <a:pt x="1548" y="259"/>
                    <a:pt x="1541" y="215"/>
                    <a:pt x="1547" y="205"/>
                  </a:cubicBezTo>
                  <a:cubicBezTo>
                    <a:pt x="1553" y="195"/>
                    <a:pt x="1571" y="193"/>
                    <a:pt x="1578" y="200"/>
                  </a:cubicBezTo>
                  <a:cubicBezTo>
                    <a:pt x="1585" y="207"/>
                    <a:pt x="1582" y="233"/>
                    <a:pt x="1588" y="245"/>
                  </a:cubicBezTo>
                  <a:cubicBezTo>
                    <a:pt x="1594" y="257"/>
                    <a:pt x="1608" y="279"/>
                    <a:pt x="1613" y="271"/>
                  </a:cubicBezTo>
                  <a:cubicBezTo>
                    <a:pt x="1618" y="263"/>
                    <a:pt x="1616" y="215"/>
                    <a:pt x="1618" y="195"/>
                  </a:cubicBezTo>
                  <a:cubicBezTo>
                    <a:pt x="1620" y="175"/>
                    <a:pt x="1624" y="148"/>
                    <a:pt x="1628" y="150"/>
                  </a:cubicBezTo>
                  <a:cubicBezTo>
                    <a:pt x="1632" y="152"/>
                    <a:pt x="1636" y="190"/>
                    <a:pt x="1643" y="205"/>
                  </a:cubicBezTo>
                  <a:cubicBezTo>
                    <a:pt x="1650" y="220"/>
                    <a:pt x="1660" y="224"/>
                    <a:pt x="1668" y="240"/>
                  </a:cubicBezTo>
                  <a:cubicBezTo>
                    <a:pt x="1676" y="256"/>
                    <a:pt x="1688" y="301"/>
                    <a:pt x="1693" y="301"/>
                  </a:cubicBezTo>
                  <a:cubicBezTo>
                    <a:pt x="1698" y="301"/>
                    <a:pt x="1692" y="254"/>
                    <a:pt x="1698" y="240"/>
                  </a:cubicBezTo>
                  <a:cubicBezTo>
                    <a:pt x="1704" y="226"/>
                    <a:pt x="1717" y="227"/>
                    <a:pt x="1728" y="215"/>
                  </a:cubicBezTo>
                  <a:cubicBezTo>
                    <a:pt x="1739" y="203"/>
                    <a:pt x="1755" y="160"/>
                    <a:pt x="1763" y="165"/>
                  </a:cubicBezTo>
                  <a:cubicBezTo>
                    <a:pt x="1771" y="170"/>
                    <a:pt x="1766" y="231"/>
                    <a:pt x="1773" y="245"/>
                  </a:cubicBezTo>
                  <a:cubicBezTo>
                    <a:pt x="1780" y="259"/>
                    <a:pt x="1796" y="259"/>
                    <a:pt x="1803" y="250"/>
                  </a:cubicBezTo>
                  <a:cubicBezTo>
                    <a:pt x="1810" y="241"/>
                    <a:pt x="1809" y="194"/>
                    <a:pt x="1813" y="190"/>
                  </a:cubicBezTo>
                  <a:cubicBezTo>
                    <a:pt x="1817" y="186"/>
                    <a:pt x="1821" y="231"/>
                    <a:pt x="1828" y="225"/>
                  </a:cubicBezTo>
                  <a:cubicBezTo>
                    <a:pt x="1835" y="219"/>
                    <a:pt x="1847" y="175"/>
                    <a:pt x="1858" y="155"/>
                  </a:cubicBezTo>
                  <a:cubicBezTo>
                    <a:pt x="1869" y="135"/>
                    <a:pt x="1884" y="106"/>
                    <a:pt x="1893" y="105"/>
                  </a:cubicBezTo>
                  <a:cubicBezTo>
                    <a:pt x="1902" y="104"/>
                    <a:pt x="1910" y="133"/>
                    <a:pt x="1913" y="150"/>
                  </a:cubicBezTo>
                  <a:cubicBezTo>
                    <a:pt x="1916" y="167"/>
                    <a:pt x="1907" y="193"/>
                    <a:pt x="1913" y="210"/>
                  </a:cubicBezTo>
                  <a:cubicBezTo>
                    <a:pt x="1919" y="227"/>
                    <a:pt x="1937" y="247"/>
                    <a:pt x="1948" y="250"/>
                  </a:cubicBezTo>
                  <a:cubicBezTo>
                    <a:pt x="1959" y="253"/>
                    <a:pt x="1970" y="224"/>
                    <a:pt x="1978" y="230"/>
                  </a:cubicBezTo>
                  <a:cubicBezTo>
                    <a:pt x="1986" y="236"/>
                    <a:pt x="1991" y="287"/>
                    <a:pt x="1998" y="286"/>
                  </a:cubicBezTo>
                  <a:cubicBezTo>
                    <a:pt x="2005" y="285"/>
                    <a:pt x="2016" y="225"/>
                    <a:pt x="2023" y="225"/>
                  </a:cubicBezTo>
                  <a:cubicBezTo>
                    <a:pt x="2030" y="225"/>
                    <a:pt x="2036" y="289"/>
                    <a:pt x="2043" y="286"/>
                  </a:cubicBezTo>
                  <a:cubicBezTo>
                    <a:pt x="2050" y="283"/>
                    <a:pt x="2052" y="233"/>
                    <a:pt x="2063" y="205"/>
                  </a:cubicBezTo>
                  <a:cubicBezTo>
                    <a:pt x="2074" y="177"/>
                    <a:pt x="2097" y="120"/>
                    <a:pt x="2108" y="120"/>
                  </a:cubicBezTo>
                  <a:cubicBezTo>
                    <a:pt x="2119" y="120"/>
                    <a:pt x="2117" y="178"/>
                    <a:pt x="2128" y="205"/>
                  </a:cubicBezTo>
                  <a:cubicBezTo>
                    <a:pt x="2139" y="232"/>
                    <a:pt x="2166" y="277"/>
                    <a:pt x="2174" y="281"/>
                  </a:cubicBezTo>
                  <a:cubicBezTo>
                    <a:pt x="2182" y="285"/>
                    <a:pt x="2172" y="228"/>
                    <a:pt x="2179" y="230"/>
                  </a:cubicBezTo>
                  <a:cubicBezTo>
                    <a:pt x="2186" y="232"/>
                    <a:pt x="2205" y="289"/>
                    <a:pt x="2214" y="291"/>
                  </a:cubicBezTo>
                  <a:cubicBezTo>
                    <a:pt x="2223" y="293"/>
                    <a:pt x="2228" y="242"/>
                    <a:pt x="2234" y="240"/>
                  </a:cubicBezTo>
                  <a:cubicBezTo>
                    <a:pt x="2240" y="238"/>
                    <a:pt x="2245" y="282"/>
                    <a:pt x="2249" y="276"/>
                  </a:cubicBezTo>
                  <a:cubicBezTo>
                    <a:pt x="2253" y="270"/>
                    <a:pt x="2253" y="212"/>
                    <a:pt x="2259" y="205"/>
                  </a:cubicBezTo>
                  <a:cubicBezTo>
                    <a:pt x="2265" y="198"/>
                    <a:pt x="2272" y="224"/>
                    <a:pt x="2284" y="235"/>
                  </a:cubicBezTo>
                  <a:cubicBezTo>
                    <a:pt x="2296" y="246"/>
                    <a:pt x="2317" y="274"/>
                    <a:pt x="2329" y="271"/>
                  </a:cubicBezTo>
                  <a:cubicBezTo>
                    <a:pt x="2341" y="268"/>
                    <a:pt x="2348" y="232"/>
                    <a:pt x="2354" y="215"/>
                  </a:cubicBezTo>
                  <a:cubicBezTo>
                    <a:pt x="2360" y="198"/>
                    <a:pt x="2357" y="171"/>
                    <a:pt x="2364" y="170"/>
                  </a:cubicBezTo>
                  <a:cubicBezTo>
                    <a:pt x="2371" y="169"/>
                    <a:pt x="2389" y="207"/>
                    <a:pt x="2399" y="210"/>
                  </a:cubicBezTo>
                  <a:cubicBezTo>
                    <a:pt x="2409" y="213"/>
                    <a:pt x="2415" y="182"/>
                    <a:pt x="2424" y="185"/>
                  </a:cubicBezTo>
                  <a:cubicBezTo>
                    <a:pt x="2433" y="188"/>
                    <a:pt x="2446" y="212"/>
                    <a:pt x="2454" y="230"/>
                  </a:cubicBezTo>
                  <a:cubicBezTo>
                    <a:pt x="2462" y="248"/>
                    <a:pt x="2467" y="289"/>
                    <a:pt x="2474" y="291"/>
                  </a:cubicBezTo>
                  <a:cubicBezTo>
                    <a:pt x="2481" y="293"/>
                    <a:pt x="2483" y="251"/>
                    <a:pt x="2499" y="240"/>
                  </a:cubicBezTo>
                  <a:cubicBezTo>
                    <a:pt x="2515" y="229"/>
                    <a:pt x="2555" y="223"/>
                    <a:pt x="2569" y="225"/>
                  </a:cubicBezTo>
                  <a:cubicBezTo>
                    <a:pt x="2583" y="227"/>
                    <a:pt x="2558" y="134"/>
                    <a:pt x="2584" y="255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8760" y="341784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75160" y="397656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t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716040" y="4394160"/>
            <a:ext cx="4128840" cy="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28760" y="4317840"/>
            <a:ext cx="4416120" cy="892800"/>
            <a:chOff x="428760" y="4317840"/>
            <a:chExt cx="4416120" cy="892800"/>
          </a:xfrm>
        </p:grpSpPr>
        <p:grpSp>
          <p:nvGrpSpPr>
            <p:cNvPr id="383" name=""/>
            <p:cNvGrpSpPr/>
            <p:nvPr/>
          </p:nvGrpSpPr>
          <p:grpSpPr>
            <a:xfrm>
              <a:off x="716040" y="4317840"/>
              <a:ext cx="4128840" cy="625320"/>
              <a:chOff x="716040" y="4317840"/>
              <a:chExt cx="4128840" cy="625320"/>
            </a:xfrm>
          </p:grpSpPr>
          <p:sp>
            <p:nvSpPr>
              <p:cNvPr id="384" name=""/>
              <p:cNvSpPr/>
              <p:nvPr/>
            </p:nvSpPr>
            <p:spPr>
              <a:xfrm>
                <a:off x="716040" y="4317840"/>
                <a:ext cx="0" cy="6253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16040" y="4943160"/>
                <a:ext cx="412884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716040" y="4439880"/>
              <a:ext cx="4086000" cy="490680"/>
            </a:xfrm>
            <a:custGeom>
              <a:avLst/>
              <a:gdLst/>
              <a:ahLst/>
              <a:rect l="l" t="t" r="r" b="b"/>
              <a:pathLst>
                <a:path w="2574" h="309">
                  <a:moveTo>
                    <a:pt x="0" y="246"/>
                  </a:moveTo>
                  <a:cubicBezTo>
                    <a:pt x="6" y="222"/>
                    <a:pt x="13" y="198"/>
                    <a:pt x="20" y="201"/>
                  </a:cubicBezTo>
                  <a:cubicBezTo>
                    <a:pt x="27" y="204"/>
                    <a:pt x="33" y="261"/>
                    <a:pt x="40" y="266"/>
                  </a:cubicBezTo>
                  <a:cubicBezTo>
                    <a:pt x="47" y="271"/>
                    <a:pt x="53" y="230"/>
                    <a:pt x="60" y="231"/>
                  </a:cubicBezTo>
                  <a:cubicBezTo>
                    <a:pt x="67" y="232"/>
                    <a:pt x="78" y="260"/>
                    <a:pt x="85" y="271"/>
                  </a:cubicBezTo>
                  <a:cubicBezTo>
                    <a:pt x="92" y="282"/>
                    <a:pt x="98" y="301"/>
                    <a:pt x="105" y="296"/>
                  </a:cubicBezTo>
                  <a:cubicBezTo>
                    <a:pt x="112" y="291"/>
                    <a:pt x="117" y="249"/>
                    <a:pt x="125" y="241"/>
                  </a:cubicBezTo>
                  <a:cubicBezTo>
                    <a:pt x="133" y="233"/>
                    <a:pt x="146" y="245"/>
                    <a:pt x="155" y="251"/>
                  </a:cubicBezTo>
                  <a:cubicBezTo>
                    <a:pt x="164" y="257"/>
                    <a:pt x="173" y="282"/>
                    <a:pt x="180" y="276"/>
                  </a:cubicBezTo>
                  <a:cubicBezTo>
                    <a:pt x="187" y="270"/>
                    <a:pt x="192" y="241"/>
                    <a:pt x="200" y="216"/>
                  </a:cubicBezTo>
                  <a:cubicBezTo>
                    <a:pt x="208" y="191"/>
                    <a:pt x="224" y="128"/>
                    <a:pt x="230" y="126"/>
                  </a:cubicBezTo>
                  <a:cubicBezTo>
                    <a:pt x="236" y="124"/>
                    <a:pt x="229" y="186"/>
                    <a:pt x="235" y="206"/>
                  </a:cubicBezTo>
                  <a:cubicBezTo>
                    <a:pt x="241" y="226"/>
                    <a:pt x="259" y="254"/>
                    <a:pt x="265" y="246"/>
                  </a:cubicBezTo>
                  <a:cubicBezTo>
                    <a:pt x="271" y="238"/>
                    <a:pt x="263" y="158"/>
                    <a:pt x="270" y="156"/>
                  </a:cubicBezTo>
                  <a:cubicBezTo>
                    <a:pt x="277" y="154"/>
                    <a:pt x="298" y="231"/>
                    <a:pt x="305" y="231"/>
                  </a:cubicBezTo>
                  <a:cubicBezTo>
                    <a:pt x="312" y="231"/>
                    <a:pt x="307" y="178"/>
                    <a:pt x="315" y="156"/>
                  </a:cubicBezTo>
                  <a:cubicBezTo>
                    <a:pt x="323" y="134"/>
                    <a:pt x="345" y="99"/>
                    <a:pt x="350" y="101"/>
                  </a:cubicBezTo>
                  <a:cubicBezTo>
                    <a:pt x="355" y="103"/>
                    <a:pt x="340" y="148"/>
                    <a:pt x="345" y="171"/>
                  </a:cubicBezTo>
                  <a:cubicBezTo>
                    <a:pt x="350" y="194"/>
                    <a:pt x="372" y="237"/>
                    <a:pt x="380" y="241"/>
                  </a:cubicBezTo>
                  <a:cubicBezTo>
                    <a:pt x="388" y="245"/>
                    <a:pt x="387" y="190"/>
                    <a:pt x="395" y="196"/>
                  </a:cubicBezTo>
                  <a:cubicBezTo>
                    <a:pt x="403" y="202"/>
                    <a:pt x="413" y="271"/>
                    <a:pt x="426" y="276"/>
                  </a:cubicBezTo>
                  <a:cubicBezTo>
                    <a:pt x="439" y="281"/>
                    <a:pt x="460" y="224"/>
                    <a:pt x="471" y="226"/>
                  </a:cubicBezTo>
                  <a:cubicBezTo>
                    <a:pt x="482" y="228"/>
                    <a:pt x="483" y="289"/>
                    <a:pt x="491" y="291"/>
                  </a:cubicBezTo>
                  <a:cubicBezTo>
                    <a:pt x="499" y="293"/>
                    <a:pt x="508" y="244"/>
                    <a:pt x="521" y="241"/>
                  </a:cubicBezTo>
                  <a:cubicBezTo>
                    <a:pt x="534" y="238"/>
                    <a:pt x="559" y="277"/>
                    <a:pt x="571" y="271"/>
                  </a:cubicBezTo>
                  <a:cubicBezTo>
                    <a:pt x="583" y="265"/>
                    <a:pt x="582" y="209"/>
                    <a:pt x="591" y="206"/>
                  </a:cubicBezTo>
                  <a:cubicBezTo>
                    <a:pt x="600" y="203"/>
                    <a:pt x="614" y="252"/>
                    <a:pt x="626" y="251"/>
                  </a:cubicBezTo>
                  <a:cubicBezTo>
                    <a:pt x="638" y="250"/>
                    <a:pt x="656" y="227"/>
                    <a:pt x="666" y="201"/>
                  </a:cubicBezTo>
                  <a:cubicBezTo>
                    <a:pt x="676" y="175"/>
                    <a:pt x="682" y="98"/>
                    <a:pt x="686" y="96"/>
                  </a:cubicBezTo>
                  <a:cubicBezTo>
                    <a:pt x="690" y="94"/>
                    <a:pt x="684" y="174"/>
                    <a:pt x="691" y="191"/>
                  </a:cubicBezTo>
                  <a:cubicBezTo>
                    <a:pt x="698" y="208"/>
                    <a:pt x="722" y="183"/>
                    <a:pt x="731" y="196"/>
                  </a:cubicBezTo>
                  <a:cubicBezTo>
                    <a:pt x="740" y="209"/>
                    <a:pt x="741" y="265"/>
                    <a:pt x="746" y="266"/>
                  </a:cubicBezTo>
                  <a:cubicBezTo>
                    <a:pt x="751" y="267"/>
                    <a:pt x="754" y="199"/>
                    <a:pt x="761" y="201"/>
                  </a:cubicBezTo>
                  <a:cubicBezTo>
                    <a:pt x="768" y="203"/>
                    <a:pt x="783" y="274"/>
                    <a:pt x="791" y="276"/>
                  </a:cubicBezTo>
                  <a:cubicBezTo>
                    <a:pt x="799" y="278"/>
                    <a:pt x="805" y="229"/>
                    <a:pt x="811" y="211"/>
                  </a:cubicBezTo>
                  <a:cubicBezTo>
                    <a:pt x="817" y="193"/>
                    <a:pt x="822" y="162"/>
                    <a:pt x="826" y="166"/>
                  </a:cubicBezTo>
                  <a:cubicBezTo>
                    <a:pt x="830" y="170"/>
                    <a:pt x="829" y="219"/>
                    <a:pt x="836" y="236"/>
                  </a:cubicBezTo>
                  <a:cubicBezTo>
                    <a:pt x="843" y="253"/>
                    <a:pt x="860" y="272"/>
                    <a:pt x="866" y="271"/>
                  </a:cubicBezTo>
                  <a:cubicBezTo>
                    <a:pt x="872" y="270"/>
                    <a:pt x="868" y="248"/>
                    <a:pt x="871" y="231"/>
                  </a:cubicBezTo>
                  <a:cubicBezTo>
                    <a:pt x="874" y="214"/>
                    <a:pt x="881" y="175"/>
                    <a:pt x="886" y="171"/>
                  </a:cubicBezTo>
                  <a:cubicBezTo>
                    <a:pt x="891" y="167"/>
                    <a:pt x="892" y="209"/>
                    <a:pt x="901" y="206"/>
                  </a:cubicBezTo>
                  <a:cubicBezTo>
                    <a:pt x="910" y="203"/>
                    <a:pt x="931" y="149"/>
                    <a:pt x="941" y="151"/>
                  </a:cubicBezTo>
                  <a:cubicBezTo>
                    <a:pt x="951" y="153"/>
                    <a:pt x="953" y="208"/>
                    <a:pt x="961" y="216"/>
                  </a:cubicBezTo>
                  <a:cubicBezTo>
                    <a:pt x="969" y="224"/>
                    <a:pt x="975" y="211"/>
                    <a:pt x="986" y="201"/>
                  </a:cubicBezTo>
                  <a:cubicBezTo>
                    <a:pt x="997" y="191"/>
                    <a:pt x="1017" y="153"/>
                    <a:pt x="1027" y="156"/>
                  </a:cubicBezTo>
                  <a:cubicBezTo>
                    <a:pt x="1037" y="159"/>
                    <a:pt x="1040" y="204"/>
                    <a:pt x="1047" y="221"/>
                  </a:cubicBezTo>
                  <a:cubicBezTo>
                    <a:pt x="1054" y="238"/>
                    <a:pt x="1063" y="261"/>
                    <a:pt x="1067" y="256"/>
                  </a:cubicBezTo>
                  <a:cubicBezTo>
                    <a:pt x="1071" y="251"/>
                    <a:pt x="1068" y="210"/>
                    <a:pt x="1072" y="191"/>
                  </a:cubicBezTo>
                  <a:cubicBezTo>
                    <a:pt x="1076" y="172"/>
                    <a:pt x="1084" y="159"/>
                    <a:pt x="1092" y="141"/>
                  </a:cubicBezTo>
                  <a:cubicBezTo>
                    <a:pt x="1100" y="123"/>
                    <a:pt x="1116" y="85"/>
                    <a:pt x="1122" y="86"/>
                  </a:cubicBezTo>
                  <a:cubicBezTo>
                    <a:pt x="1128" y="87"/>
                    <a:pt x="1122" y="125"/>
                    <a:pt x="1127" y="146"/>
                  </a:cubicBezTo>
                  <a:cubicBezTo>
                    <a:pt x="1132" y="167"/>
                    <a:pt x="1145" y="212"/>
                    <a:pt x="1152" y="211"/>
                  </a:cubicBezTo>
                  <a:cubicBezTo>
                    <a:pt x="1159" y="210"/>
                    <a:pt x="1160" y="144"/>
                    <a:pt x="1167" y="141"/>
                  </a:cubicBezTo>
                  <a:cubicBezTo>
                    <a:pt x="1174" y="138"/>
                    <a:pt x="1190" y="194"/>
                    <a:pt x="1197" y="191"/>
                  </a:cubicBezTo>
                  <a:cubicBezTo>
                    <a:pt x="1204" y="188"/>
                    <a:pt x="1201" y="144"/>
                    <a:pt x="1207" y="121"/>
                  </a:cubicBezTo>
                  <a:cubicBezTo>
                    <a:pt x="1213" y="98"/>
                    <a:pt x="1225" y="70"/>
                    <a:pt x="1232" y="51"/>
                  </a:cubicBezTo>
                  <a:cubicBezTo>
                    <a:pt x="1239" y="32"/>
                    <a:pt x="1249" y="0"/>
                    <a:pt x="1252" y="6"/>
                  </a:cubicBezTo>
                  <a:cubicBezTo>
                    <a:pt x="1255" y="12"/>
                    <a:pt x="1250" y="55"/>
                    <a:pt x="1252" y="86"/>
                  </a:cubicBezTo>
                  <a:cubicBezTo>
                    <a:pt x="1254" y="117"/>
                    <a:pt x="1255" y="178"/>
                    <a:pt x="1262" y="191"/>
                  </a:cubicBezTo>
                  <a:cubicBezTo>
                    <a:pt x="1269" y="204"/>
                    <a:pt x="1286" y="156"/>
                    <a:pt x="1292" y="166"/>
                  </a:cubicBezTo>
                  <a:cubicBezTo>
                    <a:pt x="1298" y="176"/>
                    <a:pt x="1292" y="255"/>
                    <a:pt x="1297" y="251"/>
                  </a:cubicBezTo>
                  <a:cubicBezTo>
                    <a:pt x="1302" y="247"/>
                    <a:pt x="1314" y="143"/>
                    <a:pt x="1322" y="141"/>
                  </a:cubicBezTo>
                  <a:cubicBezTo>
                    <a:pt x="1330" y="139"/>
                    <a:pt x="1338" y="231"/>
                    <a:pt x="1347" y="236"/>
                  </a:cubicBezTo>
                  <a:cubicBezTo>
                    <a:pt x="1356" y="241"/>
                    <a:pt x="1369" y="172"/>
                    <a:pt x="1377" y="171"/>
                  </a:cubicBezTo>
                  <a:cubicBezTo>
                    <a:pt x="1385" y="170"/>
                    <a:pt x="1393" y="234"/>
                    <a:pt x="1397" y="231"/>
                  </a:cubicBezTo>
                  <a:cubicBezTo>
                    <a:pt x="1401" y="228"/>
                    <a:pt x="1394" y="162"/>
                    <a:pt x="1402" y="151"/>
                  </a:cubicBezTo>
                  <a:cubicBezTo>
                    <a:pt x="1410" y="140"/>
                    <a:pt x="1438" y="174"/>
                    <a:pt x="1447" y="166"/>
                  </a:cubicBezTo>
                  <a:cubicBezTo>
                    <a:pt x="1456" y="158"/>
                    <a:pt x="1452" y="99"/>
                    <a:pt x="1457" y="106"/>
                  </a:cubicBezTo>
                  <a:cubicBezTo>
                    <a:pt x="1462" y="113"/>
                    <a:pt x="1470" y="200"/>
                    <a:pt x="1477" y="211"/>
                  </a:cubicBezTo>
                  <a:cubicBezTo>
                    <a:pt x="1484" y="222"/>
                    <a:pt x="1493" y="165"/>
                    <a:pt x="1502" y="171"/>
                  </a:cubicBezTo>
                  <a:cubicBezTo>
                    <a:pt x="1511" y="177"/>
                    <a:pt x="1525" y="241"/>
                    <a:pt x="1532" y="246"/>
                  </a:cubicBezTo>
                  <a:cubicBezTo>
                    <a:pt x="1539" y="251"/>
                    <a:pt x="1539" y="197"/>
                    <a:pt x="1542" y="201"/>
                  </a:cubicBezTo>
                  <a:cubicBezTo>
                    <a:pt x="1545" y="205"/>
                    <a:pt x="1544" y="264"/>
                    <a:pt x="1552" y="271"/>
                  </a:cubicBezTo>
                  <a:cubicBezTo>
                    <a:pt x="1560" y="278"/>
                    <a:pt x="1580" y="238"/>
                    <a:pt x="1593" y="241"/>
                  </a:cubicBezTo>
                  <a:cubicBezTo>
                    <a:pt x="1606" y="244"/>
                    <a:pt x="1620" y="289"/>
                    <a:pt x="1633" y="291"/>
                  </a:cubicBezTo>
                  <a:cubicBezTo>
                    <a:pt x="1646" y="293"/>
                    <a:pt x="1664" y="253"/>
                    <a:pt x="1673" y="251"/>
                  </a:cubicBezTo>
                  <a:cubicBezTo>
                    <a:pt x="1682" y="249"/>
                    <a:pt x="1681" y="287"/>
                    <a:pt x="1688" y="281"/>
                  </a:cubicBezTo>
                  <a:cubicBezTo>
                    <a:pt x="1695" y="275"/>
                    <a:pt x="1709" y="224"/>
                    <a:pt x="1718" y="216"/>
                  </a:cubicBezTo>
                  <a:cubicBezTo>
                    <a:pt x="1727" y="208"/>
                    <a:pt x="1736" y="220"/>
                    <a:pt x="1743" y="231"/>
                  </a:cubicBezTo>
                  <a:cubicBezTo>
                    <a:pt x="1750" y="242"/>
                    <a:pt x="1753" y="269"/>
                    <a:pt x="1763" y="281"/>
                  </a:cubicBezTo>
                  <a:cubicBezTo>
                    <a:pt x="1773" y="293"/>
                    <a:pt x="1789" y="303"/>
                    <a:pt x="1803" y="306"/>
                  </a:cubicBezTo>
                  <a:cubicBezTo>
                    <a:pt x="1817" y="309"/>
                    <a:pt x="1838" y="307"/>
                    <a:pt x="1848" y="301"/>
                  </a:cubicBezTo>
                  <a:cubicBezTo>
                    <a:pt x="1858" y="295"/>
                    <a:pt x="1859" y="271"/>
                    <a:pt x="1863" y="271"/>
                  </a:cubicBezTo>
                  <a:cubicBezTo>
                    <a:pt x="1867" y="271"/>
                    <a:pt x="1866" y="299"/>
                    <a:pt x="1873" y="301"/>
                  </a:cubicBezTo>
                  <a:cubicBezTo>
                    <a:pt x="1880" y="303"/>
                    <a:pt x="1890" y="281"/>
                    <a:pt x="1908" y="281"/>
                  </a:cubicBezTo>
                  <a:cubicBezTo>
                    <a:pt x="1926" y="281"/>
                    <a:pt x="1969" y="304"/>
                    <a:pt x="1983" y="301"/>
                  </a:cubicBezTo>
                  <a:cubicBezTo>
                    <a:pt x="1997" y="298"/>
                    <a:pt x="1989" y="261"/>
                    <a:pt x="1993" y="261"/>
                  </a:cubicBezTo>
                  <a:cubicBezTo>
                    <a:pt x="1997" y="261"/>
                    <a:pt x="2000" y="301"/>
                    <a:pt x="2008" y="301"/>
                  </a:cubicBezTo>
                  <a:cubicBezTo>
                    <a:pt x="2016" y="301"/>
                    <a:pt x="2031" y="276"/>
                    <a:pt x="2043" y="261"/>
                  </a:cubicBezTo>
                  <a:cubicBezTo>
                    <a:pt x="2055" y="246"/>
                    <a:pt x="2071" y="209"/>
                    <a:pt x="2078" y="211"/>
                  </a:cubicBezTo>
                  <a:cubicBezTo>
                    <a:pt x="2085" y="213"/>
                    <a:pt x="2081" y="275"/>
                    <a:pt x="2088" y="271"/>
                  </a:cubicBezTo>
                  <a:cubicBezTo>
                    <a:pt x="2095" y="267"/>
                    <a:pt x="2110" y="193"/>
                    <a:pt x="2118" y="186"/>
                  </a:cubicBezTo>
                  <a:cubicBezTo>
                    <a:pt x="2126" y="179"/>
                    <a:pt x="2128" y="229"/>
                    <a:pt x="2138" y="231"/>
                  </a:cubicBezTo>
                  <a:cubicBezTo>
                    <a:pt x="2148" y="233"/>
                    <a:pt x="2169" y="200"/>
                    <a:pt x="2179" y="201"/>
                  </a:cubicBezTo>
                  <a:cubicBezTo>
                    <a:pt x="2189" y="202"/>
                    <a:pt x="2191" y="223"/>
                    <a:pt x="2199" y="236"/>
                  </a:cubicBezTo>
                  <a:cubicBezTo>
                    <a:pt x="2207" y="249"/>
                    <a:pt x="2217" y="286"/>
                    <a:pt x="2224" y="281"/>
                  </a:cubicBezTo>
                  <a:cubicBezTo>
                    <a:pt x="2231" y="276"/>
                    <a:pt x="2234" y="206"/>
                    <a:pt x="2239" y="206"/>
                  </a:cubicBezTo>
                  <a:cubicBezTo>
                    <a:pt x="2244" y="206"/>
                    <a:pt x="2245" y="278"/>
                    <a:pt x="2254" y="281"/>
                  </a:cubicBezTo>
                  <a:cubicBezTo>
                    <a:pt x="2263" y="284"/>
                    <a:pt x="2282" y="226"/>
                    <a:pt x="2294" y="226"/>
                  </a:cubicBezTo>
                  <a:cubicBezTo>
                    <a:pt x="2306" y="226"/>
                    <a:pt x="2312" y="293"/>
                    <a:pt x="2324" y="281"/>
                  </a:cubicBezTo>
                  <a:cubicBezTo>
                    <a:pt x="2336" y="269"/>
                    <a:pt x="2360" y="160"/>
                    <a:pt x="2369" y="151"/>
                  </a:cubicBezTo>
                  <a:cubicBezTo>
                    <a:pt x="2378" y="142"/>
                    <a:pt x="2374" y="232"/>
                    <a:pt x="2379" y="226"/>
                  </a:cubicBezTo>
                  <a:cubicBezTo>
                    <a:pt x="2384" y="220"/>
                    <a:pt x="2393" y="117"/>
                    <a:pt x="2399" y="116"/>
                  </a:cubicBezTo>
                  <a:cubicBezTo>
                    <a:pt x="2405" y="115"/>
                    <a:pt x="2407" y="199"/>
                    <a:pt x="2414" y="221"/>
                  </a:cubicBezTo>
                  <a:cubicBezTo>
                    <a:pt x="2421" y="243"/>
                    <a:pt x="2435" y="253"/>
                    <a:pt x="2444" y="251"/>
                  </a:cubicBezTo>
                  <a:cubicBezTo>
                    <a:pt x="2453" y="249"/>
                    <a:pt x="2462" y="209"/>
                    <a:pt x="2469" y="211"/>
                  </a:cubicBezTo>
                  <a:cubicBezTo>
                    <a:pt x="2476" y="213"/>
                    <a:pt x="2475" y="270"/>
                    <a:pt x="2484" y="266"/>
                  </a:cubicBezTo>
                  <a:cubicBezTo>
                    <a:pt x="2493" y="262"/>
                    <a:pt x="2513" y="187"/>
                    <a:pt x="2524" y="186"/>
                  </a:cubicBezTo>
                  <a:cubicBezTo>
                    <a:pt x="2535" y="185"/>
                    <a:pt x="2541" y="254"/>
                    <a:pt x="2549" y="261"/>
                  </a:cubicBezTo>
                  <a:cubicBezTo>
                    <a:pt x="2557" y="268"/>
                    <a:pt x="2571" y="234"/>
                    <a:pt x="2574" y="226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8760" y="443988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75160" y="487332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t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716040" y="5294160"/>
            <a:ext cx="4128840" cy="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28760" y="5218200"/>
            <a:ext cx="4416120" cy="884880"/>
            <a:chOff x="428760" y="5218200"/>
            <a:chExt cx="4416120" cy="884880"/>
          </a:xfrm>
        </p:grpSpPr>
        <p:grpSp>
          <p:nvGrpSpPr>
            <p:cNvPr id="391" name=""/>
            <p:cNvGrpSpPr/>
            <p:nvPr/>
          </p:nvGrpSpPr>
          <p:grpSpPr>
            <a:xfrm>
              <a:off x="716040" y="5218200"/>
              <a:ext cx="4128840" cy="625320"/>
              <a:chOff x="716040" y="5218200"/>
              <a:chExt cx="4128840" cy="625320"/>
            </a:xfrm>
          </p:grpSpPr>
          <p:sp>
            <p:nvSpPr>
              <p:cNvPr id="392" name=""/>
              <p:cNvSpPr/>
              <p:nvPr/>
            </p:nvSpPr>
            <p:spPr>
              <a:xfrm>
                <a:off x="716040" y="5218200"/>
                <a:ext cx="0" cy="6253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16040" y="5843520"/>
                <a:ext cx="412884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428760" y="534060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1360" y="5351400"/>
              <a:ext cx="4119480" cy="470160"/>
            </a:xfrm>
            <a:custGeom>
              <a:avLst/>
              <a:gdLst/>
              <a:ahLst/>
              <a:rect l="l" t="t" r="r" b="b"/>
              <a:pathLst>
                <a:path w="2595" h="296">
                  <a:moveTo>
                    <a:pt x="0" y="171"/>
                  </a:moveTo>
                  <a:cubicBezTo>
                    <a:pt x="9" y="182"/>
                    <a:pt x="18" y="194"/>
                    <a:pt x="24" y="191"/>
                  </a:cubicBezTo>
                  <a:cubicBezTo>
                    <a:pt x="30" y="188"/>
                    <a:pt x="31" y="150"/>
                    <a:pt x="36" y="155"/>
                  </a:cubicBezTo>
                  <a:cubicBezTo>
                    <a:pt x="41" y="160"/>
                    <a:pt x="48" y="221"/>
                    <a:pt x="56" y="223"/>
                  </a:cubicBezTo>
                  <a:cubicBezTo>
                    <a:pt x="64" y="225"/>
                    <a:pt x="75" y="184"/>
                    <a:pt x="84" y="167"/>
                  </a:cubicBezTo>
                  <a:cubicBezTo>
                    <a:pt x="93" y="150"/>
                    <a:pt x="107" y="119"/>
                    <a:pt x="112" y="119"/>
                  </a:cubicBezTo>
                  <a:cubicBezTo>
                    <a:pt x="117" y="119"/>
                    <a:pt x="112" y="154"/>
                    <a:pt x="116" y="167"/>
                  </a:cubicBezTo>
                  <a:cubicBezTo>
                    <a:pt x="120" y="180"/>
                    <a:pt x="129" y="206"/>
                    <a:pt x="136" y="199"/>
                  </a:cubicBezTo>
                  <a:cubicBezTo>
                    <a:pt x="143" y="192"/>
                    <a:pt x="154" y="122"/>
                    <a:pt x="160" y="123"/>
                  </a:cubicBezTo>
                  <a:cubicBezTo>
                    <a:pt x="166" y="124"/>
                    <a:pt x="167" y="186"/>
                    <a:pt x="172" y="207"/>
                  </a:cubicBezTo>
                  <a:cubicBezTo>
                    <a:pt x="177" y="228"/>
                    <a:pt x="185" y="254"/>
                    <a:pt x="188" y="251"/>
                  </a:cubicBezTo>
                  <a:cubicBezTo>
                    <a:pt x="191" y="248"/>
                    <a:pt x="187" y="188"/>
                    <a:pt x="192" y="187"/>
                  </a:cubicBezTo>
                  <a:cubicBezTo>
                    <a:pt x="197" y="186"/>
                    <a:pt x="209" y="242"/>
                    <a:pt x="216" y="243"/>
                  </a:cubicBezTo>
                  <a:cubicBezTo>
                    <a:pt x="223" y="244"/>
                    <a:pt x="225" y="187"/>
                    <a:pt x="232" y="191"/>
                  </a:cubicBezTo>
                  <a:cubicBezTo>
                    <a:pt x="239" y="195"/>
                    <a:pt x="247" y="263"/>
                    <a:pt x="256" y="267"/>
                  </a:cubicBezTo>
                  <a:cubicBezTo>
                    <a:pt x="265" y="271"/>
                    <a:pt x="279" y="232"/>
                    <a:pt x="288" y="215"/>
                  </a:cubicBezTo>
                  <a:cubicBezTo>
                    <a:pt x="297" y="198"/>
                    <a:pt x="303" y="162"/>
                    <a:pt x="308" y="163"/>
                  </a:cubicBezTo>
                  <a:cubicBezTo>
                    <a:pt x="313" y="164"/>
                    <a:pt x="312" y="208"/>
                    <a:pt x="316" y="223"/>
                  </a:cubicBezTo>
                  <a:cubicBezTo>
                    <a:pt x="320" y="238"/>
                    <a:pt x="327" y="252"/>
                    <a:pt x="332" y="251"/>
                  </a:cubicBezTo>
                  <a:cubicBezTo>
                    <a:pt x="337" y="250"/>
                    <a:pt x="339" y="236"/>
                    <a:pt x="344" y="215"/>
                  </a:cubicBezTo>
                  <a:cubicBezTo>
                    <a:pt x="349" y="194"/>
                    <a:pt x="358" y="130"/>
                    <a:pt x="364" y="127"/>
                  </a:cubicBezTo>
                  <a:cubicBezTo>
                    <a:pt x="370" y="124"/>
                    <a:pt x="374" y="176"/>
                    <a:pt x="380" y="195"/>
                  </a:cubicBezTo>
                  <a:cubicBezTo>
                    <a:pt x="386" y="214"/>
                    <a:pt x="394" y="245"/>
                    <a:pt x="400" y="243"/>
                  </a:cubicBezTo>
                  <a:cubicBezTo>
                    <a:pt x="406" y="241"/>
                    <a:pt x="410" y="185"/>
                    <a:pt x="416" y="183"/>
                  </a:cubicBezTo>
                  <a:cubicBezTo>
                    <a:pt x="422" y="181"/>
                    <a:pt x="426" y="232"/>
                    <a:pt x="436" y="231"/>
                  </a:cubicBezTo>
                  <a:cubicBezTo>
                    <a:pt x="446" y="230"/>
                    <a:pt x="469" y="172"/>
                    <a:pt x="476" y="175"/>
                  </a:cubicBezTo>
                  <a:cubicBezTo>
                    <a:pt x="483" y="178"/>
                    <a:pt x="474" y="230"/>
                    <a:pt x="480" y="247"/>
                  </a:cubicBezTo>
                  <a:cubicBezTo>
                    <a:pt x="486" y="264"/>
                    <a:pt x="503" y="276"/>
                    <a:pt x="512" y="275"/>
                  </a:cubicBezTo>
                  <a:cubicBezTo>
                    <a:pt x="521" y="274"/>
                    <a:pt x="523" y="242"/>
                    <a:pt x="532" y="243"/>
                  </a:cubicBezTo>
                  <a:cubicBezTo>
                    <a:pt x="541" y="244"/>
                    <a:pt x="555" y="281"/>
                    <a:pt x="564" y="283"/>
                  </a:cubicBezTo>
                  <a:cubicBezTo>
                    <a:pt x="573" y="285"/>
                    <a:pt x="580" y="253"/>
                    <a:pt x="588" y="255"/>
                  </a:cubicBezTo>
                  <a:cubicBezTo>
                    <a:pt x="596" y="257"/>
                    <a:pt x="602" y="294"/>
                    <a:pt x="612" y="295"/>
                  </a:cubicBezTo>
                  <a:cubicBezTo>
                    <a:pt x="622" y="296"/>
                    <a:pt x="639" y="263"/>
                    <a:pt x="648" y="263"/>
                  </a:cubicBezTo>
                  <a:cubicBezTo>
                    <a:pt x="657" y="263"/>
                    <a:pt x="659" y="296"/>
                    <a:pt x="668" y="295"/>
                  </a:cubicBezTo>
                  <a:cubicBezTo>
                    <a:pt x="677" y="294"/>
                    <a:pt x="690" y="273"/>
                    <a:pt x="700" y="259"/>
                  </a:cubicBezTo>
                  <a:cubicBezTo>
                    <a:pt x="710" y="245"/>
                    <a:pt x="721" y="211"/>
                    <a:pt x="728" y="211"/>
                  </a:cubicBezTo>
                  <a:cubicBezTo>
                    <a:pt x="735" y="211"/>
                    <a:pt x="739" y="262"/>
                    <a:pt x="744" y="259"/>
                  </a:cubicBezTo>
                  <a:cubicBezTo>
                    <a:pt x="749" y="256"/>
                    <a:pt x="751" y="216"/>
                    <a:pt x="756" y="195"/>
                  </a:cubicBezTo>
                  <a:cubicBezTo>
                    <a:pt x="761" y="174"/>
                    <a:pt x="771" y="135"/>
                    <a:pt x="776" y="135"/>
                  </a:cubicBezTo>
                  <a:cubicBezTo>
                    <a:pt x="781" y="135"/>
                    <a:pt x="781" y="178"/>
                    <a:pt x="788" y="195"/>
                  </a:cubicBezTo>
                  <a:cubicBezTo>
                    <a:pt x="795" y="212"/>
                    <a:pt x="810" y="241"/>
                    <a:pt x="816" y="239"/>
                  </a:cubicBezTo>
                  <a:cubicBezTo>
                    <a:pt x="822" y="237"/>
                    <a:pt x="817" y="190"/>
                    <a:pt x="824" y="183"/>
                  </a:cubicBezTo>
                  <a:cubicBezTo>
                    <a:pt x="831" y="176"/>
                    <a:pt x="847" y="188"/>
                    <a:pt x="856" y="199"/>
                  </a:cubicBezTo>
                  <a:cubicBezTo>
                    <a:pt x="865" y="210"/>
                    <a:pt x="873" y="254"/>
                    <a:pt x="880" y="251"/>
                  </a:cubicBezTo>
                  <a:cubicBezTo>
                    <a:pt x="887" y="248"/>
                    <a:pt x="891" y="188"/>
                    <a:pt x="896" y="183"/>
                  </a:cubicBezTo>
                  <a:cubicBezTo>
                    <a:pt x="901" y="178"/>
                    <a:pt x="907" y="221"/>
                    <a:pt x="912" y="219"/>
                  </a:cubicBezTo>
                  <a:cubicBezTo>
                    <a:pt x="917" y="217"/>
                    <a:pt x="923" y="171"/>
                    <a:pt x="928" y="171"/>
                  </a:cubicBezTo>
                  <a:cubicBezTo>
                    <a:pt x="933" y="171"/>
                    <a:pt x="938" y="222"/>
                    <a:pt x="944" y="219"/>
                  </a:cubicBezTo>
                  <a:cubicBezTo>
                    <a:pt x="950" y="216"/>
                    <a:pt x="959" y="172"/>
                    <a:pt x="964" y="151"/>
                  </a:cubicBezTo>
                  <a:cubicBezTo>
                    <a:pt x="969" y="130"/>
                    <a:pt x="971" y="112"/>
                    <a:pt x="972" y="91"/>
                  </a:cubicBezTo>
                  <a:cubicBezTo>
                    <a:pt x="973" y="70"/>
                    <a:pt x="968" y="22"/>
                    <a:pt x="972" y="27"/>
                  </a:cubicBezTo>
                  <a:cubicBezTo>
                    <a:pt x="976" y="32"/>
                    <a:pt x="991" y="100"/>
                    <a:pt x="996" y="123"/>
                  </a:cubicBezTo>
                  <a:cubicBezTo>
                    <a:pt x="1001" y="146"/>
                    <a:pt x="999" y="150"/>
                    <a:pt x="1000" y="163"/>
                  </a:cubicBezTo>
                  <a:cubicBezTo>
                    <a:pt x="1001" y="176"/>
                    <a:pt x="998" y="200"/>
                    <a:pt x="1004" y="199"/>
                  </a:cubicBezTo>
                  <a:cubicBezTo>
                    <a:pt x="1010" y="198"/>
                    <a:pt x="1029" y="157"/>
                    <a:pt x="1036" y="159"/>
                  </a:cubicBezTo>
                  <a:cubicBezTo>
                    <a:pt x="1043" y="161"/>
                    <a:pt x="1041" y="220"/>
                    <a:pt x="1048" y="211"/>
                  </a:cubicBezTo>
                  <a:cubicBezTo>
                    <a:pt x="1055" y="202"/>
                    <a:pt x="1068" y="122"/>
                    <a:pt x="1076" y="107"/>
                  </a:cubicBezTo>
                  <a:cubicBezTo>
                    <a:pt x="1084" y="92"/>
                    <a:pt x="1090" y="126"/>
                    <a:pt x="1096" y="123"/>
                  </a:cubicBezTo>
                  <a:cubicBezTo>
                    <a:pt x="1102" y="120"/>
                    <a:pt x="1109" y="85"/>
                    <a:pt x="1112" y="87"/>
                  </a:cubicBezTo>
                  <a:cubicBezTo>
                    <a:pt x="1115" y="89"/>
                    <a:pt x="1112" y="118"/>
                    <a:pt x="1112" y="135"/>
                  </a:cubicBezTo>
                  <a:cubicBezTo>
                    <a:pt x="1112" y="152"/>
                    <a:pt x="1109" y="182"/>
                    <a:pt x="1112" y="187"/>
                  </a:cubicBezTo>
                  <a:cubicBezTo>
                    <a:pt x="1115" y="192"/>
                    <a:pt x="1127" y="161"/>
                    <a:pt x="1132" y="167"/>
                  </a:cubicBezTo>
                  <a:cubicBezTo>
                    <a:pt x="1137" y="173"/>
                    <a:pt x="1136" y="223"/>
                    <a:pt x="1144" y="223"/>
                  </a:cubicBezTo>
                  <a:cubicBezTo>
                    <a:pt x="1152" y="223"/>
                    <a:pt x="1175" y="166"/>
                    <a:pt x="1180" y="167"/>
                  </a:cubicBezTo>
                  <a:cubicBezTo>
                    <a:pt x="1185" y="168"/>
                    <a:pt x="1173" y="210"/>
                    <a:pt x="1176" y="231"/>
                  </a:cubicBezTo>
                  <a:cubicBezTo>
                    <a:pt x="1179" y="252"/>
                    <a:pt x="1193" y="294"/>
                    <a:pt x="1200" y="295"/>
                  </a:cubicBezTo>
                  <a:cubicBezTo>
                    <a:pt x="1207" y="296"/>
                    <a:pt x="1212" y="237"/>
                    <a:pt x="1220" y="235"/>
                  </a:cubicBezTo>
                  <a:cubicBezTo>
                    <a:pt x="1228" y="233"/>
                    <a:pt x="1241" y="292"/>
                    <a:pt x="1248" y="283"/>
                  </a:cubicBezTo>
                  <a:cubicBezTo>
                    <a:pt x="1255" y="274"/>
                    <a:pt x="1257" y="185"/>
                    <a:pt x="1260" y="183"/>
                  </a:cubicBezTo>
                  <a:cubicBezTo>
                    <a:pt x="1263" y="181"/>
                    <a:pt x="1271" y="271"/>
                    <a:pt x="1268" y="271"/>
                  </a:cubicBezTo>
                  <a:cubicBezTo>
                    <a:pt x="1265" y="271"/>
                    <a:pt x="1277" y="191"/>
                    <a:pt x="1280" y="183"/>
                  </a:cubicBezTo>
                  <a:cubicBezTo>
                    <a:pt x="1283" y="175"/>
                    <a:pt x="1280" y="227"/>
                    <a:pt x="1284" y="223"/>
                  </a:cubicBezTo>
                  <a:cubicBezTo>
                    <a:pt x="1288" y="219"/>
                    <a:pt x="1298" y="151"/>
                    <a:pt x="1304" y="159"/>
                  </a:cubicBezTo>
                  <a:cubicBezTo>
                    <a:pt x="1310" y="167"/>
                    <a:pt x="1313" y="256"/>
                    <a:pt x="1320" y="271"/>
                  </a:cubicBezTo>
                  <a:cubicBezTo>
                    <a:pt x="1327" y="286"/>
                    <a:pt x="1338" y="248"/>
                    <a:pt x="1344" y="251"/>
                  </a:cubicBezTo>
                  <a:cubicBezTo>
                    <a:pt x="1350" y="254"/>
                    <a:pt x="1351" y="292"/>
                    <a:pt x="1356" y="291"/>
                  </a:cubicBezTo>
                  <a:cubicBezTo>
                    <a:pt x="1361" y="290"/>
                    <a:pt x="1367" y="258"/>
                    <a:pt x="1376" y="243"/>
                  </a:cubicBezTo>
                  <a:cubicBezTo>
                    <a:pt x="1385" y="228"/>
                    <a:pt x="1401" y="198"/>
                    <a:pt x="1408" y="199"/>
                  </a:cubicBezTo>
                  <a:cubicBezTo>
                    <a:pt x="1415" y="200"/>
                    <a:pt x="1412" y="244"/>
                    <a:pt x="1420" y="251"/>
                  </a:cubicBezTo>
                  <a:cubicBezTo>
                    <a:pt x="1428" y="258"/>
                    <a:pt x="1448" y="239"/>
                    <a:pt x="1456" y="243"/>
                  </a:cubicBezTo>
                  <a:cubicBezTo>
                    <a:pt x="1464" y="247"/>
                    <a:pt x="1462" y="268"/>
                    <a:pt x="1468" y="275"/>
                  </a:cubicBezTo>
                  <a:cubicBezTo>
                    <a:pt x="1474" y="282"/>
                    <a:pt x="1487" y="291"/>
                    <a:pt x="1492" y="287"/>
                  </a:cubicBezTo>
                  <a:cubicBezTo>
                    <a:pt x="1497" y="283"/>
                    <a:pt x="1494" y="250"/>
                    <a:pt x="1500" y="251"/>
                  </a:cubicBezTo>
                  <a:cubicBezTo>
                    <a:pt x="1506" y="252"/>
                    <a:pt x="1519" y="294"/>
                    <a:pt x="1528" y="291"/>
                  </a:cubicBezTo>
                  <a:cubicBezTo>
                    <a:pt x="1537" y="288"/>
                    <a:pt x="1545" y="234"/>
                    <a:pt x="1552" y="231"/>
                  </a:cubicBezTo>
                  <a:cubicBezTo>
                    <a:pt x="1559" y="228"/>
                    <a:pt x="1562" y="279"/>
                    <a:pt x="1572" y="271"/>
                  </a:cubicBezTo>
                  <a:cubicBezTo>
                    <a:pt x="1582" y="263"/>
                    <a:pt x="1603" y="188"/>
                    <a:pt x="1612" y="183"/>
                  </a:cubicBezTo>
                  <a:cubicBezTo>
                    <a:pt x="1621" y="178"/>
                    <a:pt x="1618" y="240"/>
                    <a:pt x="1628" y="239"/>
                  </a:cubicBezTo>
                  <a:cubicBezTo>
                    <a:pt x="1638" y="238"/>
                    <a:pt x="1661" y="199"/>
                    <a:pt x="1672" y="175"/>
                  </a:cubicBezTo>
                  <a:cubicBezTo>
                    <a:pt x="1683" y="151"/>
                    <a:pt x="1688" y="92"/>
                    <a:pt x="1692" y="95"/>
                  </a:cubicBezTo>
                  <a:cubicBezTo>
                    <a:pt x="1696" y="98"/>
                    <a:pt x="1690" y="170"/>
                    <a:pt x="1696" y="195"/>
                  </a:cubicBezTo>
                  <a:cubicBezTo>
                    <a:pt x="1702" y="220"/>
                    <a:pt x="1720" y="247"/>
                    <a:pt x="1728" y="247"/>
                  </a:cubicBezTo>
                  <a:cubicBezTo>
                    <a:pt x="1736" y="247"/>
                    <a:pt x="1736" y="192"/>
                    <a:pt x="1744" y="195"/>
                  </a:cubicBezTo>
                  <a:cubicBezTo>
                    <a:pt x="1752" y="198"/>
                    <a:pt x="1768" y="262"/>
                    <a:pt x="1776" y="263"/>
                  </a:cubicBezTo>
                  <a:cubicBezTo>
                    <a:pt x="1784" y="264"/>
                    <a:pt x="1785" y="220"/>
                    <a:pt x="1792" y="203"/>
                  </a:cubicBezTo>
                  <a:cubicBezTo>
                    <a:pt x="1799" y="186"/>
                    <a:pt x="1815" y="162"/>
                    <a:pt x="1820" y="163"/>
                  </a:cubicBezTo>
                  <a:cubicBezTo>
                    <a:pt x="1825" y="164"/>
                    <a:pt x="1816" y="209"/>
                    <a:pt x="1820" y="211"/>
                  </a:cubicBezTo>
                  <a:cubicBezTo>
                    <a:pt x="1824" y="213"/>
                    <a:pt x="1837" y="192"/>
                    <a:pt x="1844" y="175"/>
                  </a:cubicBezTo>
                  <a:cubicBezTo>
                    <a:pt x="1851" y="158"/>
                    <a:pt x="1856" y="107"/>
                    <a:pt x="1860" y="107"/>
                  </a:cubicBezTo>
                  <a:cubicBezTo>
                    <a:pt x="1864" y="107"/>
                    <a:pt x="1865" y="153"/>
                    <a:pt x="1868" y="175"/>
                  </a:cubicBezTo>
                  <a:cubicBezTo>
                    <a:pt x="1871" y="197"/>
                    <a:pt x="1869" y="225"/>
                    <a:pt x="1876" y="239"/>
                  </a:cubicBezTo>
                  <a:cubicBezTo>
                    <a:pt x="1883" y="253"/>
                    <a:pt x="1901" y="267"/>
                    <a:pt x="1908" y="259"/>
                  </a:cubicBezTo>
                  <a:cubicBezTo>
                    <a:pt x="1915" y="251"/>
                    <a:pt x="1912" y="211"/>
                    <a:pt x="1916" y="191"/>
                  </a:cubicBezTo>
                  <a:cubicBezTo>
                    <a:pt x="1920" y="171"/>
                    <a:pt x="1927" y="142"/>
                    <a:pt x="1932" y="139"/>
                  </a:cubicBezTo>
                  <a:cubicBezTo>
                    <a:pt x="1937" y="136"/>
                    <a:pt x="1939" y="181"/>
                    <a:pt x="1944" y="171"/>
                  </a:cubicBezTo>
                  <a:cubicBezTo>
                    <a:pt x="1949" y="161"/>
                    <a:pt x="1959" y="106"/>
                    <a:pt x="1964" y="79"/>
                  </a:cubicBezTo>
                  <a:cubicBezTo>
                    <a:pt x="1969" y="52"/>
                    <a:pt x="1969" y="0"/>
                    <a:pt x="1972" y="7"/>
                  </a:cubicBezTo>
                  <a:cubicBezTo>
                    <a:pt x="1975" y="14"/>
                    <a:pt x="1979" y="87"/>
                    <a:pt x="1984" y="119"/>
                  </a:cubicBezTo>
                  <a:cubicBezTo>
                    <a:pt x="1989" y="151"/>
                    <a:pt x="1992" y="184"/>
                    <a:pt x="2000" y="199"/>
                  </a:cubicBezTo>
                  <a:cubicBezTo>
                    <a:pt x="2008" y="214"/>
                    <a:pt x="2023" y="217"/>
                    <a:pt x="2032" y="211"/>
                  </a:cubicBezTo>
                  <a:cubicBezTo>
                    <a:pt x="2041" y="205"/>
                    <a:pt x="2047" y="157"/>
                    <a:pt x="2052" y="163"/>
                  </a:cubicBezTo>
                  <a:cubicBezTo>
                    <a:pt x="2057" y="169"/>
                    <a:pt x="2059" y="246"/>
                    <a:pt x="2064" y="247"/>
                  </a:cubicBezTo>
                  <a:cubicBezTo>
                    <a:pt x="2069" y="248"/>
                    <a:pt x="2071" y="167"/>
                    <a:pt x="2080" y="167"/>
                  </a:cubicBezTo>
                  <a:cubicBezTo>
                    <a:pt x="2089" y="167"/>
                    <a:pt x="2112" y="244"/>
                    <a:pt x="2120" y="247"/>
                  </a:cubicBezTo>
                  <a:cubicBezTo>
                    <a:pt x="2128" y="250"/>
                    <a:pt x="2122" y="184"/>
                    <a:pt x="2128" y="183"/>
                  </a:cubicBezTo>
                  <a:cubicBezTo>
                    <a:pt x="2134" y="182"/>
                    <a:pt x="2147" y="245"/>
                    <a:pt x="2156" y="243"/>
                  </a:cubicBezTo>
                  <a:cubicBezTo>
                    <a:pt x="2165" y="241"/>
                    <a:pt x="2177" y="173"/>
                    <a:pt x="2184" y="171"/>
                  </a:cubicBezTo>
                  <a:cubicBezTo>
                    <a:pt x="2191" y="169"/>
                    <a:pt x="2191" y="236"/>
                    <a:pt x="2196" y="231"/>
                  </a:cubicBezTo>
                  <a:cubicBezTo>
                    <a:pt x="2201" y="226"/>
                    <a:pt x="2209" y="144"/>
                    <a:pt x="2216" y="139"/>
                  </a:cubicBezTo>
                  <a:cubicBezTo>
                    <a:pt x="2223" y="134"/>
                    <a:pt x="2234" y="182"/>
                    <a:pt x="2240" y="203"/>
                  </a:cubicBezTo>
                  <a:cubicBezTo>
                    <a:pt x="2246" y="224"/>
                    <a:pt x="2246" y="264"/>
                    <a:pt x="2252" y="267"/>
                  </a:cubicBezTo>
                  <a:cubicBezTo>
                    <a:pt x="2258" y="270"/>
                    <a:pt x="2268" y="222"/>
                    <a:pt x="2276" y="219"/>
                  </a:cubicBezTo>
                  <a:cubicBezTo>
                    <a:pt x="2284" y="216"/>
                    <a:pt x="2294" y="252"/>
                    <a:pt x="2300" y="251"/>
                  </a:cubicBezTo>
                  <a:cubicBezTo>
                    <a:pt x="2306" y="250"/>
                    <a:pt x="2307" y="213"/>
                    <a:pt x="2312" y="215"/>
                  </a:cubicBezTo>
                  <a:cubicBezTo>
                    <a:pt x="2317" y="217"/>
                    <a:pt x="2323" y="262"/>
                    <a:pt x="2332" y="263"/>
                  </a:cubicBezTo>
                  <a:cubicBezTo>
                    <a:pt x="2341" y="264"/>
                    <a:pt x="2352" y="226"/>
                    <a:pt x="2364" y="219"/>
                  </a:cubicBezTo>
                  <a:cubicBezTo>
                    <a:pt x="2376" y="212"/>
                    <a:pt x="2395" y="214"/>
                    <a:pt x="2404" y="223"/>
                  </a:cubicBezTo>
                  <a:cubicBezTo>
                    <a:pt x="2413" y="232"/>
                    <a:pt x="2409" y="266"/>
                    <a:pt x="2416" y="271"/>
                  </a:cubicBezTo>
                  <a:cubicBezTo>
                    <a:pt x="2423" y="276"/>
                    <a:pt x="2441" y="262"/>
                    <a:pt x="2448" y="255"/>
                  </a:cubicBezTo>
                  <a:cubicBezTo>
                    <a:pt x="2455" y="248"/>
                    <a:pt x="2451" y="225"/>
                    <a:pt x="2456" y="227"/>
                  </a:cubicBezTo>
                  <a:cubicBezTo>
                    <a:pt x="2461" y="229"/>
                    <a:pt x="2469" y="262"/>
                    <a:pt x="2480" y="267"/>
                  </a:cubicBezTo>
                  <a:cubicBezTo>
                    <a:pt x="2491" y="272"/>
                    <a:pt x="2516" y="262"/>
                    <a:pt x="2524" y="255"/>
                  </a:cubicBezTo>
                  <a:cubicBezTo>
                    <a:pt x="2532" y="248"/>
                    <a:pt x="2524" y="222"/>
                    <a:pt x="2528" y="223"/>
                  </a:cubicBezTo>
                  <a:cubicBezTo>
                    <a:pt x="2532" y="224"/>
                    <a:pt x="2539" y="256"/>
                    <a:pt x="2548" y="263"/>
                  </a:cubicBezTo>
                  <a:cubicBezTo>
                    <a:pt x="2557" y="270"/>
                    <a:pt x="2573" y="268"/>
                    <a:pt x="2580" y="263"/>
                  </a:cubicBezTo>
                  <a:cubicBezTo>
                    <a:pt x="2587" y="258"/>
                    <a:pt x="2595" y="240"/>
                    <a:pt x="2592" y="235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75160" y="576576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t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1512720" y="3189240"/>
            <a:ext cx="6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Comic Sans MS"/>
              </a:rPr>
              <a:t>F</a:t>
            </a:r>
            <a:r>
              <a:rPr b="0" lang="it-IT" sz="1400" spc="-1" strike="noStrike" baseline="-25000">
                <a:solidFill>
                  <a:srgbClr val="003399"/>
                </a:solidFill>
                <a:latin typeface="Comic Sans MS"/>
              </a:rPr>
              <a:t>max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471760" y="4116240"/>
            <a:ext cx="6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Comic Sans MS"/>
              </a:rPr>
              <a:t>F</a:t>
            </a:r>
            <a:r>
              <a:rPr b="0" lang="it-IT" sz="1400" spc="-1" strike="noStrike" baseline="-25000">
                <a:solidFill>
                  <a:srgbClr val="003399"/>
                </a:solidFill>
                <a:latin typeface="Comic Sans MS"/>
              </a:rPr>
              <a:t>max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608280" y="4986360"/>
            <a:ext cx="6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Comic Sans MS"/>
              </a:rPr>
              <a:t>F</a:t>
            </a:r>
            <a:r>
              <a:rPr b="0" lang="it-IT" sz="1400" spc="-1" strike="noStrike" baseline="-25000">
                <a:solidFill>
                  <a:srgbClr val="003399"/>
                </a:solidFill>
                <a:latin typeface="Comic Sans MS"/>
              </a:rPr>
              <a:t>max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97480" y="3890880"/>
            <a:ext cx="337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Cioè è superato durante il periodo di riferimento solo nel 5% degli edifici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30200" y="2516040"/>
            <a:ext cx="92160" cy="700200"/>
          </a:xfrm>
          <a:custGeom>
            <a:avLst/>
            <a:gdLst>
              <a:gd name="textAreaLeft" fmla="*/ 59040 w 92160"/>
              <a:gd name="textAreaRight" fmla="*/ 92520 w 92160"/>
              <a:gd name="textAreaTop" fmla="*/ 18000 h 700200"/>
              <a:gd name="textAreaBottom" fmla="*/ 682200 h 7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30200" y="3384720"/>
            <a:ext cx="92160" cy="2519280"/>
          </a:xfrm>
          <a:custGeom>
            <a:avLst/>
            <a:gdLst>
              <a:gd name="textAreaLeft" fmla="*/ 59040 w 92160"/>
              <a:gd name="textAreaRight" fmla="*/ 92520 w 9216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31760" y="2728800"/>
            <a:ext cx="4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Comic Sans MS"/>
              </a:rPr>
              <a:t>5%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8400" y="451152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Comic Sans MS"/>
              </a:rPr>
              <a:t>95%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Nelle combinazioni di carico SLE</a:t>
            </a:r>
            <a:br>
              <a:rPr sz="32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zioni variabili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647640" y="1835280"/>
            <a:ext cx="784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Valore frequente   </a:t>
            </a:r>
            <a:r>
              <a:rPr b="1" lang="it-IT" sz="2000" spc="-1" strike="noStrike">
                <a:solidFill>
                  <a:srgbClr val="003399"/>
                </a:solidFill>
                <a:latin typeface="Symbol"/>
                <a:ea typeface="Symbol"/>
              </a:rPr>
              <a:t></a:t>
            </a:r>
            <a:r>
              <a:rPr b="0" lang="it-IT" sz="2000" spc="-1" strike="noStrike" baseline="-25000">
                <a:solidFill>
                  <a:srgbClr val="003399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 F</a:t>
            </a:r>
            <a:r>
              <a:rPr b="0" lang="it-IT" sz="2000" spc="-1" strike="noStrike" baseline="-25000">
                <a:solidFill>
                  <a:srgbClr val="003399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989520" y="2266920"/>
            <a:ext cx="6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Comic Sans MS"/>
              </a:rPr>
              <a:t>F</a:t>
            </a:r>
            <a:r>
              <a:rPr b="0" lang="it-IT" sz="1400" spc="-1" strike="noStrike" baseline="-25000">
                <a:solidFill>
                  <a:srgbClr val="003399"/>
                </a:solidFill>
                <a:latin typeface="Comic Sans MS"/>
              </a:rPr>
              <a:t>max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857840" y="2498760"/>
                <a:ext cx="19044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5397480" y="2698920"/>
            <a:ext cx="337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È il frattile 95% della distribuzione temporale in un periodo di riferiment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133880" y="2516040"/>
            <a:ext cx="36360" cy="367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692360" y="3511440"/>
            <a:ext cx="36360" cy="367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681280" y="4435560"/>
            <a:ext cx="36360" cy="3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22840" y="5332320"/>
            <a:ext cx="36360" cy="367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16040" y="2617920"/>
            <a:ext cx="4128840" cy="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428760" y="2517840"/>
            <a:ext cx="4416120" cy="926280"/>
            <a:chOff x="428760" y="2517840"/>
            <a:chExt cx="4416120" cy="926280"/>
          </a:xfrm>
        </p:grpSpPr>
        <p:grpSp>
          <p:nvGrpSpPr>
            <p:cNvPr id="416" name=""/>
            <p:cNvGrpSpPr/>
            <p:nvPr/>
          </p:nvGrpSpPr>
          <p:grpSpPr>
            <a:xfrm>
              <a:off x="716040" y="2541960"/>
              <a:ext cx="4128840" cy="625320"/>
              <a:chOff x="716040" y="2541960"/>
              <a:chExt cx="4128840" cy="625320"/>
            </a:xfrm>
          </p:grpSpPr>
          <p:sp>
            <p:nvSpPr>
              <p:cNvPr id="417" name=""/>
              <p:cNvSpPr/>
              <p:nvPr/>
            </p:nvSpPr>
            <p:spPr>
              <a:xfrm>
                <a:off x="716040" y="2541960"/>
                <a:ext cx="0" cy="6253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16040" y="3167280"/>
                <a:ext cx="412884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716040" y="2517840"/>
              <a:ext cx="4076640" cy="608040"/>
            </a:xfrm>
            <a:custGeom>
              <a:avLst/>
              <a:gdLst/>
              <a:ahLst/>
              <a:rect l="l" t="t" r="r" b="b"/>
              <a:pathLst>
                <a:path w="2568" h="383">
                  <a:moveTo>
                    <a:pt x="0" y="358"/>
                  </a:moveTo>
                  <a:cubicBezTo>
                    <a:pt x="7" y="294"/>
                    <a:pt x="15" y="230"/>
                    <a:pt x="20" y="222"/>
                  </a:cubicBezTo>
                  <a:cubicBezTo>
                    <a:pt x="25" y="214"/>
                    <a:pt x="23" y="302"/>
                    <a:pt x="30" y="308"/>
                  </a:cubicBezTo>
                  <a:cubicBezTo>
                    <a:pt x="37" y="314"/>
                    <a:pt x="54" y="280"/>
                    <a:pt x="60" y="257"/>
                  </a:cubicBezTo>
                  <a:cubicBezTo>
                    <a:pt x="66" y="234"/>
                    <a:pt x="63" y="172"/>
                    <a:pt x="65" y="167"/>
                  </a:cubicBezTo>
                  <a:cubicBezTo>
                    <a:pt x="67" y="162"/>
                    <a:pt x="67" y="225"/>
                    <a:pt x="75" y="227"/>
                  </a:cubicBezTo>
                  <a:cubicBezTo>
                    <a:pt x="83" y="229"/>
                    <a:pt x="106" y="175"/>
                    <a:pt x="115" y="177"/>
                  </a:cubicBezTo>
                  <a:cubicBezTo>
                    <a:pt x="124" y="179"/>
                    <a:pt x="125" y="211"/>
                    <a:pt x="130" y="237"/>
                  </a:cubicBezTo>
                  <a:cubicBezTo>
                    <a:pt x="135" y="263"/>
                    <a:pt x="140" y="329"/>
                    <a:pt x="145" y="333"/>
                  </a:cubicBezTo>
                  <a:cubicBezTo>
                    <a:pt x="150" y="337"/>
                    <a:pt x="153" y="275"/>
                    <a:pt x="160" y="262"/>
                  </a:cubicBezTo>
                  <a:cubicBezTo>
                    <a:pt x="167" y="249"/>
                    <a:pt x="182" y="247"/>
                    <a:pt x="190" y="252"/>
                  </a:cubicBezTo>
                  <a:cubicBezTo>
                    <a:pt x="198" y="257"/>
                    <a:pt x="204" y="278"/>
                    <a:pt x="210" y="293"/>
                  </a:cubicBezTo>
                  <a:cubicBezTo>
                    <a:pt x="216" y="308"/>
                    <a:pt x="216" y="333"/>
                    <a:pt x="225" y="343"/>
                  </a:cubicBezTo>
                  <a:cubicBezTo>
                    <a:pt x="234" y="353"/>
                    <a:pt x="254" y="361"/>
                    <a:pt x="265" y="353"/>
                  </a:cubicBezTo>
                  <a:cubicBezTo>
                    <a:pt x="276" y="345"/>
                    <a:pt x="283" y="296"/>
                    <a:pt x="290" y="293"/>
                  </a:cubicBezTo>
                  <a:cubicBezTo>
                    <a:pt x="297" y="290"/>
                    <a:pt x="303" y="335"/>
                    <a:pt x="310" y="333"/>
                  </a:cubicBezTo>
                  <a:cubicBezTo>
                    <a:pt x="317" y="331"/>
                    <a:pt x="325" y="314"/>
                    <a:pt x="335" y="278"/>
                  </a:cubicBezTo>
                  <a:cubicBezTo>
                    <a:pt x="345" y="242"/>
                    <a:pt x="363" y="120"/>
                    <a:pt x="370" y="117"/>
                  </a:cubicBezTo>
                  <a:cubicBezTo>
                    <a:pt x="377" y="114"/>
                    <a:pt x="372" y="229"/>
                    <a:pt x="380" y="257"/>
                  </a:cubicBezTo>
                  <a:cubicBezTo>
                    <a:pt x="388" y="285"/>
                    <a:pt x="413" y="290"/>
                    <a:pt x="421" y="288"/>
                  </a:cubicBezTo>
                  <a:cubicBezTo>
                    <a:pt x="429" y="286"/>
                    <a:pt x="422" y="245"/>
                    <a:pt x="431" y="242"/>
                  </a:cubicBezTo>
                  <a:cubicBezTo>
                    <a:pt x="440" y="239"/>
                    <a:pt x="463" y="273"/>
                    <a:pt x="476" y="268"/>
                  </a:cubicBezTo>
                  <a:cubicBezTo>
                    <a:pt x="489" y="263"/>
                    <a:pt x="502" y="227"/>
                    <a:pt x="511" y="212"/>
                  </a:cubicBezTo>
                  <a:cubicBezTo>
                    <a:pt x="520" y="197"/>
                    <a:pt x="527" y="175"/>
                    <a:pt x="531" y="177"/>
                  </a:cubicBezTo>
                  <a:cubicBezTo>
                    <a:pt x="535" y="179"/>
                    <a:pt x="533" y="205"/>
                    <a:pt x="536" y="222"/>
                  </a:cubicBezTo>
                  <a:cubicBezTo>
                    <a:pt x="539" y="239"/>
                    <a:pt x="541" y="263"/>
                    <a:pt x="551" y="278"/>
                  </a:cubicBezTo>
                  <a:cubicBezTo>
                    <a:pt x="561" y="293"/>
                    <a:pt x="586" y="312"/>
                    <a:pt x="596" y="313"/>
                  </a:cubicBezTo>
                  <a:cubicBezTo>
                    <a:pt x="606" y="314"/>
                    <a:pt x="606" y="280"/>
                    <a:pt x="611" y="283"/>
                  </a:cubicBezTo>
                  <a:cubicBezTo>
                    <a:pt x="616" y="286"/>
                    <a:pt x="622" y="342"/>
                    <a:pt x="626" y="333"/>
                  </a:cubicBezTo>
                  <a:cubicBezTo>
                    <a:pt x="630" y="324"/>
                    <a:pt x="632" y="231"/>
                    <a:pt x="636" y="227"/>
                  </a:cubicBezTo>
                  <a:cubicBezTo>
                    <a:pt x="640" y="223"/>
                    <a:pt x="643" y="299"/>
                    <a:pt x="651" y="308"/>
                  </a:cubicBezTo>
                  <a:cubicBezTo>
                    <a:pt x="659" y="317"/>
                    <a:pt x="674" y="288"/>
                    <a:pt x="686" y="283"/>
                  </a:cubicBezTo>
                  <a:cubicBezTo>
                    <a:pt x="698" y="278"/>
                    <a:pt x="714" y="287"/>
                    <a:pt x="721" y="278"/>
                  </a:cubicBezTo>
                  <a:cubicBezTo>
                    <a:pt x="728" y="269"/>
                    <a:pt x="723" y="227"/>
                    <a:pt x="731" y="227"/>
                  </a:cubicBezTo>
                  <a:cubicBezTo>
                    <a:pt x="739" y="227"/>
                    <a:pt x="764" y="258"/>
                    <a:pt x="771" y="278"/>
                  </a:cubicBezTo>
                  <a:cubicBezTo>
                    <a:pt x="778" y="298"/>
                    <a:pt x="772" y="344"/>
                    <a:pt x="776" y="348"/>
                  </a:cubicBezTo>
                  <a:cubicBezTo>
                    <a:pt x="780" y="352"/>
                    <a:pt x="790" y="301"/>
                    <a:pt x="796" y="303"/>
                  </a:cubicBezTo>
                  <a:cubicBezTo>
                    <a:pt x="802" y="305"/>
                    <a:pt x="805" y="365"/>
                    <a:pt x="811" y="358"/>
                  </a:cubicBezTo>
                  <a:cubicBezTo>
                    <a:pt x="817" y="351"/>
                    <a:pt x="824" y="305"/>
                    <a:pt x="831" y="262"/>
                  </a:cubicBezTo>
                  <a:cubicBezTo>
                    <a:pt x="838" y="219"/>
                    <a:pt x="851" y="99"/>
                    <a:pt x="856" y="97"/>
                  </a:cubicBezTo>
                  <a:cubicBezTo>
                    <a:pt x="861" y="95"/>
                    <a:pt x="854" y="230"/>
                    <a:pt x="861" y="252"/>
                  </a:cubicBezTo>
                  <a:cubicBezTo>
                    <a:pt x="868" y="274"/>
                    <a:pt x="889" y="223"/>
                    <a:pt x="896" y="227"/>
                  </a:cubicBezTo>
                  <a:cubicBezTo>
                    <a:pt x="903" y="231"/>
                    <a:pt x="897" y="261"/>
                    <a:pt x="906" y="278"/>
                  </a:cubicBezTo>
                  <a:cubicBezTo>
                    <a:pt x="915" y="295"/>
                    <a:pt x="941" y="331"/>
                    <a:pt x="951" y="328"/>
                  </a:cubicBezTo>
                  <a:cubicBezTo>
                    <a:pt x="961" y="325"/>
                    <a:pt x="959" y="273"/>
                    <a:pt x="966" y="257"/>
                  </a:cubicBezTo>
                  <a:cubicBezTo>
                    <a:pt x="973" y="241"/>
                    <a:pt x="982" y="229"/>
                    <a:pt x="992" y="232"/>
                  </a:cubicBezTo>
                  <a:cubicBezTo>
                    <a:pt x="1002" y="235"/>
                    <a:pt x="1020" y="260"/>
                    <a:pt x="1027" y="278"/>
                  </a:cubicBezTo>
                  <a:cubicBezTo>
                    <a:pt x="1034" y="296"/>
                    <a:pt x="1025" y="334"/>
                    <a:pt x="1032" y="338"/>
                  </a:cubicBezTo>
                  <a:cubicBezTo>
                    <a:pt x="1039" y="342"/>
                    <a:pt x="1058" y="301"/>
                    <a:pt x="1067" y="303"/>
                  </a:cubicBezTo>
                  <a:cubicBezTo>
                    <a:pt x="1076" y="305"/>
                    <a:pt x="1079" y="345"/>
                    <a:pt x="1087" y="353"/>
                  </a:cubicBezTo>
                  <a:cubicBezTo>
                    <a:pt x="1095" y="361"/>
                    <a:pt x="1109" y="349"/>
                    <a:pt x="1117" y="353"/>
                  </a:cubicBezTo>
                  <a:cubicBezTo>
                    <a:pt x="1125" y="357"/>
                    <a:pt x="1129" y="383"/>
                    <a:pt x="1137" y="378"/>
                  </a:cubicBezTo>
                  <a:cubicBezTo>
                    <a:pt x="1145" y="373"/>
                    <a:pt x="1158" y="324"/>
                    <a:pt x="1167" y="323"/>
                  </a:cubicBezTo>
                  <a:cubicBezTo>
                    <a:pt x="1176" y="322"/>
                    <a:pt x="1184" y="381"/>
                    <a:pt x="1192" y="373"/>
                  </a:cubicBezTo>
                  <a:cubicBezTo>
                    <a:pt x="1200" y="365"/>
                    <a:pt x="1206" y="289"/>
                    <a:pt x="1217" y="278"/>
                  </a:cubicBezTo>
                  <a:cubicBezTo>
                    <a:pt x="1228" y="267"/>
                    <a:pt x="1245" y="314"/>
                    <a:pt x="1257" y="308"/>
                  </a:cubicBezTo>
                  <a:cubicBezTo>
                    <a:pt x="1269" y="302"/>
                    <a:pt x="1280" y="240"/>
                    <a:pt x="1287" y="242"/>
                  </a:cubicBezTo>
                  <a:cubicBezTo>
                    <a:pt x="1294" y="244"/>
                    <a:pt x="1290" y="300"/>
                    <a:pt x="1297" y="318"/>
                  </a:cubicBezTo>
                  <a:cubicBezTo>
                    <a:pt x="1304" y="336"/>
                    <a:pt x="1320" y="358"/>
                    <a:pt x="1327" y="348"/>
                  </a:cubicBezTo>
                  <a:cubicBezTo>
                    <a:pt x="1334" y="338"/>
                    <a:pt x="1335" y="275"/>
                    <a:pt x="1342" y="257"/>
                  </a:cubicBezTo>
                  <a:cubicBezTo>
                    <a:pt x="1349" y="239"/>
                    <a:pt x="1361" y="229"/>
                    <a:pt x="1367" y="237"/>
                  </a:cubicBezTo>
                  <a:cubicBezTo>
                    <a:pt x="1373" y="245"/>
                    <a:pt x="1371" y="305"/>
                    <a:pt x="1377" y="303"/>
                  </a:cubicBezTo>
                  <a:cubicBezTo>
                    <a:pt x="1383" y="301"/>
                    <a:pt x="1394" y="222"/>
                    <a:pt x="1402" y="227"/>
                  </a:cubicBezTo>
                  <a:cubicBezTo>
                    <a:pt x="1410" y="232"/>
                    <a:pt x="1416" y="312"/>
                    <a:pt x="1427" y="333"/>
                  </a:cubicBezTo>
                  <a:cubicBezTo>
                    <a:pt x="1438" y="354"/>
                    <a:pt x="1457" y="357"/>
                    <a:pt x="1467" y="353"/>
                  </a:cubicBezTo>
                  <a:cubicBezTo>
                    <a:pt x="1477" y="349"/>
                    <a:pt x="1479" y="322"/>
                    <a:pt x="1487" y="308"/>
                  </a:cubicBezTo>
                  <a:cubicBezTo>
                    <a:pt x="1495" y="294"/>
                    <a:pt x="1510" y="265"/>
                    <a:pt x="1517" y="268"/>
                  </a:cubicBezTo>
                  <a:cubicBezTo>
                    <a:pt x="1524" y="271"/>
                    <a:pt x="1520" y="325"/>
                    <a:pt x="1527" y="328"/>
                  </a:cubicBezTo>
                  <a:cubicBezTo>
                    <a:pt x="1534" y="331"/>
                    <a:pt x="1549" y="286"/>
                    <a:pt x="1557" y="288"/>
                  </a:cubicBezTo>
                  <a:cubicBezTo>
                    <a:pt x="1565" y="290"/>
                    <a:pt x="1569" y="356"/>
                    <a:pt x="1578" y="343"/>
                  </a:cubicBezTo>
                  <a:cubicBezTo>
                    <a:pt x="1587" y="330"/>
                    <a:pt x="1606" y="222"/>
                    <a:pt x="1613" y="212"/>
                  </a:cubicBezTo>
                  <a:cubicBezTo>
                    <a:pt x="1620" y="202"/>
                    <a:pt x="1618" y="261"/>
                    <a:pt x="1623" y="283"/>
                  </a:cubicBezTo>
                  <a:cubicBezTo>
                    <a:pt x="1628" y="305"/>
                    <a:pt x="1631" y="341"/>
                    <a:pt x="1643" y="343"/>
                  </a:cubicBezTo>
                  <a:cubicBezTo>
                    <a:pt x="1655" y="345"/>
                    <a:pt x="1683" y="291"/>
                    <a:pt x="1698" y="293"/>
                  </a:cubicBezTo>
                  <a:cubicBezTo>
                    <a:pt x="1713" y="295"/>
                    <a:pt x="1721" y="352"/>
                    <a:pt x="1733" y="353"/>
                  </a:cubicBezTo>
                  <a:cubicBezTo>
                    <a:pt x="1745" y="354"/>
                    <a:pt x="1760" y="296"/>
                    <a:pt x="1768" y="298"/>
                  </a:cubicBezTo>
                  <a:cubicBezTo>
                    <a:pt x="1776" y="300"/>
                    <a:pt x="1774" y="368"/>
                    <a:pt x="1783" y="363"/>
                  </a:cubicBezTo>
                  <a:cubicBezTo>
                    <a:pt x="1792" y="358"/>
                    <a:pt x="1808" y="290"/>
                    <a:pt x="1823" y="268"/>
                  </a:cubicBezTo>
                  <a:cubicBezTo>
                    <a:pt x="1838" y="246"/>
                    <a:pt x="1864" y="225"/>
                    <a:pt x="1873" y="232"/>
                  </a:cubicBezTo>
                  <a:cubicBezTo>
                    <a:pt x="1882" y="239"/>
                    <a:pt x="1871" y="292"/>
                    <a:pt x="1878" y="308"/>
                  </a:cubicBezTo>
                  <a:cubicBezTo>
                    <a:pt x="1885" y="324"/>
                    <a:pt x="1907" y="330"/>
                    <a:pt x="1918" y="328"/>
                  </a:cubicBezTo>
                  <a:cubicBezTo>
                    <a:pt x="1929" y="326"/>
                    <a:pt x="1934" y="289"/>
                    <a:pt x="1943" y="293"/>
                  </a:cubicBezTo>
                  <a:cubicBezTo>
                    <a:pt x="1952" y="297"/>
                    <a:pt x="1961" y="354"/>
                    <a:pt x="1973" y="353"/>
                  </a:cubicBezTo>
                  <a:cubicBezTo>
                    <a:pt x="1985" y="352"/>
                    <a:pt x="2006" y="288"/>
                    <a:pt x="2013" y="288"/>
                  </a:cubicBezTo>
                  <a:cubicBezTo>
                    <a:pt x="2020" y="288"/>
                    <a:pt x="2003" y="345"/>
                    <a:pt x="2013" y="353"/>
                  </a:cubicBezTo>
                  <a:cubicBezTo>
                    <a:pt x="2023" y="361"/>
                    <a:pt x="2059" y="351"/>
                    <a:pt x="2073" y="338"/>
                  </a:cubicBezTo>
                  <a:cubicBezTo>
                    <a:pt x="2087" y="325"/>
                    <a:pt x="2092" y="296"/>
                    <a:pt x="2098" y="273"/>
                  </a:cubicBezTo>
                  <a:cubicBezTo>
                    <a:pt x="2104" y="250"/>
                    <a:pt x="2105" y="194"/>
                    <a:pt x="2108" y="202"/>
                  </a:cubicBezTo>
                  <a:cubicBezTo>
                    <a:pt x="2111" y="210"/>
                    <a:pt x="2112" y="328"/>
                    <a:pt x="2118" y="323"/>
                  </a:cubicBezTo>
                  <a:cubicBezTo>
                    <a:pt x="2124" y="318"/>
                    <a:pt x="2138" y="218"/>
                    <a:pt x="2144" y="172"/>
                  </a:cubicBezTo>
                  <a:cubicBezTo>
                    <a:pt x="2150" y="126"/>
                    <a:pt x="2150" y="74"/>
                    <a:pt x="2154" y="47"/>
                  </a:cubicBezTo>
                  <a:cubicBezTo>
                    <a:pt x="2158" y="20"/>
                    <a:pt x="2166" y="0"/>
                    <a:pt x="2169" y="12"/>
                  </a:cubicBezTo>
                  <a:cubicBezTo>
                    <a:pt x="2172" y="24"/>
                    <a:pt x="2168" y="84"/>
                    <a:pt x="2174" y="122"/>
                  </a:cubicBezTo>
                  <a:cubicBezTo>
                    <a:pt x="2180" y="160"/>
                    <a:pt x="2192" y="228"/>
                    <a:pt x="2204" y="242"/>
                  </a:cubicBezTo>
                  <a:cubicBezTo>
                    <a:pt x="2216" y="256"/>
                    <a:pt x="2235" y="199"/>
                    <a:pt x="2244" y="207"/>
                  </a:cubicBezTo>
                  <a:cubicBezTo>
                    <a:pt x="2253" y="215"/>
                    <a:pt x="2252" y="278"/>
                    <a:pt x="2259" y="293"/>
                  </a:cubicBezTo>
                  <a:cubicBezTo>
                    <a:pt x="2266" y="308"/>
                    <a:pt x="2277" y="290"/>
                    <a:pt x="2289" y="298"/>
                  </a:cubicBezTo>
                  <a:cubicBezTo>
                    <a:pt x="2301" y="306"/>
                    <a:pt x="2320" y="345"/>
                    <a:pt x="2329" y="343"/>
                  </a:cubicBezTo>
                  <a:cubicBezTo>
                    <a:pt x="2338" y="341"/>
                    <a:pt x="2337" y="286"/>
                    <a:pt x="2344" y="283"/>
                  </a:cubicBezTo>
                  <a:cubicBezTo>
                    <a:pt x="2351" y="280"/>
                    <a:pt x="2357" y="322"/>
                    <a:pt x="2369" y="323"/>
                  </a:cubicBezTo>
                  <a:cubicBezTo>
                    <a:pt x="2381" y="324"/>
                    <a:pt x="2408" y="286"/>
                    <a:pt x="2419" y="288"/>
                  </a:cubicBezTo>
                  <a:cubicBezTo>
                    <a:pt x="2430" y="290"/>
                    <a:pt x="2422" y="334"/>
                    <a:pt x="2434" y="338"/>
                  </a:cubicBezTo>
                  <a:cubicBezTo>
                    <a:pt x="2446" y="342"/>
                    <a:pt x="2480" y="311"/>
                    <a:pt x="2494" y="313"/>
                  </a:cubicBezTo>
                  <a:cubicBezTo>
                    <a:pt x="2508" y="315"/>
                    <a:pt x="2507" y="345"/>
                    <a:pt x="2519" y="353"/>
                  </a:cubicBezTo>
                  <a:cubicBezTo>
                    <a:pt x="2531" y="361"/>
                    <a:pt x="2568" y="351"/>
                    <a:pt x="2564" y="363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8760" y="254196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475160" y="310680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t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716040" y="3494160"/>
            <a:ext cx="4128840" cy="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428760" y="3417840"/>
            <a:ext cx="4416120" cy="896040"/>
            <a:chOff x="428760" y="3417840"/>
            <a:chExt cx="4416120" cy="896040"/>
          </a:xfrm>
        </p:grpSpPr>
        <p:grpSp>
          <p:nvGrpSpPr>
            <p:cNvPr id="424" name=""/>
            <p:cNvGrpSpPr/>
            <p:nvPr/>
          </p:nvGrpSpPr>
          <p:grpSpPr>
            <a:xfrm>
              <a:off x="716040" y="3417840"/>
              <a:ext cx="4128840" cy="625320"/>
              <a:chOff x="716040" y="3417840"/>
              <a:chExt cx="4128840" cy="625320"/>
            </a:xfrm>
          </p:grpSpPr>
          <p:sp>
            <p:nvSpPr>
              <p:cNvPr id="425" name=""/>
              <p:cNvSpPr/>
              <p:nvPr/>
            </p:nvSpPr>
            <p:spPr>
              <a:xfrm>
                <a:off x="716040" y="3417840"/>
                <a:ext cx="0" cy="6253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16040" y="4043160"/>
                <a:ext cx="412884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716040" y="3531960"/>
              <a:ext cx="4102200" cy="478080"/>
            </a:xfrm>
            <a:custGeom>
              <a:avLst/>
              <a:gdLst/>
              <a:ahLst/>
              <a:rect l="l" t="t" r="r" b="b"/>
              <a:pathLst>
                <a:path w="2584" h="301">
                  <a:moveTo>
                    <a:pt x="0" y="225"/>
                  </a:moveTo>
                  <a:cubicBezTo>
                    <a:pt x="6" y="201"/>
                    <a:pt x="13" y="177"/>
                    <a:pt x="15" y="185"/>
                  </a:cubicBezTo>
                  <a:cubicBezTo>
                    <a:pt x="17" y="193"/>
                    <a:pt x="13" y="269"/>
                    <a:pt x="15" y="276"/>
                  </a:cubicBezTo>
                  <a:cubicBezTo>
                    <a:pt x="17" y="283"/>
                    <a:pt x="23" y="228"/>
                    <a:pt x="30" y="230"/>
                  </a:cubicBezTo>
                  <a:cubicBezTo>
                    <a:pt x="37" y="232"/>
                    <a:pt x="53" y="284"/>
                    <a:pt x="60" y="286"/>
                  </a:cubicBezTo>
                  <a:cubicBezTo>
                    <a:pt x="67" y="288"/>
                    <a:pt x="65" y="247"/>
                    <a:pt x="70" y="245"/>
                  </a:cubicBezTo>
                  <a:cubicBezTo>
                    <a:pt x="75" y="243"/>
                    <a:pt x="85" y="280"/>
                    <a:pt x="90" y="276"/>
                  </a:cubicBezTo>
                  <a:cubicBezTo>
                    <a:pt x="95" y="272"/>
                    <a:pt x="96" y="222"/>
                    <a:pt x="100" y="220"/>
                  </a:cubicBezTo>
                  <a:cubicBezTo>
                    <a:pt x="104" y="218"/>
                    <a:pt x="109" y="269"/>
                    <a:pt x="115" y="266"/>
                  </a:cubicBezTo>
                  <a:cubicBezTo>
                    <a:pt x="121" y="263"/>
                    <a:pt x="130" y="217"/>
                    <a:pt x="135" y="200"/>
                  </a:cubicBezTo>
                  <a:cubicBezTo>
                    <a:pt x="140" y="183"/>
                    <a:pt x="142" y="159"/>
                    <a:pt x="145" y="165"/>
                  </a:cubicBezTo>
                  <a:cubicBezTo>
                    <a:pt x="148" y="171"/>
                    <a:pt x="149" y="221"/>
                    <a:pt x="155" y="235"/>
                  </a:cubicBezTo>
                  <a:cubicBezTo>
                    <a:pt x="161" y="249"/>
                    <a:pt x="173" y="254"/>
                    <a:pt x="180" y="250"/>
                  </a:cubicBezTo>
                  <a:cubicBezTo>
                    <a:pt x="187" y="246"/>
                    <a:pt x="191" y="208"/>
                    <a:pt x="195" y="210"/>
                  </a:cubicBezTo>
                  <a:cubicBezTo>
                    <a:pt x="199" y="212"/>
                    <a:pt x="199" y="265"/>
                    <a:pt x="205" y="261"/>
                  </a:cubicBezTo>
                  <a:cubicBezTo>
                    <a:pt x="211" y="257"/>
                    <a:pt x="223" y="203"/>
                    <a:pt x="230" y="185"/>
                  </a:cubicBezTo>
                  <a:cubicBezTo>
                    <a:pt x="237" y="167"/>
                    <a:pt x="246" y="144"/>
                    <a:pt x="250" y="150"/>
                  </a:cubicBezTo>
                  <a:cubicBezTo>
                    <a:pt x="254" y="156"/>
                    <a:pt x="252" y="202"/>
                    <a:pt x="255" y="220"/>
                  </a:cubicBezTo>
                  <a:cubicBezTo>
                    <a:pt x="258" y="238"/>
                    <a:pt x="263" y="261"/>
                    <a:pt x="270" y="261"/>
                  </a:cubicBezTo>
                  <a:cubicBezTo>
                    <a:pt x="277" y="261"/>
                    <a:pt x="288" y="218"/>
                    <a:pt x="295" y="220"/>
                  </a:cubicBezTo>
                  <a:cubicBezTo>
                    <a:pt x="302" y="222"/>
                    <a:pt x="303" y="271"/>
                    <a:pt x="310" y="271"/>
                  </a:cubicBezTo>
                  <a:cubicBezTo>
                    <a:pt x="317" y="271"/>
                    <a:pt x="333" y="238"/>
                    <a:pt x="340" y="220"/>
                  </a:cubicBezTo>
                  <a:cubicBezTo>
                    <a:pt x="347" y="202"/>
                    <a:pt x="346" y="160"/>
                    <a:pt x="350" y="160"/>
                  </a:cubicBezTo>
                  <a:cubicBezTo>
                    <a:pt x="354" y="160"/>
                    <a:pt x="361" y="202"/>
                    <a:pt x="365" y="220"/>
                  </a:cubicBezTo>
                  <a:cubicBezTo>
                    <a:pt x="369" y="238"/>
                    <a:pt x="371" y="267"/>
                    <a:pt x="375" y="271"/>
                  </a:cubicBezTo>
                  <a:cubicBezTo>
                    <a:pt x="379" y="275"/>
                    <a:pt x="386" y="257"/>
                    <a:pt x="390" y="245"/>
                  </a:cubicBezTo>
                  <a:cubicBezTo>
                    <a:pt x="394" y="233"/>
                    <a:pt x="395" y="201"/>
                    <a:pt x="400" y="200"/>
                  </a:cubicBezTo>
                  <a:cubicBezTo>
                    <a:pt x="405" y="199"/>
                    <a:pt x="415" y="242"/>
                    <a:pt x="421" y="240"/>
                  </a:cubicBezTo>
                  <a:cubicBezTo>
                    <a:pt x="427" y="238"/>
                    <a:pt x="430" y="184"/>
                    <a:pt x="436" y="185"/>
                  </a:cubicBezTo>
                  <a:cubicBezTo>
                    <a:pt x="442" y="186"/>
                    <a:pt x="449" y="229"/>
                    <a:pt x="456" y="245"/>
                  </a:cubicBezTo>
                  <a:cubicBezTo>
                    <a:pt x="463" y="261"/>
                    <a:pt x="475" y="287"/>
                    <a:pt x="481" y="281"/>
                  </a:cubicBezTo>
                  <a:cubicBezTo>
                    <a:pt x="487" y="275"/>
                    <a:pt x="488" y="236"/>
                    <a:pt x="491" y="210"/>
                  </a:cubicBezTo>
                  <a:cubicBezTo>
                    <a:pt x="494" y="184"/>
                    <a:pt x="495" y="148"/>
                    <a:pt x="501" y="125"/>
                  </a:cubicBezTo>
                  <a:cubicBezTo>
                    <a:pt x="507" y="102"/>
                    <a:pt x="521" y="65"/>
                    <a:pt x="526" y="70"/>
                  </a:cubicBezTo>
                  <a:cubicBezTo>
                    <a:pt x="531" y="75"/>
                    <a:pt x="523" y="133"/>
                    <a:pt x="531" y="155"/>
                  </a:cubicBezTo>
                  <a:cubicBezTo>
                    <a:pt x="539" y="177"/>
                    <a:pt x="563" y="203"/>
                    <a:pt x="571" y="200"/>
                  </a:cubicBezTo>
                  <a:cubicBezTo>
                    <a:pt x="579" y="197"/>
                    <a:pt x="576" y="157"/>
                    <a:pt x="581" y="135"/>
                  </a:cubicBezTo>
                  <a:cubicBezTo>
                    <a:pt x="586" y="113"/>
                    <a:pt x="593" y="87"/>
                    <a:pt x="601" y="65"/>
                  </a:cubicBezTo>
                  <a:cubicBezTo>
                    <a:pt x="609" y="43"/>
                    <a:pt x="625" y="0"/>
                    <a:pt x="631" y="5"/>
                  </a:cubicBezTo>
                  <a:cubicBezTo>
                    <a:pt x="637" y="10"/>
                    <a:pt x="628" y="82"/>
                    <a:pt x="636" y="95"/>
                  </a:cubicBezTo>
                  <a:cubicBezTo>
                    <a:pt x="644" y="108"/>
                    <a:pt x="667" y="71"/>
                    <a:pt x="676" y="85"/>
                  </a:cubicBezTo>
                  <a:cubicBezTo>
                    <a:pt x="685" y="99"/>
                    <a:pt x="684" y="165"/>
                    <a:pt x="691" y="180"/>
                  </a:cubicBezTo>
                  <a:cubicBezTo>
                    <a:pt x="698" y="195"/>
                    <a:pt x="713" y="167"/>
                    <a:pt x="721" y="175"/>
                  </a:cubicBezTo>
                  <a:cubicBezTo>
                    <a:pt x="729" y="183"/>
                    <a:pt x="734" y="228"/>
                    <a:pt x="741" y="230"/>
                  </a:cubicBezTo>
                  <a:cubicBezTo>
                    <a:pt x="748" y="232"/>
                    <a:pt x="759" y="187"/>
                    <a:pt x="766" y="190"/>
                  </a:cubicBezTo>
                  <a:cubicBezTo>
                    <a:pt x="773" y="193"/>
                    <a:pt x="774" y="252"/>
                    <a:pt x="781" y="250"/>
                  </a:cubicBezTo>
                  <a:cubicBezTo>
                    <a:pt x="788" y="248"/>
                    <a:pt x="801" y="178"/>
                    <a:pt x="806" y="175"/>
                  </a:cubicBezTo>
                  <a:cubicBezTo>
                    <a:pt x="811" y="172"/>
                    <a:pt x="805" y="234"/>
                    <a:pt x="811" y="230"/>
                  </a:cubicBezTo>
                  <a:cubicBezTo>
                    <a:pt x="817" y="226"/>
                    <a:pt x="834" y="147"/>
                    <a:pt x="841" y="150"/>
                  </a:cubicBezTo>
                  <a:cubicBezTo>
                    <a:pt x="848" y="153"/>
                    <a:pt x="842" y="239"/>
                    <a:pt x="851" y="250"/>
                  </a:cubicBezTo>
                  <a:cubicBezTo>
                    <a:pt x="860" y="261"/>
                    <a:pt x="881" y="211"/>
                    <a:pt x="896" y="215"/>
                  </a:cubicBezTo>
                  <a:cubicBezTo>
                    <a:pt x="911" y="219"/>
                    <a:pt x="932" y="278"/>
                    <a:pt x="941" y="276"/>
                  </a:cubicBezTo>
                  <a:cubicBezTo>
                    <a:pt x="950" y="274"/>
                    <a:pt x="943" y="218"/>
                    <a:pt x="951" y="200"/>
                  </a:cubicBezTo>
                  <a:cubicBezTo>
                    <a:pt x="959" y="182"/>
                    <a:pt x="978" y="167"/>
                    <a:pt x="986" y="170"/>
                  </a:cubicBezTo>
                  <a:cubicBezTo>
                    <a:pt x="994" y="173"/>
                    <a:pt x="991" y="206"/>
                    <a:pt x="997" y="220"/>
                  </a:cubicBezTo>
                  <a:cubicBezTo>
                    <a:pt x="1003" y="234"/>
                    <a:pt x="1012" y="261"/>
                    <a:pt x="1022" y="255"/>
                  </a:cubicBezTo>
                  <a:cubicBezTo>
                    <a:pt x="1032" y="249"/>
                    <a:pt x="1050" y="185"/>
                    <a:pt x="1057" y="185"/>
                  </a:cubicBezTo>
                  <a:cubicBezTo>
                    <a:pt x="1064" y="185"/>
                    <a:pt x="1058" y="241"/>
                    <a:pt x="1067" y="255"/>
                  </a:cubicBezTo>
                  <a:cubicBezTo>
                    <a:pt x="1076" y="269"/>
                    <a:pt x="1100" y="282"/>
                    <a:pt x="1112" y="271"/>
                  </a:cubicBezTo>
                  <a:cubicBezTo>
                    <a:pt x="1124" y="260"/>
                    <a:pt x="1135" y="212"/>
                    <a:pt x="1142" y="190"/>
                  </a:cubicBezTo>
                  <a:cubicBezTo>
                    <a:pt x="1149" y="168"/>
                    <a:pt x="1149" y="135"/>
                    <a:pt x="1152" y="140"/>
                  </a:cubicBezTo>
                  <a:cubicBezTo>
                    <a:pt x="1155" y="145"/>
                    <a:pt x="1153" y="215"/>
                    <a:pt x="1157" y="220"/>
                  </a:cubicBezTo>
                  <a:cubicBezTo>
                    <a:pt x="1161" y="225"/>
                    <a:pt x="1170" y="174"/>
                    <a:pt x="1177" y="170"/>
                  </a:cubicBezTo>
                  <a:cubicBezTo>
                    <a:pt x="1184" y="166"/>
                    <a:pt x="1192" y="184"/>
                    <a:pt x="1202" y="195"/>
                  </a:cubicBezTo>
                  <a:cubicBezTo>
                    <a:pt x="1212" y="206"/>
                    <a:pt x="1226" y="225"/>
                    <a:pt x="1237" y="235"/>
                  </a:cubicBezTo>
                  <a:cubicBezTo>
                    <a:pt x="1248" y="245"/>
                    <a:pt x="1261" y="262"/>
                    <a:pt x="1267" y="255"/>
                  </a:cubicBezTo>
                  <a:cubicBezTo>
                    <a:pt x="1273" y="248"/>
                    <a:pt x="1267" y="194"/>
                    <a:pt x="1272" y="190"/>
                  </a:cubicBezTo>
                  <a:cubicBezTo>
                    <a:pt x="1277" y="186"/>
                    <a:pt x="1283" y="233"/>
                    <a:pt x="1297" y="230"/>
                  </a:cubicBezTo>
                  <a:cubicBezTo>
                    <a:pt x="1311" y="227"/>
                    <a:pt x="1346" y="169"/>
                    <a:pt x="1357" y="170"/>
                  </a:cubicBezTo>
                  <a:cubicBezTo>
                    <a:pt x="1368" y="171"/>
                    <a:pt x="1355" y="217"/>
                    <a:pt x="1362" y="235"/>
                  </a:cubicBezTo>
                  <a:cubicBezTo>
                    <a:pt x="1369" y="253"/>
                    <a:pt x="1390" y="280"/>
                    <a:pt x="1397" y="276"/>
                  </a:cubicBezTo>
                  <a:cubicBezTo>
                    <a:pt x="1404" y="272"/>
                    <a:pt x="1395" y="212"/>
                    <a:pt x="1402" y="210"/>
                  </a:cubicBezTo>
                  <a:cubicBezTo>
                    <a:pt x="1409" y="208"/>
                    <a:pt x="1429" y="271"/>
                    <a:pt x="1437" y="266"/>
                  </a:cubicBezTo>
                  <a:cubicBezTo>
                    <a:pt x="1445" y="261"/>
                    <a:pt x="1440" y="206"/>
                    <a:pt x="1447" y="180"/>
                  </a:cubicBezTo>
                  <a:cubicBezTo>
                    <a:pt x="1454" y="154"/>
                    <a:pt x="1470" y="110"/>
                    <a:pt x="1477" y="110"/>
                  </a:cubicBezTo>
                  <a:cubicBezTo>
                    <a:pt x="1484" y="110"/>
                    <a:pt x="1481" y="162"/>
                    <a:pt x="1487" y="180"/>
                  </a:cubicBezTo>
                  <a:cubicBezTo>
                    <a:pt x="1493" y="198"/>
                    <a:pt x="1503" y="207"/>
                    <a:pt x="1512" y="220"/>
                  </a:cubicBezTo>
                  <a:cubicBezTo>
                    <a:pt x="1521" y="233"/>
                    <a:pt x="1536" y="263"/>
                    <a:pt x="1542" y="261"/>
                  </a:cubicBezTo>
                  <a:cubicBezTo>
                    <a:pt x="1548" y="259"/>
                    <a:pt x="1541" y="215"/>
                    <a:pt x="1547" y="205"/>
                  </a:cubicBezTo>
                  <a:cubicBezTo>
                    <a:pt x="1553" y="195"/>
                    <a:pt x="1571" y="193"/>
                    <a:pt x="1578" y="200"/>
                  </a:cubicBezTo>
                  <a:cubicBezTo>
                    <a:pt x="1585" y="207"/>
                    <a:pt x="1582" y="233"/>
                    <a:pt x="1588" y="245"/>
                  </a:cubicBezTo>
                  <a:cubicBezTo>
                    <a:pt x="1594" y="257"/>
                    <a:pt x="1608" y="279"/>
                    <a:pt x="1613" y="271"/>
                  </a:cubicBezTo>
                  <a:cubicBezTo>
                    <a:pt x="1618" y="263"/>
                    <a:pt x="1616" y="215"/>
                    <a:pt x="1618" y="195"/>
                  </a:cubicBezTo>
                  <a:cubicBezTo>
                    <a:pt x="1620" y="175"/>
                    <a:pt x="1624" y="148"/>
                    <a:pt x="1628" y="150"/>
                  </a:cubicBezTo>
                  <a:cubicBezTo>
                    <a:pt x="1632" y="152"/>
                    <a:pt x="1636" y="190"/>
                    <a:pt x="1643" y="205"/>
                  </a:cubicBezTo>
                  <a:cubicBezTo>
                    <a:pt x="1650" y="220"/>
                    <a:pt x="1660" y="224"/>
                    <a:pt x="1668" y="240"/>
                  </a:cubicBezTo>
                  <a:cubicBezTo>
                    <a:pt x="1676" y="256"/>
                    <a:pt x="1688" y="301"/>
                    <a:pt x="1693" y="301"/>
                  </a:cubicBezTo>
                  <a:cubicBezTo>
                    <a:pt x="1698" y="301"/>
                    <a:pt x="1692" y="254"/>
                    <a:pt x="1698" y="240"/>
                  </a:cubicBezTo>
                  <a:cubicBezTo>
                    <a:pt x="1704" y="226"/>
                    <a:pt x="1717" y="227"/>
                    <a:pt x="1728" y="215"/>
                  </a:cubicBezTo>
                  <a:cubicBezTo>
                    <a:pt x="1739" y="203"/>
                    <a:pt x="1755" y="160"/>
                    <a:pt x="1763" y="165"/>
                  </a:cubicBezTo>
                  <a:cubicBezTo>
                    <a:pt x="1771" y="170"/>
                    <a:pt x="1766" y="231"/>
                    <a:pt x="1773" y="245"/>
                  </a:cubicBezTo>
                  <a:cubicBezTo>
                    <a:pt x="1780" y="259"/>
                    <a:pt x="1796" y="259"/>
                    <a:pt x="1803" y="250"/>
                  </a:cubicBezTo>
                  <a:cubicBezTo>
                    <a:pt x="1810" y="241"/>
                    <a:pt x="1809" y="194"/>
                    <a:pt x="1813" y="190"/>
                  </a:cubicBezTo>
                  <a:cubicBezTo>
                    <a:pt x="1817" y="186"/>
                    <a:pt x="1821" y="231"/>
                    <a:pt x="1828" y="225"/>
                  </a:cubicBezTo>
                  <a:cubicBezTo>
                    <a:pt x="1835" y="219"/>
                    <a:pt x="1847" y="175"/>
                    <a:pt x="1858" y="155"/>
                  </a:cubicBezTo>
                  <a:cubicBezTo>
                    <a:pt x="1869" y="135"/>
                    <a:pt x="1884" y="106"/>
                    <a:pt x="1893" y="105"/>
                  </a:cubicBezTo>
                  <a:cubicBezTo>
                    <a:pt x="1902" y="104"/>
                    <a:pt x="1910" y="133"/>
                    <a:pt x="1913" y="150"/>
                  </a:cubicBezTo>
                  <a:cubicBezTo>
                    <a:pt x="1916" y="167"/>
                    <a:pt x="1907" y="193"/>
                    <a:pt x="1913" y="210"/>
                  </a:cubicBezTo>
                  <a:cubicBezTo>
                    <a:pt x="1919" y="227"/>
                    <a:pt x="1937" y="247"/>
                    <a:pt x="1948" y="250"/>
                  </a:cubicBezTo>
                  <a:cubicBezTo>
                    <a:pt x="1959" y="253"/>
                    <a:pt x="1970" y="224"/>
                    <a:pt x="1978" y="230"/>
                  </a:cubicBezTo>
                  <a:cubicBezTo>
                    <a:pt x="1986" y="236"/>
                    <a:pt x="1991" y="287"/>
                    <a:pt x="1998" y="286"/>
                  </a:cubicBezTo>
                  <a:cubicBezTo>
                    <a:pt x="2005" y="285"/>
                    <a:pt x="2016" y="225"/>
                    <a:pt x="2023" y="225"/>
                  </a:cubicBezTo>
                  <a:cubicBezTo>
                    <a:pt x="2030" y="225"/>
                    <a:pt x="2036" y="289"/>
                    <a:pt x="2043" y="286"/>
                  </a:cubicBezTo>
                  <a:cubicBezTo>
                    <a:pt x="2050" y="283"/>
                    <a:pt x="2052" y="233"/>
                    <a:pt x="2063" y="205"/>
                  </a:cubicBezTo>
                  <a:cubicBezTo>
                    <a:pt x="2074" y="177"/>
                    <a:pt x="2097" y="120"/>
                    <a:pt x="2108" y="120"/>
                  </a:cubicBezTo>
                  <a:cubicBezTo>
                    <a:pt x="2119" y="120"/>
                    <a:pt x="2117" y="178"/>
                    <a:pt x="2128" y="205"/>
                  </a:cubicBezTo>
                  <a:cubicBezTo>
                    <a:pt x="2139" y="232"/>
                    <a:pt x="2166" y="277"/>
                    <a:pt x="2174" y="281"/>
                  </a:cubicBezTo>
                  <a:cubicBezTo>
                    <a:pt x="2182" y="285"/>
                    <a:pt x="2172" y="228"/>
                    <a:pt x="2179" y="230"/>
                  </a:cubicBezTo>
                  <a:cubicBezTo>
                    <a:pt x="2186" y="232"/>
                    <a:pt x="2205" y="289"/>
                    <a:pt x="2214" y="291"/>
                  </a:cubicBezTo>
                  <a:cubicBezTo>
                    <a:pt x="2223" y="293"/>
                    <a:pt x="2228" y="242"/>
                    <a:pt x="2234" y="240"/>
                  </a:cubicBezTo>
                  <a:cubicBezTo>
                    <a:pt x="2240" y="238"/>
                    <a:pt x="2245" y="282"/>
                    <a:pt x="2249" y="276"/>
                  </a:cubicBezTo>
                  <a:cubicBezTo>
                    <a:pt x="2253" y="270"/>
                    <a:pt x="2253" y="212"/>
                    <a:pt x="2259" y="205"/>
                  </a:cubicBezTo>
                  <a:cubicBezTo>
                    <a:pt x="2265" y="198"/>
                    <a:pt x="2272" y="224"/>
                    <a:pt x="2284" y="235"/>
                  </a:cubicBezTo>
                  <a:cubicBezTo>
                    <a:pt x="2296" y="246"/>
                    <a:pt x="2317" y="274"/>
                    <a:pt x="2329" y="271"/>
                  </a:cubicBezTo>
                  <a:cubicBezTo>
                    <a:pt x="2341" y="268"/>
                    <a:pt x="2348" y="232"/>
                    <a:pt x="2354" y="215"/>
                  </a:cubicBezTo>
                  <a:cubicBezTo>
                    <a:pt x="2360" y="198"/>
                    <a:pt x="2357" y="171"/>
                    <a:pt x="2364" y="170"/>
                  </a:cubicBezTo>
                  <a:cubicBezTo>
                    <a:pt x="2371" y="169"/>
                    <a:pt x="2389" y="207"/>
                    <a:pt x="2399" y="210"/>
                  </a:cubicBezTo>
                  <a:cubicBezTo>
                    <a:pt x="2409" y="213"/>
                    <a:pt x="2415" y="182"/>
                    <a:pt x="2424" y="185"/>
                  </a:cubicBezTo>
                  <a:cubicBezTo>
                    <a:pt x="2433" y="188"/>
                    <a:pt x="2446" y="212"/>
                    <a:pt x="2454" y="230"/>
                  </a:cubicBezTo>
                  <a:cubicBezTo>
                    <a:pt x="2462" y="248"/>
                    <a:pt x="2467" y="289"/>
                    <a:pt x="2474" y="291"/>
                  </a:cubicBezTo>
                  <a:cubicBezTo>
                    <a:pt x="2481" y="293"/>
                    <a:pt x="2483" y="251"/>
                    <a:pt x="2499" y="240"/>
                  </a:cubicBezTo>
                  <a:cubicBezTo>
                    <a:pt x="2515" y="229"/>
                    <a:pt x="2555" y="223"/>
                    <a:pt x="2569" y="225"/>
                  </a:cubicBezTo>
                  <a:cubicBezTo>
                    <a:pt x="2583" y="227"/>
                    <a:pt x="2558" y="134"/>
                    <a:pt x="2584" y="255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8760" y="341784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75160" y="397656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t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716040" y="4394160"/>
            <a:ext cx="4128840" cy="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428760" y="4317840"/>
            <a:ext cx="4416120" cy="892800"/>
            <a:chOff x="428760" y="4317840"/>
            <a:chExt cx="4416120" cy="892800"/>
          </a:xfrm>
        </p:grpSpPr>
        <p:grpSp>
          <p:nvGrpSpPr>
            <p:cNvPr id="432" name=""/>
            <p:cNvGrpSpPr/>
            <p:nvPr/>
          </p:nvGrpSpPr>
          <p:grpSpPr>
            <a:xfrm>
              <a:off x="716040" y="4317840"/>
              <a:ext cx="4128840" cy="625320"/>
              <a:chOff x="716040" y="4317840"/>
              <a:chExt cx="4128840" cy="625320"/>
            </a:xfrm>
          </p:grpSpPr>
          <p:sp>
            <p:nvSpPr>
              <p:cNvPr id="433" name=""/>
              <p:cNvSpPr/>
              <p:nvPr/>
            </p:nvSpPr>
            <p:spPr>
              <a:xfrm>
                <a:off x="716040" y="4317840"/>
                <a:ext cx="0" cy="6253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16040" y="4943160"/>
                <a:ext cx="412884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716040" y="4439880"/>
              <a:ext cx="4086000" cy="490680"/>
            </a:xfrm>
            <a:custGeom>
              <a:avLst/>
              <a:gdLst/>
              <a:ahLst/>
              <a:rect l="l" t="t" r="r" b="b"/>
              <a:pathLst>
                <a:path w="2574" h="309">
                  <a:moveTo>
                    <a:pt x="0" y="246"/>
                  </a:moveTo>
                  <a:cubicBezTo>
                    <a:pt x="6" y="222"/>
                    <a:pt x="13" y="198"/>
                    <a:pt x="20" y="201"/>
                  </a:cubicBezTo>
                  <a:cubicBezTo>
                    <a:pt x="27" y="204"/>
                    <a:pt x="33" y="261"/>
                    <a:pt x="40" y="266"/>
                  </a:cubicBezTo>
                  <a:cubicBezTo>
                    <a:pt x="47" y="271"/>
                    <a:pt x="53" y="230"/>
                    <a:pt x="60" y="231"/>
                  </a:cubicBezTo>
                  <a:cubicBezTo>
                    <a:pt x="67" y="232"/>
                    <a:pt x="78" y="260"/>
                    <a:pt x="85" y="271"/>
                  </a:cubicBezTo>
                  <a:cubicBezTo>
                    <a:pt x="92" y="282"/>
                    <a:pt x="98" y="301"/>
                    <a:pt x="105" y="296"/>
                  </a:cubicBezTo>
                  <a:cubicBezTo>
                    <a:pt x="112" y="291"/>
                    <a:pt x="117" y="249"/>
                    <a:pt x="125" y="241"/>
                  </a:cubicBezTo>
                  <a:cubicBezTo>
                    <a:pt x="133" y="233"/>
                    <a:pt x="146" y="245"/>
                    <a:pt x="155" y="251"/>
                  </a:cubicBezTo>
                  <a:cubicBezTo>
                    <a:pt x="164" y="257"/>
                    <a:pt x="173" y="282"/>
                    <a:pt x="180" y="276"/>
                  </a:cubicBezTo>
                  <a:cubicBezTo>
                    <a:pt x="187" y="270"/>
                    <a:pt x="192" y="241"/>
                    <a:pt x="200" y="216"/>
                  </a:cubicBezTo>
                  <a:cubicBezTo>
                    <a:pt x="208" y="191"/>
                    <a:pt x="224" y="128"/>
                    <a:pt x="230" y="126"/>
                  </a:cubicBezTo>
                  <a:cubicBezTo>
                    <a:pt x="236" y="124"/>
                    <a:pt x="229" y="186"/>
                    <a:pt x="235" y="206"/>
                  </a:cubicBezTo>
                  <a:cubicBezTo>
                    <a:pt x="241" y="226"/>
                    <a:pt x="259" y="254"/>
                    <a:pt x="265" y="246"/>
                  </a:cubicBezTo>
                  <a:cubicBezTo>
                    <a:pt x="271" y="238"/>
                    <a:pt x="263" y="158"/>
                    <a:pt x="270" y="156"/>
                  </a:cubicBezTo>
                  <a:cubicBezTo>
                    <a:pt x="277" y="154"/>
                    <a:pt x="298" y="231"/>
                    <a:pt x="305" y="231"/>
                  </a:cubicBezTo>
                  <a:cubicBezTo>
                    <a:pt x="312" y="231"/>
                    <a:pt x="307" y="178"/>
                    <a:pt x="315" y="156"/>
                  </a:cubicBezTo>
                  <a:cubicBezTo>
                    <a:pt x="323" y="134"/>
                    <a:pt x="345" y="99"/>
                    <a:pt x="350" y="101"/>
                  </a:cubicBezTo>
                  <a:cubicBezTo>
                    <a:pt x="355" y="103"/>
                    <a:pt x="340" y="148"/>
                    <a:pt x="345" y="171"/>
                  </a:cubicBezTo>
                  <a:cubicBezTo>
                    <a:pt x="350" y="194"/>
                    <a:pt x="372" y="237"/>
                    <a:pt x="380" y="241"/>
                  </a:cubicBezTo>
                  <a:cubicBezTo>
                    <a:pt x="388" y="245"/>
                    <a:pt x="387" y="190"/>
                    <a:pt x="395" y="196"/>
                  </a:cubicBezTo>
                  <a:cubicBezTo>
                    <a:pt x="403" y="202"/>
                    <a:pt x="413" y="271"/>
                    <a:pt x="426" y="276"/>
                  </a:cubicBezTo>
                  <a:cubicBezTo>
                    <a:pt x="439" y="281"/>
                    <a:pt x="460" y="224"/>
                    <a:pt x="471" y="226"/>
                  </a:cubicBezTo>
                  <a:cubicBezTo>
                    <a:pt x="482" y="228"/>
                    <a:pt x="483" y="289"/>
                    <a:pt x="491" y="291"/>
                  </a:cubicBezTo>
                  <a:cubicBezTo>
                    <a:pt x="499" y="293"/>
                    <a:pt x="508" y="244"/>
                    <a:pt x="521" y="241"/>
                  </a:cubicBezTo>
                  <a:cubicBezTo>
                    <a:pt x="534" y="238"/>
                    <a:pt x="559" y="277"/>
                    <a:pt x="571" y="271"/>
                  </a:cubicBezTo>
                  <a:cubicBezTo>
                    <a:pt x="583" y="265"/>
                    <a:pt x="582" y="209"/>
                    <a:pt x="591" y="206"/>
                  </a:cubicBezTo>
                  <a:cubicBezTo>
                    <a:pt x="600" y="203"/>
                    <a:pt x="614" y="252"/>
                    <a:pt x="626" y="251"/>
                  </a:cubicBezTo>
                  <a:cubicBezTo>
                    <a:pt x="638" y="250"/>
                    <a:pt x="656" y="227"/>
                    <a:pt x="666" y="201"/>
                  </a:cubicBezTo>
                  <a:cubicBezTo>
                    <a:pt x="676" y="175"/>
                    <a:pt x="682" y="98"/>
                    <a:pt x="686" y="96"/>
                  </a:cubicBezTo>
                  <a:cubicBezTo>
                    <a:pt x="690" y="94"/>
                    <a:pt x="684" y="174"/>
                    <a:pt x="691" y="191"/>
                  </a:cubicBezTo>
                  <a:cubicBezTo>
                    <a:pt x="698" y="208"/>
                    <a:pt x="722" y="183"/>
                    <a:pt x="731" y="196"/>
                  </a:cubicBezTo>
                  <a:cubicBezTo>
                    <a:pt x="740" y="209"/>
                    <a:pt x="741" y="265"/>
                    <a:pt x="746" y="266"/>
                  </a:cubicBezTo>
                  <a:cubicBezTo>
                    <a:pt x="751" y="267"/>
                    <a:pt x="754" y="199"/>
                    <a:pt x="761" y="201"/>
                  </a:cubicBezTo>
                  <a:cubicBezTo>
                    <a:pt x="768" y="203"/>
                    <a:pt x="783" y="274"/>
                    <a:pt x="791" y="276"/>
                  </a:cubicBezTo>
                  <a:cubicBezTo>
                    <a:pt x="799" y="278"/>
                    <a:pt x="805" y="229"/>
                    <a:pt x="811" y="211"/>
                  </a:cubicBezTo>
                  <a:cubicBezTo>
                    <a:pt x="817" y="193"/>
                    <a:pt x="822" y="162"/>
                    <a:pt x="826" y="166"/>
                  </a:cubicBezTo>
                  <a:cubicBezTo>
                    <a:pt x="830" y="170"/>
                    <a:pt x="829" y="219"/>
                    <a:pt x="836" y="236"/>
                  </a:cubicBezTo>
                  <a:cubicBezTo>
                    <a:pt x="843" y="253"/>
                    <a:pt x="860" y="272"/>
                    <a:pt x="866" y="271"/>
                  </a:cubicBezTo>
                  <a:cubicBezTo>
                    <a:pt x="872" y="270"/>
                    <a:pt x="868" y="248"/>
                    <a:pt x="871" y="231"/>
                  </a:cubicBezTo>
                  <a:cubicBezTo>
                    <a:pt x="874" y="214"/>
                    <a:pt x="881" y="175"/>
                    <a:pt x="886" y="171"/>
                  </a:cubicBezTo>
                  <a:cubicBezTo>
                    <a:pt x="891" y="167"/>
                    <a:pt x="892" y="209"/>
                    <a:pt x="901" y="206"/>
                  </a:cubicBezTo>
                  <a:cubicBezTo>
                    <a:pt x="910" y="203"/>
                    <a:pt x="931" y="149"/>
                    <a:pt x="941" y="151"/>
                  </a:cubicBezTo>
                  <a:cubicBezTo>
                    <a:pt x="951" y="153"/>
                    <a:pt x="953" y="208"/>
                    <a:pt x="961" y="216"/>
                  </a:cubicBezTo>
                  <a:cubicBezTo>
                    <a:pt x="969" y="224"/>
                    <a:pt x="975" y="211"/>
                    <a:pt x="986" y="201"/>
                  </a:cubicBezTo>
                  <a:cubicBezTo>
                    <a:pt x="997" y="191"/>
                    <a:pt x="1017" y="153"/>
                    <a:pt x="1027" y="156"/>
                  </a:cubicBezTo>
                  <a:cubicBezTo>
                    <a:pt x="1037" y="159"/>
                    <a:pt x="1040" y="204"/>
                    <a:pt x="1047" y="221"/>
                  </a:cubicBezTo>
                  <a:cubicBezTo>
                    <a:pt x="1054" y="238"/>
                    <a:pt x="1063" y="261"/>
                    <a:pt x="1067" y="256"/>
                  </a:cubicBezTo>
                  <a:cubicBezTo>
                    <a:pt x="1071" y="251"/>
                    <a:pt x="1068" y="210"/>
                    <a:pt x="1072" y="191"/>
                  </a:cubicBezTo>
                  <a:cubicBezTo>
                    <a:pt x="1076" y="172"/>
                    <a:pt x="1084" y="159"/>
                    <a:pt x="1092" y="141"/>
                  </a:cubicBezTo>
                  <a:cubicBezTo>
                    <a:pt x="1100" y="123"/>
                    <a:pt x="1116" y="85"/>
                    <a:pt x="1122" y="86"/>
                  </a:cubicBezTo>
                  <a:cubicBezTo>
                    <a:pt x="1128" y="87"/>
                    <a:pt x="1122" y="125"/>
                    <a:pt x="1127" y="146"/>
                  </a:cubicBezTo>
                  <a:cubicBezTo>
                    <a:pt x="1132" y="167"/>
                    <a:pt x="1145" y="212"/>
                    <a:pt x="1152" y="211"/>
                  </a:cubicBezTo>
                  <a:cubicBezTo>
                    <a:pt x="1159" y="210"/>
                    <a:pt x="1160" y="144"/>
                    <a:pt x="1167" y="141"/>
                  </a:cubicBezTo>
                  <a:cubicBezTo>
                    <a:pt x="1174" y="138"/>
                    <a:pt x="1190" y="194"/>
                    <a:pt x="1197" y="191"/>
                  </a:cubicBezTo>
                  <a:cubicBezTo>
                    <a:pt x="1204" y="188"/>
                    <a:pt x="1201" y="144"/>
                    <a:pt x="1207" y="121"/>
                  </a:cubicBezTo>
                  <a:cubicBezTo>
                    <a:pt x="1213" y="98"/>
                    <a:pt x="1225" y="70"/>
                    <a:pt x="1232" y="51"/>
                  </a:cubicBezTo>
                  <a:cubicBezTo>
                    <a:pt x="1239" y="32"/>
                    <a:pt x="1249" y="0"/>
                    <a:pt x="1252" y="6"/>
                  </a:cubicBezTo>
                  <a:cubicBezTo>
                    <a:pt x="1255" y="12"/>
                    <a:pt x="1250" y="55"/>
                    <a:pt x="1252" y="86"/>
                  </a:cubicBezTo>
                  <a:cubicBezTo>
                    <a:pt x="1254" y="117"/>
                    <a:pt x="1255" y="178"/>
                    <a:pt x="1262" y="191"/>
                  </a:cubicBezTo>
                  <a:cubicBezTo>
                    <a:pt x="1269" y="204"/>
                    <a:pt x="1286" y="156"/>
                    <a:pt x="1292" y="166"/>
                  </a:cubicBezTo>
                  <a:cubicBezTo>
                    <a:pt x="1298" y="176"/>
                    <a:pt x="1292" y="255"/>
                    <a:pt x="1297" y="251"/>
                  </a:cubicBezTo>
                  <a:cubicBezTo>
                    <a:pt x="1302" y="247"/>
                    <a:pt x="1314" y="143"/>
                    <a:pt x="1322" y="141"/>
                  </a:cubicBezTo>
                  <a:cubicBezTo>
                    <a:pt x="1330" y="139"/>
                    <a:pt x="1338" y="231"/>
                    <a:pt x="1347" y="236"/>
                  </a:cubicBezTo>
                  <a:cubicBezTo>
                    <a:pt x="1356" y="241"/>
                    <a:pt x="1369" y="172"/>
                    <a:pt x="1377" y="171"/>
                  </a:cubicBezTo>
                  <a:cubicBezTo>
                    <a:pt x="1385" y="170"/>
                    <a:pt x="1393" y="234"/>
                    <a:pt x="1397" y="231"/>
                  </a:cubicBezTo>
                  <a:cubicBezTo>
                    <a:pt x="1401" y="228"/>
                    <a:pt x="1394" y="162"/>
                    <a:pt x="1402" y="151"/>
                  </a:cubicBezTo>
                  <a:cubicBezTo>
                    <a:pt x="1410" y="140"/>
                    <a:pt x="1438" y="174"/>
                    <a:pt x="1447" y="166"/>
                  </a:cubicBezTo>
                  <a:cubicBezTo>
                    <a:pt x="1456" y="158"/>
                    <a:pt x="1452" y="99"/>
                    <a:pt x="1457" y="106"/>
                  </a:cubicBezTo>
                  <a:cubicBezTo>
                    <a:pt x="1462" y="113"/>
                    <a:pt x="1470" y="200"/>
                    <a:pt x="1477" y="211"/>
                  </a:cubicBezTo>
                  <a:cubicBezTo>
                    <a:pt x="1484" y="222"/>
                    <a:pt x="1493" y="165"/>
                    <a:pt x="1502" y="171"/>
                  </a:cubicBezTo>
                  <a:cubicBezTo>
                    <a:pt x="1511" y="177"/>
                    <a:pt x="1525" y="241"/>
                    <a:pt x="1532" y="246"/>
                  </a:cubicBezTo>
                  <a:cubicBezTo>
                    <a:pt x="1539" y="251"/>
                    <a:pt x="1539" y="197"/>
                    <a:pt x="1542" y="201"/>
                  </a:cubicBezTo>
                  <a:cubicBezTo>
                    <a:pt x="1545" y="205"/>
                    <a:pt x="1544" y="264"/>
                    <a:pt x="1552" y="271"/>
                  </a:cubicBezTo>
                  <a:cubicBezTo>
                    <a:pt x="1560" y="278"/>
                    <a:pt x="1580" y="238"/>
                    <a:pt x="1593" y="241"/>
                  </a:cubicBezTo>
                  <a:cubicBezTo>
                    <a:pt x="1606" y="244"/>
                    <a:pt x="1620" y="289"/>
                    <a:pt x="1633" y="291"/>
                  </a:cubicBezTo>
                  <a:cubicBezTo>
                    <a:pt x="1646" y="293"/>
                    <a:pt x="1664" y="253"/>
                    <a:pt x="1673" y="251"/>
                  </a:cubicBezTo>
                  <a:cubicBezTo>
                    <a:pt x="1682" y="249"/>
                    <a:pt x="1681" y="287"/>
                    <a:pt x="1688" y="281"/>
                  </a:cubicBezTo>
                  <a:cubicBezTo>
                    <a:pt x="1695" y="275"/>
                    <a:pt x="1709" y="224"/>
                    <a:pt x="1718" y="216"/>
                  </a:cubicBezTo>
                  <a:cubicBezTo>
                    <a:pt x="1727" y="208"/>
                    <a:pt x="1736" y="220"/>
                    <a:pt x="1743" y="231"/>
                  </a:cubicBezTo>
                  <a:cubicBezTo>
                    <a:pt x="1750" y="242"/>
                    <a:pt x="1753" y="269"/>
                    <a:pt x="1763" y="281"/>
                  </a:cubicBezTo>
                  <a:cubicBezTo>
                    <a:pt x="1773" y="293"/>
                    <a:pt x="1789" y="303"/>
                    <a:pt x="1803" y="306"/>
                  </a:cubicBezTo>
                  <a:cubicBezTo>
                    <a:pt x="1817" y="309"/>
                    <a:pt x="1838" y="307"/>
                    <a:pt x="1848" y="301"/>
                  </a:cubicBezTo>
                  <a:cubicBezTo>
                    <a:pt x="1858" y="295"/>
                    <a:pt x="1859" y="271"/>
                    <a:pt x="1863" y="271"/>
                  </a:cubicBezTo>
                  <a:cubicBezTo>
                    <a:pt x="1867" y="271"/>
                    <a:pt x="1866" y="299"/>
                    <a:pt x="1873" y="301"/>
                  </a:cubicBezTo>
                  <a:cubicBezTo>
                    <a:pt x="1880" y="303"/>
                    <a:pt x="1890" y="281"/>
                    <a:pt x="1908" y="281"/>
                  </a:cubicBezTo>
                  <a:cubicBezTo>
                    <a:pt x="1926" y="281"/>
                    <a:pt x="1969" y="304"/>
                    <a:pt x="1983" y="301"/>
                  </a:cubicBezTo>
                  <a:cubicBezTo>
                    <a:pt x="1997" y="298"/>
                    <a:pt x="1989" y="261"/>
                    <a:pt x="1993" y="261"/>
                  </a:cubicBezTo>
                  <a:cubicBezTo>
                    <a:pt x="1997" y="261"/>
                    <a:pt x="2000" y="301"/>
                    <a:pt x="2008" y="301"/>
                  </a:cubicBezTo>
                  <a:cubicBezTo>
                    <a:pt x="2016" y="301"/>
                    <a:pt x="2031" y="276"/>
                    <a:pt x="2043" y="261"/>
                  </a:cubicBezTo>
                  <a:cubicBezTo>
                    <a:pt x="2055" y="246"/>
                    <a:pt x="2071" y="209"/>
                    <a:pt x="2078" y="211"/>
                  </a:cubicBezTo>
                  <a:cubicBezTo>
                    <a:pt x="2085" y="213"/>
                    <a:pt x="2081" y="275"/>
                    <a:pt x="2088" y="271"/>
                  </a:cubicBezTo>
                  <a:cubicBezTo>
                    <a:pt x="2095" y="267"/>
                    <a:pt x="2110" y="193"/>
                    <a:pt x="2118" y="186"/>
                  </a:cubicBezTo>
                  <a:cubicBezTo>
                    <a:pt x="2126" y="179"/>
                    <a:pt x="2128" y="229"/>
                    <a:pt x="2138" y="231"/>
                  </a:cubicBezTo>
                  <a:cubicBezTo>
                    <a:pt x="2148" y="233"/>
                    <a:pt x="2169" y="200"/>
                    <a:pt x="2179" y="201"/>
                  </a:cubicBezTo>
                  <a:cubicBezTo>
                    <a:pt x="2189" y="202"/>
                    <a:pt x="2191" y="223"/>
                    <a:pt x="2199" y="236"/>
                  </a:cubicBezTo>
                  <a:cubicBezTo>
                    <a:pt x="2207" y="249"/>
                    <a:pt x="2217" y="286"/>
                    <a:pt x="2224" y="281"/>
                  </a:cubicBezTo>
                  <a:cubicBezTo>
                    <a:pt x="2231" y="276"/>
                    <a:pt x="2234" y="206"/>
                    <a:pt x="2239" y="206"/>
                  </a:cubicBezTo>
                  <a:cubicBezTo>
                    <a:pt x="2244" y="206"/>
                    <a:pt x="2245" y="278"/>
                    <a:pt x="2254" y="281"/>
                  </a:cubicBezTo>
                  <a:cubicBezTo>
                    <a:pt x="2263" y="284"/>
                    <a:pt x="2282" y="226"/>
                    <a:pt x="2294" y="226"/>
                  </a:cubicBezTo>
                  <a:cubicBezTo>
                    <a:pt x="2306" y="226"/>
                    <a:pt x="2312" y="293"/>
                    <a:pt x="2324" y="281"/>
                  </a:cubicBezTo>
                  <a:cubicBezTo>
                    <a:pt x="2336" y="269"/>
                    <a:pt x="2360" y="160"/>
                    <a:pt x="2369" y="151"/>
                  </a:cubicBezTo>
                  <a:cubicBezTo>
                    <a:pt x="2378" y="142"/>
                    <a:pt x="2374" y="232"/>
                    <a:pt x="2379" y="226"/>
                  </a:cubicBezTo>
                  <a:cubicBezTo>
                    <a:pt x="2384" y="220"/>
                    <a:pt x="2393" y="117"/>
                    <a:pt x="2399" y="116"/>
                  </a:cubicBezTo>
                  <a:cubicBezTo>
                    <a:pt x="2405" y="115"/>
                    <a:pt x="2407" y="199"/>
                    <a:pt x="2414" y="221"/>
                  </a:cubicBezTo>
                  <a:cubicBezTo>
                    <a:pt x="2421" y="243"/>
                    <a:pt x="2435" y="253"/>
                    <a:pt x="2444" y="251"/>
                  </a:cubicBezTo>
                  <a:cubicBezTo>
                    <a:pt x="2453" y="249"/>
                    <a:pt x="2462" y="209"/>
                    <a:pt x="2469" y="211"/>
                  </a:cubicBezTo>
                  <a:cubicBezTo>
                    <a:pt x="2476" y="213"/>
                    <a:pt x="2475" y="270"/>
                    <a:pt x="2484" y="266"/>
                  </a:cubicBezTo>
                  <a:cubicBezTo>
                    <a:pt x="2493" y="262"/>
                    <a:pt x="2513" y="187"/>
                    <a:pt x="2524" y="186"/>
                  </a:cubicBezTo>
                  <a:cubicBezTo>
                    <a:pt x="2535" y="185"/>
                    <a:pt x="2541" y="254"/>
                    <a:pt x="2549" y="261"/>
                  </a:cubicBezTo>
                  <a:cubicBezTo>
                    <a:pt x="2557" y="268"/>
                    <a:pt x="2571" y="234"/>
                    <a:pt x="2574" y="226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8760" y="443988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475160" y="487332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t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716040" y="5294160"/>
            <a:ext cx="4128840" cy="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28760" y="5218200"/>
            <a:ext cx="4416120" cy="884880"/>
            <a:chOff x="428760" y="5218200"/>
            <a:chExt cx="4416120" cy="884880"/>
          </a:xfrm>
        </p:grpSpPr>
        <p:grpSp>
          <p:nvGrpSpPr>
            <p:cNvPr id="440" name=""/>
            <p:cNvGrpSpPr/>
            <p:nvPr/>
          </p:nvGrpSpPr>
          <p:grpSpPr>
            <a:xfrm>
              <a:off x="716040" y="5218200"/>
              <a:ext cx="4128840" cy="625320"/>
              <a:chOff x="716040" y="5218200"/>
              <a:chExt cx="4128840" cy="625320"/>
            </a:xfrm>
          </p:grpSpPr>
          <p:sp>
            <p:nvSpPr>
              <p:cNvPr id="441" name=""/>
              <p:cNvSpPr/>
              <p:nvPr/>
            </p:nvSpPr>
            <p:spPr>
              <a:xfrm>
                <a:off x="716040" y="5218200"/>
                <a:ext cx="0" cy="6253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16040" y="5843520"/>
                <a:ext cx="412884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>
              <a:off x="428760" y="534060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11360" y="5351400"/>
              <a:ext cx="4119480" cy="470160"/>
            </a:xfrm>
            <a:custGeom>
              <a:avLst/>
              <a:gdLst/>
              <a:ahLst/>
              <a:rect l="l" t="t" r="r" b="b"/>
              <a:pathLst>
                <a:path w="2595" h="296">
                  <a:moveTo>
                    <a:pt x="0" y="171"/>
                  </a:moveTo>
                  <a:cubicBezTo>
                    <a:pt x="9" y="182"/>
                    <a:pt x="18" y="194"/>
                    <a:pt x="24" y="191"/>
                  </a:cubicBezTo>
                  <a:cubicBezTo>
                    <a:pt x="30" y="188"/>
                    <a:pt x="31" y="150"/>
                    <a:pt x="36" y="155"/>
                  </a:cubicBezTo>
                  <a:cubicBezTo>
                    <a:pt x="41" y="160"/>
                    <a:pt x="48" y="221"/>
                    <a:pt x="56" y="223"/>
                  </a:cubicBezTo>
                  <a:cubicBezTo>
                    <a:pt x="64" y="225"/>
                    <a:pt x="75" y="184"/>
                    <a:pt x="84" y="167"/>
                  </a:cubicBezTo>
                  <a:cubicBezTo>
                    <a:pt x="93" y="150"/>
                    <a:pt x="107" y="119"/>
                    <a:pt x="112" y="119"/>
                  </a:cubicBezTo>
                  <a:cubicBezTo>
                    <a:pt x="117" y="119"/>
                    <a:pt x="112" y="154"/>
                    <a:pt x="116" y="167"/>
                  </a:cubicBezTo>
                  <a:cubicBezTo>
                    <a:pt x="120" y="180"/>
                    <a:pt x="129" y="206"/>
                    <a:pt x="136" y="199"/>
                  </a:cubicBezTo>
                  <a:cubicBezTo>
                    <a:pt x="143" y="192"/>
                    <a:pt x="154" y="122"/>
                    <a:pt x="160" y="123"/>
                  </a:cubicBezTo>
                  <a:cubicBezTo>
                    <a:pt x="166" y="124"/>
                    <a:pt x="167" y="186"/>
                    <a:pt x="172" y="207"/>
                  </a:cubicBezTo>
                  <a:cubicBezTo>
                    <a:pt x="177" y="228"/>
                    <a:pt x="185" y="254"/>
                    <a:pt x="188" y="251"/>
                  </a:cubicBezTo>
                  <a:cubicBezTo>
                    <a:pt x="191" y="248"/>
                    <a:pt x="187" y="188"/>
                    <a:pt x="192" y="187"/>
                  </a:cubicBezTo>
                  <a:cubicBezTo>
                    <a:pt x="197" y="186"/>
                    <a:pt x="209" y="242"/>
                    <a:pt x="216" y="243"/>
                  </a:cubicBezTo>
                  <a:cubicBezTo>
                    <a:pt x="223" y="244"/>
                    <a:pt x="225" y="187"/>
                    <a:pt x="232" y="191"/>
                  </a:cubicBezTo>
                  <a:cubicBezTo>
                    <a:pt x="239" y="195"/>
                    <a:pt x="247" y="263"/>
                    <a:pt x="256" y="267"/>
                  </a:cubicBezTo>
                  <a:cubicBezTo>
                    <a:pt x="265" y="271"/>
                    <a:pt x="279" y="232"/>
                    <a:pt x="288" y="215"/>
                  </a:cubicBezTo>
                  <a:cubicBezTo>
                    <a:pt x="297" y="198"/>
                    <a:pt x="303" y="162"/>
                    <a:pt x="308" y="163"/>
                  </a:cubicBezTo>
                  <a:cubicBezTo>
                    <a:pt x="313" y="164"/>
                    <a:pt x="312" y="208"/>
                    <a:pt x="316" y="223"/>
                  </a:cubicBezTo>
                  <a:cubicBezTo>
                    <a:pt x="320" y="238"/>
                    <a:pt x="327" y="252"/>
                    <a:pt x="332" y="251"/>
                  </a:cubicBezTo>
                  <a:cubicBezTo>
                    <a:pt x="337" y="250"/>
                    <a:pt x="339" y="236"/>
                    <a:pt x="344" y="215"/>
                  </a:cubicBezTo>
                  <a:cubicBezTo>
                    <a:pt x="349" y="194"/>
                    <a:pt x="358" y="130"/>
                    <a:pt x="364" y="127"/>
                  </a:cubicBezTo>
                  <a:cubicBezTo>
                    <a:pt x="370" y="124"/>
                    <a:pt x="374" y="176"/>
                    <a:pt x="380" y="195"/>
                  </a:cubicBezTo>
                  <a:cubicBezTo>
                    <a:pt x="386" y="214"/>
                    <a:pt x="394" y="245"/>
                    <a:pt x="400" y="243"/>
                  </a:cubicBezTo>
                  <a:cubicBezTo>
                    <a:pt x="406" y="241"/>
                    <a:pt x="410" y="185"/>
                    <a:pt x="416" y="183"/>
                  </a:cubicBezTo>
                  <a:cubicBezTo>
                    <a:pt x="422" y="181"/>
                    <a:pt x="426" y="232"/>
                    <a:pt x="436" y="231"/>
                  </a:cubicBezTo>
                  <a:cubicBezTo>
                    <a:pt x="446" y="230"/>
                    <a:pt x="469" y="172"/>
                    <a:pt x="476" y="175"/>
                  </a:cubicBezTo>
                  <a:cubicBezTo>
                    <a:pt x="483" y="178"/>
                    <a:pt x="474" y="230"/>
                    <a:pt x="480" y="247"/>
                  </a:cubicBezTo>
                  <a:cubicBezTo>
                    <a:pt x="486" y="264"/>
                    <a:pt x="503" y="276"/>
                    <a:pt x="512" y="275"/>
                  </a:cubicBezTo>
                  <a:cubicBezTo>
                    <a:pt x="521" y="274"/>
                    <a:pt x="523" y="242"/>
                    <a:pt x="532" y="243"/>
                  </a:cubicBezTo>
                  <a:cubicBezTo>
                    <a:pt x="541" y="244"/>
                    <a:pt x="555" y="281"/>
                    <a:pt x="564" y="283"/>
                  </a:cubicBezTo>
                  <a:cubicBezTo>
                    <a:pt x="573" y="285"/>
                    <a:pt x="580" y="253"/>
                    <a:pt x="588" y="255"/>
                  </a:cubicBezTo>
                  <a:cubicBezTo>
                    <a:pt x="596" y="257"/>
                    <a:pt x="602" y="294"/>
                    <a:pt x="612" y="295"/>
                  </a:cubicBezTo>
                  <a:cubicBezTo>
                    <a:pt x="622" y="296"/>
                    <a:pt x="639" y="263"/>
                    <a:pt x="648" y="263"/>
                  </a:cubicBezTo>
                  <a:cubicBezTo>
                    <a:pt x="657" y="263"/>
                    <a:pt x="659" y="296"/>
                    <a:pt x="668" y="295"/>
                  </a:cubicBezTo>
                  <a:cubicBezTo>
                    <a:pt x="677" y="294"/>
                    <a:pt x="690" y="273"/>
                    <a:pt x="700" y="259"/>
                  </a:cubicBezTo>
                  <a:cubicBezTo>
                    <a:pt x="710" y="245"/>
                    <a:pt x="721" y="211"/>
                    <a:pt x="728" y="211"/>
                  </a:cubicBezTo>
                  <a:cubicBezTo>
                    <a:pt x="735" y="211"/>
                    <a:pt x="739" y="262"/>
                    <a:pt x="744" y="259"/>
                  </a:cubicBezTo>
                  <a:cubicBezTo>
                    <a:pt x="749" y="256"/>
                    <a:pt x="751" y="216"/>
                    <a:pt x="756" y="195"/>
                  </a:cubicBezTo>
                  <a:cubicBezTo>
                    <a:pt x="761" y="174"/>
                    <a:pt x="771" y="135"/>
                    <a:pt x="776" y="135"/>
                  </a:cubicBezTo>
                  <a:cubicBezTo>
                    <a:pt x="781" y="135"/>
                    <a:pt x="781" y="178"/>
                    <a:pt x="788" y="195"/>
                  </a:cubicBezTo>
                  <a:cubicBezTo>
                    <a:pt x="795" y="212"/>
                    <a:pt x="810" y="241"/>
                    <a:pt x="816" y="239"/>
                  </a:cubicBezTo>
                  <a:cubicBezTo>
                    <a:pt x="822" y="237"/>
                    <a:pt x="817" y="190"/>
                    <a:pt x="824" y="183"/>
                  </a:cubicBezTo>
                  <a:cubicBezTo>
                    <a:pt x="831" y="176"/>
                    <a:pt x="847" y="188"/>
                    <a:pt x="856" y="199"/>
                  </a:cubicBezTo>
                  <a:cubicBezTo>
                    <a:pt x="865" y="210"/>
                    <a:pt x="873" y="254"/>
                    <a:pt x="880" y="251"/>
                  </a:cubicBezTo>
                  <a:cubicBezTo>
                    <a:pt x="887" y="248"/>
                    <a:pt x="891" y="188"/>
                    <a:pt x="896" y="183"/>
                  </a:cubicBezTo>
                  <a:cubicBezTo>
                    <a:pt x="901" y="178"/>
                    <a:pt x="907" y="221"/>
                    <a:pt x="912" y="219"/>
                  </a:cubicBezTo>
                  <a:cubicBezTo>
                    <a:pt x="917" y="217"/>
                    <a:pt x="923" y="171"/>
                    <a:pt x="928" y="171"/>
                  </a:cubicBezTo>
                  <a:cubicBezTo>
                    <a:pt x="933" y="171"/>
                    <a:pt x="938" y="222"/>
                    <a:pt x="944" y="219"/>
                  </a:cubicBezTo>
                  <a:cubicBezTo>
                    <a:pt x="950" y="216"/>
                    <a:pt x="959" y="172"/>
                    <a:pt x="964" y="151"/>
                  </a:cubicBezTo>
                  <a:cubicBezTo>
                    <a:pt x="969" y="130"/>
                    <a:pt x="971" y="112"/>
                    <a:pt x="972" y="91"/>
                  </a:cubicBezTo>
                  <a:cubicBezTo>
                    <a:pt x="973" y="70"/>
                    <a:pt x="968" y="22"/>
                    <a:pt x="972" y="27"/>
                  </a:cubicBezTo>
                  <a:cubicBezTo>
                    <a:pt x="976" y="32"/>
                    <a:pt x="991" y="100"/>
                    <a:pt x="996" y="123"/>
                  </a:cubicBezTo>
                  <a:cubicBezTo>
                    <a:pt x="1001" y="146"/>
                    <a:pt x="999" y="150"/>
                    <a:pt x="1000" y="163"/>
                  </a:cubicBezTo>
                  <a:cubicBezTo>
                    <a:pt x="1001" y="176"/>
                    <a:pt x="998" y="200"/>
                    <a:pt x="1004" y="199"/>
                  </a:cubicBezTo>
                  <a:cubicBezTo>
                    <a:pt x="1010" y="198"/>
                    <a:pt x="1029" y="157"/>
                    <a:pt x="1036" y="159"/>
                  </a:cubicBezTo>
                  <a:cubicBezTo>
                    <a:pt x="1043" y="161"/>
                    <a:pt x="1041" y="220"/>
                    <a:pt x="1048" y="211"/>
                  </a:cubicBezTo>
                  <a:cubicBezTo>
                    <a:pt x="1055" y="202"/>
                    <a:pt x="1068" y="122"/>
                    <a:pt x="1076" y="107"/>
                  </a:cubicBezTo>
                  <a:cubicBezTo>
                    <a:pt x="1084" y="92"/>
                    <a:pt x="1090" y="126"/>
                    <a:pt x="1096" y="123"/>
                  </a:cubicBezTo>
                  <a:cubicBezTo>
                    <a:pt x="1102" y="120"/>
                    <a:pt x="1109" y="85"/>
                    <a:pt x="1112" y="87"/>
                  </a:cubicBezTo>
                  <a:cubicBezTo>
                    <a:pt x="1115" y="89"/>
                    <a:pt x="1112" y="118"/>
                    <a:pt x="1112" y="135"/>
                  </a:cubicBezTo>
                  <a:cubicBezTo>
                    <a:pt x="1112" y="152"/>
                    <a:pt x="1109" y="182"/>
                    <a:pt x="1112" y="187"/>
                  </a:cubicBezTo>
                  <a:cubicBezTo>
                    <a:pt x="1115" y="192"/>
                    <a:pt x="1127" y="161"/>
                    <a:pt x="1132" y="167"/>
                  </a:cubicBezTo>
                  <a:cubicBezTo>
                    <a:pt x="1137" y="173"/>
                    <a:pt x="1136" y="223"/>
                    <a:pt x="1144" y="223"/>
                  </a:cubicBezTo>
                  <a:cubicBezTo>
                    <a:pt x="1152" y="223"/>
                    <a:pt x="1175" y="166"/>
                    <a:pt x="1180" y="167"/>
                  </a:cubicBezTo>
                  <a:cubicBezTo>
                    <a:pt x="1185" y="168"/>
                    <a:pt x="1173" y="210"/>
                    <a:pt x="1176" y="231"/>
                  </a:cubicBezTo>
                  <a:cubicBezTo>
                    <a:pt x="1179" y="252"/>
                    <a:pt x="1193" y="294"/>
                    <a:pt x="1200" y="295"/>
                  </a:cubicBezTo>
                  <a:cubicBezTo>
                    <a:pt x="1207" y="296"/>
                    <a:pt x="1212" y="237"/>
                    <a:pt x="1220" y="235"/>
                  </a:cubicBezTo>
                  <a:cubicBezTo>
                    <a:pt x="1228" y="233"/>
                    <a:pt x="1241" y="292"/>
                    <a:pt x="1248" y="283"/>
                  </a:cubicBezTo>
                  <a:cubicBezTo>
                    <a:pt x="1255" y="274"/>
                    <a:pt x="1257" y="185"/>
                    <a:pt x="1260" y="183"/>
                  </a:cubicBezTo>
                  <a:cubicBezTo>
                    <a:pt x="1263" y="181"/>
                    <a:pt x="1271" y="271"/>
                    <a:pt x="1268" y="271"/>
                  </a:cubicBezTo>
                  <a:cubicBezTo>
                    <a:pt x="1265" y="271"/>
                    <a:pt x="1277" y="191"/>
                    <a:pt x="1280" y="183"/>
                  </a:cubicBezTo>
                  <a:cubicBezTo>
                    <a:pt x="1283" y="175"/>
                    <a:pt x="1280" y="227"/>
                    <a:pt x="1284" y="223"/>
                  </a:cubicBezTo>
                  <a:cubicBezTo>
                    <a:pt x="1288" y="219"/>
                    <a:pt x="1298" y="151"/>
                    <a:pt x="1304" y="159"/>
                  </a:cubicBezTo>
                  <a:cubicBezTo>
                    <a:pt x="1310" y="167"/>
                    <a:pt x="1313" y="256"/>
                    <a:pt x="1320" y="271"/>
                  </a:cubicBezTo>
                  <a:cubicBezTo>
                    <a:pt x="1327" y="286"/>
                    <a:pt x="1338" y="248"/>
                    <a:pt x="1344" y="251"/>
                  </a:cubicBezTo>
                  <a:cubicBezTo>
                    <a:pt x="1350" y="254"/>
                    <a:pt x="1351" y="292"/>
                    <a:pt x="1356" y="291"/>
                  </a:cubicBezTo>
                  <a:cubicBezTo>
                    <a:pt x="1361" y="290"/>
                    <a:pt x="1367" y="258"/>
                    <a:pt x="1376" y="243"/>
                  </a:cubicBezTo>
                  <a:cubicBezTo>
                    <a:pt x="1385" y="228"/>
                    <a:pt x="1401" y="198"/>
                    <a:pt x="1408" y="199"/>
                  </a:cubicBezTo>
                  <a:cubicBezTo>
                    <a:pt x="1415" y="200"/>
                    <a:pt x="1412" y="244"/>
                    <a:pt x="1420" y="251"/>
                  </a:cubicBezTo>
                  <a:cubicBezTo>
                    <a:pt x="1428" y="258"/>
                    <a:pt x="1448" y="239"/>
                    <a:pt x="1456" y="243"/>
                  </a:cubicBezTo>
                  <a:cubicBezTo>
                    <a:pt x="1464" y="247"/>
                    <a:pt x="1462" y="268"/>
                    <a:pt x="1468" y="275"/>
                  </a:cubicBezTo>
                  <a:cubicBezTo>
                    <a:pt x="1474" y="282"/>
                    <a:pt x="1487" y="291"/>
                    <a:pt x="1492" y="287"/>
                  </a:cubicBezTo>
                  <a:cubicBezTo>
                    <a:pt x="1497" y="283"/>
                    <a:pt x="1494" y="250"/>
                    <a:pt x="1500" y="251"/>
                  </a:cubicBezTo>
                  <a:cubicBezTo>
                    <a:pt x="1506" y="252"/>
                    <a:pt x="1519" y="294"/>
                    <a:pt x="1528" y="291"/>
                  </a:cubicBezTo>
                  <a:cubicBezTo>
                    <a:pt x="1537" y="288"/>
                    <a:pt x="1545" y="234"/>
                    <a:pt x="1552" y="231"/>
                  </a:cubicBezTo>
                  <a:cubicBezTo>
                    <a:pt x="1559" y="228"/>
                    <a:pt x="1562" y="279"/>
                    <a:pt x="1572" y="271"/>
                  </a:cubicBezTo>
                  <a:cubicBezTo>
                    <a:pt x="1582" y="263"/>
                    <a:pt x="1603" y="188"/>
                    <a:pt x="1612" y="183"/>
                  </a:cubicBezTo>
                  <a:cubicBezTo>
                    <a:pt x="1621" y="178"/>
                    <a:pt x="1618" y="240"/>
                    <a:pt x="1628" y="239"/>
                  </a:cubicBezTo>
                  <a:cubicBezTo>
                    <a:pt x="1638" y="238"/>
                    <a:pt x="1661" y="199"/>
                    <a:pt x="1672" y="175"/>
                  </a:cubicBezTo>
                  <a:cubicBezTo>
                    <a:pt x="1683" y="151"/>
                    <a:pt x="1688" y="92"/>
                    <a:pt x="1692" y="95"/>
                  </a:cubicBezTo>
                  <a:cubicBezTo>
                    <a:pt x="1696" y="98"/>
                    <a:pt x="1690" y="170"/>
                    <a:pt x="1696" y="195"/>
                  </a:cubicBezTo>
                  <a:cubicBezTo>
                    <a:pt x="1702" y="220"/>
                    <a:pt x="1720" y="247"/>
                    <a:pt x="1728" y="247"/>
                  </a:cubicBezTo>
                  <a:cubicBezTo>
                    <a:pt x="1736" y="247"/>
                    <a:pt x="1736" y="192"/>
                    <a:pt x="1744" y="195"/>
                  </a:cubicBezTo>
                  <a:cubicBezTo>
                    <a:pt x="1752" y="198"/>
                    <a:pt x="1768" y="262"/>
                    <a:pt x="1776" y="263"/>
                  </a:cubicBezTo>
                  <a:cubicBezTo>
                    <a:pt x="1784" y="264"/>
                    <a:pt x="1785" y="220"/>
                    <a:pt x="1792" y="203"/>
                  </a:cubicBezTo>
                  <a:cubicBezTo>
                    <a:pt x="1799" y="186"/>
                    <a:pt x="1815" y="162"/>
                    <a:pt x="1820" y="163"/>
                  </a:cubicBezTo>
                  <a:cubicBezTo>
                    <a:pt x="1825" y="164"/>
                    <a:pt x="1816" y="209"/>
                    <a:pt x="1820" y="211"/>
                  </a:cubicBezTo>
                  <a:cubicBezTo>
                    <a:pt x="1824" y="213"/>
                    <a:pt x="1837" y="192"/>
                    <a:pt x="1844" y="175"/>
                  </a:cubicBezTo>
                  <a:cubicBezTo>
                    <a:pt x="1851" y="158"/>
                    <a:pt x="1856" y="107"/>
                    <a:pt x="1860" y="107"/>
                  </a:cubicBezTo>
                  <a:cubicBezTo>
                    <a:pt x="1864" y="107"/>
                    <a:pt x="1865" y="153"/>
                    <a:pt x="1868" y="175"/>
                  </a:cubicBezTo>
                  <a:cubicBezTo>
                    <a:pt x="1871" y="197"/>
                    <a:pt x="1869" y="225"/>
                    <a:pt x="1876" y="239"/>
                  </a:cubicBezTo>
                  <a:cubicBezTo>
                    <a:pt x="1883" y="253"/>
                    <a:pt x="1901" y="267"/>
                    <a:pt x="1908" y="259"/>
                  </a:cubicBezTo>
                  <a:cubicBezTo>
                    <a:pt x="1915" y="251"/>
                    <a:pt x="1912" y="211"/>
                    <a:pt x="1916" y="191"/>
                  </a:cubicBezTo>
                  <a:cubicBezTo>
                    <a:pt x="1920" y="171"/>
                    <a:pt x="1927" y="142"/>
                    <a:pt x="1932" y="139"/>
                  </a:cubicBezTo>
                  <a:cubicBezTo>
                    <a:pt x="1937" y="136"/>
                    <a:pt x="1939" y="181"/>
                    <a:pt x="1944" y="171"/>
                  </a:cubicBezTo>
                  <a:cubicBezTo>
                    <a:pt x="1949" y="161"/>
                    <a:pt x="1959" y="106"/>
                    <a:pt x="1964" y="79"/>
                  </a:cubicBezTo>
                  <a:cubicBezTo>
                    <a:pt x="1969" y="52"/>
                    <a:pt x="1969" y="0"/>
                    <a:pt x="1972" y="7"/>
                  </a:cubicBezTo>
                  <a:cubicBezTo>
                    <a:pt x="1975" y="14"/>
                    <a:pt x="1979" y="87"/>
                    <a:pt x="1984" y="119"/>
                  </a:cubicBezTo>
                  <a:cubicBezTo>
                    <a:pt x="1989" y="151"/>
                    <a:pt x="1992" y="184"/>
                    <a:pt x="2000" y="199"/>
                  </a:cubicBezTo>
                  <a:cubicBezTo>
                    <a:pt x="2008" y="214"/>
                    <a:pt x="2023" y="217"/>
                    <a:pt x="2032" y="211"/>
                  </a:cubicBezTo>
                  <a:cubicBezTo>
                    <a:pt x="2041" y="205"/>
                    <a:pt x="2047" y="157"/>
                    <a:pt x="2052" y="163"/>
                  </a:cubicBezTo>
                  <a:cubicBezTo>
                    <a:pt x="2057" y="169"/>
                    <a:pt x="2059" y="246"/>
                    <a:pt x="2064" y="247"/>
                  </a:cubicBezTo>
                  <a:cubicBezTo>
                    <a:pt x="2069" y="248"/>
                    <a:pt x="2071" y="167"/>
                    <a:pt x="2080" y="167"/>
                  </a:cubicBezTo>
                  <a:cubicBezTo>
                    <a:pt x="2089" y="167"/>
                    <a:pt x="2112" y="244"/>
                    <a:pt x="2120" y="247"/>
                  </a:cubicBezTo>
                  <a:cubicBezTo>
                    <a:pt x="2128" y="250"/>
                    <a:pt x="2122" y="184"/>
                    <a:pt x="2128" y="183"/>
                  </a:cubicBezTo>
                  <a:cubicBezTo>
                    <a:pt x="2134" y="182"/>
                    <a:pt x="2147" y="245"/>
                    <a:pt x="2156" y="243"/>
                  </a:cubicBezTo>
                  <a:cubicBezTo>
                    <a:pt x="2165" y="241"/>
                    <a:pt x="2177" y="173"/>
                    <a:pt x="2184" y="171"/>
                  </a:cubicBezTo>
                  <a:cubicBezTo>
                    <a:pt x="2191" y="169"/>
                    <a:pt x="2191" y="236"/>
                    <a:pt x="2196" y="231"/>
                  </a:cubicBezTo>
                  <a:cubicBezTo>
                    <a:pt x="2201" y="226"/>
                    <a:pt x="2209" y="144"/>
                    <a:pt x="2216" y="139"/>
                  </a:cubicBezTo>
                  <a:cubicBezTo>
                    <a:pt x="2223" y="134"/>
                    <a:pt x="2234" y="182"/>
                    <a:pt x="2240" y="203"/>
                  </a:cubicBezTo>
                  <a:cubicBezTo>
                    <a:pt x="2246" y="224"/>
                    <a:pt x="2246" y="264"/>
                    <a:pt x="2252" y="267"/>
                  </a:cubicBezTo>
                  <a:cubicBezTo>
                    <a:pt x="2258" y="270"/>
                    <a:pt x="2268" y="222"/>
                    <a:pt x="2276" y="219"/>
                  </a:cubicBezTo>
                  <a:cubicBezTo>
                    <a:pt x="2284" y="216"/>
                    <a:pt x="2294" y="252"/>
                    <a:pt x="2300" y="251"/>
                  </a:cubicBezTo>
                  <a:cubicBezTo>
                    <a:pt x="2306" y="250"/>
                    <a:pt x="2307" y="213"/>
                    <a:pt x="2312" y="215"/>
                  </a:cubicBezTo>
                  <a:cubicBezTo>
                    <a:pt x="2317" y="217"/>
                    <a:pt x="2323" y="262"/>
                    <a:pt x="2332" y="263"/>
                  </a:cubicBezTo>
                  <a:cubicBezTo>
                    <a:pt x="2341" y="264"/>
                    <a:pt x="2352" y="226"/>
                    <a:pt x="2364" y="219"/>
                  </a:cubicBezTo>
                  <a:cubicBezTo>
                    <a:pt x="2376" y="212"/>
                    <a:pt x="2395" y="214"/>
                    <a:pt x="2404" y="223"/>
                  </a:cubicBezTo>
                  <a:cubicBezTo>
                    <a:pt x="2413" y="232"/>
                    <a:pt x="2409" y="266"/>
                    <a:pt x="2416" y="271"/>
                  </a:cubicBezTo>
                  <a:cubicBezTo>
                    <a:pt x="2423" y="276"/>
                    <a:pt x="2441" y="262"/>
                    <a:pt x="2448" y="255"/>
                  </a:cubicBezTo>
                  <a:cubicBezTo>
                    <a:pt x="2455" y="248"/>
                    <a:pt x="2451" y="225"/>
                    <a:pt x="2456" y="227"/>
                  </a:cubicBezTo>
                  <a:cubicBezTo>
                    <a:pt x="2461" y="229"/>
                    <a:pt x="2469" y="262"/>
                    <a:pt x="2480" y="267"/>
                  </a:cubicBezTo>
                  <a:cubicBezTo>
                    <a:pt x="2491" y="272"/>
                    <a:pt x="2516" y="262"/>
                    <a:pt x="2524" y="255"/>
                  </a:cubicBezTo>
                  <a:cubicBezTo>
                    <a:pt x="2532" y="248"/>
                    <a:pt x="2524" y="222"/>
                    <a:pt x="2528" y="223"/>
                  </a:cubicBezTo>
                  <a:cubicBezTo>
                    <a:pt x="2532" y="224"/>
                    <a:pt x="2539" y="256"/>
                    <a:pt x="2548" y="263"/>
                  </a:cubicBezTo>
                  <a:cubicBezTo>
                    <a:pt x="2557" y="270"/>
                    <a:pt x="2573" y="268"/>
                    <a:pt x="2580" y="263"/>
                  </a:cubicBezTo>
                  <a:cubicBezTo>
                    <a:pt x="2587" y="258"/>
                    <a:pt x="2595" y="240"/>
                    <a:pt x="2592" y="235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75160" y="576576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t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1512720" y="3189240"/>
            <a:ext cx="6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Comic Sans MS"/>
              </a:rPr>
              <a:t>F</a:t>
            </a:r>
            <a:r>
              <a:rPr b="0" lang="it-IT" sz="1400" spc="-1" strike="noStrike" baseline="-25000">
                <a:solidFill>
                  <a:srgbClr val="003399"/>
                </a:solidFill>
                <a:latin typeface="Comic Sans MS"/>
              </a:rPr>
              <a:t>max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71760" y="4116240"/>
            <a:ext cx="6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Comic Sans MS"/>
              </a:rPr>
              <a:t>F</a:t>
            </a:r>
            <a:r>
              <a:rPr b="0" lang="it-IT" sz="1400" spc="-1" strike="noStrike" baseline="-25000">
                <a:solidFill>
                  <a:srgbClr val="003399"/>
                </a:solidFill>
                <a:latin typeface="Comic Sans MS"/>
              </a:rPr>
              <a:t>max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608280" y="4986360"/>
            <a:ext cx="6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Comic Sans MS"/>
              </a:rPr>
              <a:t>F</a:t>
            </a:r>
            <a:r>
              <a:rPr b="0" lang="it-IT" sz="1400" spc="-1" strike="noStrike" baseline="-25000">
                <a:solidFill>
                  <a:srgbClr val="003399"/>
                </a:solidFill>
                <a:latin typeface="Comic Sans MS"/>
              </a:rPr>
              <a:t>max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397480" y="389088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Cioè è superato solo nel 5% del periodo di riferiment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107040" y="5322960"/>
            <a:ext cx="28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0.5</a:t>
            </a: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carico variabile per abitazion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107040" y="596268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0.2</a:t>
            </a: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per vent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5397480" y="5303880"/>
                <a:ext cx="6555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5859360" y="4827600"/>
            <a:ext cx="28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dipende dal tipo di caric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397480" y="478800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735120" y="2862360"/>
            <a:ext cx="4128840" cy="0"/>
          </a:xfrm>
          <a:prstGeom prst="line">
            <a:avLst/>
          </a:prstGeom>
          <a:ln w="936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35120" y="3738600"/>
            <a:ext cx="4128840" cy="0"/>
          </a:xfrm>
          <a:prstGeom prst="line">
            <a:avLst/>
          </a:prstGeom>
          <a:ln w="936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35120" y="4638600"/>
            <a:ext cx="4128840" cy="0"/>
          </a:xfrm>
          <a:prstGeom prst="line">
            <a:avLst/>
          </a:prstGeom>
          <a:ln w="936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35120" y="5538960"/>
            <a:ext cx="4128840" cy="0"/>
          </a:xfrm>
          <a:prstGeom prst="line">
            <a:avLst/>
          </a:prstGeom>
          <a:ln w="936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4863960" y="2712960"/>
                <a:ext cx="4399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460" name=""/>
          <p:cNvGrpSpPr/>
          <p:nvPr/>
        </p:nvGrpSpPr>
        <p:grpSpPr>
          <a:xfrm>
            <a:off x="1241280" y="3129120"/>
            <a:ext cx="3289320" cy="2749320"/>
            <a:chOff x="1241280" y="3129120"/>
            <a:chExt cx="3289320" cy="2749320"/>
          </a:xfrm>
        </p:grpSpPr>
        <p:grpSp>
          <p:nvGrpSpPr>
            <p:cNvPr id="461" name=""/>
            <p:cNvGrpSpPr/>
            <p:nvPr/>
          </p:nvGrpSpPr>
          <p:grpSpPr>
            <a:xfrm>
              <a:off x="1265400" y="3129120"/>
              <a:ext cx="3012840" cy="71280"/>
              <a:chOff x="1265400" y="3129120"/>
              <a:chExt cx="3012840" cy="71280"/>
            </a:xfrm>
          </p:grpSpPr>
          <p:sp>
            <p:nvSpPr>
              <p:cNvPr id="462" name=""/>
              <p:cNvSpPr/>
              <p:nvPr/>
            </p:nvSpPr>
            <p:spPr>
              <a:xfrm>
                <a:off x="1265400" y="3129120"/>
                <a:ext cx="44280" cy="7128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527120" y="3129120"/>
                <a:ext cx="42840" cy="7128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046240" y="3129120"/>
                <a:ext cx="31680" cy="7128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271680" y="3129120"/>
                <a:ext cx="7920" cy="7128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260960" y="3129120"/>
                <a:ext cx="17280" cy="7128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057560" y="3129120"/>
                <a:ext cx="7920" cy="7128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114800" y="3129120"/>
                <a:ext cx="81000" cy="7128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1512720" y="4006800"/>
              <a:ext cx="2557800" cy="71640"/>
              <a:chOff x="1512720" y="4006800"/>
              <a:chExt cx="2557800" cy="71640"/>
            </a:xfrm>
          </p:grpSpPr>
          <p:sp>
            <p:nvSpPr>
              <p:cNvPr id="470" name=""/>
              <p:cNvSpPr/>
              <p:nvPr/>
            </p:nvSpPr>
            <p:spPr>
              <a:xfrm>
                <a:off x="1512720" y="4006800"/>
                <a:ext cx="39960" cy="7164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639800" y="4006800"/>
                <a:ext cx="163440" cy="7164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043080" y="4006800"/>
                <a:ext cx="25560" cy="7164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87840" y="4006800"/>
                <a:ext cx="58680" cy="7164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044960" y="4006800"/>
                <a:ext cx="25560" cy="7164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1241280" y="4905360"/>
              <a:ext cx="3289320" cy="71280"/>
              <a:chOff x="1241280" y="4905360"/>
              <a:chExt cx="3289320" cy="71280"/>
            </a:xfrm>
          </p:grpSpPr>
          <p:sp>
            <p:nvSpPr>
              <p:cNvPr id="476" name=""/>
              <p:cNvSpPr/>
              <p:nvPr/>
            </p:nvSpPr>
            <p:spPr>
              <a:xfrm>
                <a:off x="1241280" y="4905360"/>
                <a:ext cx="25560" cy="7128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797120" y="4905360"/>
                <a:ext cx="7920" cy="7128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462040" y="4905360"/>
                <a:ext cx="39960" cy="7128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635200" y="4905360"/>
                <a:ext cx="68400" cy="7128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027240" y="4905360"/>
                <a:ext cx="7920" cy="7128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19440" y="4905360"/>
                <a:ext cx="11160" cy="7128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2252520" y="5807160"/>
              <a:ext cx="1606680" cy="71280"/>
              <a:chOff x="2252520" y="5807160"/>
              <a:chExt cx="1606680" cy="71280"/>
            </a:xfrm>
          </p:grpSpPr>
          <p:sp>
            <p:nvSpPr>
              <p:cNvPr id="483" name=""/>
              <p:cNvSpPr/>
              <p:nvPr/>
            </p:nvSpPr>
            <p:spPr>
              <a:xfrm>
                <a:off x="2252520" y="5807160"/>
                <a:ext cx="39960" cy="7128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417760" y="5807160"/>
                <a:ext cx="25560" cy="7128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460600" y="5807160"/>
                <a:ext cx="14400" cy="7128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387600" y="5807160"/>
                <a:ext cx="7920" cy="7128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819600" y="5807160"/>
                <a:ext cx="39600" cy="7128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659040" y="5807160"/>
                <a:ext cx="7920" cy="7128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Nelle combinazioni di carico SLE</a:t>
            </a:r>
            <a:br>
              <a:rPr sz="32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zioni variabili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4861080" y="2927520"/>
                <a:ext cx="3808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1" name=""/>
          <p:cNvSpPr/>
          <p:nvPr/>
        </p:nvSpPr>
        <p:spPr>
          <a:xfrm>
            <a:off x="647640" y="1835280"/>
            <a:ext cx="784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Valore quasi permanente   </a:t>
            </a:r>
            <a:r>
              <a:rPr b="1" lang="it-IT" sz="2000" spc="-1" strike="noStrike">
                <a:solidFill>
                  <a:srgbClr val="003399"/>
                </a:solidFill>
                <a:latin typeface="Symbol"/>
                <a:ea typeface="Symbol"/>
              </a:rPr>
              <a:t></a:t>
            </a:r>
            <a:r>
              <a:rPr b="0" lang="it-IT" sz="2000" spc="-1" strike="noStrike" baseline="-25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 F</a:t>
            </a:r>
            <a:r>
              <a:rPr b="0" lang="it-IT" sz="2000" spc="-1" strike="noStrike" baseline="-25000">
                <a:solidFill>
                  <a:srgbClr val="003399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989520" y="2266920"/>
            <a:ext cx="6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Comic Sans MS"/>
              </a:rPr>
              <a:t>F</a:t>
            </a:r>
            <a:r>
              <a:rPr b="0" lang="it-IT" sz="1400" spc="-1" strike="noStrike" baseline="-25000">
                <a:solidFill>
                  <a:srgbClr val="003399"/>
                </a:solidFill>
                <a:latin typeface="Comic Sans MS"/>
              </a:rPr>
              <a:t>max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4857840" y="2498760"/>
                <a:ext cx="19044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4" name=""/>
          <p:cNvSpPr/>
          <p:nvPr/>
        </p:nvSpPr>
        <p:spPr>
          <a:xfrm>
            <a:off x="5397480" y="2698920"/>
            <a:ext cx="337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È la media della distribuzione temporale in un periodo di riferiment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133880" y="2516040"/>
            <a:ext cx="36360" cy="367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692360" y="3511440"/>
            <a:ext cx="36360" cy="367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681280" y="4435560"/>
            <a:ext cx="36360" cy="3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22840" y="5332320"/>
            <a:ext cx="36360" cy="367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6040" y="2617920"/>
            <a:ext cx="4128840" cy="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28760" y="2517840"/>
            <a:ext cx="4416120" cy="926280"/>
            <a:chOff x="428760" y="2517840"/>
            <a:chExt cx="4416120" cy="926280"/>
          </a:xfrm>
        </p:grpSpPr>
        <p:grpSp>
          <p:nvGrpSpPr>
            <p:cNvPr id="501" name=""/>
            <p:cNvGrpSpPr/>
            <p:nvPr/>
          </p:nvGrpSpPr>
          <p:grpSpPr>
            <a:xfrm>
              <a:off x="716040" y="2541960"/>
              <a:ext cx="4128840" cy="625320"/>
              <a:chOff x="716040" y="2541960"/>
              <a:chExt cx="4128840" cy="625320"/>
            </a:xfrm>
          </p:grpSpPr>
          <p:sp>
            <p:nvSpPr>
              <p:cNvPr id="502" name=""/>
              <p:cNvSpPr/>
              <p:nvPr/>
            </p:nvSpPr>
            <p:spPr>
              <a:xfrm>
                <a:off x="716040" y="2541960"/>
                <a:ext cx="0" cy="6253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16040" y="3167280"/>
                <a:ext cx="412884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716040" y="2517840"/>
              <a:ext cx="4076640" cy="608040"/>
            </a:xfrm>
            <a:custGeom>
              <a:avLst/>
              <a:gdLst/>
              <a:ahLst/>
              <a:rect l="l" t="t" r="r" b="b"/>
              <a:pathLst>
                <a:path w="2568" h="383">
                  <a:moveTo>
                    <a:pt x="0" y="358"/>
                  </a:moveTo>
                  <a:cubicBezTo>
                    <a:pt x="7" y="294"/>
                    <a:pt x="15" y="230"/>
                    <a:pt x="20" y="222"/>
                  </a:cubicBezTo>
                  <a:cubicBezTo>
                    <a:pt x="25" y="214"/>
                    <a:pt x="23" y="302"/>
                    <a:pt x="30" y="308"/>
                  </a:cubicBezTo>
                  <a:cubicBezTo>
                    <a:pt x="37" y="314"/>
                    <a:pt x="54" y="280"/>
                    <a:pt x="60" y="257"/>
                  </a:cubicBezTo>
                  <a:cubicBezTo>
                    <a:pt x="66" y="234"/>
                    <a:pt x="63" y="172"/>
                    <a:pt x="65" y="167"/>
                  </a:cubicBezTo>
                  <a:cubicBezTo>
                    <a:pt x="67" y="162"/>
                    <a:pt x="67" y="225"/>
                    <a:pt x="75" y="227"/>
                  </a:cubicBezTo>
                  <a:cubicBezTo>
                    <a:pt x="83" y="229"/>
                    <a:pt x="106" y="175"/>
                    <a:pt x="115" y="177"/>
                  </a:cubicBezTo>
                  <a:cubicBezTo>
                    <a:pt x="124" y="179"/>
                    <a:pt x="125" y="211"/>
                    <a:pt x="130" y="237"/>
                  </a:cubicBezTo>
                  <a:cubicBezTo>
                    <a:pt x="135" y="263"/>
                    <a:pt x="140" y="329"/>
                    <a:pt x="145" y="333"/>
                  </a:cubicBezTo>
                  <a:cubicBezTo>
                    <a:pt x="150" y="337"/>
                    <a:pt x="153" y="275"/>
                    <a:pt x="160" y="262"/>
                  </a:cubicBezTo>
                  <a:cubicBezTo>
                    <a:pt x="167" y="249"/>
                    <a:pt x="182" y="247"/>
                    <a:pt x="190" y="252"/>
                  </a:cubicBezTo>
                  <a:cubicBezTo>
                    <a:pt x="198" y="257"/>
                    <a:pt x="204" y="278"/>
                    <a:pt x="210" y="293"/>
                  </a:cubicBezTo>
                  <a:cubicBezTo>
                    <a:pt x="216" y="308"/>
                    <a:pt x="216" y="333"/>
                    <a:pt x="225" y="343"/>
                  </a:cubicBezTo>
                  <a:cubicBezTo>
                    <a:pt x="234" y="353"/>
                    <a:pt x="254" y="361"/>
                    <a:pt x="265" y="353"/>
                  </a:cubicBezTo>
                  <a:cubicBezTo>
                    <a:pt x="276" y="345"/>
                    <a:pt x="283" y="296"/>
                    <a:pt x="290" y="293"/>
                  </a:cubicBezTo>
                  <a:cubicBezTo>
                    <a:pt x="297" y="290"/>
                    <a:pt x="303" y="335"/>
                    <a:pt x="310" y="333"/>
                  </a:cubicBezTo>
                  <a:cubicBezTo>
                    <a:pt x="317" y="331"/>
                    <a:pt x="325" y="314"/>
                    <a:pt x="335" y="278"/>
                  </a:cubicBezTo>
                  <a:cubicBezTo>
                    <a:pt x="345" y="242"/>
                    <a:pt x="363" y="120"/>
                    <a:pt x="370" y="117"/>
                  </a:cubicBezTo>
                  <a:cubicBezTo>
                    <a:pt x="377" y="114"/>
                    <a:pt x="372" y="229"/>
                    <a:pt x="380" y="257"/>
                  </a:cubicBezTo>
                  <a:cubicBezTo>
                    <a:pt x="388" y="285"/>
                    <a:pt x="413" y="290"/>
                    <a:pt x="421" y="288"/>
                  </a:cubicBezTo>
                  <a:cubicBezTo>
                    <a:pt x="429" y="286"/>
                    <a:pt x="422" y="245"/>
                    <a:pt x="431" y="242"/>
                  </a:cubicBezTo>
                  <a:cubicBezTo>
                    <a:pt x="440" y="239"/>
                    <a:pt x="463" y="273"/>
                    <a:pt x="476" y="268"/>
                  </a:cubicBezTo>
                  <a:cubicBezTo>
                    <a:pt x="489" y="263"/>
                    <a:pt x="502" y="227"/>
                    <a:pt x="511" y="212"/>
                  </a:cubicBezTo>
                  <a:cubicBezTo>
                    <a:pt x="520" y="197"/>
                    <a:pt x="527" y="175"/>
                    <a:pt x="531" y="177"/>
                  </a:cubicBezTo>
                  <a:cubicBezTo>
                    <a:pt x="535" y="179"/>
                    <a:pt x="533" y="205"/>
                    <a:pt x="536" y="222"/>
                  </a:cubicBezTo>
                  <a:cubicBezTo>
                    <a:pt x="539" y="239"/>
                    <a:pt x="541" y="263"/>
                    <a:pt x="551" y="278"/>
                  </a:cubicBezTo>
                  <a:cubicBezTo>
                    <a:pt x="561" y="293"/>
                    <a:pt x="586" y="312"/>
                    <a:pt x="596" y="313"/>
                  </a:cubicBezTo>
                  <a:cubicBezTo>
                    <a:pt x="606" y="314"/>
                    <a:pt x="606" y="280"/>
                    <a:pt x="611" y="283"/>
                  </a:cubicBezTo>
                  <a:cubicBezTo>
                    <a:pt x="616" y="286"/>
                    <a:pt x="622" y="342"/>
                    <a:pt x="626" y="333"/>
                  </a:cubicBezTo>
                  <a:cubicBezTo>
                    <a:pt x="630" y="324"/>
                    <a:pt x="632" y="231"/>
                    <a:pt x="636" y="227"/>
                  </a:cubicBezTo>
                  <a:cubicBezTo>
                    <a:pt x="640" y="223"/>
                    <a:pt x="643" y="299"/>
                    <a:pt x="651" y="308"/>
                  </a:cubicBezTo>
                  <a:cubicBezTo>
                    <a:pt x="659" y="317"/>
                    <a:pt x="674" y="288"/>
                    <a:pt x="686" y="283"/>
                  </a:cubicBezTo>
                  <a:cubicBezTo>
                    <a:pt x="698" y="278"/>
                    <a:pt x="714" y="287"/>
                    <a:pt x="721" y="278"/>
                  </a:cubicBezTo>
                  <a:cubicBezTo>
                    <a:pt x="728" y="269"/>
                    <a:pt x="723" y="227"/>
                    <a:pt x="731" y="227"/>
                  </a:cubicBezTo>
                  <a:cubicBezTo>
                    <a:pt x="739" y="227"/>
                    <a:pt x="764" y="258"/>
                    <a:pt x="771" y="278"/>
                  </a:cubicBezTo>
                  <a:cubicBezTo>
                    <a:pt x="778" y="298"/>
                    <a:pt x="772" y="344"/>
                    <a:pt x="776" y="348"/>
                  </a:cubicBezTo>
                  <a:cubicBezTo>
                    <a:pt x="780" y="352"/>
                    <a:pt x="790" y="301"/>
                    <a:pt x="796" y="303"/>
                  </a:cubicBezTo>
                  <a:cubicBezTo>
                    <a:pt x="802" y="305"/>
                    <a:pt x="805" y="365"/>
                    <a:pt x="811" y="358"/>
                  </a:cubicBezTo>
                  <a:cubicBezTo>
                    <a:pt x="817" y="351"/>
                    <a:pt x="824" y="305"/>
                    <a:pt x="831" y="262"/>
                  </a:cubicBezTo>
                  <a:cubicBezTo>
                    <a:pt x="838" y="219"/>
                    <a:pt x="851" y="99"/>
                    <a:pt x="856" y="97"/>
                  </a:cubicBezTo>
                  <a:cubicBezTo>
                    <a:pt x="861" y="95"/>
                    <a:pt x="854" y="230"/>
                    <a:pt x="861" y="252"/>
                  </a:cubicBezTo>
                  <a:cubicBezTo>
                    <a:pt x="868" y="274"/>
                    <a:pt x="889" y="223"/>
                    <a:pt x="896" y="227"/>
                  </a:cubicBezTo>
                  <a:cubicBezTo>
                    <a:pt x="903" y="231"/>
                    <a:pt x="897" y="261"/>
                    <a:pt x="906" y="278"/>
                  </a:cubicBezTo>
                  <a:cubicBezTo>
                    <a:pt x="915" y="295"/>
                    <a:pt x="941" y="331"/>
                    <a:pt x="951" y="328"/>
                  </a:cubicBezTo>
                  <a:cubicBezTo>
                    <a:pt x="961" y="325"/>
                    <a:pt x="959" y="273"/>
                    <a:pt x="966" y="257"/>
                  </a:cubicBezTo>
                  <a:cubicBezTo>
                    <a:pt x="973" y="241"/>
                    <a:pt x="982" y="229"/>
                    <a:pt x="992" y="232"/>
                  </a:cubicBezTo>
                  <a:cubicBezTo>
                    <a:pt x="1002" y="235"/>
                    <a:pt x="1020" y="260"/>
                    <a:pt x="1027" y="278"/>
                  </a:cubicBezTo>
                  <a:cubicBezTo>
                    <a:pt x="1034" y="296"/>
                    <a:pt x="1025" y="334"/>
                    <a:pt x="1032" y="338"/>
                  </a:cubicBezTo>
                  <a:cubicBezTo>
                    <a:pt x="1039" y="342"/>
                    <a:pt x="1058" y="301"/>
                    <a:pt x="1067" y="303"/>
                  </a:cubicBezTo>
                  <a:cubicBezTo>
                    <a:pt x="1076" y="305"/>
                    <a:pt x="1079" y="345"/>
                    <a:pt x="1087" y="353"/>
                  </a:cubicBezTo>
                  <a:cubicBezTo>
                    <a:pt x="1095" y="361"/>
                    <a:pt x="1109" y="349"/>
                    <a:pt x="1117" y="353"/>
                  </a:cubicBezTo>
                  <a:cubicBezTo>
                    <a:pt x="1125" y="357"/>
                    <a:pt x="1129" y="383"/>
                    <a:pt x="1137" y="378"/>
                  </a:cubicBezTo>
                  <a:cubicBezTo>
                    <a:pt x="1145" y="373"/>
                    <a:pt x="1158" y="324"/>
                    <a:pt x="1167" y="323"/>
                  </a:cubicBezTo>
                  <a:cubicBezTo>
                    <a:pt x="1176" y="322"/>
                    <a:pt x="1184" y="381"/>
                    <a:pt x="1192" y="373"/>
                  </a:cubicBezTo>
                  <a:cubicBezTo>
                    <a:pt x="1200" y="365"/>
                    <a:pt x="1206" y="289"/>
                    <a:pt x="1217" y="278"/>
                  </a:cubicBezTo>
                  <a:cubicBezTo>
                    <a:pt x="1228" y="267"/>
                    <a:pt x="1245" y="314"/>
                    <a:pt x="1257" y="308"/>
                  </a:cubicBezTo>
                  <a:cubicBezTo>
                    <a:pt x="1269" y="302"/>
                    <a:pt x="1280" y="240"/>
                    <a:pt x="1287" y="242"/>
                  </a:cubicBezTo>
                  <a:cubicBezTo>
                    <a:pt x="1294" y="244"/>
                    <a:pt x="1290" y="300"/>
                    <a:pt x="1297" y="318"/>
                  </a:cubicBezTo>
                  <a:cubicBezTo>
                    <a:pt x="1304" y="336"/>
                    <a:pt x="1320" y="358"/>
                    <a:pt x="1327" y="348"/>
                  </a:cubicBezTo>
                  <a:cubicBezTo>
                    <a:pt x="1334" y="338"/>
                    <a:pt x="1335" y="275"/>
                    <a:pt x="1342" y="257"/>
                  </a:cubicBezTo>
                  <a:cubicBezTo>
                    <a:pt x="1349" y="239"/>
                    <a:pt x="1361" y="229"/>
                    <a:pt x="1367" y="237"/>
                  </a:cubicBezTo>
                  <a:cubicBezTo>
                    <a:pt x="1373" y="245"/>
                    <a:pt x="1371" y="305"/>
                    <a:pt x="1377" y="303"/>
                  </a:cubicBezTo>
                  <a:cubicBezTo>
                    <a:pt x="1383" y="301"/>
                    <a:pt x="1394" y="222"/>
                    <a:pt x="1402" y="227"/>
                  </a:cubicBezTo>
                  <a:cubicBezTo>
                    <a:pt x="1410" y="232"/>
                    <a:pt x="1416" y="312"/>
                    <a:pt x="1427" y="333"/>
                  </a:cubicBezTo>
                  <a:cubicBezTo>
                    <a:pt x="1438" y="354"/>
                    <a:pt x="1457" y="357"/>
                    <a:pt x="1467" y="353"/>
                  </a:cubicBezTo>
                  <a:cubicBezTo>
                    <a:pt x="1477" y="349"/>
                    <a:pt x="1479" y="322"/>
                    <a:pt x="1487" y="308"/>
                  </a:cubicBezTo>
                  <a:cubicBezTo>
                    <a:pt x="1495" y="294"/>
                    <a:pt x="1510" y="265"/>
                    <a:pt x="1517" y="268"/>
                  </a:cubicBezTo>
                  <a:cubicBezTo>
                    <a:pt x="1524" y="271"/>
                    <a:pt x="1520" y="325"/>
                    <a:pt x="1527" y="328"/>
                  </a:cubicBezTo>
                  <a:cubicBezTo>
                    <a:pt x="1534" y="331"/>
                    <a:pt x="1549" y="286"/>
                    <a:pt x="1557" y="288"/>
                  </a:cubicBezTo>
                  <a:cubicBezTo>
                    <a:pt x="1565" y="290"/>
                    <a:pt x="1569" y="356"/>
                    <a:pt x="1578" y="343"/>
                  </a:cubicBezTo>
                  <a:cubicBezTo>
                    <a:pt x="1587" y="330"/>
                    <a:pt x="1606" y="222"/>
                    <a:pt x="1613" y="212"/>
                  </a:cubicBezTo>
                  <a:cubicBezTo>
                    <a:pt x="1620" y="202"/>
                    <a:pt x="1618" y="261"/>
                    <a:pt x="1623" y="283"/>
                  </a:cubicBezTo>
                  <a:cubicBezTo>
                    <a:pt x="1628" y="305"/>
                    <a:pt x="1631" y="341"/>
                    <a:pt x="1643" y="343"/>
                  </a:cubicBezTo>
                  <a:cubicBezTo>
                    <a:pt x="1655" y="345"/>
                    <a:pt x="1683" y="291"/>
                    <a:pt x="1698" y="293"/>
                  </a:cubicBezTo>
                  <a:cubicBezTo>
                    <a:pt x="1713" y="295"/>
                    <a:pt x="1721" y="352"/>
                    <a:pt x="1733" y="353"/>
                  </a:cubicBezTo>
                  <a:cubicBezTo>
                    <a:pt x="1745" y="354"/>
                    <a:pt x="1760" y="296"/>
                    <a:pt x="1768" y="298"/>
                  </a:cubicBezTo>
                  <a:cubicBezTo>
                    <a:pt x="1776" y="300"/>
                    <a:pt x="1774" y="368"/>
                    <a:pt x="1783" y="363"/>
                  </a:cubicBezTo>
                  <a:cubicBezTo>
                    <a:pt x="1792" y="358"/>
                    <a:pt x="1808" y="290"/>
                    <a:pt x="1823" y="268"/>
                  </a:cubicBezTo>
                  <a:cubicBezTo>
                    <a:pt x="1838" y="246"/>
                    <a:pt x="1864" y="225"/>
                    <a:pt x="1873" y="232"/>
                  </a:cubicBezTo>
                  <a:cubicBezTo>
                    <a:pt x="1882" y="239"/>
                    <a:pt x="1871" y="292"/>
                    <a:pt x="1878" y="308"/>
                  </a:cubicBezTo>
                  <a:cubicBezTo>
                    <a:pt x="1885" y="324"/>
                    <a:pt x="1907" y="330"/>
                    <a:pt x="1918" y="328"/>
                  </a:cubicBezTo>
                  <a:cubicBezTo>
                    <a:pt x="1929" y="326"/>
                    <a:pt x="1934" y="289"/>
                    <a:pt x="1943" y="293"/>
                  </a:cubicBezTo>
                  <a:cubicBezTo>
                    <a:pt x="1952" y="297"/>
                    <a:pt x="1961" y="354"/>
                    <a:pt x="1973" y="353"/>
                  </a:cubicBezTo>
                  <a:cubicBezTo>
                    <a:pt x="1985" y="352"/>
                    <a:pt x="2006" y="288"/>
                    <a:pt x="2013" y="288"/>
                  </a:cubicBezTo>
                  <a:cubicBezTo>
                    <a:pt x="2020" y="288"/>
                    <a:pt x="2003" y="345"/>
                    <a:pt x="2013" y="353"/>
                  </a:cubicBezTo>
                  <a:cubicBezTo>
                    <a:pt x="2023" y="361"/>
                    <a:pt x="2059" y="351"/>
                    <a:pt x="2073" y="338"/>
                  </a:cubicBezTo>
                  <a:cubicBezTo>
                    <a:pt x="2087" y="325"/>
                    <a:pt x="2092" y="296"/>
                    <a:pt x="2098" y="273"/>
                  </a:cubicBezTo>
                  <a:cubicBezTo>
                    <a:pt x="2104" y="250"/>
                    <a:pt x="2105" y="194"/>
                    <a:pt x="2108" y="202"/>
                  </a:cubicBezTo>
                  <a:cubicBezTo>
                    <a:pt x="2111" y="210"/>
                    <a:pt x="2112" y="328"/>
                    <a:pt x="2118" y="323"/>
                  </a:cubicBezTo>
                  <a:cubicBezTo>
                    <a:pt x="2124" y="318"/>
                    <a:pt x="2138" y="218"/>
                    <a:pt x="2144" y="172"/>
                  </a:cubicBezTo>
                  <a:cubicBezTo>
                    <a:pt x="2150" y="126"/>
                    <a:pt x="2150" y="74"/>
                    <a:pt x="2154" y="47"/>
                  </a:cubicBezTo>
                  <a:cubicBezTo>
                    <a:pt x="2158" y="20"/>
                    <a:pt x="2166" y="0"/>
                    <a:pt x="2169" y="12"/>
                  </a:cubicBezTo>
                  <a:cubicBezTo>
                    <a:pt x="2172" y="24"/>
                    <a:pt x="2168" y="84"/>
                    <a:pt x="2174" y="122"/>
                  </a:cubicBezTo>
                  <a:cubicBezTo>
                    <a:pt x="2180" y="160"/>
                    <a:pt x="2192" y="228"/>
                    <a:pt x="2204" y="242"/>
                  </a:cubicBezTo>
                  <a:cubicBezTo>
                    <a:pt x="2216" y="256"/>
                    <a:pt x="2235" y="199"/>
                    <a:pt x="2244" y="207"/>
                  </a:cubicBezTo>
                  <a:cubicBezTo>
                    <a:pt x="2253" y="215"/>
                    <a:pt x="2252" y="278"/>
                    <a:pt x="2259" y="293"/>
                  </a:cubicBezTo>
                  <a:cubicBezTo>
                    <a:pt x="2266" y="308"/>
                    <a:pt x="2277" y="290"/>
                    <a:pt x="2289" y="298"/>
                  </a:cubicBezTo>
                  <a:cubicBezTo>
                    <a:pt x="2301" y="306"/>
                    <a:pt x="2320" y="345"/>
                    <a:pt x="2329" y="343"/>
                  </a:cubicBezTo>
                  <a:cubicBezTo>
                    <a:pt x="2338" y="341"/>
                    <a:pt x="2337" y="286"/>
                    <a:pt x="2344" y="283"/>
                  </a:cubicBezTo>
                  <a:cubicBezTo>
                    <a:pt x="2351" y="280"/>
                    <a:pt x="2357" y="322"/>
                    <a:pt x="2369" y="323"/>
                  </a:cubicBezTo>
                  <a:cubicBezTo>
                    <a:pt x="2381" y="324"/>
                    <a:pt x="2408" y="286"/>
                    <a:pt x="2419" y="288"/>
                  </a:cubicBezTo>
                  <a:cubicBezTo>
                    <a:pt x="2430" y="290"/>
                    <a:pt x="2422" y="334"/>
                    <a:pt x="2434" y="338"/>
                  </a:cubicBezTo>
                  <a:cubicBezTo>
                    <a:pt x="2446" y="342"/>
                    <a:pt x="2480" y="311"/>
                    <a:pt x="2494" y="313"/>
                  </a:cubicBezTo>
                  <a:cubicBezTo>
                    <a:pt x="2508" y="315"/>
                    <a:pt x="2507" y="345"/>
                    <a:pt x="2519" y="353"/>
                  </a:cubicBezTo>
                  <a:cubicBezTo>
                    <a:pt x="2531" y="361"/>
                    <a:pt x="2568" y="351"/>
                    <a:pt x="2564" y="363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8760" y="254196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75160" y="310680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t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716040" y="3494160"/>
            <a:ext cx="4128840" cy="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428760" y="3417840"/>
            <a:ext cx="4416120" cy="896040"/>
            <a:chOff x="428760" y="3417840"/>
            <a:chExt cx="4416120" cy="896040"/>
          </a:xfrm>
        </p:grpSpPr>
        <p:grpSp>
          <p:nvGrpSpPr>
            <p:cNvPr id="509" name=""/>
            <p:cNvGrpSpPr/>
            <p:nvPr/>
          </p:nvGrpSpPr>
          <p:grpSpPr>
            <a:xfrm>
              <a:off x="716040" y="3417840"/>
              <a:ext cx="4128840" cy="625320"/>
              <a:chOff x="716040" y="3417840"/>
              <a:chExt cx="4128840" cy="625320"/>
            </a:xfrm>
          </p:grpSpPr>
          <p:sp>
            <p:nvSpPr>
              <p:cNvPr id="510" name=""/>
              <p:cNvSpPr/>
              <p:nvPr/>
            </p:nvSpPr>
            <p:spPr>
              <a:xfrm>
                <a:off x="716040" y="3417840"/>
                <a:ext cx="0" cy="6253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16040" y="4043160"/>
                <a:ext cx="412884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716040" y="3531960"/>
              <a:ext cx="4102200" cy="478080"/>
            </a:xfrm>
            <a:custGeom>
              <a:avLst/>
              <a:gdLst/>
              <a:ahLst/>
              <a:rect l="l" t="t" r="r" b="b"/>
              <a:pathLst>
                <a:path w="2584" h="301">
                  <a:moveTo>
                    <a:pt x="0" y="225"/>
                  </a:moveTo>
                  <a:cubicBezTo>
                    <a:pt x="6" y="201"/>
                    <a:pt x="13" y="177"/>
                    <a:pt x="15" y="185"/>
                  </a:cubicBezTo>
                  <a:cubicBezTo>
                    <a:pt x="17" y="193"/>
                    <a:pt x="13" y="269"/>
                    <a:pt x="15" y="276"/>
                  </a:cubicBezTo>
                  <a:cubicBezTo>
                    <a:pt x="17" y="283"/>
                    <a:pt x="23" y="228"/>
                    <a:pt x="30" y="230"/>
                  </a:cubicBezTo>
                  <a:cubicBezTo>
                    <a:pt x="37" y="232"/>
                    <a:pt x="53" y="284"/>
                    <a:pt x="60" y="286"/>
                  </a:cubicBezTo>
                  <a:cubicBezTo>
                    <a:pt x="67" y="288"/>
                    <a:pt x="65" y="247"/>
                    <a:pt x="70" y="245"/>
                  </a:cubicBezTo>
                  <a:cubicBezTo>
                    <a:pt x="75" y="243"/>
                    <a:pt x="85" y="280"/>
                    <a:pt x="90" y="276"/>
                  </a:cubicBezTo>
                  <a:cubicBezTo>
                    <a:pt x="95" y="272"/>
                    <a:pt x="96" y="222"/>
                    <a:pt x="100" y="220"/>
                  </a:cubicBezTo>
                  <a:cubicBezTo>
                    <a:pt x="104" y="218"/>
                    <a:pt x="109" y="269"/>
                    <a:pt x="115" y="266"/>
                  </a:cubicBezTo>
                  <a:cubicBezTo>
                    <a:pt x="121" y="263"/>
                    <a:pt x="130" y="217"/>
                    <a:pt x="135" y="200"/>
                  </a:cubicBezTo>
                  <a:cubicBezTo>
                    <a:pt x="140" y="183"/>
                    <a:pt x="142" y="159"/>
                    <a:pt x="145" y="165"/>
                  </a:cubicBezTo>
                  <a:cubicBezTo>
                    <a:pt x="148" y="171"/>
                    <a:pt x="149" y="221"/>
                    <a:pt x="155" y="235"/>
                  </a:cubicBezTo>
                  <a:cubicBezTo>
                    <a:pt x="161" y="249"/>
                    <a:pt x="173" y="254"/>
                    <a:pt x="180" y="250"/>
                  </a:cubicBezTo>
                  <a:cubicBezTo>
                    <a:pt x="187" y="246"/>
                    <a:pt x="191" y="208"/>
                    <a:pt x="195" y="210"/>
                  </a:cubicBezTo>
                  <a:cubicBezTo>
                    <a:pt x="199" y="212"/>
                    <a:pt x="199" y="265"/>
                    <a:pt x="205" y="261"/>
                  </a:cubicBezTo>
                  <a:cubicBezTo>
                    <a:pt x="211" y="257"/>
                    <a:pt x="223" y="203"/>
                    <a:pt x="230" y="185"/>
                  </a:cubicBezTo>
                  <a:cubicBezTo>
                    <a:pt x="237" y="167"/>
                    <a:pt x="246" y="144"/>
                    <a:pt x="250" y="150"/>
                  </a:cubicBezTo>
                  <a:cubicBezTo>
                    <a:pt x="254" y="156"/>
                    <a:pt x="252" y="202"/>
                    <a:pt x="255" y="220"/>
                  </a:cubicBezTo>
                  <a:cubicBezTo>
                    <a:pt x="258" y="238"/>
                    <a:pt x="263" y="261"/>
                    <a:pt x="270" y="261"/>
                  </a:cubicBezTo>
                  <a:cubicBezTo>
                    <a:pt x="277" y="261"/>
                    <a:pt x="288" y="218"/>
                    <a:pt x="295" y="220"/>
                  </a:cubicBezTo>
                  <a:cubicBezTo>
                    <a:pt x="302" y="222"/>
                    <a:pt x="303" y="271"/>
                    <a:pt x="310" y="271"/>
                  </a:cubicBezTo>
                  <a:cubicBezTo>
                    <a:pt x="317" y="271"/>
                    <a:pt x="333" y="238"/>
                    <a:pt x="340" y="220"/>
                  </a:cubicBezTo>
                  <a:cubicBezTo>
                    <a:pt x="347" y="202"/>
                    <a:pt x="346" y="160"/>
                    <a:pt x="350" y="160"/>
                  </a:cubicBezTo>
                  <a:cubicBezTo>
                    <a:pt x="354" y="160"/>
                    <a:pt x="361" y="202"/>
                    <a:pt x="365" y="220"/>
                  </a:cubicBezTo>
                  <a:cubicBezTo>
                    <a:pt x="369" y="238"/>
                    <a:pt x="371" y="267"/>
                    <a:pt x="375" y="271"/>
                  </a:cubicBezTo>
                  <a:cubicBezTo>
                    <a:pt x="379" y="275"/>
                    <a:pt x="386" y="257"/>
                    <a:pt x="390" y="245"/>
                  </a:cubicBezTo>
                  <a:cubicBezTo>
                    <a:pt x="394" y="233"/>
                    <a:pt x="395" y="201"/>
                    <a:pt x="400" y="200"/>
                  </a:cubicBezTo>
                  <a:cubicBezTo>
                    <a:pt x="405" y="199"/>
                    <a:pt x="415" y="242"/>
                    <a:pt x="421" y="240"/>
                  </a:cubicBezTo>
                  <a:cubicBezTo>
                    <a:pt x="427" y="238"/>
                    <a:pt x="430" y="184"/>
                    <a:pt x="436" y="185"/>
                  </a:cubicBezTo>
                  <a:cubicBezTo>
                    <a:pt x="442" y="186"/>
                    <a:pt x="449" y="229"/>
                    <a:pt x="456" y="245"/>
                  </a:cubicBezTo>
                  <a:cubicBezTo>
                    <a:pt x="463" y="261"/>
                    <a:pt x="475" y="287"/>
                    <a:pt x="481" y="281"/>
                  </a:cubicBezTo>
                  <a:cubicBezTo>
                    <a:pt x="487" y="275"/>
                    <a:pt x="488" y="236"/>
                    <a:pt x="491" y="210"/>
                  </a:cubicBezTo>
                  <a:cubicBezTo>
                    <a:pt x="494" y="184"/>
                    <a:pt x="495" y="148"/>
                    <a:pt x="501" y="125"/>
                  </a:cubicBezTo>
                  <a:cubicBezTo>
                    <a:pt x="507" y="102"/>
                    <a:pt x="521" y="65"/>
                    <a:pt x="526" y="70"/>
                  </a:cubicBezTo>
                  <a:cubicBezTo>
                    <a:pt x="531" y="75"/>
                    <a:pt x="523" y="133"/>
                    <a:pt x="531" y="155"/>
                  </a:cubicBezTo>
                  <a:cubicBezTo>
                    <a:pt x="539" y="177"/>
                    <a:pt x="563" y="203"/>
                    <a:pt x="571" y="200"/>
                  </a:cubicBezTo>
                  <a:cubicBezTo>
                    <a:pt x="579" y="197"/>
                    <a:pt x="576" y="157"/>
                    <a:pt x="581" y="135"/>
                  </a:cubicBezTo>
                  <a:cubicBezTo>
                    <a:pt x="586" y="113"/>
                    <a:pt x="593" y="87"/>
                    <a:pt x="601" y="65"/>
                  </a:cubicBezTo>
                  <a:cubicBezTo>
                    <a:pt x="609" y="43"/>
                    <a:pt x="625" y="0"/>
                    <a:pt x="631" y="5"/>
                  </a:cubicBezTo>
                  <a:cubicBezTo>
                    <a:pt x="637" y="10"/>
                    <a:pt x="628" y="82"/>
                    <a:pt x="636" y="95"/>
                  </a:cubicBezTo>
                  <a:cubicBezTo>
                    <a:pt x="644" y="108"/>
                    <a:pt x="667" y="71"/>
                    <a:pt x="676" y="85"/>
                  </a:cubicBezTo>
                  <a:cubicBezTo>
                    <a:pt x="685" y="99"/>
                    <a:pt x="684" y="165"/>
                    <a:pt x="691" y="180"/>
                  </a:cubicBezTo>
                  <a:cubicBezTo>
                    <a:pt x="698" y="195"/>
                    <a:pt x="713" y="167"/>
                    <a:pt x="721" y="175"/>
                  </a:cubicBezTo>
                  <a:cubicBezTo>
                    <a:pt x="729" y="183"/>
                    <a:pt x="734" y="228"/>
                    <a:pt x="741" y="230"/>
                  </a:cubicBezTo>
                  <a:cubicBezTo>
                    <a:pt x="748" y="232"/>
                    <a:pt x="759" y="187"/>
                    <a:pt x="766" y="190"/>
                  </a:cubicBezTo>
                  <a:cubicBezTo>
                    <a:pt x="773" y="193"/>
                    <a:pt x="774" y="252"/>
                    <a:pt x="781" y="250"/>
                  </a:cubicBezTo>
                  <a:cubicBezTo>
                    <a:pt x="788" y="248"/>
                    <a:pt x="801" y="178"/>
                    <a:pt x="806" y="175"/>
                  </a:cubicBezTo>
                  <a:cubicBezTo>
                    <a:pt x="811" y="172"/>
                    <a:pt x="805" y="234"/>
                    <a:pt x="811" y="230"/>
                  </a:cubicBezTo>
                  <a:cubicBezTo>
                    <a:pt x="817" y="226"/>
                    <a:pt x="834" y="147"/>
                    <a:pt x="841" y="150"/>
                  </a:cubicBezTo>
                  <a:cubicBezTo>
                    <a:pt x="848" y="153"/>
                    <a:pt x="842" y="239"/>
                    <a:pt x="851" y="250"/>
                  </a:cubicBezTo>
                  <a:cubicBezTo>
                    <a:pt x="860" y="261"/>
                    <a:pt x="881" y="211"/>
                    <a:pt x="896" y="215"/>
                  </a:cubicBezTo>
                  <a:cubicBezTo>
                    <a:pt x="911" y="219"/>
                    <a:pt x="932" y="278"/>
                    <a:pt x="941" y="276"/>
                  </a:cubicBezTo>
                  <a:cubicBezTo>
                    <a:pt x="950" y="274"/>
                    <a:pt x="943" y="218"/>
                    <a:pt x="951" y="200"/>
                  </a:cubicBezTo>
                  <a:cubicBezTo>
                    <a:pt x="959" y="182"/>
                    <a:pt x="978" y="167"/>
                    <a:pt x="986" y="170"/>
                  </a:cubicBezTo>
                  <a:cubicBezTo>
                    <a:pt x="994" y="173"/>
                    <a:pt x="991" y="206"/>
                    <a:pt x="997" y="220"/>
                  </a:cubicBezTo>
                  <a:cubicBezTo>
                    <a:pt x="1003" y="234"/>
                    <a:pt x="1012" y="261"/>
                    <a:pt x="1022" y="255"/>
                  </a:cubicBezTo>
                  <a:cubicBezTo>
                    <a:pt x="1032" y="249"/>
                    <a:pt x="1050" y="185"/>
                    <a:pt x="1057" y="185"/>
                  </a:cubicBezTo>
                  <a:cubicBezTo>
                    <a:pt x="1064" y="185"/>
                    <a:pt x="1058" y="241"/>
                    <a:pt x="1067" y="255"/>
                  </a:cubicBezTo>
                  <a:cubicBezTo>
                    <a:pt x="1076" y="269"/>
                    <a:pt x="1100" y="282"/>
                    <a:pt x="1112" y="271"/>
                  </a:cubicBezTo>
                  <a:cubicBezTo>
                    <a:pt x="1124" y="260"/>
                    <a:pt x="1135" y="212"/>
                    <a:pt x="1142" y="190"/>
                  </a:cubicBezTo>
                  <a:cubicBezTo>
                    <a:pt x="1149" y="168"/>
                    <a:pt x="1149" y="135"/>
                    <a:pt x="1152" y="140"/>
                  </a:cubicBezTo>
                  <a:cubicBezTo>
                    <a:pt x="1155" y="145"/>
                    <a:pt x="1153" y="215"/>
                    <a:pt x="1157" y="220"/>
                  </a:cubicBezTo>
                  <a:cubicBezTo>
                    <a:pt x="1161" y="225"/>
                    <a:pt x="1170" y="174"/>
                    <a:pt x="1177" y="170"/>
                  </a:cubicBezTo>
                  <a:cubicBezTo>
                    <a:pt x="1184" y="166"/>
                    <a:pt x="1192" y="184"/>
                    <a:pt x="1202" y="195"/>
                  </a:cubicBezTo>
                  <a:cubicBezTo>
                    <a:pt x="1212" y="206"/>
                    <a:pt x="1226" y="225"/>
                    <a:pt x="1237" y="235"/>
                  </a:cubicBezTo>
                  <a:cubicBezTo>
                    <a:pt x="1248" y="245"/>
                    <a:pt x="1261" y="262"/>
                    <a:pt x="1267" y="255"/>
                  </a:cubicBezTo>
                  <a:cubicBezTo>
                    <a:pt x="1273" y="248"/>
                    <a:pt x="1267" y="194"/>
                    <a:pt x="1272" y="190"/>
                  </a:cubicBezTo>
                  <a:cubicBezTo>
                    <a:pt x="1277" y="186"/>
                    <a:pt x="1283" y="233"/>
                    <a:pt x="1297" y="230"/>
                  </a:cubicBezTo>
                  <a:cubicBezTo>
                    <a:pt x="1311" y="227"/>
                    <a:pt x="1346" y="169"/>
                    <a:pt x="1357" y="170"/>
                  </a:cubicBezTo>
                  <a:cubicBezTo>
                    <a:pt x="1368" y="171"/>
                    <a:pt x="1355" y="217"/>
                    <a:pt x="1362" y="235"/>
                  </a:cubicBezTo>
                  <a:cubicBezTo>
                    <a:pt x="1369" y="253"/>
                    <a:pt x="1390" y="280"/>
                    <a:pt x="1397" y="276"/>
                  </a:cubicBezTo>
                  <a:cubicBezTo>
                    <a:pt x="1404" y="272"/>
                    <a:pt x="1395" y="212"/>
                    <a:pt x="1402" y="210"/>
                  </a:cubicBezTo>
                  <a:cubicBezTo>
                    <a:pt x="1409" y="208"/>
                    <a:pt x="1429" y="271"/>
                    <a:pt x="1437" y="266"/>
                  </a:cubicBezTo>
                  <a:cubicBezTo>
                    <a:pt x="1445" y="261"/>
                    <a:pt x="1440" y="206"/>
                    <a:pt x="1447" y="180"/>
                  </a:cubicBezTo>
                  <a:cubicBezTo>
                    <a:pt x="1454" y="154"/>
                    <a:pt x="1470" y="110"/>
                    <a:pt x="1477" y="110"/>
                  </a:cubicBezTo>
                  <a:cubicBezTo>
                    <a:pt x="1484" y="110"/>
                    <a:pt x="1481" y="162"/>
                    <a:pt x="1487" y="180"/>
                  </a:cubicBezTo>
                  <a:cubicBezTo>
                    <a:pt x="1493" y="198"/>
                    <a:pt x="1503" y="207"/>
                    <a:pt x="1512" y="220"/>
                  </a:cubicBezTo>
                  <a:cubicBezTo>
                    <a:pt x="1521" y="233"/>
                    <a:pt x="1536" y="263"/>
                    <a:pt x="1542" y="261"/>
                  </a:cubicBezTo>
                  <a:cubicBezTo>
                    <a:pt x="1548" y="259"/>
                    <a:pt x="1541" y="215"/>
                    <a:pt x="1547" y="205"/>
                  </a:cubicBezTo>
                  <a:cubicBezTo>
                    <a:pt x="1553" y="195"/>
                    <a:pt x="1571" y="193"/>
                    <a:pt x="1578" y="200"/>
                  </a:cubicBezTo>
                  <a:cubicBezTo>
                    <a:pt x="1585" y="207"/>
                    <a:pt x="1582" y="233"/>
                    <a:pt x="1588" y="245"/>
                  </a:cubicBezTo>
                  <a:cubicBezTo>
                    <a:pt x="1594" y="257"/>
                    <a:pt x="1608" y="279"/>
                    <a:pt x="1613" y="271"/>
                  </a:cubicBezTo>
                  <a:cubicBezTo>
                    <a:pt x="1618" y="263"/>
                    <a:pt x="1616" y="215"/>
                    <a:pt x="1618" y="195"/>
                  </a:cubicBezTo>
                  <a:cubicBezTo>
                    <a:pt x="1620" y="175"/>
                    <a:pt x="1624" y="148"/>
                    <a:pt x="1628" y="150"/>
                  </a:cubicBezTo>
                  <a:cubicBezTo>
                    <a:pt x="1632" y="152"/>
                    <a:pt x="1636" y="190"/>
                    <a:pt x="1643" y="205"/>
                  </a:cubicBezTo>
                  <a:cubicBezTo>
                    <a:pt x="1650" y="220"/>
                    <a:pt x="1660" y="224"/>
                    <a:pt x="1668" y="240"/>
                  </a:cubicBezTo>
                  <a:cubicBezTo>
                    <a:pt x="1676" y="256"/>
                    <a:pt x="1688" y="301"/>
                    <a:pt x="1693" y="301"/>
                  </a:cubicBezTo>
                  <a:cubicBezTo>
                    <a:pt x="1698" y="301"/>
                    <a:pt x="1692" y="254"/>
                    <a:pt x="1698" y="240"/>
                  </a:cubicBezTo>
                  <a:cubicBezTo>
                    <a:pt x="1704" y="226"/>
                    <a:pt x="1717" y="227"/>
                    <a:pt x="1728" y="215"/>
                  </a:cubicBezTo>
                  <a:cubicBezTo>
                    <a:pt x="1739" y="203"/>
                    <a:pt x="1755" y="160"/>
                    <a:pt x="1763" y="165"/>
                  </a:cubicBezTo>
                  <a:cubicBezTo>
                    <a:pt x="1771" y="170"/>
                    <a:pt x="1766" y="231"/>
                    <a:pt x="1773" y="245"/>
                  </a:cubicBezTo>
                  <a:cubicBezTo>
                    <a:pt x="1780" y="259"/>
                    <a:pt x="1796" y="259"/>
                    <a:pt x="1803" y="250"/>
                  </a:cubicBezTo>
                  <a:cubicBezTo>
                    <a:pt x="1810" y="241"/>
                    <a:pt x="1809" y="194"/>
                    <a:pt x="1813" y="190"/>
                  </a:cubicBezTo>
                  <a:cubicBezTo>
                    <a:pt x="1817" y="186"/>
                    <a:pt x="1821" y="231"/>
                    <a:pt x="1828" y="225"/>
                  </a:cubicBezTo>
                  <a:cubicBezTo>
                    <a:pt x="1835" y="219"/>
                    <a:pt x="1847" y="175"/>
                    <a:pt x="1858" y="155"/>
                  </a:cubicBezTo>
                  <a:cubicBezTo>
                    <a:pt x="1869" y="135"/>
                    <a:pt x="1884" y="106"/>
                    <a:pt x="1893" y="105"/>
                  </a:cubicBezTo>
                  <a:cubicBezTo>
                    <a:pt x="1902" y="104"/>
                    <a:pt x="1910" y="133"/>
                    <a:pt x="1913" y="150"/>
                  </a:cubicBezTo>
                  <a:cubicBezTo>
                    <a:pt x="1916" y="167"/>
                    <a:pt x="1907" y="193"/>
                    <a:pt x="1913" y="210"/>
                  </a:cubicBezTo>
                  <a:cubicBezTo>
                    <a:pt x="1919" y="227"/>
                    <a:pt x="1937" y="247"/>
                    <a:pt x="1948" y="250"/>
                  </a:cubicBezTo>
                  <a:cubicBezTo>
                    <a:pt x="1959" y="253"/>
                    <a:pt x="1970" y="224"/>
                    <a:pt x="1978" y="230"/>
                  </a:cubicBezTo>
                  <a:cubicBezTo>
                    <a:pt x="1986" y="236"/>
                    <a:pt x="1991" y="287"/>
                    <a:pt x="1998" y="286"/>
                  </a:cubicBezTo>
                  <a:cubicBezTo>
                    <a:pt x="2005" y="285"/>
                    <a:pt x="2016" y="225"/>
                    <a:pt x="2023" y="225"/>
                  </a:cubicBezTo>
                  <a:cubicBezTo>
                    <a:pt x="2030" y="225"/>
                    <a:pt x="2036" y="289"/>
                    <a:pt x="2043" y="286"/>
                  </a:cubicBezTo>
                  <a:cubicBezTo>
                    <a:pt x="2050" y="283"/>
                    <a:pt x="2052" y="233"/>
                    <a:pt x="2063" y="205"/>
                  </a:cubicBezTo>
                  <a:cubicBezTo>
                    <a:pt x="2074" y="177"/>
                    <a:pt x="2097" y="120"/>
                    <a:pt x="2108" y="120"/>
                  </a:cubicBezTo>
                  <a:cubicBezTo>
                    <a:pt x="2119" y="120"/>
                    <a:pt x="2117" y="178"/>
                    <a:pt x="2128" y="205"/>
                  </a:cubicBezTo>
                  <a:cubicBezTo>
                    <a:pt x="2139" y="232"/>
                    <a:pt x="2166" y="277"/>
                    <a:pt x="2174" y="281"/>
                  </a:cubicBezTo>
                  <a:cubicBezTo>
                    <a:pt x="2182" y="285"/>
                    <a:pt x="2172" y="228"/>
                    <a:pt x="2179" y="230"/>
                  </a:cubicBezTo>
                  <a:cubicBezTo>
                    <a:pt x="2186" y="232"/>
                    <a:pt x="2205" y="289"/>
                    <a:pt x="2214" y="291"/>
                  </a:cubicBezTo>
                  <a:cubicBezTo>
                    <a:pt x="2223" y="293"/>
                    <a:pt x="2228" y="242"/>
                    <a:pt x="2234" y="240"/>
                  </a:cubicBezTo>
                  <a:cubicBezTo>
                    <a:pt x="2240" y="238"/>
                    <a:pt x="2245" y="282"/>
                    <a:pt x="2249" y="276"/>
                  </a:cubicBezTo>
                  <a:cubicBezTo>
                    <a:pt x="2253" y="270"/>
                    <a:pt x="2253" y="212"/>
                    <a:pt x="2259" y="205"/>
                  </a:cubicBezTo>
                  <a:cubicBezTo>
                    <a:pt x="2265" y="198"/>
                    <a:pt x="2272" y="224"/>
                    <a:pt x="2284" y="235"/>
                  </a:cubicBezTo>
                  <a:cubicBezTo>
                    <a:pt x="2296" y="246"/>
                    <a:pt x="2317" y="274"/>
                    <a:pt x="2329" y="271"/>
                  </a:cubicBezTo>
                  <a:cubicBezTo>
                    <a:pt x="2341" y="268"/>
                    <a:pt x="2348" y="232"/>
                    <a:pt x="2354" y="215"/>
                  </a:cubicBezTo>
                  <a:cubicBezTo>
                    <a:pt x="2360" y="198"/>
                    <a:pt x="2357" y="171"/>
                    <a:pt x="2364" y="170"/>
                  </a:cubicBezTo>
                  <a:cubicBezTo>
                    <a:pt x="2371" y="169"/>
                    <a:pt x="2389" y="207"/>
                    <a:pt x="2399" y="210"/>
                  </a:cubicBezTo>
                  <a:cubicBezTo>
                    <a:pt x="2409" y="213"/>
                    <a:pt x="2415" y="182"/>
                    <a:pt x="2424" y="185"/>
                  </a:cubicBezTo>
                  <a:cubicBezTo>
                    <a:pt x="2433" y="188"/>
                    <a:pt x="2446" y="212"/>
                    <a:pt x="2454" y="230"/>
                  </a:cubicBezTo>
                  <a:cubicBezTo>
                    <a:pt x="2462" y="248"/>
                    <a:pt x="2467" y="289"/>
                    <a:pt x="2474" y="291"/>
                  </a:cubicBezTo>
                  <a:cubicBezTo>
                    <a:pt x="2481" y="293"/>
                    <a:pt x="2483" y="251"/>
                    <a:pt x="2499" y="240"/>
                  </a:cubicBezTo>
                  <a:cubicBezTo>
                    <a:pt x="2515" y="229"/>
                    <a:pt x="2555" y="223"/>
                    <a:pt x="2569" y="225"/>
                  </a:cubicBezTo>
                  <a:cubicBezTo>
                    <a:pt x="2583" y="227"/>
                    <a:pt x="2558" y="134"/>
                    <a:pt x="2584" y="255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28760" y="341784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75160" y="397656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t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716040" y="4394160"/>
            <a:ext cx="4128840" cy="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428760" y="4317840"/>
            <a:ext cx="4416120" cy="892800"/>
            <a:chOff x="428760" y="4317840"/>
            <a:chExt cx="4416120" cy="892800"/>
          </a:xfrm>
        </p:grpSpPr>
        <p:grpSp>
          <p:nvGrpSpPr>
            <p:cNvPr id="517" name=""/>
            <p:cNvGrpSpPr/>
            <p:nvPr/>
          </p:nvGrpSpPr>
          <p:grpSpPr>
            <a:xfrm>
              <a:off x="716040" y="4317840"/>
              <a:ext cx="4128840" cy="625320"/>
              <a:chOff x="716040" y="4317840"/>
              <a:chExt cx="4128840" cy="625320"/>
            </a:xfrm>
          </p:grpSpPr>
          <p:sp>
            <p:nvSpPr>
              <p:cNvPr id="518" name=""/>
              <p:cNvSpPr/>
              <p:nvPr/>
            </p:nvSpPr>
            <p:spPr>
              <a:xfrm>
                <a:off x="716040" y="4317840"/>
                <a:ext cx="0" cy="6253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16040" y="4943160"/>
                <a:ext cx="412884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716040" y="4439880"/>
              <a:ext cx="4086000" cy="490680"/>
            </a:xfrm>
            <a:custGeom>
              <a:avLst/>
              <a:gdLst/>
              <a:ahLst/>
              <a:rect l="l" t="t" r="r" b="b"/>
              <a:pathLst>
                <a:path w="2574" h="309">
                  <a:moveTo>
                    <a:pt x="0" y="246"/>
                  </a:moveTo>
                  <a:cubicBezTo>
                    <a:pt x="6" y="222"/>
                    <a:pt x="13" y="198"/>
                    <a:pt x="20" y="201"/>
                  </a:cubicBezTo>
                  <a:cubicBezTo>
                    <a:pt x="27" y="204"/>
                    <a:pt x="33" y="261"/>
                    <a:pt x="40" y="266"/>
                  </a:cubicBezTo>
                  <a:cubicBezTo>
                    <a:pt x="47" y="271"/>
                    <a:pt x="53" y="230"/>
                    <a:pt x="60" y="231"/>
                  </a:cubicBezTo>
                  <a:cubicBezTo>
                    <a:pt x="67" y="232"/>
                    <a:pt x="78" y="260"/>
                    <a:pt x="85" y="271"/>
                  </a:cubicBezTo>
                  <a:cubicBezTo>
                    <a:pt x="92" y="282"/>
                    <a:pt x="98" y="301"/>
                    <a:pt x="105" y="296"/>
                  </a:cubicBezTo>
                  <a:cubicBezTo>
                    <a:pt x="112" y="291"/>
                    <a:pt x="117" y="249"/>
                    <a:pt x="125" y="241"/>
                  </a:cubicBezTo>
                  <a:cubicBezTo>
                    <a:pt x="133" y="233"/>
                    <a:pt x="146" y="245"/>
                    <a:pt x="155" y="251"/>
                  </a:cubicBezTo>
                  <a:cubicBezTo>
                    <a:pt x="164" y="257"/>
                    <a:pt x="173" y="282"/>
                    <a:pt x="180" y="276"/>
                  </a:cubicBezTo>
                  <a:cubicBezTo>
                    <a:pt x="187" y="270"/>
                    <a:pt x="192" y="241"/>
                    <a:pt x="200" y="216"/>
                  </a:cubicBezTo>
                  <a:cubicBezTo>
                    <a:pt x="208" y="191"/>
                    <a:pt x="224" y="128"/>
                    <a:pt x="230" y="126"/>
                  </a:cubicBezTo>
                  <a:cubicBezTo>
                    <a:pt x="236" y="124"/>
                    <a:pt x="229" y="186"/>
                    <a:pt x="235" y="206"/>
                  </a:cubicBezTo>
                  <a:cubicBezTo>
                    <a:pt x="241" y="226"/>
                    <a:pt x="259" y="254"/>
                    <a:pt x="265" y="246"/>
                  </a:cubicBezTo>
                  <a:cubicBezTo>
                    <a:pt x="271" y="238"/>
                    <a:pt x="263" y="158"/>
                    <a:pt x="270" y="156"/>
                  </a:cubicBezTo>
                  <a:cubicBezTo>
                    <a:pt x="277" y="154"/>
                    <a:pt x="298" y="231"/>
                    <a:pt x="305" y="231"/>
                  </a:cubicBezTo>
                  <a:cubicBezTo>
                    <a:pt x="312" y="231"/>
                    <a:pt x="307" y="178"/>
                    <a:pt x="315" y="156"/>
                  </a:cubicBezTo>
                  <a:cubicBezTo>
                    <a:pt x="323" y="134"/>
                    <a:pt x="345" y="99"/>
                    <a:pt x="350" y="101"/>
                  </a:cubicBezTo>
                  <a:cubicBezTo>
                    <a:pt x="355" y="103"/>
                    <a:pt x="340" y="148"/>
                    <a:pt x="345" y="171"/>
                  </a:cubicBezTo>
                  <a:cubicBezTo>
                    <a:pt x="350" y="194"/>
                    <a:pt x="372" y="237"/>
                    <a:pt x="380" y="241"/>
                  </a:cubicBezTo>
                  <a:cubicBezTo>
                    <a:pt x="388" y="245"/>
                    <a:pt x="387" y="190"/>
                    <a:pt x="395" y="196"/>
                  </a:cubicBezTo>
                  <a:cubicBezTo>
                    <a:pt x="403" y="202"/>
                    <a:pt x="413" y="271"/>
                    <a:pt x="426" y="276"/>
                  </a:cubicBezTo>
                  <a:cubicBezTo>
                    <a:pt x="439" y="281"/>
                    <a:pt x="460" y="224"/>
                    <a:pt x="471" y="226"/>
                  </a:cubicBezTo>
                  <a:cubicBezTo>
                    <a:pt x="482" y="228"/>
                    <a:pt x="483" y="289"/>
                    <a:pt x="491" y="291"/>
                  </a:cubicBezTo>
                  <a:cubicBezTo>
                    <a:pt x="499" y="293"/>
                    <a:pt x="508" y="244"/>
                    <a:pt x="521" y="241"/>
                  </a:cubicBezTo>
                  <a:cubicBezTo>
                    <a:pt x="534" y="238"/>
                    <a:pt x="559" y="277"/>
                    <a:pt x="571" y="271"/>
                  </a:cubicBezTo>
                  <a:cubicBezTo>
                    <a:pt x="583" y="265"/>
                    <a:pt x="582" y="209"/>
                    <a:pt x="591" y="206"/>
                  </a:cubicBezTo>
                  <a:cubicBezTo>
                    <a:pt x="600" y="203"/>
                    <a:pt x="614" y="252"/>
                    <a:pt x="626" y="251"/>
                  </a:cubicBezTo>
                  <a:cubicBezTo>
                    <a:pt x="638" y="250"/>
                    <a:pt x="656" y="227"/>
                    <a:pt x="666" y="201"/>
                  </a:cubicBezTo>
                  <a:cubicBezTo>
                    <a:pt x="676" y="175"/>
                    <a:pt x="682" y="98"/>
                    <a:pt x="686" y="96"/>
                  </a:cubicBezTo>
                  <a:cubicBezTo>
                    <a:pt x="690" y="94"/>
                    <a:pt x="684" y="174"/>
                    <a:pt x="691" y="191"/>
                  </a:cubicBezTo>
                  <a:cubicBezTo>
                    <a:pt x="698" y="208"/>
                    <a:pt x="722" y="183"/>
                    <a:pt x="731" y="196"/>
                  </a:cubicBezTo>
                  <a:cubicBezTo>
                    <a:pt x="740" y="209"/>
                    <a:pt x="741" y="265"/>
                    <a:pt x="746" y="266"/>
                  </a:cubicBezTo>
                  <a:cubicBezTo>
                    <a:pt x="751" y="267"/>
                    <a:pt x="754" y="199"/>
                    <a:pt x="761" y="201"/>
                  </a:cubicBezTo>
                  <a:cubicBezTo>
                    <a:pt x="768" y="203"/>
                    <a:pt x="783" y="274"/>
                    <a:pt x="791" y="276"/>
                  </a:cubicBezTo>
                  <a:cubicBezTo>
                    <a:pt x="799" y="278"/>
                    <a:pt x="805" y="229"/>
                    <a:pt x="811" y="211"/>
                  </a:cubicBezTo>
                  <a:cubicBezTo>
                    <a:pt x="817" y="193"/>
                    <a:pt x="822" y="162"/>
                    <a:pt x="826" y="166"/>
                  </a:cubicBezTo>
                  <a:cubicBezTo>
                    <a:pt x="830" y="170"/>
                    <a:pt x="829" y="219"/>
                    <a:pt x="836" y="236"/>
                  </a:cubicBezTo>
                  <a:cubicBezTo>
                    <a:pt x="843" y="253"/>
                    <a:pt x="860" y="272"/>
                    <a:pt x="866" y="271"/>
                  </a:cubicBezTo>
                  <a:cubicBezTo>
                    <a:pt x="872" y="270"/>
                    <a:pt x="868" y="248"/>
                    <a:pt x="871" y="231"/>
                  </a:cubicBezTo>
                  <a:cubicBezTo>
                    <a:pt x="874" y="214"/>
                    <a:pt x="881" y="175"/>
                    <a:pt x="886" y="171"/>
                  </a:cubicBezTo>
                  <a:cubicBezTo>
                    <a:pt x="891" y="167"/>
                    <a:pt x="892" y="209"/>
                    <a:pt x="901" y="206"/>
                  </a:cubicBezTo>
                  <a:cubicBezTo>
                    <a:pt x="910" y="203"/>
                    <a:pt x="931" y="149"/>
                    <a:pt x="941" y="151"/>
                  </a:cubicBezTo>
                  <a:cubicBezTo>
                    <a:pt x="951" y="153"/>
                    <a:pt x="953" y="208"/>
                    <a:pt x="961" y="216"/>
                  </a:cubicBezTo>
                  <a:cubicBezTo>
                    <a:pt x="969" y="224"/>
                    <a:pt x="975" y="211"/>
                    <a:pt x="986" y="201"/>
                  </a:cubicBezTo>
                  <a:cubicBezTo>
                    <a:pt x="997" y="191"/>
                    <a:pt x="1017" y="153"/>
                    <a:pt x="1027" y="156"/>
                  </a:cubicBezTo>
                  <a:cubicBezTo>
                    <a:pt x="1037" y="159"/>
                    <a:pt x="1040" y="204"/>
                    <a:pt x="1047" y="221"/>
                  </a:cubicBezTo>
                  <a:cubicBezTo>
                    <a:pt x="1054" y="238"/>
                    <a:pt x="1063" y="261"/>
                    <a:pt x="1067" y="256"/>
                  </a:cubicBezTo>
                  <a:cubicBezTo>
                    <a:pt x="1071" y="251"/>
                    <a:pt x="1068" y="210"/>
                    <a:pt x="1072" y="191"/>
                  </a:cubicBezTo>
                  <a:cubicBezTo>
                    <a:pt x="1076" y="172"/>
                    <a:pt x="1084" y="159"/>
                    <a:pt x="1092" y="141"/>
                  </a:cubicBezTo>
                  <a:cubicBezTo>
                    <a:pt x="1100" y="123"/>
                    <a:pt x="1116" y="85"/>
                    <a:pt x="1122" y="86"/>
                  </a:cubicBezTo>
                  <a:cubicBezTo>
                    <a:pt x="1128" y="87"/>
                    <a:pt x="1122" y="125"/>
                    <a:pt x="1127" y="146"/>
                  </a:cubicBezTo>
                  <a:cubicBezTo>
                    <a:pt x="1132" y="167"/>
                    <a:pt x="1145" y="212"/>
                    <a:pt x="1152" y="211"/>
                  </a:cubicBezTo>
                  <a:cubicBezTo>
                    <a:pt x="1159" y="210"/>
                    <a:pt x="1160" y="144"/>
                    <a:pt x="1167" y="141"/>
                  </a:cubicBezTo>
                  <a:cubicBezTo>
                    <a:pt x="1174" y="138"/>
                    <a:pt x="1190" y="194"/>
                    <a:pt x="1197" y="191"/>
                  </a:cubicBezTo>
                  <a:cubicBezTo>
                    <a:pt x="1204" y="188"/>
                    <a:pt x="1201" y="144"/>
                    <a:pt x="1207" y="121"/>
                  </a:cubicBezTo>
                  <a:cubicBezTo>
                    <a:pt x="1213" y="98"/>
                    <a:pt x="1225" y="70"/>
                    <a:pt x="1232" y="51"/>
                  </a:cubicBezTo>
                  <a:cubicBezTo>
                    <a:pt x="1239" y="32"/>
                    <a:pt x="1249" y="0"/>
                    <a:pt x="1252" y="6"/>
                  </a:cubicBezTo>
                  <a:cubicBezTo>
                    <a:pt x="1255" y="12"/>
                    <a:pt x="1250" y="55"/>
                    <a:pt x="1252" y="86"/>
                  </a:cubicBezTo>
                  <a:cubicBezTo>
                    <a:pt x="1254" y="117"/>
                    <a:pt x="1255" y="178"/>
                    <a:pt x="1262" y="191"/>
                  </a:cubicBezTo>
                  <a:cubicBezTo>
                    <a:pt x="1269" y="204"/>
                    <a:pt x="1286" y="156"/>
                    <a:pt x="1292" y="166"/>
                  </a:cubicBezTo>
                  <a:cubicBezTo>
                    <a:pt x="1298" y="176"/>
                    <a:pt x="1292" y="255"/>
                    <a:pt x="1297" y="251"/>
                  </a:cubicBezTo>
                  <a:cubicBezTo>
                    <a:pt x="1302" y="247"/>
                    <a:pt x="1314" y="143"/>
                    <a:pt x="1322" y="141"/>
                  </a:cubicBezTo>
                  <a:cubicBezTo>
                    <a:pt x="1330" y="139"/>
                    <a:pt x="1338" y="231"/>
                    <a:pt x="1347" y="236"/>
                  </a:cubicBezTo>
                  <a:cubicBezTo>
                    <a:pt x="1356" y="241"/>
                    <a:pt x="1369" y="172"/>
                    <a:pt x="1377" y="171"/>
                  </a:cubicBezTo>
                  <a:cubicBezTo>
                    <a:pt x="1385" y="170"/>
                    <a:pt x="1393" y="234"/>
                    <a:pt x="1397" y="231"/>
                  </a:cubicBezTo>
                  <a:cubicBezTo>
                    <a:pt x="1401" y="228"/>
                    <a:pt x="1394" y="162"/>
                    <a:pt x="1402" y="151"/>
                  </a:cubicBezTo>
                  <a:cubicBezTo>
                    <a:pt x="1410" y="140"/>
                    <a:pt x="1438" y="174"/>
                    <a:pt x="1447" y="166"/>
                  </a:cubicBezTo>
                  <a:cubicBezTo>
                    <a:pt x="1456" y="158"/>
                    <a:pt x="1452" y="99"/>
                    <a:pt x="1457" y="106"/>
                  </a:cubicBezTo>
                  <a:cubicBezTo>
                    <a:pt x="1462" y="113"/>
                    <a:pt x="1470" y="200"/>
                    <a:pt x="1477" y="211"/>
                  </a:cubicBezTo>
                  <a:cubicBezTo>
                    <a:pt x="1484" y="222"/>
                    <a:pt x="1493" y="165"/>
                    <a:pt x="1502" y="171"/>
                  </a:cubicBezTo>
                  <a:cubicBezTo>
                    <a:pt x="1511" y="177"/>
                    <a:pt x="1525" y="241"/>
                    <a:pt x="1532" y="246"/>
                  </a:cubicBezTo>
                  <a:cubicBezTo>
                    <a:pt x="1539" y="251"/>
                    <a:pt x="1539" y="197"/>
                    <a:pt x="1542" y="201"/>
                  </a:cubicBezTo>
                  <a:cubicBezTo>
                    <a:pt x="1545" y="205"/>
                    <a:pt x="1544" y="264"/>
                    <a:pt x="1552" y="271"/>
                  </a:cubicBezTo>
                  <a:cubicBezTo>
                    <a:pt x="1560" y="278"/>
                    <a:pt x="1580" y="238"/>
                    <a:pt x="1593" y="241"/>
                  </a:cubicBezTo>
                  <a:cubicBezTo>
                    <a:pt x="1606" y="244"/>
                    <a:pt x="1620" y="289"/>
                    <a:pt x="1633" y="291"/>
                  </a:cubicBezTo>
                  <a:cubicBezTo>
                    <a:pt x="1646" y="293"/>
                    <a:pt x="1664" y="253"/>
                    <a:pt x="1673" y="251"/>
                  </a:cubicBezTo>
                  <a:cubicBezTo>
                    <a:pt x="1682" y="249"/>
                    <a:pt x="1681" y="287"/>
                    <a:pt x="1688" y="281"/>
                  </a:cubicBezTo>
                  <a:cubicBezTo>
                    <a:pt x="1695" y="275"/>
                    <a:pt x="1709" y="224"/>
                    <a:pt x="1718" y="216"/>
                  </a:cubicBezTo>
                  <a:cubicBezTo>
                    <a:pt x="1727" y="208"/>
                    <a:pt x="1736" y="220"/>
                    <a:pt x="1743" y="231"/>
                  </a:cubicBezTo>
                  <a:cubicBezTo>
                    <a:pt x="1750" y="242"/>
                    <a:pt x="1753" y="269"/>
                    <a:pt x="1763" y="281"/>
                  </a:cubicBezTo>
                  <a:cubicBezTo>
                    <a:pt x="1773" y="293"/>
                    <a:pt x="1789" y="303"/>
                    <a:pt x="1803" y="306"/>
                  </a:cubicBezTo>
                  <a:cubicBezTo>
                    <a:pt x="1817" y="309"/>
                    <a:pt x="1838" y="307"/>
                    <a:pt x="1848" y="301"/>
                  </a:cubicBezTo>
                  <a:cubicBezTo>
                    <a:pt x="1858" y="295"/>
                    <a:pt x="1859" y="271"/>
                    <a:pt x="1863" y="271"/>
                  </a:cubicBezTo>
                  <a:cubicBezTo>
                    <a:pt x="1867" y="271"/>
                    <a:pt x="1866" y="299"/>
                    <a:pt x="1873" y="301"/>
                  </a:cubicBezTo>
                  <a:cubicBezTo>
                    <a:pt x="1880" y="303"/>
                    <a:pt x="1890" y="281"/>
                    <a:pt x="1908" y="281"/>
                  </a:cubicBezTo>
                  <a:cubicBezTo>
                    <a:pt x="1926" y="281"/>
                    <a:pt x="1969" y="304"/>
                    <a:pt x="1983" y="301"/>
                  </a:cubicBezTo>
                  <a:cubicBezTo>
                    <a:pt x="1997" y="298"/>
                    <a:pt x="1989" y="261"/>
                    <a:pt x="1993" y="261"/>
                  </a:cubicBezTo>
                  <a:cubicBezTo>
                    <a:pt x="1997" y="261"/>
                    <a:pt x="2000" y="301"/>
                    <a:pt x="2008" y="301"/>
                  </a:cubicBezTo>
                  <a:cubicBezTo>
                    <a:pt x="2016" y="301"/>
                    <a:pt x="2031" y="276"/>
                    <a:pt x="2043" y="261"/>
                  </a:cubicBezTo>
                  <a:cubicBezTo>
                    <a:pt x="2055" y="246"/>
                    <a:pt x="2071" y="209"/>
                    <a:pt x="2078" y="211"/>
                  </a:cubicBezTo>
                  <a:cubicBezTo>
                    <a:pt x="2085" y="213"/>
                    <a:pt x="2081" y="275"/>
                    <a:pt x="2088" y="271"/>
                  </a:cubicBezTo>
                  <a:cubicBezTo>
                    <a:pt x="2095" y="267"/>
                    <a:pt x="2110" y="193"/>
                    <a:pt x="2118" y="186"/>
                  </a:cubicBezTo>
                  <a:cubicBezTo>
                    <a:pt x="2126" y="179"/>
                    <a:pt x="2128" y="229"/>
                    <a:pt x="2138" y="231"/>
                  </a:cubicBezTo>
                  <a:cubicBezTo>
                    <a:pt x="2148" y="233"/>
                    <a:pt x="2169" y="200"/>
                    <a:pt x="2179" y="201"/>
                  </a:cubicBezTo>
                  <a:cubicBezTo>
                    <a:pt x="2189" y="202"/>
                    <a:pt x="2191" y="223"/>
                    <a:pt x="2199" y="236"/>
                  </a:cubicBezTo>
                  <a:cubicBezTo>
                    <a:pt x="2207" y="249"/>
                    <a:pt x="2217" y="286"/>
                    <a:pt x="2224" y="281"/>
                  </a:cubicBezTo>
                  <a:cubicBezTo>
                    <a:pt x="2231" y="276"/>
                    <a:pt x="2234" y="206"/>
                    <a:pt x="2239" y="206"/>
                  </a:cubicBezTo>
                  <a:cubicBezTo>
                    <a:pt x="2244" y="206"/>
                    <a:pt x="2245" y="278"/>
                    <a:pt x="2254" y="281"/>
                  </a:cubicBezTo>
                  <a:cubicBezTo>
                    <a:pt x="2263" y="284"/>
                    <a:pt x="2282" y="226"/>
                    <a:pt x="2294" y="226"/>
                  </a:cubicBezTo>
                  <a:cubicBezTo>
                    <a:pt x="2306" y="226"/>
                    <a:pt x="2312" y="293"/>
                    <a:pt x="2324" y="281"/>
                  </a:cubicBezTo>
                  <a:cubicBezTo>
                    <a:pt x="2336" y="269"/>
                    <a:pt x="2360" y="160"/>
                    <a:pt x="2369" y="151"/>
                  </a:cubicBezTo>
                  <a:cubicBezTo>
                    <a:pt x="2378" y="142"/>
                    <a:pt x="2374" y="232"/>
                    <a:pt x="2379" y="226"/>
                  </a:cubicBezTo>
                  <a:cubicBezTo>
                    <a:pt x="2384" y="220"/>
                    <a:pt x="2393" y="117"/>
                    <a:pt x="2399" y="116"/>
                  </a:cubicBezTo>
                  <a:cubicBezTo>
                    <a:pt x="2405" y="115"/>
                    <a:pt x="2407" y="199"/>
                    <a:pt x="2414" y="221"/>
                  </a:cubicBezTo>
                  <a:cubicBezTo>
                    <a:pt x="2421" y="243"/>
                    <a:pt x="2435" y="253"/>
                    <a:pt x="2444" y="251"/>
                  </a:cubicBezTo>
                  <a:cubicBezTo>
                    <a:pt x="2453" y="249"/>
                    <a:pt x="2462" y="209"/>
                    <a:pt x="2469" y="211"/>
                  </a:cubicBezTo>
                  <a:cubicBezTo>
                    <a:pt x="2476" y="213"/>
                    <a:pt x="2475" y="270"/>
                    <a:pt x="2484" y="266"/>
                  </a:cubicBezTo>
                  <a:cubicBezTo>
                    <a:pt x="2493" y="262"/>
                    <a:pt x="2513" y="187"/>
                    <a:pt x="2524" y="186"/>
                  </a:cubicBezTo>
                  <a:cubicBezTo>
                    <a:pt x="2535" y="185"/>
                    <a:pt x="2541" y="254"/>
                    <a:pt x="2549" y="261"/>
                  </a:cubicBezTo>
                  <a:cubicBezTo>
                    <a:pt x="2557" y="268"/>
                    <a:pt x="2571" y="234"/>
                    <a:pt x="2574" y="226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28760" y="443988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75160" y="487332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t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716040" y="5294160"/>
            <a:ext cx="4128840" cy="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428760" y="5218200"/>
            <a:ext cx="4416120" cy="884880"/>
            <a:chOff x="428760" y="5218200"/>
            <a:chExt cx="4416120" cy="884880"/>
          </a:xfrm>
        </p:grpSpPr>
        <p:grpSp>
          <p:nvGrpSpPr>
            <p:cNvPr id="525" name=""/>
            <p:cNvGrpSpPr/>
            <p:nvPr/>
          </p:nvGrpSpPr>
          <p:grpSpPr>
            <a:xfrm>
              <a:off x="716040" y="5218200"/>
              <a:ext cx="4128840" cy="625320"/>
              <a:chOff x="716040" y="5218200"/>
              <a:chExt cx="4128840" cy="625320"/>
            </a:xfrm>
          </p:grpSpPr>
          <p:sp>
            <p:nvSpPr>
              <p:cNvPr id="526" name=""/>
              <p:cNvSpPr/>
              <p:nvPr/>
            </p:nvSpPr>
            <p:spPr>
              <a:xfrm>
                <a:off x="716040" y="5218200"/>
                <a:ext cx="0" cy="6253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16040" y="5843520"/>
                <a:ext cx="412884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428760" y="534060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11360" y="5351400"/>
              <a:ext cx="4119480" cy="470160"/>
            </a:xfrm>
            <a:custGeom>
              <a:avLst/>
              <a:gdLst/>
              <a:ahLst/>
              <a:rect l="l" t="t" r="r" b="b"/>
              <a:pathLst>
                <a:path w="2595" h="296">
                  <a:moveTo>
                    <a:pt x="0" y="171"/>
                  </a:moveTo>
                  <a:cubicBezTo>
                    <a:pt x="9" y="182"/>
                    <a:pt x="18" y="194"/>
                    <a:pt x="24" y="191"/>
                  </a:cubicBezTo>
                  <a:cubicBezTo>
                    <a:pt x="30" y="188"/>
                    <a:pt x="31" y="150"/>
                    <a:pt x="36" y="155"/>
                  </a:cubicBezTo>
                  <a:cubicBezTo>
                    <a:pt x="41" y="160"/>
                    <a:pt x="48" y="221"/>
                    <a:pt x="56" y="223"/>
                  </a:cubicBezTo>
                  <a:cubicBezTo>
                    <a:pt x="64" y="225"/>
                    <a:pt x="75" y="184"/>
                    <a:pt x="84" y="167"/>
                  </a:cubicBezTo>
                  <a:cubicBezTo>
                    <a:pt x="93" y="150"/>
                    <a:pt x="107" y="119"/>
                    <a:pt x="112" y="119"/>
                  </a:cubicBezTo>
                  <a:cubicBezTo>
                    <a:pt x="117" y="119"/>
                    <a:pt x="112" y="154"/>
                    <a:pt x="116" y="167"/>
                  </a:cubicBezTo>
                  <a:cubicBezTo>
                    <a:pt x="120" y="180"/>
                    <a:pt x="129" y="206"/>
                    <a:pt x="136" y="199"/>
                  </a:cubicBezTo>
                  <a:cubicBezTo>
                    <a:pt x="143" y="192"/>
                    <a:pt x="154" y="122"/>
                    <a:pt x="160" y="123"/>
                  </a:cubicBezTo>
                  <a:cubicBezTo>
                    <a:pt x="166" y="124"/>
                    <a:pt x="167" y="186"/>
                    <a:pt x="172" y="207"/>
                  </a:cubicBezTo>
                  <a:cubicBezTo>
                    <a:pt x="177" y="228"/>
                    <a:pt x="185" y="254"/>
                    <a:pt x="188" y="251"/>
                  </a:cubicBezTo>
                  <a:cubicBezTo>
                    <a:pt x="191" y="248"/>
                    <a:pt x="187" y="188"/>
                    <a:pt x="192" y="187"/>
                  </a:cubicBezTo>
                  <a:cubicBezTo>
                    <a:pt x="197" y="186"/>
                    <a:pt x="209" y="242"/>
                    <a:pt x="216" y="243"/>
                  </a:cubicBezTo>
                  <a:cubicBezTo>
                    <a:pt x="223" y="244"/>
                    <a:pt x="225" y="187"/>
                    <a:pt x="232" y="191"/>
                  </a:cubicBezTo>
                  <a:cubicBezTo>
                    <a:pt x="239" y="195"/>
                    <a:pt x="247" y="263"/>
                    <a:pt x="256" y="267"/>
                  </a:cubicBezTo>
                  <a:cubicBezTo>
                    <a:pt x="265" y="271"/>
                    <a:pt x="279" y="232"/>
                    <a:pt x="288" y="215"/>
                  </a:cubicBezTo>
                  <a:cubicBezTo>
                    <a:pt x="297" y="198"/>
                    <a:pt x="303" y="162"/>
                    <a:pt x="308" y="163"/>
                  </a:cubicBezTo>
                  <a:cubicBezTo>
                    <a:pt x="313" y="164"/>
                    <a:pt x="312" y="208"/>
                    <a:pt x="316" y="223"/>
                  </a:cubicBezTo>
                  <a:cubicBezTo>
                    <a:pt x="320" y="238"/>
                    <a:pt x="327" y="252"/>
                    <a:pt x="332" y="251"/>
                  </a:cubicBezTo>
                  <a:cubicBezTo>
                    <a:pt x="337" y="250"/>
                    <a:pt x="339" y="236"/>
                    <a:pt x="344" y="215"/>
                  </a:cubicBezTo>
                  <a:cubicBezTo>
                    <a:pt x="349" y="194"/>
                    <a:pt x="358" y="130"/>
                    <a:pt x="364" y="127"/>
                  </a:cubicBezTo>
                  <a:cubicBezTo>
                    <a:pt x="370" y="124"/>
                    <a:pt x="374" y="176"/>
                    <a:pt x="380" y="195"/>
                  </a:cubicBezTo>
                  <a:cubicBezTo>
                    <a:pt x="386" y="214"/>
                    <a:pt x="394" y="245"/>
                    <a:pt x="400" y="243"/>
                  </a:cubicBezTo>
                  <a:cubicBezTo>
                    <a:pt x="406" y="241"/>
                    <a:pt x="410" y="185"/>
                    <a:pt x="416" y="183"/>
                  </a:cubicBezTo>
                  <a:cubicBezTo>
                    <a:pt x="422" y="181"/>
                    <a:pt x="426" y="232"/>
                    <a:pt x="436" y="231"/>
                  </a:cubicBezTo>
                  <a:cubicBezTo>
                    <a:pt x="446" y="230"/>
                    <a:pt x="469" y="172"/>
                    <a:pt x="476" y="175"/>
                  </a:cubicBezTo>
                  <a:cubicBezTo>
                    <a:pt x="483" y="178"/>
                    <a:pt x="474" y="230"/>
                    <a:pt x="480" y="247"/>
                  </a:cubicBezTo>
                  <a:cubicBezTo>
                    <a:pt x="486" y="264"/>
                    <a:pt x="503" y="276"/>
                    <a:pt x="512" y="275"/>
                  </a:cubicBezTo>
                  <a:cubicBezTo>
                    <a:pt x="521" y="274"/>
                    <a:pt x="523" y="242"/>
                    <a:pt x="532" y="243"/>
                  </a:cubicBezTo>
                  <a:cubicBezTo>
                    <a:pt x="541" y="244"/>
                    <a:pt x="555" y="281"/>
                    <a:pt x="564" y="283"/>
                  </a:cubicBezTo>
                  <a:cubicBezTo>
                    <a:pt x="573" y="285"/>
                    <a:pt x="580" y="253"/>
                    <a:pt x="588" y="255"/>
                  </a:cubicBezTo>
                  <a:cubicBezTo>
                    <a:pt x="596" y="257"/>
                    <a:pt x="602" y="294"/>
                    <a:pt x="612" y="295"/>
                  </a:cubicBezTo>
                  <a:cubicBezTo>
                    <a:pt x="622" y="296"/>
                    <a:pt x="639" y="263"/>
                    <a:pt x="648" y="263"/>
                  </a:cubicBezTo>
                  <a:cubicBezTo>
                    <a:pt x="657" y="263"/>
                    <a:pt x="659" y="296"/>
                    <a:pt x="668" y="295"/>
                  </a:cubicBezTo>
                  <a:cubicBezTo>
                    <a:pt x="677" y="294"/>
                    <a:pt x="690" y="273"/>
                    <a:pt x="700" y="259"/>
                  </a:cubicBezTo>
                  <a:cubicBezTo>
                    <a:pt x="710" y="245"/>
                    <a:pt x="721" y="211"/>
                    <a:pt x="728" y="211"/>
                  </a:cubicBezTo>
                  <a:cubicBezTo>
                    <a:pt x="735" y="211"/>
                    <a:pt x="739" y="262"/>
                    <a:pt x="744" y="259"/>
                  </a:cubicBezTo>
                  <a:cubicBezTo>
                    <a:pt x="749" y="256"/>
                    <a:pt x="751" y="216"/>
                    <a:pt x="756" y="195"/>
                  </a:cubicBezTo>
                  <a:cubicBezTo>
                    <a:pt x="761" y="174"/>
                    <a:pt x="771" y="135"/>
                    <a:pt x="776" y="135"/>
                  </a:cubicBezTo>
                  <a:cubicBezTo>
                    <a:pt x="781" y="135"/>
                    <a:pt x="781" y="178"/>
                    <a:pt x="788" y="195"/>
                  </a:cubicBezTo>
                  <a:cubicBezTo>
                    <a:pt x="795" y="212"/>
                    <a:pt x="810" y="241"/>
                    <a:pt x="816" y="239"/>
                  </a:cubicBezTo>
                  <a:cubicBezTo>
                    <a:pt x="822" y="237"/>
                    <a:pt x="817" y="190"/>
                    <a:pt x="824" y="183"/>
                  </a:cubicBezTo>
                  <a:cubicBezTo>
                    <a:pt x="831" y="176"/>
                    <a:pt x="847" y="188"/>
                    <a:pt x="856" y="199"/>
                  </a:cubicBezTo>
                  <a:cubicBezTo>
                    <a:pt x="865" y="210"/>
                    <a:pt x="873" y="254"/>
                    <a:pt x="880" y="251"/>
                  </a:cubicBezTo>
                  <a:cubicBezTo>
                    <a:pt x="887" y="248"/>
                    <a:pt x="891" y="188"/>
                    <a:pt x="896" y="183"/>
                  </a:cubicBezTo>
                  <a:cubicBezTo>
                    <a:pt x="901" y="178"/>
                    <a:pt x="907" y="221"/>
                    <a:pt x="912" y="219"/>
                  </a:cubicBezTo>
                  <a:cubicBezTo>
                    <a:pt x="917" y="217"/>
                    <a:pt x="923" y="171"/>
                    <a:pt x="928" y="171"/>
                  </a:cubicBezTo>
                  <a:cubicBezTo>
                    <a:pt x="933" y="171"/>
                    <a:pt x="938" y="222"/>
                    <a:pt x="944" y="219"/>
                  </a:cubicBezTo>
                  <a:cubicBezTo>
                    <a:pt x="950" y="216"/>
                    <a:pt x="959" y="172"/>
                    <a:pt x="964" y="151"/>
                  </a:cubicBezTo>
                  <a:cubicBezTo>
                    <a:pt x="969" y="130"/>
                    <a:pt x="971" y="112"/>
                    <a:pt x="972" y="91"/>
                  </a:cubicBezTo>
                  <a:cubicBezTo>
                    <a:pt x="973" y="70"/>
                    <a:pt x="968" y="22"/>
                    <a:pt x="972" y="27"/>
                  </a:cubicBezTo>
                  <a:cubicBezTo>
                    <a:pt x="976" y="32"/>
                    <a:pt x="991" y="100"/>
                    <a:pt x="996" y="123"/>
                  </a:cubicBezTo>
                  <a:cubicBezTo>
                    <a:pt x="1001" y="146"/>
                    <a:pt x="999" y="150"/>
                    <a:pt x="1000" y="163"/>
                  </a:cubicBezTo>
                  <a:cubicBezTo>
                    <a:pt x="1001" y="176"/>
                    <a:pt x="998" y="200"/>
                    <a:pt x="1004" y="199"/>
                  </a:cubicBezTo>
                  <a:cubicBezTo>
                    <a:pt x="1010" y="198"/>
                    <a:pt x="1029" y="157"/>
                    <a:pt x="1036" y="159"/>
                  </a:cubicBezTo>
                  <a:cubicBezTo>
                    <a:pt x="1043" y="161"/>
                    <a:pt x="1041" y="220"/>
                    <a:pt x="1048" y="211"/>
                  </a:cubicBezTo>
                  <a:cubicBezTo>
                    <a:pt x="1055" y="202"/>
                    <a:pt x="1068" y="122"/>
                    <a:pt x="1076" y="107"/>
                  </a:cubicBezTo>
                  <a:cubicBezTo>
                    <a:pt x="1084" y="92"/>
                    <a:pt x="1090" y="126"/>
                    <a:pt x="1096" y="123"/>
                  </a:cubicBezTo>
                  <a:cubicBezTo>
                    <a:pt x="1102" y="120"/>
                    <a:pt x="1109" y="85"/>
                    <a:pt x="1112" y="87"/>
                  </a:cubicBezTo>
                  <a:cubicBezTo>
                    <a:pt x="1115" y="89"/>
                    <a:pt x="1112" y="118"/>
                    <a:pt x="1112" y="135"/>
                  </a:cubicBezTo>
                  <a:cubicBezTo>
                    <a:pt x="1112" y="152"/>
                    <a:pt x="1109" y="182"/>
                    <a:pt x="1112" y="187"/>
                  </a:cubicBezTo>
                  <a:cubicBezTo>
                    <a:pt x="1115" y="192"/>
                    <a:pt x="1127" y="161"/>
                    <a:pt x="1132" y="167"/>
                  </a:cubicBezTo>
                  <a:cubicBezTo>
                    <a:pt x="1137" y="173"/>
                    <a:pt x="1136" y="223"/>
                    <a:pt x="1144" y="223"/>
                  </a:cubicBezTo>
                  <a:cubicBezTo>
                    <a:pt x="1152" y="223"/>
                    <a:pt x="1175" y="166"/>
                    <a:pt x="1180" y="167"/>
                  </a:cubicBezTo>
                  <a:cubicBezTo>
                    <a:pt x="1185" y="168"/>
                    <a:pt x="1173" y="210"/>
                    <a:pt x="1176" y="231"/>
                  </a:cubicBezTo>
                  <a:cubicBezTo>
                    <a:pt x="1179" y="252"/>
                    <a:pt x="1193" y="294"/>
                    <a:pt x="1200" y="295"/>
                  </a:cubicBezTo>
                  <a:cubicBezTo>
                    <a:pt x="1207" y="296"/>
                    <a:pt x="1212" y="237"/>
                    <a:pt x="1220" y="235"/>
                  </a:cubicBezTo>
                  <a:cubicBezTo>
                    <a:pt x="1228" y="233"/>
                    <a:pt x="1241" y="292"/>
                    <a:pt x="1248" y="283"/>
                  </a:cubicBezTo>
                  <a:cubicBezTo>
                    <a:pt x="1255" y="274"/>
                    <a:pt x="1257" y="185"/>
                    <a:pt x="1260" y="183"/>
                  </a:cubicBezTo>
                  <a:cubicBezTo>
                    <a:pt x="1263" y="181"/>
                    <a:pt x="1271" y="271"/>
                    <a:pt x="1268" y="271"/>
                  </a:cubicBezTo>
                  <a:cubicBezTo>
                    <a:pt x="1265" y="271"/>
                    <a:pt x="1277" y="191"/>
                    <a:pt x="1280" y="183"/>
                  </a:cubicBezTo>
                  <a:cubicBezTo>
                    <a:pt x="1283" y="175"/>
                    <a:pt x="1280" y="227"/>
                    <a:pt x="1284" y="223"/>
                  </a:cubicBezTo>
                  <a:cubicBezTo>
                    <a:pt x="1288" y="219"/>
                    <a:pt x="1298" y="151"/>
                    <a:pt x="1304" y="159"/>
                  </a:cubicBezTo>
                  <a:cubicBezTo>
                    <a:pt x="1310" y="167"/>
                    <a:pt x="1313" y="256"/>
                    <a:pt x="1320" y="271"/>
                  </a:cubicBezTo>
                  <a:cubicBezTo>
                    <a:pt x="1327" y="286"/>
                    <a:pt x="1338" y="248"/>
                    <a:pt x="1344" y="251"/>
                  </a:cubicBezTo>
                  <a:cubicBezTo>
                    <a:pt x="1350" y="254"/>
                    <a:pt x="1351" y="292"/>
                    <a:pt x="1356" y="291"/>
                  </a:cubicBezTo>
                  <a:cubicBezTo>
                    <a:pt x="1361" y="290"/>
                    <a:pt x="1367" y="258"/>
                    <a:pt x="1376" y="243"/>
                  </a:cubicBezTo>
                  <a:cubicBezTo>
                    <a:pt x="1385" y="228"/>
                    <a:pt x="1401" y="198"/>
                    <a:pt x="1408" y="199"/>
                  </a:cubicBezTo>
                  <a:cubicBezTo>
                    <a:pt x="1415" y="200"/>
                    <a:pt x="1412" y="244"/>
                    <a:pt x="1420" y="251"/>
                  </a:cubicBezTo>
                  <a:cubicBezTo>
                    <a:pt x="1428" y="258"/>
                    <a:pt x="1448" y="239"/>
                    <a:pt x="1456" y="243"/>
                  </a:cubicBezTo>
                  <a:cubicBezTo>
                    <a:pt x="1464" y="247"/>
                    <a:pt x="1462" y="268"/>
                    <a:pt x="1468" y="275"/>
                  </a:cubicBezTo>
                  <a:cubicBezTo>
                    <a:pt x="1474" y="282"/>
                    <a:pt x="1487" y="291"/>
                    <a:pt x="1492" y="287"/>
                  </a:cubicBezTo>
                  <a:cubicBezTo>
                    <a:pt x="1497" y="283"/>
                    <a:pt x="1494" y="250"/>
                    <a:pt x="1500" y="251"/>
                  </a:cubicBezTo>
                  <a:cubicBezTo>
                    <a:pt x="1506" y="252"/>
                    <a:pt x="1519" y="294"/>
                    <a:pt x="1528" y="291"/>
                  </a:cubicBezTo>
                  <a:cubicBezTo>
                    <a:pt x="1537" y="288"/>
                    <a:pt x="1545" y="234"/>
                    <a:pt x="1552" y="231"/>
                  </a:cubicBezTo>
                  <a:cubicBezTo>
                    <a:pt x="1559" y="228"/>
                    <a:pt x="1562" y="279"/>
                    <a:pt x="1572" y="271"/>
                  </a:cubicBezTo>
                  <a:cubicBezTo>
                    <a:pt x="1582" y="263"/>
                    <a:pt x="1603" y="188"/>
                    <a:pt x="1612" y="183"/>
                  </a:cubicBezTo>
                  <a:cubicBezTo>
                    <a:pt x="1621" y="178"/>
                    <a:pt x="1618" y="240"/>
                    <a:pt x="1628" y="239"/>
                  </a:cubicBezTo>
                  <a:cubicBezTo>
                    <a:pt x="1638" y="238"/>
                    <a:pt x="1661" y="199"/>
                    <a:pt x="1672" y="175"/>
                  </a:cubicBezTo>
                  <a:cubicBezTo>
                    <a:pt x="1683" y="151"/>
                    <a:pt x="1688" y="92"/>
                    <a:pt x="1692" y="95"/>
                  </a:cubicBezTo>
                  <a:cubicBezTo>
                    <a:pt x="1696" y="98"/>
                    <a:pt x="1690" y="170"/>
                    <a:pt x="1696" y="195"/>
                  </a:cubicBezTo>
                  <a:cubicBezTo>
                    <a:pt x="1702" y="220"/>
                    <a:pt x="1720" y="247"/>
                    <a:pt x="1728" y="247"/>
                  </a:cubicBezTo>
                  <a:cubicBezTo>
                    <a:pt x="1736" y="247"/>
                    <a:pt x="1736" y="192"/>
                    <a:pt x="1744" y="195"/>
                  </a:cubicBezTo>
                  <a:cubicBezTo>
                    <a:pt x="1752" y="198"/>
                    <a:pt x="1768" y="262"/>
                    <a:pt x="1776" y="263"/>
                  </a:cubicBezTo>
                  <a:cubicBezTo>
                    <a:pt x="1784" y="264"/>
                    <a:pt x="1785" y="220"/>
                    <a:pt x="1792" y="203"/>
                  </a:cubicBezTo>
                  <a:cubicBezTo>
                    <a:pt x="1799" y="186"/>
                    <a:pt x="1815" y="162"/>
                    <a:pt x="1820" y="163"/>
                  </a:cubicBezTo>
                  <a:cubicBezTo>
                    <a:pt x="1825" y="164"/>
                    <a:pt x="1816" y="209"/>
                    <a:pt x="1820" y="211"/>
                  </a:cubicBezTo>
                  <a:cubicBezTo>
                    <a:pt x="1824" y="213"/>
                    <a:pt x="1837" y="192"/>
                    <a:pt x="1844" y="175"/>
                  </a:cubicBezTo>
                  <a:cubicBezTo>
                    <a:pt x="1851" y="158"/>
                    <a:pt x="1856" y="107"/>
                    <a:pt x="1860" y="107"/>
                  </a:cubicBezTo>
                  <a:cubicBezTo>
                    <a:pt x="1864" y="107"/>
                    <a:pt x="1865" y="153"/>
                    <a:pt x="1868" y="175"/>
                  </a:cubicBezTo>
                  <a:cubicBezTo>
                    <a:pt x="1871" y="197"/>
                    <a:pt x="1869" y="225"/>
                    <a:pt x="1876" y="239"/>
                  </a:cubicBezTo>
                  <a:cubicBezTo>
                    <a:pt x="1883" y="253"/>
                    <a:pt x="1901" y="267"/>
                    <a:pt x="1908" y="259"/>
                  </a:cubicBezTo>
                  <a:cubicBezTo>
                    <a:pt x="1915" y="251"/>
                    <a:pt x="1912" y="211"/>
                    <a:pt x="1916" y="191"/>
                  </a:cubicBezTo>
                  <a:cubicBezTo>
                    <a:pt x="1920" y="171"/>
                    <a:pt x="1927" y="142"/>
                    <a:pt x="1932" y="139"/>
                  </a:cubicBezTo>
                  <a:cubicBezTo>
                    <a:pt x="1937" y="136"/>
                    <a:pt x="1939" y="181"/>
                    <a:pt x="1944" y="171"/>
                  </a:cubicBezTo>
                  <a:cubicBezTo>
                    <a:pt x="1949" y="161"/>
                    <a:pt x="1959" y="106"/>
                    <a:pt x="1964" y="79"/>
                  </a:cubicBezTo>
                  <a:cubicBezTo>
                    <a:pt x="1969" y="52"/>
                    <a:pt x="1969" y="0"/>
                    <a:pt x="1972" y="7"/>
                  </a:cubicBezTo>
                  <a:cubicBezTo>
                    <a:pt x="1975" y="14"/>
                    <a:pt x="1979" y="87"/>
                    <a:pt x="1984" y="119"/>
                  </a:cubicBezTo>
                  <a:cubicBezTo>
                    <a:pt x="1989" y="151"/>
                    <a:pt x="1992" y="184"/>
                    <a:pt x="2000" y="199"/>
                  </a:cubicBezTo>
                  <a:cubicBezTo>
                    <a:pt x="2008" y="214"/>
                    <a:pt x="2023" y="217"/>
                    <a:pt x="2032" y="211"/>
                  </a:cubicBezTo>
                  <a:cubicBezTo>
                    <a:pt x="2041" y="205"/>
                    <a:pt x="2047" y="157"/>
                    <a:pt x="2052" y="163"/>
                  </a:cubicBezTo>
                  <a:cubicBezTo>
                    <a:pt x="2057" y="169"/>
                    <a:pt x="2059" y="246"/>
                    <a:pt x="2064" y="247"/>
                  </a:cubicBezTo>
                  <a:cubicBezTo>
                    <a:pt x="2069" y="248"/>
                    <a:pt x="2071" y="167"/>
                    <a:pt x="2080" y="167"/>
                  </a:cubicBezTo>
                  <a:cubicBezTo>
                    <a:pt x="2089" y="167"/>
                    <a:pt x="2112" y="244"/>
                    <a:pt x="2120" y="247"/>
                  </a:cubicBezTo>
                  <a:cubicBezTo>
                    <a:pt x="2128" y="250"/>
                    <a:pt x="2122" y="184"/>
                    <a:pt x="2128" y="183"/>
                  </a:cubicBezTo>
                  <a:cubicBezTo>
                    <a:pt x="2134" y="182"/>
                    <a:pt x="2147" y="245"/>
                    <a:pt x="2156" y="243"/>
                  </a:cubicBezTo>
                  <a:cubicBezTo>
                    <a:pt x="2165" y="241"/>
                    <a:pt x="2177" y="173"/>
                    <a:pt x="2184" y="171"/>
                  </a:cubicBezTo>
                  <a:cubicBezTo>
                    <a:pt x="2191" y="169"/>
                    <a:pt x="2191" y="236"/>
                    <a:pt x="2196" y="231"/>
                  </a:cubicBezTo>
                  <a:cubicBezTo>
                    <a:pt x="2201" y="226"/>
                    <a:pt x="2209" y="144"/>
                    <a:pt x="2216" y="139"/>
                  </a:cubicBezTo>
                  <a:cubicBezTo>
                    <a:pt x="2223" y="134"/>
                    <a:pt x="2234" y="182"/>
                    <a:pt x="2240" y="203"/>
                  </a:cubicBezTo>
                  <a:cubicBezTo>
                    <a:pt x="2246" y="224"/>
                    <a:pt x="2246" y="264"/>
                    <a:pt x="2252" y="267"/>
                  </a:cubicBezTo>
                  <a:cubicBezTo>
                    <a:pt x="2258" y="270"/>
                    <a:pt x="2268" y="222"/>
                    <a:pt x="2276" y="219"/>
                  </a:cubicBezTo>
                  <a:cubicBezTo>
                    <a:pt x="2284" y="216"/>
                    <a:pt x="2294" y="252"/>
                    <a:pt x="2300" y="251"/>
                  </a:cubicBezTo>
                  <a:cubicBezTo>
                    <a:pt x="2306" y="250"/>
                    <a:pt x="2307" y="213"/>
                    <a:pt x="2312" y="215"/>
                  </a:cubicBezTo>
                  <a:cubicBezTo>
                    <a:pt x="2317" y="217"/>
                    <a:pt x="2323" y="262"/>
                    <a:pt x="2332" y="263"/>
                  </a:cubicBezTo>
                  <a:cubicBezTo>
                    <a:pt x="2341" y="264"/>
                    <a:pt x="2352" y="226"/>
                    <a:pt x="2364" y="219"/>
                  </a:cubicBezTo>
                  <a:cubicBezTo>
                    <a:pt x="2376" y="212"/>
                    <a:pt x="2395" y="214"/>
                    <a:pt x="2404" y="223"/>
                  </a:cubicBezTo>
                  <a:cubicBezTo>
                    <a:pt x="2413" y="232"/>
                    <a:pt x="2409" y="266"/>
                    <a:pt x="2416" y="271"/>
                  </a:cubicBezTo>
                  <a:cubicBezTo>
                    <a:pt x="2423" y="276"/>
                    <a:pt x="2441" y="262"/>
                    <a:pt x="2448" y="255"/>
                  </a:cubicBezTo>
                  <a:cubicBezTo>
                    <a:pt x="2455" y="248"/>
                    <a:pt x="2451" y="225"/>
                    <a:pt x="2456" y="227"/>
                  </a:cubicBezTo>
                  <a:cubicBezTo>
                    <a:pt x="2461" y="229"/>
                    <a:pt x="2469" y="262"/>
                    <a:pt x="2480" y="267"/>
                  </a:cubicBezTo>
                  <a:cubicBezTo>
                    <a:pt x="2491" y="272"/>
                    <a:pt x="2516" y="262"/>
                    <a:pt x="2524" y="255"/>
                  </a:cubicBezTo>
                  <a:cubicBezTo>
                    <a:pt x="2532" y="248"/>
                    <a:pt x="2524" y="222"/>
                    <a:pt x="2528" y="223"/>
                  </a:cubicBezTo>
                  <a:cubicBezTo>
                    <a:pt x="2532" y="224"/>
                    <a:pt x="2539" y="256"/>
                    <a:pt x="2548" y="263"/>
                  </a:cubicBezTo>
                  <a:cubicBezTo>
                    <a:pt x="2557" y="270"/>
                    <a:pt x="2573" y="268"/>
                    <a:pt x="2580" y="263"/>
                  </a:cubicBezTo>
                  <a:cubicBezTo>
                    <a:pt x="2587" y="258"/>
                    <a:pt x="2595" y="240"/>
                    <a:pt x="2592" y="235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75160" y="576576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t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1512720" y="3189240"/>
            <a:ext cx="6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Comic Sans MS"/>
              </a:rPr>
              <a:t>F</a:t>
            </a:r>
            <a:r>
              <a:rPr b="0" lang="it-IT" sz="1400" spc="-1" strike="noStrike" baseline="-25000">
                <a:solidFill>
                  <a:srgbClr val="003399"/>
                </a:solidFill>
                <a:latin typeface="Comic Sans MS"/>
              </a:rPr>
              <a:t>max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471760" y="4116240"/>
            <a:ext cx="6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Comic Sans MS"/>
              </a:rPr>
              <a:t>F</a:t>
            </a:r>
            <a:r>
              <a:rPr b="0" lang="it-IT" sz="1400" spc="-1" strike="noStrike" baseline="-25000">
                <a:solidFill>
                  <a:srgbClr val="003399"/>
                </a:solidFill>
                <a:latin typeface="Comic Sans MS"/>
              </a:rPr>
              <a:t>max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608280" y="4986360"/>
            <a:ext cx="6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Comic Sans MS"/>
              </a:rPr>
              <a:t>F</a:t>
            </a:r>
            <a:r>
              <a:rPr b="0" lang="it-IT" sz="1400" spc="-1" strike="noStrike" baseline="-25000">
                <a:solidFill>
                  <a:srgbClr val="003399"/>
                </a:solidFill>
                <a:latin typeface="Comic Sans MS"/>
              </a:rPr>
              <a:t>max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35120" y="2862360"/>
            <a:ext cx="4128840" cy="0"/>
          </a:xfrm>
          <a:prstGeom prst="line">
            <a:avLst/>
          </a:prstGeom>
          <a:ln w="936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35120" y="3738600"/>
            <a:ext cx="4128840" cy="0"/>
          </a:xfrm>
          <a:prstGeom prst="line">
            <a:avLst/>
          </a:prstGeom>
          <a:ln w="936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35120" y="4638600"/>
            <a:ext cx="4128840" cy="0"/>
          </a:xfrm>
          <a:prstGeom prst="line">
            <a:avLst/>
          </a:prstGeom>
          <a:ln w="936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35120" y="5538960"/>
            <a:ext cx="4128840" cy="0"/>
          </a:xfrm>
          <a:prstGeom prst="line">
            <a:avLst/>
          </a:prstGeom>
          <a:ln w="936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35120" y="3008160"/>
            <a:ext cx="41288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35120" y="3884760"/>
            <a:ext cx="41288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35120" y="4784760"/>
            <a:ext cx="41288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35120" y="5684760"/>
            <a:ext cx="41288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865760" y="2712960"/>
                <a:ext cx="3556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3" name=""/>
          <p:cNvSpPr/>
          <p:nvPr/>
        </p:nvSpPr>
        <p:spPr>
          <a:xfrm>
            <a:off x="6107040" y="52974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485640" indent="-4856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0.3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. var. per abitazion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107040" y="5613480"/>
            <a:ext cx="28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er vent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5384880" y="5278320"/>
                <a:ext cx="681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6" name=""/>
          <p:cNvSpPr/>
          <p:nvPr/>
        </p:nvSpPr>
        <p:spPr>
          <a:xfrm>
            <a:off x="5859360" y="4802040"/>
            <a:ext cx="28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pende dal tipo di caric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5373720" y="4762440"/>
                <a:ext cx="401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Verifica SLE</a:t>
            </a:r>
            <a:br>
              <a:rPr sz="2800"/>
            </a:b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per le verifiche geotecniche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Quali combinazioni di carico usare?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Non mi risultano particolari indicazioni di normativa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La logica suggerisce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per terreni a grana grossa, per i quali i cedimenti avvengono in breve tempo:</a:t>
            </a:r>
            <a:br>
              <a:rPr sz="2000"/>
            </a:br>
            <a:r>
              <a:rPr b="0" lang="en-US" sz="2000" spc="-1" strike="noStrike">
                <a:solidFill>
                  <a:srgbClr val="0099ff"/>
                </a:solidFill>
                <a:latin typeface="Comic Sans MS"/>
              </a:rPr>
              <a:t>usare i valori frequenti del carico variabile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per terreni a grana fine, per i quali i cedimenti avvengono solo dopo parecchio tempo:</a:t>
            </a:r>
            <a:br>
              <a:rPr sz="2000"/>
            </a:br>
            <a:r>
              <a:rPr b="0" lang="en-US" sz="2000" spc="-1" strike="noStrike">
                <a:solidFill>
                  <a:srgbClr val="0099ff"/>
                </a:solidFill>
                <a:latin typeface="Comic Sans MS"/>
              </a:rPr>
              <a:t>usare i valori quasi permanenti del carico variabile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arico massimo per il terreno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carico massimo del terreno - terminologia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Q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Comic Sans MS"/>
              </a:rPr>
              <a:t>lim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carico limit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valore del carico che porta a collasso il terreno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90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determinato nel passato a partire dai valori nominali dei parametri del terreno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90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determinato ora utilizzando anche i coefficienti parziali riduttivi dei parametri del terreno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901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Q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Comic Sans MS"/>
              </a:rPr>
              <a:t>amm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carico ammissibil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valore ridotto utilizzato quando i carichi sono valutati per il metodo delle tensioni ammissibili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901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Q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Comic Sans MS"/>
              </a:rPr>
              <a:t>Rd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valore di calcolo del carico (resistente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valore utilizzato operando oggi allo SLU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Incertezze 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e approcci per la sicurezz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modalità di collasso del terreno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138360" y="2400120"/>
            <a:ext cx="2389320" cy="116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Rottura general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55" name="Segnaposto contenuto 2"/>
          <p:cNvSpPr/>
          <p:nvPr/>
        </p:nvSpPr>
        <p:spPr>
          <a:xfrm>
            <a:off x="6138720" y="4686480"/>
            <a:ext cx="238932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unzonament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56" name="Picture 3" descr=""/>
          <p:cNvPicPr/>
          <p:nvPr/>
        </p:nvPicPr>
        <p:blipFill>
          <a:blip r:embed="rId1"/>
          <a:stretch/>
        </p:blipFill>
        <p:spPr>
          <a:xfrm>
            <a:off x="387360" y="1838160"/>
            <a:ext cx="5486400" cy="19749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" descr=""/>
          <p:cNvPicPr/>
          <p:nvPr/>
        </p:nvPicPr>
        <p:blipFill>
          <a:blip r:embed="rId2"/>
          <a:stretch/>
        </p:blipFill>
        <p:spPr>
          <a:xfrm>
            <a:off x="384120" y="4051440"/>
            <a:ext cx="54928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carico limite del terreno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Viene calcolato teoricamente per una fondazione a striscia di lunghezza infinita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in questo modo il problema diventa piano anziché 3D</a:t>
            </a:r>
            <a:endParaRPr b="0" lang="en-US" sz="2200" spc="-1" strike="noStrike">
              <a:solidFill>
                <a:srgbClr val="003399"/>
              </a:solidFill>
              <a:latin typeface="Comic Sans MS"/>
            </a:endParaRPr>
          </a:p>
          <a:p>
            <a:pPr marL="339480" indent="-339480">
              <a:spcBef>
                <a:spcPts val="15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Le soluzioni sono diverse a seconda che si operi in condizioni drenate o non drenat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39480" indent="-339480">
              <a:spcBef>
                <a:spcPts val="15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Le soluzioni vengono estese con coefficienti correttivi per tener conto di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Forma diversa dalla striscia infinita (rettangolo)</a:t>
            </a:r>
            <a:endParaRPr b="0" lang="en-US" sz="2200" spc="-1" strike="noStrike">
              <a:solidFill>
                <a:srgbClr val="003399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Carico non centrato</a:t>
            </a:r>
            <a:endParaRPr b="0" lang="en-US" sz="2200" spc="-1" strike="noStrike">
              <a:solidFill>
                <a:srgbClr val="003399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Presenza di azioni orizzontali</a:t>
            </a:r>
            <a:endParaRPr b="0" lang="en-US" sz="2200" spc="-1" strike="noStrike">
              <a:solidFill>
                <a:srgbClr val="003399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Altro (rischio di punzonamento, inclinazione del piano di posa, ecc.)</a:t>
            </a:r>
            <a:endParaRPr b="0" lang="en-US" sz="2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ato tensionale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0920" y="1582560"/>
            <a:ext cx="791676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Striscia di larghezza B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1332000" y="2255760"/>
            <a:ext cx="5202000" cy="419760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3970440" y="5337000"/>
            <a:ext cx="971280" cy="5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Tensioni verticali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38440" y="5337000"/>
            <a:ext cx="1258920" cy="5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Tensioni orizzontali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588000" y="3429000"/>
            <a:ext cx="2376720" cy="23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Comic Sans MS"/>
              </a:rPr>
              <a:t>Nella valutazione del carico limite </a:t>
            </a:r>
            <a:br>
              <a:rPr sz="1800"/>
            </a:br>
            <a:r>
              <a:rPr b="0" lang="en-US" sz="1800" spc="-1" strike="noStrike">
                <a:solidFill>
                  <a:srgbClr val="0099ff"/>
                </a:solidFill>
                <a:latin typeface="Comic Sans MS"/>
              </a:rPr>
              <a:t>si può fare riferimento alle proprietà del terreno prossime ad una profondità B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619280" y="3933720"/>
            <a:ext cx="4897440" cy="0"/>
          </a:xfrm>
          <a:prstGeom prst="line">
            <a:avLst/>
          </a:prstGeom>
          <a:ln w="19080">
            <a:solidFill>
              <a:srgbClr val="0099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carico limite del terreno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568" name="Picture 3" descr=""/>
          <p:cNvPicPr/>
          <p:nvPr/>
        </p:nvPicPr>
        <p:blipFill>
          <a:blip r:embed="rId1"/>
          <a:stretch/>
        </p:blipFill>
        <p:spPr>
          <a:xfrm>
            <a:off x="387360" y="1838160"/>
            <a:ext cx="5486400" cy="1974960"/>
          </a:xfrm>
          <a:prstGeom prst="rect">
            <a:avLst/>
          </a:prstGeom>
          <a:ln w="0">
            <a:noFill/>
          </a:ln>
        </p:spPr>
      </p:pic>
      <p:sp>
        <p:nvSpPr>
          <p:cNvPr id="569" name="Segnaposto contenuto 2"/>
          <p:cNvSpPr/>
          <p:nvPr/>
        </p:nvSpPr>
        <p:spPr>
          <a:xfrm>
            <a:off x="6138720" y="2400480"/>
            <a:ext cx="238932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Rottura general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10920" y="4221000"/>
            <a:ext cx="7916760" cy="18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La rottura avviene per scorriment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er un mezzo in condizioni non drenate dotato di coesione c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(e privo di peso) è nota la soluzion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Object 7"/>
              <p:cNvSpPr txBox="1"/>
              <p:nvPr/>
            </p:nvSpPr>
            <p:spPr>
              <a:xfrm>
                <a:off x="1979640" y="5549760"/>
                <a:ext cx="19591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2" name="Segnaposto contenuto 2"/>
          <p:cNvSpPr/>
          <p:nvPr/>
        </p:nvSpPr>
        <p:spPr>
          <a:xfrm>
            <a:off x="6138720" y="3470400"/>
            <a:ext cx="26942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Per striscia continua di larghezza B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3" name="Segnaposto contenuto 2"/>
          <p:cNvSpPr/>
          <p:nvPr/>
        </p:nvSpPr>
        <p:spPr>
          <a:xfrm>
            <a:off x="6138720" y="1440000"/>
            <a:ext cx="284652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condizioni non drenate (terreni a grana fine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4" name="Segnaposto contenuto 2"/>
          <p:cNvSpPr/>
          <p:nvPr/>
        </p:nvSpPr>
        <p:spPr>
          <a:xfrm>
            <a:off x="6138720" y="5962680"/>
            <a:ext cx="277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70c0"/>
                </a:solidFill>
                <a:latin typeface="Comic Sans MS"/>
              </a:rPr>
              <a:t>Nota: Q</a:t>
            </a:r>
            <a:r>
              <a:rPr b="0" lang="it-IT" sz="1600" spc="-1" strike="noStrike" baseline="-25000">
                <a:solidFill>
                  <a:srgbClr val="0070c0"/>
                </a:solidFill>
                <a:latin typeface="Comic Sans MS"/>
              </a:rPr>
              <a:t>lim</a:t>
            </a:r>
            <a:r>
              <a:rPr b="0" lang="it-IT" sz="1600" spc="-1" strike="noStrike">
                <a:solidFill>
                  <a:srgbClr val="0070c0"/>
                </a:solidFill>
                <a:latin typeface="Comic Sans MS"/>
              </a:rPr>
              <a:t> è il carico limite per unità di superficie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carico limite del terreno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576" name="Picture 3" descr=""/>
          <p:cNvPicPr/>
          <p:nvPr/>
        </p:nvPicPr>
        <p:blipFill>
          <a:blip r:embed="rId1"/>
          <a:stretch/>
        </p:blipFill>
        <p:spPr>
          <a:xfrm>
            <a:off x="387360" y="1838160"/>
            <a:ext cx="5486400" cy="1974960"/>
          </a:xfrm>
          <a:prstGeom prst="rect">
            <a:avLst/>
          </a:prstGeom>
          <a:ln w="0">
            <a:noFill/>
          </a:ln>
        </p:spPr>
      </p:pic>
      <p:sp>
        <p:nvSpPr>
          <p:cNvPr id="577" name="Segnaposto contenuto 2"/>
          <p:cNvSpPr/>
          <p:nvPr/>
        </p:nvSpPr>
        <p:spPr>
          <a:xfrm>
            <a:off x="6138720" y="2400480"/>
            <a:ext cx="238932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Rottura general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10920" y="4221000"/>
            <a:ext cx="7916760" cy="18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La rottura avviene per scorriment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La presenza di un carico q ha un effetto stabilizzante che aumenta il carico limit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7"/>
              <p:cNvSpPr txBox="1"/>
              <p:nvPr/>
            </p:nvSpPr>
            <p:spPr>
              <a:xfrm>
                <a:off x="1979640" y="5549760"/>
                <a:ext cx="23907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0" name="Group 3"/>
          <p:cNvGrpSpPr/>
          <p:nvPr/>
        </p:nvGrpSpPr>
        <p:grpSpPr>
          <a:xfrm>
            <a:off x="1065240" y="2382840"/>
            <a:ext cx="1665360" cy="146160"/>
            <a:chOff x="1065240" y="2382840"/>
            <a:chExt cx="1665360" cy="146160"/>
          </a:xfrm>
        </p:grpSpPr>
        <p:sp>
          <p:nvSpPr>
            <p:cNvPr id="581" name="Line 4"/>
            <p:cNvSpPr/>
            <p:nvPr/>
          </p:nvSpPr>
          <p:spPr>
            <a:xfrm>
              <a:off x="113760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82" name="Rectangle 5"/>
            <p:cNvSpPr/>
            <p:nvPr/>
          </p:nvSpPr>
          <p:spPr>
            <a:xfrm>
              <a:off x="1065240" y="2382840"/>
              <a:ext cx="1665360" cy="146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83" name="Line 6"/>
            <p:cNvSpPr/>
            <p:nvPr/>
          </p:nvSpPr>
          <p:spPr>
            <a:xfrm>
              <a:off x="124596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84" name="Line 7"/>
            <p:cNvSpPr/>
            <p:nvPr/>
          </p:nvSpPr>
          <p:spPr>
            <a:xfrm>
              <a:off x="135468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85" name="Line 8"/>
            <p:cNvSpPr/>
            <p:nvPr/>
          </p:nvSpPr>
          <p:spPr>
            <a:xfrm>
              <a:off x="146340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86" name="Line 9"/>
            <p:cNvSpPr/>
            <p:nvPr/>
          </p:nvSpPr>
          <p:spPr>
            <a:xfrm>
              <a:off x="157212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87" name="Line 10"/>
            <p:cNvSpPr/>
            <p:nvPr/>
          </p:nvSpPr>
          <p:spPr>
            <a:xfrm>
              <a:off x="168048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88" name="Line 11"/>
            <p:cNvSpPr/>
            <p:nvPr/>
          </p:nvSpPr>
          <p:spPr>
            <a:xfrm>
              <a:off x="178920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89" name="Line 12"/>
            <p:cNvSpPr/>
            <p:nvPr/>
          </p:nvSpPr>
          <p:spPr>
            <a:xfrm>
              <a:off x="189792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90" name="Line 13"/>
            <p:cNvSpPr/>
            <p:nvPr/>
          </p:nvSpPr>
          <p:spPr>
            <a:xfrm>
              <a:off x="2006640" y="2382840"/>
              <a:ext cx="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91" name="Line 14"/>
            <p:cNvSpPr/>
            <p:nvPr/>
          </p:nvSpPr>
          <p:spPr>
            <a:xfrm>
              <a:off x="2115000" y="2382840"/>
              <a:ext cx="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92" name="Line 15"/>
            <p:cNvSpPr/>
            <p:nvPr/>
          </p:nvSpPr>
          <p:spPr>
            <a:xfrm>
              <a:off x="2223720" y="2382840"/>
              <a:ext cx="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93" name="Line 16"/>
            <p:cNvSpPr/>
            <p:nvPr/>
          </p:nvSpPr>
          <p:spPr>
            <a:xfrm>
              <a:off x="2332440" y="2382840"/>
              <a:ext cx="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94" name="Line 17"/>
            <p:cNvSpPr/>
            <p:nvPr/>
          </p:nvSpPr>
          <p:spPr>
            <a:xfrm>
              <a:off x="2440800" y="2382840"/>
              <a:ext cx="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95" name="Line 18"/>
            <p:cNvSpPr/>
            <p:nvPr/>
          </p:nvSpPr>
          <p:spPr>
            <a:xfrm>
              <a:off x="2549520" y="2382840"/>
              <a:ext cx="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96" name="Line 19"/>
            <p:cNvSpPr/>
            <p:nvPr/>
          </p:nvSpPr>
          <p:spPr>
            <a:xfrm>
              <a:off x="2658240" y="2382840"/>
              <a:ext cx="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597" name="Group 3"/>
          <p:cNvGrpSpPr/>
          <p:nvPr/>
        </p:nvGrpSpPr>
        <p:grpSpPr>
          <a:xfrm>
            <a:off x="3448080" y="2382840"/>
            <a:ext cx="1665360" cy="146160"/>
            <a:chOff x="3448080" y="2382840"/>
            <a:chExt cx="1665360" cy="146160"/>
          </a:xfrm>
        </p:grpSpPr>
        <p:sp>
          <p:nvSpPr>
            <p:cNvPr id="598" name="Line 4"/>
            <p:cNvSpPr/>
            <p:nvPr/>
          </p:nvSpPr>
          <p:spPr>
            <a:xfrm>
              <a:off x="352044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99" name="Rectangle 5"/>
            <p:cNvSpPr/>
            <p:nvPr/>
          </p:nvSpPr>
          <p:spPr>
            <a:xfrm>
              <a:off x="3448080" y="2382840"/>
              <a:ext cx="1665360" cy="146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00" name="Line 6"/>
            <p:cNvSpPr/>
            <p:nvPr/>
          </p:nvSpPr>
          <p:spPr>
            <a:xfrm>
              <a:off x="362880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01" name="Line 7"/>
            <p:cNvSpPr/>
            <p:nvPr/>
          </p:nvSpPr>
          <p:spPr>
            <a:xfrm>
              <a:off x="373752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02" name="Line 8"/>
            <p:cNvSpPr/>
            <p:nvPr/>
          </p:nvSpPr>
          <p:spPr>
            <a:xfrm>
              <a:off x="384624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03" name="Line 9"/>
            <p:cNvSpPr/>
            <p:nvPr/>
          </p:nvSpPr>
          <p:spPr>
            <a:xfrm>
              <a:off x="395496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04" name="Line 10"/>
            <p:cNvSpPr/>
            <p:nvPr/>
          </p:nvSpPr>
          <p:spPr>
            <a:xfrm>
              <a:off x="406332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05" name="Line 11"/>
            <p:cNvSpPr/>
            <p:nvPr/>
          </p:nvSpPr>
          <p:spPr>
            <a:xfrm>
              <a:off x="417204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06" name="Line 12"/>
            <p:cNvSpPr/>
            <p:nvPr/>
          </p:nvSpPr>
          <p:spPr>
            <a:xfrm>
              <a:off x="428076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07" name="Line 13"/>
            <p:cNvSpPr/>
            <p:nvPr/>
          </p:nvSpPr>
          <p:spPr>
            <a:xfrm>
              <a:off x="4389480" y="2382840"/>
              <a:ext cx="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08" name="Line 14"/>
            <p:cNvSpPr/>
            <p:nvPr/>
          </p:nvSpPr>
          <p:spPr>
            <a:xfrm>
              <a:off x="4497840" y="2382840"/>
              <a:ext cx="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09" name="Line 15"/>
            <p:cNvSpPr/>
            <p:nvPr/>
          </p:nvSpPr>
          <p:spPr>
            <a:xfrm>
              <a:off x="4606560" y="2382840"/>
              <a:ext cx="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0" name="Line 16"/>
            <p:cNvSpPr/>
            <p:nvPr/>
          </p:nvSpPr>
          <p:spPr>
            <a:xfrm>
              <a:off x="4715280" y="2382840"/>
              <a:ext cx="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1" name="Line 17"/>
            <p:cNvSpPr/>
            <p:nvPr/>
          </p:nvSpPr>
          <p:spPr>
            <a:xfrm>
              <a:off x="4823640" y="2382840"/>
              <a:ext cx="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2" name="Line 18"/>
            <p:cNvSpPr/>
            <p:nvPr/>
          </p:nvSpPr>
          <p:spPr>
            <a:xfrm>
              <a:off x="4932360" y="2382840"/>
              <a:ext cx="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3" name="Line 19"/>
            <p:cNvSpPr/>
            <p:nvPr/>
          </p:nvSpPr>
          <p:spPr>
            <a:xfrm>
              <a:off x="5041080" y="2382840"/>
              <a:ext cx="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614" name="Text Box 21"/>
          <p:cNvSpPr/>
          <p:nvPr/>
        </p:nvSpPr>
        <p:spPr>
          <a:xfrm>
            <a:off x="771480" y="2265480"/>
            <a:ext cx="254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99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5" name="Segnaposto contenuto 2"/>
          <p:cNvSpPr/>
          <p:nvPr/>
        </p:nvSpPr>
        <p:spPr>
          <a:xfrm>
            <a:off x="6138720" y="3470400"/>
            <a:ext cx="26942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Per striscia continua di larghezza B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carico limite del terreno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617" name="Picture 3" descr=""/>
          <p:cNvPicPr/>
          <p:nvPr/>
        </p:nvPicPr>
        <p:blipFill>
          <a:blip r:embed="rId1"/>
          <a:stretch/>
        </p:blipFill>
        <p:spPr>
          <a:xfrm>
            <a:off x="387360" y="1838160"/>
            <a:ext cx="5486400" cy="1974960"/>
          </a:xfrm>
          <a:prstGeom prst="rect">
            <a:avLst/>
          </a:prstGeom>
          <a:ln w="0">
            <a:noFill/>
          </a:ln>
        </p:spPr>
      </p:pic>
      <p:sp>
        <p:nvSpPr>
          <p:cNvPr id="618" name="Segnaposto contenuto 2"/>
          <p:cNvSpPr/>
          <p:nvPr/>
        </p:nvSpPr>
        <p:spPr>
          <a:xfrm>
            <a:off x="6138720" y="2400480"/>
            <a:ext cx="238932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Rottura general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10920" y="4221000"/>
            <a:ext cx="7916760" cy="18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La rottura avviene per scorriment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er un mezzo in condizioni drenate dotato di coesione c’ si assum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Object 7"/>
              <p:cNvSpPr txBox="1"/>
              <p:nvPr/>
            </p:nvSpPr>
            <p:spPr>
              <a:xfrm>
                <a:off x="1979640" y="5549760"/>
                <a:ext cx="1449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1" name="Segnaposto contenuto 2"/>
          <p:cNvSpPr/>
          <p:nvPr/>
        </p:nvSpPr>
        <p:spPr>
          <a:xfrm>
            <a:off x="6138720" y="3470400"/>
            <a:ext cx="26942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Per striscia continua di larghezza B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2" name="Segnaposto contenuto 2"/>
          <p:cNvSpPr/>
          <p:nvPr/>
        </p:nvSpPr>
        <p:spPr>
          <a:xfrm>
            <a:off x="6138720" y="1440000"/>
            <a:ext cx="30052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condizioni drenate (terreni a grana grossa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carico limite del terreno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624" name="Picture 3" descr=""/>
          <p:cNvPicPr/>
          <p:nvPr/>
        </p:nvPicPr>
        <p:blipFill>
          <a:blip r:embed="rId1"/>
          <a:stretch/>
        </p:blipFill>
        <p:spPr>
          <a:xfrm>
            <a:off x="387360" y="1838160"/>
            <a:ext cx="5486400" cy="1974960"/>
          </a:xfrm>
          <a:prstGeom prst="rect">
            <a:avLst/>
          </a:prstGeom>
          <a:ln w="0">
            <a:noFill/>
          </a:ln>
        </p:spPr>
      </p:pic>
      <p:sp>
        <p:nvSpPr>
          <p:cNvPr id="625" name="Segnaposto contenuto 2"/>
          <p:cNvSpPr/>
          <p:nvPr/>
        </p:nvSpPr>
        <p:spPr>
          <a:xfrm>
            <a:off x="6138720" y="2400480"/>
            <a:ext cx="238932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Rottura general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10920" y="4221000"/>
            <a:ext cx="7916760" cy="18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La rottura avviene per scorriment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l peso del terreno che viene messo in movimento dà un ulteriore contributo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7"/>
              <p:cNvSpPr txBox="1"/>
              <p:nvPr/>
            </p:nvSpPr>
            <p:spPr>
              <a:xfrm>
                <a:off x="1979640" y="5551560"/>
                <a:ext cx="30258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8" name="Segnaposto contenuto 2"/>
          <p:cNvSpPr/>
          <p:nvPr/>
        </p:nvSpPr>
        <p:spPr>
          <a:xfrm>
            <a:off x="6138720" y="3470400"/>
            <a:ext cx="26942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Per striscia continua di larghezza B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carico limite del terreno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630" name="Picture 3" descr=""/>
          <p:cNvPicPr/>
          <p:nvPr/>
        </p:nvPicPr>
        <p:blipFill>
          <a:blip r:embed="rId1"/>
          <a:stretch/>
        </p:blipFill>
        <p:spPr>
          <a:xfrm>
            <a:off x="387360" y="1838160"/>
            <a:ext cx="5486400" cy="1974960"/>
          </a:xfrm>
          <a:prstGeom prst="rect">
            <a:avLst/>
          </a:prstGeom>
          <a:ln w="0">
            <a:noFill/>
          </a:ln>
        </p:spPr>
      </p:pic>
      <p:sp>
        <p:nvSpPr>
          <p:cNvPr id="631" name="Segnaposto contenuto 2"/>
          <p:cNvSpPr/>
          <p:nvPr/>
        </p:nvSpPr>
        <p:spPr>
          <a:xfrm>
            <a:off x="6138720" y="2400480"/>
            <a:ext cx="238932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Rottura general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610920" y="4221000"/>
            <a:ext cx="7916760" cy="18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La rottura avviene per scorriment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La presenza di un carico q ha un effetto stabilizzante che aumenta il carico limit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633" name="Group 3"/>
          <p:cNvGrpSpPr/>
          <p:nvPr/>
        </p:nvGrpSpPr>
        <p:grpSpPr>
          <a:xfrm>
            <a:off x="1065240" y="2382840"/>
            <a:ext cx="1665360" cy="146160"/>
            <a:chOff x="1065240" y="2382840"/>
            <a:chExt cx="1665360" cy="146160"/>
          </a:xfrm>
        </p:grpSpPr>
        <p:sp>
          <p:nvSpPr>
            <p:cNvPr id="634" name="Line 4"/>
            <p:cNvSpPr/>
            <p:nvPr/>
          </p:nvSpPr>
          <p:spPr>
            <a:xfrm>
              <a:off x="113760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35" name="Rectangle 5"/>
            <p:cNvSpPr/>
            <p:nvPr/>
          </p:nvSpPr>
          <p:spPr>
            <a:xfrm>
              <a:off x="1065240" y="2382840"/>
              <a:ext cx="1665360" cy="146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36" name="Line 6"/>
            <p:cNvSpPr/>
            <p:nvPr/>
          </p:nvSpPr>
          <p:spPr>
            <a:xfrm>
              <a:off x="124596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37" name="Line 7"/>
            <p:cNvSpPr/>
            <p:nvPr/>
          </p:nvSpPr>
          <p:spPr>
            <a:xfrm>
              <a:off x="135468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38" name="Line 8"/>
            <p:cNvSpPr/>
            <p:nvPr/>
          </p:nvSpPr>
          <p:spPr>
            <a:xfrm>
              <a:off x="146340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39" name="Line 9"/>
            <p:cNvSpPr/>
            <p:nvPr/>
          </p:nvSpPr>
          <p:spPr>
            <a:xfrm>
              <a:off x="157212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40" name="Line 10"/>
            <p:cNvSpPr/>
            <p:nvPr/>
          </p:nvSpPr>
          <p:spPr>
            <a:xfrm>
              <a:off x="168048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41" name="Line 11"/>
            <p:cNvSpPr/>
            <p:nvPr/>
          </p:nvSpPr>
          <p:spPr>
            <a:xfrm>
              <a:off x="178920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42" name="Line 12"/>
            <p:cNvSpPr/>
            <p:nvPr/>
          </p:nvSpPr>
          <p:spPr>
            <a:xfrm>
              <a:off x="189792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43" name="Line 13"/>
            <p:cNvSpPr/>
            <p:nvPr/>
          </p:nvSpPr>
          <p:spPr>
            <a:xfrm>
              <a:off x="2006640" y="2382840"/>
              <a:ext cx="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44" name="Line 14"/>
            <p:cNvSpPr/>
            <p:nvPr/>
          </p:nvSpPr>
          <p:spPr>
            <a:xfrm>
              <a:off x="2115000" y="2382840"/>
              <a:ext cx="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45" name="Line 15"/>
            <p:cNvSpPr/>
            <p:nvPr/>
          </p:nvSpPr>
          <p:spPr>
            <a:xfrm>
              <a:off x="2223720" y="2382840"/>
              <a:ext cx="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46" name="Line 16"/>
            <p:cNvSpPr/>
            <p:nvPr/>
          </p:nvSpPr>
          <p:spPr>
            <a:xfrm>
              <a:off x="2332440" y="2382840"/>
              <a:ext cx="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47" name="Line 17"/>
            <p:cNvSpPr/>
            <p:nvPr/>
          </p:nvSpPr>
          <p:spPr>
            <a:xfrm>
              <a:off x="2440800" y="2382840"/>
              <a:ext cx="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48" name="Line 18"/>
            <p:cNvSpPr/>
            <p:nvPr/>
          </p:nvSpPr>
          <p:spPr>
            <a:xfrm>
              <a:off x="2549520" y="2382840"/>
              <a:ext cx="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49" name="Line 19"/>
            <p:cNvSpPr/>
            <p:nvPr/>
          </p:nvSpPr>
          <p:spPr>
            <a:xfrm>
              <a:off x="2658240" y="2382840"/>
              <a:ext cx="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650" name="Group 3"/>
          <p:cNvGrpSpPr/>
          <p:nvPr/>
        </p:nvGrpSpPr>
        <p:grpSpPr>
          <a:xfrm>
            <a:off x="3448080" y="2382840"/>
            <a:ext cx="1665360" cy="146160"/>
            <a:chOff x="3448080" y="2382840"/>
            <a:chExt cx="1665360" cy="146160"/>
          </a:xfrm>
        </p:grpSpPr>
        <p:sp>
          <p:nvSpPr>
            <p:cNvPr id="651" name="Line 4"/>
            <p:cNvSpPr/>
            <p:nvPr/>
          </p:nvSpPr>
          <p:spPr>
            <a:xfrm>
              <a:off x="352044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2" name="Rectangle 5"/>
            <p:cNvSpPr/>
            <p:nvPr/>
          </p:nvSpPr>
          <p:spPr>
            <a:xfrm>
              <a:off x="3448080" y="2382840"/>
              <a:ext cx="1665360" cy="146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3" name="Line 6"/>
            <p:cNvSpPr/>
            <p:nvPr/>
          </p:nvSpPr>
          <p:spPr>
            <a:xfrm>
              <a:off x="362880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4" name="Line 7"/>
            <p:cNvSpPr/>
            <p:nvPr/>
          </p:nvSpPr>
          <p:spPr>
            <a:xfrm>
              <a:off x="373752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5" name="Line 8"/>
            <p:cNvSpPr/>
            <p:nvPr/>
          </p:nvSpPr>
          <p:spPr>
            <a:xfrm>
              <a:off x="384624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6" name="Line 9"/>
            <p:cNvSpPr/>
            <p:nvPr/>
          </p:nvSpPr>
          <p:spPr>
            <a:xfrm>
              <a:off x="395496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7" name="Line 10"/>
            <p:cNvSpPr/>
            <p:nvPr/>
          </p:nvSpPr>
          <p:spPr>
            <a:xfrm>
              <a:off x="406332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8" name="Line 11"/>
            <p:cNvSpPr/>
            <p:nvPr/>
          </p:nvSpPr>
          <p:spPr>
            <a:xfrm>
              <a:off x="417204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9" name="Line 12"/>
            <p:cNvSpPr/>
            <p:nvPr/>
          </p:nvSpPr>
          <p:spPr>
            <a:xfrm>
              <a:off x="4280760" y="2382840"/>
              <a:ext cx="36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60" name="Line 13"/>
            <p:cNvSpPr/>
            <p:nvPr/>
          </p:nvSpPr>
          <p:spPr>
            <a:xfrm>
              <a:off x="4389480" y="2382840"/>
              <a:ext cx="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61" name="Line 14"/>
            <p:cNvSpPr/>
            <p:nvPr/>
          </p:nvSpPr>
          <p:spPr>
            <a:xfrm>
              <a:off x="4497840" y="2382840"/>
              <a:ext cx="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62" name="Line 15"/>
            <p:cNvSpPr/>
            <p:nvPr/>
          </p:nvSpPr>
          <p:spPr>
            <a:xfrm>
              <a:off x="4606560" y="2382840"/>
              <a:ext cx="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63" name="Line 16"/>
            <p:cNvSpPr/>
            <p:nvPr/>
          </p:nvSpPr>
          <p:spPr>
            <a:xfrm>
              <a:off x="4715280" y="2382840"/>
              <a:ext cx="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64" name="Line 17"/>
            <p:cNvSpPr/>
            <p:nvPr/>
          </p:nvSpPr>
          <p:spPr>
            <a:xfrm>
              <a:off x="4823640" y="2382840"/>
              <a:ext cx="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65" name="Line 18"/>
            <p:cNvSpPr/>
            <p:nvPr/>
          </p:nvSpPr>
          <p:spPr>
            <a:xfrm>
              <a:off x="4932360" y="2382840"/>
              <a:ext cx="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66" name="Line 19"/>
            <p:cNvSpPr/>
            <p:nvPr/>
          </p:nvSpPr>
          <p:spPr>
            <a:xfrm>
              <a:off x="5041080" y="2382840"/>
              <a:ext cx="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667" name="Text Box 21"/>
          <p:cNvSpPr/>
          <p:nvPr/>
        </p:nvSpPr>
        <p:spPr>
          <a:xfrm>
            <a:off x="771480" y="2265480"/>
            <a:ext cx="254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99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Segnaposto contenuto 2"/>
          <p:cNvSpPr/>
          <p:nvPr/>
        </p:nvSpPr>
        <p:spPr>
          <a:xfrm>
            <a:off x="6138720" y="3470400"/>
            <a:ext cx="26942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Per striscia continua di larghezza B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7"/>
              <p:cNvSpPr txBox="1"/>
              <p:nvPr/>
            </p:nvSpPr>
            <p:spPr>
              <a:xfrm>
                <a:off x="1979640" y="5551560"/>
                <a:ext cx="38656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carico limite del terreno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1" name="Segnaposto contenuto 2"/>
          <p:cNvSpPr/>
          <p:nvPr/>
        </p:nvSpPr>
        <p:spPr>
          <a:xfrm>
            <a:off x="3998880" y="1836720"/>
            <a:ext cx="23893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Rottura genera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610920" y="3189240"/>
            <a:ext cx="7916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arico limite, in condizioni non drenat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673" name="Gruppo 42"/>
          <p:cNvGrpSpPr/>
          <p:nvPr/>
        </p:nvGrpSpPr>
        <p:grpSpPr>
          <a:xfrm>
            <a:off x="387360" y="1838160"/>
            <a:ext cx="3600360" cy="1051200"/>
            <a:chOff x="387360" y="1838160"/>
            <a:chExt cx="3600360" cy="1051200"/>
          </a:xfrm>
        </p:grpSpPr>
        <p:pic>
          <p:nvPicPr>
            <p:cNvPr id="674" name="Picture 3" descr=""/>
            <p:cNvPicPr/>
            <p:nvPr/>
          </p:nvPicPr>
          <p:blipFill>
            <a:blip r:embed="rId1"/>
            <a:stretch/>
          </p:blipFill>
          <p:spPr>
            <a:xfrm>
              <a:off x="387360" y="1838160"/>
              <a:ext cx="3600360" cy="1051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5" name="Group 3"/>
            <p:cNvGrpSpPr/>
            <p:nvPr/>
          </p:nvGrpSpPr>
          <p:grpSpPr>
            <a:xfrm>
              <a:off x="831960" y="2127960"/>
              <a:ext cx="1092600" cy="77760"/>
              <a:chOff x="831960" y="2127960"/>
              <a:chExt cx="1092600" cy="77760"/>
            </a:xfrm>
          </p:grpSpPr>
          <p:sp>
            <p:nvSpPr>
              <p:cNvPr id="676" name="Line 4"/>
              <p:cNvSpPr/>
              <p:nvPr/>
            </p:nvSpPr>
            <p:spPr>
              <a:xfrm>
                <a:off x="87948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77" name="Rectangle 5"/>
              <p:cNvSpPr/>
              <p:nvPr/>
            </p:nvSpPr>
            <p:spPr>
              <a:xfrm>
                <a:off x="831960" y="2127960"/>
                <a:ext cx="1092600" cy="777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78" name="Line 6"/>
              <p:cNvSpPr/>
              <p:nvPr/>
            </p:nvSpPr>
            <p:spPr>
              <a:xfrm>
                <a:off x="95076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79" name="Line 7"/>
              <p:cNvSpPr/>
              <p:nvPr/>
            </p:nvSpPr>
            <p:spPr>
              <a:xfrm>
                <a:off x="102204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80" name="Line 8"/>
              <p:cNvSpPr/>
              <p:nvPr/>
            </p:nvSpPr>
            <p:spPr>
              <a:xfrm>
                <a:off x="109296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81" name="Line 9"/>
              <p:cNvSpPr/>
              <p:nvPr/>
            </p:nvSpPr>
            <p:spPr>
              <a:xfrm>
                <a:off x="116424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82" name="Line 10"/>
              <p:cNvSpPr/>
              <p:nvPr/>
            </p:nvSpPr>
            <p:spPr>
              <a:xfrm>
                <a:off x="123552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83" name="Line 11"/>
              <p:cNvSpPr/>
              <p:nvPr/>
            </p:nvSpPr>
            <p:spPr>
              <a:xfrm>
                <a:off x="130680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84" name="Line 12"/>
              <p:cNvSpPr/>
              <p:nvPr/>
            </p:nvSpPr>
            <p:spPr>
              <a:xfrm>
                <a:off x="137808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85" name="Line 13"/>
              <p:cNvSpPr/>
              <p:nvPr/>
            </p:nvSpPr>
            <p:spPr>
              <a:xfrm>
                <a:off x="144936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86" name="Line 14"/>
              <p:cNvSpPr/>
              <p:nvPr/>
            </p:nvSpPr>
            <p:spPr>
              <a:xfrm>
                <a:off x="152064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87" name="Line 15"/>
              <p:cNvSpPr/>
              <p:nvPr/>
            </p:nvSpPr>
            <p:spPr>
              <a:xfrm>
                <a:off x="159192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88" name="Line 16"/>
              <p:cNvSpPr/>
              <p:nvPr/>
            </p:nvSpPr>
            <p:spPr>
              <a:xfrm>
                <a:off x="166320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89" name="Line 17"/>
              <p:cNvSpPr/>
              <p:nvPr/>
            </p:nvSpPr>
            <p:spPr>
              <a:xfrm>
                <a:off x="173448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90" name="Line 18"/>
              <p:cNvSpPr/>
              <p:nvPr/>
            </p:nvSpPr>
            <p:spPr>
              <a:xfrm>
                <a:off x="180576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91" name="Line 19"/>
              <p:cNvSpPr/>
              <p:nvPr/>
            </p:nvSpPr>
            <p:spPr>
              <a:xfrm>
                <a:off x="187704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692" name="Group 3"/>
            <p:cNvGrpSpPr/>
            <p:nvPr/>
          </p:nvGrpSpPr>
          <p:grpSpPr>
            <a:xfrm>
              <a:off x="2395800" y="2127960"/>
              <a:ext cx="1092600" cy="77760"/>
              <a:chOff x="2395800" y="2127960"/>
              <a:chExt cx="1092600" cy="77760"/>
            </a:xfrm>
          </p:grpSpPr>
          <p:sp>
            <p:nvSpPr>
              <p:cNvPr id="693" name="Line 4"/>
              <p:cNvSpPr/>
              <p:nvPr/>
            </p:nvSpPr>
            <p:spPr>
              <a:xfrm>
                <a:off x="244332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94" name="Rectangle 5"/>
              <p:cNvSpPr/>
              <p:nvPr/>
            </p:nvSpPr>
            <p:spPr>
              <a:xfrm>
                <a:off x="2395800" y="2127960"/>
                <a:ext cx="1092600" cy="777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95" name="Line 6"/>
              <p:cNvSpPr/>
              <p:nvPr/>
            </p:nvSpPr>
            <p:spPr>
              <a:xfrm>
                <a:off x="251460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96" name="Line 7"/>
              <p:cNvSpPr/>
              <p:nvPr/>
            </p:nvSpPr>
            <p:spPr>
              <a:xfrm>
                <a:off x="258588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97" name="Line 8"/>
              <p:cNvSpPr/>
              <p:nvPr/>
            </p:nvSpPr>
            <p:spPr>
              <a:xfrm>
                <a:off x="265680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98" name="Line 9"/>
              <p:cNvSpPr/>
              <p:nvPr/>
            </p:nvSpPr>
            <p:spPr>
              <a:xfrm>
                <a:off x="272808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99" name="Line 10"/>
              <p:cNvSpPr/>
              <p:nvPr/>
            </p:nvSpPr>
            <p:spPr>
              <a:xfrm>
                <a:off x="279936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00" name="Line 11"/>
              <p:cNvSpPr/>
              <p:nvPr/>
            </p:nvSpPr>
            <p:spPr>
              <a:xfrm>
                <a:off x="287064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01" name="Line 12"/>
              <p:cNvSpPr/>
              <p:nvPr/>
            </p:nvSpPr>
            <p:spPr>
              <a:xfrm>
                <a:off x="294192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02" name="Line 13"/>
              <p:cNvSpPr/>
              <p:nvPr/>
            </p:nvSpPr>
            <p:spPr>
              <a:xfrm>
                <a:off x="301320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03" name="Line 14"/>
              <p:cNvSpPr/>
              <p:nvPr/>
            </p:nvSpPr>
            <p:spPr>
              <a:xfrm>
                <a:off x="308448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04" name="Line 15"/>
              <p:cNvSpPr/>
              <p:nvPr/>
            </p:nvSpPr>
            <p:spPr>
              <a:xfrm>
                <a:off x="315576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05" name="Line 16"/>
              <p:cNvSpPr/>
              <p:nvPr/>
            </p:nvSpPr>
            <p:spPr>
              <a:xfrm>
                <a:off x="322704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06" name="Line 17"/>
              <p:cNvSpPr/>
              <p:nvPr/>
            </p:nvSpPr>
            <p:spPr>
              <a:xfrm>
                <a:off x="329832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07" name="Line 18"/>
              <p:cNvSpPr/>
              <p:nvPr/>
            </p:nvSpPr>
            <p:spPr>
              <a:xfrm>
                <a:off x="336960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08" name="Line 19"/>
              <p:cNvSpPr/>
              <p:nvPr/>
            </p:nvSpPr>
            <p:spPr>
              <a:xfrm>
                <a:off x="344088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709" name="Text Box 21"/>
            <p:cNvSpPr/>
            <p:nvPr/>
          </p:nvSpPr>
          <p:spPr>
            <a:xfrm>
              <a:off x="639360" y="2065320"/>
              <a:ext cx="16668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3399"/>
                  </a:solidFill>
                  <a:latin typeface="Arial"/>
                </a:rPr>
                <a:t>q</a:t>
              </a:r>
              <a:endParaRPr b="0" lang="en-US" sz="10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710" name="Segnaposto contenuto 2"/>
          <p:cNvSpPr/>
          <p:nvPr/>
        </p:nvSpPr>
        <p:spPr>
          <a:xfrm>
            <a:off x="3998880" y="2313000"/>
            <a:ext cx="269388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Per striscia continua di larghezza B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1" name="Object 7"/>
              <p:cNvSpPr txBox="1"/>
              <p:nvPr/>
            </p:nvSpPr>
            <p:spPr>
              <a:xfrm>
                <a:off x="1979640" y="3732120"/>
                <a:ext cx="23907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2" name="Segnaposto contenuto 2"/>
          <p:cNvSpPr/>
          <p:nvPr/>
        </p:nvSpPr>
        <p:spPr>
          <a:xfrm>
            <a:off x="6138720" y="1440000"/>
            <a:ext cx="284652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condizioni non drenate (terreni a grana fine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carico limite del terreno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4" name="Segnaposto contenuto 2"/>
          <p:cNvSpPr/>
          <p:nvPr/>
        </p:nvSpPr>
        <p:spPr>
          <a:xfrm>
            <a:off x="3998880" y="1836720"/>
            <a:ext cx="23893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Rottura genera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610920" y="3189240"/>
            <a:ext cx="7916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arico limite, in condizioni drenat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716" name="Gruppo 42"/>
          <p:cNvGrpSpPr/>
          <p:nvPr/>
        </p:nvGrpSpPr>
        <p:grpSpPr>
          <a:xfrm>
            <a:off x="387360" y="1838160"/>
            <a:ext cx="3600360" cy="1051200"/>
            <a:chOff x="387360" y="1838160"/>
            <a:chExt cx="3600360" cy="1051200"/>
          </a:xfrm>
        </p:grpSpPr>
        <p:pic>
          <p:nvPicPr>
            <p:cNvPr id="717" name="Picture 3" descr=""/>
            <p:cNvPicPr/>
            <p:nvPr/>
          </p:nvPicPr>
          <p:blipFill>
            <a:blip r:embed="rId1"/>
            <a:stretch/>
          </p:blipFill>
          <p:spPr>
            <a:xfrm>
              <a:off x="387360" y="1838160"/>
              <a:ext cx="3600360" cy="1051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8" name="Group 3"/>
            <p:cNvGrpSpPr/>
            <p:nvPr/>
          </p:nvGrpSpPr>
          <p:grpSpPr>
            <a:xfrm>
              <a:off x="831960" y="2127960"/>
              <a:ext cx="1092600" cy="77760"/>
              <a:chOff x="831960" y="2127960"/>
              <a:chExt cx="1092600" cy="77760"/>
            </a:xfrm>
          </p:grpSpPr>
          <p:sp>
            <p:nvSpPr>
              <p:cNvPr id="719" name="Line 4"/>
              <p:cNvSpPr/>
              <p:nvPr/>
            </p:nvSpPr>
            <p:spPr>
              <a:xfrm>
                <a:off x="87948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20" name="Rectangle 5"/>
              <p:cNvSpPr/>
              <p:nvPr/>
            </p:nvSpPr>
            <p:spPr>
              <a:xfrm>
                <a:off x="831960" y="2127960"/>
                <a:ext cx="1092600" cy="777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21" name="Line 6"/>
              <p:cNvSpPr/>
              <p:nvPr/>
            </p:nvSpPr>
            <p:spPr>
              <a:xfrm>
                <a:off x="95076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22" name="Line 7"/>
              <p:cNvSpPr/>
              <p:nvPr/>
            </p:nvSpPr>
            <p:spPr>
              <a:xfrm>
                <a:off x="102204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23" name="Line 8"/>
              <p:cNvSpPr/>
              <p:nvPr/>
            </p:nvSpPr>
            <p:spPr>
              <a:xfrm>
                <a:off x="109296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24" name="Line 9"/>
              <p:cNvSpPr/>
              <p:nvPr/>
            </p:nvSpPr>
            <p:spPr>
              <a:xfrm>
                <a:off x="116424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25" name="Line 10"/>
              <p:cNvSpPr/>
              <p:nvPr/>
            </p:nvSpPr>
            <p:spPr>
              <a:xfrm>
                <a:off x="123552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26" name="Line 11"/>
              <p:cNvSpPr/>
              <p:nvPr/>
            </p:nvSpPr>
            <p:spPr>
              <a:xfrm>
                <a:off x="130680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27" name="Line 12"/>
              <p:cNvSpPr/>
              <p:nvPr/>
            </p:nvSpPr>
            <p:spPr>
              <a:xfrm>
                <a:off x="137808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28" name="Line 13"/>
              <p:cNvSpPr/>
              <p:nvPr/>
            </p:nvSpPr>
            <p:spPr>
              <a:xfrm>
                <a:off x="144936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29" name="Line 14"/>
              <p:cNvSpPr/>
              <p:nvPr/>
            </p:nvSpPr>
            <p:spPr>
              <a:xfrm>
                <a:off x="152064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30" name="Line 15"/>
              <p:cNvSpPr/>
              <p:nvPr/>
            </p:nvSpPr>
            <p:spPr>
              <a:xfrm>
                <a:off x="159192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31" name="Line 16"/>
              <p:cNvSpPr/>
              <p:nvPr/>
            </p:nvSpPr>
            <p:spPr>
              <a:xfrm>
                <a:off x="166320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32" name="Line 17"/>
              <p:cNvSpPr/>
              <p:nvPr/>
            </p:nvSpPr>
            <p:spPr>
              <a:xfrm>
                <a:off x="173448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33" name="Line 18"/>
              <p:cNvSpPr/>
              <p:nvPr/>
            </p:nvSpPr>
            <p:spPr>
              <a:xfrm>
                <a:off x="180576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34" name="Line 19"/>
              <p:cNvSpPr/>
              <p:nvPr/>
            </p:nvSpPr>
            <p:spPr>
              <a:xfrm>
                <a:off x="187704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735" name="Group 3"/>
            <p:cNvGrpSpPr/>
            <p:nvPr/>
          </p:nvGrpSpPr>
          <p:grpSpPr>
            <a:xfrm>
              <a:off x="2395800" y="2127960"/>
              <a:ext cx="1092600" cy="77760"/>
              <a:chOff x="2395800" y="2127960"/>
              <a:chExt cx="1092600" cy="77760"/>
            </a:xfrm>
          </p:grpSpPr>
          <p:sp>
            <p:nvSpPr>
              <p:cNvPr id="736" name="Line 4"/>
              <p:cNvSpPr/>
              <p:nvPr/>
            </p:nvSpPr>
            <p:spPr>
              <a:xfrm>
                <a:off x="244332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37" name="Rectangle 5"/>
              <p:cNvSpPr/>
              <p:nvPr/>
            </p:nvSpPr>
            <p:spPr>
              <a:xfrm>
                <a:off x="2395800" y="2127960"/>
                <a:ext cx="1092600" cy="777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38" name="Line 6"/>
              <p:cNvSpPr/>
              <p:nvPr/>
            </p:nvSpPr>
            <p:spPr>
              <a:xfrm>
                <a:off x="251460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39" name="Line 7"/>
              <p:cNvSpPr/>
              <p:nvPr/>
            </p:nvSpPr>
            <p:spPr>
              <a:xfrm>
                <a:off x="258588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40" name="Line 8"/>
              <p:cNvSpPr/>
              <p:nvPr/>
            </p:nvSpPr>
            <p:spPr>
              <a:xfrm>
                <a:off x="265680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41" name="Line 9"/>
              <p:cNvSpPr/>
              <p:nvPr/>
            </p:nvSpPr>
            <p:spPr>
              <a:xfrm>
                <a:off x="272808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42" name="Line 10"/>
              <p:cNvSpPr/>
              <p:nvPr/>
            </p:nvSpPr>
            <p:spPr>
              <a:xfrm>
                <a:off x="279936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43" name="Line 11"/>
              <p:cNvSpPr/>
              <p:nvPr/>
            </p:nvSpPr>
            <p:spPr>
              <a:xfrm>
                <a:off x="287064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44" name="Line 12"/>
              <p:cNvSpPr/>
              <p:nvPr/>
            </p:nvSpPr>
            <p:spPr>
              <a:xfrm>
                <a:off x="294192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45" name="Line 13"/>
              <p:cNvSpPr/>
              <p:nvPr/>
            </p:nvSpPr>
            <p:spPr>
              <a:xfrm>
                <a:off x="301320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46" name="Line 14"/>
              <p:cNvSpPr/>
              <p:nvPr/>
            </p:nvSpPr>
            <p:spPr>
              <a:xfrm>
                <a:off x="308448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47" name="Line 15"/>
              <p:cNvSpPr/>
              <p:nvPr/>
            </p:nvSpPr>
            <p:spPr>
              <a:xfrm>
                <a:off x="315576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48" name="Line 16"/>
              <p:cNvSpPr/>
              <p:nvPr/>
            </p:nvSpPr>
            <p:spPr>
              <a:xfrm>
                <a:off x="322704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49" name="Line 17"/>
              <p:cNvSpPr/>
              <p:nvPr/>
            </p:nvSpPr>
            <p:spPr>
              <a:xfrm>
                <a:off x="329832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50" name="Line 18"/>
              <p:cNvSpPr/>
              <p:nvPr/>
            </p:nvSpPr>
            <p:spPr>
              <a:xfrm>
                <a:off x="336960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51" name="Line 19"/>
              <p:cNvSpPr/>
              <p:nvPr/>
            </p:nvSpPr>
            <p:spPr>
              <a:xfrm>
                <a:off x="3440880" y="2127960"/>
                <a:ext cx="36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752" name="Text Box 21"/>
            <p:cNvSpPr/>
            <p:nvPr/>
          </p:nvSpPr>
          <p:spPr>
            <a:xfrm>
              <a:off x="639360" y="2065320"/>
              <a:ext cx="16668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3399"/>
                  </a:solidFill>
                  <a:latin typeface="Arial"/>
                </a:rPr>
                <a:t>q</a:t>
              </a:r>
              <a:endParaRPr b="0" lang="en-US" sz="10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753" name="Segnaposto contenuto 2"/>
          <p:cNvSpPr/>
          <p:nvPr/>
        </p:nvSpPr>
        <p:spPr>
          <a:xfrm>
            <a:off x="3998880" y="2313000"/>
            <a:ext cx="269388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Per striscia continua di larghezza B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4" name="Object 7"/>
              <p:cNvSpPr txBox="1"/>
              <p:nvPr/>
            </p:nvSpPr>
            <p:spPr>
              <a:xfrm>
                <a:off x="1979640" y="3732120"/>
                <a:ext cx="38656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Object 5"/>
              <p:cNvSpPr txBox="1"/>
              <p:nvPr/>
            </p:nvSpPr>
            <p:spPr>
              <a:xfrm>
                <a:off x="1979640" y="4478400"/>
                <a:ext cx="36608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φ</m:t>
                        </m:r>
                        <m:r>
                          <m:t xml:space="preserve">'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'/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Object 6"/>
              <p:cNvSpPr txBox="1"/>
              <p:nvPr/>
            </p:nvSpPr>
            <p:spPr>
              <a:xfrm>
                <a:off x="1979640" y="5078520"/>
                <a:ext cx="23382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φ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Object 5"/>
              <p:cNvSpPr txBox="1"/>
              <p:nvPr/>
            </p:nvSpPr>
            <p:spPr>
              <a:xfrm>
                <a:off x="1979640" y="5664240"/>
                <a:ext cx="25668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φ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8" name="Segnaposto contenuto 2"/>
          <p:cNvSpPr/>
          <p:nvPr/>
        </p:nvSpPr>
        <p:spPr>
          <a:xfrm>
            <a:off x="6138720" y="5043600"/>
            <a:ext cx="26942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Per terreni a grana grossa in genere si assume c’=0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9" name="Segnaposto contenuto 2"/>
          <p:cNvSpPr/>
          <p:nvPr/>
        </p:nvSpPr>
        <p:spPr>
          <a:xfrm>
            <a:off x="6138720" y="1440000"/>
            <a:ext cx="30052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condizioni drenate (terreni a grana grossa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Approccio general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ll’analisi strutturale e geotecnica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10920" y="1582560"/>
            <a:ext cx="7916760" cy="13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ncertezze sulle azioni applicate alla struttura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ncertezze sulla proprietà meccaniche (es. resistenza) dei materiali e del terren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0" name="Segnaposto contenuto 2"/>
          <p:cNvSpPr/>
          <p:nvPr/>
        </p:nvSpPr>
        <p:spPr>
          <a:xfrm>
            <a:off x="611280" y="3595680"/>
            <a:ext cx="791676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Necessità di scegliere opportuni valori di riferiment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Necessità di adottare opportuni coefficienti di sicurezz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Freccia in giù 4"/>
          <p:cNvSpPr/>
          <p:nvPr/>
        </p:nvSpPr>
        <p:spPr>
          <a:xfrm>
            <a:off x="4375080" y="3063960"/>
            <a:ext cx="389160" cy="331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3399"/>
          </a:solidFill>
          <a:ln w="25560">
            <a:solidFill>
              <a:srgbClr val="00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carico limite del terreno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610920" y="1582200"/>
            <a:ext cx="791676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Note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l carico agente Q dovrebbe comprender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Carico applicato sulla fondazione</a:t>
            </a:r>
            <a:endParaRPr b="0" lang="en-US" sz="22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Peso di fondazione e terreno di ricoprimento</a:t>
            </a:r>
            <a:endParaRPr b="0" lang="en-US" sz="22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Peso del terreno tolto, da detrarre (?)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l carico stabilizzante è in genere pari al peso (o meglio, alla pressione efficace) del terreno adiacente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q =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D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on D = spessore di tale terren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Esempio -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trave di fondazion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3" name=""/>
          <p:cNvSpPr/>
          <p:nvPr/>
        </p:nvSpPr>
        <p:spPr>
          <a:xfrm>
            <a:off x="971640" y="2708280"/>
            <a:ext cx="3600360" cy="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258920" y="2133720"/>
            <a:ext cx="0" cy="57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68360" y="2133720"/>
            <a:ext cx="0" cy="57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133720"/>
            <a:ext cx="0" cy="57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284720" y="2133720"/>
            <a:ext cx="0" cy="57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25892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26836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27672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28472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826920" y="3068640"/>
            <a:ext cx="388944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97164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25892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26836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27672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28472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57200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55640" y="321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5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405080" y="321300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4.2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484360" y="321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4.2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492360" y="321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4.2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140360" y="321300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5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971640" y="4149720"/>
            <a:ext cx="4608360" cy="21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Azioni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1,gk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450 kN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1,qk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180 k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2,gk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750 kN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2,qk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270 k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 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4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 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580000" y="4149720"/>
            <a:ext cx="2952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Terreno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= 18.0 kN/m</a:t>
            </a:r>
            <a:r>
              <a:rPr b="0" lang="it-IT" sz="1800" spc="-1" strike="noStrike" baseline="30000">
                <a:solidFill>
                  <a:srgbClr val="003399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’ 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= 28°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c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u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90 kP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515280" y="2637000"/>
            <a:ext cx="1081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946920" y="2708280"/>
            <a:ext cx="289080" cy="3603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875640" y="3068640"/>
            <a:ext cx="431640" cy="7308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7740720" y="256536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Comic Sans MS"/>
              </a:rPr>
              <a:t>sezione trasversale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730920" y="3429000"/>
            <a:ext cx="72072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875640" y="328464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307280" y="328464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800760" y="3500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2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083280" y="2637000"/>
            <a:ext cx="289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083280" y="3141720"/>
            <a:ext cx="289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227640" y="2492280"/>
            <a:ext cx="0" cy="79236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651640" y="270828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6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Esempio -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trave di fondazion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pproccio 2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99" name=""/>
          <p:cNvSpPr/>
          <p:nvPr/>
        </p:nvSpPr>
        <p:spPr>
          <a:xfrm>
            <a:off x="971640" y="2708280"/>
            <a:ext cx="3600360" cy="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258920" y="2133720"/>
            <a:ext cx="0" cy="57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268360" y="2133720"/>
            <a:ext cx="0" cy="57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276720" y="2133720"/>
            <a:ext cx="0" cy="57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284720" y="2133720"/>
            <a:ext cx="0" cy="57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25892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26836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27672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28472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6920" y="3068640"/>
            <a:ext cx="388944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97164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25892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26836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27672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28472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57200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55640" y="321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5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405080" y="321300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4.2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484360" y="321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4.2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492360" y="321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4.2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140360" y="321300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5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971640" y="4149720"/>
            <a:ext cx="4608360" cy="21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Azioni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1,gk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450 kN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1,qk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180 k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2,gk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750 kN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2,qk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270 k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 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4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 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003640" y="4149720"/>
            <a:ext cx="388944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1,d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 450</a:t>
            </a: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1.3+190</a:t>
            </a: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1.5 = 870 k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2,d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 750</a:t>
            </a: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1.3+270</a:t>
            </a: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1.5 = 1380 k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3.d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 1380 k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4,d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 870 k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tot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 4500 k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515280" y="2637000"/>
            <a:ext cx="1081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946920" y="2708280"/>
            <a:ext cx="289080" cy="3603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875640" y="3068640"/>
            <a:ext cx="431640" cy="7308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740720" y="256536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Comic Sans MS"/>
              </a:rPr>
              <a:t>sezione trasversale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730920" y="3429000"/>
            <a:ext cx="72072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875640" y="328464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07280" y="328464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00760" y="3500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2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083280" y="2637000"/>
            <a:ext cx="289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083280" y="3141720"/>
            <a:ext cx="289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227640" y="2492280"/>
            <a:ext cx="0" cy="79236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651640" y="270828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6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643280" y="5229360"/>
            <a:ext cx="21600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859280" y="1557360"/>
            <a:ext cx="180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mic Sans MS"/>
              </a:rPr>
              <a:t>Area d’impronta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mic Sans MS"/>
              </a:rPr>
              <a:t>A = 18.72 m</a:t>
            </a:r>
            <a:r>
              <a:rPr b="0" lang="en-US" sz="1400" spc="-1" strike="noStrike" baseline="30000">
                <a:solidFill>
                  <a:srgbClr val="0099ff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6" name=""/>
              <p:cNvSpPr txBox="1"/>
              <p:nvPr/>
            </p:nvSpPr>
            <p:spPr>
              <a:xfrm>
                <a:off x="6470640" y="1584360"/>
                <a:ext cx="21337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Esempio -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trave di fondazion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pproccio 2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38" name=""/>
          <p:cNvSpPr/>
          <p:nvPr/>
        </p:nvSpPr>
        <p:spPr>
          <a:xfrm>
            <a:off x="971640" y="2708280"/>
            <a:ext cx="3600360" cy="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258920" y="2133720"/>
            <a:ext cx="0" cy="57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268360" y="2133720"/>
            <a:ext cx="0" cy="57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276720" y="2133720"/>
            <a:ext cx="0" cy="57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284720" y="2133720"/>
            <a:ext cx="0" cy="57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25892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26836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27672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28472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26920" y="3068640"/>
            <a:ext cx="388944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97164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25892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26836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27672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28472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57200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55640" y="321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5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405080" y="321300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4.2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484360" y="321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4.2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492360" y="321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4.2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140360" y="321300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5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580000" y="4149720"/>
            <a:ext cx="2952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Terreno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= 18.0 kN/m</a:t>
            </a:r>
            <a:r>
              <a:rPr b="0" lang="it-IT" sz="1800" spc="-1" strike="noStrike" baseline="30000">
                <a:solidFill>
                  <a:srgbClr val="003399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’ 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= 28°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c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u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90 kP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515280" y="2637000"/>
            <a:ext cx="1081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946920" y="2708280"/>
            <a:ext cx="289080" cy="3603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875640" y="3068640"/>
            <a:ext cx="431640" cy="7308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740720" y="256536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Comic Sans MS"/>
              </a:rPr>
              <a:t>sezione trasversale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730920" y="3429000"/>
            <a:ext cx="72072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875640" y="328464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307280" y="328464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800760" y="3500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2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083280" y="2637000"/>
            <a:ext cx="289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083280" y="3141720"/>
            <a:ext cx="289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227640" y="2492280"/>
            <a:ext cx="0" cy="79236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651640" y="270828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6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971640" y="4149720"/>
            <a:ext cx="38876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Si usano i valori così come sono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= 18.0 kN/m</a:t>
            </a:r>
            <a:r>
              <a:rPr b="0" lang="it-IT" sz="1800" spc="-1" strike="noStrike" baseline="30000">
                <a:solidFill>
                  <a:srgbClr val="003399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’ 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= 28°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c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u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90 kP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4643280" y="5013360"/>
            <a:ext cx="21600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Esempio -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trave di fondazion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pproccio 2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10920" y="1582560"/>
            <a:ext cx="791676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n condizioni drenat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6" name="Object 7"/>
              <p:cNvSpPr txBox="1"/>
              <p:nvPr/>
            </p:nvSpPr>
            <p:spPr>
              <a:xfrm>
                <a:off x="1042920" y="2133720"/>
                <a:ext cx="38656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Object 5"/>
              <p:cNvSpPr txBox="1"/>
              <p:nvPr/>
            </p:nvSpPr>
            <p:spPr>
              <a:xfrm>
                <a:off x="1042920" y="2879640"/>
                <a:ext cx="46515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φ</m:t>
                        </m:r>
                        <m:r>
                          <m:t xml:space="preserve">'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'/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Object 5"/>
              <p:cNvSpPr txBox="1"/>
              <p:nvPr/>
            </p:nvSpPr>
            <p:spPr>
              <a:xfrm>
                <a:off x="1042920" y="3500280"/>
                <a:ext cx="353376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φ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9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79" name=""/>
          <p:cNvGrpSpPr/>
          <p:nvPr/>
        </p:nvGrpSpPr>
        <p:grpSpPr>
          <a:xfrm>
            <a:off x="1908000" y="2060640"/>
            <a:ext cx="503280" cy="504720"/>
            <a:chOff x="1908000" y="2060640"/>
            <a:chExt cx="503280" cy="504720"/>
          </a:xfrm>
        </p:grpSpPr>
        <p:sp>
          <p:nvSpPr>
            <p:cNvPr id="880" name=""/>
            <p:cNvSpPr/>
            <p:nvPr/>
          </p:nvSpPr>
          <p:spPr>
            <a:xfrm>
              <a:off x="1908000" y="2060640"/>
              <a:ext cx="503280" cy="5047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1908000" y="2060640"/>
              <a:ext cx="503280" cy="5047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2" name="Object 5"/>
              <p:cNvSpPr txBox="1"/>
              <p:nvPr/>
            </p:nvSpPr>
            <p:spPr>
              <a:xfrm>
                <a:off x="1042920" y="4089240"/>
                <a:ext cx="32022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Object 7"/>
              <p:cNvSpPr txBox="1"/>
              <p:nvPr/>
            </p:nvSpPr>
            <p:spPr>
              <a:xfrm>
                <a:off x="1042920" y="4648320"/>
                <a:ext cx="5746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8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P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Object 7"/>
              <p:cNvSpPr txBox="1"/>
              <p:nvPr/>
            </p:nvSpPr>
            <p:spPr>
              <a:xfrm>
                <a:off x="1042920" y="5567400"/>
                <a:ext cx="31543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8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Object 7"/>
              <p:cNvSpPr txBox="1"/>
              <p:nvPr/>
            </p:nvSpPr>
            <p:spPr>
              <a:xfrm>
                <a:off x="5516640" y="5732640"/>
                <a:ext cx="28494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6" name=""/>
          <p:cNvSpPr/>
          <p:nvPr/>
        </p:nvSpPr>
        <p:spPr>
          <a:xfrm>
            <a:off x="7451640" y="6165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ff"/>
                </a:solidFill>
                <a:latin typeface="Comic Sans MS"/>
              </a:rPr>
              <a:t>Ok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Esempio -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trave di fondazion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pproccio 2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n condizioni non drenat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Object 5"/>
              <p:cNvSpPr txBox="1"/>
              <p:nvPr/>
            </p:nvSpPr>
            <p:spPr>
              <a:xfrm>
                <a:off x="1042920" y="2708280"/>
                <a:ext cx="32022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Object 7"/>
              <p:cNvSpPr txBox="1"/>
              <p:nvPr/>
            </p:nvSpPr>
            <p:spPr>
              <a:xfrm>
                <a:off x="1042920" y="3502080"/>
                <a:ext cx="5238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Object 7"/>
              <p:cNvSpPr txBox="1"/>
              <p:nvPr/>
            </p:nvSpPr>
            <p:spPr>
              <a:xfrm>
                <a:off x="1042920" y="4149720"/>
                <a:ext cx="31543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Object 7"/>
              <p:cNvSpPr txBox="1"/>
              <p:nvPr/>
            </p:nvSpPr>
            <p:spPr>
              <a:xfrm>
                <a:off x="1042920" y="5732640"/>
                <a:ext cx="28497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>
            <a:off x="4356000" y="5661000"/>
            <a:ext cx="4464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Comic Sans MS"/>
              </a:rPr>
              <a:t>Non sarebbe verificato</a:t>
            </a:r>
            <a:br>
              <a:rPr sz="2000"/>
            </a:br>
            <a:r>
              <a:rPr b="0" lang="en-US" sz="1600" spc="-1" strike="noStrike">
                <a:solidFill>
                  <a:srgbClr val="0099ff"/>
                </a:solidFill>
                <a:latin typeface="Comic Sans MS"/>
              </a:rPr>
              <a:t>ma se il terreno è a grana grossa non importa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4" name="Object 7"/>
              <p:cNvSpPr txBox="1"/>
              <p:nvPr/>
            </p:nvSpPr>
            <p:spPr>
              <a:xfrm>
                <a:off x="1042920" y="2133720"/>
                <a:ext cx="23907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Esempio -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trave di fondazion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pproccio 1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96" name=""/>
          <p:cNvSpPr/>
          <p:nvPr/>
        </p:nvSpPr>
        <p:spPr>
          <a:xfrm>
            <a:off x="971640" y="2708280"/>
            <a:ext cx="3600360" cy="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258920" y="2133720"/>
            <a:ext cx="0" cy="57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268360" y="2133720"/>
            <a:ext cx="0" cy="57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276720" y="2133720"/>
            <a:ext cx="0" cy="57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284720" y="2133720"/>
            <a:ext cx="0" cy="57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25892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26836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7672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28472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826920" y="3068640"/>
            <a:ext cx="388944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97164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25892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26836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27672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28472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57200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755640" y="321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5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405080" y="321300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4.2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484360" y="321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4.2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492360" y="321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4.2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140360" y="321300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5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971640" y="4149720"/>
            <a:ext cx="4608360" cy="21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Azioni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1,gk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450 kN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1,qk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180 k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2,gk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750 kN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2,qk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270 k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 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4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 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003640" y="4149720"/>
            <a:ext cx="388944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1,d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 450+190</a:t>
            </a: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1.3 = 697 k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2,d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 750+270</a:t>
            </a: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1.3 = 1101 k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3.d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 1101 k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4,d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 697 k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tot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 3596 k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515280" y="2637000"/>
            <a:ext cx="1081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946920" y="2708280"/>
            <a:ext cx="289080" cy="3603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875640" y="3068640"/>
            <a:ext cx="431640" cy="7308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740720" y="256536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Comic Sans MS"/>
              </a:rPr>
              <a:t>sezione trasversale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730920" y="3429000"/>
            <a:ext cx="72072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875640" y="328464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307280" y="328464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800760" y="3500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2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083280" y="2637000"/>
            <a:ext cx="289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083280" y="3141720"/>
            <a:ext cx="289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227640" y="2492280"/>
            <a:ext cx="0" cy="79236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651640" y="270828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6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643280" y="5229360"/>
            <a:ext cx="21600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859280" y="1557360"/>
            <a:ext cx="180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mic Sans MS"/>
              </a:rPr>
              <a:t>Area d’impronta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mic Sans MS"/>
              </a:rPr>
              <a:t>A = 18.72 m</a:t>
            </a:r>
            <a:r>
              <a:rPr b="0" lang="en-US" sz="1400" spc="-1" strike="noStrike" baseline="30000">
                <a:solidFill>
                  <a:srgbClr val="0099ff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6505560" y="1584360"/>
                <a:ext cx="20638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9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Esempio -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trave di fondazion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pproccio 1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35" name=""/>
          <p:cNvSpPr/>
          <p:nvPr/>
        </p:nvSpPr>
        <p:spPr>
          <a:xfrm>
            <a:off x="971640" y="2708280"/>
            <a:ext cx="3600360" cy="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258920" y="2133720"/>
            <a:ext cx="0" cy="57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268360" y="2133720"/>
            <a:ext cx="0" cy="57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276720" y="2133720"/>
            <a:ext cx="0" cy="57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284720" y="2133720"/>
            <a:ext cx="0" cy="57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25892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226836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27672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28472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826920" y="3068640"/>
            <a:ext cx="388944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97164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25892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26836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27672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28472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57200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55640" y="321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5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405080" y="321300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4.2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484360" y="321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4.2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492360" y="321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4.2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140360" y="321300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5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580000" y="4149720"/>
            <a:ext cx="2952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Terreno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= 18.0 kN/m</a:t>
            </a:r>
            <a:r>
              <a:rPr b="0" lang="it-IT" sz="1800" spc="-1" strike="noStrike" baseline="30000">
                <a:solidFill>
                  <a:srgbClr val="003399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’ 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= 28°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c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u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90 kP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515280" y="2637000"/>
            <a:ext cx="1081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946920" y="2708280"/>
            <a:ext cx="289080" cy="3603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875640" y="3068640"/>
            <a:ext cx="431640" cy="7308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7740720" y="256536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Comic Sans MS"/>
              </a:rPr>
              <a:t>sezione trasversale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730920" y="3429000"/>
            <a:ext cx="72072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75640" y="328464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307280" y="328464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800760" y="3500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2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6083280" y="2637000"/>
            <a:ext cx="289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083280" y="3141720"/>
            <a:ext cx="289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227640" y="2492280"/>
            <a:ext cx="0" cy="79236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651640" y="270828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6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971640" y="4149720"/>
            <a:ext cx="38876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Si usano i valori ridotti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= 18.0 kN/m</a:t>
            </a:r>
            <a:r>
              <a:rPr b="0" lang="it-IT" sz="1800" spc="-1" strike="noStrike" baseline="30000">
                <a:solidFill>
                  <a:srgbClr val="003399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’ 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= atan (tan 28°/1.25) = 23.04°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c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u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90/1.4 = 64.29 kP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4643280" y="5013360"/>
            <a:ext cx="21600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Esempio -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trave di fondazion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pproccio 1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10920" y="1582560"/>
            <a:ext cx="791676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n condizioni drenat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Object 7"/>
              <p:cNvSpPr txBox="1"/>
              <p:nvPr/>
            </p:nvSpPr>
            <p:spPr>
              <a:xfrm>
                <a:off x="1042920" y="2133720"/>
                <a:ext cx="38656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Object 5"/>
              <p:cNvSpPr txBox="1"/>
              <p:nvPr/>
            </p:nvSpPr>
            <p:spPr>
              <a:xfrm>
                <a:off x="1042920" y="2879640"/>
                <a:ext cx="45496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φ</m:t>
                        </m:r>
                        <m:r>
                          <m:t xml:space="preserve">'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'/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Object 5"/>
              <p:cNvSpPr txBox="1"/>
              <p:nvPr/>
            </p:nvSpPr>
            <p:spPr>
              <a:xfrm>
                <a:off x="1042920" y="3500280"/>
                <a:ext cx="34066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φ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6" name=""/>
          <p:cNvGrpSpPr/>
          <p:nvPr/>
        </p:nvGrpSpPr>
        <p:grpSpPr>
          <a:xfrm>
            <a:off x="1908000" y="2060640"/>
            <a:ext cx="503280" cy="504720"/>
            <a:chOff x="1908000" y="2060640"/>
            <a:chExt cx="503280" cy="504720"/>
          </a:xfrm>
        </p:grpSpPr>
        <p:sp>
          <p:nvSpPr>
            <p:cNvPr id="977" name=""/>
            <p:cNvSpPr/>
            <p:nvPr/>
          </p:nvSpPr>
          <p:spPr>
            <a:xfrm>
              <a:off x="1908000" y="2060640"/>
              <a:ext cx="503280" cy="5047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1908000" y="2060640"/>
              <a:ext cx="503280" cy="5047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9" name="Object 5"/>
              <p:cNvSpPr txBox="1"/>
              <p:nvPr/>
            </p:nvSpPr>
            <p:spPr>
              <a:xfrm>
                <a:off x="1042920" y="4089240"/>
                <a:ext cx="32022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Object 7"/>
              <p:cNvSpPr txBox="1"/>
              <p:nvPr/>
            </p:nvSpPr>
            <p:spPr>
              <a:xfrm>
                <a:off x="1042920" y="4648320"/>
                <a:ext cx="55436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P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1" name="Object 7"/>
              <p:cNvSpPr txBox="1"/>
              <p:nvPr/>
            </p:nvSpPr>
            <p:spPr>
              <a:xfrm>
                <a:off x="1042920" y="5567400"/>
                <a:ext cx="31543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Object 7"/>
              <p:cNvSpPr txBox="1"/>
              <p:nvPr/>
            </p:nvSpPr>
            <p:spPr>
              <a:xfrm>
                <a:off x="5567400" y="5732640"/>
                <a:ext cx="27478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3" name=""/>
          <p:cNvSpPr/>
          <p:nvPr/>
        </p:nvSpPr>
        <p:spPr>
          <a:xfrm>
            <a:off x="5724360" y="616572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Comic Sans MS"/>
              </a:rPr>
              <a:t>Non verificat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Esempio -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trave di fondazion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pproccio 1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n condizioni non drenat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6" name="Object 5"/>
              <p:cNvSpPr txBox="1"/>
              <p:nvPr/>
            </p:nvSpPr>
            <p:spPr>
              <a:xfrm>
                <a:off x="1042920" y="2708280"/>
                <a:ext cx="32022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Object 7"/>
              <p:cNvSpPr txBox="1"/>
              <p:nvPr/>
            </p:nvSpPr>
            <p:spPr>
              <a:xfrm>
                <a:off x="1042920" y="3502080"/>
                <a:ext cx="54165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Object 7"/>
              <p:cNvSpPr txBox="1"/>
              <p:nvPr/>
            </p:nvSpPr>
            <p:spPr>
              <a:xfrm>
                <a:off x="1042920" y="4149720"/>
                <a:ext cx="31543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Object 7"/>
              <p:cNvSpPr txBox="1"/>
              <p:nvPr/>
            </p:nvSpPr>
            <p:spPr>
              <a:xfrm>
                <a:off x="1042920" y="5732640"/>
                <a:ext cx="27464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0" name=""/>
          <p:cNvSpPr/>
          <p:nvPr/>
        </p:nvSpPr>
        <p:spPr>
          <a:xfrm>
            <a:off x="4356000" y="5661000"/>
            <a:ext cx="4464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Comic Sans MS"/>
              </a:rPr>
              <a:t>In questo caso è verificato</a:t>
            </a:r>
            <a:br>
              <a:rPr sz="2000"/>
            </a:br>
            <a:r>
              <a:rPr b="0" lang="en-US" sz="1600" spc="-1" strike="noStrike">
                <a:solidFill>
                  <a:srgbClr val="0099ff"/>
                </a:solidFill>
                <a:latin typeface="Comic Sans MS"/>
              </a:rPr>
              <a:t>ma se il terreno è a grana grossa non importa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1" name="Object 7"/>
              <p:cNvSpPr txBox="1"/>
              <p:nvPr/>
            </p:nvSpPr>
            <p:spPr>
              <a:xfrm>
                <a:off x="1042920" y="2133720"/>
                <a:ext cx="23907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Quali valori di riferimento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per i materiali strutturali ?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10920" y="1582560"/>
            <a:ext cx="7916760" cy="23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Quello che succede in un singolo punto ha poca importanza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Quello che succede in una zona un po’ più ampia (ad esempio un concio di trave) può condizionare il comportamento o causare il collasso dell’intera struttura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4" name="Freccia in giù 3"/>
          <p:cNvSpPr/>
          <p:nvPr/>
        </p:nvSpPr>
        <p:spPr>
          <a:xfrm>
            <a:off x="4375080" y="3930480"/>
            <a:ext cx="389160" cy="330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3399"/>
          </a:solidFill>
          <a:ln w="25560">
            <a:solidFill>
              <a:srgbClr val="00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Segnaposto contenuto 2"/>
          <p:cNvSpPr/>
          <p:nvPr/>
        </p:nvSpPr>
        <p:spPr>
          <a:xfrm>
            <a:off x="611280" y="4325760"/>
            <a:ext cx="7916760" cy="10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Il riferimento base deve essere una resistenza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 al di sotto della quale si può scendere solo raramente </a:t>
            </a:r>
            <a:br>
              <a:rPr sz="2400"/>
            </a:b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(solo nel 5% dei casi: f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Arial"/>
              </a:rPr>
              <a:t>k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 valore caratteristico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Segnaposto contenuto 2"/>
          <p:cNvSpPr/>
          <p:nvPr/>
        </p:nvSpPr>
        <p:spPr>
          <a:xfrm>
            <a:off x="611280" y="5580000"/>
            <a:ext cx="79167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Comic Sans MS"/>
              </a:rPr>
              <a:t>Quando si esamina il comportamento globale, a volte si usa come riferimento il valore medio </a:t>
            </a:r>
            <a:r>
              <a:rPr b="0" lang="it-IT" sz="2400" spc="-1" strike="noStrike">
                <a:solidFill>
                  <a:srgbClr val="0070c0"/>
                </a:solidFill>
                <a:latin typeface="Arial"/>
              </a:rPr>
              <a:t>f</a:t>
            </a:r>
            <a:r>
              <a:rPr b="0" lang="it-IT" sz="2400" spc="-1" strike="noStrike" baseline="-25000">
                <a:solidFill>
                  <a:srgbClr val="0070c0"/>
                </a:solidFill>
                <a:latin typeface="Arial"/>
              </a:rPr>
              <a:t>m</a:t>
            </a:r>
            <a:r>
              <a:rPr b="0" lang="it-IT" sz="2400" spc="-1" strike="noStrike">
                <a:solidFill>
                  <a:srgbClr val="0070c0"/>
                </a:solidFill>
                <a:latin typeface="Comic Sans MS"/>
              </a:rPr>
              <a:t> (edifici esistenti in zona sismica, comportamento duttile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2" name="" descr=""/>
          <p:cNvPicPr/>
          <p:nvPr/>
        </p:nvPicPr>
        <p:blipFill>
          <a:blip r:embed="rId1"/>
          <a:stretch/>
        </p:blipFill>
        <p:spPr>
          <a:xfrm>
            <a:off x="863640" y="1906560"/>
            <a:ext cx="7413480" cy="4608720"/>
          </a:xfrm>
          <a:prstGeom prst="rect">
            <a:avLst/>
          </a:prstGeom>
          <a:ln w="0">
            <a:noFill/>
          </a:ln>
        </p:spPr>
      </p:pic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onfronto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in condizioni drenate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94" name=""/>
          <p:cNvSpPr/>
          <p:nvPr/>
        </p:nvSpPr>
        <p:spPr>
          <a:xfrm>
            <a:off x="3348000" y="198900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L’approccio 1 è 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tanto più penalizzante quanto maggiore è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’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619280" y="467208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Comic Sans MS"/>
              </a:rPr>
              <a:t>Ma che base scientifica ha questo?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132000" y="5157720"/>
            <a:ext cx="45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Forse si dovrebbe usare per prudenza </a:t>
            </a:r>
            <a:br>
              <a:rPr sz="1800"/>
            </a:b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l’approccio 1, ma la norma non lo impon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7" name="" descr=""/>
          <p:cNvPicPr/>
          <p:nvPr/>
        </p:nvPicPr>
        <p:blipFill>
          <a:blip r:embed="rId1"/>
          <a:stretch/>
        </p:blipFill>
        <p:spPr>
          <a:xfrm>
            <a:off x="863640" y="1906560"/>
            <a:ext cx="7413480" cy="4608720"/>
          </a:xfrm>
          <a:prstGeom prst="rect">
            <a:avLst/>
          </a:prstGeom>
          <a:ln w="0">
            <a:noFill/>
          </a:ln>
        </p:spPr>
      </p:pic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onfronto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in condizioni non drenate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99" name=""/>
          <p:cNvSpPr/>
          <p:nvPr/>
        </p:nvSpPr>
        <p:spPr>
          <a:xfrm>
            <a:off x="3348000" y="198900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L’approccio 1 è 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empre un po’ meno penalizzan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carico limite del terreno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610920" y="1582200"/>
            <a:ext cx="7916760" cy="17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Note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In generale, la fondazione non è una striscia infinita ma è rettangolare, di lati B ed L (con B≤L)</a:t>
            </a:r>
            <a:br>
              <a:rPr sz="2400"/>
            </a:b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-  Per tener conto della forma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Object 7"/>
              <p:cNvSpPr txBox="1"/>
              <p:nvPr/>
            </p:nvSpPr>
            <p:spPr>
              <a:xfrm>
                <a:off x="1979640" y="3716280"/>
                <a:ext cx="27226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Object 3"/>
              <p:cNvSpPr txBox="1"/>
              <p:nvPr/>
            </p:nvSpPr>
            <p:spPr>
              <a:xfrm>
                <a:off x="1979640" y="5148360"/>
                <a:ext cx="48052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4" name="Segnaposto contenuto 2"/>
          <p:cNvSpPr/>
          <p:nvPr/>
        </p:nvSpPr>
        <p:spPr>
          <a:xfrm>
            <a:off x="611280" y="3240000"/>
            <a:ext cx="7916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erreno a grana fine, non drenat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5" name="Segnaposto contenuto 2"/>
          <p:cNvSpPr/>
          <p:nvPr/>
        </p:nvSpPr>
        <p:spPr>
          <a:xfrm>
            <a:off x="611280" y="4680000"/>
            <a:ext cx="7916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erreno a grana grossa, drenat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Object 4"/>
              <p:cNvSpPr txBox="1"/>
              <p:nvPr/>
            </p:nvSpPr>
            <p:spPr>
              <a:xfrm>
                <a:off x="1979640" y="4200480"/>
                <a:ext cx="2035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Object 5"/>
              <p:cNvSpPr txBox="1"/>
              <p:nvPr/>
            </p:nvSpPr>
            <p:spPr>
              <a:xfrm>
                <a:off x="1979640" y="5675400"/>
                <a:ext cx="173052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Object 6"/>
              <p:cNvSpPr txBox="1"/>
              <p:nvPr/>
            </p:nvSpPr>
            <p:spPr>
              <a:xfrm>
                <a:off x="4083120" y="5891040"/>
                <a:ext cx="20350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Object 7"/>
              <p:cNvSpPr txBox="1"/>
              <p:nvPr/>
            </p:nvSpPr>
            <p:spPr>
              <a:xfrm>
                <a:off x="6483240" y="5891040"/>
                <a:ext cx="155124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Esempio –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plinto 2.00</a:t>
            </a:r>
            <a:r>
              <a:rPr b="0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2.50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11" name=""/>
          <p:cNvSpPr/>
          <p:nvPr/>
        </p:nvSpPr>
        <p:spPr>
          <a:xfrm>
            <a:off x="971640" y="2708280"/>
            <a:ext cx="1152360" cy="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547640" y="2133720"/>
            <a:ext cx="0" cy="57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54764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26920" y="3068640"/>
            <a:ext cx="1513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97164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54764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12400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898560" y="321300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25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971640" y="4149720"/>
            <a:ext cx="46083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Azioni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gk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 750 kN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qk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270 k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580000" y="4149720"/>
            <a:ext cx="2952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Terreno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= 18.0 kN/m</a:t>
            </a:r>
            <a:r>
              <a:rPr b="0" lang="it-IT" sz="1800" spc="-1" strike="noStrike" baseline="30000">
                <a:solidFill>
                  <a:srgbClr val="003399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’ 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= 28°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c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u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90 kP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96000" y="2637000"/>
            <a:ext cx="180036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300720" y="2708280"/>
            <a:ext cx="935280" cy="3603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6227640" y="3068640"/>
            <a:ext cx="1079640" cy="7308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7740720" y="256536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Comic Sans MS"/>
              </a:rPr>
              <a:t>sezione trasversale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156360" y="3429000"/>
            <a:ext cx="12952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300720" y="328464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307280" y="328464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43640" y="3500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2.0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5003640" y="2637000"/>
            <a:ext cx="289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003640" y="3141720"/>
            <a:ext cx="289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148360" y="2492280"/>
            <a:ext cx="0" cy="79236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572000" y="2708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6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476360" y="321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25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Esempio –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plinto 2.00</a:t>
            </a:r>
            <a:r>
              <a:rPr b="0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2.50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pproccio 2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35" name=""/>
          <p:cNvSpPr/>
          <p:nvPr/>
        </p:nvSpPr>
        <p:spPr>
          <a:xfrm>
            <a:off x="971640" y="2708280"/>
            <a:ext cx="1152360" cy="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547640" y="2133720"/>
            <a:ext cx="0" cy="57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54764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826920" y="3068640"/>
            <a:ext cx="1513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97164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54764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12400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98560" y="321300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25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971640" y="4149720"/>
            <a:ext cx="46083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Azioni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gk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 750 kN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qk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270 k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796000" y="2637000"/>
            <a:ext cx="180036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300720" y="2708280"/>
            <a:ext cx="935280" cy="3603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227640" y="3068640"/>
            <a:ext cx="1079640" cy="7308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7740720" y="256536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Comic Sans MS"/>
              </a:rPr>
              <a:t>sezione trasversale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6156360" y="3429000"/>
            <a:ext cx="12952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300720" y="328464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7307280" y="328464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443640" y="3500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2.0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003640" y="2637000"/>
            <a:ext cx="289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003640" y="3141720"/>
            <a:ext cx="289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148360" y="2492280"/>
            <a:ext cx="0" cy="79236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572000" y="2708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6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476360" y="321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25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003640" y="4149720"/>
            <a:ext cx="3889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d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 750</a:t>
            </a: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1.3+270</a:t>
            </a: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1.5 = 1380 k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643280" y="4581360"/>
            <a:ext cx="21600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859280" y="1557360"/>
            <a:ext cx="180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mic Sans MS"/>
              </a:rPr>
              <a:t>Area d’impronta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mic Sans MS"/>
              </a:rPr>
              <a:t>A = 5.00 m</a:t>
            </a:r>
            <a:r>
              <a:rPr b="0" lang="en-US" sz="1400" spc="-1" strike="noStrike" baseline="30000">
                <a:solidFill>
                  <a:srgbClr val="0099ff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6488280" y="1584360"/>
                <a:ext cx="20984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80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Esempio –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plinto 2.00</a:t>
            </a:r>
            <a:r>
              <a:rPr b="0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2.50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pproccio 2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62" name=""/>
          <p:cNvSpPr/>
          <p:nvPr/>
        </p:nvSpPr>
        <p:spPr>
          <a:xfrm>
            <a:off x="971640" y="2708280"/>
            <a:ext cx="1152360" cy="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1547640" y="2133720"/>
            <a:ext cx="0" cy="57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54764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826920" y="3068640"/>
            <a:ext cx="1513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97164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54764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12400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898560" y="321300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25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580000" y="4149720"/>
            <a:ext cx="2952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Terreno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= 18.0 kN/m</a:t>
            </a:r>
            <a:r>
              <a:rPr b="0" lang="it-IT" sz="1800" spc="-1" strike="noStrike" baseline="30000">
                <a:solidFill>
                  <a:srgbClr val="003399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’ 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= 28°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c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u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90 kP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5796000" y="2637000"/>
            <a:ext cx="180036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300720" y="2708280"/>
            <a:ext cx="935280" cy="3603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227640" y="3068640"/>
            <a:ext cx="1079640" cy="7308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740720" y="256536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Comic Sans MS"/>
              </a:rPr>
              <a:t>sezione trasversale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156360" y="3429000"/>
            <a:ext cx="12952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6300720" y="328464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7307280" y="328464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443640" y="3500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2.0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03640" y="2637000"/>
            <a:ext cx="289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003640" y="3141720"/>
            <a:ext cx="289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148360" y="2492280"/>
            <a:ext cx="0" cy="79236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72000" y="2708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6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476360" y="321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25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971640" y="4149720"/>
            <a:ext cx="38876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Si usano i valori così come sono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= 18.0 kN/m</a:t>
            </a:r>
            <a:r>
              <a:rPr b="0" lang="it-IT" sz="1800" spc="-1" strike="noStrike" baseline="30000">
                <a:solidFill>
                  <a:srgbClr val="003399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’ 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= 28°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c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u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90 kP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4643280" y="5013360"/>
            <a:ext cx="21600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Esempio –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plinto 2.00</a:t>
            </a:r>
            <a:r>
              <a:rPr b="0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2.50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pproccio 2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10920" y="1582560"/>
            <a:ext cx="791676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n condizioni drenat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Object 5"/>
              <p:cNvSpPr txBox="1"/>
              <p:nvPr/>
            </p:nvSpPr>
            <p:spPr>
              <a:xfrm>
                <a:off x="2987640" y="2781360"/>
                <a:ext cx="13986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9" name="Object 5"/>
              <p:cNvSpPr txBox="1"/>
              <p:nvPr/>
            </p:nvSpPr>
            <p:spPr>
              <a:xfrm>
                <a:off x="1042920" y="2781360"/>
                <a:ext cx="13986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9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90" name=""/>
          <p:cNvGrpSpPr/>
          <p:nvPr/>
        </p:nvGrpSpPr>
        <p:grpSpPr>
          <a:xfrm>
            <a:off x="1908000" y="2060640"/>
            <a:ext cx="503280" cy="504720"/>
            <a:chOff x="1908000" y="2060640"/>
            <a:chExt cx="503280" cy="504720"/>
          </a:xfrm>
        </p:grpSpPr>
        <p:sp>
          <p:nvSpPr>
            <p:cNvPr id="1091" name=""/>
            <p:cNvSpPr/>
            <p:nvPr/>
          </p:nvSpPr>
          <p:spPr>
            <a:xfrm>
              <a:off x="1908000" y="2060640"/>
              <a:ext cx="503280" cy="5047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1908000" y="2060640"/>
              <a:ext cx="503280" cy="5047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3" name="Object 5"/>
              <p:cNvSpPr txBox="1"/>
              <p:nvPr/>
            </p:nvSpPr>
            <p:spPr>
              <a:xfrm>
                <a:off x="4932360" y="2781360"/>
                <a:ext cx="16002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Object 7"/>
              <p:cNvSpPr txBox="1"/>
              <p:nvPr/>
            </p:nvSpPr>
            <p:spPr>
              <a:xfrm>
                <a:off x="1042920" y="4365720"/>
                <a:ext cx="72216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9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6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P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Object 7"/>
              <p:cNvSpPr txBox="1"/>
              <p:nvPr/>
            </p:nvSpPr>
            <p:spPr>
              <a:xfrm>
                <a:off x="1017720" y="5567400"/>
                <a:ext cx="32050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6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Object 7"/>
              <p:cNvSpPr txBox="1"/>
              <p:nvPr/>
            </p:nvSpPr>
            <p:spPr>
              <a:xfrm>
                <a:off x="5516640" y="5732640"/>
                <a:ext cx="28494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97" name=""/>
          <p:cNvSpPr/>
          <p:nvPr/>
        </p:nvSpPr>
        <p:spPr>
          <a:xfrm>
            <a:off x="7451640" y="6165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ff"/>
                </a:solidFill>
                <a:latin typeface="Comic Sans MS"/>
              </a:rPr>
              <a:t>Ok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8" name="Object 3"/>
              <p:cNvSpPr txBox="1"/>
              <p:nvPr/>
            </p:nvSpPr>
            <p:spPr>
              <a:xfrm>
                <a:off x="1042920" y="2133720"/>
                <a:ext cx="48052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Object 6"/>
              <p:cNvSpPr txBox="1"/>
              <p:nvPr/>
            </p:nvSpPr>
            <p:spPr>
              <a:xfrm>
                <a:off x="1012680" y="3429000"/>
                <a:ext cx="43513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Object 7"/>
              <p:cNvSpPr txBox="1"/>
              <p:nvPr/>
            </p:nvSpPr>
            <p:spPr>
              <a:xfrm>
                <a:off x="5724360" y="3429000"/>
                <a:ext cx="32036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Esempio –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plinto 2.00</a:t>
            </a:r>
            <a:r>
              <a:rPr b="0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2.50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pproccio 2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n condizioni non drenat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3" name="Object 5"/>
              <p:cNvSpPr txBox="1"/>
              <p:nvPr/>
            </p:nvSpPr>
            <p:spPr>
              <a:xfrm>
                <a:off x="1042920" y="2708280"/>
                <a:ext cx="16002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Object 7"/>
              <p:cNvSpPr txBox="1"/>
              <p:nvPr/>
            </p:nvSpPr>
            <p:spPr>
              <a:xfrm>
                <a:off x="1042920" y="3500280"/>
                <a:ext cx="5977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Object 7"/>
              <p:cNvSpPr txBox="1"/>
              <p:nvPr/>
            </p:nvSpPr>
            <p:spPr>
              <a:xfrm>
                <a:off x="1017720" y="4149720"/>
                <a:ext cx="32050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Object 7"/>
              <p:cNvSpPr txBox="1"/>
              <p:nvPr/>
            </p:nvSpPr>
            <p:spPr>
              <a:xfrm>
                <a:off x="1042920" y="5732640"/>
                <a:ext cx="28497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4356000" y="5661000"/>
            <a:ext cx="4464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Comic Sans MS"/>
              </a:rPr>
              <a:t>Non sarebbe verificato</a:t>
            </a:r>
            <a:br>
              <a:rPr sz="2000"/>
            </a:br>
            <a:r>
              <a:rPr b="0" lang="en-US" sz="1600" spc="-1" strike="noStrike">
                <a:solidFill>
                  <a:srgbClr val="0099ff"/>
                </a:solidFill>
                <a:latin typeface="Comic Sans MS"/>
              </a:rPr>
              <a:t>ma se il terreno è a grana grossa non importa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8" name="Object 7"/>
              <p:cNvSpPr txBox="1"/>
              <p:nvPr/>
            </p:nvSpPr>
            <p:spPr>
              <a:xfrm>
                <a:off x="1042920" y="2133720"/>
                <a:ext cx="27226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Object 4"/>
              <p:cNvSpPr txBox="1"/>
              <p:nvPr/>
            </p:nvSpPr>
            <p:spPr>
              <a:xfrm>
                <a:off x="3419640" y="2492280"/>
                <a:ext cx="430020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Esempio –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plinto 2.00</a:t>
            </a:r>
            <a:r>
              <a:rPr b="0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2.50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pproccio 1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11" name=""/>
          <p:cNvSpPr/>
          <p:nvPr/>
        </p:nvSpPr>
        <p:spPr>
          <a:xfrm>
            <a:off x="971640" y="2708280"/>
            <a:ext cx="1152360" cy="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547640" y="2133720"/>
            <a:ext cx="0" cy="57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54764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826920" y="3068640"/>
            <a:ext cx="1513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97164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154764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212400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898560" y="321300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25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971640" y="4149720"/>
            <a:ext cx="46083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Azioni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8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gk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 750 kN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qk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270 k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5796000" y="2637000"/>
            <a:ext cx="180036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300720" y="2708280"/>
            <a:ext cx="935280" cy="3603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6227640" y="3068640"/>
            <a:ext cx="1079640" cy="7308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740720" y="256536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Comic Sans MS"/>
              </a:rPr>
              <a:t>sezione trasversale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156360" y="3429000"/>
            <a:ext cx="12952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300720" y="328464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7307280" y="328464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443640" y="3500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2.0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5003640" y="2637000"/>
            <a:ext cx="289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003640" y="3141720"/>
            <a:ext cx="289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148360" y="2492280"/>
            <a:ext cx="0" cy="79236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572000" y="2708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6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476360" y="321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25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5003640" y="4149720"/>
            <a:ext cx="3889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d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 750+270</a:t>
            </a: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1.3 = 1101 k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643280" y="4581360"/>
            <a:ext cx="21600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859280" y="1557360"/>
            <a:ext cx="180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mic Sans MS"/>
              </a:rPr>
              <a:t>Area d’impronta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mic Sans MS"/>
              </a:rPr>
              <a:t>A = 5.00 m</a:t>
            </a:r>
            <a:r>
              <a:rPr b="0" lang="en-US" sz="1400" spc="-1" strike="noStrike" baseline="30000">
                <a:solidFill>
                  <a:srgbClr val="0099ff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6513480" y="1584360"/>
                <a:ext cx="20462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Esempio –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plinto 2.00</a:t>
            </a:r>
            <a:r>
              <a:rPr b="0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2.50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pproccio 1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38" name=""/>
          <p:cNvSpPr/>
          <p:nvPr/>
        </p:nvSpPr>
        <p:spPr>
          <a:xfrm>
            <a:off x="971640" y="2708280"/>
            <a:ext cx="1152360" cy="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547640" y="2133720"/>
            <a:ext cx="0" cy="57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54764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826920" y="3068640"/>
            <a:ext cx="1513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97164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54764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124000" y="292428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898560" y="321300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25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580000" y="4149720"/>
            <a:ext cx="2952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Terreno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= 18.0 kN/m</a:t>
            </a:r>
            <a:r>
              <a:rPr b="0" lang="it-IT" sz="1800" spc="-1" strike="noStrike" baseline="30000">
                <a:solidFill>
                  <a:srgbClr val="003399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’ 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= 28°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c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u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90 kP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796000" y="2637000"/>
            <a:ext cx="180036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300720" y="2708280"/>
            <a:ext cx="935280" cy="3603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6227640" y="3068640"/>
            <a:ext cx="1079640" cy="7308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7740720" y="256536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Comic Sans MS"/>
              </a:rPr>
              <a:t>sezione trasversale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6156360" y="3429000"/>
            <a:ext cx="12952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6300720" y="328464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7307280" y="3284640"/>
            <a:ext cx="0" cy="288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6443640" y="3500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2.0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5003640" y="2637000"/>
            <a:ext cx="289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003640" y="3141720"/>
            <a:ext cx="289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148360" y="2492280"/>
            <a:ext cx="0" cy="79236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572000" y="2708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6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476360" y="321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.25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971640" y="4149720"/>
            <a:ext cx="38876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Si usano i valori ridotti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= 18.0 kN/m</a:t>
            </a:r>
            <a:r>
              <a:rPr b="0" lang="it-IT" sz="1800" spc="-1" strike="noStrike" baseline="30000">
                <a:solidFill>
                  <a:srgbClr val="003399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’ 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= atan (tan 28°/1.25) = 23.04°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c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Comic Sans MS"/>
              </a:rPr>
              <a:t>u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90/1.4 = 64.29 kP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flipH="1">
            <a:off x="4643280" y="5013360"/>
            <a:ext cx="21600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Quali valori di riferimento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per il terreno ?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0920" y="1582200"/>
            <a:ext cx="7916760" cy="9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Quello che succede in un singolo punto o in zone un po’ più ampie ha spesso poca importanza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9" name="Freccia in giù 3"/>
          <p:cNvSpPr/>
          <p:nvPr/>
        </p:nvSpPr>
        <p:spPr>
          <a:xfrm>
            <a:off x="4375080" y="2529000"/>
            <a:ext cx="389160" cy="331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3399"/>
          </a:solidFill>
          <a:ln w="25560">
            <a:solidFill>
              <a:srgbClr val="00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Segnaposto contenuto 2"/>
          <p:cNvSpPr/>
          <p:nvPr/>
        </p:nvSpPr>
        <p:spPr>
          <a:xfrm>
            <a:off x="611280" y="2963880"/>
            <a:ext cx="791676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l riferimento base devono essere le proprietà medie del terren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l terreno è spesso costituito da strati diversi, ma di solito si può far riferimento alle proprietà medie dei diversi strati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Segnaposto contenuto 2"/>
          <p:cNvSpPr/>
          <p:nvPr/>
        </p:nvSpPr>
        <p:spPr>
          <a:xfrm>
            <a:off x="611280" y="5103720"/>
            <a:ext cx="7916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Attenzione: in certi casi diventa importante diversificare correttamente i terreni 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(es. cedimenti differenziali dovuti a terreni diversi in verticali distinte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Esempio –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plinto 2.00</a:t>
            </a:r>
            <a:r>
              <a:rPr b="0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2.50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pproccio 1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10920" y="1582560"/>
            <a:ext cx="791676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n condizioni drenat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4" name="Object 5"/>
              <p:cNvSpPr txBox="1"/>
              <p:nvPr/>
            </p:nvSpPr>
            <p:spPr>
              <a:xfrm>
                <a:off x="3038400" y="2781360"/>
                <a:ext cx="12970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Object 5"/>
              <p:cNvSpPr txBox="1"/>
              <p:nvPr/>
            </p:nvSpPr>
            <p:spPr>
              <a:xfrm>
                <a:off x="1093680" y="2781360"/>
                <a:ext cx="12970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66" name=""/>
          <p:cNvGrpSpPr/>
          <p:nvPr/>
        </p:nvGrpSpPr>
        <p:grpSpPr>
          <a:xfrm>
            <a:off x="1908000" y="2060640"/>
            <a:ext cx="503280" cy="504720"/>
            <a:chOff x="1908000" y="2060640"/>
            <a:chExt cx="503280" cy="504720"/>
          </a:xfrm>
        </p:grpSpPr>
        <p:sp>
          <p:nvSpPr>
            <p:cNvPr id="1167" name=""/>
            <p:cNvSpPr/>
            <p:nvPr/>
          </p:nvSpPr>
          <p:spPr>
            <a:xfrm>
              <a:off x="1908000" y="2060640"/>
              <a:ext cx="503280" cy="5047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1908000" y="2060640"/>
              <a:ext cx="503280" cy="5047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69" name="Object 5"/>
              <p:cNvSpPr txBox="1"/>
              <p:nvPr/>
            </p:nvSpPr>
            <p:spPr>
              <a:xfrm>
                <a:off x="4932360" y="2781360"/>
                <a:ext cx="16002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Object 7"/>
              <p:cNvSpPr txBox="1"/>
              <p:nvPr/>
            </p:nvSpPr>
            <p:spPr>
              <a:xfrm>
                <a:off x="1017720" y="4365720"/>
                <a:ext cx="69926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8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4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P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Object 7"/>
              <p:cNvSpPr txBox="1"/>
              <p:nvPr/>
            </p:nvSpPr>
            <p:spPr>
              <a:xfrm>
                <a:off x="1017720" y="5567400"/>
                <a:ext cx="32050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4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Object 7"/>
              <p:cNvSpPr txBox="1"/>
              <p:nvPr/>
            </p:nvSpPr>
            <p:spPr>
              <a:xfrm>
                <a:off x="5516640" y="5732640"/>
                <a:ext cx="28494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3" name=""/>
          <p:cNvSpPr/>
          <p:nvPr/>
        </p:nvSpPr>
        <p:spPr>
          <a:xfrm>
            <a:off x="7451640" y="6165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ff"/>
                </a:solidFill>
                <a:latin typeface="Comic Sans MS"/>
              </a:rPr>
              <a:t>Ok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4" name="Object 3"/>
              <p:cNvSpPr txBox="1"/>
              <p:nvPr/>
            </p:nvSpPr>
            <p:spPr>
              <a:xfrm>
                <a:off x="1017720" y="2133720"/>
                <a:ext cx="48052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Object 6"/>
              <p:cNvSpPr txBox="1"/>
              <p:nvPr/>
            </p:nvSpPr>
            <p:spPr>
              <a:xfrm>
                <a:off x="1116000" y="3581280"/>
                <a:ext cx="12207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Object 7"/>
              <p:cNvSpPr txBox="1"/>
              <p:nvPr/>
            </p:nvSpPr>
            <p:spPr>
              <a:xfrm>
                <a:off x="3059280" y="3581280"/>
                <a:ext cx="99216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Esempio –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plinto 2.00</a:t>
            </a:r>
            <a:r>
              <a:rPr b="0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2.50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pproccio 1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n condizioni non drenat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9" name="Object 5"/>
              <p:cNvSpPr txBox="1"/>
              <p:nvPr/>
            </p:nvSpPr>
            <p:spPr>
              <a:xfrm>
                <a:off x="1042920" y="2708280"/>
                <a:ext cx="16002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Object 7"/>
              <p:cNvSpPr txBox="1"/>
              <p:nvPr/>
            </p:nvSpPr>
            <p:spPr>
              <a:xfrm>
                <a:off x="1004760" y="3500280"/>
                <a:ext cx="60534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Object 7"/>
              <p:cNvSpPr txBox="1"/>
              <p:nvPr/>
            </p:nvSpPr>
            <p:spPr>
              <a:xfrm>
                <a:off x="1055520" y="4149720"/>
                <a:ext cx="31291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Object 7"/>
              <p:cNvSpPr txBox="1"/>
              <p:nvPr/>
            </p:nvSpPr>
            <p:spPr>
              <a:xfrm>
                <a:off x="1042920" y="5732640"/>
                <a:ext cx="28497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Pa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Object 7"/>
              <p:cNvSpPr txBox="1"/>
              <p:nvPr/>
            </p:nvSpPr>
            <p:spPr>
              <a:xfrm>
                <a:off x="1042920" y="2133720"/>
                <a:ext cx="27226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4" name="Object 4"/>
              <p:cNvSpPr txBox="1"/>
              <p:nvPr/>
            </p:nvSpPr>
            <p:spPr>
              <a:xfrm>
                <a:off x="3635280" y="2670120"/>
                <a:ext cx="11192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5" name=""/>
          <p:cNvSpPr/>
          <p:nvPr/>
        </p:nvSpPr>
        <p:spPr>
          <a:xfrm>
            <a:off x="4356000" y="5661000"/>
            <a:ext cx="4464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Comic Sans MS"/>
              </a:rPr>
              <a:t>In questo caso è verificato</a:t>
            </a:r>
            <a:br>
              <a:rPr sz="2000"/>
            </a:br>
            <a:r>
              <a:rPr b="0" lang="en-US" sz="1600" spc="-1" strike="noStrike">
                <a:solidFill>
                  <a:srgbClr val="0099ff"/>
                </a:solidFill>
                <a:latin typeface="Comic Sans MS"/>
              </a:rPr>
              <a:t>ma se il terreno è a grana grossa non importa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carico eccentrico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10920" y="1582560"/>
            <a:ext cx="79167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È buona norma disporre la fondazione in modo che sia centrata rispetto al carico verticale applicat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in alcuni casi, anche in assenza di azioni orizzontali, vi possono essere forti momenti flettenti (es. pensilina non simmetrica): la fondazione deve essere centrata rispetto alla risultante M-N</a:t>
            </a:r>
            <a:endParaRPr b="0" lang="en-US" sz="22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l’eccentricità dovuta ai carichi variabili dovrebbe essere limitata</a:t>
            </a:r>
            <a:endParaRPr b="0" lang="en-US" sz="22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articolare attenzione ai casi in cui non è possibile centrare la fondazione (plinto zoppo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Le azioni orizzontali (vento, sisma) producono spesso eccentricità rilevant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carico eccentrico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610920" y="1582560"/>
            <a:ext cx="7916760" cy="12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Per tener conto della eccentricità e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Comic Sans MS"/>
              </a:rPr>
              <a:t>B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 in direzione trasversale ed e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Comic Sans MS"/>
              </a:rPr>
              <a:t>L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 in direzione longitudinale si utilizzano le dimensioni efficac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0" name="Object 8"/>
              <p:cNvSpPr txBox="1"/>
              <p:nvPr/>
            </p:nvSpPr>
            <p:spPr>
              <a:xfrm>
                <a:off x="1979640" y="2924280"/>
                <a:ext cx="15001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1" name="Object 9"/>
              <p:cNvSpPr txBox="1"/>
              <p:nvPr/>
            </p:nvSpPr>
            <p:spPr>
              <a:xfrm>
                <a:off x="1979640" y="3392640"/>
                <a:ext cx="147492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2" name="Segnaposto contenuto 2"/>
          <p:cNvSpPr/>
          <p:nvPr/>
        </p:nvSpPr>
        <p:spPr>
          <a:xfrm>
            <a:off x="611280" y="4076640"/>
            <a:ext cx="791676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Si utilizzano quindi tutte le formule già viste, mettendo B’ L’ al posto di B 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con azioni orizzontali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610920" y="1582200"/>
            <a:ext cx="7916760" cy="17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l sisma produce effetti inerziali (azioni orizzontali sulla struttura in elevazione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Per tener conto dell’azione orizzontale H presente insieme alla verticale V</a:t>
            </a:r>
            <a:endParaRPr b="0" lang="en-US" sz="2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95" name="Segnaposto contenuto 2"/>
          <p:cNvSpPr/>
          <p:nvPr/>
        </p:nvSpPr>
        <p:spPr>
          <a:xfrm>
            <a:off x="611280" y="3522600"/>
            <a:ext cx="7916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erreno a grana fine, non drenat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6" name="Object 7"/>
              <p:cNvSpPr txBox="1"/>
              <p:nvPr/>
            </p:nvSpPr>
            <p:spPr>
              <a:xfrm>
                <a:off x="1979640" y="4103640"/>
                <a:ext cx="29512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Object 9"/>
              <p:cNvSpPr txBox="1"/>
              <p:nvPr/>
            </p:nvSpPr>
            <p:spPr>
              <a:xfrm>
                <a:off x="1979640" y="4608360"/>
                <a:ext cx="279720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con azioni orizzontali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610920" y="1582200"/>
            <a:ext cx="7916760" cy="17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l sisma produce effetti inerziali (azioni orizzontali sulla struttura in elevazione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Per tener conto dell’azione orizzontale H presente insieme alla verticale V</a:t>
            </a:r>
            <a:endParaRPr b="0" lang="en-US" sz="2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00" name="Segnaposto contenuto 2"/>
          <p:cNvSpPr/>
          <p:nvPr/>
        </p:nvSpPr>
        <p:spPr>
          <a:xfrm>
            <a:off x="611280" y="3522600"/>
            <a:ext cx="7916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erreno a grana grossa, drenat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1" name="Object 8"/>
              <p:cNvSpPr txBox="1"/>
              <p:nvPr/>
            </p:nvSpPr>
            <p:spPr>
              <a:xfrm>
                <a:off x="1979640" y="4103640"/>
                <a:ext cx="54658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2" name="Object 9"/>
              <p:cNvSpPr txBox="1"/>
              <p:nvPr/>
            </p:nvSpPr>
            <p:spPr>
              <a:xfrm>
                <a:off x="1979640" y="4608360"/>
                <a:ext cx="20350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φ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3" name="Object 11"/>
              <p:cNvSpPr txBox="1"/>
              <p:nvPr/>
            </p:nvSpPr>
            <p:spPr>
              <a:xfrm>
                <a:off x="1979640" y="5554800"/>
                <a:ext cx="323208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t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'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4" name="Object 5"/>
              <p:cNvSpPr txBox="1"/>
              <p:nvPr/>
            </p:nvSpPr>
            <p:spPr>
              <a:xfrm>
                <a:off x="4890960" y="4608360"/>
                <a:ext cx="34099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t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'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Object 10"/>
              <p:cNvSpPr txBox="1"/>
              <p:nvPr/>
            </p:nvSpPr>
            <p:spPr>
              <a:xfrm>
                <a:off x="5997600" y="5689440"/>
                <a:ext cx="2263680" cy="7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6" name="Segnaposto contenuto 2"/>
          <p:cNvSpPr/>
          <p:nvPr/>
        </p:nvSpPr>
        <p:spPr>
          <a:xfrm>
            <a:off x="5807160" y="6383160"/>
            <a:ext cx="26445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Se H è diretta secondo 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rottura per punzonamento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610920" y="1582560"/>
            <a:ext cx="791676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Il rischio di punzonamento dipende dalla rigidezza del terren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720720" indent="-277200"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Si valuta un indice di rigidezza</a:t>
            </a:r>
            <a:endParaRPr b="0" lang="en-US" sz="2200" spc="-1" strike="noStrike">
              <a:solidFill>
                <a:srgbClr val="003399"/>
              </a:solidFill>
              <a:latin typeface="Comic Sans MS"/>
            </a:endParaRPr>
          </a:p>
          <a:p>
            <a:pPr lvl="1" marL="720720" indent="-277200"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Comic Sans MS"/>
            </a:endParaRPr>
          </a:p>
          <a:p>
            <a:pPr lvl="1" marL="720720" indent="-277200"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Comic Sans MS"/>
            </a:endParaRPr>
          </a:p>
          <a:p>
            <a:pPr lvl="1" marL="720720" indent="-277200"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Lo si confronta con un valore limite</a:t>
            </a:r>
            <a:endParaRPr b="0" lang="en-US" sz="2200" spc="-1" strike="noStrike">
              <a:solidFill>
                <a:srgbClr val="003399"/>
              </a:solidFill>
              <a:latin typeface="Comic Sans MS"/>
            </a:endParaRPr>
          </a:p>
          <a:p>
            <a:pPr lvl="1" marL="720720" indent="-277200"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Comic Sans MS"/>
            </a:endParaRPr>
          </a:p>
          <a:p>
            <a:pPr lvl="1" marL="720720" indent="-277200"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Comic Sans MS"/>
            </a:endParaRPr>
          </a:p>
          <a:p>
            <a:pPr lvl="1" marL="720720" indent="-277200"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Si ha punzonamento solo se I</a:t>
            </a:r>
            <a:r>
              <a:rPr b="0" lang="it-IT" sz="2200" spc="-1" strike="noStrike" baseline="-25000">
                <a:solidFill>
                  <a:srgbClr val="003399"/>
                </a:solidFill>
                <a:latin typeface="Comic Sans MS"/>
              </a:rPr>
              <a:t>r</a:t>
            </a: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 &lt; I</a:t>
            </a:r>
            <a:r>
              <a:rPr b="0" lang="it-IT" sz="2200" spc="-1" strike="noStrike" baseline="-25000">
                <a:solidFill>
                  <a:srgbClr val="003399"/>
                </a:solidFill>
                <a:latin typeface="Comic Sans MS"/>
              </a:rPr>
              <a:t>r,crit</a:t>
            </a: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9" name="Object 9"/>
              <p:cNvSpPr txBox="1"/>
              <p:nvPr/>
            </p:nvSpPr>
            <p:spPr>
              <a:xfrm>
                <a:off x="1979640" y="2781360"/>
                <a:ext cx="19591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+</m:t>
                        </m:r>
                        <m:r>
                          <m:t xml:space="preserve">σ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φ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Object 5"/>
              <p:cNvSpPr txBox="1"/>
              <p:nvPr/>
            </p:nvSpPr>
            <p:spPr>
              <a:xfrm>
                <a:off x="1979640" y="4145040"/>
                <a:ext cx="40719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ri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'/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1" name="Segnaposto contenuto 2"/>
          <p:cNvSpPr/>
          <p:nvPr/>
        </p:nvSpPr>
        <p:spPr>
          <a:xfrm>
            <a:off x="611280" y="5638680"/>
            <a:ext cx="79167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240" indent="-90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Nota: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è la tensione effettiva media alla quota B/2 al di sotto del piano di pos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2" name="Object 7"/>
              <p:cNvSpPr txBox="1"/>
              <p:nvPr/>
            </p:nvSpPr>
            <p:spPr>
              <a:xfrm>
                <a:off x="4478400" y="6093000"/>
                <a:ext cx="19908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Object 8"/>
              <p:cNvSpPr txBox="1"/>
              <p:nvPr/>
            </p:nvSpPr>
            <p:spPr>
              <a:xfrm>
                <a:off x="6759720" y="6080040"/>
                <a:ext cx="151596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edimenti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ato tensionale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10920" y="1582560"/>
            <a:ext cx="791676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Striscia di larghezza B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217" name="" descr=""/>
          <p:cNvPicPr/>
          <p:nvPr/>
        </p:nvPicPr>
        <p:blipFill>
          <a:blip r:embed="rId1"/>
          <a:stretch/>
        </p:blipFill>
        <p:spPr>
          <a:xfrm>
            <a:off x="1332000" y="2255760"/>
            <a:ext cx="5202000" cy="4197600"/>
          </a:xfrm>
          <a:prstGeom prst="rect">
            <a:avLst/>
          </a:prstGeom>
          <a:ln w="0">
            <a:noFill/>
          </a:ln>
        </p:spPr>
      </p:pic>
      <p:sp>
        <p:nvSpPr>
          <p:cNvPr id="1218" name=""/>
          <p:cNvSpPr/>
          <p:nvPr/>
        </p:nvSpPr>
        <p:spPr>
          <a:xfrm>
            <a:off x="3970440" y="5337000"/>
            <a:ext cx="971280" cy="5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Tensioni verticali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638440" y="5337000"/>
            <a:ext cx="1258920" cy="5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Tensioni orizzontali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588000" y="3429000"/>
            <a:ext cx="2376720" cy="23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Nella valutazione dei cedimenti </a:t>
            </a:r>
            <a:br>
              <a:rPr sz="1800"/>
            </a:b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si deve fare riferimento alle proprietà del terreno per una profondità di </a:t>
            </a:r>
            <a:br>
              <a:rPr sz="1800"/>
            </a:b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almeno 2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3 B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ato tensionale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10920" y="1582560"/>
            <a:ext cx="791676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ndamento delle tensioni lungo la vertical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223" name="" descr=""/>
          <p:cNvPicPr/>
          <p:nvPr/>
        </p:nvPicPr>
        <p:blipFill>
          <a:blip r:embed="rId1"/>
          <a:stretch/>
        </p:blipFill>
        <p:spPr>
          <a:xfrm>
            <a:off x="4427640" y="2205000"/>
            <a:ext cx="4233600" cy="4508640"/>
          </a:xfrm>
          <a:prstGeom prst="rect">
            <a:avLst/>
          </a:prstGeom>
          <a:ln w="0">
            <a:noFill/>
          </a:ln>
        </p:spPr>
      </p:pic>
      <p:sp>
        <p:nvSpPr>
          <p:cNvPr id="1224" name=""/>
          <p:cNvSpPr/>
          <p:nvPr/>
        </p:nvSpPr>
        <p:spPr>
          <a:xfrm>
            <a:off x="755640" y="263700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9900"/>
                </a:solidFill>
                <a:latin typeface="Comic Sans MS"/>
              </a:rPr>
              <a:t>In verde:</a:t>
            </a:r>
            <a:br>
              <a:rPr sz="1800"/>
            </a:br>
            <a:r>
              <a:rPr b="0" lang="it-IT" sz="1800" spc="-1" strike="noStrike">
                <a:solidFill>
                  <a:srgbClr val="009900"/>
                </a:solidFill>
                <a:latin typeface="Comic Sans MS"/>
              </a:rPr>
              <a:t>Steinbrenner 1934 (vedi libro Viggiani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755640" y="5229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 blu: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andamento linear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755640" y="3933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 rosso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8" name="Object 6"/>
              <p:cNvSpPr txBox="1"/>
              <p:nvPr/>
            </p:nvSpPr>
            <p:spPr>
              <a:xfrm>
                <a:off x="826920" y="4292640"/>
                <a:ext cx="22561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rcta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9" name=""/>
          <p:cNvSpPr/>
          <p:nvPr/>
        </p:nvSpPr>
        <p:spPr>
          <a:xfrm>
            <a:off x="4248000" y="59500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z/B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0" name="Object 6"/>
              <p:cNvSpPr txBox="1"/>
              <p:nvPr/>
            </p:nvSpPr>
            <p:spPr>
              <a:xfrm>
                <a:off x="7740720" y="2060640"/>
                <a:ext cx="5936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Nel passato: strutture</a:t>
            </a:r>
            <a:br>
              <a:rPr sz="2800"/>
            </a:b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metodo delle tensioni ammissibili (TA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10920" y="1582560"/>
            <a:ext cx="6118200" cy="15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er i carichi: valore di riferimento corrispondente ad un carico che solo raramente può essere superato </a:t>
            </a:r>
            <a:br>
              <a:rPr sz="2400"/>
            </a:b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(es. nel 5% dei casi, per tutta la vita della struttura)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7"/>
              <p:cNvSpPr txBox="1"/>
              <p:nvPr/>
            </p:nvSpPr>
            <p:spPr>
              <a:xfrm>
                <a:off x="2529000" y="5807160"/>
                <a:ext cx="10681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k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4532400" y="5807160"/>
                <a:ext cx="109368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k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Segnaposto contenuto 2"/>
          <p:cNvSpPr/>
          <p:nvPr/>
        </p:nvSpPr>
        <p:spPr>
          <a:xfrm>
            <a:off x="611280" y="4965840"/>
            <a:ext cx="791676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pplicazione di un coefficiente di sicurezza alle resistenz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794640" y="1806480"/>
            <a:ext cx="2065320" cy="1516680"/>
            <a:chOff x="6794640" y="1806480"/>
            <a:chExt cx="2065320" cy="1516680"/>
          </a:xfrm>
        </p:grpSpPr>
        <p:grpSp>
          <p:nvGrpSpPr>
            <p:cNvPr id="128" name=""/>
            <p:cNvGrpSpPr/>
            <p:nvPr/>
          </p:nvGrpSpPr>
          <p:grpSpPr>
            <a:xfrm>
              <a:off x="7883280" y="2423520"/>
              <a:ext cx="410040" cy="899640"/>
              <a:chOff x="7883280" y="2423520"/>
              <a:chExt cx="410040" cy="899640"/>
            </a:xfrm>
          </p:grpSpPr>
          <p:sp>
            <p:nvSpPr>
              <p:cNvPr id="129" name=""/>
              <p:cNvSpPr/>
              <p:nvPr/>
            </p:nvSpPr>
            <p:spPr>
              <a:xfrm>
                <a:off x="8002080" y="2423520"/>
                <a:ext cx="0" cy="540000"/>
              </a:xfrm>
              <a:prstGeom prst="line">
                <a:avLst/>
              </a:prstGeom>
              <a:ln w="284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883280" y="2952360"/>
                <a:ext cx="4100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600" spc="-1" strike="noStrike">
                    <a:solidFill>
                      <a:srgbClr val="0099ff"/>
                    </a:solidFill>
                    <a:latin typeface="Times New Roman"/>
                  </a:rPr>
                  <a:t>F</a:t>
                </a:r>
                <a:r>
                  <a:rPr b="0" i="1" lang="it-IT" sz="1600" spc="-1" strike="noStrike" baseline="-25000">
                    <a:solidFill>
                      <a:srgbClr val="0099ff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6810120" y="1850760"/>
              <a:ext cx="1793160" cy="1012680"/>
              <a:chOff x="6810120" y="1850760"/>
              <a:chExt cx="1793160" cy="1012680"/>
            </a:xfrm>
          </p:grpSpPr>
          <p:sp>
            <p:nvSpPr>
              <p:cNvPr id="132" name=""/>
              <p:cNvSpPr/>
              <p:nvPr/>
            </p:nvSpPr>
            <p:spPr>
              <a:xfrm>
                <a:off x="6810120" y="2726640"/>
                <a:ext cx="117000" cy="79920"/>
              </a:xfrm>
              <a:custGeom>
                <a:avLst/>
                <a:gdLst/>
                <a:ahLst/>
                <a:rect l="l" t="t" r="r" b="b"/>
                <a:pathLst>
                  <a:path w="299" h="105">
                    <a:moveTo>
                      <a:pt x="0" y="105"/>
                    </a:moveTo>
                    <a:lnTo>
                      <a:pt x="149" y="60"/>
                    </a:lnTo>
                    <a:lnTo>
                      <a:pt x="299" y="0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927120" y="2579400"/>
                <a:ext cx="122760" cy="146880"/>
              </a:xfrm>
              <a:custGeom>
                <a:avLst/>
                <a:gdLst/>
                <a:ahLst/>
                <a:rect l="l" t="t" r="r" b="b"/>
                <a:pathLst>
                  <a:path w="314" h="193">
                    <a:moveTo>
                      <a:pt x="0" y="193"/>
                    </a:moveTo>
                    <a:lnTo>
                      <a:pt x="150" y="104"/>
                    </a:lnTo>
                    <a:lnTo>
                      <a:pt x="314" y="0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49880" y="2374200"/>
                <a:ext cx="117360" cy="204840"/>
              </a:xfrm>
              <a:custGeom>
                <a:avLst/>
                <a:gdLst/>
                <a:ahLst/>
                <a:rect l="l" t="t" r="r" b="b"/>
                <a:pathLst>
                  <a:path w="300" h="269">
                    <a:moveTo>
                      <a:pt x="0" y="269"/>
                    </a:moveTo>
                    <a:lnTo>
                      <a:pt x="150" y="149"/>
                    </a:lnTo>
                    <a:lnTo>
                      <a:pt x="300" y="0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167240" y="2124360"/>
                <a:ext cx="122760" cy="249840"/>
              </a:xfrm>
              <a:custGeom>
                <a:avLst/>
                <a:gdLst/>
                <a:ahLst/>
                <a:rect l="l" t="t" r="r" b="b"/>
                <a:pathLst>
                  <a:path w="314" h="328">
                    <a:moveTo>
                      <a:pt x="0" y="328"/>
                    </a:moveTo>
                    <a:lnTo>
                      <a:pt x="75" y="253"/>
                    </a:lnTo>
                    <a:lnTo>
                      <a:pt x="150" y="164"/>
                    </a:lnTo>
                    <a:lnTo>
                      <a:pt x="239" y="74"/>
                    </a:lnTo>
                    <a:lnTo>
                      <a:pt x="314" y="0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290360" y="1930680"/>
                <a:ext cx="117360" cy="193320"/>
              </a:xfrm>
              <a:custGeom>
                <a:avLst/>
                <a:gdLst/>
                <a:ahLst/>
                <a:rect l="l" t="t" r="r" b="b"/>
                <a:pathLst>
                  <a:path w="300" h="254">
                    <a:moveTo>
                      <a:pt x="0" y="254"/>
                    </a:moveTo>
                    <a:lnTo>
                      <a:pt x="150" y="119"/>
                    </a:lnTo>
                    <a:lnTo>
                      <a:pt x="225" y="45"/>
                    </a:lnTo>
                    <a:lnTo>
                      <a:pt x="300" y="0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407720" y="1850760"/>
                <a:ext cx="117000" cy="79920"/>
              </a:xfrm>
              <a:custGeom>
                <a:avLst/>
                <a:gdLst/>
                <a:ahLst/>
                <a:rect l="l" t="t" r="r" b="b"/>
                <a:pathLst>
                  <a:path w="299" h="105">
                    <a:moveTo>
                      <a:pt x="0" y="105"/>
                    </a:moveTo>
                    <a:lnTo>
                      <a:pt x="149" y="30"/>
                    </a:lnTo>
                    <a:lnTo>
                      <a:pt x="224" y="15"/>
                    </a:lnTo>
                    <a:lnTo>
                      <a:pt x="299" y="0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524720" y="1850760"/>
                <a:ext cx="123120" cy="79920"/>
              </a:xfrm>
              <a:custGeom>
                <a:avLst/>
                <a:gdLst/>
                <a:ahLst/>
                <a:rect l="l" t="t" r="r" b="b"/>
                <a:pathLst>
                  <a:path w="315" h="105">
                    <a:moveTo>
                      <a:pt x="0" y="0"/>
                    </a:moveTo>
                    <a:lnTo>
                      <a:pt x="75" y="15"/>
                    </a:lnTo>
                    <a:lnTo>
                      <a:pt x="150" y="30"/>
                    </a:lnTo>
                    <a:lnTo>
                      <a:pt x="240" y="60"/>
                    </a:lnTo>
                    <a:lnTo>
                      <a:pt x="315" y="105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648200" y="1930680"/>
                <a:ext cx="117000" cy="193320"/>
              </a:xfrm>
              <a:custGeom>
                <a:avLst/>
                <a:gdLst/>
                <a:ahLst/>
                <a:rect l="l" t="t" r="r" b="b"/>
                <a:pathLst>
                  <a:path w="299" h="254">
                    <a:moveTo>
                      <a:pt x="0" y="0"/>
                    </a:moveTo>
                    <a:lnTo>
                      <a:pt x="74" y="45"/>
                    </a:lnTo>
                    <a:lnTo>
                      <a:pt x="149" y="119"/>
                    </a:lnTo>
                    <a:lnTo>
                      <a:pt x="299" y="254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765200" y="2124360"/>
                <a:ext cx="122760" cy="249840"/>
              </a:xfrm>
              <a:custGeom>
                <a:avLst/>
                <a:gdLst/>
                <a:ahLst/>
                <a:rect l="l" t="t" r="r" b="b"/>
                <a:pathLst>
                  <a:path w="314" h="328">
                    <a:moveTo>
                      <a:pt x="0" y="0"/>
                    </a:moveTo>
                    <a:lnTo>
                      <a:pt x="75" y="74"/>
                    </a:lnTo>
                    <a:lnTo>
                      <a:pt x="150" y="164"/>
                    </a:lnTo>
                    <a:lnTo>
                      <a:pt x="240" y="253"/>
                    </a:lnTo>
                    <a:lnTo>
                      <a:pt x="314" y="328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887960" y="2374200"/>
                <a:ext cx="117360" cy="204840"/>
              </a:xfrm>
              <a:custGeom>
                <a:avLst/>
                <a:gdLst/>
                <a:ahLst/>
                <a:rect l="l" t="t" r="r" b="b"/>
                <a:pathLst>
                  <a:path w="300" h="269">
                    <a:moveTo>
                      <a:pt x="0" y="0"/>
                    </a:moveTo>
                    <a:lnTo>
                      <a:pt x="150" y="149"/>
                    </a:lnTo>
                    <a:lnTo>
                      <a:pt x="300" y="269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005680" y="2579400"/>
                <a:ext cx="117000" cy="146880"/>
              </a:xfrm>
              <a:custGeom>
                <a:avLst/>
                <a:gdLst/>
                <a:ahLst/>
                <a:rect l="l" t="t" r="r" b="b"/>
                <a:pathLst>
                  <a:path w="299" h="193">
                    <a:moveTo>
                      <a:pt x="0" y="0"/>
                    </a:moveTo>
                    <a:lnTo>
                      <a:pt x="150" y="104"/>
                    </a:lnTo>
                    <a:lnTo>
                      <a:pt x="299" y="193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122680" y="2726640"/>
                <a:ext cx="123120" cy="79920"/>
              </a:xfrm>
              <a:custGeom>
                <a:avLst/>
                <a:gdLst/>
                <a:ahLst/>
                <a:rect l="l" t="t" r="r" b="b"/>
                <a:pathLst>
                  <a:path w="315" h="105">
                    <a:moveTo>
                      <a:pt x="0" y="0"/>
                    </a:moveTo>
                    <a:lnTo>
                      <a:pt x="150" y="60"/>
                    </a:lnTo>
                    <a:lnTo>
                      <a:pt x="315" y="105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245800" y="2806560"/>
                <a:ext cx="117000" cy="34200"/>
              </a:xfrm>
              <a:custGeom>
                <a:avLst/>
                <a:gdLst/>
                <a:ahLst/>
                <a:rect l="l" t="t" r="r" b="b"/>
                <a:pathLst>
                  <a:path w="299" h="45">
                    <a:moveTo>
                      <a:pt x="0" y="0"/>
                    </a:moveTo>
                    <a:lnTo>
                      <a:pt x="149" y="30"/>
                    </a:lnTo>
                    <a:lnTo>
                      <a:pt x="299" y="45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362800" y="2841120"/>
                <a:ext cx="122760" cy="11160"/>
              </a:xfrm>
              <a:custGeom>
                <a:avLst/>
                <a:gdLst/>
                <a:ahLst/>
                <a:rect l="l" t="t" r="r" b="b"/>
                <a:pathLst>
                  <a:path w="314" h="15">
                    <a:moveTo>
                      <a:pt x="0" y="0"/>
                    </a:moveTo>
                    <a:lnTo>
                      <a:pt x="150" y="15"/>
                    </a:lnTo>
                    <a:lnTo>
                      <a:pt x="314" y="15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485920" y="2852280"/>
                <a:ext cx="117360" cy="11160"/>
              </a:xfrm>
              <a:prstGeom prst="line">
                <a:avLst/>
              </a:prstGeom>
              <a:ln w="284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794640" y="1806480"/>
              <a:ext cx="2065320" cy="1063080"/>
              <a:chOff x="6794640" y="1806480"/>
              <a:chExt cx="2065320" cy="1063080"/>
            </a:xfrm>
          </p:grpSpPr>
          <p:sp>
            <p:nvSpPr>
              <p:cNvPr id="148" name=""/>
              <p:cNvSpPr/>
              <p:nvPr/>
            </p:nvSpPr>
            <p:spPr>
              <a:xfrm>
                <a:off x="6794640" y="1806480"/>
                <a:ext cx="0" cy="1063080"/>
              </a:xfrm>
              <a:prstGeom prst="line">
                <a:avLst/>
              </a:prstGeom>
              <a:ln w="0">
                <a:solidFill>
                  <a:srgbClr val="0033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794640" y="2869560"/>
                <a:ext cx="2065320" cy="0"/>
              </a:xfrm>
              <a:prstGeom prst="line">
                <a:avLst/>
              </a:prstGeom>
              <a:ln w="0">
                <a:solidFill>
                  <a:srgbClr val="0033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Segnaposto contenuto 2"/>
          <p:cNvSpPr/>
          <p:nvPr/>
        </p:nvSpPr>
        <p:spPr>
          <a:xfrm>
            <a:off x="611280" y="3238560"/>
            <a:ext cx="61182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er le resistenze: valore di riferimento corrispondente ad una resistenza al di sotto della quale si può scendere solo raramente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(es.</a:t>
            </a:r>
            <a:r>
              <a:rPr b="0" lang="en-US" sz="1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el 5% dei casi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794640" y="3525840"/>
            <a:ext cx="2065320" cy="1517040"/>
            <a:chOff x="6794640" y="3525840"/>
            <a:chExt cx="2065320" cy="1517040"/>
          </a:xfrm>
        </p:grpSpPr>
        <p:grpSp>
          <p:nvGrpSpPr>
            <p:cNvPr id="152" name=""/>
            <p:cNvGrpSpPr/>
            <p:nvPr/>
          </p:nvGrpSpPr>
          <p:grpSpPr>
            <a:xfrm>
              <a:off x="7261200" y="3544560"/>
              <a:ext cx="1063080" cy="1042200"/>
              <a:chOff x="7261200" y="3544560"/>
              <a:chExt cx="1063080" cy="1042200"/>
            </a:xfrm>
          </p:grpSpPr>
          <p:sp>
            <p:nvSpPr>
              <p:cNvPr id="153" name=""/>
              <p:cNvSpPr/>
              <p:nvPr/>
            </p:nvSpPr>
            <p:spPr>
              <a:xfrm>
                <a:off x="7261200" y="4586400"/>
                <a:ext cx="5328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03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4120" y="4586400"/>
                <a:ext cx="5328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03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67400" y="4586400"/>
                <a:ext cx="5292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03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420320" y="4586400"/>
                <a:ext cx="5328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03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473600" y="4586400"/>
                <a:ext cx="5292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03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526520" y="4586400"/>
                <a:ext cx="5328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03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579800" y="4586400"/>
                <a:ext cx="5292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03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632720" y="4586400"/>
                <a:ext cx="5328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03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6000" y="4586400"/>
                <a:ext cx="5328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9662" y="0"/>
                    </a:lnTo>
                    <a:lnTo>
                      <a:pt x="19903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738920" y="4581720"/>
                <a:ext cx="54360" cy="5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8182"/>
                    </a:moveTo>
                    <a:lnTo>
                      <a:pt x="9953" y="18182"/>
                    </a:lnTo>
                    <a:lnTo>
                      <a:pt x="14882" y="9091"/>
                    </a:lnTo>
                    <a:lnTo>
                      <a:pt x="19905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793280" y="4556160"/>
                <a:ext cx="52920" cy="25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623"/>
                    </a:moveTo>
                    <a:lnTo>
                      <a:pt x="5049" y="17736"/>
                    </a:lnTo>
                    <a:lnTo>
                      <a:pt x="10194" y="14340"/>
                    </a:lnTo>
                    <a:lnTo>
                      <a:pt x="14854" y="8679"/>
                    </a:lnTo>
                    <a:lnTo>
                      <a:pt x="17670" y="5283"/>
                    </a:lnTo>
                    <a:lnTo>
                      <a:pt x="19903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846200" y="4446000"/>
                <a:ext cx="53280" cy="1105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12"/>
                    </a:moveTo>
                    <a:lnTo>
                      <a:pt x="5121" y="16903"/>
                    </a:lnTo>
                    <a:lnTo>
                      <a:pt x="7440" y="14779"/>
                    </a:lnTo>
                    <a:lnTo>
                      <a:pt x="9758" y="13097"/>
                    </a:lnTo>
                    <a:lnTo>
                      <a:pt x="12560" y="10619"/>
                    </a:lnTo>
                    <a:lnTo>
                      <a:pt x="14783" y="7611"/>
                    </a:lnTo>
                    <a:lnTo>
                      <a:pt x="17585" y="4248"/>
                    </a:lnTo>
                    <a:lnTo>
                      <a:pt x="19903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899480" y="4158720"/>
                <a:ext cx="53280" cy="287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6"/>
                    </a:moveTo>
                    <a:lnTo>
                      <a:pt x="2319" y="18194"/>
                    </a:lnTo>
                    <a:lnTo>
                      <a:pt x="5121" y="16082"/>
                    </a:lnTo>
                    <a:lnTo>
                      <a:pt x="7440" y="13799"/>
                    </a:lnTo>
                    <a:lnTo>
                      <a:pt x="9662" y="11210"/>
                    </a:lnTo>
                    <a:lnTo>
                      <a:pt x="12464" y="8620"/>
                    </a:lnTo>
                    <a:lnTo>
                      <a:pt x="14783" y="5860"/>
                    </a:lnTo>
                    <a:lnTo>
                      <a:pt x="19903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952400" y="3752280"/>
                <a:ext cx="52920" cy="406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6"/>
                    </a:moveTo>
                    <a:lnTo>
                      <a:pt x="2233" y="17690"/>
                    </a:lnTo>
                    <a:lnTo>
                      <a:pt x="5049" y="15162"/>
                    </a:lnTo>
                    <a:lnTo>
                      <a:pt x="7379" y="12515"/>
                    </a:lnTo>
                    <a:lnTo>
                      <a:pt x="9709" y="9747"/>
                    </a:lnTo>
                    <a:lnTo>
                      <a:pt x="12524" y="7004"/>
                    </a:lnTo>
                    <a:lnTo>
                      <a:pt x="14854" y="4477"/>
                    </a:lnTo>
                    <a:lnTo>
                      <a:pt x="17573" y="2070"/>
                    </a:lnTo>
                    <a:lnTo>
                      <a:pt x="18544" y="1035"/>
                    </a:lnTo>
                    <a:lnTo>
                      <a:pt x="19903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005680" y="3544560"/>
                <a:ext cx="53280" cy="208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53"/>
                    </a:moveTo>
                    <a:lnTo>
                      <a:pt x="2319" y="16376"/>
                    </a:lnTo>
                    <a:lnTo>
                      <a:pt x="5121" y="12753"/>
                    </a:lnTo>
                    <a:lnTo>
                      <a:pt x="7440" y="9412"/>
                    </a:lnTo>
                    <a:lnTo>
                      <a:pt x="9758" y="6259"/>
                    </a:lnTo>
                    <a:lnTo>
                      <a:pt x="12464" y="3812"/>
                    </a:lnTo>
                    <a:lnTo>
                      <a:pt x="13913" y="2682"/>
                    </a:lnTo>
                    <a:lnTo>
                      <a:pt x="14783" y="1788"/>
                    </a:lnTo>
                    <a:lnTo>
                      <a:pt x="16135" y="894"/>
                    </a:lnTo>
                    <a:lnTo>
                      <a:pt x="17585" y="424"/>
                    </a:lnTo>
                    <a:lnTo>
                      <a:pt x="18454" y="188"/>
                    </a:lnTo>
                    <a:lnTo>
                      <a:pt x="19903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058600" y="3544560"/>
                <a:ext cx="52920" cy="208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359" y="188"/>
                    </a:lnTo>
                    <a:lnTo>
                      <a:pt x="2330" y="424"/>
                    </a:lnTo>
                    <a:lnTo>
                      <a:pt x="3689" y="894"/>
                    </a:lnTo>
                    <a:lnTo>
                      <a:pt x="5049" y="1788"/>
                    </a:lnTo>
                    <a:lnTo>
                      <a:pt x="6019" y="2682"/>
                    </a:lnTo>
                    <a:lnTo>
                      <a:pt x="7379" y="3812"/>
                    </a:lnTo>
                    <a:lnTo>
                      <a:pt x="9709" y="6259"/>
                    </a:lnTo>
                    <a:lnTo>
                      <a:pt x="12524" y="9412"/>
                    </a:lnTo>
                    <a:lnTo>
                      <a:pt x="14854" y="12753"/>
                    </a:lnTo>
                    <a:lnTo>
                      <a:pt x="17573" y="16376"/>
                    </a:lnTo>
                    <a:lnTo>
                      <a:pt x="19903" y="19953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111520" y="3752280"/>
                <a:ext cx="53280" cy="406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449" y="1035"/>
                    </a:lnTo>
                    <a:lnTo>
                      <a:pt x="2319" y="2070"/>
                    </a:lnTo>
                    <a:lnTo>
                      <a:pt x="5121" y="4477"/>
                    </a:lnTo>
                    <a:lnTo>
                      <a:pt x="7440" y="7004"/>
                    </a:lnTo>
                    <a:lnTo>
                      <a:pt x="9758" y="9747"/>
                    </a:lnTo>
                    <a:lnTo>
                      <a:pt x="12464" y="12515"/>
                    </a:lnTo>
                    <a:lnTo>
                      <a:pt x="14783" y="15162"/>
                    </a:lnTo>
                    <a:lnTo>
                      <a:pt x="17585" y="17690"/>
                    </a:lnTo>
                    <a:lnTo>
                      <a:pt x="19903" y="19976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164800" y="4158720"/>
                <a:ext cx="52920" cy="287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5049" y="5860"/>
                    </a:lnTo>
                    <a:lnTo>
                      <a:pt x="7379" y="8620"/>
                    </a:lnTo>
                    <a:lnTo>
                      <a:pt x="9709" y="11210"/>
                    </a:lnTo>
                    <a:lnTo>
                      <a:pt x="12524" y="13799"/>
                    </a:lnTo>
                    <a:lnTo>
                      <a:pt x="14854" y="16082"/>
                    </a:lnTo>
                    <a:lnTo>
                      <a:pt x="17670" y="18194"/>
                    </a:lnTo>
                    <a:lnTo>
                      <a:pt x="19903" y="19966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217720" y="4446000"/>
                <a:ext cx="53280" cy="1105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2319" y="4248"/>
                    </a:lnTo>
                    <a:lnTo>
                      <a:pt x="5121" y="7611"/>
                    </a:lnTo>
                    <a:lnTo>
                      <a:pt x="7440" y="10619"/>
                    </a:lnTo>
                    <a:lnTo>
                      <a:pt x="9758" y="13097"/>
                    </a:lnTo>
                    <a:lnTo>
                      <a:pt x="12560" y="14779"/>
                    </a:lnTo>
                    <a:lnTo>
                      <a:pt x="14783" y="16903"/>
                    </a:lnTo>
                    <a:lnTo>
                      <a:pt x="19903" y="19912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71000" y="4556160"/>
                <a:ext cx="53280" cy="25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2319" y="5283"/>
                    </a:lnTo>
                    <a:lnTo>
                      <a:pt x="5121" y="8679"/>
                    </a:lnTo>
                    <a:lnTo>
                      <a:pt x="9662" y="14340"/>
                    </a:lnTo>
                    <a:lnTo>
                      <a:pt x="14783" y="16226"/>
                    </a:lnTo>
                    <a:lnTo>
                      <a:pt x="19903" y="19623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6794640" y="3525840"/>
              <a:ext cx="2065320" cy="1063080"/>
              <a:chOff x="6794640" y="3525840"/>
              <a:chExt cx="2065320" cy="1063080"/>
            </a:xfrm>
          </p:grpSpPr>
          <p:sp>
            <p:nvSpPr>
              <p:cNvPr id="174" name=""/>
              <p:cNvSpPr/>
              <p:nvPr/>
            </p:nvSpPr>
            <p:spPr>
              <a:xfrm>
                <a:off x="6794640" y="3525840"/>
                <a:ext cx="0" cy="1063080"/>
              </a:xfrm>
              <a:prstGeom prst="line">
                <a:avLst/>
              </a:prstGeom>
              <a:ln w="0">
                <a:solidFill>
                  <a:srgbClr val="0033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794640" y="4588920"/>
                <a:ext cx="2065320" cy="0"/>
              </a:xfrm>
              <a:prstGeom prst="line">
                <a:avLst/>
              </a:prstGeom>
              <a:ln w="0">
                <a:solidFill>
                  <a:srgbClr val="0033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897320" y="4347720"/>
              <a:ext cx="0" cy="33552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45840" y="4672080"/>
              <a:ext cx="40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99ff"/>
                  </a:solidFill>
                  <a:latin typeface="Times New Roman"/>
                </a:rPr>
                <a:t>f</a:t>
              </a:r>
              <a:r>
                <a:rPr b="0" i="1" lang="it-IT" sz="1600" spc="-1" strike="noStrike" baseline="-25000">
                  <a:solidFill>
                    <a:srgbClr val="0099ff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cedimenti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l carico da considerare è quello applicato Q 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meno il peso del terreno tolto per lo scav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 cedimenti sono calcolati per SLE. Quindi il carico è lontano dal carico limite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Si può assumere un comportamento elastico per il terren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er terreni a grana grossa: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l cedimento avviene in tempi brev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er terreni a grana fine: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l cedimento varia nel tempo; arriva al massimo dopo tempi molto lungh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cedimenti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edimento istantane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Si calcolano gli abbassamenti come integrale delle deformazioni</a:t>
            </a:r>
            <a:endParaRPr b="0" lang="en-US" sz="22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5" name="Object 7"/>
              <p:cNvSpPr txBox="1"/>
              <p:nvPr/>
            </p:nvSpPr>
            <p:spPr>
              <a:xfrm>
                <a:off x="1514520" y="2852640"/>
                <a:ext cx="46576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ς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6" name=""/>
          <p:cNvSpPr/>
          <p:nvPr/>
        </p:nvSpPr>
        <p:spPr>
          <a:xfrm>
            <a:off x="611280" y="3860640"/>
            <a:ext cx="7916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con E</a:t>
            </a:r>
            <a:r>
              <a:rPr b="0" lang="it-IT" sz="2200" spc="-1" strike="noStrike" baseline="-25000">
                <a:solidFill>
                  <a:srgbClr val="003399"/>
                </a:solidFill>
                <a:latin typeface="Comic Sans MS"/>
              </a:rPr>
              <a:t>u</a:t>
            </a: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 = modulo elastico non drenat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11280" y="4653000"/>
            <a:ext cx="7916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Se E</a:t>
            </a:r>
            <a:r>
              <a:rPr b="0" lang="it-IT" sz="2200" spc="-1" strike="noStrike" baseline="-25000">
                <a:solidFill>
                  <a:srgbClr val="003399"/>
                </a:solidFill>
                <a:latin typeface="Comic Sans MS"/>
              </a:rPr>
              <a:t>u</a:t>
            </a: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 è costan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8" name="Object 7"/>
              <p:cNvSpPr txBox="1"/>
              <p:nvPr/>
            </p:nvSpPr>
            <p:spPr>
              <a:xfrm>
                <a:off x="1476360" y="5084640"/>
                <a:ext cx="14511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9" name=""/>
          <p:cNvSpPr/>
          <p:nvPr/>
        </p:nvSpPr>
        <p:spPr>
          <a:xfrm>
            <a:off x="611280" y="5950080"/>
            <a:ext cx="7916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con I</a:t>
            </a:r>
            <a:r>
              <a:rPr b="0" lang="it-IT" sz="2200" spc="-1" strike="noStrike" baseline="-25000">
                <a:solidFill>
                  <a:srgbClr val="003399"/>
                </a:solidFill>
                <a:latin typeface="Comic Sans MS"/>
              </a:rPr>
              <a:t>w</a:t>
            </a: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 funzione di L/B e H/B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cedimenti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Cedimento istantane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Se E</a:t>
            </a:r>
            <a:r>
              <a:rPr b="0" lang="it-IT" sz="2200" spc="-1" strike="noStrike" baseline="-25000">
                <a:solidFill>
                  <a:srgbClr val="003399"/>
                </a:solidFill>
                <a:latin typeface="Comic Sans MS"/>
              </a:rPr>
              <a:t>u</a:t>
            </a: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 è costante</a:t>
            </a:r>
            <a:endParaRPr b="0" lang="en-US" sz="22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2" name="Object 7"/>
              <p:cNvSpPr txBox="1"/>
              <p:nvPr/>
            </p:nvSpPr>
            <p:spPr>
              <a:xfrm>
                <a:off x="1476360" y="2492280"/>
                <a:ext cx="14511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43" name=""/>
          <p:cNvSpPr/>
          <p:nvPr/>
        </p:nvSpPr>
        <p:spPr>
          <a:xfrm>
            <a:off x="2987640" y="2708280"/>
            <a:ext cx="4748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con I</a:t>
            </a:r>
            <a:r>
              <a:rPr b="0" lang="it-IT" sz="2200" spc="-1" strike="noStrike" baseline="-25000">
                <a:solidFill>
                  <a:srgbClr val="003399"/>
                </a:solidFill>
                <a:latin typeface="Comic Sans MS"/>
              </a:rPr>
              <a:t>w</a:t>
            </a: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 funzione di L/B e H/B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4" name="" descr=""/>
          <p:cNvPicPr/>
          <p:nvPr/>
        </p:nvPicPr>
        <p:blipFill>
          <a:blip r:embed="rId1"/>
          <a:srcRect l="0" t="0" r="0" b="34502"/>
          <a:stretch/>
        </p:blipFill>
        <p:spPr>
          <a:xfrm>
            <a:off x="3419640" y="3284640"/>
            <a:ext cx="4633920" cy="3241440"/>
          </a:xfrm>
          <a:prstGeom prst="rect">
            <a:avLst/>
          </a:prstGeom>
          <a:ln w="0">
            <a:noFill/>
          </a:ln>
        </p:spPr>
      </p:pic>
      <p:sp>
        <p:nvSpPr>
          <p:cNvPr id="1245" name=""/>
          <p:cNvSpPr/>
          <p:nvPr/>
        </p:nvSpPr>
        <p:spPr>
          <a:xfrm>
            <a:off x="3492360" y="3500280"/>
            <a:ext cx="287640" cy="31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Arial"/>
              </a:rPr>
              <a:t>I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cedimenti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Cedimento a tempo infinito</a:t>
            </a:r>
            <a:br>
              <a:rPr sz="2400"/>
            </a:b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Metodo edometrico</a:t>
            </a:r>
            <a:br>
              <a:rPr sz="2400"/>
            </a:b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(deformazione trasversale impedita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Si calcolano gli abbassamenti come integrale delle deformazioni</a:t>
            </a:r>
            <a:endParaRPr b="0" lang="en-US" sz="22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8" name="Object 7"/>
              <p:cNvSpPr txBox="1"/>
              <p:nvPr/>
            </p:nvSpPr>
            <p:spPr>
              <a:xfrm>
                <a:off x="1476360" y="3429000"/>
                <a:ext cx="18064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d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9" name=""/>
          <p:cNvSpPr/>
          <p:nvPr/>
        </p:nvSpPr>
        <p:spPr>
          <a:xfrm>
            <a:off x="611280" y="4292640"/>
            <a:ext cx="7916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lvl="1" marL="245160" indent="-94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co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245160" indent="-94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200" spc="-1" strike="noStrike">
                <a:solidFill>
                  <a:srgbClr val="003399"/>
                </a:solidFill>
                <a:latin typeface="Symbol"/>
                <a:ea typeface="Symbol"/>
              </a:rPr>
              <a:t></a:t>
            </a: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’</a:t>
            </a:r>
            <a:r>
              <a:rPr b="0" lang="it-IT" sz="2200" spc="-1" strike="noStrike" baseline="-25000">
                <a:solidFill>
                  <a:srgbClr val="003399"/>
                </a:solidFill>
                <a:latin typeface="Comic Sans MS"/>
              </a:rPr>
              <a:t>z</a:t>
            </a: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 = incremento di tensione indotto dal caric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245160" indent="-94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E</a:t>
            </a:r>
            <a:r>
              <a:rPr b="0" lang="it-IT" sz="2200" spc="-1" strike="noStrike" baseline="-25000">
                <a:solidFill>
                  <a:srgbClr val="003399"/>
                </a:solidFill>
                <a:latin typeface="Comic Sans MS"/>
              </a:rPr>
              <a:t>ed</a:t>
            </a: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 = modulo edometric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611280" y="5805360"/>
            <a:ext cx="7916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579240" indent="-222840"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Si possono usare gli andamenti delle tensioni mostrati in precedenz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cedimenti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10920" y="1582560"/>
            <a:ext cx="7916760" cy="17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Cedimento di consolidazione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può essere calcolato come aliquota del cedimento edometric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253" name="" descr=""/>
          <p:cNvPicPr/>
          <p:nvPr/>
        </p:nvPicPr>
        <p:blipFill>
          <a:blip r:embed="rId1"/>
          <a:srcRect l="0" t="47552" r="0" b="0"/>
          <a:stretch/>
        </p:blipFill>
        <p:spPr>
          <a:xfrm>
            <a:off x="4840200" y="3168720"/>
            <a:ext cx="4124520" cy="3689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4" name="Object 7"/>
              <p:cNvSpPr txBox="1"/>
              <p:nvPr/>
            </p:nvSpPr>
            <p:spPr>
              <a:xfrm>
                <a:off x="4067280" y="2565360"/>
                <a:ext cx="12967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255" name="" descr=""/>
          <p:cNvPicPr/>
          <p:nvPr/>
        </p:nvPicPr>
        <p:blipFill>
          <a:blip r:embed="rId2"/>
          <a:srcRect l="0" t="2688" r="0" b="52316"/>
          <a:stretch/>
        </p:blipFill>
        <p:spPr>
          <a:xfrm>
            <a:off x="660240" y="3068640"/>
            <a:ext cx="4127760" cy="3168720"/>
          </a:xfrm>
          <a:prstGeom prst="rect">
            <a:avLst/>
          </a:prstGeom>
          <a:ln w="0">
            <a:noFill/>
          </a:ln>
        </p:spPr>
      </p:pic>
      <p:sp>
        <p:nvSpPr>
          <p:cNvPr id="1256" name=""/>
          <p:cNvSpPr/>
          <p:nvPr/>
        </p:nvSpPr>
        <p:spPr>
          <a:xfrm>
            <a:off x="3851280" y="2997360"/>
            <a:ext cx="360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1042920" y="6237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Arial"/>
              </a:rPr>
              <a:t>Skempton e Bjerrum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giudizio sui cedimenti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 cedimenti assoluti sono condizionanti solo quando sono particolarmente elevat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 cedimenti relativi devono essere limitati, perché producono danni agli elementi non strutturali e alla struttura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60" name=""/>
          <p:cNvSpPr/>
          <p:nvPr/>
        </p:nvSpPr>
        <p:spPr>
          <a:xfrm>
            <a:off x="611280" y="3778200"/>
            <a:ext cx="79167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 cedimenti relativi non sono facilmente valutabili perché possono dipendere da variazioni delle caratteristiche del terreno non facilmente identificabili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Variazioni locali delle proprietà meccanich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Variazione dello spessore degli strat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Ec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giudizio sui cedimenti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10920" y="1582560"/>
            <a:ext cx="791676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radizionalmente (in ambito geotecnico) si propongono correlazioni empiriche tra cedimenti assoluti e relativ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263" name="" descr=""/>
          <p:cNvPicPr/>
          <p:nvPr/>
        </p:nvPicPr>
        <p:blipFill>
          <a:blip r:embed="rId1"/>
          <a:srcRect l="0" t="0" r="0" b="52723"/>
          <a:stretch/>
        </p:blipFill>
        <p:spPr>
          <a:xfrm>
            <a:off x="1619280" y="2878200"/>
            <a:ext cx="5111640" cy="3719520"/>
          </a:xfrm>
          <a:prstGeom prst="rect">
            <a:avLst/>
          </a:prstGeom>
          <a:ln w="0">
            <a:noFill/>
          </a:ln>
        </p:spPr>
      </p:pic>
      <p:sp>
        <p:nvSpPr>
          <p:cNvPr id="1264" name=""/>
          <p:cNvSpPr/>
          <p:nvPr/>
        </p:nvSpPr>
        <p:spPr>
          <a:xfrm>
            <a:off x="5076720" y="371628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abbi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300720" y="551664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argill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giudizio sui cedimenti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È possibile esaminare più modelli del complesso fondazione-struttura per valutare i cedimenti relativ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Ad esempio, facendo variare a zone la costante di sottofondo di Winkler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68" name=""/>
          <p:cNvSpPr/>
          <p:nvPr/>
        </p:nvSpPr>
        <p:spPr>
          <a:xfrm>
            <a:off x="611280" y="3860640"/>
            <a:ext cx="791676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La cosa più importante è collegare bene i diversi elementi di fondazione con elementi rigidi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Ad esempio, reticolo di travi di fondazione, con I</a:t>
            </a:r>
            <a:r>
              <a:rPr b="0" lang="it-IT" sz="2000" spc="-1" strike="noStrike" baseline="-25000">
                <a:solidFill>
                  <a:srgbClr val="003399"/>
                </a:solidFill>
                <a:latin typeface="Comic Sans MS"/>
              </a:rPr>
              <a:t>t,fond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 molto maggiore di I</a:t>
            </a:r>
            <a:r>
              <a:rPr b="0" lang="it-IT" sz="2000" spc="-1" strike="noStrike" baseline="-25000">
                <a:solidFill>
                  <a:srgbClr val="003399"/>
                </a:solidFill>
                <a:latin typeface="Comic Sans MS"/>
              </a:rPr>
              <a:t>t,elev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Suggerimento: I</a:t>
            </a:r>
            <a:r>
              <a:rPr b="0" lang="it-IT" sz="2000" spc="-1" strike="noStrike" baseline="-25000">
                <a:solidFill>
                  <a:srgbClr val="003399"/>
                </a:solidFill>
                <a:latin typeface="Comic Sans MS"/>
              </a:rPr>
              <a:t>t,fon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Symbol"/>
                <a:ea typeface="Symbol"/>
              </a:rPr>
              <a:t>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 4 n I</a:t>
            </a:r>
            <a:r>
              <a:rPr b="0" lang="it-IT" sz="2000" spc="-1" strike="noStrike" baseline="-25000">
                <a:solidFill>
                  <a:srgbClr val="003399"/>
                </a:solidFill>
                <a:latin typeface="Comic Sans MS"/>
              </a:rPr>
              <a:t>t,elev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 (con n numero di piani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 - calcolo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modello per interazione fondazione-terreno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10920" y="1582560"/>
            <a:ext cx="791676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Modello di Winkler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Abbassamenti indipendenti da punto a punt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Relazione lineare tra carico e abbassament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"/>
              <p:cNvSpPr txBox="1"/>
              <p:nvPr/>
            </p:nvSpPr>
            <p:spPr>
              <a:xfrm>
                <a:off x="3560760" y="3033720"/>
                <a:ext cx="838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3" name=""/>
          <p:cNvSpPr/>
          <p:nvPr/>
        </p:nvSpPr>
        <p:spPr>
          <a:xfrm>
            <a:off x="611280" y="3703680"/>
            <a:ext cx="574992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n realtà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nfluenza mutua dei punti</a:t>
            </a:r>
            <a:br>
              <a:rPr sz="2400"/>
            </a:b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All’estremità a parità di cedimento si 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hanno reazioni del terreno maggiori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6161040" y="3321000"/>
            <a:ext cx="2487240" cy="3536280"/>
            <a:chOff x="6161040" y="3321000"/>
            <a:chExt cx="2487240" cy="3536280"/>
          </a:xfrm>
        </p:grpSpPr>
        <p:pic>
          <p:nvPicPr>
            <p:cNvPr id="1275" name="" descr=""/>
            <p:cNvPicPr/>
            <p:nvPr/>
          </p:nvPicPr>
          <p:blipFill>
            <a:blip r:embed="rId1"/>
            <a:srcRect l="0" t="0" r="0" b="71644"/>
            <a:stretch/>
          </p:blipFill>
          <p:spPr>
            <a:xfrm>
              <a:off x="6161040" y="3321000"/>
              <a:ext cx="2487240" cy="15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6" name="" descr=""/>
            <p:cNvPicPr/>
            <p:nvPr/>
          </p:nvPicPr>
          <p:blipFill>
            <a:blip r:embed="rId2"/>
            <a:srcRect l="0" t="39079" r="0" b="45220"/>
            <a:stretch/>
          </p:blipFill>
          <p:spPr>
            <a:xfrm>
              <a:off x="6161040" y="4830120"/>
              <a:ext cx="2487240" cy="83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7" name="" descr=""/>
            <p:cNvPicPr/>
            <p:nvPr/>
          </p:nvPicPr>
          <p:blipFill>
            <a:blip r:embed="rId3"/>
            <a:srcRect l="0" t="70473" r="0" b="8523"/>
            <a:stretch/>
          </p:blipFill>
          <p:spPr>
            <a:xfrm>
              <a:off x="6161040" y="5744160"/>
              <a:ext cx="2487240" cy="111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Nel passato: terreno</a:t>
            </a:r>
            <a:br>
              <a:rPr sz="2800"/>
            </a:b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alcolo “a rottura”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 (anche se il termine non è usato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582560"/>
            <a:ext cx="7916760" cy="32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er i carichi: valore di riferimento corrispondente ad un carico che solo raramente può essere superato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(es. nel 5% dei casi, per tutta la vita della struttura)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er le proprietà del terreno: valore di riferimento corrispondente a quello medio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pplicazione di un coefficiente di sicurezza ai carichi limit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7"/>
              <p:cNvSpPr txBox="1"/>
              <p:nvPr/>
            </p:nvSpPr>
            <p:spPr>
              <a:xfrm>
                <a:off x="2287440" y="4524480"/>
                <a:ext cx="15512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mm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modello per interazione fondazione-terreno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10920" y="1582560"/>
            <a:ext cx="791676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Modello di Winkler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Abbassamenti indipendenti da punto a punt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Relazione lineare tra carico e abbassament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3560760" y="3033720"/>
                <a:ext cx="838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>
            <a:off x="611280" y="3703680"/>
            <a:ext cx="57499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n realtà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nfluenza mutua dei punti</a:t>
            </a:r>
            <a:br>
              <a:rPr sz="2400"/>
            </a:b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All’estremità a parità di cedimento si 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hanno reazioni del terreno maggiori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2" name="" descr=""/>
          <p:cNvPicPr/>
          <p:nvPr/>
        </p:nvPicPr>
        <p:blipFill>
          <a:blip r:embed="rId1"/>
          <a:stretch/>
        </p:blipFill>
        <p:spPr>
          <a:xfrm>
            <a:off x="5937120" y="3606840"/>
            <a:ext cx="3040200" cy="2814480"/>
          </a:xfrm>
          <a:prstGeom prst="rect">
            <a:avLst/>
          </a:prstGeom>
          <a:ln w="0">
            <a:noFill/>
          </a:ln>
        </p:spPr>
      </p:pic>
      <p:sp>
        <p:nvSpPr>
          <p:cNvPr id="1283" name=""/>
          <p:cNvSpPr/>
          <p:nvPr/>
        </p:nvSpPr>
        <p:spPr>
          <a:xfrm>
            <a:off x="611280" y="5330880"/>
            <a:ext cx="57499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Relazione carichi abbassamenti </a:t>
            </a:r>
            <a:br>
              <a:rPr sz="2400"/>
            </a:b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non lineare</a:t>
            </a:r>
            <a:br>
              <a:rPr sz="2400"/>
            </a:b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Soprattutto in prossimità di Q</a:t>
            </a:r>
            <a:r>
              <a:rPr b="0" lang="it-IT" sz="2000" spc="-1" strike="noStrike" baseline="-25000">
                <a:solidFill>
                  <a:srgbClr val="003399"/>
                </a:solidFill>
                <a:latin typeface="Comic Sans MS"/>
              </a:rPr>
              <a:t>lim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8367840" y="343224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5889600" y="590076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modello per interazione fondazione-terreno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10920" y="1582560"/>
            <a:ext cx="7916760" cy="16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onsiderazion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L’influenza mutua tra i punti (e il conseguente effetto di bordo) è importante nel caso di carico distribuit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88" name=""/>
          <p:cNvSpPr/>
          <p:nvPr/>
        </p:nvSpPr>
        <p:spPr>
          <a:xfrm>
            <a:off x="4319640" y="3313080"/>
            <a:ext cx="50328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11280" y="3778200"/>
            <a:ext cx="7916760" cy="16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Nelle fondazioni di edifici si hanno invece rilevanti azioni concentrate e quindi tale effetto è poco rilevan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modello per interazione fondazione-terreno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10920" y="1582560"/>
            <a:ext cx="7916760" cy="16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onsiderazion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i fini della verifica della fondazione (come struttura) la normativa indica di assumere i parametri del terreno senza modificarli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92" name=""/>
          <p:cNvSpPr/>
          <p:nvPr/>
        </p:nvSpPr>
        <p:spPr>
          <a:xfrm>
            <a:off x="4319640" y="3313080"/>
            <a:ext cx="50328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11280" y="3778200"/>
            <a:ext cx="469728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Il carico agente è lontano dal carico limite </a:t>
            </a:r>
            <a:br>
              <a:rPr sz="2000"/>
            </a:b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Q </a:t>
            </a:r>
            <a:r>
              <a:rPr b="0" lang="it-IT" sz="2000" spc="-1" strike="noStrike">
                <a:solidFill>
                  <a:srgbClr val="003399"/>
                </a:solidFill>
                <a:latin typeface="Symbol"/>
                <a:ea typeface="Symbol"/>
              </a:rPr>
              <a:t>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 Q</a:t>
            </a:r>
            <a:r>
              <a:rPr b="0" lang="it-IT" sz="2000" spc="-1" strike="noStrike" baseline="-25000">
                <a:solidFill>
                  <a:srgbClr val="003399"/>
                </a:solidFill>
                <a:latin typeface="Comic Sans MS"/>
              </a:rPr>
              <a:t>lim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/2.3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94" name="" descr=""/>
          <p:cNvPicPr/>
          <p:nvPr/>
        </p:nvPicPr>
        <p:blipFill>
          <a:blip r:embed="rId1"/>
          <a:stretch/>
        </p:blipFill>
        <p:spPr>
          <a:xfrm>
            <a:off x="5937120" y="3565440"/>
            <a:ext cx="3041640" cy="2827440"/>
          </a:xfrm>
          <a:prstGeom prst="rect">
            <a:avLst/>
          </a:prstGeom>
          <a:ln w="0">
            <a:noFill/>
          </a:ln>
        </p:spPr>
      </p:pic>
      <p:sp>
        <p:nvSpPr>
          <p:cNvPr id="1295" name=""/>
          <p:cNvSpPr/>
          <p:nvPr/>
        </p:nvSpPr>
        <p:spPr>
          <a:xfrm>
            <a:off x="8285040" y="3471840"/>
            <a:ext cx="432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Arial"/>
              </a:rPr>
              <a:t>lim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889600" y="590076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11280" y="5195880"/>
            <a:ext cx="469728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La pendenza della secante non è molto diversa da quella della tangente all’origi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892920" y="3471840"/>
            <a:ext cx="2872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" descr=""/>
          <p:cNvPicPr/>
          <p:nvPr/>
        </p:nvPicPr>
        <p:blipFill>
          <a:blip r:embed="rId1"/>
          <a:stretch/>
        </p:blipFill>
        <p:spPr>
          <a:xfrm>
            <a:off x="5937120" y="3565440"/>
            <a:ext cx="3041640" cy="2827440"/>
          </a:xfrm>
          <a:prstGeom prst="rect">
            <a:avLst/>
          </a:prstGeom>
          <a:ln w="0">
            <a:noFill/>
          </a:ln>
        </p:spPr>
      </p:pic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modello per interazione fondazione-terreno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10920" y="1582560"/>
            <a:ext cx="7916760" cy="16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onsiderazion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Ma in realtà le proprietà del terreno possono differire da quelle previste e quindi la relazione carichi-spostamenti può essere diversa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02" name=""/>
          <p:cNvSpPr/>
          <p:nvPr/>
        </p:nvSpPr>
        <p:spPr>
          <a:xfrm>
            <a:off x="4319640" y="3313080"/>
            <a:ext cx="50328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11280" y="3778200"/>
            <a:ext cx="469728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È necessario considerare una (ampia) fascia entro cui fare variare 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8285040" y="3471840"/>
            <a:ext cx="432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Arial"/>
              </a:rPr>
              <a:t>lim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5889600" y="590076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892920" y="3471840"/>
            <a:ext cx="2872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7358040" y="3471840"/>
            <a:ext cx="432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it-IT" sz="1800" spc="-1" strike="noStrike" baseline="-25000">
                <a:solidFill>
                  <a:srgbClr val="ff0000"/>
                </a:solidFill>
                <a:latin typeface="Arial"/>
              </a:rPr>
              <a:t>lim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11280" y="5195880"/>
            <a:ext cx="469728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Per la struttura di fondazione è in genere più gravoso il k</a:t>
            </a:r>
            <a:r>
              <a:rPr b="0" lang="it-IT" sz="2000" spc="-1" strike="noStrike" baseline="-25000">
                <a:solidFill>
                  <a:srgbClr val="003399"/>
                </a:solidFill>
                <a:latin typeface="Comic Sans MS"/>
              </a:rPr>
              <a:t>mi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trave elastica su suolo alla Winkler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10920" y="1582560"/>
            <a:ext cx="791676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l parametro che regge il problema è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3243240" y="2216160"/>
                <a:ext cx="1473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 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12" name=""/>
          <p:cNvSpPr/>
          <p:nvPr/>
        </p:nvSpPr>
        <p:spPr>
          <a:xfrm>
            <a:off x="611280" y="3200400"/>
            <a:ext cx="791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o la lunghezza L</a:t>
            </a:r>
            <a:r>
              <a:rPr b="0" lang="it-IT" sz="2400" spc="-1" strike="noStrike" baseline="30000">
                <a:solidFill>
                  <a:srgbClr val="003399"/>
                </a:solidFill>
                <a:latin typeface="Comic Sans MS"/>
              </a:rPr>
              <a:t>*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 = </a:t>
            </a:r>
            <a:r>
              <a:rPr b="0" lang="it-IT" sz="24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/</a:t>
            </a:r>
            <a:r>
              <a:rPr b="0" lang="it-IT" sz="2400" spc="-1" strike="noStrike">
                <a:solidFill>
                  <a:srgbClr val="003399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11280" y="3849840"/>
            <a:ext cx="791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Esempio: schema di trav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314" name=""/>
          <p:cNvGrpSpPr/>
          <p:nvPr/>
        </p:nvGrpSpPr>
        <p:grpSpPr>
          <a:xfrm>
            <a:off x="1127160" y="4606920"/>
            <a:ext cx="4033800" cy="1489680"/>
            <a:chOff x="1127160" y="4606920"/>
            <a:chExt cx="4033800" cy="1489680"/>
          </a:xfrm>
        </p:grpSpPr>
        <p:sp>
          <p:nvSpPr>
            <p:cNvPr id="1315" name=""/>
            <p:cNvSpPr/>
            <p:nvPr/>
          </p:nvSpPr>
          <p:spPr>
            <a:xfrm>
              <a:off x="1342800" y="5254560"/>
              <a:ext cx="360072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30440" y="4680000"/>
              <a:ext cx="0" cy="5745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639880" y="4680000"/>
              <a:ext cx="0" cy="5745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647880" y="4680000"/>
              <a:ext cx="0" cy="5745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656240" y="4680000"/>
              <a:ext cx="0" cy="5745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630440" y="460692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Comic Sans MS"/>
                </a:rPr>
                <a:t>N</a:t>
              </a:r>
              <a:r>
                <a:rPr b="0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639880" y="460692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Comic Sans MS"/>
                </a:rPr>
                <a:t>N</a:t>
              </a:r>
              <a:r>
                <a:rPr b="0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647880" y="460692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Comic Sans MS"/>
                </a:rPr>
                <a:t>N</a:t>
              </a:r>
              <a:r>
                <a:rPr b="0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656240" y="4606920"/>
              <a:ext cx="502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Comic Sans MS"/>
                </a:rPr>
                <a:t>N</a:t>
              </a:r>
              <a:r>
                <a:rPr b="0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198440" y="5614920"/>
              <a:ext cx="388944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342800" y="5470560"/>
              <a:ext cx="0" cy="2887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630440" y="5470560"/>
              <a:ext cx="0" cy="2887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639880" y="5470560"/>
              <a:ext cx="0" cy="2887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647880" y="5470560"/>
              <a:ext cx="0" cy="2887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656240" y="5470560"/>
              <a:ext cx="0" cy="2887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943520" y="5470560"/>
              <a:ext cx="0" cy="2887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127160" y="5759280"/>
              <a:ext cx="64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1.50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776240" y="5759280"/>
              <a:ext cx="6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4.20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855880" y="5759280"/>
              <a:ext cx="6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4.20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863880" y="5759280"/>
              <a:ext cx="6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4.20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511520" y="5759280"/>
              <a:ext cx="6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1.50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1336" name=""/>
          <p:cNvSpPr/>
          <p:nvPr/>
        </p:nvSpPr>
        <p:spPr>
          <a:xfrm>
            <a:off x="6012000" y="4149720"/>
            <a:ext cx="2311200" cy="26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L = 15.60 m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 = 1.20 m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 = 870 k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 = 1380 k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3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 = 1380 k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4,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= 870 k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 trave elastica - momenti al variare di L</a:t>
            </a:r>
            <a:r>
              <a:rPr b="0" lang="it-IT" sz="2800" spc="-1" strike="noStrike" baseline="30000">
                <a:solidFill>
                  <a:srgbClr val="003399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1"/>
          <a:srcRect l="0" t="19017" r="0" b="0"/>
          <a:stretch/>
        </p:blipFill>
        <p:spPr>
          <a:xfrm>
            <a:off x="611280" y="1636560"/>
            <a:ext cx="7916760" cy="1562400"/>
          </a:xfrm>
          <a:prstGeom prst="rect">
            <a:avLst/>
          </a:prstGeom>
          <a:ln w="0">
            <a:noFill/>
          </a:ln>
        </p:spPr>
      </p:pic>
      <p:pic>
        <p:nvPicPr>
          <p:cNvPr id="1339" name="" descr=""/>
          <p:cNvPicPr/>
          <p:nvPr/>
        </p:nvPicPr>
        <p:blipFill>
          <a:blip r:embed="rId2"/>
          <a:srcRect l="0" t="22590" r="0" b="0"/>
          <a:stretch/>
        </p:blipFill>
        <p:spPr>
          <a:xfrm>
            <a:off x="611280" y="2997360"/>
            <a:ext cx="7916760" cy="1493640"/>
          </a:xfrm>
          <a:prstGeom prst="rect">
            <a:avLst/>
          </a:prstGeom>
          <a:ln w="0">
            <a:noFill/>
          </a:ln>
        </p:spPr>
      </p:pic>
      <p:pic>
        <p:nvPicPr>
          <p:cNvPr id="1340" name="" descr=""/>
          <p:cNvPicPr/>
          <p:nvPr/>
        </p:nvPicPr>
        <p:blipFill>
          <a:blip r:embed="rId3"/>
          <a:srcRect l="0" t="35730" r="0" b="7530"/>
          <a:stretch/>
        </p:blipFill>
        <p:spPr>
          <a:xfrm>
            <a:off x="611280" y="4309920"/>
            <a:ext cx="7916760" cy="1094040"/>
          </a:xfrm>
          <a:prstGeom prst="rect">
            <a:avLst/>
          </a:prstGeom>
          <a:ln w="0">
            <a:noFill/>
          </a:ln>
        </p:spPr>
      </p:pic>
      <p:pic>
        <p:nvPicPr>
          <p:cNvPr id="1341" name="" descr=""/>
          <p:cNvPicPr/>
          <p:nvPr/>
        </p:nvPicPr>
        <p:blipFill>
          <a:blip r:embed="rId4"/>
          <a:srcRect l="851" t="8457" r="0" b="0"/>
          <a:stretch/>
        </p:blipFill>
        <p:spPr>
          <a:xfrm>
            <a:off x="611280" y="5670720"/>
            <a:ext cx="7916760" cy="977760"/>
          </a:xfrm>
          <a:prstGeom prst="rect">
            <a:avLst/>
          </a:prstGeom>
          <a:ln w="0">
            <a:noFill/>
          </a:ln>
        </p:spPr>
      </p:pic>
      <p:sp>
        <p:nvSpPr>
          <p:cNvPr id="1342" name=""/>
          <p:cNvSpPr/>
          <p:nvPr/>
        </p:nvSpPr>
        <p:spPr>
          <a:xfrm>
            <a:off x="611280" y="4143240"/>
            <a:ext cx="791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771192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L</a:t>
            </a:r>
            <a:r>
              <a:rPr b="0" lang="it-IT" sz="1800" spc="-1" strike="noStrike" baseline="30000">
                <a:solidFill>
                  <a:srgbClr val="003399"/>
                </a:solidFill>
                <a:latin typeface="Comic Sans MS"/>
              </a:rPr>
              <a:t>*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 2 L (trave rigida, suolo deformabile)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3399"/>
                </a:solidFill>
                <a:latin typeface="Comic Sans MS"/>
              </a:rPr>
              <a:t>k=0.77 N/cm</a:t>
            </a:r>
            <a:r>
              <a:rPr b="0" lang="it-IT" sz="1600" spc="-1" strike="noStrike" baseline="30000">
                <a:solidFill>
                  <a:srgbClr val="003399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11280" y="1582560"/>
            <a:ext cx="791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974960"/>
                <a:tab algn="r" pos="771192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L</a:t>
            </a:r>
            <a:r>
              <a:rPr b="0" lang="it-IT" sz="1800" spc="-1" strike="noStrike" baseline="30000">
                <a:solidFill>
                  <a:srgbClr val="003399"/>
                </a:solidFill>
                <a:latin typeface="Comic Sans MS"/>
              </a:rPr>
              <a:t>*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 0.5 L (trave deformabile, suolo rigido)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3399"/>
                </a:solidFill>
                <a:latin typeface="Comic Sans MS"/>
              </a:rPr>
              <a:t>k =198.9 N/cm</a:t>
            </a:r>
            <a:r>
              <a:rPr b="0" lang="it-IT" sz="1600" spc="-1" strike="noStrike" baseline="30000">
                <a:solidFill>
                  <a:srgbClr val="003399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11280" y="2935440"/>
            <a:ext cx="7916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771192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L</a:t>
            </a:r>
            <a:r>
              <a:rPr b="0" lang="it-IT" sz="1800" spc="-1" strike="noStrike" baseline="30000">
                <a:solidFill>
                  <a:srgbClr val="003399"/>
                </a:solidFill>
                <a:latin typeface="Comic Sans MS"/>
              </a:rPr>
              <a:t>*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 L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3399"/>
                </a:solidFill>
                <a:latin typeface="Comic Sans MS"/>
              </a:rPr>
              <a:t>k=12.4 N/cm</a:t>
            </a:r>
            <a:r>
              <a:rPr b="0" lang="it-IT" sz="1600" spc="-1" strike="noStrike" baseline="30000">
                <a:solidFill>
                  <a:srgbClr val="003399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11280" y="5388120"/>
            <a:ext cx="7916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L</a:t>
            </a:r>
            <a:r>
              <a:rPr b="0" lang="it-IT" sz="1800" spc="-1" strike="noStrike" baseline="30000">
                <a:solidFill>
                  <a:srgbClr val="003399"/>
                </a:solidFill>
                <a:latin typeface="Comic Sans MS"/>
              </a:rPr>
              <a:t>*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= </a:t>
            </a: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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 (trave infinitamente rigida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738760" y="512136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008 kNm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738760" y="388764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801 kNm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738760" y="252252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534 kNm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5738760" y="634032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1032 kNm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ndazioni dirett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 trave di fondazione - considerazioni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10920" y="1582560"/>
            <a:ext cx="7916760" cy="17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La trave deve essere rigida</a:t>
            </a:r>
            <a:br>
              <a:rPr sz="2400"/>
            </a:b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per limitare i cedimenti differenzial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Se si considera la variabilità del terreno, ci si può avvicinare a Q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Comic Sans MS"/>
              </a:rPr>
              <a:t>lim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 terreno molto deformabil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52" name=""/>
          <p:cNvSpPr/>
          <p:nvPr/>
        </p:nvSpPr>
        <p:spPr>
          <a:xfrm>
            <a:off x="4319640" y="3417840"/>
            <a:ext cx="50328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611280" y="3770280"/>
            <a:ext cx="79167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uò essere opportuno usare sempre lo schema limite di trave rigida-suolo flessibile?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1343160" y="5065560"/>
            <a:ext cx="2879640" cy="460440"/>
            <a:chOff x="1343160" y="5065560"/>
            <a:chExt cx="2879640" cy="460440"/>
          </a:xfrm>
        </p:grpSpPr>
        <p:sp>
          <p:nvSpPr>
            <p:cNvPr id="1355" name=""/>
            <p:cNvSpPr/>
            <p:nvPr/>
          </p:nvSpPr>
          <p:spPr>
            <a:xfrm>
              <a:off x="1343160" y="5526000"/>
              <a:ext cx="287964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572840" y="5065560"/>
              <a:ext cx="0" cy="4604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380320" y="5065560"/>
              <a:ext cx="0" cy="4604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186720" y="5065560"/>
              <a:ext cx="0" cy="4604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992760" y="5065560"/>
              <a:ext cx="0" cy="4604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5013360" y="5526000"/>
            <a:ext cx="2879640" cy="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5243400" y="5165640"/>
            <a:ext cx="1800" cy="36036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6049800" y="5165640"/>
            <a:ext cx="1800" cy="36036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6856560" y="4968720"/>
            <a:ext cx="1440" cy="55728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7662960" y="4968720"/>
            <a:ext cx="1440" cy="557280"/>
          </a:xfrm>
          <a:prstGeom prst="line">
            <a:avLst/>
          </a:prstGeom>
          <a:ln w="93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343160" y="5711760"/>
            <a:ext cx="2879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1523880" y="5711760"/>
            <a:ext cx="2517840" cy="287280"/>
            <a:chOff x="1523880" y="5711760"/>
            <a:chExt cx="2517840" cy="287280"/>
          </a:xfrm>
        </p:grpSpPr>
        <p:grpSp>
          <p:nvGrpSpPr>
            <p:cNvPr id="1367" name=""/>
            <p:cNvGrpSpPr/>
            <p:nvPr/>
          </p:nvGrpSpPr>
          <p:grpSpPr>
            <a:xfrm>
              <a:off x="1523880" y="5711760"/>
              <a:ext cx="358920" cy="287280"/>
              <a:chOff x="1523880" y="5711760"/>
              <a:chExt cx="358920" cy="287280"/>
            </a:xfrm>
          </p:grpSpPr>
          <p:sp>
            <p:nvSpPr>
              <p:cNvPr id="1368" name=""/>
              <p:cNvSpPr/>
              <p:nvPr/>
            </p:nvSpPr>
            <p:spPr>
              <a:xfrm flipV="1">
                <a:off x="1523880" y="5711760"/>
                <a:ext cx="0" cy="287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V="1">
                <a:off x="1703160" y="5711760"/>
                <a:ext cx="0" cy="287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1882800" y="5711760"/>
                <a:ext cx="0" cy="287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2063520" y="5711760"/>
              <a:ext cx="358920" cy="287280"/>
              <a:chOff x="2063520" y="5711760"/>
              <a:chExt cx="358920" cy="287280"/>
            </a:xfrm>
          </p:grpSpPr>
          <p:sp>
            <p:nvSpPr>
              <p:cNvPr id="1372" name=""/>
              <p:cNvSpPr/>
              <p:nvPr/>
            </p:nvSpPr>
            <p:spPr>
              <a:xfrm flipV="1">
                <a:off x="2063520" y="5711760"/>
                <a:ext cx="0" cy="287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V="1">
                <a:off x="2242800" y="5711760"/>
                <a:ext cx="0" cy="287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V="1">
                <a:off x="2422440" y="5711760"/>
                <a:ext cx="0" cy="287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2603520" y="5711760"/>
              <a:ext cx="358560" cy="287280"/>
              <a:chOff x="2603520" y="5711760"/>
              <a:chExt cx="358560" cy="287280"/>
            </a:xfrm>
          </p:grpSpPr>
          <p:sp>
            <p:nvSpPr>
              <p:cNvPr id="1376" name=""/>
              <p:cNvSpPr/>
              <p:nvPr/>
            </p:nvSpPr>
            <p:spPr>
              <a:xfrm flipV="1">
                <a:off x="2603520" y="5711760"/>
                <a:ext cx="0" cy="287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V="1">
                <a:off x="2782440" y="5711760"/>
                <a:ext cx="0" cy="287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V="1">
                <a:off x="2962080" y="5711760"/>
                <a:ext cx="0" cy="287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3143160" y="5711760"/>
              <a:ext cx="358920" cy="287280"/>
              <a:chOff x="3143160" y="5711760"/>
              <a:chExt cx="358920" cy="287280"/>
            </a:xfrm>
          </p:grpSpPr>
          <p:sp>
            <p:nvSpPr>
              <p:cNvPr id="1380" name=""/>
              <p:cNvSpPr/>
              <p:nvPr/>
            </p:nvSpPr>
            <p:spPr>
              <a:xfrm flipV="1">
                <a:off x="3143160" y="5711760"/>
                <a:ext cx="0" cy="287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3322440" y="5711760"/>
                <a:ext cx="0" cy="287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V="1">
                <a:off x="3502080" y="5711760"/>
                <a:ext cx="0" cy="287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383" name=""/>
            <p:cNvGrpSpPr/>
            <p:nvPr/>
          </p:nvGrpSpPr>
          <p:grpSpPr>
            <a:xfrm>
              <a:off x="3682800" y="5711760"/>
              <a:ext cx="358920" cy="287280"/>
              <a:chOff x="3682800" y="5711760"/>
              <a:chExt cx="358920" cy="287280"/>
            </a:xfrm>
          </p:grpSpPr>
          <p:sp>
            <p:nvSpPr>
              <p:cNvPr id="1384" name=""/>
              <p:cNvSpPr/>
              <p:nvPr/>
            </p:nvSpPr>
            <p:spPr>
              <a:xfrm flipV="1">
                <a:off x="3682800" y="5711760"/>
                <a:ext cx="0" cy="287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V="1">
                <a:off x="3862080" y="5711760"/>
                <a:ext cx="0" cy="287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flipV="1">
                <a:off x="4041720" y="5711760"/>
                <a:ext cx="0" cy="287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sp>
        <p:nvSpPr>
          <p:cNvPr id="1387" name=""/>
          <p:cNvSpPr/>
          <p:nvPr/>
        </p:nvSpPr>
        <p:spPr>
          <a:xfrm>
            <a:off x="5516640" y="5711760"/>
            <a:ext cx="2376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5715000" y="5711760"/>
            <a:ext cx="1977840" cy="287280"/>
            <a:chOff x="5715000" y="5711760"/>
            <a:chExt cx="1977840" cy="287280"/>
          </a:xfrm>
        </p:grpSpPr>
        <p:grpSp>
          <p:nvGrpSpPr>
            <p:cNvPr id="1389" name=""/>
            <p:cNvGrpSpPr/>
            <p:nvPr/>
          </p:nvGrpSpPr>
          <p:grpSpPr>
            <a:xfrm>
              <a:off x="5715000" y="5711760"/>
              <a:ext cx="358920" cy="287280"/>
              <a:chOff x="5715000" y="5711760"/>
              <a:chExt cx="358920" cy="287280"/>
            </a:xfrm>
          </p:grpSpPr>
          <p:sp>
            <p:nvSpPr>
              <p:cNvPr id="1390" name=""/>
              <p:cNvSpPr/>
              <p:nvPr/>
            </p:nvSpPr>
            <p:spPr>
              <a:xfrm flipV="1">
                <a:off x="5715000" y="5711760"/>
                <a:ext cx="0" cy="287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V="1">
                <a:off x="5894280" y="5711760"/>
                <a:ext cx="0" cy="287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6073920" y="5711760"/>
                <a:ext cx="0" cy="287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6254640" y="5711760"/>
              <a:ext cx="358920" cy="287280"/>
              <a:chOff x="6254640" y="5711760"/>
              <a:chExt cx="358920" cy="287280"/>
            </a:xfrm>
          </p:grpSpPr>
          <p:sp>
            <p:nvSpPr>
              <p:cNvPr id="1394" name=""/>
              <p:cNvSpPr/>
              <p:nvPr/>
            </p:nvSpPr>
            <p:spPr>
              <a:xfrm flipV="1">
                <a:off x="6254640" y="5711760"/>
                <a:ext cx="0" cy="287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V="1">
                <a:off x="6433920" y="5711760"/>
                <a:ext cx="0" cy="287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V="1">
                <a:off x="6613560" y="5711760"/>
                <a:ext cx="0" cy="287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397" name=""/>
            <p:cNvGrpSpPr/>
            <p:nvPr/>
          </p:nvGrpSpPr>
          <p:grpSpPr>
            <a:xfrm>
              <a:off x="6794640" y="5711760"/>
              <a:ext cx="358560" cy="287280"/>
              <a:chOff x="6794640" y="5711760"/>
              <a:chExt cx="358560" cy="287280"/>
            </a:xfrm>
          </p:grpSpPr>
          <p:sp>
            <p:nvSpPr>
              <p:cNvPr id="1398" name=""/>
              <p:cNvSpPr/>
              <p:nvPr/>
            </p:nvSpPr>
            <p:spPr>
              <a:xfrm flipV="1">
                <a:off x="6794640" y="5711760"/>
                <a:ext cx="0" cy="287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V="1">
                <a:off x="6973560" y="5711760"/>
                <a:ext cx="0" cy="287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V="1">
                <a:off x="7153200" y="5711760"/>
                <a:ext cx="0" cy="287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401" name=""/>
            <p:cNvGrpSpPr/>
            <p:nvPr/>
          </p:nvGrpSpPr>
          <p:grpSpPr>
            <a:xfrm>
              <a:off x="7334280" y="5711760"/>
              <a:ext cx="358560" cy="287280"/>
              <a:chOff x="7334280" y="5711760"/>
              <a:chExt cx="358560" cy="287280"/>
            </a:xfrm>
          </p:grpSpPr>
          <p:sp>
            <p:nvSpPr>
              <p:cNvPr id="1402" name=""/>
              <p:cNvSpPr/>
              <p:nvPr/>
            </p:nvSpPr>
            <p:spPr>
              <a:xfrm flipV="1">
                <a:off x="7334280" y="5711760"/>
                <a:ext cx="0" cy="287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V="1">
                <a:off x="7513200" y="5711760"/>
                <a:ext cx="0" cy="287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V="1">
                <a:off x="7692840" y="5711760"/>
                <a:ext cx="0" cy="287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Dimensionamento plinti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ltezza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10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ltezza, per verifiche a punzonament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col perimetro u a filo pilastro</a:t>
            </a:r>
            <a:endParaRPr b="0" lang="en-US" sz="22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7" name=""/>
              <p:cNvSpPr txBox="1"/>
              <p:nvPr/>
            </p:nvSpPr>
            <p:spPr>
              <a:xfrm>
                <a:off x="1911240" y="2487600"/>
                <a:ext cx="17020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8" name=""/>
          <p:cNvSpPr/>
          <p:nvPr/>
        </p:nvSpPr>
        <p:spPr>
          <a:xfrm>
            <a:off x="611280" y="3238560"/>
            <a:ext cx="791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poco condizionan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9" name=""/>
              <p:cNvSpPr txBox="1"/>
              <p:nvPr/>
            </p:nvSpPr>
            <p:spPr>
              <a:xfrm>
                <a:off x="4881600" y="2475000"/>
                <a:ext cx="17780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0" name=""/>
          <p:cNvSpPr/>
          <p:nvPr/>
        </p:nvSpPr>
        <p:spPr>
          <a:xfrm>
            <a:off x="4121280" y="2820960"/>
            <a:ext cx="264960" cy="146160"/>
          </a:xfrm>
          <a:prstGeom prst="rightArrow">
            <a:avLst>
              <a:gd name="adj1" fmla="val 50000"/>
              <a:gd name="adj2" fmla="val 45320"/>
            </a:avLst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11280" y="3814920"/>
            <a:ext cx="7916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col perimetro u a distanza 2 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11280" y="5216400"/>
            <a:ext cx="79167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ma solo se si volesse non mettere armatura a tagli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13" name="" descr=""/>
          <p:cNvPicPr/>
          <p:nvPr/>
        </p:nvPicPr>
        <p:blipFill>
          <a:blip r:embed="rId1"/>
          <a:stretch/>
        </p:blipFill>
        <p:spPr>
          <a:xfrm>
            <a:off x="3200400" y="4464000"/>
            <a:ext cx="4886280" cy="53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14" name=""/>
              <p:cNvSpPr txBox="1"/>
              <p:nvPr/>
            </p:nvSpPr>
            <p:spPr>
              <a:xfrm>
                <a:off x="1393920" y="4375080"/>
                <a:ext cx="1244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≤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d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15" name=""/>
          <p:cNvSpPr/>
          <p:nvPr/>
        </p:nvSpPr>
        <p:spPr>
          <a:xfrm>
            <a:off x="611280" y="5904000"/>
            <a:ext cx="7916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n definitiva, si può assegnare quasi “a occhio”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Dimensionamento plinti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rmature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10920" y="1582560"/>
            <a:ext cx="791676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rmature a flessione da calcolare con modello di trave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(fare qualche schizzo)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oppur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rmature inferiori da calcolare con un modello a tiranti e punton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18" name=""/>
          <p:cNvSpPr/>
          <p:nvPr/>
        </p:nvSpPr>
        <p:spPr>
          <a:xfrm>
            <a:off x="4319640" y="3683160"/>
            <a:ext cx="503280" cy="2156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11280" y="4035600"/>
            <a:ext cx="79167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Forniscono sostanzialmente lo stesso risultat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ravi di fondazioni, platee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Discutere sinteticamente criteri di dimensionamento di sezioni e armatur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Oggi: strutture</a:t>
            </a:r>
            <a:br>
              <a:rPr sz="2800"/>
            </a:b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verifica allo stato limite ultimo (SLU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10920" y="1582200"/>
            <a:ext cx="7916760" cy="19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er i carichi: valore di riferimento corrispondente ad un carico che può essere superato solo in casi estremamente rari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(es. nel 0.1% dei casi, per tutta la vita della struttura; oppure terremoto con T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r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=475 anni)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da valore caratteristico a valore di calcolo:</a:t>
            </a:r>
            <a:endParaRPr b="0" lang="en-US" sz="22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7"/>
              <p:cNvSpPr txBox="1"/>
              <p:nvPr/>
            </p:nvSpPr>
            <p:spPr>
              <a:xfrm>
                <a:off x="2757600" y="3502080"/>
                <a:ext cx="11952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4" name="CasellaDiTesto 8"/>
          <p:cNvSpPr/>
          <p:nvPr/>
        </p:nvSpPr>
        <p:spPr>
          <a:xfrm>
            <a:off x="4815000" y="3405240"/>
            <a:ext cx="2724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Comic Sans MS"/>
              </a:rPr>
              <a:t>F</a:t>
            </a:r>
            <a:r>
              <a:rPr b="0" lang="en-US" sz="18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Comic Sans MS"/>
              </a:rPr>
              <a:t>coefficiente di sicurezza parzial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582560" y="4317840"/>
            <a:ext cx="3098520" cy="2159280"/>
            <a:chOff x="1582560" y="4317840"/>
            <a:chExt cx="3098520" cy="2159280"/>
          </a:xfrm>
        </p:grpSpPr>
        <p:grpSp>
          <p:nvGrpSpPr>
            <p:cNvPr id="186" name=""/>
            <p:cNvGrpSpPr/>
            <p:nvPr/>
          </p:nvGrpSpPr>
          <p:grpSpPr>
            <a:xfrm>
              <a:off x="3215880" y="5243040"/>
              <a:ext cx="615240" cy="1234080"/>
              <a:chOff x="3215880" y="5243040"/>
              <a:chExt cx="615240" cy="1234080"/>
            </a:xfrm>
          </p:grpSpPr>
          <p:sp>
            <p:nvSpPr>
              <p:cNvPr id="187" name=""/>
              <p:cNvSpPr/>
              <p:nvPr/>
            </p:nvSpPr>
            <p:spPr>
              <a:xfrm>
                <a:off x="3394080" y="5243040"/>
                <a:ext cx="0" cy="810000"/>
              </a:xfrm>
              <a:prstGeom prst="line">
                <a:avLst/>
              </a:prstGeom>
              <a:ln w="284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215880" y="6036480"/>
                <a:ext cx="615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2000" spc="-1" strike="noStrike">
                    <a:solidFill>
                      <a:srgbClr val="0099ff"/>
                    </a:solidFill>
                    <a:latin typeface="Times New Roman"/>
                  </a:rPr>
                  <a:t>F</a:t>
                </a:r>
                <a:r>
                  <a:rPr b="0" i="1" lang="it-IT" sz="2000" spc="-1" strike="noStrike" baseline="-25000">
                    <a:solidFill>
                      <a:srgbClr val="0099ff"/>
                    </a:solidFill>
                    <a:latin typeface="Times New Roman"/>
                  </a:rPr>
                  <a:t>k</a:t>
                </a:r>
                <a:endParaRPr b="0" lang="en-US" sz="20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1605960" y="4384440"/>
              <a:ext cx="2690640" cy="1518840"/>
              <a:chOff x="1605960" y="4384440"/>
              <a:chExt cx="2690640" cy="1518840"/>
            </a:xfrm>
          </p:grpSpPr>
          <p:sp>
            <p:nvSpPr>
              <p:cNvPr id="190" name=""/>
              <p:cNvSpPr/>
              <p:nvPr/>
            </p:nvSpPr>
            <p:spPr>
              <a:xfrm>
                <a:off x="1605960" y="5697720"/>
                <a:ext cx="175320" cy="119880"/>
              </a:xfrm>
              <a:custGeom>
                <a:avLst/>
                <a:gdLst/>
                <a:ahLst/>
                <a:rect l="l" t="t" r="r" b="b"/>
                <a:pathLst>
                  <a:path w="299" h="105">
                    <a:moveTo>
                      <a:pt x="0" y="105"/>
                    </a:moveTo>
                    <a:lnTo>
                      <a:pt x="149" y="60"/>
                    </a:lnTo>
                    <a:lnTo>
                      <a:pt x="299" y="0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781280" y="5477040"/>
                <a:ext cx="184320" cy="220320"/>
              </a:xfrm>
              <a:custGeom>
                <a:avLst/>
                <a:gdLst/>
                <a:ahLst/>
                <a:rect l="l" t="t" r="r" b="b"/>
                <a:pathLst>
                  <a:path w="314" h="193">
                    <a:moveTo>
                      <a:pt x="0" y="193"/>
                    </a:moveTo>
                    <a:lnTo>
                      <a:pt x="150" y="104"/>
                    </a:lnTo>
                    <a:lnTo>
                      <a:pt x="314" y="0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965960" y="5169600"/>
                <a:ext cx="176040" cy="307440"/>
              </a:xfrm>
              <a:custGeom>
                <a:avLst/>
                <a:gdLst/>
                <a:ahLst/>
                <a:rect l="l" t="t" r="r" b="b"/>
                <a:pathLst>
                  <a:path w="300" h="269">
                    <a:moveTo>
                      <a:pt x="0" y="269"/>
                    </a:moveTo>
                    <a:lnTo>
                      <a:pt x="150" y="149"/>
                    </a:lnTo>
                    <a:lnTo>
                      <a:pt x="300" y="0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142000" y="4794840"/>
                <a:ext cx="184320" cy="374760"/>
              </a:xfrm>
              <a:custGeom>
                <a:avLst/>
                <a:gdLst/>
                <a:ahLst/>
                <a:rect l="l" t="t" r="r" b="b"/>
                <a:pathLst>
                  <a:path w="314" h="328">
                    <a:moveTo>
                      <a:pt x="0" y="328"/>
                    </a:moveTo>
                    <a:lnTo>
                      <a:pt x="75" y="253"/>
                    </a:lnTo>
                    <a:lnTo>
                      <a:pt x="150" y="164"/>
                    </a:lnTo>
                    <a:lnTo>
                      <a:pt x="239" y="74"/>
                    </a:lnTo>
                    <a:lnTo>
                      <a:pt x="314" y="0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26320" y="4504320"/>
                <a:ext cx="176040" cy="290160"/>
              </a:xfrm>
              <a:custGeom>
                <a:avLst/>
                <a:gdLst/>
                <a:ahLst/>
                <a:rect l="l" t="t" r="r" b="b"/>
                <a:pathLst>
                  <a:path w="300" h="254">
                    <a:moveTo>
                      <a:pt x="0" y="254"/>
                    </a:moveTo>
                    <a:lnTo>
                      <a:pt x="150" y="119"/>
                    </a:lnTo>
                    <a:lnTo>
                      <a:pt x="225" y="45"/>
                    </a:lnTo>
                    <a:lnTo>
                      <a:pt x="300" y="0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502720" y="4384440"/>
                <a:ext cx="175680" cy="119880"/>
              </a:xfrm>
              <a:custGeom>
                <a:avLst/>
                <a:gdLst/>
                <a:ahLst/>
                <a:rect l="l" t="t" r="r" b="b"/>
                <a:pathLst>
                  <a:path w="299" h="105">
                    <a:moveTo>
                      <a:pt x="0" y="105"/>
                    </a:moveTo>
                    <a:lnTo>
                      <a:pt x="149" y="30"/>
                    </a:lnTo>
                    <a:lnTo>
                      <a:pt x="224" y="15"/>
                    </a:lnTo>
                    <a:lnTo>
                      <a:pt x="299" y="0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678400" y="4384440"/>
                <a:ext cx="184680" cy="119880"/>
              </a:xfrm>
              <a:custGeom>
                <a:avLst/>
                <a:gdLst/>
                <a:ahLst/>
                <a:rect l="l" t="t" r="r" b="b"/>
                <a:pathLst>
                  <a:path w="315" h="105">
                    <a:moveTo>
                      <a:pt x="0" y="0"/>
                    </a:moveTo>
                    <a:lnTo>
                      <a:pt x="75" y="15"/>
                    </a:lnTo>
                    <a:lnTo>
                      <a:pt x="150" y="30"/>
                    </a:lnTo>
                    <a:lnTo>
                      <a:pt x="240" y="60"/>
                    </a:lnTo>
                    <a:lnTo>
                      <a:pt x="315" y="105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863440" y="4504320"/>
                <a:ext cx="175320" cy="290160"/>
              </a:xfrm>
              <a:custGeom>
                <a:avLst/>
                <a:gdLst/>
                <a:ahLst/>
                <a:rect l="l" t="t" r="r" b="b"/>
                <a:pathLst>
                  <a:path w="299" h="254">
                    <a:moveTo>
                      <a:pt x="0" y="0"/>
                    </a:moveTo>
                    <a:lnTo>
                      <a:pt x="74" y="45"/>
                    </a:lnTo>
                    <a:lnTo>
                      <a:pt x="149" y="119"/>
                    </a:lnTo>
                    <a:lnTo>
                      <a:pt x="299" y="254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038760" y="4794840"/>
                <a:ext cx="184320" cy="374760"/>
              </a:xfrm>
              <a:custGeom>
                <a:avLst/>
                <a:gdLst/>
                <a:ahLst/>
                <a:rect l="l" t="t" r="r" b="b"/>
                <a:pathLst>
                  <a:path w="314" h="328">
                    <a:moveTo>
                      <a:pt x="0" y="0"/>
                    </a:moveTo>
                    <a:lnTo>
                      <a:pt x="75" y="74"/>
                    </a:lnTo>
                    <a:lnTo>
                      <a:pt x="150" y="164"/>
                    </a:lnTo>
                    <a:lnTo>
                      <a:pt x="240" y="253"/>
                    </a:lnTo>
                    <a:lnTo>
                      <a:pt x="314" y="328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223440" y="5169600"/>
                <a:ext cx="176040" cy="307440"/>
              </a:xfrm>
              <a:custGeom>
                <a:avLst/>
                <a:gdLst/>
                <a:ahLst/>
                <a:rect l="l" t="t" r="r" b="b"/>
                <a:pathLst>
                  <a:path w="300" h="269">
                    <a:moveTo>
                      <a:pt x="0" y="0"/>
                    </a:moveTo>
                    <a:lnTo>
                      <a:pt x="150" y="149"/>
                    </a:lnTo>
                    <a:lnTo>
                      <a:pt x="300" y="269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399480" y="5477040"/>
                <a:ext cx="175320" cy="220320"/>
              </a:xfrm>
              <a:custGeom>
                <a:avLst/>
                <a:gdLst/>
                <a:ahLst/>
                <a:rect l="l" t="t" r="r" b="b"/>
                <a:pathLst>
                  <a:path w="299" h="193">
                    <a:moveTo>
                      <a:pt x="0" y="0"/>
                    </a:moveTo>
                    <a:lnTo>
                      <a:pt x="150" y="104"/>
                    </a:lnTo>
                    <a:lnTo>
                      <a:pt x="299" y="193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75160" y="5697720"/>
                <a:ext cx="184680" cy="119880"/>
              </a:xfrm>
              <a:custGeom>
                <a:avLst/>
                <a:gdLst/>
                <a:ahLst/>
                <a:rect l="l" t="t" r="r" b="b"/>
                <a:pathLst>
                  <a:path w="315" h="105">
                    <a:moveTo>
                      <a:pt x="0" y="0"/>
                    </a:moveTo>
                    <a:lnTo>
                      <a:pt x="150" y="60"/>
                    </a:lnTo>
                    <a:lnTo>
                      <a:pt x="315" y="105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760200" y="5817600"/>
                <a:ext cx="175680" cy="51480"/>
              </a:xfrm>
              <a:custGeom>
                <a:avLst/>
                <a:gdLst/>
                <a:ahLst/>
                <a:rect l="l" t="t" r="r" b="b"/>
                <a:pathLst>
                  <a:path w="299" h="45">
                    <a:moveTo>
                      <a:pt x="0" y="0"/>
                    </a:moveTo>
                    <a:lnTo>
                      <a:pt x="149" y="30"/>
                    </a:lnTo>
                    <a:lnTo>
                      <a:pt x="299" y="45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935880" y="5869440"/>
                <a:ext cx="184320" cy="16920"/>
              </a:xfrm>
              <a:custGeom>
                <a:avLst/>
                <a:gdLst/>
                <a:ahLst/>
                <a:rect l="l" t="t" r="r" b="b"/>
                <a:pathLst>
                  <a:path w="314" h="15">
                    <a:moveTo>
                      <a:pt x="0" y="0"/>
                    </a:moveTo>
                    <a:lnTo>
                      <a:pt x="150" y="15"/>
                    </a:lnTo>
                    <a:lnTo>
                      <a:pt x="314" y="15"/>
                    </a:lnTo>
                  </a:path>
                </a:pathLst>
              </a:custGeom>
              <a:noFill/>
              <a:ln w="2844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120560" y="5886360"/>
                <a:ext cx="176040" cy="16920"/>
              </a:xfrm>
              <a:prstGeom prst="line">
                <a:avLst/>
              </a:prstGeom>
              <a:ln w="284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582560" y="4317840"/>
              <a:ext cx="3098520" cy="1593720"/>
              <a:chOff x="1582560" y="4317840"/>
              <a:chExt cx="3098520" cy="1593720"/>
            </a:xfrm>
          </p:grpSpPr>
          <p:sp>
            <p:nvSpPr>
              <p:cNvPr id="206" name=""/>
              <p:cNvSpPr/>
              <p:nvPr/>
            </p:nvSpPr>
            <p:spPr>
              <a:xfrm>
                <a:off x="1582560" y="4317840"/>
                <a:ext cx="0" cy="1593720"/>
              </a:xfrm>
              <a:prstGeom prst="line">
                <a:avLst/>
              </a:prstGeom>
              <a:ln w="0">
                <a:solidFill>
                  <a:srgbClr val="0033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582560" y="5911560"/>
                <a:ext cx="3098520" cy="0"/>
              </a:xfrm>
              <a:prstGeom prst="line">
                <a:avLst/>
              </a:prstGeom>
              <a:ln w="0">
                <a:solidFill>
                  <a:srgbClr val="0033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3719520" y="5243040"/>
              <a:ext cx="615240" cy="1234080"/>
              <a:chOff x="3719520" y="5243040"/>
              <a:chExt cx="615240" cy="1234080"/>
            </a:xfrm>
          </p:grpSpPr>
          <p:sp>
            <p:nvSpPr>
              <p:cNvPr id="209" name=""/>
              <p:cNvSpPr/>
              <p:nvPr/>
            </p:nvSpPr>
            <p:spPr>
              <a:xfrm>
                <a:off x="3898080" y="5243040"/>
                <a:ext cx="0" cy="810000"/>
              </a:xfrm>
              <a:prstGeom prst="line">
                <a:avLst/>
              </a:prstGeom>
              <a:ln w="284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719520" y="6036480"/>
                <a:ext cx="615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2000" spc="-1" strike="noStrike">
                    <a:solidFill>
                      <a:srgbClr val="0099ff"/>
                    </a:solidFill>
                    <a:latin typeface="Times New Roman"/>
                  </a:rPr>
                  <a:t>F</a:t>
                </a:r>
                <a:r>
                  <a:rPr b="0" i="1" lang="it-IT" sz="2000" spc="-1" strike="noStrike" baseline="-25000">
                    <a:solidFill>
                      <a:srgbClr val="0099ff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Pali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Pali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tipologie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14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Modalità di esecuzion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Pali battuti</a:t>
            </a:r>
            <a:endParaRPr b="0" lang="en-US" sz="22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Pali trivellati</a:t>
            </a:r>
            <a:endParaRPr b="0" lang="en-US" sz="2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25" name=""/>
          <p:cNvSpPr/>
          <p:nvPr/>
        </p:nvSpPr>
        <p:spPr>
          <a:xfrm>
            <a:off x="611280" y="3238560"/>
            <a:ext cx="7916760" cy="25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linti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Con singolo palo </a:t>
            </a: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(rari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Con più pali </a:t>
            </a: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(effetto gruppo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ravi di fondazioni su pali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latee su pali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arico limite per azioni verticali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arico limite vertical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Resistenza lateral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si attiva subito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Resistenza di punta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si attiva solo dopo grandi cedimenti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(considerarla? sempre? o quando?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arico limite vertical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resistenza laterale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10920" y="3105000"/>
            <a:ext cx="79167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er terreni a grana grossa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1012680" y="1547640"/>
                <a:ext cx="29768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a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μ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32" name=""/>
          <p:cNvSpPr/>
          <p:nvPr/>
        </p:nvSpPr>
        <p:spPr>
          <a:xfrm>
            <a:off x="3944880" y="2349360"/>
            <a:ext cx="1154160" cy="330480"/>
          </a:xfr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attrit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3218040" y="2614680"/>
            <a:ext cx="1153800" cy="330120"/>
          </a:xfr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oesion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1012680" y="3803760"/>
                <a:ext cx="2876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5" name=""/>
          <p:cNvSpPr/>
          <p:nvPr/>
        </p:nvSpPr>
        <p:spPr>
          <a:xfrm>
            <a:off x="611280" y="4614840"/>
            <a:ext cx="7916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er terreni a grana fin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1012680" y="5326200"/>
                <a:ext cx="1017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7" name=""/>
          <p:cNvSpPr/>
          <p:nvPr/>
        </p:nvSpPr>
        <p:spPr>
          <a:xfrm>
            <a:off x="6797520" y="5764320"/>
            <a:ext cx="2041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99ff"/>
                </a:solidFill>
                <a:latin typeface="Comic Sans MS"/>
              </a:rPr>
              <a:t>Vedere valori in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99ff"/>
                </a:solidFill>
                <a:latin typeface="Comic Sans MS"/>
              </a:rPr>
              <a:t>Viggiani, pag.378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2679840" y="5345280"/>
            <a:ext cx="4365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l termine attritivo si trascur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4481640" y="3859200"/>
            <a:ext cx="3994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l termine coesivo si trascur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arico limite vertical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resistenza di punta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È analoga a quella delle fondazioni superficial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1100160" y="2314440"/>
                <a:ext cx="325764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arico limite verticale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gruppi di pali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l carico limite (laterale) viene ridotto per effetto dell’interazione tra i pal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arico limite 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Normativa SLU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10920" y="1582560"/>
            <a:ext cx="79167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oefficienti parzial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447" name="" descr=""/>
          <p:cNvPicPr/>
          <p:nvPr/>
        </p:nvPicPr>
        <p:blipFill>
          <a:blip r:embed="rId1"/>
          <a:stretch/>
        </p:blipFill>
        <p:spPr>
          <a:xfrm>
            <a:off x="611280" y="2320920"/>
            <a:ext cx="7916760" cy="2077920"/>
          </a:xfrm>
          <a:prstGeom prst="rect">
            <a:avLst/>
          </a:prstGeom>
          <a:ln w="0">
            <a:noFill/>
          </a:ln>
        </p:spPr>
      </p:pic>
      <p:sp>
        <p:nvSpPr>
          <p:cNvPr id="1448" name=""/>
          <p:cNvSpPr/>
          <p:nvPr/>
        </p:nvSpPr>
        <p:spPr>
          <a:xfrm>
            <a:off x="611280" y="4829040"/>
            <a:ext cx="7916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ssume importanza la possibilità di dedurre 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il carico limite da prove dirette su pali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Pali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verifica sezione e armature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Da presentare e discutere direttament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6:01:45Z</dcterms:created>
  <dc:creator>Aurelio Ghersi</dc:creator>
  <dc:description/>
  <dc:language>en-US</dc:language>
  <cp:lastModifiedBy>Aurelio Ghersi</cp:lastModifiedBy>
  <dcterms:modified xsi:type="dcterms:W3CDTF">2011-06-16T13:00:25Z</dcterms:modified>
  <cp:revision>47</cp:revision>
  <dc:subject>4b – Valutazione del comportamento (oltre il limite elastico)</dc:subject>
  <dc:title>Parma 2010: Verifica sismica di edifici esistenti in c.a.</dc:title>
</cp:coreProperties>
</file>