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C980-DE67-423D-95D7-2023015C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6F5-E215-42FD-BB69-A0A93868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272-D443-44F8-A7B5-CDCDB2E9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100A-F22C-4AA5-91A5-6E12A530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78CE-C11D-417A-8B74-353F761A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4BA-96D9-4FF6-B6F2-C1E0CC73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228F-6DDB-4E2F-9871-58F47D2D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4839-191D-42B2-9682-CEFFADAD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7F72-212D-41A5-9262-9981BD10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DE5-8903-4924-978A-70FEDCF5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3DD1-357F-45D4-93DD-5C438069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1287-0261-4E5A-86AE-CD9DDE06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Unicode MS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A89F-EA34-44FB-B3F0-7C4516B507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82680"/>
            <a:ext cx="777240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Unicode MS"/>
              </a:rPr>
              <a:t>SCALE IN ACCIAIO</a:t>
            </a: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 Unicode MS"/>
              </a:rPr>
              <a:t>Foto di A. Ghersi e foto tratte da Internet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Arial Unicode MS"/>
              </a:rPr>
              <a:t>Montaggio di M. Bosco</a:t>
            </a:r>
            <a:endParaRPr b="0" lang="en-US" sz="2400" spc="-1" strike="noStrike">
              <a:solidFill>
                <a:srgbClr val="ff99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2 COLONNE INTER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14360" y="985680"/>
            <a:ext cx="6515280" cy="488664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COOP, Spol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2 COLONNE INTER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14360" y="985680"/>
            <a:ext cx="6515280" cy="488664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1600200" y="3962520"/>
            <a:ext cx="3276720" cy="1600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COOP, Spol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2 COLONNE INTER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04920" y="985680"/>
            <a:ext cx="3257280" cy="2443320"/>
            <a:chOff x="304920" y="985680"/>
            <a:chExt cx="3257280" cy="244332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304920" y="985680"/>
              <a:ext cx="3257280" cy="2443320"/>
            </a:xfrm>
            <a:prstGeom prst="rect">
              <a:avLst/>
            </a:prstGeom>
            <a:ln w="28440">
              <a:solidFill>
                <a:srgbClr val="ff9900"/>
              </a:solidFill>
              <a:miter/>
            </a:ln>
          </p:spPr>
        </p:pic>
        <p:sp>
          <p:nvSpPr>
            <p:cNvPr id="93" name=""/>
            <p:cNvSpPr/>
            <p:nvPr/>
          </p:nvSpPr>
          <p:spPr>
            <a:xfrm>
              <a:off x="447480" y="2473920"/>
              <a:ext cx="1638000" cy="799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86000" y="1295280"/>
            <a:ext cx="6515280" cy="4886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COOP, Spol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2 COLONNE INTER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14360" y="1062000"/>
            <a:ext cx="6515280" cy="4886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COOP, Spol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2 COLONNE INTER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2120" y="1862280"/>
            <a:ext cx="3257640" cy="24429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8874" t="22575" r="50011" b="27454"/>
          <a:stretch/>
        </p:blipFill>
        <p:spPr>
          <a:xfrm>
            <a:off x="3649680" y="958680"/>
            <a:ext cx="5405400" cy="49388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COOP, Spol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2 COLONNE INTER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44680" y="1082520"/>
            <a:ext cx="6254640" cy="469296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COOP, Spol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2 COLONNE INTER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66960" y="947880"/>
            <a:ext cx="3610080" cy="511488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7209000" y="6438960"/>
            <a:ext cx="18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da 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COLONNE INTER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14360" y="947880"/>
            <a:ext cx="6515280" cy="488628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ITCG Spagna, Spol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COLONNE INTER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6000" y="844560"/>
            <a:ext cx="6514920" cy="308592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479760" y="3040200"/>
            <a:ext cx="5334120" cy="326700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ITCG Spagna, Spol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COLONNE INTER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0840" y="895320"/>
            <a:ext cx="3914640" cy="293364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187880" y="2470320"/>
            <a:ext cx="4905360" cy="369540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ITCG Spagna, Spol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236376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 Unicode MS"/>
              </a:rPr>
              <a:t>SCALE CON  COLONNE INTER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8304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Unicode MS"/>
              </a:rPr>
              <a:t>SCALE CON COLONNE ESTER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Unicode MS"/>
              </a:rPr>
              <a:t>Tipologie esaminate:</a:t>
            </a:r>
            <a:endParaRPr b="0" lang="en-US" sz="40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80376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Unicode MS"/>
              </a:rPr>
              <a:t>SCALE CON RAMPE IN LIN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5226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Unicode MS"/>
              </a:rPr>
              <a:t>SOLUZIONI PARTICOL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3 COLONNE INTER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3109" t="0" r="4064" b="0"/>
          <a:stretch/>
        </p:blipFill>
        <p:spPr>
          <a:xfrm>
            <a:off x="73080" y="985680"/>
            <a:ext cx="4933800" cy="488664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14199" t="0" r="9017" b="0"/>
          <a:stretch/>
        </p:blipFill>
        <p:spPr>
          <a:xfrm>
            <a:off x="5118120" y="1471680"/>
            <a:ext cx="4000320" cy="391464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ovrappasso pedonale, Cata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3 COLONNE INTER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66760" y="816120"/>
            <a:ext cx="6810480" cy="558144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ovrappasso pedonale, Cata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3 COLONNE INTER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90400" y="932040"/>
            <a:ext cx="7963200" cy="509580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ovrappasso pedonale, Cata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TRE RAMPE CON  4 COLONNE INTER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90920" y="876240"/>
            <a:ext cx="3905280" cy="544824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7209000" y="6438960"/>
            <a:ext cx="18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da 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A CON 4 COLONNE INTER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124000" y="847800"/>
            <a:ext cx="4896000" cy="554364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7209000" y="6438960"/>
            <a:ext cx="18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da 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236376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Unicode MS"/>
              </a:rPr>
              <a:t>SCALE CON  COLONNE INTER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308304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 Unicode MS"/>
              </a:rPr>
              <a:t>SCALE CON COLONNE ESTER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Unicode MS"/>
              </a:rPr>
              <a:t>Tipologie esaminate:</a:t>
            </a:r>
            <a:endParaRPr b="0" lang="en-US" sz="40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380376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Unicode MS"/>
              </a:rPr>
              <a:t>SCALE CON RAMPE IN LIN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45226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Unicode MS"/>
              </a:rPr>
              <a:t>SOLUZIONI PARTICOL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4 COLON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1360" y="985680"/>
            <a:ext cx="4400640" cy="488664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800600" y="985680"/>
            <a:ext cx="4191120" cy="488664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 Unicode MS"/>
              </a:rPr>
              <a:t>Centro commerciale, loc. Torre Matigge, Trev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4 COLON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5210280" cy="391464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43400" cy="312444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 Unicode MS"/>
              </a:rPr>
              <a:t>Centro commerciale, loc. Torre Matigge, Trev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4 COLON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5210280" cy="391464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48320" y="2733840"/>
            <a:ext cx="4267080" cy="359064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 Unicode MS"/>
              </a:rPr>
              <a:t>Centro commerciale, loc. Torre Matigge, Trev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4 COLON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14360" y="909720"/>
            <a:ext cx="6515280" cy="488628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Cittadella Universitaria, Farmacia, Cata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2 COLONNE INTER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876920" cy="548640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43480" y="957240"/>
            <a:ext cx="3724200" cy="4943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108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Nor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4 COLON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6248" t="0" r="14061" b="0"/>
          <a:stretch/>
        </p:blipFill>
        <p:spPr>
          <a:xfrm>
            <a:off x="152280" y="762120"/>
            <a:ext cx="3886200" cy="390816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2"/>
          <a:srcRect l="7192" t="0" r="2155" b="0"/>
          <a:stretch/>
        </p:blipFill>
        <p:spPr>
          <a:xfrm>
            <a:off x="4191120" y="2590920"/>
            <a:ext cx="4800600" cy="365760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Cittadella Universitaria, Farmacia, Cata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4 COLON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314360" y="909720"/>
            <a:ext cx="6515280" cy="488628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Cittadella Universitaria, Farmacia, Cata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4 COLON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3896" r="0" b="3896"/>
          <a:stretch/>
        </p:blipFill>
        <p:spPr>
          <a:xfrm>
            <a:off x="662040" y="914400"/>
            <a:ext cx="7819920" cy="541008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Cittadella Universitaria, Farmacia, Cata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4 COLON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04760" y="762120"/>
            <a:ext cx="4695840" cy="351468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952880" y="2590920"/>
            <a:ext cx="4143600" cy="391464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Cittadella Universitaria, Farmacia, Cata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4 COLON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23840" y="1504800"/>
            <a:ext cx="2924280" cy="390528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219320"/>
            <a:ext cx="5857920" cy="439092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cuola, Nor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4 COLON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81240" y="1000080"/>
            <a:ext cx="6581520" cy="494352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cuola, Nor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4 COLON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0" t="1964" r="0" b="0"/>
          <a:stretch/>
        </p:blipFill>
        <p:spPr>
          <a:xfrm>
            <a:off x="1171440" y="1143000"/>
            <a:ext cx="6801120" cy="451008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7209000" y="6438960"/>
            <a:ext cx="18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da 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4 COLON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6760" t="0" r="0" b="0"/>
          <a:stretch/>
        </p:blipFill>
        <p:spPr>
          <a:xfrm>
            <a:off x="6019920" y="2238480"/>
            <a:ext cx="3152520" cy="439092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2"/>
          <a:srcRect l="0" t="0" r="2669" b="0"/>
          <a:stretch/>
        </p:blipFill>
        <p:spPr>
          <a:xfrm>
            <a:off x="76320" y="2095560"/>
            <a:ext cx="3124080" cy="453384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119400" y="752400"/>
            <a:ext cx="2905200" cy="450540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3767040" y="6438960"/>
            <a:ext cx="18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da 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6 COLON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962440" y="981000"/>
            <a:ext cx="3219120" cy="488628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7209000" y="6438960"/>
            <a:ext cx="18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da 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8 COLON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7333" t="0" r="4724" b="0"/>
          <a:stretch/>
        </p:blipFill>
        <p:spPr>
          <a:xfrm>
            <a:off x="152280" y="725400"/>
            <a:ext cx="4164120" cy="568656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210" name="" descr=""/>
          <p:cNvPicPr/>
          <p:nvPr/>
        </p:nvPicPr>
        <p:blipFill>
          <a:blip r:embed="rId2"/>
          <a:srcRect l="0" t="0" r="0" b="3810"/>
          <a:stretch/>
        </p:blipFill>
        <p:spPr>
          <a:xfrm>
            <a:off x="4800600" y="725400"/>
            <a:ext cx="4132440" cy="568656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7209000" y="6438960"/>
            <a:ext cx="18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da 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2 COLONNE INTER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14360" y="1219320"/>
            <a:ext cx="6515280" cy="488628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cuola elementare, Spol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236376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Unicode MS"/>
              </a:rPr>
              <a:t>SCALE CON  COLONNE INTER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308304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Unicode MS"/>
              </a:rPr>
              <a:t>SCALE CON COLONNE ESTER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Unicode MS"/>
              </a:rPr>
              <a:t>Tipologie esaminate:</a:t>
            </a:r>
            <a:endParaRPr b="0" lang="en-US" sz="40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380376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 Unicode MS"/>
              </a:rPr>
              <a:t>SCALE CON RAMPE IN LIN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45226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Unicode MS"/>
              </a:rPr>
              <a:t>SOLUZIONI PARTICOL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SECUTIVE – COLONNE ESTER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79440" y="811080"/>
            <a:ext cx="3890880" cy="291636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808520" y="811080"/>
            <a:ext cx="3879720" cy="291168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9600" y="3921120"/>
            <a:ext cx="6186600" cy="256860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cuola, Spol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79440" y="819000"/>
            <a:ext cx="2936880" cy="220032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805200" y="849240"/>
            <a:ext cx="2922480" cy="219384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12920" y="4070520"/>
            <a:ext cx="4887720" cy="202860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5800680" y="3200400"/>
            <a:ext cx="3105360" cy="322884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SECUTIVE – COLONNE ESTER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cuola, Spol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TRE RAMPE CONSECUTIVE  5 COLON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85800" y="876240"/>
            <a:ext cx="7772400" cy="514368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7209000" y="6438960"/>
            <a:ext cx="18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da 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TRE RAMPE CONSECUTIVE  8 COLON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00280" y="888840"/>
            <a:ext cx="7543800" cy="502920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235" name=""/>
          <p:cNvSpPr/>
          <p:nvPr/>
        </p:nvSpPr>
        <p:spPr>
          <a:xfrm>
            <a:off x="7209000" y="6438960"/>
            <a:ext cx="18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da 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28600" y="236376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Unicode MS"/>
              </a:rPr>
              <a:t>SCALE CON  COLONNE INTER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308304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Unicode MS"/>
              </a:rPr>
              <a:t>SCALE CON COLONNE ESTER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Unicode MS"/>
              </a:rPr>
              <a:t>Tipologie esaminate:</a:t>
            </a:r>
            <a:endParaRPr b="0" lang="en-US" sz="40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380376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Unicode MS"/>
              </a:rPr>
              <a:t>SCALE CON RAMPE IN LIN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45226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 Unicode MS"/>
              </a:rPr>
              <a:t>SOLUZIONI PARTICOL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314360" y="981000"/>
            <a:ext cx="6515280" cy="488628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242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INSERITE IN STRUTTURA IN C.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Polifunzionale, Cata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INSERITE IN STRUTTURA IN C.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314360" y="981000"/>
            <a:ext cx="6515280" cy="488628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247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Polifunzionale, Cata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CON S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000080" y="1231920"/>
            <a:ext cx="7118280" cy="439272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251" name=""/>
          <p:cNvSpPr/>
          <p:nvPr/>
        </p:nvSpPr>
        <p:spPr>
          <a:xfrm>
            <a:off x="7209000" y="6438960"/>
            <a:ext cx="18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da 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CON S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000080" y="1231920"/>
            <a:ext cx="7118280" cy="439272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238720" y="1924200"/>
            <a:ext cx="2781360" cy="300960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255" name=""/>
          <p:cNvSpPr/>
          <p:nvPr/>
        </p:nvSpPr>
        <p:spPr>
          <a:xfrm>
            <a:off x="7209000" y="6438960"/>
            <a:ext cx="18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da 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2 COLONNE INTER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14360" y="1219320"/>
            <a:ext cx="6515280" cy="488628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5715000" y="2971800"/>
            <a:ext cx="2133720" cy="1828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cuola elementare, Spol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A ELICOID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077840" y="749160"/>
            <a:ext cx="6962760" cy="571500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258" name=""/>
          <p:cNvSpPr/>
          <p:nvPr/>
        </p:nvSpPr>
        <p:spPr>
          <a:xfrm>
            <a:off x="7209000" y="6438960"/>
            <a:ext cx="18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da 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CON UNA SOLA TRAVE A GINOCCH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273400" y="723960"/>
            <a:ext cx="4572000" cy="571500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261" name=""/>
          <p:cNvSpPr/>
          <p:nvPr/>
        </p:nvSpPr>
        <p:spPr>
          <a:xfrm>
            <a:off x="7209000" y="6438960"/>
            <a:ext cx="18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da 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A CON ASSEMBLAGGIO DI ELEMENTI 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285920" y="932040"/>
            <a:ext cx="6572160" cy="49431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 Unicode MS"/>
              </a:rPr>
              <a:t>Centro commerciale, loc. Torre Matigge, Trev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3286080" cy="2471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2 COLONNE INTER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895480"/>
            <a:ext cx="914400" cy="762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8480" y="947880"/>
            <a:ext cx="4724640" cy="4962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cuola elementare, Spol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2 COLONNE INTER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010280" y="1066680"/>
            <a:ext cx="1860840" cy="1957680"/>
          </a:xfrm>
          <a:prstGeom prst="rect">
            <a:avLst/>
          </a:prstGeom>
          <a:ln w="12600">
            <a:solidFill>
              <a:srgbClr val="ff99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6610320" cy="4705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cuola elementare, Spol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2 COLONNE INTER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010280" y="1066680"/>
            <a:ext cx="1860840" cy="1957680"/>
          </a:xfrm>
          <a:prstGeom prst="rect">
            <a:avLst/>
          </a:prstGeom>
          <a:ln w="12600">
            <a:solidFill>
              <a:srgbClr val="ff99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885960"/>
            <a:ext cx="6019920" cy="5086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cuola elementare, Spol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SCALE A DUE RAMPE CON 2 COLONNE INTER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14360" y="985680"/>
            <a:ext cx="6515280" cy="488664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81080" y="6438960"/>
            <a:ext cx="52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COOP, Spol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09000" y="643896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to A. Gher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5:07:52Z</dcterms:created>
  <dc:creator>UNIVERSITA'</dc:creator>
  <dc:description/>
  <dc:language>en-US</dc:language>
  <cp:lastModifiedBy>Aurelio Ghersi</cp:lastModifiedBy>
  <dcterms:modified xsi:type="dcterms:W3CDTF">2003-11-05T07:12:51Z</dcterms:modified>
  <cp:revision>68</cp:revision>
  <dc:subject/>
  <dc:title>Presentazione di PowerPoint</dc:title>
</cp:coreProperties>
</file>