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DD64-0B58-45E2-8D78-959DB4D7B1DF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E219-F1D1-4889-9445-1B9728567204}" type="slidenum">
              <a:rPr b="0" lang="it-IT" sz="13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86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3BB-7722-4AE8-9D54-D862F93D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0920" y="3950640"/>
            <a:ext cx="79167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89C5-32F3-4A27-9246-EE513ADE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092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6A4-51B4-4F53-B644-77AAA5D3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58220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4120" y="158220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0920" y="395064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5064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4120" y="395064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8182-7058-48FE-A735-E81160CA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ED6-872F-4E42-B66F-708169BD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52A-903B-49AB-9891-80D4A96A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AB3-7D1B-41AA-B888-CB9EED0E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8157-AACA-421D-B88D-5EED392C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2360" y="358920"/>
            <a:ext cx="79167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6A0-5782-453F-9F99-43BC5214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092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486-DCEE-4365-9940-552AE8D0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659-8800-44F2-B9E2-8BFEEDC3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0920" y="3950640"/>
            <a:ext cx="79167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EE8-4C38-4ABB-AA53-3DDE0DF7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9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75B6-F440-4074-ADAE-C35F1367ABCA}" type="slidenum">
              <a:rPr b="0" lang="it-IT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612720" y="1440000"/>
            <a:ext cx="79167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rogetto delle armature del solai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con barre diritt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step by step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2720" y="4859280"/>
            <a:ext cx="7916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Aurelio Ghersi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magine 1" descr="06.jpg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88" name="Connettore 1 2"/>
          <p:cNvSpPr/>
          <p:nvPr/>
        </p:nvSpPr>
        <p:spPr>
          <a:xfrm>
            <a:off x="177624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9" name="Connettore 1 3"/>
          <p:cNvSpPr/>
          <p:nvPr/>
        </p:nvSpPr>
        <p:spPr>
          <a:xfrm>
            <a:off x="483696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0" name="Connettore 1 4"/>
          <p:cNvSpPr/>
          <p:nvPr/>
        </p:nvSpPr>
        <p:spPr>
          <a:xfrm>
            <a:off x="816624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1" name="Segnaposto contenuto 2"/>
          <p:cNvSpPr/>
          <p:nvPr/>
        </p:nvSpPr>
        <p:spPr>
          <a:xfrm>
            <a:off x="179280" y="3060720"/>
            <a:ext cx="4248360" cy="32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Misuriamo col righello la distanza tra l’appoggio e il punto in cui il diagramma del momento diventa negativo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Nell’esempio sono 3.2 cm, cioè 1.60 m (160 cm)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magine 1" descr="07.jpg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93" name="Connettore 1 3"/>
          <p:cNvSpPr/>
          <p:nvPr/>
        </p:nvSpPr>
        <p:spPr>
          <a:xfrm>
            <a:off x="179712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4" name="Connettore 1 4"/>
          <p:cNvSpPr/>
          <p:nvPr/>
        </p:nvSpPr>
        <p:spPr>
          <a:xfrm>
            <a:off x="485928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5" name="Connettore 1 5"/>
          <p:cNvSpPr/>
          <p:nvPr/>
        </p:nvSpPr>
        <p:spPr>
          <a:xfrm>
            <a:off x="818676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6" name="Segnaposto contenuto 2"/>
          <p:cNvSpPr/>
          <p:nvPr/>
        </p:nvSpPr>
        <p:spPr>
          <a:xfrm>
            <a:off x="179280" y="3060720"/>
            <a:ext cx="4248360" cy="36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Nell’esempio sono 3.2 cm, cioè 1.60 m (160 cm)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Aggiungiamo un valore pari a circa l’altezza h del solaio (oppure d, o anche d/2), cioè circa 20 cm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Aggiungiamo la lunghezza di ancoraggio, 40</a:t>
            </a:r>
            <a:r>
              <a:rPr b="0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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, in questo caso 40 cm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Riportiamo il totale (220 cm) sulla barra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magine 1" descr="08.jpg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98" name="Connettore 1 3"/>
          <p:cNvSpPr/>
          <p:nvPr/>
        </p:nvSpPr>
        <p:spPr>
          <a:xfrm>
            <a:off x="179712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9" name="Connettore 1 4"/>
          <p:cNvSpPr/>
          <p:nvPr/>
        </p:nvSpPr>
        <p:spPr>
          <a:xfrm>
            <a:off x="485928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0" name="Connettore 1 5"/>
          <p:cNvSpPr/>
          <p:nvPr/>
        </p:nvSpPr>
        <p:spPr>
          <a:xfrm>
            <a:off x="818676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1" name="Segnaposto contenuto 2"/>
          <p:cNvSpPr/>
          <p:nvPr/>
        </p:nvSpPr>
        <p:spPr>
          <a:xfrm>
            <a:off x="179280" y="3060720"/>
            <a:ext cx="4248360" cy="32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Aggiungiamo una linea verticale a mano libera, solo per ricordare che più o meno lì è intervenuta la resistenza del </a:t>
            </a:r>
            <a:r>
              <a:rPr b="0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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10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magine 1" descr="09.jpg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103" name="Connettore 1 2"/>
          <p:cNvSpPr/>
          <p:nvPr/>
        </p:nvSpPr>
        <p:spPr>
          <a:xfrm>
            <a:off x="179712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4" name="Connettore 1 3"/>
          <p:cNvSpPr/>
          <p:nvPr/>
        </p:nvSpPr>
        <p:spPr>
          <a:xfrm>
            <a:off x="485928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5" name="Connettore 1 4"/>
          <p:cNvSpPr/>
          <p:nvPr/>
        </p:nvSpPr>
        <p:spPr>
          <a:xfrm>
            <a:off x="818676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6" name="Segnaposto contenuto 2"/>
          <p:cNvSpPr/>
          <p:nvPr/>
        </p:nvSpPr>
        <p:spPr>
          <a:xfrm>
            <a:off x="179280" y="3060720"/>
            <a:ext cx="4248360" cy="32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Ora tocca all’altra barra (il </a:t>
            </a:r>
            <a:r>
              <a:rPr b="0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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14)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Tracciamo col righello una linea orizzontale che mostra l’incremento di momento resistente dovuto all’aggiunta di 1</a:t>
            </a:r>
            <a:r>
              <a:rPr b="0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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14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magine 1" descr="10.jpg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108" name="Connettore 1 2"/>
          <p:cNvSpPr/>
          <p:nvPr/>
        </p:nvSpPr>
        <p:spPr>
          <a:xfrm>
            <a:off x="177624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9" name="Connettore 1 3"/>
          <p:cNvSpPr/>
          <p:nvPr/>
        </p:nvSpPr>
        <p:spPr>
          <a:xfrm>
            <a:off x="483696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0" name="Connettore 1 4"/>
          <p:cNvSpPr/>
          <p:nvPr/>
        </p:nvSpPr>
        <p:spPr>
          <a:xfrm>
            <a:off x="816624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1" name="Segnaposto contenuto 2"/>
          <p:cNvSpPr/>
          <p:nvPr/>
        </p:nvSpPr>
        <p:spPr>
          <a:xfrm>
            <a:off x="179280" y="3060720"/>
            <a:ext cx="4248360" cy="32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Misuriamo col righello la distanza tra l’appoggio e il punto in cui il diagramma del momento sollecitante interseca la linea del momento resistente del </a:t>
            </a:r>
            <a:r>
              <a:rPr b="0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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10 di prima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Nell’esempio sono 1.5 cm, cioè 0.75 m (75 cm)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mmagine 1" descr="10.jpg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113" name="Connettore 1 2"/>
          <p:cNvSpPr/>
          <p:nvPr/>
        </p:nvSpPr>
        <p:spPr>
          <a:xfrm>
            <a:off x="177624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4" name="Connettore 1 3"/>
          <p:cNvSpPr/>
          <p:nvPr/>
        </p:nvSpPr>
        <p:spPr>
          <a:xfrm>
            <a:off x="483696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5" name="Connettore 1 4"/>
          <p:cNvSpPr/>
          <p:nvPr/>
        </p:nvSpPr>
        <p:spPr>
          <a:xfrm>
            <a:off x="816624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6" name="Segnaposto contenuto 2"/>
          <p:cNvSpPr/>
          <p:nvPr/>
        </p:nvSpPr>
        <p:spPr>
          <a:xfrm>
            <a:off x="179280" y="3060720"/>
            <a:ext cx="4248360" cy="34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Nell’esempio sono 1.5 cm, cioè 0.75 m (75 cm)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Aggiungiamo un valore pari a circa l’altezza h del solaio, circa 20 cm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Aggiungiamo la lunghezza di ancoraggio, 40</a:t>
            </a:r>
            <a:r>
              <a:rPr b="0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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, in questo caso 56 cm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Il risultato totale deve sempre essere arrotondato (meglio se a </a:t>
            </a:r>
            <a:br>
              <a:rPr sz="2000"/>
            </a:b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10 cm)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magine 1" descr="11.jpg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118" name="Connettore 1 2"/>
          <p:cNvSpPr/>
          <p:nvPr/>
        </p:nvSpPr>
        <p:spPr>
          <a:xfrm>
            <a:off x="177624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9" name="Connettore 1 3"/>
          <p:cNvSpPr/>
          <p:nvPr/>
        </p:nvSpPr>
        <p:spPr>
          <a:xfrm>
            <a:off x="483696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0" name="Connettore 1 4"/>
          <p:cNvSpPr/>
          <p:nvPr/>
        </p:nvSpPr>
        <p:spPr>
          <a:xfrm>
            <a:off x="816624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1" name="Segnaposto contenuto 2"/>
          <p:cNvSpPr/>
          <p:nvPr/>
        </p:nvSpPr>
        <p:spPr>
          <a:xfrm>
            <a:off x="179280" y="3060720"/>
            <a:ext cx="4248360" cy="34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Nell’esempio sono 1.5 cm, cioè 0.75 m (75 cm)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Aggiungiamo un valore pari a circa l’altezza h del solaio, circa 20 cm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Aggiungiamo la lunghezza di ancoraggio, 40</a:t>
            </a:r>
            <a:r>
              <a:rPr b="0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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, in questo caso 56 cm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Si ottiene così in totale 160 cm. Il valore viene riportato sulla barra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magine 1" descr="12.jpg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123" name="Connettore 1 3"/>
          <p:cNvSpPr/>
          <p:nvPr/>
        </p:nvSpPr>
        <p:spPr>
          <a:xfrm>
            <a:off x="177624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4" name="Connettore 1 4"/>
          <p:cNvSpPr/>
          <p:nvPr/>
        </p:nvSpPr>
        <p:spPr>
          <a:xfrm>
            <a:off x="483696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5" name="Connettore 1 5"/>
          <p:cNvSpPr/>
          <p:nvPr/>
        </p:nvSpPr>
        <p:spPr>
          <a:xfrm>
            <a:off x="816624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6" name="Segnaposto contenuto 2"/>
          <p:cNvSpPr/>
          <p:nvPr/>
        </p:nvSpPr>
        <p:spPr>
          <a:xfrm>
            <a:off x="611280" y="5148360"/>
            <a:ext cx="79167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Si continua così per il resto del solaio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magine 1" descr="13.jpg"/>
          <p:cNvPicPr/>
          <p:nvPr/>
        </p:nvPicPr>
        <p:blipFill>
          <a:blip r:embed="rId1"/>
          <a:srcRect l="674" t="0" r="0" b="0"/>
          <a:stretch/>
        </p:blipFill>
        <p:spPr>
          <a:xfrm>
            <a:off x="17640" y="104760"/>
            <a:ext cx="9083520" cy="6648480"/>
          </a:xfrm>
          <a:prstGeom prst="rect">
            <a:avLst/>
          </a:prstGeom>
          <a:ln w="0">
            <a:noFill/>
          </a:ln>
        </p:spPr>
      </p:pic>
      <p:sp>
        <p:nvSpPr>
          <p:cNvPr id="128" name="Connettore 1 2"/>
          <p:cNvSpPr/>
          <p:nvPr/>
        </p:nvSpPr>
        <p:spPr>
          <a:xfrm>
            <a:off x="177624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9" name="Connettore 1 3"/>
          <p:cNvSpPr/>
          <p:nvPr/>
        </p:nvSpPr>
        <p:spPr>
          <a:xfrm>
            <a:off x="483696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0" name="Connettore 1 4"/>
          <p:cNvSpPr/>
          <p:nvPr/>
        </p:nvSpPr>
        <p:spPr>
          <a:xfrm>
            <a:off x="816624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1" name="Segnaposto contenuto 2"/>
          <p:cNvSpPr/>
          <p:nvPr/>
        </p:nvSpPr>
        <p:spPr>
          <a:xfrm>
            <a:off x="611280" y="5148360"/>
            <a:ext cx="79167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Si aggiungono le quote per la sovrapposizione delle barre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2" name="Segnaposto contenuto 2"/>
          <p:cNvSpPr/>
          <p:nvPr/>
        </p:nvSpPr>
        <p:spPr>
          <a:xfrm>
            <a:off x="611280" y="6180120"/>
            <a:ext cx="791676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Si completa infine quotando i tratti verticali, quelli da appoggio a fine trave, ecc.,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e si calcola la lunghezza totale delle barre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Infine, si ritorna ad Autocad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i disegnano in scala tutte le barr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i traccia il diagramma dei momenti resistenti; per ciascuna barra si calcola la posizione in cui essa inizia a lavorare pienamente, convenzionalmente assunta a distanza 40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dall’estrem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Nota: il valore 40</a:t>
            </a:r>
            <a:r>
              <a:rPr b="0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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per l’ancoraggio è quello comunemente assunto, ma può essere modificato secondo i criteri spiegati a lezione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36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Preliminarmente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risoluzione dei diversi schemi di caric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tracciamento dei diagrammi dei momenti (in Autocad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Quindi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tracciare linee verticali tratteggiati in corrispondenza degli appogg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tampare il diagramma dei momenti in scala 1:50 o 1:100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magine 3" descr="01.jpg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53" name="Segnaposto contenuto 2"/>
          <p:cNvSpPr/>
          <p:nvPr/>
        </p:nvSpPr>
        <p:spPr>
          <a:xfrm>
            <a:off x="611280" y="3959280"/>
            <a:ext cx="79167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Aggiungere i valori del momento flettente in campata e sugli appoggi (in kNm, con un solo decimale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Connettore 1 6"/>
          <p:cNvSpPr/>
          <p:nvPr/>
        </p:nvSpPr>
        <p:spPr>
          <a:xfrm>
            <a:off x="179712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Connettore 1 7"/>
          <p:cNvSpPr/>
          <p:nvPr/>
        </p:nvSpPr>
        <p:spPr>
          <a:xfrm>
            <a:off x="485928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6" name="Connettore 1 8"/>
          <p:cNvSpPr/>
          <p:nvPr/>
        </p:nvSpPr>
        <p:spPr>
          <a:xfrm>
            <a:off x="818676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magine 1" descr="02.jpg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58" name="Segnaposto contenuto 2"/>
          <p:cNvSpPr/>
          <p:nvPr/>
        </p:nvSpPr>
        <p:spPr>
          <a:xfrm>
            <a:off x="611280" y="3959280"/>
            <a:ext cx="79167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Tracciare una linea orizzontale e segnare l’armatura necessaria per travetto, in campata (sotto la linea) e in corrispondenza degli appoggi (sopra la linea). I valori possono essere con un decimale o eventualmente con due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Connettore 1 3"/>
          <p:cNvSpPr/>
          <p:nvPr/>
        </p:nvSpPr>
        <p:spPr>
          <a:xfrm>
            <a:off x="179712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0" name="Connettore 1 4"/>
          <p:cNvSpPr/>
          <p:nvPr/>
        </p:nvSpPr>
        <p:spPr>
          <a:xfrm>
            <a:off x="485928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Connettore 1 5"/>
          <p:cNvSpPr/>
          <p:nvPr/>
        </p:nvSpPr>
        <p:spPr>
          <a:xfrm>
            <a:off x="818676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magine 1" descr="03.jpg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3" name="Segnaposto contenuto 2"/>
          <p:cNvSpPr/>
          <p:nvPr/>
        </p:nvSpPr>
        <p:spPr>
          <a:xfrm>
            <a:off x="611280" y="3959280"/>
            <a:ext cx="79167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Schizzare a mano libera le armature inferiori (una barra o due barre per travetto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Lo schizzo deve essere solo qualitativo, cioè chiarire dove iniziano e finiscono le barre ma non in scala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4" name="Connettore 1 3"/>
          <p:cNvSpPr/>
          <p:nvPr/>
        </p:nvSpPr>
        <p:spPr>
          <a:xfrm>
            <a:off x="179712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Connettore 1 4"/>
          <p:cNvSpPr/>
          <p:nvPr/>
        </p:nvSpPr>
        <p:spPr>
          <a:xfrm>
            <a:off x="485928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Connettore 1 5"/>
          <p:cNvSpPr/>
          <p:nvPr/>
        </p:nvSpPr>
        <p:spPr>
          <a:xfrm>
            <a:off x="818676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magine 1" descr="04.jpg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8" name="Connettore 1 2"/>
          <p:cNvSpPr/>
          <p:nvPr/>
        </p:nvSpPr>
        <p:spPr>
          <a:xfrm>
            <a:off x="179712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Connettore 1 3"/>
          <p:cNvSpPr/>
          <p:nvPr/>
        </p:nvSpPr>
        <p:spPr>
          <a:xfrm>
            <a:off x="485928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Connettore 1 4"/>
          <p:cNvSpPr/>
          <p:nvPr/>
        </p:nvSpPr>
        <p:spPr>
          <a:xfrm>
            <a:off x="818676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Segnaposto contenuto 2"/>
          <p:cNvSpPr/>
          <p:nvPr/>
        </p:nvSpPr>
        <p:spPr>
          <a:xfrm>
            <a:off x="611280" y="4884840"/>
            <a:ext cx="79167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Schizzare a mano libera le armature superiori (una barra o due barre per travetto). Nello sbalzo mettere un ferro a molla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magine 1" descr="04.jpg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73" name="Connettore 1 2"/>
          <p:cNvSpPr/>
          <p:nvPr/>
        </p:nvSpPr>
        <p:spPr>
          <a:xfrm>
            <a:off x="179712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Connettore 1 3"/>
          <p:cNvSpPr/>
          <p:nvPr/>
        </p:nvSpPr>
        <p:spPr>
          <a:xfrm>
            <a:off x="485928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Connettore 1 4"/>
          <p:cNvSpPr/>
          <p:nvPr/>
        </p:nvSpPr>
        <p:spPr>
          <a:xfrm>
            <a:off x="818676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Segnaposto contenuto 2"/>
          <p:cNvSpPr/>
          <p:nvPr/>
        </p:nvSpPr>
        <p:spPr>
          <a:xfrm>
            <a:off x="611280" y="4884840"/>
            <a:ext cx="7916760" cy="12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Si noti che nella prima campata c’è sempre un momento negativo e per questo le barre sono state sovrapposte all’incirca in mezzeria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magine 3" descr="04.jpg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78" name="Connettore 1 4"/>
          <p:cNvSpPr/>
          <p:nvPr/>
        </p:nvSpPr>
        <p:spPr>
          <a:xfrm>
            <a:off x="179712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Connettore 1 5"/>
          <p:cNvSpPr/>
          <p:nvPr/>
        </p:nvSpPr>
        <p:spPr>
          <a:xfrm>
            <a:off x="485928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Connettore 1 6"/>
          <p:cNvSpPr/>
          <p:nvPr/>
        </p:nvSpPr>
        <p:spPr>
          <a:xfrm>
            <a:off x="818676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Segnaposto contenuto 2"/>
          <p:cNvSpPr/>
          <p:nvPr/>
        </p:nvSpPr>
        <p:spPr>
          <a:xfrm>
            <a:off x="179280" y="3060720"/>
            <a:ext cx="4248360" cy="24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Vediamo ora come definire la lunghezza delle barre superiori. Prendiamo come esempio la parte a destra dell’appoggio centrale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Ci sono 1</a:t>
            </a:r>
            <a:r>
              <a:rPr b="0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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10 e 1</a:t>
            </a:r>
            <a:r>
              <a:rPr b="0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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14; il più lungo (cioè quello che si spinge di più verso la mezzeria) è il </a:t>
            </a:r>
            <a:r>
              <a:rPr b="0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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10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magine 1" descr="05.jpg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83" name="Connettore 1 3"/>
          <p:cNvSpPr/>
          <p:nvPr/>
        </p:nvSpPr>
        <p:spPr>
          <a:xfrm>
            <a:off x="179712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4" name="Connettore 1 4"/>
          <p:cNvSpPr/>
          <p:nvPr/>
        </p:nvSpPr>
        <p:spPr>
          <a:xfrm>
            <a:off x="485928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5" name="Connettore 1 5"/>
          <p:cNvSpPr/>
          <p:nvPr/>
        </p:nvSpPr>
        <p:spPr>
          <a:xfrm>
            <a:off x="8186760" y="2265480"/>
            <a:ext cx="0" cy="3720960"/>
          </a:xfrm>
          <a:prstGeom prst="line">
            <a:avLst/>
          </a:prstGeom>
          <a:ln w="3240">
            <a:solidFill>
              <a:srgbClr val="002060">
                <a:alpha val="5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6" name="Segnaposto contenuto 2"/>
          <p:cNvSpPr/>
          <p:nvPr/>
        </p:nvSpPr>
        <p:spPr>
          <a:xfrm>
            <a:off x="179280" y="3060720"/>
            <a:ext cx="4248360" cy="32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Ci sono 1</a:t>
            </a:r>
            <a:r>
              <a:rPr b="0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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10 e 1</a:t>
            </a:r>
            <a:r>
              <a:rPr b="0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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14; il più lungo (cioè quello che si spinge di più verso la mezzeria) è il </a:t>
            </a:r>
            <a:r>
              <a:rPr b="0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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10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Tracciamo col righello una linea orizzontale che mostra il momento resistente di 1</a:t>
            </a:r>
            <a:r>
              <a:rPr b="0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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10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7:18:09Z</dcterms:created>
  <dc:creator>Aurelio Ghersi e Edoardo M. Marino</dc:creator>
  <dc:description/>
  <dc:language>en-US</dc:language>
  <cp:lastModifiedBy>Aurelio</cp:lastModifiedBy>
  <dcterms:modified xsi:type="dcterms:W3CDTF">2014-05-11T22:53:10Z</dcterms:modified>
  <cp:revision>164</cp:revision>
  <dc:subject>5 – Instabilità locale e classificazione delle sezioni</dc:subject>
  <dc:title>Progetto di aste e collegamenti in acciaio</dc:title>
</cp:coreProperties>
</file>