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EBF5-0C65-4BFB-8AE1-6C12DEB9E9A2}" type="slidenum">
              <a:rPr b="0" lang="it-IT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50E1-3914-4769-8863-99FA05FEED7B}" type="slidenum">
              <a:rPr b="0" lang="it-IT" sz="12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3800" cy="34304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Segnaposto data 4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257-FC07-44CA-BACC-30DC86CDC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42B-115E-4FA1-99C6-3CB903B7A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A95-04A7-4E11-AF13-79344A900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5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4120" y="158220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109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5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4120" y="3950640"/>
            <a:ext cx="2548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FEFC-E045-433F-ADE6-9C5833C4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9A2-DB21-4520-8ACE-51486A80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138-D8A4-4B28-BB02-3EABA5C5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D759-DCFA-4727-BFD2-26D66D97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CEDE-D8CA-44FD-9959-FF50EB5A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0920" y="358920"/>
            <a:ext cx="791676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B16-B75B-4B6D-ACE7-304568F3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C7B7-FDB2-452E-9995-D4919992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395064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465F-711A-494A-8C38-CEBBCC962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582200"/>
            <a:ext cx="38631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10920" y="3950640"/>
            <a:ext cx="791676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778-4C8D-496D-B6C9-78400DBB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33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0920" y="6297120"/>
            <a:ext cx="194292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297120"/>
            <a:ext cx="28800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48400" y="6297120"/>
            <a:ext cx="194328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C1A0-BEFC-4C9C-989C-665D8B4C204C}" type="slidenum">
              <a:rPr b="0" lang="it-IT" sz="14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12720" y="719280"/>
            <a:ext cx="791676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Cors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Progetto di strutture in zona sismica</a:t>
            </a:r>
            <a:endParaRPr b="0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12720" y="4497480"/>
            <a:ext cx="791676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3 novembre 2016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urelio Ghers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12720" y="3598920"/>
            <a:ext cx="791676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08 – Dimensionamento e verifica di massi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11280" y="2160720"/>
            <a:ext cx="791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Catania</a:t>
            </a:r>
            <a:br>
              <a:rPr sz="2000"/>
            </a:b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ottobre - dicembre 2016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:</a:t>
            </a:r>
            <a:br>
              <a:rPr sz="3200"/>
            </a:b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trav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Text Box 4"/>
          <p:cNvSpPr/>
          <p:nvPr/>
        </p:nvSpPr>
        <p:spPr>
          <a:xfrm>
            <a:off x="4830840" y="282600"/>
            <a:ext cx="381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e travi di spina portano circa 5 m di solai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343" name="Group 5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344" name="Line 6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5" name="Line 7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6" name="Line 8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47" name="Group 9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348" name="Line 10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5" name="Line 17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6" name="Line 18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57" name="Line 19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358" name="Group 20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359" name="Line 21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0" name="Line 22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1" name="Line 23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2" name="Line 24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3" name="Line 25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4" name="Line 26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5" name="Line 27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6" name="Line 28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7" name="Line 29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68" name="Line 30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Group 31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370" name="Rectangle 32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1" name="Rectangle 33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2" name="Rectangle 34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3" name="Rectangle 35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4" name="Rectangle 36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5" name="Rectangle 37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6" name="Rectangle 38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7" name="Rectangle 39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8" name="Rectangle 40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79" name="Rectangle 41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0" name="Rectangle 42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1" name="Rectangle 43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2" name="Rectangle 44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3" name="Rectangle 45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4" name="Rectangle 46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5" name="Rectangle 47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6" name="Rectangle 48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7" name="Rectangle 49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8" name="Rectangle 50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89" name="Rectangle 51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0" name="Rectangle 52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1" name="Rectangle 53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2" name="Rectangle 54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3" name="Rectangle 55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4" name="Rectangle 56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5" name="Rectangle 57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96" name="Rectangle 58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97" name="Group 59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398" name="Group 60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399" name="Line 61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00" name="Line 62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01" name="Line 63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64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403" name="Line 65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04" name="Line 66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05" name="Line 67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68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407" name="Line 69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08" name="Line 70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09" name="Line 71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72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411" name="Line 73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12" name="Line 74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13" name="Line 75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76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415" name="Line 77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16" name="Line 78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17" name="Line 79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80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419" name="Line 81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20" name="Line 82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21" name="Line 83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Group 84"/>
          <p:cNvGrpSpPr/>
          <p:nvPr/>
        </p:nvGrpSpPr>
        <p:grpSpPr>
          <a:xfrm>
            <a:off x="2311560" y="3821040"/>
            <a:ext cx="3936960" cy="1595520"/>
            <a:chOff x="2311560" y="3821040"/>
            <a:chExt cx="3936960" cy="1595520"/>
          </a:xfrm>
        </p:grpSpPr>
        <p:sp>
          <p:nvSpPr>
            <p:cNvPr id="423" name="Rectangle 85"/>
            <p:cNvSpPr/>
            <p:nvPr/>
          </p:nvSpPr>
          <p:spPr>
            <a:xfrm>
              <a:off x="2311560" y="3821040"/>
              <a:ext cx="1104840" cy="106704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24" name="Rectangle 86"/>
            <p:cNvSpPr/>
            <p:nvPr/>
          </p:nvSpPr>
          <p:spPr>
            <a:xfrm>
              <a:off x="5388120" y="4268880"/>
              <a:ext cx="860400" cy="114768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425" name="Text Box 87"/>
          <p:cNvSpPr/>
          <p:nvPr/>
        </p:nvSpPr>
        <p:spPr>
          <a:xfrm>
            <a:off x="4289400" y="1258920"/>
            <a:ext cx="44989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55 kN/m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in assenza di s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6" name="Text Box 88"/>
          <p:cNvSpPr/>
          <p:nvPr/>
        </p:nvSpPr>
        <p:spPr>
          <a:xfrm>
            <a:off x="4289400" y="1798560"/>
            <a:ext cx="45338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33 kN/m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in presenza di s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:</a:t>
            </a:r>
            <a:br>
              <a:rPr sz="3200"/>
            </a:b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trav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428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Text Box 4"/>
          <p:cNvSpPr/>
          <p:nvPr/>
        </p:nvSpPr>
        <p:spPr>
          <a:xfrm>
            <a:off x="4830840" y="282600"/>
            <a:ext cx="38145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e travi di spina portano circa 5 m di solai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431" name="Group 5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432" name="Line 6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3" name="Line 7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4" name="Line 8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35" name="Group 9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436" name="Line 10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7" name="Line 11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8" name="Line 12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39" name="Line 13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0" name="Line 14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1" name="Line 15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2" name="Line 16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3" name="Line 17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4" name="Line 18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45" name="Line 19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446" name="Group 20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447" name="Line 21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48" name="Line 22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49" name="Line 23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50" name="Line 24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51" name="Line 25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52" name="Line 26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53" name="Line 27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54" name="Line 28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55" name="Line 29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56" name="Line 30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Group 31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458" name="Rectangle 32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59" name="Rectangle 33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0" name="Rectangle 34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1" name="Rectangle 35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2" name="Rectangle 36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3" name="Rectangle 37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4" name="Rectangle 38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5" name="Rectangle 39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6" name="Rectangle 40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7" name="Rectangle 41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8" name="Rectangle 42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69" name="Rectangle 43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0" name="Rectangle 44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1" name="Rectangle 45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2" name="Rectangle 46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3" name="Rectangle 47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4" name="Rectangle 48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5" name="Rectangle 49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6" name="Rectangle 50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7" name="Rectangle 51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8" name="Rectangle 52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79" name="Rectangle 53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0" name="Rectangle 54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1" name="Rectangle 55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2" name="Rectangle 56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3" name="Rectangle 57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484" name="Rectangle 58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485" name="Group 59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486" name="Group 60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487" name="Line 61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8" name="Line 62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89" name="Line 63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90" name="Group 64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491" name="Line 65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2" name="Line 66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3" name="Line 67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68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495" name="Line 69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6" name="Line 70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497" name="Line 71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72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499" name="Line 73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00" name="Line 74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01" name="Line 75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02" name="Group 76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503" name="Line 77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04" name="Line 78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05" name="Line 79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80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507" name="Line 81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08" name="Line 82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09" name="Line 83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510" name="Text Box 84"/>
          <p:cNvSpPr/>
          <p:nvPr/>
        </p:nvSpPr>
        <p:spPr>
          <a:xfrm>
            <a:off x="4289400" y="1258920"/>
            <a:ext cx="44989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55 kN/m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in assenza di s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1" name="Text Box 85"/>
          <p:cNvSpPr/>
          <p:nvPr/>
        </p:nvSpPr>
        <p:spPr>
          <a:xfrm>
            <a:off x="4289400" y="1798560"/>
            <a:ext cx="453384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33 kN/m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in presenza di s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2" name="Rectangle 86"/>
          <p:cNvSpPr/>
          <p:nvPr/>
        </p:nvSpPr>
        <p:spPr>
          <a:xfrm>
            <a:off x="5416560" y="5389560"/>
            <a:ext cx="852480" cy="88884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3" name="Text Box 87"/>
          <p:cNvSpPr/>
          <p:nvPr/>
        </p:nvSpPr>
        <p:spPr>
          <a:xfrm>
            <a:off x="4830840" y="2338560"/>
            <a:ext cx="381456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e travi perimetrali portano un carico analog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4" name="Rectangle 86"/>
          <p:cNvSpPr/>
          <p:nvPr/>
        </p:nvSpPr>
        <p:spPr>
          <a:xfrm>
            <a:off x="1424160" y="4861080"/>
            <a:ext cx="893520" cy="103824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Momento flettente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prodotto dai carichi vertical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790560" y="1978200"/>
            <a:ext cx="75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Momento per carichi verticali (con sisma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7" name="Object 5"/>
              <p:cNvSpPr txBox="1"/>
              <p:nvPr/>
            </p:nvSpPr>
            <p:spPr>
              <a:xfrm>
                <a:off x="2328840" y="2446200"/>
                <a:ext cx="447660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8" name="Text Box 4"/>
          <p:cNvSpPr/>
          <p:nvPr/>
        </p:nvSpPr>
        <p:spPr>
          <a:xfrm>
            <a:off x="790560" y="4210200"/>
            <a:ext cx="75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Momento per carichi verticali (senza sisma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Object 3"/>
              <p:cNvSpPr txBox="1"/>
              <p:nvPr/>
            </p:nvSpPr>
            <p:spPr>
              <a:xfrm>
                <a:off x="2252520" y="4678200"/>
                <a:ext cx="4629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t xml:space="preserve">×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kN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0" name="Text Box 4"/>
          <p:cNvSpPr/>
          <p:nvPr/>
        </p:nvSpPr>
        <p:spPr>
          <a:xfrm>
            <a:off x="790560" y="3346560"/>
            <a:ext cx="75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00"/>
                </a:solidFill>
                <a:latin typeface="Comic Sans MS"/>
              </a:rPr>
              <a:t>Andrà sommato all’effetto del s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790560" y="5576760"/>
            <a:ext cx="75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9900"/>
                </a:solidFill>
                <a:latin typeface="Comic Sans MS"/>
              </a:rPr>
              <a:t>Può essere condizionante solo per travi molto lunghe</a:t>
            </a:r>
            <a:br>
              <a:rPr sz="2000"/>
            </a:br>
            <a:r>
              <a:rPr b="0" lang="it-IT" sz="2000" spc="-1" strike="noStrike">
                <a:solidFill>
                  <a:srgbClr val="009900"/>
                </a:solidFill>
                <a:latin typeface="Comic Sans MS"/>
              </a:rPr>
              <a:t>(non è il nostro caso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:</a:t>
            </a:r>
            <a:br>
              <a:rPr sz="3200"/>
            </a:b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ilastr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523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25" name="Group 4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526" name="Line 5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7" name="Line 6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28" name="Line 7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29" name="Group 8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530" name="Line 9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1" name="Line 10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2" name="Line 11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3" name="Line 12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4" name="Line 13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5" name="Line 14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6" name="Line 15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7" name="Line 16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8" name="Line 17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39" name="Line 18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540" name="Group 19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541" name="Line 20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42" name="Line 21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43" name="Line 22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44" name="Line 23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45" name="Line 24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46" name="Line 25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47" name="Line 26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48" name="Line 27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49" name="Line 28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50" name="Line 29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551" name="Group 30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552" name="Rectangle 31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3" name="Rectangle 32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4" name="Rectangle 33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5" name="Rectangle 34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6" name="Rectangle 35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7" name="Rectangle 36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8" name="Rectangle 37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59" name="Rectangle 38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0" name="Rectangle 39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1" name="Rectangle 40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2" name="Rectangle 41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3" name="Rectangle 42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4" name="Rectangle 43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5" name="Rectangle 44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6" name="Rectangle 45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7" name="Rectangle 46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8" name="Rectangle 47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69" name="Rectangle 48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0" name="Rectangle 49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1" name="Rectangle 50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2" name="Rectangle 51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3" name="Rectangle 52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4" name="Rectangle 53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5" name="Rectangle 54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6" name="Rectangle 55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7" name="Rectangle 56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578" name="Rectangle 57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579" name="Group 58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580" name="Group 59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581" name="Line 60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82" name="Line 61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83" name="Line 62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84" name="Group 63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585" name="Line 64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86" name="Line 65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87" name="Line 66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88" name="Group 67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589" name="Line 68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0" name="Line 69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1" name="Line 70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71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593" name="Line 72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4" name="Line 73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5" name="Line 74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75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597" name="Line 76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8" name="Line 77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599" name="Line 78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00" name="Group 79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601" name="Line 80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2" name="Line 81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03" name="Line 82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604" name="Group 83"/>
          <p:cNvGrpSpPr/>
          <p:nvPr/>
        </p:nvGrpSpPr>
        <p:grpSpPr>
          <a:xfrm>
            <a:off x="2392200" y="282600"/>
            <a:ext cx="6253200" cy="5068800"/>
            <a:chOff x="2392200" y="282600"/>
            <a:chExt cx="6253200" cy="5068800"/>
          </a:xfrm>
        </p:grpSpPr>
        <p:sp>
          <p:nvSpPr>
            <p:cNvPr id="605" name="Text Box 84"/>
            <p:cNvSpPr/>
            <p:nvPr/>
          </p:nvSpPr>
          <p:spPr>
            <a:xfrm>
              <a:off x="4830840" y="282600"/>
              <a:ext cx="38145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Pilastro interno, porta</a:t>
              </a:r>
              <a:br>
                <a:rPr sz="2400"/>
              </a:b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8 m di trave</a:t>
              </a:r>
              <a:br>
                <a:rPr sz="2400"/>
              </a:b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21 m</a:t>
              </a:r>
              <a:r>
                <a:rPr b="0" lang="it-IT" sz="2400" spc="-1" strike="noStrike" baseline="30000">
                  <a:solidFill>
                    <a:srgbClr val="003399"/>
                  </a:solidFill>
                  <a:latin typeface="Comic Sans MS"/>
                </a:rPr>
                <a:t>2</a:t>
              </a: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 di solaio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06" name="Rectangle 85"/>
            <p:cNvSpPr/>
            <p:nvPr/>
          </p:nvSpPr>
          <p:spPr>
            <a:xfrm>
              <a:off x="2392200" y="4338720"/>
              <a:ext cx="978120" cy="101268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07" name="Text Box 86"/>
          <p:cNvSpPr/>
          <p:nvPr/>
        </p:nvSpPr>
        <p:spPr>
          <a:xfrm>
            <a:off x="4830840" y="1619280"/>
            <a:ext cx="38145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arico al piano: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150 k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8" name="Text Box 87"/>
          <p:cNvSpPr/>
          <p:nvPr/>
        </p:nvSpPr>
        <p:spPr>
          <a:xfrm>
            <a:off x="4830840" y="2158920"/>
            <a:ext cx="38145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forzo normale al piede, incluso peso proprio: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830 k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9" name="Text Box 87"/>
          <p:cNvSpPr/>
          <p:nvPr/>
        </p:nvSpPr>
        <p:spPr>
          <a:xfrm>
            <a:off x="7574040" y="3624120"/>
            <a:ext cx="140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In assenza di sisma: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133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:</a:t>
            </a:r>
            <a:br>
              <a:rPr sz="3200"/>
            </a:b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ilastr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611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13" name="Group 4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614" name="Line 5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5" name="Line 6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6" name="Line 7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617" name="Group 8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618" name="Line 9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19" name="Line 10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0" name="Line 11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1" name="Line 12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2" name="Line 13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3" name="Line 14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4" name="Line 15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5" name="Line 16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6" name="Line 17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27" name="Line 18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628" name="Group 19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629" name="Line 20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0" name="Line 21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1" name="Line 22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2" name="Line 23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3" name="Line 24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4" name="Line 25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5" name="Line 26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6" name="Line 27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7" name="Line 28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38" name="Line 29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639" name="Group 30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640" name="Rectangle 31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1" name="Rectangle 32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2" name="Rectangle 33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3" name="Rectangle 34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4" name="Rectangle 35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5" name="Rectangle 36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6" name="Rectangle 37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7" name="Rectangle 38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8" name="Rectangle 39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49" name="Rectangle 40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0" name="Rectangle 41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1" name="Rectangle 42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2" name="Rectangle 43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3" name="Rectangle 44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4" name="Rectangle 45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5" name="Rectangle 46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6" name="Rectangle 47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7" name="Rectangle 48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8" name="Rectangle 49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59" name="Rectangle 50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0" name="Rectangle 51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1" name="Rectangle 52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2" name="Rectangle 53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3" name="Rectangle 54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4" name="Rectangle 55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5" name="Rectangle 56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66" name="Rectangle 57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667" name="Group 58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668" name="Group 59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669" name="Line 60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0" name="Line 61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1" name="Line 62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72" name="Group 63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673" name="Line 64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4" name="Line 65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5" name="Line 66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76" name="Group 67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677" name="Line 68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8" name="Line 69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79" name="Line 70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80" name="Group 71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681" name="Line 72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2" name="Line 73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3" name="Line 74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84" name="Group 75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685" name="Line 76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6" name="Line 77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87" name="Line 78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79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689" name="Line 80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0" name="Line 81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691" name="Line 82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692" name="Text Box 83"/>
          <p:cNvSpPr/>
          <p:nvPr/>
        </p:nvSpPr>
        <p:spPr>
          <a:xfrm>
            <a:off x="4830840" y="2158920"/>
            <a:ext cx="38145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forzo normale al piede, incluso peso proprio: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830 k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93" name="Group 84"/>
          <p:cNvGrpSpPr/>
          <p:nvPr/>
        </p:nvGrpSpPr>
        <p:grpSpPr>
          <a:xfrm>
            <a:off x="1452600" y="282600"/>
            <a:ext cx="7408800" cy="5995800"/>
            <a:chOff x="1452600" y="282600"/>
            <a:chExt cx="7408800" cy="5995800"/>
          </a:xfrm>
        </p:grpSpPr>
        <p:sp>
          <p:nvSpPr>
            <p:cNvPr id="694" name="Text Box 85"/>
            <p:cNvSpPr/>
            <p:nvPr/>
          </p:nvSpPr>
          <p:spPr>
            <a:xfrm>
              <a:off x="4830840" y="282600"/>
              <a:ext cx="40305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Pilastro laterale con sbalzo</a:t>
              </a:r>
              <a:br>
                <a:rPr sz="2400"/>
              </a:b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pilastro d’angolo con sbalzi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Più o meno lo stesso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5" name="Rectangle 86"/>
            <p:cNvSpPr/>
            <p:nvPr/>
          </p:nvSpPr>
          <p:spPr>
            <a:xfrm>
              <a:off x="4930920" y="5402160"/>
              <a:ext cx="977760" cy="86364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96" name="Rectangle 87"/>
            <p:cNvSpPr/>
            <p:nvPr/>
          </p:nvSpPr>
          <p:spPr>
            <a:xfrm>
              <a:off x="1452600" y="5381640"/>
              <a:ext cx="987480" cy="89676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697" name="Text Box 87"/>
          <p:cNvSpPr/>
          <p:nvPr/>
        </p:nvSpPr>
        <p:spPr>
          <a:xfrm>
            <a:off x="7574040" y="3624120"/>
            <a:ext cx="140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In assenza di sisma: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133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:</a:t>
            </a:r>
            <a:br>
              <a:rPr sz="3200"/>
            </a:b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ilastr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699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01" name="Group 4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702" name="Line 5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3" name="Line 6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4" name="Line 7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705" name="Group 8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706" name="Line 9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7" name="Line 10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8" name="Line 11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09" name="Line 12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0" name="Line 13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1" name="Line 14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2" name="Line 15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3" name="Line 16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4" name="Line 17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5" name="Line 18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716" name="Group 19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717" name="Line 20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18" name="Line 21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19" name="Line 22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0" name="Line 23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1" name="Line 24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2" name="Line 25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3" name="Line 26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4" name="Line 27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5" name="Line 28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26" name="Line 29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727" name="Group 30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728" name="Rectangle 31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29" name="Rectangle 32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0" name="Rectangle 33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1" name="Rectangle 34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2" name="Rectangle 35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3" name="Rectangle 36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4" name="Rectangle 37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5" name="Rectangle 38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6" name="Rectangle 39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7" name="Rectangle 40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8" name="Rectangle 41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9" name="Rectangle 42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0" name="Rectangle 43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1" name="Rectangle 44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2" name="Rectangle 45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3" name="Rectangle 46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4" name="Rectangle 47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5" name="Rectangle 48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6" name="Rectangle 49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7" name="Rectangle 50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8" name="Rectangle 51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9" name="Rectangle 52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0" name="Rectangle 53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1" name="Rectangle 54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2" name="Rectangle 55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3" name="Rectangle 56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4" name="Rectangle 57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755" name="Group 58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756" name="Group 59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757" name="Line 60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58" name="Line 61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59" name="Line 62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63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761" name="Line 64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62" name="Line 65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63" name="Line 66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64" name="Group 67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765" name="Line 68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66" name="Line 69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67" name="Line 70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68" name="Group 71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769" name="Line 72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70" name="Line 73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71" name="Line 74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72" name="Group 75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773" name="Line 76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74" name="Line 77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75" name="Line 78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79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777" name="Line 80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78" name="Line 81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779" name="Line 82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780" name="Text Box 83"/>
          <p:cNvSpPr/>
          <p:nvPr/>
        </p:nvSpPr>
        <p:spPr>
          <a:xfrm>
            <a:off x="4830840" y="2158920"/>
            <a:ext cx="38145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332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forzo normale al piede, incluso peso proprio: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1050 k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81" name="Group 84"/>
          <p:cNvGrpSpPr/>
          <p:nvPr/>
        </p:nvGrpSpPr>
        <p:grpSpPr>
          <a:xfrm>
            <a:off x="3394080" y="282600"/>
            <a:ext cx="5467320" cy="5081400"/>
            <a:chOff x="3394080" y="282600"/>
            <a:chExt cx="5467320" cy="5081400"/>
          </a:xfrm>
        </p:grpSpPr>
        <p:sp>
          <p:nvSpPr>
            <p:cNvPr id="782" name="Text Box 85"/>
            <p:cNvSpPr/>
            <p:nvPr/>
          </p:nvSpPr>
          <p:spPr>
            <a:xfrm>
              <a:off x="4830840" y="282600"/>
              <a:ext cx="40305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Pilastro interno in corrispondenza della scala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Di più, a causa del torrino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3" name="Rectangle 86"/>
            <p:cNvSpPr/>
            <p:nvPr/>
          </p:nvSpPr>
          <p:spPr>
            <a:xfrm>
              <a:off x="3394080" y="4351320"/>
              <a:ext cx="860400" cy="101268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784" name="Text Box 87"/>
          <p:cNvSpPr/>
          <p:nvPr/>
        </p:nvSpPr>
        <p:spPr>
          <a:xfrm>
            <a:off x="7574040" y="3624120"/>
            <a:ext cx="140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In assenza di sisma: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157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:</a:t>
            </a:r>
            <a:br>
              <a:rPr sz="3200"/>
            </a:b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ilastr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786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8" name="Group 4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789" name="Line 5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0" name="Line 6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1" name="Line 7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792" name="Group 8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793" name="Line 9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4" name="Line 10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5" name="Line 11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6" name="Line 12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7" name="Line 13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8" name="Line 14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9" name="Line 15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00" name="Line 16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01" name="Line 17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02" name="Line 18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803" name="Group 19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804" name="Line 20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05" name="Line 21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06" name="Line 22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07" name="Line 23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08" name="Line 24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09" name="Line 25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10" name="Line 26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11" name="Line 27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12" name="Line 28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13" name="Line 29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814" name="Group 30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815" name="Rectangle 31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16" name="Rectangle 32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17" name="Rectangle 33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18" name="Rectangle 34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19" name="Rectangle 35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0" name="Rectangle 36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1" name="Rectangle 37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2" name="Rectangle 38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3" name="Rectangle 39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4" name="Rectangle 40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5" name="Rectangle 41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6" name="Rectangle 42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7" name="Rectangle 43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8" name="Rectangle 44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29" name="Rectangle 45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0" name="Rectangle 46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1" name="Rectangle 47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2" name="Rectangle 48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3" name="Rectangle 49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4" name="Rectangle 50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5" name="Rectangle 51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6" name="Rectangle 52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7" name="Rectangle 53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8" name="Rectangle 54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39" name="Rectangle 55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0" name="Rectangle 56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41" name="Rectangle 57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842" name="Group 58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843" name="Group 59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844" name="Line 60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45" name="Line 61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46" name="Line 62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847" name="Group 63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848" name="Line 64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49" name="Line 65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0" name="Line 66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851" name="Group 67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852" name="Line 68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3" name="Line 69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4" name="Line 70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855" name="Group 71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856" name="Line 72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7" name="Line 73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8" name="Line 74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859" name="Group 75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860" name="Line 76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61" name="Line 77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62" name="Line 78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863" name="Group 79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864" name="Line 80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65" name="Line 81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66" name="Line 82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867" name="Text Box 83"/>
          <p:cNvSpPr/>
          <p:nvPr/>
        </p:nvSpPr>
        <p:spPr>
          <a:xfrm>
            <a:off x="4830840" y="2158920"/>
            <a:ext cx="38145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forzo normale al piede, incluso peso proprio: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600 k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868" name="Group 84"/>
          <p:cNvGrpSpPr/>
          <p:nvPr/>
        </p:nvGrpSpPr>
        <p:grpSpPr>
          <a:xfrm>
            <a:off x="1812960" y="282600"/>
            <a:ext cx="7048440" cy="4086360"/>
            <a:chOff x="1812960" y="282600"/>
            <a:chExt cx="7048440" cy="4086360"/>
          </a:xfrm>
        </p:grpSpPr>
        <p:sp>
          <p:nvSpPr>
            <p:cNvPr id="869" name="Text Box 85"/>
            <p:cNvSpPr/>
            <p:nvPr/>
          </p:nvSpPr>
          <p:spPr>
            <a:xfrm>
              <a:off x="4830840" y="282600"/>
              <a:ext cx="40305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Pilastro laterale privo di sbalzo o d’angolo con uno sbalzo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Carico al piano minor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70" name="Rectangle 86"/>
            <p:cNvSpPr/>
            <p:nvPr/>
          </p:nvSpPr>
          <p:spPr>
            <a:xfrm>
              <a:off x="1812960" y="3411360"/>
              <a:ext cx="563400" cy="95760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71" name="Rectangle 87"/>
            <p:cNvSpPr/>
            <p:nvPr/>
          </p:nvSpPr>
          <p:spPr>
            <a:xfrm>
              <a:off x="6700680" y="3483000"/>
              <a:ext cx="544680" cy="88092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872" name="Text Box 87"/>
          <p:cNvSpPr/>
          <p:nvPr/>
        </p:nvSpPr>
        <p:spPr>
          <a:xfrm>
            <a:off x="7574040" y="3624120"/>
            <a:ext cx="140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In assenza di sisma: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90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:</a:t>
            </a:r>
            <a:br>
              <a:rPr sz="3200"/>
            </a:b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pilastri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874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76" name="Group 4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877" name="Line 5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78" name="Line 6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79" name="Line 7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880" name="Group 8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881" name="Line 9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2" name="Line 10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3" name="Line 11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4" name="Line 12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5" name="Line 13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6" name="Line 14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7" name="Line 15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8" name="Line 16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89" name="Line 17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890" name="Line 18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891" name="Group 19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892" name="Line 20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93" name="Line 21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94" name="Line 22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95" name="Line 23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96" name="Line 24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97" name="Line 25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98" name="Line 26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99" name="Line 27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00" name="Line 28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01" name="Line 29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902" name="Group 30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903" name="Rectangle 31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4" name="Rectangle 32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5" name="Rectangle 33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6" name="Rectangle 34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7" name="Rectangle 35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8" name="Rectangle 36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09" name="Rectangle 37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0" name="Rectangle 38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1" name="Rectangle 39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2" name="Rectangle 40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3" name="Rectangle 41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4" name="Rectangle 42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5" name="Rectangle 43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6" name="Rectangle 44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7" name="Rectangle 45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8" name="Rectangle 46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19" name="Rectangle 47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0" name="Rectangle 48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1" name="Rectangle 49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2" name="Rectangle 50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3" name="Rectangle 51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4" name="Rectangle 52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5" name="Rectangle 53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6" name="Rectangle 54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7" name="Rectangle 55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8" name="Rectangle 56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29" name="Rectangle 57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930" name="Group 58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931" name="Group 59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932" name="Line 60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33" name="Line 61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34" name="Line 62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935" name="Group 63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936" name="Line 64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37" name="Line 65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38" name="Line 66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67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940" name="Line 68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41" name="Line 69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42" name="Line 70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943" name="Group 71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944" name="Line 72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45" name="Line 73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46" name="Line 74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947" name="Group 75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948" name="Line 76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49" name="Line 77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50" name="Line 78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79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952" name="Line 80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53" name="Line 81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54" name="Line 82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955" name="Text Box 83"/>
          <p:cNvSpPr/>
          <p:nvPr/>
        </p:nvSpPr>
        <p:spPr>
          <a:xfrm>
            <a:off x="4830840" y="2158920"/>
            <a:ext cx="381456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forzo normale al piede, incluso peso proprio: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380 kN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956" name="Group 84"/>
          <p:cNvGrpSpPr/>
          <p:nvPr/>
        </p:nvGrpSpPr>
        <p:grpSpPr>
          <a:xfrm>
            <a:off x="1763640" y="282600"/>
            <a:ext cx="7097760" cy="2320920"/>
            <a:chOff x="1763640" y="282600"/>
            <a:chExt cx="7097760" cy="2320920"/>
          </a:xfrm>
        </p:grpSpPr>
        <p:sp>
          <p:nvSpPr>
            <p:cNvPr id="957" name="Text Box 85"/>
            <p:cNvSpPr/>
            <p:nvPr/>
          </p:nvSpPr>
          <p:spPr>
            <a:xfrm>
              <a:off x="4830840" y="282600"/>
              <a:ext cx="40305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Pilastro d’angolo </a:t>
              </a:r>
              <a:br>
                <a:rPr sz="2400"/>
              </a:b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privo di sbalzo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Carico al piano ancora minore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8" name="Rectangle 86"/>
            <p:cNvSpPr/>
            <p:nvPr/>
          </p:nvSpPr>
          <p:spPr>
            <a:xfrm>
              <a:off x="1763640" y="2093760"/>
              <a:ext cx="608040" cy="509760"/>
            </a:xfrm>
            <a:prstGeom prst="rect">
              <a:avLst/>
            </a:prstGeom>
            <a:solidFill>
              <a:srgbClr val="00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959" name="Text Box 87"/>
          <p:cNvSpPr/>
          <p:nvPr/>
        </p:nvSpPr>
        <p:spPr>
          <a:xfrm>
            <a:off x="7574040" y="3624120"/>
            <a:ext cx="14079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484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In assenza di sisma:</a:t>
            </a:r>
            <a:br>
              <a:rPr sz="1800"/>
            </a:br>
            <a:r>
              <a:rPr b="0" lang="it-IT" sz="1800" spc="-1" strike="noStrike">
                <a:solidFill>
                  <a:srgbClr val="0066ff"/>
                </a:solidFill>
                <a:latin typeface="Comic Sans MS"/>
              </a:rPr>
              <a:t>560 kN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siderazioni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domini M-N per i pilastr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8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l massimo momento flettente può essere portato quando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2" name="Object 8"/>
              <p:cNvSpPr txBox="1"/>
              <p:nvPr/>
            </p:nvSpPr>
            <p:spPr>
              <a:xfrm>
                <a:off x="2173320" y="1960560"/>
                <a:ext cx="16160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≃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63" name="Text Box 3"/>
          <p:cNvSpPr/>
          <p:nvPr/>
        </p:nvSpPr>
        <p:spPr>
          <a:xfrm>
            <a:off x="5094360" y="5654520"/>
            <a:ext cx="32655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Non dimenticare che</a:t>
            </a:r>
            <a:br>
              <a:rPr sz="2400"/>
            </a:b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N</a:t>
            </a:r>
            <a:r>
              <a:rPr b="0" lang="it-IT" sz="2400" spc="-1" strike="noStrike" baseline="-25000">
                <a:solidFill>
                  <a:srgbClr val="009900"/>
                </a:solidFill>
                <a:latin typeface="Comic Sans MS"/>
              </a:rPr>
              <a:t>q, no sisma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9900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 1.5 N</a:t>
            </a:r>
            <a:r>
              <a:rPr b="0" lang="it-IT" sz="2400" spc="-1" strike="noStrike" baseline="-25000">
                <a:solidFill>
                  <a:srgbClr val="009900"/>
                </a:solidFill>
                <a:latin typeface="Comic Sans MS"/>
              </a:rPr>
              <a:t>q+sisma</a:t>
            </a:r>
            <a:r>
              <a:rPr b="0" lang="it-IT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964" name="Object 4"/>
          <p:cNvGraphicFramePr/>
          <p:nvPr/>
        </p:nvGraphicFramePr>
        <p:xfrm>
          <a:off x="88920" y="2544840"/>
          <a:ext cx="67881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2544840"/>
                    <a:ext cx="67881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6" name="Rectangle 11"/>
          <p:cNvSpPr/>
          <p:nvPr/>
        </p:nvSpPr>
        <p:spPr>
          <a:xfrm>
            <a:off x="2730600" y="3168720"/>
            <a:ext cx="425520" cy="2655720"/>
          </a:xfrm>
          <a:prstGeom prst="rect">
            <a:avLst/>
          </a:prstGeom>
          <a:solidFill>
            <a:srgbClr val="00339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7" name="Rectangle 12"/>
          <p:cNvSpPr/>
          <p:nvPr/>
        </p:nvSpPr>
        <p:spPr>
          <a:xfrm>
            <a:off x="3319560" y="3168720"/>
            <a:ext cx="425520" cy="2655720"/>
          </a:xfrm>
          <a:prstGeom prst="rect">
            <a:avLst/>
          </a:prstGeom>
          <a:solidFill>
            <a:srgbClr val="0099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8" name="Text Box 13"/>
          <p:cNvSpPr/>
          <p:nvPr/>
        </p:nvSpPr>
        <p:spPr>
          <a:xfrm>
            <a:off x="3230640" y="5911920"/>
            <a:ext cx="75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9900"/>
                </a:solidFill>
                <a:latin typeface="Comic Sans MS"/>
              </a:rPr>
              <a:t>senza sism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9" name="Text Box 14"/>
          <p:cNvSpPr/>
          <p:nvPr/>
        </p:nvSpPr>
        <p:spPr>
          <a:xfrm>
            <a:off x="2541600" y="5911920"/>
            <a:ext cx="75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99"/>
                </a:solidFill>
                <a:latin typeface="Comic Sans MS"/>
              </a:rPr>
              <a:t>con sisma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siderazioni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domini M-N per i pilastr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Un aumento della larghezza della sezione produce un aumento dello sforzo normale resisten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972" name="Object 3"/>
          <p:cNvGraphicFramePr/>
          <p:nvPr/>
        </p:nvGraphicFramePr>
        <p:xfrm>
          <a:off x="88920" y="2544840"/>
          <a:ext cx="67881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2544840"/>
                    <a:ext cx="67881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4" name="Text Box 4"/>
          <p:cNvSpPr/>
          <p:nvPr/>
        </p:nvSpPr>
        <p:spPr>
          <a:xfrm>
            <a:off x="6116760" y="2482920"/>
            <a:ext cx="270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ma un modesto incremento di capacità flessional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Dimensionamento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travi emergenti, travi a spessore, pilastr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12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mmediatamente valutabile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Effetto dei carichi verticali (M per le travi, N per i pilastri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611280" y="3036960"/>
            <a:ext cx="79167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Determinabile in maniera approssimata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Effetto del sisma (M per travi e pilastri, </a:t>
            </a:r>
            <a:r>
              <a:rPr b="0" lang="el-GR" sz="2400" spc="-1" strike="noStrike">
                <a:solidFill>
                  <a:srgbClr val="003399"/>
                </a:solidFill>
                <a:latin typeface="Comic Sans MS"/>
              </a:rPr>
              <a:t>Δ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 per i pilastri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siderazioni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domini M-N per i pilastr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Un aumento di altezza della sezione (a parità di area) produce un buon incremento di capacità flessional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977" name="Object 3"/>
          <p:cNvGraphicFramePr/>
          <p:nvPr/>
        </p:nvGraphicFramePr>
        <p:xfrm>
          <a:off x="88920" y="2544840"/>
          <a:ext cx="678816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2544840"/>
                    <a:ext cx="678816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9" name="Text Box 5"/>
          <p:cNvSpPr/>
          <p:nvPr/>
        </p:nvSpPr>
        <p:spPr>
          <a:xfrm>
            <a:off x="6164280" y="2484360"/>
            <a:ext cx="27367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a, attenzione:</a:t>
            </a:r>
            <a:br>
              <a:rPr sz="2200"/>
            </a:b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può aumentare proporzionalmente il momento sollecitante</a:t>
            </a:r>
            <a:endParaRPr b="0" lang="en-US" sz="2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siderazioni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ezioni dei pilastr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790560" y="1798560"/>
            <a:ext cx="770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n linea di massima può essere opportuno controllare che, nella sezione del primo ordine, la tensione media N/A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non superi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2" name="Text Box 4"/>
          <p:cNvSpPr/>
          <p:nvPr/>
        </p:nvSpPr>
        <p:spPr>
          <a:xfrm>
            <a:off x="1150920" y="3238560"/>
            <a:ext cx="734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988560" indent="-988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0.35-0.4 f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c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e si prevedono momenti flettenti elevati, ma non troppo (esempio: zona 2, suolo C, q non troppo basso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3" name="AutoShape 5"/>
          <p:cNvSpPr/>
          <p:nvPr/>
        </p:nvSpPr>
        <p:spPr>
          <a:xfrm flipH="1">
            <a:off x="5310360" y="2712960"/>
            <a:ext cx="2442960" cy="217440"/>
          </a:xfrm>
          <a:noFill/>
          <a:ln w="9360">
            <a:solidFill>
              <a:srgbClr val="00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rmAutofit fontScale="70000"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Comic Sans MS"/>
              </a:rPr>
              <a:t>in presenza di s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4" name="Text Box 6"/>
          <p:cNvSpPr/>
          <p:nvPr/>
        </p:nvSpPr>
        <p:spPr>
          <a:xfrm>
            <a:off x="1150920" y="4605480"/>
            <a:ext cx="768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988560" indent="-988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0.3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c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e si prevedono momenti flettenti 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iù elevati (zona 1 o suolo D, CD “B”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150920" y="5613480"/>
            <a:ext cx="774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988560" indent="-988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0.5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c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e si prevedono momenti flettenti 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iù bassi (zona 2, suolo A o B, CD ”A”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siderazioni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ezioni dei pilastr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87" name="Text Box 3"/>
          <p:cNvSpPr/>
          <p:nvPr/>
        </p:nvSpPr>
        <p:spPr>
          <a:xfrm>
            <a:off x="790560" y="1798560"/>
            <a:ext cx="770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n linea di massima può essere opportuno controllare che, nella sezione del primo ordine, la tensione media N/A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non superi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8" name="Text Box 4"/>
          <p:cNvSpPr/>
          <p:nvPr/>
        </p:nvSpPr>
        <p:spPr>
          <a:xfrm>
            <a:off x="1150920" y="3238560"/>
            <a:ext cx="734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988560" indent="-988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0.35-0.4 f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c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e si prevedono momenti flettenti elevati, ma non troppo (esempio: zona 2, suolo C, q non troppo basso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9" name="AutoShape 5"/>
          <p:cNvSpPr/>
          <p:nvPr/>
        </p:nvSpPr>
        <p:spPr>
          <a:xfrm flipH="1">
            <a:off x="5310360" y="2712960"/>
            <a:ext cx="2442960" cy="217440"/>
          </a:xfrm>
          <a:noFill/>
          <a:ln w="9360">
            <a:solidFill>
              <a:srgbClr val="0066ff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rmAutofit fontScale="70000"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66ff"/>
                </a:solidFill>
                <a:latin typeface="Comic Sans MS"/>
              </a:rPr>
              <a:t>in presenza di s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0" name="Text Box 6"/>
          <p:cNvSpPr/>
          <p:nvPr/>
        </p:nvSpPr>
        <p:spPr>
          <a:xfrm>
            <a:off x="1150920" y="4605480"/>
            <a:ext cx="7683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988560" indent="-988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0.3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c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e si prevedono momenti flettenti 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iù elevati (zona 1 o suolo D, CD “B”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1" name="Text Box 6"/>
          <p:cNvSpPr/>
          <p:nvPr/>
        </p:nvSpPr>
        <p:spPr>
          <a:xfrm>
            <a:off x="1150920" y="5613480"/>
            <a:ext cx="774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6000"/>
          </a:bodyPr>
          <a:p>
            <a:pPr marL="988560" indent="-9885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0.5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f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c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se si prevedono momenti flettenti 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iù bassi (zona 2, suolo A o B, CD ”A”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2" name="CasellaDiTesto 7"/>
          <p:cNvSpPr/>
          <p:nvPr/>
        </p:nvSpPr>
        <p:spPr>
          <a:xfrm>
            <a:off x="2163600" y="3489480"/>
            <a:ext cx="5448600" cy="257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036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La normativa impone di non superare (includendo il </a:t>
            </a:r>
            <a:r>
              <a:rPr b="0" lang="it-IT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N da sisma)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0.55 f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cd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per classe di duttilità 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0.65 f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cd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per classe di duttilità “B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99"/>
                </a:solidFill>
                <a:latin typeface="Comic Sans MS"/>
              </a:rPr>
              <a:t>NTC08, punto 7.4.4.2.2.1</a:t>
            </a:r>
            <a:br>
              <a:rPr sz="1600"/>
            </a:b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Considerazioni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sezioni dei pilastr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È opportuno usare per i diversi pilastri del primo ordine un numero basso di tipi di sezione (max 2 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o 3) ed evitare eccessive differenze di momento d’inerzia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743040" indent="-285840">
              <a:spcBef>
                <a:spcPts val="876"/>
              </a:spcBef>
              <a:buClr>
                <a:srgbClr val="00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quindi cercare di mantenere – più o meno - la stessa altezza delle sezioni e variare la bas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611280" y="4030560"/>
            <a:ext cx="8037360" cy="26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È opportuno ridurre gradualmente la sezione andando verso l’alto, ma è importante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limitare le variazioni di sezione, che sono sempre possibile causa di errori costruttiv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evitare forti riduzioni di tutti i pilastri ad uno stesso piano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mantenere una dimensione adeguata, non troppo piccola, anche ai piani superior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Dimensionamento travi e pilastri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per tener conto anche del sisma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reliminarmente: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effetto dei carichi vertica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Valutare il momento flettente nelle travi, in assenza e in presenza di sism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Valutare lo sforzo normale nei pilastri, in assenza e in presenza di sism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8" name="Rectangle 49"/>
          <p:cNvSpPr/>
          <p:nvPr/>
        </p:nvSpPr>
        <p:spPr>
          <a:xfrm>
            <a:off x="611280" y="4175280"/>
            <a:ext cx="79167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Comic Sans MS"/>
              </a:rPr>
              <a:t>Poi:</a:t>
            </a:r>
            <a:br>
              <a:rPr sz="2400"/>
            </a:br>
            <a:r>
              <a:rPr b="0" lang="it-IT" sz="2400" spc="-1" strike="noStrike">
                <a:solidFill>
                  <a:srgbClr val="0066ff"/>
                </a:solidFill>
                <a:latin typeface="Comic Sans MS"/>
              </a:rPr>
              <a:t>effetto del sisma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Comic Sans MS"/>
              </a:rPr>
              <a:t>Valutare il momento flettente indotto dal sisma nelle travi e nei pilastr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Comic Sans MS"/>
              </a:rPr>
              <a:t>Valutare la variazione di sforzo normale indotto dal sisma nei pilastri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Dimensionamento travi a spessore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per edifici con numerose travi emergenti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0920" y="1582200"/>
            <a:ext cx="7916760" cy="249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Dimensionamento per soli carichi vertica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Momento sollecitant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arghezza necessari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5"/>
              <p:cNvSpPr txBox="1"/>
              <p:nvPr/>
            </p:nvSpPr>
            <p:spPr>
              <a:xfrm>
                <a:off x="4788000" y="3159000"/>
                <a:ext cx="150156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d</m:t>
                            </m:r>
                          </m:sub>
                        </m:sSub>
                        <m:r>
                          <m:t xml:space="preserve"> 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3"/>
              <p:cNvSpPr txBox="1"/>
              <p:nvPr/>
            </p:nvSpPr>
            <p:spPr>
              <a:xfrm>
                <a:off x="4788000" y="2270160"/>
                <a:ext cx="21873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÷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Text Box 9"/>
          <p:cNvSpPr/>
          <p:nvPr/>
        </p:nvSpPr>
        <p:spPr>
          <a:xfrm>
            <a:off x="6550200" y="345744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con r = 0.019</a:t>
            </a:r>
            <a:r>
              <a:rPr b="0" lang="it-IT" sz="1800" spc="-1" strike="noStrike">
                <a:solidFill>
                  <a:srgbClr val="003399"/>
                </a:solidFill>
                <a:latin typeface="Symbol"/>
                <a:ea typeface="Symbol"/>
              </a:rPr>
              <a:t></a:t>
            </a:r>
            <a:r>
              <a:rPr b="0" lang="it-IT" sz="1800" spc="-1" strike="noStrike">
                <a:solidFill>
                  <a:srgbClr val="003399"/>
                </a:solidFill>
                <a:latin typeface="Comic Sans MS"/>
              </a:rPr>
              <a:t>0.020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611280" y="4367160"/>
            <a:ext cx="79167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prescrizione specifica per il sisma, perché la trave è in questo caso un elemento secondari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</a:t>
            </a:r>
            <a:br>
              <a:rPr sz="2800"/>
            </a:b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62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Text Box 4"/>
          <p:cNvSpPr/>
          <p:nvPr/>
        </p:nvSpPr>
        <p:spPr>
          <a:xfrm>
            <a:off x="4572000" y="282600"/>
            <a:ext cx="4073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’unica trave a spessore che porta carichi verticali ha luce modesta (3 m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66" name="Line 6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7" name="Line 7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68" name="Line 8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69" name="Group 9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70" name="Line 10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4" name="Line 14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5" name="Line 15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6" name="Line 16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7" name="Line 17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8" name="Line 18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79" name="Line 19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80" name="Group 20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81" name="Line 21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2" name="Line 22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3" name="Line 23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4" name="Line 24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5" name="Line 25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6" name="Line 26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7" name="Line 27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8" name="Line 28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89" name="Line 29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90" name="Line 30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Group 31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92" name="Rectangle 32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3" name="Rectangle 33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4" name="Rectangle 34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5" name="Rectangle 35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6" name="Rectangle 36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7" name="Rectangle 37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8" name="Rectangle 38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99" name="Rectangle 39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0" name="Rectangle 40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1" name="Rectangle 41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2" name="Rectangle 42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3" name="Rectangle 43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4" name="Rectangle 44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5" name="Rectangle 45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6" name="Rectangle 46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7" name="Rectangle 47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8" name="Rectangle 48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09" name="Rectangle 49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0" name="Rectangle 50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1" name="Rectangle 51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2" name="Rectangle 52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3" name="Rectangle 53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4" name="Rectangle 54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5" name="Rectangle 55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6" name="Rectangle 56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7" name="Rectangle 57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18" name="Rectangle 58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119" name="Group 59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120" name="Group 60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121" name="Line 61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2" name="Line 62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3" name="Line 63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24" name="Group 64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125" name="Line 65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6" name="Line 66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27" name="Line 67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28" name="Group 68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129" name="Line 69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0" name="Line 70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1" name="Line 71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72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133" name="Line 73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4" name="Line 74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5" name="Line 75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36" name="Group 76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137" name="Line 77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8" name="Line 78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39" name="Line 79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140" name="Group 80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141" name="Line 81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2" name="Line 82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43" name="Line 83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Oval 84"/>
          <p:cNvSpPr/>
          <p:nvPr/>
        </p:nvSpPr>
        <p:spPr>
          <a:xfrm>
            <a:off x="3479760" y="4680000"/>
            <a:ext cx="1416240" cy="38412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</a:t>
            </a:r>
            <a:br>
              <a:rPr sz="2800"/>
            </a:b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Text Box 4"/>
          <p:cNvSpPr/>
          <p:nvPr/>
        </p:nvSpPr>
        <p:spPr>
          <a:xfrm>
            <a:off x="4289400" y="282600"/>
            <a:ext cx="464652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a trave a spessore caricata porta circa 2.5 m di scala e 1 m di solai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149" name="Group 5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150" name="Line 6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1" name="Line 7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2" name="Line 8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153" name="Group 9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154" name="Line 10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5" name="Line 11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6" name="Line 12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7" name="Line 13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8" name="Line 14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0" name="Line 16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1" name="Line 17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2" name="Line 18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63" name="Line 19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164" name="Group 20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165" name="Line 21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6" name="Line 22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7" name="Line 23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8" name="Line 24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69" name="Line 25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0" name="Line 26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1" name="Line 27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2" name="Line 28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3" name="Line 29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174" name="Line 30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175" name="Group 31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176" name="Rectangle 32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7" name="Rectangle 33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8" name="Rectangle 34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79" name="Rectangle 35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0" name="Rectangle 36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1" name="Rectangle 37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2" name="Rectangle 38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3" name="Rectangle 39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4" name="Rectangle 40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5" name="Rectangle 41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6" name="Rectangle 42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7" name="Rectangle 43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8" name="Rectangle 44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89" name="Rectangle 45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0" name="Rectangle 46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1" name="Rectangle 47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2" name="Rectangle 48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3" name="Rectangle 49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4" name="Rectangle 50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5" name="Rectangle 51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6" name="Rectangle 52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7" name="Rectangle 53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8" name="Rectangle 54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199" name="Rectangle 55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0" name="Rectangle 56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1" name="Rectangle 57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02" name="Rectangle 58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03" name="Group 59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204" name="Group 60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205" name="Line 61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6" name="Line 62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07" name="Line 63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64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209" name="Line 65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0" name="Line 66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1" name="Line 67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68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213" name="Line 69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4" name="Line 70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5" name="Line 71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72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217" name="Line 73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8" name="Line 74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19" name="Line 75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20" name="Group 76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221" name="Line 77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2" name="Line 78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3" name="Line 79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224" name="Group 80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225" name="Line 81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6" name="Line 82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27" name="Line 83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228" name="Rectangle 84"/>
          <p:cNvSpPr/>
          <p:nvPr/>
        </p:nvSpPr>
        <p:spPr>
          <a:xfrm>
            <a:off x="3873600" y="4633920"/>
            <a:ext cx="641160" cy="782640"/>
          </a:xfrm>
          <a:prstGeom prst="rect">
            <a:avLst/>
          </a:prstGeom>
          <a:solidFill>
            <a:srgbClr val="00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Text Box 85"/>
          <p:cNvSpPr/>
          <p:nvPr/>
        </p:nvSpPr>
        <p:spPr>
          <a:xfrm>
            <a:off x="4289400" y="1639800"/>
            <a:ext cx="4498920" cy="5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40 kN/m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in assenza di s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0" name="Text Box 86"/>
          <p:cNvSpPr/>
          <p:nvPr/>
        </p:nvSpPr>
        <p:spPr>
          <a:xfrm>
            <a:off x="4289400" y="2179800"/>
            <a:ext cx="453384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q</a:t>
            </a:r>
            <a:r>
              <a:rPr b="0" lang="it-IT" sz="2400" spc="-1" strike="noStrike" baseline="-25000">
                <a:solidFill>
                  <a:srgbClr val="003399"/>
                </a:solidFill>
                <a:latin typeface="Comic Sans MS"/>
              </a:rPr>
              <a:t>d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3399"/>
                </a:solidFill>
                <a:latin typeface="Symbol"/>
                <a:ea typeface="Symbol"/>
              </a:rPr>
              <a:t>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 24 kN/m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in presenza di sism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Dimensionamento travi a spessore 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Esempi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790560" y="1978200"/>
            <a:ext cx="7558200" cy="1307880"/>
            <a:chOff x="790560" y="1978200"/>
            <a:chExt cx="7558200" cy="1307880"/>
          </a:xfrm>
        </p:grpSpPr>
        <p:sp>
          <p:nvSpPr>
            <p:cNvPr id="233" name="Text Box 4"/>
            <p:cNvSpPr/>
            <p:nvPr/>
          </p:nvSpPr>
          <p:spPr>
            <a:xfrm>
              <a:off x="790560" y="1978200"/>
              <a:ext cx="755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Momento per carichi verticali (in assenza di sisma)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4" name="Object 5"/>
                <p:cNvSpPr txBox="1"/>
                <p:nvPr/>
              </p:nvSpPr>
              <p:spPr>
                <a:xfrm>
                  <a:off x="2316240" y="2446200"/>
                  <a:ext cx="4502160" cy="839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≃</m:t>
                      </m:r>
                      <m:r>
                        <m:rPr>
                          <m:lit/>
                          <m:nor/>
                        </m:rPr>
                        <m:t xml:space="preserve">36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kNm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35" name="Group 6"/>
          <p:cNvGrpSpPr/>
          <p:nvPr/>
        </p:nvGrpSpPr>
        <p:grpSpPr>
          <a:xfrm>
            <a:off x="792000" y="4492800"/>
            <a:ext cx="7558200" cy="1958760"/>
            <a:chOff x="792000" y="4492800"/>
            <a:chExt cx="7558200" cy="1958760"/>
          </a:xfrm>
        </p:grpSpPr>
        <p:sp>
          <p:nvSpPr>
            <p:cNvPr id="236" name="Text Box 7"/>
            <p:cNvSpPr/>
            <p:nvPr/>
          </p:nvSpPr>
          <p:spPr>
            <a:xfrm>
              <a:off x="792000" y="5646960"/>
              <a:ext cx="755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99"/>
                  </a:solidFill>
                  <a:latin typeface="Comic Sans MS"/>
                </a:rPr>
                <a:t>Momento per azione sismica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37" name="Text Box 8"/>
            <p:cNvSpPr/>
            <p:nvPr/>
          </p:nvSpPr>
          <p:spPr>
            <a:xfrm>
              <a:off x="792000" y="4492800"/>
              <a:ext cx="755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99"/>
                  </a:solidFill>
                  <a:latin typeface="Comic Sans MS"/>
                </a:rPr>
                <a:t>Momento per carichi verticali (con sisma)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8" name="Object 9"/>
                <p:cNvSpPr txBox="1"/>
                <p:nvPr/>
              </p:nvSpPr>
              <p:spPr>
                <a:xfrm>
                  <a:off x="2330280" y="4803840"/>
                  <a:ext cx="447696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d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q</m:t>
                          </m:r>
                          <m:r>
                            <m:t xml:space="preserve"> </m:t>
                          </m:r>
                          <m:sSup>
                            <m:e>
                              <m:r>
                                <m:t xml:space="preserve">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4</m:t>
                          </m:r>
                          <m:r>
                            <m:t xml:space="preserve">×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t xml:space="preserve">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den>
                      </m:f>
                      <m:r>
                        <m:t xml:space="preserve">≃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r>
                        <m:t xml:space="preserve"> </m:t>
                      </m:r>
                      <m:r>
                        <m:rPr>
                          <m:lit/>
                          <m:nor/>
                        </m:rPr>
                        <m:t xml:space="preserve">kN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Text Box 10"/>
            <p:cNvSpPr/>
            <p:nvPr/>
          </p:nvSpPr>
          <p:spPr>
            <a:xfrm>
              <a:off x="2744640" y="5994360"/>
              <a:ext cx="5551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3399"/>
                  </a:solidFill>
                  <a:latin typeface="Comic Sans MS"/>
                </a:rPr>
                <a:t>è certamente molto piccolo</a:t>
              </a:r>
              <a:endParaRPr b="0" lang="en-US" sz="20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sp>
        <p:nvSpPr>
          <p:cNvPr id="240" name="Text Box 11"/>
          <p:cNvSpPr/>
          <p:nvPr/>
        </p:nvSpPr>
        <p:spPr>
          <a:xfrm>
            <a:off x="790560" y="3529080"/>
            <a:ext cx="751824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Il momento totale in presenza di sisma certamente non è più grande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Dimensionamento travi a spessore </a:t>
            </a: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Esempio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42" name="Group 3"/>
          <p:cNvGrpSpPr/>
          <p:nvPr/>
        </p:nvGrpSpPr>
        <p:grpSpPr>
          <a:xfrm>
            <a:off x="539640" y="3983040"/>
            <a:ext cx="7558200" cy="1404720"/>
            <a:chOff x="539640" y="3983040"/>
            <a:chExt cx="7558200" cy="1404720"/>
          </a:xfrm>
        </p:grpSpPr>
        <p:sp>
          <p:nvSpPr>
            <p:cNvPr id="243" name="Text Box 4"/>
            <p:cNvSpPr/>
            <p:nvPr/>
          </p:nvSpPr>
          <p:spPr>
            <a:xfrm>
              <a:off x="539640" y="3983040"/>
              <a:ext cx="7558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3399"/>
                  </a:solidFill>
                  <a:latin typeface="Comic Sans MS"/>
                </a:rPr>
                <a:t>Calcolo della larghezza:</a:t>
              </a:r>
              <a:endParaRPr b="0" lang="en-US" sz="2400" spc="-1" strike="noStrike">
                <a:solidFill>
                  <a:srgbClr val="00339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44" name="Object 5"/>
                <p:cNvSpPr txBox="1"/>
                <p:nvPr/>
              </p:nvSpPr>
              <p:spPr>
                <a:xfrm>
                  <a:off x="2027160" y="4548240"/>
                  <a:ext cx="4527360" cy="839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r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 </m:t>
                          </m:r>
                          <m:r>
                            <m:t xml:space="preserve">M</m:t>
                          </m:r>
                        </m:num>
                        <m:den>
                          <m:sSup>
                            <m:e>
                              <m:r>
                                <m:t xml:space="preserve">d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 </m:t>
                      </m:r>
                      <m:f>
                        <m:num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20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r>
                            <m:rPr>
                              <m:lit/>
                              <m:nor/>
                            </m:rPr>
                            <m:t xml:space="preserve">36</m:t>
                          </m:r>
                        </m:num>
                        <m:den>
                          <m:r>
                            <m:t xml:space="preserve">0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44</m:t>
                      </m:r>
                      <m:r>
                        <m:t xml:space="preserve"> </m:t>
                      </m:r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45" name="Text Box 6"/>
          <p:cNvSpPr/>
          <p:nvPr/>
        </p:nvSpPr>
        <p:spPr>
          <a:xfrm>
            <a:off x="5846760" y="5614920"/>
            <a:ext cx="27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Comic Sans MS"/>
              </a:rPr>
              <a:t>Si scegli la sezione 60x2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39640" y="1619280"/>
            <a:ext cx="3473640" cy="20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Dati: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ezione rettangola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b = da determinar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h = 22 c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c = 4 c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4457880" y="1619280"/>
            <a:ext cx="347328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Ed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= 36 kNm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717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Calcestruzzo C25/30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br>
              <a:rPr sz="2000"/>
            </a:b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R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ck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= 30 MPa</a:t>
            </a:r>
            <a:br>
              <a:rPr sz="2000"/>
            </a:b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f</a:t>
            </a:r>
            <a:r>
              <a:rPr b="0" lang="it-IT" sz="2000" spc="-1" strike="noStrike" baseline="-25000">
                <a:solidFill>
                  <a:srgbClr val="003399"/>
                </a:solidFill>
                <a:latin typeface="Comic Sans MS"/>
              </a:rPr>
              <a:t>ck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= 25 MPa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0920" y="358920"/>
            <a:ext cx="791676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Esempio</a:t>
            </a:r>
            <a:br>
              <a:rPr sz="2800"/>
            </a:b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249" name="Object 3"/>
          <p:cNvGraphicFramePr/>
          <p:nvPr/>
        </p:nvGraphicFramePr>
        <p:xfrm>
          <a:off x="1096920" y="2081160"/>
          <a:ext cx="669600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6920" y="2081160"/>
                    <a:ext cx="669600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Text Box 4"/>
          <p:cNvSpPr/>
          <p:nvPr/>
        </p:nvSpPr>
        <p:spPr>
          <a:xfrm>
            <a:off x="4572000" y="282600"/>
            <a:ext cx="40734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’unica trave a spessore che porta carichi verticali ha luce modesta (3 m)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913200" y="4867200"/>
            <a:ext cx="576360" cy="0"/>
            <a:chOff x="3913200" y="4867200"/>
            <a:chExt cx="576360" cy="0"/>
          </a:xfrm>
        </p:grpSpPr>
        <p:sp>
          <p:nvSpPr>
            <p:cNvPr id="253" name="Line 6"/>
            <p:cNvSpPr/>
            <p:nvPr/>
          </p:nvSpPr>
          <p:spPr>
            <a:xfrm>
              <a:off x="39132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4" name="Line 7"/>
            <p:cNvSpPr/>
            <p:nvPr/>
          </p:nvSpPr>
          <p:spPr>
            <a:xfrm>
              <a:off x="414360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5" name="Line 8"/>
            <p:cNvSpPr/>
            <p:nvPr/>
          </p:nvSpPr>
          <p:spPr>
            <a:xfrm>
              <a:off x="4374360" y="4867200"/>
              <a:ext cx="11520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256" name="Group 9"/>
          <p:cNvGrpSpPr/>
          <p:nvPr/>
        </p:nvGrpSpPr>
        <p:grpSpPr>
          <a:xfrm>
            <a:off x="1797120" y="2135160"/>
            <a:ext cx="5438880" cy="3770280"/>
            <a:chOff x="1797120" y="2135160"/>
            <a:chExt cx="5438880" cy="3770280"/>
          </a:xfrm>
        </p:grpSpPr>
        <p:sp>
          <p:nvSpPr>
            <p:cNvPr id="257" name="Line 10"/>
            <p:cNvSpPr/>
            <p:nvPr/>
          </p:nvSpPr>
          <p:spPr>
            <a:xfrm>
              <a:off x="454824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>
              <a:off x="1941480" y="213660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59" name="Line 12"/>
            <p:cNvSpPr/>
            <p:nvPr/>
          </p:nvSpPr>
          <p:spPr>
            <a:xfrm>
              <a:off x="1941480" y="5905440"/>
              <a:ext cx="18655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179712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1" name="Line 14"/>
            <p:cNvSpPr/>
            <p:nvPr/>
          </p:nvSpPr>
          <p:spPr>
            <a:xfrm>
              <a:off x="2878200" y="215424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2" name="Line 15"/>
            <p:cNvSpPr/>
            <p:nvPr/>
          </p:nvSpPr>
          <p:spPr>
            <a:xfrm>
              <a:off x="3849840" y="2135160"/>
              <a:ext cx="0" cy="374796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3" name="Line 16"/>
            <p:cNvSpPr/>
            <p:nvPr/>
          </p:nvSpPr>
          <p:spPr>
            <a:xfrm>
              <a:off x="7194600" y="3900600"/>
              <a:ext cx="0" cy="193968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4" name="Line 17"/>
            <p:cNvSpPr/>
            <p:nvPr/>
          </p:nvSpPr>
          <p:spPr>
            <a:xfrm>
              <a:off x="3882960" y="383868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5" name="Line 18"/>
            <p:cNvSpPr/>
            <p:nvPr/>
          </p:nvSpPr>
          <p:spPr>
            <a:xfrm>
              <a:off x="4591080" y="4876920"/>
              <a:ext cx="261792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66" name="Line 19"/>
            <p:cNvSpPr/>
            <p:nvPr/>
          </p:nvSpPr>
          <p:spPr>
            <a:xfrm>
              <a:off x="3909960" y="5902200"/>
              <a:ext cx="3326040" cy="0"/>
            </a:xfrm>
            <a:prstGeom prst="line">
              <a:avLst/>
            </a:prstGeom>
            <a:ln w="572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grpSp>
          <p:nvGrpSpPr>
            <p:cNvPr id="267" name="Group 20"/>
            <p:cNvGrpSpPr/>
            <p:nvPr/>
          </p:nvGrpSpPr>
          <p:grpSpPr>
            <a:xfrm>
              <a:off x="1857240" y="3022560"/>
              <a:ext cx="4419720" cy="2833560"/>
              <a:chOff x="1857240" y="3022560"/>
              <a:chExt cx="4419720" cy="2833560"/>
            </a:xfrm>
          </p:grpSpPr>
          <p:sp>
            <p:nvSpPr>
              <p:cNvPr id="268" name="Line 21"/>
              <p:cNvSpPr/>
              <p:nvPr/>
            </p:nvSpPr>
            <p:spPr>
              <a:xfrm>
                <a:off x="1865160" y="3022560"/>
                <a:ext cx="1013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69" name="Line 22"/>
              <p:cNvSpPr/>
              <p:nvPr/>
            </p:nvSpPr>
            <p:spPr>
              <a:xfrm>
                <a:off x="2967120" y="3022560"/>
                <a:ext cx="84132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70" name="Line 23"/>
              <p:cNvSpPr/>
              <p:nvPr/>
            </p:nvSpPr>
            <p:spPr>
              <a:xfrm>
                <a:off x="2941560" y="3855960"/>
                <a:ext cx="85104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71" name="Line 24"/>
              <p:cNvSpPr/>
              <p:nvPr/>
            </p:nvSpPr>
            <p:spPr>
              <a:xfrm>
                <a:off x="1857240" y="3860640"/>
                <a:ext cx="105876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72" name="Line 25"/>
              <p:cNvSpPr/>
              <p:nvPr/>
            </p:nvSpPr>
            <p:spPr>
              <a:xfrm>
                <a:off x="1874880" y="4870440"/>
                <a:ext cx="1047600" cy="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73" name="Line 26"/>
              <p:cNvSpPr/>
              <p:nvPr/>
            </p:nvSpPr>
            <p:spPr>
              <a:xfrm>
                <a:off x="2976480" y="4860720"/>
                <a:ext cx="843120" cy="79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74" name="Line 27"/>
              <p:cNvSpPr/>
              <p:nvPr/>
            </p:nvSpPr>
            <p:spPr>
              <a:xfrm>
                <a:off x="5406840" y="3892320"/>
                <a:ext cx="0" cy="92412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75" name="Line 28"/>
              <p:cNvSpPr/>
              <p:nvPr/>
            </p:nvSpPr>
            <p:spPr>
              <a:xfrm>
                <a:off x="6276960" y="3892320"/>
                <a:ext cx="0" cy="914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76" name="Line 29"/>
              <p:cNvSpPr/>
              <p:nvPr/>
            </p:nvSpPr>
            <p:spPr>
              <a:xfrm>
                <a:off x="5397480" y="4897080"/>
                <a:ext cx="0" cy="95904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277" name="Line 30"/>
              <p:cNvSpPr/>
              <p:nvPr/>
            </p:nvSpPr>
            <p:spPr>
              <a:xfrm>
                <a:off x="6276960" y="4897080"/>
                <a:ext cx="0" cy="941400"/>
              </a:xfrm>
              <a:prstGeom prst="line">
                <a:avLst/>
              </a:prstGeom>
              <a:ln w="38160">
                <a:solidFill>
                  <a:srgbClr val="00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Group 31"/>
          <p:cNvGrpSpPr/>
          <p:nvPr/>
        </p:nvGrpSpPr>
        <p:grpSpPr>
          <a:xfrm>
            <a:off x="1763640" y="2093760"/>
            <a:ext cx="5459400" cy="3848400"/>
            <a:chOff x="1763640" y="2093760"/>
            <a:chExt cx="5459400" cy="3848400"/>
          </a:xfrm>
        </p:grpSpPr>
        <p:sp>
          <p:nvSpPr>
            <p:cNvPr id="279" name="Rectangle 32"/>
            <p:cNvSpPr/>
            <p:nvPr/>
          </p:nvSpPr>
          <p:spPr>
            <a:xfrm rot="5400000">
              <a:off x="18039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0" name="Rectangle 33"/>
            <p:cNvSpPr/>
            <p:nvPr/>
          </p:nvSpPr>
          <p:spPr>
            <a:xfrm rot="5400000">
              <a:off x="3750120" y="20534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1" name="Rectangle 34"/>
            <p:cNvSpPr/>
            <p:nvPr/>
          </p:nvSpPr>
          <p:spPr>
            <a:xfrm rot="5400000">
              <a:off x="180396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2" name="Rectangle 35"/>
            <p:cNvSpPr/>
            <p:nvPr/>
          </p:nvSpPr>
          <p:spPr>
            <a:xfrm rot="5400000">
              <a:off x="37501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3" name="Rectangle 36"/>
            <p:cNvSpPr/>
            <p:nvPr/>
          </p:nvSpPr>
          <p:spPr>
            <a:xfrm rot="5400000">
              <a:off x="450288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4" name="Rectangle 37"/>
            <p:cNvSpPr/>
            <p:nvPr/>
          </p:nvSpPr>
          <p:spPr>
            <a:xfrm>
              <a:off x="7134120" y="3800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5" name="Rectangle 38"/>
            <p:cNvSpPr/>
            <p:nvPr/>
          </p:nvSpPr>
          <p:spPr>
            <a:xfrm>
              <a:off x="713412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6" name="Rectangle 39"/>
            <p:cNvSpPr/>
            <p:nvPr/>
          </p:nvSpPr>
          <p:spPr>
            <a:xfrm>
              <a:off x="4518000" y="57722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7" name="Rectangle 40"/>
            <p:cNvSpPr/>
            <p:nvPr/>
          </p:nvSpPr>
          <p:spPr>
            <a:xfrm>
              <a:off x="3790800" y="379080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8" name="Rectangle 41"/>
            <p:cNvSpPr/>
            <p:nvPr/>
          </p:nvSpPr>
          <p:spPr>
            <a:xfrm rot="5400000">
              <a:off x="2826360" y="20530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89" name="Rectangle 42"/>
            <p:cNvSpPr/>
            <p:nvPr/>
          </p:nvSpPr>
          <p:spPr>
            <a:xfrm rot="5400000">
              <a:off x="282456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0" name="Rectangle 43"/>
            <p:cNvSpPr/>
            <p:nvPr/>
          </p:nvSpPr>
          <p:spPr>
            <a:xfrm rot="5400000">
              <a:off x="534096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1" name="Rectangle 44"/>
            <p:cNvSpPr/>
            <p:nvPr/>
          </p:nvSpPr>
          <p:spPr>
            <a:xfrm rot="5400000">
              <a:off x="6212520" y="37598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2" name="Rectangle 45"/>
            <p:cNvSpPr/>
            <p:nvPr/>
          </p:nvSpPr>
          <p:spPr>
            <a:xfrm rot="5400000">
              <a:off x="5334480" y="58125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3" name="Rectangle 46"/>
            <p:cNvSpPr/>
            <p:nvPr/>
          </p:nvSpPr>
          <p:spPr>
            <a:xfrm rot="5400000">
              <a:off x="6210720" y="581292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4" name="Rectangle 47"/>
            <p:cNvSpPr/>
            <p:nvPr/>
          </p:nvSpPr>
          <p:spPr>
            <a:xfrm rot="5400000">
              <a:off x="534096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5" name="Rectangle 48"/>
            <p:cNvSpPr/>
            <p:nvPr/>
          </p:nvSpPr>
          <p:spPr>
            <a:xfrm rot="5400000">
              <a:off x="6212520" y="479016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6" name="Rectangle 49"/>
            <p:cNvSpPr/>
            <p:nvPr/>
          </p:nvSpPr>
          <p:spPr>
            <a:xfrm>
              <a:off x="1763640" y="294336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7" name="Rectangle 50"/>
            <p:cNvSpPr/>
            <p:nvPr/>
          </p:nvSpPr>
          <p:spPr>
            <a:xfrm>
              <a:off x="3790800" y="29336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8" name="Rectangle 51"/>
            <p:cNvSpPr/>
            <p:nvPr/>
          </p:nvSpPr>
          <p:spPr>
            <a:xfrm>
              <a:off x="2825640" y="29527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299" name="Rectangle 52"/>
            <p:cNvSpPr/>
            <p:nvPr/>
          </p:nvSpPr>
          <p:spPr>
            <a:xfrm>
              <a:off x="176364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0" name="Rectangle 53"/>
            <p:cNvSpPr/>
            <p:nvPr/>
          </p:nvSpPr>
          <p:spPr>
            <a:xfrm>
              <a:off x="1763640" y="378288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1" name="Rectangle 54"/>
            <p:cNvSpPr/>
            <p:nvPr/>
          </p:nvSpPr>
          <p:spPr>
            <a:xfrm>
              <a:off x="3790800" y="478944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2" name="Rectangle 55"/>
            <p:cNvSpPr/>
            <p:nvPr/>
          </p:nvSpPr>
          <p:spPr>
            <a:xfrm>
              <a:off x="2825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3" name="Rectangle 56"/>
            <p:cNvSpPr/>
            <p:nvPr/>
          </p:nvSpPr>
          <p:spPr>
            <a:xfrm>
              <a:off x="2825640" y="3773520"/>
              <a:ext cx="88920" cy="16992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4" name="Rectangle 57"/>
            <p:cNvSpPr/>
            <p:nvPr/>
          </p:nvSpPr>
          <p:spPr>
            <a:xfrm>
              <a:off x="713412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  <p:sp>
          <p:nvSpPr>
            <p:cNvPr id="305" name="Rectangle 58"/>
            <p:cNvSpPr/>
            <p:nvPr/>
          </p:nvSpPr>
          <p:spPr>
            <a:xfrm>
              <a:off x="4508640" y="4791240"/>
              <a:ext cx="88920" cy="16956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99"/>
                </a:solidFill>
                <a:latin typeface="Arial"/>
              </a:endParaRPr>
            </a:p>
          </p:txBody>
        </p:sp>
      </p:grpSp>
      <p:grpSp>
        <p:nvGrpSpPr>
          <p:cNvPr id="306" name="Group 59"/>
          <p:cNvGrpSpPr/>
          <p:nvPr/>
        </p:nvGrpSpPr>
        <p:grpSpPr>
          <a:xfrm>
            <a:off x="2036880" y="4076640"/>
            <a:ext cx="3930120" cy="1633680"/>
            <a:chOff x="2036880" y="4076640"/>
            <a:chExt cx="3930120" cy="1633680"/>
          </a:xfrm>
        </p:grpSpPr>
        <p:grpSp>
          <p:nvGrpSpPr>
            <p:cNvPr id="307" name="Group 60"/>
            <p:cNvGrpSpPr/>
            <p:nvPr/>
          </p:nvGrpSpPr>
          <p:grpSpPr>
            <a:xfrm>
              <a:off x="2036880" y="4206960"/>
              <a:ext cx="680760" cy="320400"/>
              <a:chOff x="2036880" y="4206960"/>
              <a:chExt cx="680760" cy="320400"/>
            </a:xfrm>
          </p:grpSpPr>
          <p:sp>
            <p:nvSpPr>
              <p:cNvPr id="308" name="Line 61"/>
              <p:cNvSpPr/>
              <p:nvPr/>
            </p:nvSpPr>
            <p:spPr>
              <a:xfrm>
                <a:off x="2036880" y="4371840"/>
                <a:ext cx="68076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09" name="Line 62"/>
              <p:cNvSpPr/>
              <p:nvPr/>
            </p:nvSpPr>
            <p:spPr>
              <a:xfrm flipV="1">
                <a:off x="2036880" y="420696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10" name="Line 63"/>
              <p:cNvSpPr/>
              <p:nvPr/>
            </p:nvSpPr>
            <p:spPr>
              <a:xfrm flipV="1">
                <a:off x="2439720" y="4362480"/>
                <a:ext cx="26820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64"/>
            <p:cNvGrpSpPr/>
            <p:nvPr/>
          </p:nvGrpSpPr>
          <p:grpSpPr>
            <a:xfrm>
              <a:off x="3036960" y="4206960"/>
              <a:ext cx="681120" cy="320400"/>
              <a:chOff x="3036960" y="4206960"/>
              <a:chExt cx="681120" cy="320400"/>
            </a:xfrm>
          </p:grpSpPr>
          <p:sp>
            <p:nvSpPr>
              <p:cNvPr id="312" name="Line 65"/>
              <p:cNvSpPr/>
              <p:nvPr/>
            </p:nvSpPr>
            <p:spPr>
              <a:xfrm>
                <a:off x="3036960" y="4371840"/>
                <a:ext cx="68112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13" name="Line 66"/>
              <p:cNvSpPr/>
              <p:nvPr/>
            </p:nvSpPr>
            <p:spPr>
              <a:xfrm flipV="1">
                <a:off x="3036960" y="420696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14" name="Line 67"/>
              <p:cNvSpPr/>
              <p:nvPr/>
            </p:nvSpPr>
            <p:spPr>
              <a:xfrm flipV="1">
                <a:off x="3440160" y="4362480"/>
                <a:ext cx="268560" cy="16488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68"/>
            <p:cNvGrpSpPr/>
            <p:nvPr/>
          </p:nvGrpSpPr>
          <p:grpSpPr>
            <a:xfrm>
              <a:off x="5646600" y="4076640"/>
              <a:ext cx="320400" cy="681120"/>
              <a:chOff x="5646600" y="4076640"/>
              <a:chExt cx="320400" cy="681120"/>
            </a:xfrm>
          </p:grpSpPr>
          <p:sp>
            <p:nvSpPr>
              <p:cNvPr id="316" name="Line 69"/>
              <p:cNvSpPr/>
              <p:nvPr/>
            </p:nvSpPr>
            <p:spPr>
              <a:xfrm flipV="1">
                <a:off x="5811480" y="407664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17" name="Line 70"/>
              <p:cNvSpPr/>
              <p:nvPr/>
            </p:nvSpPr>
            <p:spPr>
              <a:xfrm flipH="1" flipV="1">
                <a:off x="5646600" y="44892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18" name="Line 71"/>
              <p:cNvSpPr/>
              <p:nvPr/>
            </p:nvSpPr>
            <p:spPr>
              <a:xfrm flipH="1" flipV="1">
                <a:off x="5802120" y="408600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319" name="Group 72"/>
            <p:cNvGrpSpPr/>
            <p:nvPr/>
          </p:nvGrpSpPr>
          <p:grpSpPr>
            <a:xfrm>
              <a:off x="5646600" y="5029200"/>
              <a:ext cx="320400" cy="681120"/>
              <a:chOff x="5646600" y="5029200"/>
              <a:chExt cx="320400" cy="681120"/>
            </a:xfrm>
          </p:grpSpPr>
          <p:sp>
            <p:nvSpPr>
              <p:cNvPr id="320" name="Line 73"/>
              <p:cNvSpPr/>
              <p:nvPr/>
            </p:nvSpPr>
            <p:spPr>
              <a:xfrm flipV="1">
                <a:off x="581148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21" name="Line 74"/>
              <p:cNvSpPr/>
              <p:nvPr/>
            </p:nvSpPr>
            <p:spPr>
              <a:xfrm flipH="1" flipV="1">
                <a:off x="564660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22" name="Line 75"/>
              <p:cNvSpPr/>
              <p:nvPr/>
            </p:nvSpPr>
            <p:spPr>
              <a:xfrm flipH="1" flipV="1">
                <a:off x="580212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323" name="Group 76"/>
            <p:cNvGrpSpPr/>
            <p:nvPr/>
          </p:nvGrpSpPr>
          <p:grpSpPr>
            <a:xfrm>
              <a:off x="3956040" y="4206600"/>
              <a:ext cx="500040" cy="320760"/>
              <a:chOff x="3956040" y="4206600"/>
              <a:chExt cx="500040" cy="320760"/>
            </a:xfrm>
          </p:grpSpPr>
          <p:sp>
            <p:nvSpPr>
              <p:cNvPr id="324" name="Line 77"/>
              <p:cNvSpPr/>
              <p:nvPr/>
            </p:nvSpPr>
            <p:spPr>
              <a:xfrm>
                <a:off x="3956040" y="4372200"/>
                <a:ext cx="500040" cy="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25" name="Line 78"/>
              <p:cNvSpPr/>
              <p:nvPr/>
            </p:nvSpPr>
            <p:spPr>
              <a:xfrm flipV="1">
                <a:off x="3956040" y="420660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26" name="Line 79"/>
              <p:cNvSpPr/>
              <p:nvPr/>
            </p:nvSpPr>
            <p:spPr>
              <a:xfrm flipV="1">
                <a:off x="4178160" y="4362120"/>
                <a:ext cx="268200" cy="16524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80"/>
            <p:cNvGrpSpPr/>
            <p:nvPr/>
          </p:nvGrpSpPr>
          <p:grpSpPr>
            <a:xfrm>
              <a:off x="4022640" y="5029200"/>
              <a:ext cx="320400" cy="681120"/>
              <a:chOff x="4022640" y="5029200"/>
              <a:chExt cx="320400" cy="681120"/>
            </a:xfrm>
          </p:grpSpPr>
          <p:sp>
            <p:nvSpPr>
              <p:cNvPr id="328" name="Line 81"/>
              <p:cNvSpPr/>
              <p:nvPr/>
            </p:nvSpPr>
            <p:spPr>
              <a:xfrm flipV="1">
                <a:off x="4187520" y="5029200"/>
                <a:ext cx="0" cy="68112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29" name="Line 82"/>
              <p:cNvSpPr/>
              <p:nvPr/>
            </p:nvSpPr>
            <p:spPr>
              <a:xfrm flipH="1" flipV="1">
                <a:off x="4022640" y="54417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  <p:sp>
            <p:nvSpPr>
              <p:cNvPr id="330" name="Line 83"/>
              <p:cNvSpPr/>
              <p:nvPr/>
            </p:nvSpPr>
            <p:spPr>
              <a:xfrm flipH="1" flipV="1">
                <a:off x="4178160" y="5038560"/>
                <a:ext cx="164880" cy="268560"/>
              </a:xfrm>
              <a:prstGeom prst="line">
                <a:avLst/>
              </a:prstGeom>
              <a:ln w="1908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99"/>
                  </a:solidFill>
                  <a:latin typeface="Arial"/>
                </a:endParaRPr>
              </a:p>
            </p:txBody>
          </p:sp>
        </p:grpSp>
      </p:grpSp>
      <p:sp>
        <p:nvSpPr>
          <p:cNvPr id="331" name="Oval 84"/>
          <p:cNvSpPr/>
          <p:nvPr/>
        </p:nvSpPr>
        <p:spPr>
          <a:xfrm>
            <a:off x="3479760" y="4680000"/>
            <a:ext cx="1416240" cy="38412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2" name="Text Box 85"/>
          <p:cNvSpPr/>
          <p:nvPr/>
        </p:nvSpPr>
        <p:spPr>
          <a:xfrm>
            <a:off x="4572000" y="1587600"/>
            <a:ext cx="4111560" cy="95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Le altre travi sono solo di collegamento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3" name="Line 86"/>
          <p:cNvSpPr/>
          <p:nvPr/>
        </p:nvSpPr>
        <p:spPr>
          <a:xfrm flipH="1">
            <a:off x="3378240" y="2268360"/>
            <a:ext cx="1193760" cy="624240"/>
          </a:xfrm>
          <a:prstGeom prst="line">
            <a:avLst/>
          </a:prstGeom>
          <a:ln w="9360">
            <a:solidFill>
              <a:srgbClr val="0066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4" name="Text Box 87"/>
          <p:cNvSpPr/>
          <p:nvPr/>
        </p:nvSpPr>
        <p:spPr>
          <a:xfrm>
            <a:off x="4981680" y="2519280"/>
            <a:ext cx="369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Comic Sans MS"/>
              </a:rPr>
              <a:t>Si usa anche per queste la sezione 60x22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2000" y="358920"/>
            <a:ext cx="86360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3399"/>
                </a:solidFill>
                <a:latin typeface="Comic Sans MS"/>
              </a:rPr>
              <a:t>Dimensionamento travi emergenti e pilastri</a:t>
            </a:r>
            <a:br>
              <a:rPr sz="3200"/>
            </a:br>
            <a:r>
              <a:rPr b="0" lang="it-IT" sz="2800" spc="-1" strike="noStrike">
                <a:solidFill>
                  <a:srgbClr val="003399"/>
                </a:solidFill>
                <a:latin typeface="Comic Sans MS"/>
              </a:rPr>
              <a:t>per tener conto anche del sisma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0920" y="1582560"/>
            <a:ext cx="7916760" cy="24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Preliminarmente:</a:t>
            </a:r>
            <a:br>
              <a:rPr sz="2400"/>
            </a:b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effetto dei carichi verticali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Valutare il momento flettente nelle travi, in assenza e in presenza di sism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Valutare lo sforzo normale nei pilastri, in assenza e in presenza di sisma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790560" y="4194000"/>
            <a:ext cx="75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Stima degli altri carichi unitari (kN/m), per le analisi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1035000" y="4605480"/>
          <a:ext cx="7074000" cy="2054160"/>
        </p:xfrm>
        <a:graphic>
          <a:graphicData uri="http://schemas.openxmlformats.org/drawingml/2006/table">
            <a:tbl>
              <a:tblPr/>
              <a:tblGrid>
                <a:gridCol w="2355840"/>
                <a:gridCol w="1179720"/>
                <a:gridCol w="1179360"/>
                <a:gridCol w="1179360"/>
                <a:gridCol w="1179720"/>
              </a:tblGrid>
              <a:tr h="517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g</a:t>
                      </a:r>
                      <a:r>
                        <a:rPr b="0" lang="it-IT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k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q</a:t>
                      </a:r>
                      <a:r>
                        <a:rPr b="0" lang="it-IT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k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LU solo c.v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LU con F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1368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Travi 30 x 6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2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Travi 30 x 5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Travi 60 x 22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Tamponature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7.8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5760">
                      <a:solidFill>
                        <a:srgbClr val="003399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Tramezzi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576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33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99"/>
                      </a:solidFill>
                    </a:lnL>
                    <a:lnR w="13680">
                      <a:solidFill>
                        <a:srgbClr val="003399"/>
                      </a:solidFill>
                    </a:lnR>
                    <a:lnT w="5760">
                      <a:solidFill>
                        <a:srgbClr val="003399"/>
                      </a:solidFill>
                    </a:lnT>
                    <a:lnB w="13680">
                      <a:solidFill>
                        <a:srgbClr val="0033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4T16:01:45Z</dcterms:created>
  <dc:creator>Aurelio Ghersi</dc:creator>
  <dc:description/>
  <dc:language>en-US</dc:language>
  <cp:lastModifiedBy>Aurelio Ghersi</cp:lastModifiedBy>
  <dcterms:modified xsi:type="dcterms:W3CDTF">2016-11-04T17:14:42Z</dcterms:modified>
  <cp:revision>134</cp:revision>
  <dc:subject>7 – Dimensionamento e verifica di massima</dc:subject>
  <dc:title>Spoleto 2015: Progetto di edifici antisismici in c.a.</dc:title>
</cp:coreProperties>
</file>