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5ED-027E-406F-A873-3017C839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143-B256-4DB7-81D0-C3D041B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2E1-61C0-41F9-A0BE-31E0F4AA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4AE-EC15-4E26-B039-F40D2670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58DE-F549-4DC0-9CA7-BCA806B5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F258-4BE9-4054-B686-7FA2FF85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C6F-4F02-41C1-8551-4C520501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1B96-BE2F-4EC0-A06C-A8438928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291-9C35-425B-AC04-A987387F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7669-1BB4-4FA8-BEC8-DA3F346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A0BB-6D4F-49E5-9D73-05B3B86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D75-C22E-4EDB-B892-435DD673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3839-161C-4FBB-B92C-3FE22ED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9F1C-2472-41F0-A0A5-A44A1F3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581-0C8D-48B2-8B65-9D15E3E2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1506-90CA-45AF-B82F-E1679EE5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632E-2007-428C-91BD-3797C809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8E7-C976-4477-803C-01BDDD66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5F8-2DE9-4ADD-8229-3A9E1AC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7A5-23DD-4A85-A22D-4CE415FA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987-CC5A-4C94-B049-8ADBB2E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E26-F1C7-405D-8B33-3610B93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ADC-BE2C-4F66-A692-DD3C506F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796-D1F1-4266-8DB0-1C75480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9C17-C036-4668-818D-4B7CAFB980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E73-68FF-41B0-8E6B-908E607C37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83720" y="51084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Corso   di       Ingegneria Costie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7040" y="3577320"/>
            <a:ext cx="56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ercitazione 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alcolo della lunghezza d’on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7240" y="476280"/>
            <a:ext cx="8859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28640" y="2963880"/>
            <a:ext cx="7156440" cy="3489480"/>
            <a:chOff x="728640" y="2963880"/>
            <a:chExt cx="7156440" cy="3489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rcRect l="0" t="6651" r="4000" b="7368"/>
            <a:stretch/>
          </p:blipFill>
          <p:spPr>
            <a:xfrm>
              <a:off x="728640" y="2963880"/>
              <a:ext cx="7156440" cy="34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379160" y="3906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27680" y="5166000"/>
                  <a:ext cx="7815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relazione di dispers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516720" y="5587920"/>
            <a:ext cx="2448000" cy="1152360"/>
            <a:chOff x="6516720" y="5587920"/>
            <a:chExt cx="2448000" cy="1152360"/>
          </a:xfrm>
        </p:grpSpPr>
        <p:grpSp>
          <p:nvGrpSpPr>
            <p:cNvPr id="103" name=""/>
            <p:cNvGrpSpPr/>
            <p:nvPr/>
          </p:nvGrpSpPr>
          <p:grpSpPr>
            <a:xfrm>
              <a:off x="6588000" y="5587920"/>
              <a:ext cx="2214720" cy="1136520"/>
              <a:chOff x="6588000" y="5587920"/>
              <a:chExt cx="2214720" cy="1136520"/>
            </a:xfrm>
          </p:grpSpPr>
          <p:sp>
            <p:nvSpPr>
              <p:cNvPr id="104" name=""/>
              <p:cNvSpPr/>
              <p:nvPr/>
            </p:nvSpPr>
            <p:spPr>
              <a:xfrm>
                <a:off x="7740720" y="5587920"/>
                <a:ext cx="147600" cy="320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6588000" y="5948280"/>
                    <a:ext cx="2214720" cy="776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6" name=""/>
            <p:cNvSpPr/>
            <p:nvPr/>
          </p:nvSpPr>
          <p:spPr>
            <a:xfrm>
              <a:off x="6516720" y="5876640"/>
              <a:ext cx="2448000" cy="86364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56360" y="3571920"/>
            <a:ext cx="2987640" cy="792000"/>
            <a:chOff x="6156360" y="3571920"/>
            <a:chExt cx="2987640" cy="792000"/>
          </a:xfrm>
        </p:grpSpPr>
        <p:grpSp>
          <p:nvGrpSpPr>
            <p:cNvPr id="108" name=""/>
            <p:cNvGrpSpPr/>
            <p:nvPr/>
          </p:nvGrpSpPr>
          <p:grpSpPr>
            <a:xfrm>
              <a:off x="6227640" y="3571920"/>
              <a:ext cx="2916360" cy="772920"/>
              <a:chOff x="6227640" y="3571920"/>
              <a:chExt cx="2916360" cy="772920"/>
            </a:xfrm>
          </p:grpSpPr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227640" y="3643200"/>
                    <a:ext cx="2916360" cy="70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φ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φ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gη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0" name=""/>
              <p:cNvSpPr/>
              <p:nvPr/>
            </p:nvSpPr>
            <p:spPr>
              <a:xfrm>
                <a:off x="6877080" y="3571920"/>
                <a:ext cx="431640" cy="71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156360" y="3643200"/>
              <a:ext cx="2987640" cy="72072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04000" y="2492280"/>
            <a:ext cx="2160720" cy="720720"/>
            <a:chOff x="6804000" y="2492280"/>
            <a:chExt cx="2160720" cy="720720"/>
          </a:xfrm>
        </p:grpSpPr>
        <p:grpSp>
          <p:nvGrpSpPr>
            <p:cNvPr id="113" name=""/>
            <p:cNvGrpSpPr/>
            <p:nvPr/>
          </p:nvGrpSpPr>
          <p:grpSpPr>
            <a:xfrm>
              <a:off x="6804000" y="2563560"/>
              <a:ext cx="2160360" cy="587160"/>
              <a:chOff x="6804000" y="2563560"/>
              <a:chExt cx="2160360" cy="587160"/>
            </a:xfrm>
          </p:grpSpPr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7299000" y="2563560"/>
                    <a:ext cx="1665360" cy="58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5" name=""/>
              <p:cNvSpPr/>
              <p:nvPr/>
            </p:nvSpPr>
            <p:spPr>
              <a:xfrm flipV="1">
                <a:off x="6804000" y="2941200"/>
                <a:ext cx="493920" cy="2070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236000" y="2492280"/>
              <a:ext cx="1728720" cy="72072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92360" y="5805360"/>
            <a:ext cx="1655280" cy="935280"/>
            <a:chOff x="1692360" y="5805360"/>
            <a:chExt cx="1655280" cy="93528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946160" y="580536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1692360" y="6094440"/>
              <a:ext cx="1008000" cy="64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836720" y="6135840"/>
                  <a:ext cx="64764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 flipH="1">
              <a:off x="2268000" y="5878440"/>
              <a:ext cx="1079640" cy="21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835280" y="1773360"/>
                <a:ext cx="3929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k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 flipV="1">
            <a:off x="5796000" y="2133720"/>
            <a:ext cx="1440000" cy="358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C241-F0B5-4F20-B393-E3889F4F988F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relazione di dispers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4867" t="0" r="14343" b="10584"/>
          <a:stretch/>
        </p:blipFill>
        <p:spPr>
          <a:xfrm>
            <a:off x="2050920" y="4365720"/>
            <a:ext cx="5040360" cy="192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3133800"/>
                <a:ext cx="7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80000" y="2471760"/>
                <a:ext cx="72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87280" y="2771640"/>
                <a:ext cx="309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k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88BA-1AC7-47E6-96C1-8C432912A7F1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25574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equenza angol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32068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mero d’on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3754440"/>
                <a:ext cx="2304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372360" y="3716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fondit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terminazione della lunghezza d’onda Specifiche del programma FOR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068720" y="3059280"/>
                <a:ext cx="10065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651640" y="3284640"/>
                <a:ext cx="28908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 </m:t>
                        </m:r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376440" y="4221000"/>
                <a:ext cx="2389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k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3AD-8B1F-4440-B047-323599335089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421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i: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h, 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230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e di 1° tentativo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816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arametri: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g, </a:t>
            </a:r>
            <a:r>
              <a:rPr b="1" i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3789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rmula da risolvere iterativamen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4869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utput: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603440" cy="1811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140360" y="551664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Buon lavoro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Rosaria Musumeci</cp:lastModifiedBy>
  <dcterms:modified xsi:type="dcterms:W3CDTF">2005-04-05T12:39:41Z</dcterms:modified>
  <cp:revision>23</cp:revision>
  <dc:subject/>
  <dc:title>La relazione di dispersione</dc:title>
</cp:coreProperties>
</file>