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AAD-814A-4131-9893-B16F348E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E6D-B890-4FE3-84DF-D37B6810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9D8-8F80-4D64-89B5-CFCB994C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7EE-182E-4758-B38C-CE8C8A91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D1DC-363F-43B2-B3E2-C20A5131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AA17-69B3-4E00-9027-8B8ADFBB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BDBC-E845-43AF-9108-5C7C8666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694B-9383-4B78-A687-B6AA7909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6D1B-1533-409A-A6EB-9300837A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FEDC-A9CC-4C6D-B13C-C278EA7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4D54-E815-4F2B-A5A7-798C2C3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3A8-EBFB-45E8-AC4F-FA7F380B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780-1B86-47D5-A9EB-B7D5518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BAC1-0174-41D7-8715-9802A62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EE86-5520-4854-8710-86DD68A1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693-0800-4EF6-BF87-D68CAFF0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B0FA-038C-407A-ADBA-CBAE1262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D1F-5418-4385-8731-B3F5F6B5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011-0E2D-47C7-A9EF-1D9729B1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EFB-7451-467B-ABAF-2C211059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38C-320E-48D5-B141-3753510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DA7-8304-40CD-A07D-C14B266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3C5-61B0-4FA3-90F3-82A2A6E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B81E-A93E-4AA3-933A-2FD4129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569E-24DF-4AA7-9942-DFEAF4E64DA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963-326C-429C-A12E-86405E2164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83720" y="51084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rso   di       R e g i m e    e    P r o t e z i o n e    d e i    L i t o r a l 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1120" y="3334320"/>
            <a:ext cx="674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ercitazione 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terminazione della sopraelevazi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l pelo liber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7640" y="6085800"/>
            <a:ext cx="33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Ing. Rosaria Ester MUSUME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7240" y="476280"/>
            <a:ext cx="8859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Calcolare e diagrammare il pelo libero,</a:t>
            </a:r>
            <a:br>
              <a:rPr sz="3200"/>
            </a:br>
            <a:r>
              <a:rPr b="0" lang="it-IT" sz="3200" spc="-1" strike="noStrike">
                <a:solidFill>
                  <a:srgbClr val="003366"/>
                </a:solidFill>
                <a:latin typeface="Arial"/>
              </a:rPr>
              <a:t>Al 1° e al 2° ordine della teoria di Stok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26028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7108-5C9F-41BC-8281-5B3BDF6F789A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2421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ti: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H=2 m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h=10 m, T=10 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28162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8480" indent="-169848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eterminare: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L, </a:t>
            </a:r>
            <a:r>
              <a:rPr b="1" i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tilizzando il programma sviluppato nella Esercitazione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789360"/>
            <a:ext cx="7272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Per </a:t>
            </a:r>
            <a:r>
              <a:rPr b="1" i="1" lang="it-IT" sz="1800" spc="-1" strike="noStrike">
                <a:solidFill>
                  <a:srgbClr val="003366"/>
                </a:solidFill>
                <a:latin typeface="Arial"/>
              </a:rPr>
              <a:t>t=0.25T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e </a:t>
            </a:r>
            <a:r>
              <a:rPr b="1" i="1" lang="it-IT" sz="1800" spc="-1" strike="noStrike">
                <a:solidFill>
                  <a:srgbClr val="003366"/>
                </a:solidFill>
                <a:latin typeface="Arial"/>
              </a:rPr>
              <a:t>t=0.5T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, 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calcolare </a:t>
            </a:r>
            <a:r>
              <a:rPr b="1" i="1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e diagrammare (</a:t>
            </a:r>
            <a:r>
              <a:rPr b="1" i="1" lang="it-IT" sz="2000" spc="-1" strike="noStrike">
                <a:solidFill>
                  <a:srgbClr val="003366"/>
                </a:solidFill>
                <a:latin typeface="Times New Roman"/>
              </a:rPr>
              <a:t>x/L-</a:t>
            </a:r>
            <a:r>
              <a:rPr b="1" i="1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) utilizzando le formule introdotte della seconda teoria di Stokes (</a:t>
            </a:r>
            <a:r>
              <a:rPr b="1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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3366"/>
                </a:solidFill>
                <a:latin typeface="Symbol"/>
                <a:ea typeface="Symbol"/>
              </a:rPr>
              <a:t>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603440" cy="1811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140360" y="5516640"/>
            <a:ext cx="2519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Buon lavoro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219640" y="1700280"/>
            <a:ext cx="3924360" cy="2104920"/>
            <a:chOff x="5219640" y="1700280"/>
            <a:chExt cx="3924360" cy="2104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rcRect l="0" t="6651" r="4000" b="7368"/>
            <a:stretch/>
          </p:blipFill>
          <p:spPr>
            <a:xfrm>
              <a:off x="5219640" y="1700280"/>
              <a:ext cx="392436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562360" y="2268000"/>
              <a:ext cx="18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19160" y="2251080"/>
                <a:ext cx="1008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764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l moto ondoso al primo ordine di approssimazione (onde lineari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47880" y="3286080"/>
                <a:ext cx="2214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903240" y="4051440"/>
                <a:ext cx="5153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φ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φ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33560" y="4794120"/>
                <a:ext cx="35701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η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η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88960" y="2860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74800" y="2682720"/>
                <a:ext cx="180000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-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7BB-C383-4157-B2D5-0402B12C4475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16360" y="5373720"/>
                <a:ext cx="4032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σ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6360" y="6093000"/>
                <a:ext cx="2160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σ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2700360" y="5300640"/>
            <a:ext cx="4608360" cy="1484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596360" y="5229360"/>
                <a:ext cx="1117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885000" y="4076640"/>
            <a:ext cx="225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POTESI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nde di ampiezza infinites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72360" y="5013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mulazione del problema in termini adimensional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046160" y="3429000"/>
                <a:ext cx="131760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z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φ</m:t>
                            </m:r>
                          </m:num>
                          <m:den>
                            <m:r>
                              <m:t xml:space="preserve">a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k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630520" y="3429000"/>
                <a:ext cx="122076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k</m:t>
                            </m:r>
                          </m:e>
                        </m:rad>
                        <m:r>
                          <m:t xml:space="preserve">t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k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num>
                          <m:den>
                            <m:r>
                              <m:t xml:space="preserve">ρ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77D4-38E7-487F-B810-042ED1136571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72000" y="3141720"/>
            <a:ext cx="4248000" cy="2392200"/>
            <a:chOff x="4572000" y="3141720"/>
            <a:chExt cx="4248000" cy="23922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6651" r="4000" b="7368"/>
            <a:stretch/>
          </p:blipFill>
          <p:spPr>
            <a:xfrm>
              <a:off x="4572000" y="3141720"/>
              <a:ext cx="42480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943160" y="3787920"/>
              <a:ext cx="19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71640" y="2421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Si introducono le seguenti grandezze adimension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mulazione del problema in termini adimensional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16000" y="2781360"/>
                <a:ext cx="1440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7740-53EC-4489-973D-4B734CBF4D9D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23414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l problema divent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42920" y="4076640"/>
                <a:ext cx="25923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30320" y="4869000"/>
                <a:ext cx="5773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Φ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Φ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057320" y="5589720"/>
                <a:ext cx="43066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985680" y="3500280"/>
                <a:ext cx="2060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932360" y="328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arametro picco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940360" y="2492280"/>
                <a:ext cx="13129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=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6588000" y="3068280"/>
            <a:ext cx="0" cy="2890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pproccio perturb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32000" y="3068640"/>
                <a:ext cx="2808360" cy="17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9863-84B9-4802-9CFC-8CCF2849F936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2276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Utilizzando un metodo perturbativo, si assume che la soluzione possa essere espressa co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2997360"/>
            <a:ext cx="432000" cy="187164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3280" y="501336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oluzione line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012000" y="3308400"/>
                <a:ext cx="1081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pproccio perturb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187280" y="3265560"/>
                <a:ext cx="795672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ε</m:t>
                        </m:r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su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su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1E92-5DC3-47FD-AD9A-FD59EC779F87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2421000"/>
            <a:ext cx="81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spandendo in serie di Taylor la superficie libera nonlineare </a:t>
            </a:r>
            <a:r>
              <a:rPr b="1" i="1" lang="it-IT" sz="1800" spc="-1" strike="noStrike">
                <a:solidFill>
                  <a:srgbClr val="003366"/>
                </a:solidFill>
                <a:latin typeface="Times New Roman"/>
              </a:rPr>
              <a:t>Z=(ka)</a:t>
            </a:r>
            <a:r>
              <a:rPr b="1" i="1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</a:t>
            </a:r>
            <a:r>
              <a:rPr b="1" i="1" lang="it-IT" sz="1800" spc="-1" strike="noStrike">
                <a:solidFill>
                  <a:srgbClr val="003366"/>
                </a:solidFill>
                <a:latin typeface="Times New Roman"/>
              </a:rPr>
              <a:t>(X,T)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attorno a </a:t>
            </a:r>
            <a:r>
              <a:rPr b="1" i="1" lang="it-IT" sz="1800" spc="-1" strike="noStrike">
                <a:solidFill>
                  <a:srgbClr val="003366"/>
                </a:solidFill>
                <a:latin typeface="Times New Roman"/>
              </a:rPr>
              <a:t>Z=0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 (fino all’ordine </a:t>
            </a:r>
            <a:r>
              <a:rPr b="0" i="1" lang="it-IT" sz="18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1" lang="it-IT" sz="1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) e sostituendo  nella DFSB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73800" y="61657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ota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093080" y="6046920"/>
                <a:ext cx="863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Onde di Stokes al secondo or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DC9-1BFF-4CD0-BD08-DD248D840AF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421000"/>
            <a:ext cx="81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l problema da risolvere al secondo ordine è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042920" y="2892600"/>
                <a:ext cx="626580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Z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su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u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Onde di Stokes al secondo or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6483-8794-48EA-BB5C-9E4DA7C02FC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421000"/>
            <a:ext cx="81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isolvendo il problema di equazioni differenziali, dove la soluzione al primo ordine è quella valida nel caso di onde lineari, che è già stata derivata, si ottie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116000" y="3429000"/>
                <a:ext cx="7280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f>
                          <m:num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su    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Onde di Stokes al secondo ord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2720" y="260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EF5A-59AE-4CC8-BF16-CFB0149956F1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349360"/>
            <a:ext cx="81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n forma dimensionale si ottengono il potenziale di velocità e la sopraelevazione del pelo libero al 2° ordine della teoria di Stok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619280" y="3068640"/>
                <a:ext cx="618804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σ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σ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σ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σ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σ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kh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σ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132000" y="3068640"/>
            <a:ext cx="4753080" cy="64764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3789360"/>
            <a:ext cx="475308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2000" y="4510080"/>
            <a:ext cx="4753080" cy="647640"/>
          </a:xfrm>
          <a:prstGeom prst="rect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32000" y="5229360"/>
            <a:ext cx="475308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60278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ineare         (Stokes al 1° ordin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ontributo nonlinea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30840" y="604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0:43:35Z</dcterms:created>
  <dc:creator>Rosaria Musumeci</dc:creator>
  <dc:description/>
  <dc:language>en-US</dc:language>
  <cp:lastModifiedBy>m</cp:lastModifiedBy>
  <dcterms:modified xsi:type="dcterms:W3CDTF">2010-03-30T17:10:53Z</dcterms:modified>
  <cp:revision>50</cp:revision>
  <dc:subject/>
  <dc:title>La relazione di dispersione</dc:title>
</cp:coreProperties>
</file>