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D79-8841-42E0-BEFD-3E817DBA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35D-83E2-412D-84B2-32BB370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878-A35D-43DA-BD9D-BC5175C3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F77-D87F-4FDB-992D-6064B0F8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EFD2-8161-4A29-BF3C-BF9B1178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1C1E-DBBB-4D91-B3F0-EE70047D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737C-24B1-4BF6-B49C-C6E7D57C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A783-816A-417B-9D51-BCC496A4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68EF-479E-4B0C-8091-D5118CC3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7A91-1175-408B-A480-0B7E4F6A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7117-55A8-4F0C-964C-BFBD4E2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564-224A-41DF-84CB-D3383F00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3BA1-1E32-4AAE-AA94-410ABE3C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BA20-30C2-4F4D-ACC9-264FE1D3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8D5A-145C-4F30-B3F8-34CBFA11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D1C7-3858-40CD-BD73-0FA8B37E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A6F7-FAF7-446A-816A-6F6D10E6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649-AD43-4C54-973B-E46B9AAF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E4E-9DE6-4D78-A011-F0748B9A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701-8C36-4BC1-8367-380CAC23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B50-996D-4F1C-8534-A8000543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B35-5592-4383-8CF6-E56F70D4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AC3-D4AD-47A4-8161-18BD88D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BC2-DCE3-4C8B-A556-66F0912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85FE-3D95-43AE-AAD4-6002847915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80F2-3284-4F10-8EBA-A1C5301EE65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48680" y="856800"/>
            <a:ext cx="67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U N I V E R S I T À     D E G L I      S T U D I   D I   C A T A N I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F   A   C   O   L   T   À        D   I        I   N   G   E   G  N   E   R   I  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rso   di       Ingegneria            Costie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54080" y="3312000"/>
            <a:ext cx="74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ercitazione 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ifrazione di un’onda: calcolo con il metodo dei raggi d’onda (WKB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52560" y="822240"/>
            <a:ext cx="88560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52F-1C24-4BB9-91DC-B94364BB8C90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abora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189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E556-45C3-4F06-9718-BC44137323D4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068640"/>
            <a:ext cx="31878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=4 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=1.5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x=0.2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=-0.47 r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480" y="2414520"/>
            <a:ext cx="71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mplementare il criterio di breaking di Rebaudengo-Landò e Scars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3080" y="2846520"/>
            <a:ext cx="32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are i seguenti parametr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4869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eterminare i raggi d’onda e il punto di frangimento per il seguente range di punti inizi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403280" y="5694480"/>
                <a:ext cx="2087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578480" y="5661000"/>
            <a:ext cx="44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ta Ben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l punto di frangimento bisogna indicar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izione, H, L, h,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zione del 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15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agazione di un’onda monocromatica su fondali con profondità lentamente variab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58920" y="3263760"/>
                <a:ext cx="172872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∧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042920" y="4508640"/>
            <a:ext cx="37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Variazione di k, H, c.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4005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51280" y="4307040"/>
            <a:ext cx="4392720" cy="221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11640" y="3141720"/>
                <a:ext cx="1944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∇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4017-AD49-42D0-A0F4-BE4E7E82FFE4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odologia adott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ano dat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076720" y="2852640"/>
                <a:ext cx="770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627280" y="2421000"/>
            <a:ext cx="230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it-IT" sz="2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h=h(x,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it-IT" sz="2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33400" y="234936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 ipotizzi il processo stazionari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804000" y="2997360"/>
                <a:ext cx="1436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71640" y="414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TEP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8720" y="4508640"/>
            <a:ext cx="12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 fissa </a:t>
            </a:r>
            <a:r>
              <a:rPr b="0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49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TEP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3038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ti batimetria e frequenza, si può determinare il numero d’onda come zero della relazione di dispers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C36E-76B0-41C3-88D0-6FEFDC7B8168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odologia adott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3992400"/>
                <a:ext cx="5472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h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h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h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h</m:t>
                                </m:r>
                              </m:e>
                            </m:d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32000" y="3213000"/>
                <a:ext cx="5468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h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h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h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h</m:t>
                                </m:r>
                              </m:e>
                            </m:d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Δy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Δ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971640" y="24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TEP 2 (continu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27828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determinano le derivate del numero d’onda co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86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TEP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300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ll’equazione differenziale dei raggi d’on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5661000"/>
                <a:ext cx="32400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'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76A9-8E1B-4727-996E-F87DD11E4E62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odologia adott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77080" y="5084640"/>
                <a:ext cx="155268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Δy</m:t>
                            </m:r>
                            <m:r>
                              <m:t xml:space="preserve">=</m:t>
                            </m:r>
                            <m:r>
                              <m:t xml:space="preserve">zΔx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47640" y="3213000"/>
                <a:ext cx="45370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y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y</m:t>
                    </m: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y</m:t>
                    </m: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y</m:t>
                    </m: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19280" y="4437000"/>
                <a:ext cx="936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971640" y="24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TEP 3 (continu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27828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 una più agevole risoluzione numerica, si ottie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797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deve risolvere il sist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n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87280" y="5157720"/>
                <a:ext cx="41054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  <m:r>
                              <m:t xml:space="preserve">=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796000" y="551664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1FB0-4E6E-4A46-B9C4-D3BE1AB04208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odologia adott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544920" y="3573360"/>
                <a:ext cx="20350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Δs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y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971640" y="24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TEP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27828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Noto </a:t>
            </a:r>
            <a:r>
              <a:rPr b="0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y, si possono valutare le grandezze incognite al fine del tracciamento del raggio d’onda, cio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3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TEP 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47991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’integrazione numerica dell’equazione differenzi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448080" y="5300640"/>
                <a:ext cx="2246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332000" y="6086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mette di determinare il nuovo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e, conseguentemente la nuova altezza  d’onda 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5189-BD98-4ED4-A0C3-360A4C161FDB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ma di calcol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4937"/>
          <a:stretch/>
        </p:blipFill>
        <p:spPr>
          <a:xfrm>
            <a:off x="5265720" y="3111480"/>
            <a:ext cx="3770280" cy="355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058760" y="3081240"/>
                <a:ext cx="3424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r>
                      <m:t xml:space="preserve">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0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80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826920" y="2440080"/>
            <a:ext cx="77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Utilizzando il programma di calcolo fornito, che utilizza la batimetria di Noda (197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393372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cciare i corrispondenti raggi d’ond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dificare poi la batimetria secondo la rel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16000" y="5095800"/>
                <a:ext cx="42465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r>
                      <m:t xml:space="preserve">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0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80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900000" y="5877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cciare i corrispondenti raggi d’ond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386A-7819-43D9-BAA8-AAA7EA2CF525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ang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46AC-5E06-4EE4-B048-C7938CC06B68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0" b="4937"/>
          <a:stretch/>
        </p:blipFill>
        <p:spPr>
          <a:xfrm>
            <a:off x="5003640" y="2565360"/>
            <a:ext cx="3672000" cy="346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0" r="4299" b="0"/>
          <a:stretch/>
        </p:blipFill>
        <p:spPr>
          <a:xfrm>
            <a:off x="1042920" y="2421000"/>
            <a:ext cx="3529080" cy="3241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527800" y="2832120"/>
            <a:ext cx="801720" cy="1355760"/>
          </a:xfrm>
          <a:custGeom>
            <a:avLst/>
            <a:gdLst/>
            <a:ahLst/>
            <a:rect l="l" t="t" r="r" b="b"/>
            <a:pathLst>
              <a:path w="505" h="854">
                <a:moveTo>
                  <a:pt x="398" y="0"/>
                </a:moveTo>
                <a:cubicBezTo>
                  <a:pt x="397" y="13"/>
                  <a:pt x="399" y="69"/>
                  <a:pt x="390" y="86"/>
                </a:cubicBezTo>
                <a:cubicBezTo>
                  <a:pt x="387" y="91"/>
                  <a:pt x="378" y="89"/>
                  <a:pt x="372" y="90"/>
                </a:cubicBezTo>
                <a:cubicBezTo>
                  <a:pt x="353" y="95"/>
                  <a:pt x="336" y="97"/>
                  <a:pt x="316" y="98"/>
                </a:cubicBezTo>
                <a:cubicBezTo>
                  <a:pt x="313" y="99"/>
                  <a:pt x="311" y="99"/>
                  <a:pt x="308" y="100"/>
                </a:cubicBezTo>
                <a:cubicBezTo>
                  <a:pt x="306" y="101"/>
                  <a:pt x="304" y="101"/>
                  <a:pt x="302" y="102"/>
                </a:cubicBezTo>
                <a:cubicBezTo>
                  <a:pt x="297" y="103"/>
                  <a:pt x="286" y="106"/>
                  <a:pt x="286" y="106"/>
                </a:cubicBezTo>
                <a:cubicBezTo>
                  <a:pt x="278" y="111"/>
                  <a:pt x="270" y="116"/>
                  <a:pt x="262" y="122"/>
                </a:cubicBezTo>
                <a:cubicBezTo>
                  <a:pt x="255" y="133"/>
                  <a:pt x="232" y="144"/>
                  <a:pt x="220" y="152"/>
                </a:cubicBezTo>
                <a:cubicBezTo>
                  <a:pt x="188" y="172"/>
                  <a:pt x="158" y="193"/>
                  <a:pt x="124" y="210"/>
                </a:cubicBezTo>
                <a:cubicBezTo>
                  <a:pt x="109" y="218"/>
                  <a:pt x="93" y="226"/>
                  <a:pt x="78" y="234"/>
                </a:cubicBezTo>
                <a:cubicBezTo>
                  <a:pt x="72" y="238"/>
                  <a:pt x="58" y="242"/>
                  <a:pt x="58" y="242"/>
                </a:cubicBezTo>
                <a:cubicBezTo>
                  <a:pt x="49" y="249"/>
                  <a:pt x="40" y="253"/>
                  <a:pt x="30" y="258"/>
                </a:cubicBezTo>
                <a:cubicBezTo>
                  <a:pt x="26" y="260"/>
                  <a:pt x="18" y="266"/>
                  <a:pt x="18" y="266"/>
                </a:cubicBezTo>
                <a:cubicBezTo>
                  <a:pt x="14" y="277"/>
                  <a:pt x="4" y="284"/>
                  <a:pt x="0" y="296"/>
                </a:cubicBezTo>
                <a:cubicBezTo>
                  <a:pt x="9" y="322"/>
                  <a:pt x="53" y="315"/>
                  <a:pt x="72" y="316"/>
                </a:cubicBezTo>
                <a:cubicBezTo>
                  <a:pt x="126" y="325"/>
                  <a:pt x="179" y="337"/>
                  <a:pt x="234" y="342"/>
                </a:cubicBezTo>
                <a:cubicBezTo>
                  <a:pt x="293" y="348"/>
                  <a:pt x="352" y="350"/>
                  <a:pt x="410" y="362"/>
                </a:cubicBezTo>
                <a:cubicBezTo>
                  <a:pt x="425" y="369"/>
                  <a:pt x="440" y="375"/>
                  <a:pt x="454" y="384"/>
                </a:cubicBezTo>
                <a:cubicBezTo>
                  <a:pt x="459" y="392"/>
                  <a:pt x="467" y="394"/>
                  <a:pt x="476" y="400"/>
                </a:cubicBezTo>
                <a:cubicBezTo>
                  <a:pt x="478" y="401"/>
                  <a:pt x="482" y="404"/>
                  <a:pt x="482" y="404"/>
                </a:cubicBezTo>
                <a:cubicBezTo>
                  <a:pt x="489" y="424"/>
                  <a:pt x="478" y="394"/>
                  <a:pt x="490" y="416"/>
                </a:cubicBezTo>
                <a:cubicBezTo>
                  <a:pt x="495" y="424"/>
                  <a:pt x="495" y="432"/>
                  <a:pt x="500" y="440"/>
                </a:cubicBezTo>
                <a:cubicBezTo>
                  <a:pt x="505" y="477"/>
                  <a:pt x="503" y="492"/>
                  <a:pt x="468" y="504"/>
                </a:cubicBezTo>
                <a:cubicBezTo>
                  <a:pt x="460" y="512"/>
                  <a:pt x="435" y="530"/>
                  <a:pt x="424" y="534"/>
                </a:cubicBezTo>
                <a:cubicBezTo>
                  <a:pt x="421" y="544"/>
                  <a:pt x="411" y="552"/>
                  <a:pt x="406" y="562"/>
                </a:cubicBezTo>
                <a:cubicBezTo>
                  <a:pt x="404" y="566"/>
                  <a:pt x="402" y="574"/>
                  <a:pt x="402" y="574"/>
                </a:cubicBezTo>
                <a:cubicBezTo>
                  <a:pt x="397" y="610"/>
                  <a:pt x="410" y="627"/>
                  <a:pt x="428" y="654"/>
                </a:cubicBezTo>
                <a:cubicBezTo>
                  <a:pt x="434" y="662"/>
                  <a:pt x="434" y="671"/>
                  <a:pt x="444" y="674"/>
                </a:cubicBezTo>
                <a:cubicBezTo>
                  <a:pt x="447" y="682"/>
                  <a:pt x="451" y="681"/>
                  <a:pt x="458" y="686"/>
                </a:cubicBezTo>
                <a:cubicBezTo>
                  <a:pt x="464" y="703"/>
                  <a:pt x="455" y="715"/>
                  <a:pt x="452" y="732"/>
                </a:cubicBezTo>
                <a:cubicBezTo>
                  <a:pt x="453" y="754"/>
                  <a:pt x="465" y="805"/>
                  <a:pt x="440" y="822"/>
                </a:cubicBezTo>
                <a:cubicBezTo>
                  <a:pt x="437" y="830"/>
                  <a:pt x="428" y="833"/>
                  <a:pt x="420" y="836"/>
                </a:cubicBezTo>
                <a:cubicBezTo>
                  <a:pt x="419" y="840"/>
                  <a:pt x="418" y="844"/>
                  <a:pt x="418" y="848"/>
                </a:cubicBezTo>
                <a:cubicBezTo>
                  <a:pt x="418" y="850"/>
                  <a:pt x="420" y="854"/>
                  <a:pt x="420" y="85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49880" y="4184640"/>
            <a:ext cx="57240" cy="171360"/>
          </a:xfrm>
          <a:custGeom>
            <a:avLst/>
            <a:gdLst/>
            <a:ahLst/>
            <a:rect l="l" t="t" r="r" b="b"/>
            <a:pathLst>
              <a:path w="36" h="108">
                <a:moveTo>
                  <a:pt x="36" y="0"/>
                </a:moveTo>
                <a:cubicBezTo>
                  <a:pt x="31" y="16"/>
                  <a:pt x="19" y="32"/>
                  <a:pt x="12" y="48"/>
                </a:cubicBezTo>
                <a:cubicBezTo>
                  <a:pt x="9" y="54"/>
                  <a:pt x="8" y="60"/>
                  <a:pt x="6" y="66"/>
                </a:cubicBezTo>
                <a:cubicBezTo>
                  <a:pt x="5" y="68"/>
                  <a:pt x="4" y="72"/>
                  <a:pt x="4" y="72"/>
                </a:cubicBezTo>
                <a:cubicBezTo>
                  <a:pt x="3" y="77"/>
                  <a:pt x="3" y="81"/>
                  <a:pt x="2" y="86"/>
                </a:cubicBezTo>
                <a:cubicBezTo>
                  <a:pt x="0" y="102"/>
                  <a:pt x="0" y="108"/>
                  <a:pt x="0" y="10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450864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inea di frangim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iterio di frang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419640" y="2997360"/>
                <a:ext cx="223344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ξ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h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3860640"/>
                <a:ext cx="482472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∗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∗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  <m:r>
                              <m:t xml:space="preserve">∗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∗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0036-7FCA-44F4-9658-60EC4C68B95B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22827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l criterio di frangimento da implementare è quello di Rebaudengo-Landò e Scarsi (1984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5002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cu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659640" y="3760920"/>
                <a:ext cx="176364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e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086520" y="3833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86520" y="4402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6520" y="5122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95640" y="6021360"/>
                <a:ext cx="812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187280" y="57340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, più semplicemente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0:43:35Z</dcterms:created>
  <dc:creator>Rosaria Musumeci</dc:creator>
  <dc:description/>
  <dc:language>en-US</dc:language>
  <cp:lastModifiedBy>m</cp:lastModifiedBy>
  <dcterms:modified xsi:type="dcterms:W3CDTF">2010-04-15T16:01:54Z</dcterms:modified>
  <cp:revision>122</cp:revision>
  <dc:subject/>
  <dc:title>La relazione di dispersione</dc:title>
</cp:coreProperties>
</file>