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D18-B841-4882-ABDD-5873985F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2D8-52FF-4AE1-9BA1-ED89046B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950-5F1F-484F-8526-C453A8F8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AAD-9BFE-472F-9578-D8B7F94A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BC5-D397-48C3-979B-88E0B29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E30-FEF5-4B5A-8BE3-D1823BE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67EB-E69C-49DD-81A1-0A03F7E0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4E5-3F81-4BE6-99F1-DC69404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517-3EAF-4722-AA9B-9C411736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3AD9-64BA-4E0A-ADE4-EBC9212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EE5B-CE8F-4609-84F3-6035BA5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C88-B6F3-41BA-9205-21FBE4C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4249-D32C-4AB0-B221-1625F81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2CB1-3412-4BF0-AAD3-623517D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0A3-C13F-4FEA-8057-FD01B60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D3E5-4833-48C9-AAD0-A9E248E8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2706-0DED-41AA-9864-1B77A624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80D-E634-4DBC-8F8C-3E31CA5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250-2520-4BFF-A6E7-4320E66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DBB-7575-410D-A69F-F2F160E4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530-0B06-4AE6-A4BF-4AB0592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670-14F3-49EF-ACC8-5B8585C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83A-4448-4E5F-B59C-310A181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AE9-AAF7-4D0F-AA45-8059273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97A-B7E1-4E47-8AA5-A2A3C7DCFA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C3A-3287-483E-89E4-CE1EA2DA53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48680" y="85680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R e g i m e    e    P r o t e z i o n e    d e i    L i t o r a l 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4080" y="3069000"/>
            <a:ext cx="704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ercitazione 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frazione di un’onda: calcolo con il metodo dei raggi d’onda in presenza di frangimen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7720" y="608580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Ing. Rosaria Ester MUSUME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52560" y="822240"/>
            <a:ext cx="885600" cy="93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E59-9C20-42A2-B8D9-FB73E252671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ng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DDA-7B9E-4BFF-8B33-B4A3B35472D4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4937"/>
          <a:stretch/>
        </p:blipFill>
        <p:spPr>
          <a:xfrm>
            <a:off x="5003640" y="2565360"/>
            <a:ext cx="3672000" cy="346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4299" b="0"/>
          <a:stretch/>
        </p:blipFill>
        <p:spPr>
          <a:xfrm>
            <a:off x="1042920" y="2421000"/>
            <a:ext cx="3529080" cy="324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27800" y="2832120"/>
            <a:ext cx="801720" cy="1355760"/>
          </a:xfrm>
          <a:custGeom>
            <a:avLst/>
            <a:gdLst/>
            <a:ahLst/>
            <a:rect l="l" t="t" r="r" b="b"/>
            <a:pathLst>
              <a:path w="505" h="854">
                <a:moveTo>
                  <a:pt x="398" y="0"/>
                </a:moveTo>
                <a:cubicBezTo>
                  <a:pt x="397" y="13"/>
                  <a:pt x="399" y="69"/>
                  <a:pt x="390" y="86"/>
                </a:cubicBezTo>
                <a:cubicBezTo>
                  <a:pt x="387" y="91"/>
                  <a:pt x="378" y="89"/>
                  <a:pt x="372" y="90"/>
                </a:cubicBezTo>
                <a:cubicBezTo>
                  <a:pt x="353" y="95"/>
                  <a:pt x="336" y="97"/>
                  <a:pt x="316" y="98"/>
                </a:cubicBezTo>
                <a:cubicBezTo>
                  <a:pt x="313" y="99"/>
                  <a:pt x="311" y="99"/>
                  <a:pt x="308" y="100"/>
                </a:cubicBezTo>
                <a:cubicBezTo>
                  <a:pt x="306" y="101"/>
                  <a:pt x="304" y="101"/>
                  <a:pt x="302" y="102"/>
                </a:cubicBezTo>
                <a:cubicBezTo>
                  <a:pt x="297" y="103"/>
                  <a:pt x="286" y="106"/>
                  <a:pt x="286" y="106"/>
                </a:cubicBezTo>
                <a:cubicBezTo>
                  <a:pt x="278" y="111"/>
                  <a:pt x="270" y="116"/>
                  <a:pt x="262" y="122"/>
                </a:cubicBezTo>
                <a:cubicBezTo>
                  <a:pt x="255" y="133"/>
                  <a:pt x="232" y="144"/>
                  <a:pt x="220" y="152"/>
                </a:cubicBezTo>
                <a:cubicBezTo>
                  <a:pt x="188" y="172"/>
                  <a:pt x="158" y="193"/>
                  <a:pt x="124" y="210"/>
                </a:cubicBezTo>
                <a:cubicBezTo>
                  <a:pt x="109" y="218"/>
                  <a:pt x="93" y="226"/>
                  <a:pt x="78" y="234"/>
                </a:cubicBezTo>
                <a:cubicBezTo>
                  <a:pt x="72" y="238"/>
                  <a:pt x="58" y="242"/>
                  <a:pt x="58" y="242"/>
                </a:cubicBezTo>
                <a:cubicBezTo>
                  <a:pt x="49" y="249"/>
                  <a:pt x="40" y="253"/>
                  <a:pt x="30" y="258"/>
                </a:cubicBezTo>
                <a:cubicBezTo>
                  <a:pt x="26" y="260"/>
                  <a:pt x="18" y="266"/>
                  <a:pt x="18" y="266"/>
                </a:cubicBezTo>
                <a:cubicBezTo>
                  <a:pt x="14" y="277"/>
                  <a:pt x="4" y="284"/>
                  <a:pt x="0" y="296"/>
                </a:cubicBezTo>
                <a:cubicBezTo>
                  <a:pt x="9" y="322"/>
                  <a:pt x="53" y="315"/>
                  <a:pt x="72" y="316"/>
                </a:cubicBezTo>
                <a:cubicBezTo>
                  <a:pt x="126" y="325"/>
                  <a:pt x="179" y="337"/>
                  <a:pt x="234" y="342"/>
                </a:cubicBezTo>
                <a:cubicBezTo>
                  <a:pt x="293" y="348"/>
                  <a:pt x="352" y="350"/>
                  <a:pt x="410" y="362"/>
                </a:cubicBezTo>
                <a:cubicBezTo>
                  <a:pt x="425" y="369"/>
                  <a:pt x="440" y="375"/>
                  <a:pt x="454" y="384"/>
                </a:cubicBezTo>
                <a:cubicBezTo>
                  <a:pt x="459" y="392"/>
                  <a:pt x="467" y="394"/>
                  <a:pt x="476" y="400"/>
                </a:cubicBezTo>
                <a:cubicBezTo>
                  <a:pt x="478" y="401"/>
                  <a:pt x="482" y="404"/>
                  <a:pt x="482" y="404"/>
                </a:cubicBezTo>
                <a:cubicBezTo>
                  <a:pt x="489" y="424"/>
                  <a:pt x="478" y="394"/>
                  <a:pt x="490" y="416"/>
                </a:cubicBezTo>
                <a:cubicBezTo>
                  <a:pt x="495" y="424"/>
                  <a:pt x="495" y="432"/>
                  <a:pt x="500" y="440"/>
                </a:cubicBezTo>
                <a:cubicBezTo>
                  <a:pt x="505" y="477"/>
                  <a:pt x="503" y="492"/>
                  <a:pt x="468" y="504"/>
                </a:cubicBezTo>
                <a:cubicBezTo>
                  <a:pt x="460" y="512"/>
                  <a:pt x="435" y="530"/>
                  <a:pt x="424" y="534"/>
                </a:cubicBezTo>
                <a:cubicBezTo>
                  <a:pt x="421" y="544"/>
                  <a:pt x="411" y="552"/>
                  <a:pt x="406" y="562"/>
                </a:cubicBezTo>
                <a:cubicBezTo>
                  <a:pt x="404" y="566"/>
                  <a:pt x="402" y="574"/>
                  <a:pt x="402" y="574"/>
                </a:cubicBezTo>
                <a:cubicBezTo>
                  <a:pt x="397" y="610"/>
                  <a:pt x="410" y="627"/>
                  <a:pt x="428" y="654"/>
                </a:cubicBezTo>
                <a:cubicBezTo>
                  <a:pt x="434" y="662"/>
                  <a:pt x="434" y="671"/>
                  <a:pt x="444" y="674"/>
                </a:cubicBezTo>
                <a:cubicBezTo>
                  <a:pt x="447" y="682"/>
                  <a:pt x="451" y="681"/>
                  <a:pt x="458" y="686"/>
                </a:cubicBezTo>
                <a:cubicBezTo>
                  <a:pt x="464" y="703"/>
                  <a:pt x="455" y="715"/>
                  <a:pt x="452" y="732"/>
                </a:cubicBezTo>
                <a:cubicBezTo>
                  <a:pt x="453" y="754"/>
                  <a:pt x="465" y="805"/>
                  <a:pt x="440" y="822"/>
                </a:cubicBezTo>
                <a:cubicBezTo>
                  <a:pt x="437" y="830"/>
                  <a:pt x="428" y="833"/>
                  <a:pt x="420" y="836"/>
                </a:cubicBezTo>
                <a:cubicBezTo>
                  <a:pt x="419" y="840"/>
                  <a:pt x="418" y="844"/>
                  <a:pt x="418" y="848"/>
                </a:cubicBezTo>
                <a:cubicBezTo>
                  <a:pt x="418" y="850"/>
                  <a:pt x="420" y="854"/>
                  <a:pt x="420" y="85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49880" y="4184640"/>
            <a:ext cx="57240" cy="171360"/>
          </a:xfrm>
          <a:custGeom>
            <a:avLst/>
            <a:gdLst/>
            <a:ahLst/>
            <a:rect l="l" t="t" r="r" b="b"/>
            <a:pathLst>
              <a:path w="36" h="108">
                <a:moveTo>
                  <a:pt x="36" y="0"/>
                </a:moveTo>
                <a:cubicBezTo>
                  <a:pt x="31" y="16"/>
                  <a:pt x="19" y="32"/>
                  <a:pt x="12" y="48"/>
                </a:cubicBezTo>
                <a:cubicBezTo>
                  <a:pt x="9" y="54"/>
                  <a:pt x="8" y="60"/>
                  <a:pt x="6" y="66"/>
                </a:cubicBezTo>
                <a:cubicBezTo>
                  <a:pt x="5" y="68"/>
                  <a:pt x="4" y="72"/>
                  <a:pt x="4" y="72"/>
                </a:cubicBezTo>
                <a:cubicBezTo>
                  <a:pt x="3" y="77"/>
                  <a:pt x="3" y="81"/>
                  <a:pt x="2" y="86"/>
                </a:cubicBezTo>
                <a:cubicBezTo>
                  <a:pt x="0" y="102"/>
                  <a:pt x="0" y="108"/>
                  <a:pt x="0" y="1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50864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di frang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iterio di frang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19640" y="2997360"/>
                <a:ext cx="223344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h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176720"/>
                <a:ext cx="482472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4E2-54C3-4416-AF9C-807E2349AFE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2827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criterio di frangimento da implementare è quello di Rebaudengo-Landò e Scarsi (1984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cu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659640" y="4076640"/>
                <a:ext cx="17636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86520" y="414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4718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6520" y="5438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abor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BAE-7EE9-47A8-A92C-B2A9BF84448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3068640"/>
            <a:ext cx="31878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=4 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1.5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=0.2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-0.47 r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4480" y="241452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mplementare il criterio di breaking di Rebaudengo-Landò e Scars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3080" y="2846520"/>
            <a:ext cx="32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are i seguenti paramet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869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terminare i raggi d’onda e il punto di frangimento per il seguente range di punti inizi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5661000"/>
                <a:ext cx="20876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8480" y="566100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a Ben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l punto di frangimento bisogna indicar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izione, H, L, h,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Rosaria Musumeci</cp:lastModifiedBy>
  <dcterms:modified xsi:type="dcterms:W3CDTF">2002-11-18T11:07:02Z</dcterms:modified>
  <cp:revision>122</cp:revision>
  <dc:subject/>
  <dc:title>La relazione di dispersione</dc:title>
</cp:coreProperties>
</file>